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45D4-099A-4D44-AB3F-034BF542D3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B171-251F-48AF-9B5A-01E387E0F0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ime to do any of the dynamic programming stu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C606-9577-478F-97D0-FA2F5C17A9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MP and HPP (highest-priority prefi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-pushed tr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40B8-ED7D-4681-BBCC-24E03CFEEA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up, insert, de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C764-9851-4D7F-AC85-3D8E4B3BE7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have a level for each prefix length so that prefix may be inserted into proper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0D72-0734-4CB2-9138-0F74F71A19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is for longest prefix mat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14E-F973-407F-AA6D-DA50DCFF7A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number is node st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1DA7-DDB7-4AA7-95EF-22A56D6B48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of FST covers levels 0 &amp; 1 of one-bit tr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level covers levels 2 through 4 of 1-bit tr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level covers levels 5 &amp; 6 of 1-bit tr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,e] pair for each level—[0,1], [2,4], [5,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on levels are 0, 2, an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3D78-6F43-43FC-9660-5FA7D2D575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ity excludes cost of computing nodes(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0598-48E4-465E-A7A7-E8BB3881BB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ternativ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A91D-7DDB-4326-A6FF-223A1698B0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is #nodes in 1-bit trie; n is #prefixes, m = O(n) for practical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pt(N,0,r) we can write a recurrence in terms of Opt(N,s,r), s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C7A2-8140-4BF5-83FD-FFD3E77B7C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postorder traversal to compute C(*) incrementally. When a node M is visited, it adds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+height(M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(level(M)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5526-72C9-45DD-891C-D18B8E2281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ap d &gt; 2 to d = 1 but then bucket size is l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0FE-C9AD-4400-B669-21B583010B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atching rule is modeled by having cost equal to index in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F89A-0CAE-4534-9BE4-28284AF175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odes in 1-bit trie. Height is 32 for IPv4. Need to search in less than (say) 6 memory ac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tables go up to about 200K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91B-D1DC-4020-9F22-7134CB3E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9EB-BC5B-420C-B2F2-9E2EA6E3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B31-0EE5-42C4-9976-D9245D8C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E37-C682-4E83-8FDA-8C05097C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43F-2F23-4AC6-B398-300BBFD9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4EE-8EB2-44CC-9239-C0188891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D22-6A62-4484-AB7F-56849B22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3A0-79B0-4808-A3C7-4611362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9D7-2CEA-4525-9E88-78D83A2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BF5-308A-4032-9B8E-6DC33F7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229-E72E-4C02-9C9D-6596D9A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F22-45E8-4E45-97B0-748435D4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4D29-8985-41A3-87D5-51F118B28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uter/Classifier/Firewall Tab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58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rules—(F,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is a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and destination 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 number and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is an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to machine x (next ho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e 10GB/sec bandwi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ernary CA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66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1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1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286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 = 1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27672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st prefix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priority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ernary CA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ard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ility to IPv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dimensional fil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1-Bit Tri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92428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 = 1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 = 11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3 = 1100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4 = 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5 = 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6 = 1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7 = 10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8 = 100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2133720"/>
            <a:ext cx="60984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133720"/>
            <a:ext cx="60948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743200"/>
            <a:ext cx="60984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27432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3429000"/>
            <a:ext cx="60948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1880" y="3429000"/>
            <a:ext cx="60984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429000"/>
            <a:ext cx="60984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34290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0280" y="4114800"/>
            <a:ext cx="60984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41148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4114800"/>
            <a:ext cx="60948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41148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4800600"/>
            <a:ext cx="60948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4800600"/>
            <a:ext cx="60948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800600"/>
            <a:ext cx="60948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800600"/>
            <a:ext cx="60984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5486400"/>
            <a:ext cx="60984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4864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6172200"/>
            <a:ext cx="60948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61722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590920"/>
            <a:ext cx="5335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20040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248160" y="3200400"/>
            <a:ext cx="5331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486400" y="388620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00600" y="457200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67080" y="525780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733560" y="5943600"/>
            <a:ext cx="5331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391160" y="3886200"/>
            <a:ext cx="5331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705360" y="4572000"/>
            <a:ext cx="5331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10880" y="3833640"/>
            <a:ext cx="2855880" cy="8035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W)/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2133720"/>
            <a:ext cx="60984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2133720"/>
            <a:ext cx="60948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2743200"/>
            <a:ext cx="60984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27432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3429000"/>
            <a:ext cx="60948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1880" y="3429000"/>
            <a:ext cx="60984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429000"/>
            <a:ext cx="60984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34290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114800"/>
            <a:ext cx="60984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1148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4114800"/>
            <a:ext cx="60948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41148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4800600"/>
            <a:ext cx="60948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800600"/>
            <a:ext cx="60948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800600"/>
            <a:ext cx="60948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4800600"/>
            <a:ext cx="60984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486400"/>
            <a:ext cx="60984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54864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6172200"/>
            <a:ext cx="60948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6172200"/>
            <a:ext cx="60948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2590920"/>
            <a:ext cx="5335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320040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248160" y="3200400"/>
            <a:ext cx="5331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86400" y="388620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00600" y="457200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67080" y="525780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3560" y="5943600"/>
            <a:ext cx="5331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391160" y="3886200"/>
            <a:ext cx="5331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05360" y="4572000"/>
            <a:ext cx="5331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atic Trie-Based Router Tab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number of memory accesses for a look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bit t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ultibit T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ing at a node is done using &gt;= 1 bit (rather than exactly 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st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on same level use same number of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st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-Stride T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evels = number of distinct prefix leng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efix expansion to reduce number of distinct leng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fix Expan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292428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 = 1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 = 11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3 = 1100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4 = 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5 = 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6 = 1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7 = 10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8 = 100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6172200"/>
            <a:ext cx="27432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lengths =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1371600"/>
            <a:ext cx="2438280" cy="4262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  = 1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a = 111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b = 1110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c = 1111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d = 1111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3   = 1100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4a = 1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1371600"/>
            <a:ext cx="2666880" cy="4262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5a = 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5b= 0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6a  = 1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6b = 1000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7a = 100000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8   = 100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6172200"/>
            <a:ext cx="27432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lengths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-Stride Tri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362320"/>
            <a:ext cx="53352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362320"/>
            <a:ext cx="53352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2362320"/>
            <a:ext cx="53316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362320"/>
            <a:ext cx="53352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505320"/>
            <a:ext cx="53316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3505320"/>
            <a:ext cx="53352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505320"/>
            <a:ext cx="53352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3505320"/>
            <a:ext cx="53316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505320"/>
            <a:ext cx="53352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505320"/>
            <a:ext cx="53352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3505320"/>
            <a:ext cx="53352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4267080"/>
            <a:ext cx="533160" cy="45720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4267080"/>
            <a:ext cx="53352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4267080"/>
            <a:ext cx="53352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33160" cy="45720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4267080"/>
            <a:ext cx="53352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4267080"/>
            <a:ext cx="53352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48720" y="4267080"/>
            <a:ext cx="53316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4267080"/>
            <a:ext cx="53352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181480"/>
            <a:ext cx="53352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181480"/>
            <a:ext cx="53316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5181480"/>
            <a:ext cx="533520" cy="459720"/>
          </a:xfrm>
          <a:prstGeom prst="rect">
            <a:avLst/>
          </a:prstGeom>
          <a:solidFill>
            <a:srgbClr val="e7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5181480"/>
            <a:ext cx="533520" cy="459720"/>
          </a:xfrm>
          <a:prstGeom prst="rect">
            <a:avLst/>
          </a:prstGeom>
          <a:solidFill>
            <a:srgbClr val="eb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2819520"/>
            <a:ext cx="1219320" cy="14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895480" y="2819520"/>
            <a:ext cx="198144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914040" y="3962520"/>
            <a:ext cx="2286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209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819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648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ization Proble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least memory fixed-stride trie whose height is at most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8080" y="3352680"/>
            <a:ext cx="8229600" cy="3279240"/>
            <a:chOff x="838080" y="3352680"/>
            <a:chExt cx="8229600" cy="3279240"/>
          </a:xfrm>
        </p:grpSpPr>
        <p:sp>
          <p:nvSpPr>
            <p:cNvPr id="186" name=""/>
            <p:cNvSpPr/>
            <p:nvPr/>
          </p:nvSpPr>
          <p:spPr>
            <a:xfrm>
              <a:off x="3733560" y="335268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7080" y="335268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3352680"/>
              <a:ext cx="5331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3760" y="335268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4495680"/>
              <a:ext cx="5331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449568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1080" y="449568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14600" y="4495680"/>
              <a:ext cx="533160" cy="45720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7760" y="449568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1280" y="449568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14800" y="4495680"/>
              <a:ext cx="5331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7960" y="4495680"/>
              <a:ext cx="533520" cy="45720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0600" y="5257800"/>
              <a:ext cx="533160" cy="45720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3760" y="525780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525780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0800" y="5257800"/>
              <a:ext cx="533160" cy="45720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33960" y="525780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67480" y="525780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01000" y="5257800"/>
              <a:ext cx="5331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34160" y="525780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617220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6172200"/>
              <a:ext cx="5331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4760" y="617220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38280" y="617220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38680" y="3809880"/>
              <a:ext cx="121932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047760" y="3809880"/>
              <a:ext cx="198144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066320" y="4952880"/>
              <a:ext cx="228600" cy="129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Fil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oS-router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ource, destination, source port, destination port,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= 1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-based packet-forwarding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1 field – 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3353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vering and Expansion Leve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2280" y="4191120"/>
            <a:ext cx="7848360" cy="2659680"/>
            <a:chOff x="152280" y="4191120"/>
            <a:chExt cx="7848360" cy="2659680"/>
          </a:xfrm>
        </p:grpSpPr>
        <p:sp>
          <p:nvSpPr>
            <p:cNvPr id="215" name=""/>
            <p:cNvSpPr/>
            <p:nvPr/>
          </p:nvSpPr>
          <p:spPr>
            <a:xfrm>
              <a:off x="2916720" y="4191120"/>
              <a:ext cx="50544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2520" y="4191120"/>
              <a:ext cx="50544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8320" y="4191120"/>
              <a:ext cx="5130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41320" y="4191120"/>
              <a:ext cx="50688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3200" y="5082840"/>
              <a:ext cx="5115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5120" y="5082840"/>
              <a:ext cx="50688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42360" y="5082840"/>
              <a:ext cx="50688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49240" y="5082840"/>
              <a:ext cx="513000" cy="45720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62600" y="5082840"/>
              <a:ext cx="50544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68400" y="5082840"/>
              <a:ext cx="50544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74200" y="5082840"/>
              <a:ext cx="5130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87200" y="5082840"/>
              <a:ext cx="506880" cy="45720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28320" y="5676840"/>
              <a:ext cx="513000" cy="45720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41320" y="5676840"/>
              <a:ext cx="50688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560" y="5676840"/>
              <a:ext cx="50688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55800" y="5676840"/>
              <a:ext cx="511560" cy="45720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67720" y="5676840"/>
              <a:ext cx="50688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4600" y="5676840"/>
              <a:ext cx="50688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81840" y="5676840"/>
              <a:ext cx="5130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95200" y="5676840"/>
              <a:ext cx="50544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280" y="6391080"/>
              <a:ext cx="50544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7720" y="6391080"/>
              <a:ext cx="5130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71080" y="6391080"/>
              <a:ext cx="50688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78320" y="6391080"/>
              <a:ext cx="50688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0400" y="4548240"/>
              <a:ext cx="1162800" cy="1130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259000" y="4548240"/>
              <a:ext cx="1889640" cy="535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69720" y="5441040"/>
              <a:ext cx="217800" cy="1011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572000" y="76320"/>
            <a:ext cx="4571640" cy="3787920"/>
            <a:chOff x="4572000" y="76320"/>
            <a:chExt cx="4571640" cy="3787920"/>
          </a:xfrm>
        </p:grpSpPr>
        <p:sp>
          <p:nvSpPr>
            <p:cNvPr id="243" name=""/>
            <p:cNvSpPr/>
            <p:nvPr/>
          </p:nvSpPr>
          <p:spPr>
            <a:xfrm>
              <a:off x="6159240" y="7632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7200" y="7632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11800" y="57744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19760" y="57744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27720" y="1142640"/>
              <a:ext cx="50760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635680" y="1142640"/>
              <a:ext cx="5079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0120" y="1142640"/>
              <a:ext cx="50796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440" y="114264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92680" y="1710000"/>
              <a:ext cx="507960" cy="45648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01000" y="171000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5440" y="171000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13400" y="171000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8440" y="227160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56400" y="227160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60840" y="227160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8800" y="2271600"/>
              <a:ext cx="507960" cy="4579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6240" y="284040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24200" y="284040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0" y="340452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79600" y="340452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75160" y="452880"/>
              <a:ext cx="444600" cy="12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64000" y="95544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858000" y="95544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222240" y="152064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650920" y="208584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206320" y="265104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762440" y="321624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810200" y="152064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238880" y="208584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j,r) = cost of best FST whose height is at most r and which covers levels 0 through j of the 1-bit 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C(root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(-1,r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(j,1)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 &gt;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191120" y="2995560"/>
            <a:ext cx="4571640" cy="3787920"/>
            <a:chOff x="4191120" y="2995560"/>
            <a:chExt cx="4571640" cy="3787920"/>
          </a:xfrm>
        </p:grpSpPr>
        <p:sp>
          <p:nvSpPr>
            <p:cNvPr id="276" name=""/>
            <p:cNvSpPr/>
            <p:nvPr/>
          </p:nvSpPr>
          <p:spPr>
            <a:xfrm>
              <a:off x="5778360" y="299556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6320" y="299556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30920" y="349668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8880" y="34966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46840" y="4061880"/>
              <a:ext cx="50760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54800" y="4061880"/>
              <a:ext cx="5079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59240" y="4061880"/>
              <a:ext cx="50796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67560" y="40618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11800" y="4629240"/>
              <a:ext cx="507960" cy="45648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2012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4560" y="462924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3252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756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75520" y="519084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7996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87920" y="5190840"/>
              <a:ext cx="507960" cy="4579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35360" y="575964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3320" y="57596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91120" y="632376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98720" y="632376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94280" y="3372120"/>
              <a:ext cx="444600" cy="12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83120" y="38746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477120" y="38746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841360" y="44398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270040" y="50050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825440" y="55702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381560" y="61354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429320" y="44398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858000" y="50050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(i) = #nodes at level i of 1-bit 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(0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(3)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191120" y="2995560"/>
            <a:ext cx="4571640" cy="3787920"/>
            <a:chOff x="4191120" y="2995560"/>
            <a:chExt cx="4571640" cy="3787920"/>
          </a:xfrm>
        </p:grpSpPr>
        <p:sp>
          <p:nvSpPr>
            <p:cNvPr id="308" name=""/>
            <p:cNvSpPr/>
            <p:nvPr/>
          </p:nvSpPr>
          <p:spPr>
            <a:xfrm>
              <a:off x="5778360" y="299556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86320" y="299556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30920" y="349668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34966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46840" y="4061880"/>
              <a:ext cx="50760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54800" y="4061880"/>
              <a:ext cx="5079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59240" y="4061880"/>
              <a:ext cx="50796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7560" y="40618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11800" y="4629240"/>
              <a:ext cx="507960" cy="45648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012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24560" y="462924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3252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6756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75520" y="519084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7996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7920" y="5190840"/>
              <a:ext cx="507960" cy="4579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35360" y="575964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43320" y="57596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1120" y="632376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98720" y="632376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94280" y="3372120"/>
              <a:ext cx="444600" cy="12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83120" y="38746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477120" y="38746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841360" y="44398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270040" y="50050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825440" y="55702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381560" y="61354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429320" y="44398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858000" y="50050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(j,r) =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&lt;=m&lt;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(m,r-1) + nodes(m+1)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j-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   j &gt;= 0, r &gt;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191120" y="2995560"/>
            <a:ext cx="4571640" cy="3787920"/>
            <a:chOff x="4191120" y="2995560"/>
            <a:chExt cx="4571640" cy="3787920"/>
          </a:xfrm>
        </p:grpSpPr>
        <p:sp>
          <p:nvSpPr>
            <p:cNvPr id="340" name=""/>
            <p:cNvSpPr/>
            <p:nvPr/>
          </p:nvSpPr>
          <p:spPr>
            <a:xfrm>
              <a:off x="5778360" y="299556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86320" y="299556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30920" y="349668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38880" y="34966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46840" y="4061880"/>
              <a:ext cx="50760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4800" y="4061880"/>
              <a:ext cx="5079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59240" y="4061880"/>
              <a:ext cx="50796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67560" y="40618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11800" y="4629240"/>
              <a:ext cx="507960" cy="45648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24560" y="462924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3252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6756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75520" y="519084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7996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87920" y="5190840"/>
              <a:ext cx="507960" cy="4579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5360" y="575964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3320" y="57596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91120" y="632376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98720" y="632376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94280" y="3372120"/>
              <a:ext cx="444600" cy="12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83120" y="38746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477120" y="38746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841360" y="44398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270040" y="50050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825440" y="55702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381560" y="61354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29320" y="44398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858000" y="50050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80880" y="40384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C(W,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 = O(k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ternative Formul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(j,r) = min{C(j,r-1), U(j,r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(j,r) =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-2&lt;=m&lt;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(m,r-1) + nodes(m+1)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j-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   j &gt;= 0, r &gt;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(j,r), be smallest m that minimizes right side of equation for U(j,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j,r) &gt;= max{M(j-1,r), M(j,r-1)}, r &gt;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 by factor of between 2 and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ze of F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73" name="fstMem" descr=""/>
          <p:cNvPicPr/>
          <p:nvPr/>
        </p:nvPicPr>
        <p:blipFill>
          <a:blip r:embed="rId1"/>
          <a:stretch/>
        </p:blipFill>
        <p:spPr>
          <a:xfrm>
            <a:off x="1676520" y="2068560"/>
            <a:ext cx="58752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un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75" name="fstTime" descr=""/>
          <p:cNvPicPr/>
          <p:nvPr/>
        </p:nvPicPr>
        <p:blipFill>
          <a:blip r:embed="rId1"/>
          <a:stretch/>
        </p:blipFill>
        <p:spPr>
          <a:xfrm>
            <a:off x="1752480" y="2136600"/>
            <a:ext cx="59436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15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ariable-Stride T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09480" y="3505320"/>
            <a:ext cx="8001000" cy="3355200"/>
            <a:chOff x="609480" y="3505320"/>
            <a:chExt cx="8001000" cy="3355200"/>
          </a:xfrm>
        </p:grpSpPr>
        <p:sp>
          <p:nvSpPr>
            <p:cNvPr id="378" name=""/>
            <p:cNvSpPr/>
            <p:nvPr/>
          </p:nvSpPr>
          <p:spPr>
            <a:xfrm>
              <a:off x="3276360" y="365760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9880" y="365760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3400" y="3657600"/>
              <a:ext cx="5331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76560" y="365760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9480" y="640080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43000" y="6400800"/>
              <a:ext cx="5331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6160" y="640080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640080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6400800"/>
              <a:ext cx="5331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76360" y="640080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9880" y="640080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3400" y="6400800"/>
              <a:ext cx="5331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43400" y="5562360"/>
              <a:ext cx="533160" cy="45684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560" y="556236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10080" y="556236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43600" y="5562360"/>
              <a:ext cx="533160" cy="45684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76760" y="556236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10280" y="556236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3800" y="5562360"/>
              <a:ext cx="5331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76960" y="556236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6560" y="6400800"/>
              <a:ext cx="5335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10080" y="6400800"/>
              <a:ext cx="533520" cy="45684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400800"/>
              <a:ext cx="5331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48360" y="6400800"/>
              <a:ext cx="5335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81480" y="4114800"/>
              <a:ext cx="1219320" cy="144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895120" y="4114800"/>
              <a:ext cx="1676520" cy="228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24480" y="6400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66880" y="35053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10280" y="487656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4760" y="579096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895480" y="25560"/>
            <a:ext cx="5790960" cy="3482280"/>
            <a:chOff x="2895480" y="25560"/>
            <a:chExt cx="5790960" cy="3482280"/>
          </a:xfrm>
        </p:grpSpPr>
        <p:sp>
          <p:nvSpPr>
            <p:cNvPr id="409" name=""/>
            <p:cNvSpPr/>
            <p:nvPr/>
          </p:nvSpPr>
          <p:spPr>
            <a:xfrm>
              <a:off x="4906080" y="25560"/>
              <a:ext cx="64368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49760" y="25560"/>
              <a:ext cx="6433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12440" y="478800"/>
              <a:ext cx="64368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56120" y="478800"/>
              <a:ext cx="641520" cy="4579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8000" y="993960"/>
              <a:ext cx="646560" cy="45684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42760" y="995040"/>
              <a:ext cx="64368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90280" y="993960"/>
              <a:ext cx="641520" cy="45684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32160" y="993960"/>
              <a:ext cx="641520" cy="45684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97000" y="1506960"/>
              <a:ext cx="641520" cy="45684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8880" y="1506960"/>
              <a:ext cx="641520" cy="45684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84600" y="1506960"/>
              <a:ext cx="6433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26120" y="1506960"/>
              <a:ext cx="646560" cy="45684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2160" y="2016360"/>
              <a:ext cx="641520" cy="45684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75480" y="2013840"/>
              <a:ext cx="64332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19760" y="2016360"/>
              <a:ext cx="646560" cy="45684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66680" y="2016360"/>
              <a:ext cx="641520" cy="45684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58160" y="2535120"/>
              <a:ext cx="64368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01840" y="2535120"/>
              <a:ext cx="643320" cy="45684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95480" y="3048120"/>
              <a:ext cx="64332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37000" y="3048120"/>
              <a:ext cx="646560" cy="45684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93080" y="367200"/>
              <a:ext cx="563040" cy="11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18800" y="822960"/>
              <a:ext cx="56304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790600" y="822960"/>
              <a:ext cx="56268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986360" y="1335960"/>
              <a:ext cx="56304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262400" y="1848960"/>
              <a:ext cx="56304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699360" y="2361960"/>
              <a:ext cx="56304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3136320" y="2874600"/>
              <a:ext cx="56268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996960" y="1335960"/>
              <a:ext cx="56268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273360" y="1848960"/>
              <a:ext cx="56268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4240" y="2460600"/>
            <a:ext cx="7739280" cy="33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-VST = VST with &lt;= r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(N,r) = cost of best r-VST for 1-bit trie rooted at node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compute Opt(root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 = all level s descendents of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 = children of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(N,s,r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 in Ds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(M,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Opt(LeftChild(N),s-1,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Opt(RightChild(N),s-1,r), s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(null,*,*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(N,0,r) = Opt(N,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(N,0,1)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+height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 k-VST in O(mWk) ~ O(nW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stination-Address Fil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35, 2096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/mask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100/01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es 101100, 101110, 001100, 0011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fil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 has 1s at left and 0s at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100/110000 = 10* = [32, 47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ase of a range fil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aster k = 2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(root,2) =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(s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s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 in Ds(root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+height(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&lt;= s &lt;= 1+height(r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O(m) = O(n) on practical rout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572000" y="2995560"/>
            <a:ext cx="4571640" cy="3787920"/>
            <a:chOff x="4572000" y="2995560"/>
            <a:chExt cx="4571640" cy="3787920"/>
          </a:xfrm>
        </p:grpSpPr>
        <p:sp>
          <p:nvSpPr>
            <p:cNvPr id="446" name=""/>
            <p:cNvSpPr/>
            <p:nvPr/>
          </p:nvSpPr>
          <p:spPr>
            <a:xfrm>
              <a:off x="6159240" y="299556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67200" y="299556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11800" y="349668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19760" y="34966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27720" y="4061880"/>
              <a:ext cx="50760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35680" y="4061880"/>
              <a:ext cx="5079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40120" y="4061880"/>
              <a:ext cx="50796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48440" y="40618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92680" y="4629240"/>
              <a:ext cx="507960" cy="45648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0100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05440" y="462924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1340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4844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56400" y="519084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6084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68800" y="5190840"/>
              <a:ext cx="507960" cy="4579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6240" y="575964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24200" y="57596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2000" y="632376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79600" y="632376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75160" y="3372120"/>
              <a:ext cx="444600" cy="12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64000" y="38746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858000" y="38746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222240" y="44398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650920" y="50050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5206320" y="55702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762440" y="61354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810200" y="44398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238880" y="50050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888160" y="2600280"/>
            <a:ext cx="3402000" cy="1971720"/>
          </a:xfrm>
          <a:custGeom>
            <a:avLst/>
            <a:gdLst/>
            <a:ahLst/>
            <a:rect l="l" t="t" r="r" b="b"/>
            <a:pathLst>
              <a:path w="2143" h="1242">
                <a:moveTo>
                  <a:pt x="1061" y="0"/>
                </a:moveTo>
                <a:cubicBezTo>
                  <a:pt x="902" y="14"/>
                  <a:pt x="777" y="87"/>
                  <a:pt x="629" y="117"/>
                </a:cubicBezTo>
                <a:cubicBezTo>
                  <a:pt x="489" y="187"/>
                  <a:pt x="299" y="175"/>
                  <a:pt x="152" y="180"/>
                </a:cubicBezTo>
                <a:cubicBezTo>
                  <a:pt x="111" y="190"/>
                  <a:pt x="96" y="211"/>
                  <a:pt x="62" y="234"/>
                </a:cubicBezTo>
                <a:cubicBezTo>
                  <a:pt x="21" y="296"/>
                  <a:pt x="33" y="267"/>
                  <a:pt x="17" y="315"/>
                </a:cubicBezTo>
                <a:cubicBezTo>
                  <a:pt x="8" y="383"/>
                  <a:pt x="0" y="405"/>
                  <a:pt x="17" y="477"/>
                </a:cubicBezTo>
                <a:cubicBezTo>
                  <a:pt x="25" y="513"/>
                  <a:pt x="63" y="518"/>
                  <a:pt x="89" y="531"/>
                </a:cubicBezTo>
                <a:cubicBezTo>
                  <a:pt x="172" y="573"/>
                  <a:pt x="239" y="581"/>
                  <a:pt x="332" y="594"/>
                </a:cubicBezTo>
                <a:cubicBezTo>
                  <a:pt x="372" y="607"/>
                  <a:pt x="402" y="626"/>
                  <a:pt x="440" y="639"/>
                </a:cubicBezTo>
                <a:cubicBezTo>
                  <a:pt x="470" y="669"/>
                  <a:pt x="475" y="692"/>
                  <a:pt x="494" y="729"/>
                </a:cubicBezTo>
                <a:cubicBezTo>
                  <a:pt x="489" y="763"/>
                  <a:pt x="491" y="800"/>
                  <a:pt x="467" y="828"/>
                </a:cubicBezTo>
                <a:cubicBezTo>
                  <a:pt x="448" y="851"/>
                  <a:pt x="363" y="880"/>
                  <a:pt x="332" y="900"/>
                </a:cubicBezTo>
                <a:cubicBezTo>
                  <a:pt x="301" y="993"/>
                  <a:pt x="308" y="951"/>
                  <a:pt x="323" y="1098"/>
                </a:cubicBezTo>
                <a:cubicBezTo>
                  <a:pt x="324" y="1107"/>
                  <a:pt x="325" y="1118"/>
                  <a:pt x="332" y="1125"/>
                </a:cubicBezTo>
                <a:cubicBezTo>
                  <a:pt x="370" y="1163"/>
                  <a:pt x="512" y="1231"/>
                  <a:pt x="566" y="1242"/>
                </a:cubicBezTo>
                <a:cubicBezTo>
                  <a:pt x="1049" y="1236"/>
                  <a:pt x="1514" y="1221"/>
                  <a:pt x="1997" y="1215"/>
                </a:cubicBezTo>
                <a:cubicBezTo>
                  <a:pt x="2051" y="1174"/>
                  <a:pt x="2056" y="1174"/>
                  <a:pt x="2078" y="1107"/>
                </a:cubicBezTo>
                <a:cubicBezTo>
                  <a:pt x="2084" y="1089"/>
                  <a:pt x="2096" y="1053"/>
                  <a:pt x="2096" y="1053"/>
                </a:cubicBezTo>
                <a:cubicBezTo>
                  <a:pt x="2102" y="987"/>
                  <a:pt x="2143" y="829"/>
                  <a:pt x="2060" y="801"/>
                </a:cubicBezTo>
                <a:cubicBezTo>
                  <a:pt x="2054" y="789"/>
                  <a:pt x="2052" y="774"/>
                  <a:pt x="2042" y="765"/>
                </a:cubicBezTo>
                <a:cubicBezTo>
                  <a:pt x="2032" y="757"/>
                  <a:pt x="2017" y="761"/>
                  <a:pt x="2006" y="756"/>
                </a:cubicBezTo>
                <a:cubicBezTo>
                  <a:pt x="1919" y="719"/>
                  <a:pt x="2046" y="755"/>
                  <a:pt x="1943" y="729"/>
                </a:cubicBezTo>
                <a:cubicBezTo>
                  <a:pt x="1882" y="688"/>
                  <a:pt x="1808" y="662"/>
                  <a:pt x="1736" y="648"/>
                </a:cubicBezTo>
                <a:cubicBezTo>
                  <a:pt x="1697" y="590"/>
                  <a:pt x="1745" y="648"/>
                  <a:pt x="1682" y="612"/>
                </a:cubicBezTo>
                <a:cubicBezTo>
                  <a:pt x="1634" y="584"/>
                  <a:pt x="1607" y="521"/>
                  <a:pt x="1556" y="504"/>
                </a:cubicBezTo>
                <a:cubicBezTo>
                  <a:pt x="1538" y="486"/>
                  <a:pt x="1520" y="468"/>
                  <a:pt x="1502" y="450"/>
                </a:cubicBezTo>
                <a:cubicBezTo>
                  <a:pt x="1482" y="430"/>
                  <a:pt x="1451" y="423"/>
                  <a:pt x="1430" y="405"/>
                </a:cubicBezTo>
                <a:cubicBezTo>
                  <a:pt x="1420" y="397"/>
                  <a:pt x="1414" y="384"/>
                  <a:pt x="1403" y="378"/>
                </a:cubicBezTo>
                <a:cubicBezTo>
                  <a:pt x="1389" y="371"/>
                  <a:pt x="1373" y="372"/>
                  <a:pt x="1358" y="369"/>
                </a:cubicBezTo>
                <a:cubicBezTo>
                  <a:pt x="1316" y="305"/>
                  <a:pt x="1371" y="382"/>
                  <a:pt x="1304" y="315"/>
                </a:cubicBezTo>
                <a:cubicBezTo>
                  <a:pt x="1237" y="248"/>
                  <a:pt x="1314" y="303"/>
                  <a:pt x="1250" y="261"/>
                </a:cubicBezTo>
                <a:cubicBezTo>
                  <a:pt x="1235" y="200"/>
                  <a:pt x="1197" y="146"/>
                  <a:pt x="1169" y="90"/>
                </a:cubicBezTo>
                <a:cubicBezTo>
                  <a:pt x="1158" y="67"/>
                  <a:pt x="1164" y="54"/>
                  <a:pt x="1142" y="36"/>
                </a:cubicBezTo>
                <a:cubicBezTo>
                  <a:pt x="1117" y="15"/>
                  <a:pt x="1083" y="22"/>
                  <a:pt x="1061" y="0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aster k = 3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(root,3) =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T(s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 in Ds(root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(M,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&lt;= s &lt;= 1+height(ro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is O(m) = O(n) on practical router data that have non-skewed 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complexity is O(mW), where W is trie h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425840" y="2995560"/>
            <a:ext cx="4571640" cy="3787920"/>
            <a:chOff x="4425840" y="2995560"/>
            <a:chExt cx="4571640" cy="3787920"/>
          </a:xfrm>
        </p:grpSpPr>
        <p:sp>
          <p:nvSpPr>
            <p:cNvPr id="479" name=""/>
            <p:cNvSpPr/>
            <p:nvPr/>
          </p:nvSpPr>
          <p:spPr>
            <a:xfrm>
              <a:off x="6013080" y="299556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21040" y="299556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65640" y="349668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73600" y="34966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81560" y="4061880"/>
              <a:ext cx="50760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89520" y="4061880"/>
              <a:ext cx="50796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3960" y="4061880"/>
              <a:ext cx="507960" cy="45756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02280" y="406188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346520" y="4629240"/>
              <a:ext cx="507960" cy="45648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5484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59280" y="462924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67240" y="46292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0228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10240" y="5190840"/>
              <a:ext cx="507600" cy="4597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14680" y="5190840"/>
              <a:ext cx="507600" cy="4579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22640" y="5190840"/>
              <a:ext cx="507960" cy="45792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0080" y="5759640"/>
              <a:ext cx="50796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78040" y="5759640"/>
              <a:ext cx="507600" cy="45648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25840" y="6323760"/>
              <a:ext cx="507600" cy="459720"/>
            </a:xfrm>
            <a:prstGeom prst="rect">
              <a:avLst/>
            </a:prstGeom>
            <a:solidFill>
              <a:srgbClr val="eb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33440" y="6323760"/>
              <a:ext cx="507600" cy="457560"/>
            </a:xfrm>
            <a:prstGeom prst="rect">
              <a:avLst/>
            </a:prstGeom>
            <a:solidFill>
              <a:srgbClr val="e78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29000" y="3372120"/>
              <a:ext cx="444600" cy="12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17840" y="38746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711840" y="38746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076080" y="44398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504760" y="50050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060160" y="5570280"/>
              <a:ext cx="44460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4616280" y="61354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664040" y="44398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092720" y="5005080"/>
              <a:ext cx="444240" cy="18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742000" y="2600280"/>
            <a:ext cx="3402000" cy="1971720"/>
          </a:xfrm>
          <a:custGeom>
            <a:avLst/>
            <a:gdLst/>
            <a:ahLst/>
            <a:rect l="l" t="t" r="r" b="b"/>
            <a:pathLst>
              <a:path w="2143" h="1242">
                <a:moveTo>
                  <a:pt x="1061" y="0"/>
                </a:moveTo>
                <a:cubicBezTo>
                  <a:pt x="902" y="14"/>
                  <a:pt x="777" y="87"/>
                  <a:pt x="629" y="117"/>
                </a:cubicBezTo>
                <a:cubicBezTo>
                  <a:pt x="489" y="187"/>
                  <a:pt x="299" y="175"/>
                  <a:pt x="152" y="180"/>
                </a:cubicBezTo>
                <a:cubicBezTo>
                  <a:pt x="111" y="190"/>
                  <a:pt x="96" y="211"/>
                  <a:pt x="62" y="234"/>
                </a:cubicBezTo>
                <a:cubicBezTo>
                  <a:pt x="21" y="296"/>
                  <a:pt x="33" y="267"/>
                  <a:pt x="17" y="315"/>
                </a:cubicBezTo>
                <a:cubicBezTo>
                  <a:pt x="8" y="383"/>
                  <a:pt x="0" y="405"/>
                  <a:pt x="17" y="477"/>
                </a:cubicBezTo>
                <a:cubicBezTo>
                  <a:pt x="25" y="513"/>
                  <a:pt x="63" y="518"/>
                  <a:pt x="89" y="531"/>
                </a:cubicBezTo>
                <a:cubicBezTo>
                  <a:pt x="172" y="573"/>
                  <a:pt x="239" y="581"/>
                  <a:pt x="332" y="594"/>
                </a:cubicBezTo>
                <a:cubicBezTo>
                  <a:pt x="372" y="607"/>
                  <a:pt x="402" y="626"/>
                  <a:pt x="440" y="639"/>
                </a:cubicBezTo>
                <a:cubicBezTo>
                  <a:pt x="470" y="669"/>
                  <a:pt x="475" y="692"/>
                  <a:pt x="494" y="729"/>
                </a:cubicBezTo>
                <a:cubicBezTo>
                  <a:pt x="489" y="763"/>
                  <a:pt x="491" y="800"/>
                  <a:pt x="467" y="828"/>
                </a:cubicBezTo>
                <a:cubicBezTo>
                  <a:pt x="448" y="851"/>
                  <a:pt x="363" y="880"/>
                  <a:pt x="332" y="900"/>
                </a:cubicBezTo>
                <a:cubicBezTo>
                  <a:pt x="301" y="993"/>
                  <a:pt x="308" y="951"/>
                  <a:pt x="323" y="1098"/>
                </a:cubicBezTo>
                <a:cubicBezTo>
                  <a:pt x="324" y="1107"/>
                  <a:pt x="325" y="1118"/>
                  <a:pt x="332" y="1125"/>
                </a:cubicBezTo>
                <a:cubicBezTo>
                  <a:pt x="370" y="1163"/>
                  <a:pt x="512" y="1231"/>
                  <a:pt x="566" y="1242"/>
                </a:cubicBezTo>
                <a:cubicBezTo>
                  <a:pt x="1049" y="1236"/>
                  <a:pt x="1514" y="1221"/>
                  <a:pt x="1997" y="1215"/>
                </a:cubicBezTo>
                <a:cubicBezTo>
                  <a:pt x="2051" y="1174"/>
                  <a:pt x="2056" y="1174"/>
                  <a:pt x="2078" y="1107"/>
                </a:cubicBezTo>
                <a:cubicBezTo>
                  <a:pt x="2084" y="1089"/>
                  <a:pt x="2096" y="1053"/>
                  <a:pt x="2096" y="1053"/>
                </a:cubicBezTo>
                <a:cubicBezTo>
                  <a:pt x="2102" y="987"/>
                  <a:pt x="2143" y="829"/>
                  <a:pt x="2060" y="801"/>
                </a:cubicBezTo>
                <a:cubicBezTo>
                  <a:pt x="2054" y="789"/>
                  <a:pt x="2052" y="774"/>
                  <a:pt x="2042" y="765"/>
                </a:cubicBezTo>
                <a:cubicBezTo>
                  <a:pt x="2032" y="757"/>
                  <a:pt x="2017" y="761"/>
                  <a:pt x="2006" y="756"/>
                </a:cubicBezTo>
                <a:cubicBezTo>
                  <a:pt x="1919" y="719"/>
                  <a:pt x="2046" y="755"/>
                  <a:pt x="1943" y="729"/>
                </a:cubicBezTo>
                <a:cubicBezTo>
                  <a:pt x="1882" y="688"/>
                  <a:pt x="1808" y="662"/>
                  <a:pt x="1736" y="648"/>
                </a:cubicBezTo>
                <a:cubicBezTo>
                  <a:pt x="1697" y="590"/>
                  <a:pt x="1745" y="648"/>
                  <a:pt x="1682" y="612"/>
                </a:cubicBezTo>
                <a:cubicBezTo>
                  <a:pt x="1634" y="584"/>
                  <a:pt x="1607" y="521"/>
                  <a:pt x="1556" y="504"/>
                </a:cubicBezTo>
                <a:cubicBezTo>
                  <a:pt x="1538" y="486"/>
                  <a:pt x="1520" y="468"/>
                  <a:pt x="1502" y="450"/>
                </a:cubicBezTo>
                <a:cubicBezTo>
                  <a:pt x="1482" y="430"/>
                  <a:pt x="1451" y="423"/>
                  <a:pt x="1430" y="405"/>
                </a:cubicBezTo>
                <a:cubicBezTo>
                  <a:pt x="1420" y="397"/>
                  <a:pt x="1414" y="384"/>
                  <a:pt x="1403" y="378"/>
                </a:cubicBezTo>
                <a:cubicBezTo>
                  <a:pt x="1389" y="371"/>
                  <a:pt x="1373" y="372"/>
                  <a:pt x="1358" y="369"/>
                </a:cubicBezTo>
                <a:cubicBezTo>
                  <a:pt x="1316" y="305"/>
                  <a:pt x="1371" y="382"/>
                  <a:pt x="1304" y="315"/>
                </a:cubicBezTo>
                <a:cubicBezTo>
                  <a:pt x="1237" y="248"/>
                  <a:pt x="1314" y="303"/>
                  <a:pt x="1250" y="261"/>
                </a:cubicBezTo>
                <a:cubicBezTo>
                  <a:pt x="1235" y="200"/>
                  <a:pt x="1197" y="146"/>
                  <a:pt x="1169" y="90"/>
                </a:cubicBezTo>
                <a:cubicBezTo>
                  <a:pt x="1158" y="67"/>
                  <a:pt x="1164" y="54"/>
                  <a:pt x="1142" y="36"/>
                </a:cubicBezTo>
                <a:cubicBezTo>
                  <a:pt x="1117" y="15"/>
                  <a:pt x="1083" y="22"/>
                  <a:pt x="1061" y="0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mory—Paix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0" name="vstMem" descr=""/>
          <p:cNvPicPr/>
          <p:nvPr/>
        </p:nvPicPr>
        <p:blipFill>
          <a:blip r:embed="rId1"/>
          <a:stretch/>
        </p:blipFill>
        <p:spPr>
          <a:xfrm>
            <a:off x="1676520" y="2068560"/>
            <a:ext cx="58752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wo-Dimensional Fil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ation-Source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&gt; 2 may be mapped to d = 2 using buckets; number of filters in each bucket is sm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&gt; 2 may not be practical for security rea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stination-Source Pai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Pref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* = [32, 47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*, 1100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 address begins with 0 and source with 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t-cost tie bre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*, 11*, 4) and (00*, 1*,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(00…, 11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econd r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D T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2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1 = (0*, 1100*,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2 = (0*, 1110*,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3 = (0*, 1111*,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4 = (000*, 10*,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5 = (000*, 11*,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6 = (0001*, 000),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7 = (0*, 1*,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2D1BT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3951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191120" y="1676520"/>
            <a:ext cx="5219640" cy="1295280"/>
          </a:xfrm>
          <a:custGeom>
            <a:avLst/>
            <a:gdLst/>
            <a:ahLst/>
            <a:rect l="l" t="t" r="r" b="b"/>
            <a:pathLst>
              <a:path w="3288" h="864">
                <a:moveTo>
                  <a:pt x="2656" y="0"/>
                </a:moveTo>
                <a:cubicBezTo>
                  <a:pt x="2224" y="0"/>
                  <a:pt x="704" y="336"/>
                  <a:pt x="352" y="480"/>
                </a:cubicBezTo>
                <a:cubicBezTo>
                  <a:pt x="0" y="624"/>
                  <a:pt x="112" y="864"/>
                  <a:pt x="544" y="864"/>
                </a:cubicBezTo>
                <a:cubicBezTo>
                  <a:pt x="976" y="864"/>
                  <a:pt x="2600" y="624"/>
                  <a:pt x="2944" y="480"/>
                </a:cubicBezTo>
                <a:cubicBezTo>
                  <a:pt x="3288" y="336"/>
                  <a:pt x="3088" y="0"/>
                  <a:pt x="2656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D T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2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1 = (0*, 1100*,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2 = (0*, 1110*,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3 = (0*, 1111*,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4 = (000*, 10*,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5 = (000*, 11*,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6 = (0001*, 000),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7 = (0*, 1*,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2DMT" descr=""/>
          <p:cNvPicPr/>
          <p:nvPr/>
        </p:nvPicPr>
        <p:blipFill>
          <a:blip r:embed="rId1"/>
          <a:stretch/>
        </p:blipFill>
        <p:spPr>
          <a:xfrm>
            <a:off x="4057560" y="1376280"/>
            <a:ext cx="5086440" cy="41036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759120" y="1397160"/>
            <a:ext cx="5727960" cy="2209680"/>
          </a:xfrm>
          <a:custGeom>
            <a:avLst/>
            <a:gdLst/>
            <a:ahLst/>
            <a:rect l="l" t="t" r="r" b="b"/>
            <a:pathLst>
              <a:path w="3608" h="1392">
                <a:moveTo>
                  <a:pt x="3104" y="80"/>
                </a:moveTo>
                <a:cubicBezTo>
                  <a:pt x="2600" y="160"/>
                  <a:pt x="640" y="680"/>
                  <a:pt x="320" y="896"/>
                </a:cubicBezTo>
                <a:cubicBezTo>
                  <a:pt x="0" y="1112"/>
                  <a:pt x="856" y="1360"/>
                  <a:pt x="1184" y="1376"/>
                </a:cubicBezTo>
                <a:cubicBezTo>
                  <a:pt x="1512" y="1392"/>
                  <a:pt x="1960" y="1104"/>
                  <a:pt x="2288" y="992"/>
                </a:cubicBezTo>
                <a:cubicBezTo>
                  <a:pt x="2616" y="880"/>
                  <a:pt x="2976" y="800"/>
                  <a:pt x="3152" y="704"/>
                </a:cubicBezTo>
                <a:cubicBezTo>
                  <a:pt x="3328" y="608"/>
                  <a:pt x="3352" y="520"/>
                  <a:pt x="3344" y="416"/>
                </a:cubicBezTo>
                <a:cubicBezTo>
                  <a:pt x="3336" y="312"/>
                  <a:pt x="3608" y="0"/>
                  <a:pt x="3104" y="8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ce-Optimal 2D T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2DMT that can be searched with &lt;= k memory accesses and has minimum memory requir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MTs may be searched with ¼ to ½ memory accesses as required by 2D1BTs with same memory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50% memory penalty, memory accesses fall to between 1/8 and 1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Router Tab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92428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 = 1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 = 11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3 = 1100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4 = 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5 = 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6 = 1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7 = 10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8 = 100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362320"/>
            <a:ext cx="304812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 matches all addresses that begin with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e Break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matching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st-priority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-specific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2,4] is more specific than [1,6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4,14] and [6,16] are not compa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st-prefix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st matching-pref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ngest-Prefix Match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92428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 = 1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2 = 11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3 = 1100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4 = 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5 = 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6 = 1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7 = 10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8 = 1000000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2362320"/>
            <a:ext cx="304812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= 10000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3581280"/>
            <a:ext cx="304812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, P4, P6, P7, P8 match this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5257800"/>
            <a:ext cx="304812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8 is longest matching pre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atic &amp; Dynamic Router Tab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i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r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 r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4 Router Tab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2286000"/>
          <a:ext cx="609588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Prefi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No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dd6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8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dd6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7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dd6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eW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dd6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2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dd6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eE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6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8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d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ernary CA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66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286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 = 1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53:27Z</dcterms:modified>
  <cp:revision>319</cp:revision>
  <dc:subject/>
  <dc:title>Data Representation Methods</dc:title>
</cp:coreProperties>
</file>