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ED2-37FE-4AA8-B9B1-F61B76D15D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 q will be deleted! Move y to p and change back pointer to q so that it is a back pointer to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q and r may be the same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each branch node with a Patricia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move elements into ancestor Patricia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always be one more element node than there are branch/Patricia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er nodes saves us by providing place for the additional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pointer (pointer to element or backward pointer) ends at a smaller or equal bit number than it starts at. Original pointers (forward pointers) end at a larger bit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1F0-41C4-46B6-929B-DAF52AD2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C8D-C309-483E-815E-C9F632A9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190-10BA-4604-AB51-763C6778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C85-3E81-4BD1-8594-8A967359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885-B1BE-40F7-9D3F-1E63198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53B-D5C2-4BF4-9803-0BEC167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FD8-24D8-4800-810A-80D68F2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8A3-E072-452C-899C-2E43432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0D5-BB24-4586-9EA5-F7770667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69E-1D42-4499-91F0-552B298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6EF-05DD-4CC0-A2AF-D54AECB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479-3A70-407D-8127-AE971F7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CF09-C5E5-4010-8D77-1BF1B469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rici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tical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gorithm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rieve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ed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hanume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ed binary t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nodes are of the same data type (binary tries use branch and element nod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only one kind of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r storage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617220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17520" y="1066680"/>
            <a:ext cx="5854320" cy="4762800"/>
            <a:chOff x="317520" y="1066680"/>
            <a:chExt cx="5854320" cy="4762800"/>
          </a:xfrm>
        </p:grpSpPr>
        <p:sp>
          <p:nvSpPr>
            <p:cNvPr id="293" name=""/>
            <p:cNvSpPr/>
            <p:nvPr/>
          </p:nvSpPr>
          <p:spPr>
            <a:xfrm flipH="1">
              <a:off x="3352320" y="3200400"/>
              <a:ext cx="38124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454560" y="2590920"/>
              <a:ext cx="1904760" cy="609480"/>
              <a:chOff x="3454560" y="2590920"/>
              <a:chExt cx="1904760" cy="609480"/>
            </a:xfrm>
          </p:grpSpPr>
          <p:sp>
            <p:nvSpPr>
              <p:cNvPr id="295" name=""/>
              <p:cNvSpPr/>
              <p:nvPr/>
            </p:nvSpPr>
            <p:spPr>
              <a:xfrm>
                <a:off x="3454560" y="2590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606840" y="2590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307332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133720" y="3733920"/>
              <a:ext cx="1904760" cy="609480"/>
              <a:chOff x="2133720" y="3733920"/>
              <a:chExt cx="1904760" cy="609480"/>
            </a:xfrm>
          </p:grpSpPr>
          <p:sp>
            <p:nvSpPr>
              <p:cNvPr id="299" name=""/>
              <p:cNvSpPr/>
              <p:nvPr/>
            </p:nvSpPr>
            <p:spPr>
              <a:xfrm>
                <a:off x="2133720" y="3733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86000" y="3733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752480" y="3429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863640" y="4800600"/>
              <a:ext cx="1904760" cy="609480"/>
              <a:chOff x="863640" y="4800600"/>
              <a:chExt cx="1904760" cy="609480"/>
            </a:xfrm>
          </p:grpSpPr>
          <p:sp>
            <p:nvSpPr>
              <p:cNvPr id="303" name=""/>
              <p:cNvSpPr/>
              <p:nvPr/>
            </p:nvSpPr>
            <p:spPr>
              <a:xfrm>
                <a:off x="863640" y="4800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15920" y="4800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2760" y="4495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006640" y="43434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3720" y="5257800"/>
              <a:ext cx="723960" cy="431640"/>
            </a:xfrm>
            <a:custGeom>
              <a:avLst/>
              <a:gdLst/>
              <a:ahLst/>
              <a:rect l="l" t="t" r="r" b="b"/>
              <a:pathLst>
                <a:path w="456" h="272">
                  <a:moveTo>
                    <a:pt x="56" y="96"/>
                  </a:moveTo>
                  <a:cubicBezTo>
                    <a:pt x="28" y="156"/>
                    <a:pt x="0" y="216"/>
                    <a:pt x="56" y="240"/>
                  </a:cubicBezTo>
                  <a:cubicBezTo>
                    <a:pt x="112" y="264"/>
                    <a:pt x="328" y="272"/>
                    <a:pt x="392" y="240"/>
                  </a:cubicBezTo>
                  <a:cubicBezTo>
                    <a:pt x="456" y="208"/>
                    <a:pt x="456" y="88"/>
                    <a:pt x="440" y="48"/>
                  </a:cubicBezTo>
                  <a:cubicBezTo>
                    <a:pt x="424" y="8"/>
                    <a:pt x="320" y="8"/>
                    <a:pt x="296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7520" y="4051440"/>
              <a:ext cx="1816200" cy="1778040"/>
            </a:xfrm>
            <a:custGeom>
              <a:avLst/>
              <a:gdLst/>
              <a:ahLst/>
              <a:rect l="l" t="t" r="r" b="b"/>
              <a:pathLst>
                <a:path w="1144" h="1120">
                  <a:moveTo>
                    <a:pt x="568" y="856"/>
                  </a:moveTo>
                  <a:cubicBezTo>
                    <a:pt x="596" y="908"/>
                    <a:pt x="624" y="960"/>
                    <a:pt x="568" y="1000"/>
                  </a:cubicBezTo>
                  <a:cubicBezTo>
                    <a:pt x="512" y="1040"/>
                    <a:pt x="312" y="1120"/>
                    <a:pt x="232" y="1096"/>
                  </a:cubicBezTo>
                  <a:cubicBezTo>
                    <a:pt x="152" y="1072"/>
                    <a:pt x="120" y="992"/>
                    <a:pt x="88" y="856"/>
                  </a:cubicBezTo>
                  <a:cubicBezTo>
                    <a:pt x="56" y="720"/>
                    <a:pt x="0" y="416"/>
                    <a:pt x="40" y="280"/>
                  </a:cubicBezTo>
                  <a:cubicBezTo>
                    <a:pt x="80" y="144"/>
                    <a:pt x="144" y="80"/>
                    <a:pt x="328" y="40"/>
                  </a:cubicBezTo>
                  <a:cubicBezTo>
                    <a:pt x="512" y="0"/>
                    <a:pt x="1008" y="40"/>
                    <a:pt x="1144" y="4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267080" y="1371600"/>
              <a:ext cx="1904760" cy="609480"/>
              <a:chOff x="4267080" y="1371600"/>
              <a:chExt cx="1904760" cy="6094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67080" y="1371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9360" y="1371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388620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267080" y="1981080"/>
              <a:ext cx="4572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99080" y="2793960"/>
              <a:ext cx="812880" cy="825480"/>
            </a:xfrm>
            <a:custGeom>
              <a:avLst/>
              <a:gdLst/>
              <a:ahLst/>
              <a:rect l="l" t="t" r="r" b="b"/>
              <a:pathLst>
                <a:path w="512" h="520">
                  <a:moveTo>
                    <a:pt x="64" y="256"/>
                  </a:moveTo>
                  <a:cubicBezTo>
                    <a:pt x="32" y="364"/>
                    <a:pt x="0" y="472"/>
                    <a:pt x="64" y="496"/>
                  </a:cubicBezTo>
                  <a:cubicBezTo>
                    <a:pt x="128" y="520"/>
                    <a:pt x="384" y="472"/>
                    <a:pt x="448" y="400"/>
                  </a:cubicBezTo>
                  <a:cubicBezTo>
                    <a:pt x="512" y="328"/>
                    <a:pt x="472" y="128"/>
                    <a:pt x="448" y="64"/>
                  </a:cubicBezTo>
                  <a:cubicBezTo>
                    <a:pt x="424" y="0"/>
                    <a:pt x="328" y="24"/>
                    <a:pt x="304" y="1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29000" y="4800600"/>
              <a:ext cx="1752480" cy="6094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81280" y="4800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0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81280" y="4343400"/>
              <a:ext cx="3812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971800" y="5029200"/>
            <a:ext cx="927000" cy="736560"/>
          </a:xfrm>
          <a:custGeom>
            <a:avLst/>
            <a:gdLst/>
            <a:ahLst/>
            <a:rect l="l" t="t" r="r" b="b"/>
            <a:pathLst>
              <a:path w="584" h="464">
                <a:moveTo>
                  <a:pt x="512" y="248"/>
                </a:moveTo>
                <a:cubicBezTo>
                  <a:pt x="548" y="332"/>
                  <a:pt x="584" y="416"/>
                  <a:pt x="512" y="440"/>
                </a:cubicBezTo>
                <a:cubicBezTo>
                  <a:pt x="440" y="464"/>
                  <a:pt x="160" y="456"/>
                  <a:pt x="80" y="392"/>
                </a:cubicBezTo>
                <a:cubicBezTo>
                  <a:pt x="0" y="328"/>
                  <a:pt x="0" y="112"/>
                  <a:pt x="32" y="56"/>
                </a:cubicBezTo>
                <a:cubicBezTo>
                  <a:pt x="64" y="0"/>
                  <a:pt x="232" y="56"/>
                  <a:pt x="272" y="5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1981080"/>
            <a:ext cx="1231920" cy="4267440"/>
          </a:xfrm>
          <a:custGeom>
            <a:avLst/>
            <a:gdLst/>
            <a:ahLst/>
            <a:rect l="l" t="t" r="r" b="b"/>
            <a:pathLst>
              <a:path w="776" h="2688">
                <a:moveTo>
                  <a:pt x="96" y="2160"/>
                </a:moveTo>
                <a:cubicBezTo>
                  <a:pt x="48" y="2220"/>
                  <a:pt x="0" y="2280"/>
                  <a:pt x="96" y="2304"/>
                </a:cubicBezTo>
                <a:cubicBezTo>
                  <a:pt x="192" y="2328"/>
                  <a:pt x="568" y="2688"/>
                  <a:pt x="672" y="2304"/>
                </a:cubicBezTo>
                <a:cubicBezTo>
                  <a:pt x="776" y="1920"/>
                  <a:pt x="712" y="384"/>
                  <a:pt x="720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3352680"/>
            <a:ext cx="6098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617220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3962520"/>
            <a:ext cx="812880" cy="825480"/>
          </a:xfrm>
          <a:custGeom>
            <a:avLst/>
            <a:gdLst/>
            <a:ahLst/>
            <a:rect l="l" t="t" r="r" b="b"/>
            <a:pathLst>
              <a:path w="512" h="520">
                <a:moveTo>
                  <a:pt x="64" y="256"/>
                </a:moveTo>
                <a:cubicBezTo>
                  <a:pt x="32" y="364"/>
                  <a:pt x="0" y="472"/>
                  <a:pt x="64" y="496"/>
                </a:cubicBezTo>
                <a:cubicBezTo>
                  <a:pt x="128" y="520"/>
                  <a:pt x="384" y="472"/>
                  <a:pt x="448" y="400"/>
                </a:cubicBezTo>
                <a:cubicBezTo>
                  <a:pt x="512" y="328"/>
                  <a:pt x="472" y="128"/>
                  <a:pt x="448" y="64"/>
                </a:cubicBezTo>
                <a:cubicBezTo>
                  <a:pt x="424" y="0"/>
                  <a:pt x="328" y="24"/>
                  <a:pt x="304" y="1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17520" y="1066680"/>
            <a:ext cx="7607160" cy="4991400"/>
            <a:chOff x="317520" y="1066680"/>
            <a:chExt cx="7607160" cy="4991400"/>
          </a:xfrm>
        </p:grpSpPr>
        <p:sp>
          <p:nvSpPr>
            <p:cNvPr id="326" name=""/>
            <p:cNvSpPr/>
            <p:nvPr/>
          </p:nvSpPr>
          <p:spPr>
            <a:xfrm flipH="1">
              <a:off x="3352320" y="3200400"/>
              <a:ext cx="38124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454560" y="2590920"/>
              <a:ext cx="1904760" cy="609480"/>
              <a:chOff x="3454560" y="2590920"/>
              <a:chExt cx="1904760" cy="609480"/>
            </a:xfrm>
          </p:grpSpPr>
          <p:sp>
            <p:nvSpPr>
              <p:cNvPr id="328" name=""/>
              <p:cNvSpPr/>
              <p:nvPr/>
            </p:nvSpPr>
            <p:spPr>
              <a:xfrm>
                <a:off x="3454560" y="2590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06840" y="2590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07332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2133720" y="3733920"/>
              <a:ext cx="1904760" cy="609480"/>
              <a:chOff x="2133720" y="3733920"/>
              <a:chExt cx="1904760" cy="609480"/>
            </a:xfrm>
          </p:grpSpPr>
          <p:sp>
            <p:nvSpPr>
              <p:cNvPr id="332" name=""/>
              <p:cNvSpPr/>
              <p:nvPr/>
            </p:nvSpPr>
            <p:spPr>
              <a:xfrm>
                <a:off x="2133720" y="3733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6000" y="3733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1752480" y="3429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863640" y="4800600"/>
              <a:ext cx="1904760" cy="609480"/>
              <a:chOff x="863640" y="4800600"/>
              <a:chExt cx="1904760" cy="609480"/>
            </a:xfrm>
          </p:grpSpPr>
          <p:sp>
            <p:nvSpPr>
              <p:cNvPr id="336" name=""/>
              <p:cNvSpPr/>
              <p:nvPr/>
            </p:nvSpPr>
            <p:spPr>
              <a:xfrm>
                <a:off x="863640" y="4800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015920" y="4800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82760" y="4495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006640" y="43434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5257800"/>
              <a:ext cx="723960" cy="431640"/>
            </a:xfrm>
            <a:custGeom>
              <a:avLst/>
              <a:gdLst/>
              <a:ahLst/>
              <a:rect l="l" t="t" r="r" b="b"/>
              <a:pathLst>
                <a:path w="456" h="272">
                  <a:moveTo>
                    <a:pt x="56" y="96"/>
                  </a:moveTo>
                  <a:cubicBezTo>
                    <a:pt x="28" y="156"/>
                    <a:pt x="0" y="216"/>
                    <a:pt x="56" y="240"/>
                  </a:cubicBezTo>
                  <a:cubicBezTo>
                    <a:pt x="112" y="264"/>
                    <a:pt x="328" y="272"/>
                    <a:pt x="392" y="240"/>
                  </a:cubicBezTo>
                  <a:cubicBezTo>
                    <a:pt x="456" y="208"/>
                    <a:pt x="456" y="88"/>
                    <a:pt x="440" y="48"/>
                  </a:cubicBezTo>
                  <a:cubicBezTo>
                    <a:pt x="424" y="8"/>
                    <a:pt x="320" y="8"/>
                    <a:pt x="296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7520" y="4051440"/>
              <a:ext cx="1816200" cy="1778040"/>
            </a:xfrm>
            <a:custGeom>
              <a:avLst/>
              <a:gdLst/>
              <a:ahLst/>
              <a:rect l="l" t="t" r="r" b="b"/>
              <a:pathLst>
                <a:path w="1144" h="1120">
                  <a:moveTo>
                    <a:pt x="568" y="856"/>
                  </a:moveTo>
                  <a:cubicBezTo>
                    <a:pt x="596" y="908"/>
                    <a:pt x="624" y="960"/>
                    <a:pt x="568" y="1000"/>
                  </a:cubicBezTo>
                  <a:cubicBezTo>
                    <a:pt x="512" y="1040"/>
                    <a:pt x="312" y="1120"/>
                    <a:pt x="232" y="1096"/>
                  </a:cubicBezTo>
                  <a:cubicBezTo>
                    <a:pt x="152" y="1072"/>
                    <a:pt x="120" y="992"/>
                    <a:pt x="88" y="856"/>
                  </a:cubicBezTo>
                  <a:cubicBezTo>
                    <a:pt x="56" y="720"/>
                    <a:pt x="0" y="416"/>
                    <a:pt x="40" y="280"/>
                  </a:cubicBezTo>
                  <a:cubicBezTo>
                    <a:pt x="80" y="144"/>
                    <a:pt x="144" y="80"/>
                    <a:pt x="328" y="40"/>
                  </a:cubicBezTo>
                  <a:cubicBezTo>
                    <a:pt x="512" y="0"/>
                    <a:pt x="1008" y="40"/>
                    <a:pt x="1144" y="4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267080" y="1371600"/>
              <a:ext cx="1904760" cy="609480"/>
              <a:chOff x="4267080" y="1371600"/>
              <a:chExt cx="1904760" cy="609480"/>
            </a:xfrm>
          </p:grpSpPr>
          <p:sp>
            <p:nvSpPr>
              <p:cNvPr id="343" name=""/>
              <p:cNvSpPr/>
              <p:nvPr/>
            </p:nvSpPr>
            <p:spPr>
              <a:xfrm>
                <a:off x="4267080" y="1371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19360" y="1371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388620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7080" y="1981080"/>
              <a:ext cx="4572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9000" y="480060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1280" y="4800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0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4832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4343400"/>
              <a:ext cx="3812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5029200"/>
              <a:ext cx="927000" cy="736560"/>
            </a:xfrm>
            <a:custGeom>
              <a:avLst/>
              <a:gdLst/>
              <a:ahLst/>
              <a:rect l="l" t="t" r="r" b="b"/>
              <a:pathLst>
                <a:path w="584" h="464">
                  <a:moveTo>
                    <a:pt x="512" y="248"/>
                  </a:moveTo>
                  <a:cubicBezTo>
                    <a:pt x="548" y="332"/>
                    <a:pt x="584" y="416"/>
                    <a:pt x="512" y="440"/>
                  </a:cubicBezTo>
                  <a:cubicBezTo>
                    <a:pt x="440" y="464"/>
                    <a:pt x="160" y="456"/>
                    <a:pt x="80" y="392"/>
                  </a:cubicBezTo>
                  <a:cubicBezTo>
                    <a:pt x="0" y="328"/>
                    <a:pt x="0" y="112"/>
                    <a:pt x="32" y="56"/>
                  </a:cubicBezTo>
                  <a:cubicBezTo>
                    <a:pt x="64" y="0"/>
                    <a:pt x="232" y="56"/>
                    <a:pt x="272" y="5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29200" y="3733920"/>
              <a:ext cx="1752480" cy="6094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37339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48320" y="3429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2880" y="3200400"/>
              <a:ext cx="5335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0480" y="1981080"/>
              <a:ext cx="3454200" cy="4077000"/>
            </a:xfrm>
            <a:custGeom>
              <a:avLst/>
              <a:gdLst/>
              <a:ahLst/>
              <a:rect l="l" t="t" r="r" b="b"/>
              <a:pathLst>
                <a:path w="2176" h="2568">
                  <a:moveTo>
                    <a:pt x="208" y="2160"/>
                  </a:moveTo>
                  <a:cubicBezTo>
                    <a:pt x="104" y="2240"/>
                    <a:pt x="0" y="2320"/>
                    <a:pt x="256" y="2352"/>
                  </a:cubicBezTo>
                  <a:cubicBezTo>
                    <a:pt x="512" y="2384"/>
                    <a:pt x="1448" y="2568"/>
                    <a:pt x="1744" y="2352"/>
                  </a:cubicBezTo>
                  <a:cubicBezTo>
                    <a:pt x="2040" y="2136"/>
                    <a:pt x="2176" y="1448"/>
                    <a:pt x="2032" y="1056"/>
                  </a:cubicBezTo>
                  <a:cubicBezTo>
                    <a:pt x="1888" y="664"/>
                    <a:pt x="1072" y="176"/>
                    <a:pt x="880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394160" y="3200400"/>
            <a:ext cx="635040" cy="1155600"/>
          </a:xfrm>
          <a:custGeom>
            <a:avLst/>
            <a:gdLst/>
            <a:ahLst/>
            <a:rect l="l" t="t" r="r" b="b"/>
            <a:pathLst>
              <a:path w="400" h="728">
                <a:moveTo>
                  <a:pt x="400" y="624"/>
                </a:moveTo>
                <a:cubicBezTo>
                  <a:pt x="264" y="676"/>
                  <a:pt x="128" y="728"/>
                  <a:pt x="64" y="624"/>
                </a:cubicBezTo>
                <a:cubicBezTo>
                  <a:pt x="0" y="520"/>
                  <a:pt x="24" y="104"/>
                  <a:pt x="16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ode that contains the dictionary pair that is to be de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one self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self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 Has One Self Poin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heade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e is now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rie pointer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!= heade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update pointer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97160" y="4495680"/>
            <a:ext cx="2438280" cy="1752840"/>
            <a:chOff x="1397160" y="4495680"/>
            <a:chExt cx="2438280" cy="1752840"/>
          </a:xfrm>
        </p:grpSpPr>
        <p:sp>
          <p:nvSpPr>
            <p:cNvPr id="363" name=""/>
            <p:cNvSpPr/>
            <p:nvPr/>
          </p:nvSpPr>
          <p:spPr>
            <a:xfrm flipH="1">
              <a:off x="1676520" y="5715000"/>
              <a:ext cx="38088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778040" y="5105520"/>
              <a:ext cx="1904760" cy="609480"/>
              <a:chOff x="1778040" y="5105520"/>
              <a:chExt cx="1904760" cy="609480"/>
            </a:xfrm>
          </p:grpSpPr>
          <p:sp>
            <p:nvSpPr>
              <p:cNvPr id="365" name=""/>
              <p:cNvSpPr/>
              <p:nvPr/>
            </p:nvSpPr>
            <p:spPr>
              <a:xfrm>
                <a:off x="1778040" y="51055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30320" y="51055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397160" y="4800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590920" y="4495680"/>
              <a:ext cx="4572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22560" y="5308560"/>
              <a:ext cx="812880" cy="825480"/>
            </a:xfrm>
            <a:custGeom>
              <a:avLst/>
              <a:gdLst/>
              <a:ahLst/>
              <a:rect l="l" t="t" r="r" b="b"/>
              <a:pathLst>
                <a:path w="512" h="520">
                  <a:moveTo>
                    <a:pt x="64" y="256"/>
                  </a:moveTo>
                  <a:cubicBezTo>
                    <a:pt x="32" y="364"/>
                    <a:pt x="0" y="472"/>
                    <a:pt x="64" y="496"/>
                  </a:cubicBezTo>
                  <a:cubicBezTo>
                    <a:pt x="128" y="520"/>
                    <a:pt x="384" y="472"/>
                    <a:pt x="448" y="400"/>
                  </a:cubicBezTo>
                  <a:cubicBezTo>
                    <a:pt x="512" y="328"/>
                    <a:pt x="472" y="128"/>
                    <a:pt x="448" y="64"/>
                  </a:cubicBezTo>
                  <a:cubicBezTo>
                    <a:pt x="424" y="0"/>
                    <a:pt x="328" y="24"/>
                    <a:pt x="304" y="1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96880" y="4381560"/>
            <a:ext cx="2374920" cy="1866960"/>
          </a:xfrm>
          <a:custGeom>
            <a:avLst/>
            <a:gdLst/>
            <a:ahLst/>
            <a:rect l="l" t="t" r="r" b="b"/>
            <a:pathLst>
              <a:path w="1496" h="1176">
                <a:moveTo>
                  <a:pt x="1496" y="72"/>
                </a:moveTo>
                <a:cubicBezTo>
                  <a:pt x="1212" y="36"/>
                  <a:pt x="928" y="0"/>
                  <a:pt x="680" y="72"/>
                </a:cubicBezTo>
                <a:cubicBezTo>
                  <a:pt x="432" y="144"/>
                  <a:pt x="16" y="320"/>
                  <a:pt x="8" y="504"/>
                </a:cubicBezTo>
                <a:cubicBezTo>
                  <a:pt x="0" y="688"/>
                  <a:pt x="316" y="932"/>
                  <a:pt x="632" y="117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4600" y="4648320"/>
            <a:ext cx="60948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207040" y="3809880"/>
            <a:ext cx="2577960" cy="2260800"/>
            <a:chOff x="5207040" y="3809880"/>
            <a:chExt cx="2577960" cy="2260800"/>
          </a:xfrm>
        </p:grpSpPr>
        <p:grpSp>
          <p:nvGrpSpPr>
            <p:cNvPr id="373" name=""/>
            <p:cNvGrpSpPr/>
            <p:nvPr/>
          </p:nvGrpSpPr>
          <p:grpSpPr>
            <a:xfrm>
              <a:off x="5638680" y="5105520"/>
              <a:ext cx="1904760" cy="609480"/>
              <a:chOff x="5638680" y="5105520"/>
              <a:chExt cx="1904760" cy="6094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38680" y="51055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90960" y="51055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257800" y="4800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07040" y="5334120"/>
              <a:ext cx="927000" cy="736560"/>
            </a:xfrm>
            <a:custGeom>
              <a:avLst/>
              <a:gdLst/>
              <a:ahLst/>
              <a:rect l="l" t="t" r="r" b="b"/>
              <a:pathLst>
                <a:path w="584" h="464">
                  <a:moveTo>
                    <a:pt x="512" y="248"/>
                  </a:moveTo>
                  <a:cubicBezTo>
                    <a:pt x="548" y="332"/>
                    <a:pt x="584" y="416"/>
                    <a:pt x="512" y="440"/>
                  </a:cubicBezTo>
                  <a:cubicBezTo>
                    <a:pt x="440" y="464"/>
                    <a:pt x="160" y="456"/>
                    <a:pt x="80" y="392"/>
                  </a:cubicBezTo>
                  <a:cubicBezTo>
                    <a:pt x="0" y="328"/>
                    <a:pt x="0" y="112"/>
                    <a:pt x="32" y="56"/>
                  </a:cubicBezTo>
                  <a:cubicBezTo>
                    <a:pt x="64" y="0"/>
                    <a:pt x="232" y="56"/>
                    <a:pt x="272" y="5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477120" y="3809880"/>
              <a:ext cx="761760" cy="121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59520" y="4572000"/>
              <a:ext cx="825480" cy="1447920"/>
            </a:xfrm>
            <a:custGeom>
              <a:avLst/>
              <a:gdLst/>
              <a:ahLst/>
              <a:rect l="l" t="t" r="r" b="b"/>
              <a:pathLst>
                <a:path w="520" h="912">
                  <a:moveTo>
                    <a:pt x="0" y="720"/>
                  </a:moveTo>
                  <a:cubicBezTo>
                    <a:pt x="4" y="776"/>
                    <a:pt x="8" y="832"/>
                    <a:pt x="48" y="864"/>
                  </a:cubicBezTo>
                  <a:cubicBezTo>
                    <a:pt x="88" y="896"/>
                    <a:pt x="168" y="912"/>
                    <a:pt x="240" y="912"/>
                  </a:cubicBezTo>
                  <a:cubicBezTo>
                    <a:pt x="312" y="912"/>
                    <a:pt x="440" y="912"/>
                    <a:pt x="480" y="864"/>
                  </a:cubicBezTo>
                  <a:cubicBezTo>
                    <a:pt x="520" y="816"/>
                    <a:pt x="480" y="768"/>
                    <a:pt x="480" y="624"/>
                  </a:cubicBezTo>
                  <a:cubicBezTo>
                    <a:pt x="480" y="480"/>
                    <a:pt x="480" y="104"/>
                    <a:pt x="480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477120" y="4267080"/>
            <a:ext cx="60948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38880" y="3581280"/>
            <a:ext cx="419400" cy="660600"/>
          </a:xfrm>
          <a:custGeom>
            <a:avLst/>
            <a:gdLst/>
            <a:ahLst/>
            <a:rect l="l" t="t" r="r" b="b"/>
            <a:pathLst>
              <a:path w="264" h="416">
                <a:moveTo>
                  <a:pt x="0" y="144"/>
                </a:moveTo>
                <a:cubicBezTo>
                  <a:pt x="28" y="248"/>
                  <a:pt x="56" y="352"/>
                  <a:pt x="96" y="384"/>
                </a:cubicBezTo>
                <a:cubicBezTo>
                  <a:pt x="136" y="416"/>
                  <a:pt x="216" y="400"/>
                  <a:pt x="240" y="336"/>
                </a:cubicBezTo>
                <a:cubicBezTo>
                  <a:pt x="264" y="272"/>
                  <a:pt x="240" y="56"/>
                  <a:pt x="240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 Has No Self Poin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ode that has a back pointer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determined during the search for the pair with the delete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2120" y="3200400"/>
            <a:ext cx="8153280" cy="3213000"/>
            <a:chOff x="762120" y="3200400"/>
            <a:chExt cx="8153280" cy="3213000"/>
          </a:xfrm>
        </p:grpSpPr>
        <p:grpSp>
          <p:nvGrpSpPr>
            <p:cNvPr id="385" name=""/>
            <p:cNvGrpSpPr/>
            <p:nvPr/>
          </p:nvGrpSpPr>
          <p:grpSpPr>
            <a:xfrm>
              <a:off x="762120" y="3200400"/>
              <a:ext cx="8153280" cy="3213000"/>
              <a:chOff x="762120" y="3200400"/>
              <a:chExt cx="8153280" cy="321300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2945880" y="4419720"/>
                <a:ext cx="381240" cy="533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048120" y="3809880"/>
                <a:ext cx="1904760" cy="609840"/>
                <a:chOff x="3048120" y="3809880"/>
                <a:chExt cx="1904760" cy="60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048120" y="3809880"/>
                  <a:ext cx="1752480" cy="6098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200400" y="3809880"/>
                  <a:ext cx="1752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00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2666880" y="350532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860640" y="3200400"/>
                <a:ext cx="45720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143000" y="54864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52480" y="5486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6212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90920" y="4419720"/>
                <a:ext cx="1752480" cy="1993680"/>
              </a:xfrm>
              <a:custGeom>
                <a:avLst/>
                <a:gdLst/>
                <a:ahLst/>
                <a:rect l="l" t="t" r="r" b="b"/>
                <a:pathLst>
                  <a:path w="1104" h="1256">
                    <a:moveTo>
                      <a:pt x="0" y="1056"/>
                    </a:moveTo>
                    <a:cubicBezTo>
                      <a:pt x="24" y="1156"/>
                      <a:pt x="48" y="1256"/>
                      <a:pt x="144" y="1248"/>
                    </a:cubicBezTo>
                    <a:cubicBezTo>
                      <a:pt x="240" y="1240"/>
                      <a:pt x="432" y="1168"/>
                      <a:pt x="576" y="1008"/>
                    </a:cubicBezTo>
                    <a:cubicBezTo>
                      <a:pt x="720" y="848"/>
                      <a:pt x="920" y="456"/>
                      <a:pt x="1008" y="288"/>
                    </a:cubicBezTo>
                    <a:cubicBezTo>
                      <a:pt x="1096" y="120"/>
                      <a:pt x="1088" y="48"/>
                      <a:pt x="1104" y="0"/>
                    </a:cubicBezTo>
                  </a:path>
                </a:pathLst>
              </a:custGeom>
              <a:noFill/>
              <a:ln w="5724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95680" y="4419720"/>
                <a:ext cx="304920" cy="533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86400" y="4038480"/>
                <a:ext cx="3429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Times New Roman"/>
                  </a:rPr>
                  <a:t>Blue pointer could be red or black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H="1">
              <a:off x="1599840" y="50292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 Has No Self Poin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find the unique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has a back pointer to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546080" y="20574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648320" y="1447920"/>
            <a:ext cx="1904760" cy="609480"/>
            <a:chOff x="4648320" y="1447920"/>
            <a:chExt cx="1904760" cy="609480"/>
          </a:xfrm>
        </p:grpSpPr>
        <p:sp>
          <p:nvSpPr>
            <p:cNvPr id="403" name=""/>
            <p:cNvSpPr/>
            <p:nvPr/>
          </p:nvSpPr>
          <p:spPr>
            <a:xfrm>
              <a:off x="4648320" y="144792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00600" y="1447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267080" y="1143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460840" y="838080"/>
            <a:ext cx="4572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3124080"/>
            <a:ext cx="17524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91120" y="2057400"/>
            <a:ext cx="1752480" cy="1994040"/>
          </a:xfrm>
          <a:custGeom>
            <a:avLst/>
            <a:gdLst/>
            <a:ahLst/>
            <a:rect l="l" t="t" r="r" b="b"/>
            <a:pathLst>
              <a:path w="1104" h="1256">
                <a:moveTo>
                  <a:pt x="0" y="1056"/>
                </a:moveTo>
                <a:cubicBezTo>
                  <a:pt x="24" y="1156"/>
                  <a:pt x="48" y="1256"/>
                  <a:pt x="144" y="1248"/>
                </a:cubicBezTo>
                <a:cubicBezTo>
                  <a:pt x="240" y="1240"/>
                  <a:pt x="432" y="1168"/>
                  <a:pt x="576" y="1008"/>
                </a:cubicBezTo>
                <a:cubicBezTo>
                  <a:pt x="720" y="848"/>
                  <a:pt x="920" y="456"/>
                  <a:pt x="1008" y="288"/>
                </a:cubicBezTo>
                <a:cubicBezTo>
                  <a:pt x="1096" y="120"/>
                  <a:pt x="1088" y="48"/>
                  <a:pt x="1104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2057400"/>
            <a:ext cx="30492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76320" y="3505320"/>
            <a:ext cx="2971440" cy="2197080"/>
            <a:chOff x="76320" y="3505320"/>
            <a:chExt cx="2971440" cy="2197080"/>
          </a:xfrm>
        </p:grpSpPr>
        <p:sp>
          <p:nvSpPr>
            <p:cNvPr id="413" name=""/>
            <p:cNvSpPr/>
            <p:nvPr/>
          </p:nvSpPr>
          <p:spPr>
            <a:xfrm>
              <a:off x="762120" y="4495680"/>
              <a:ext cx="1752480" cy="60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1600" y="4495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880" y="41911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320" y="3505320"/>
              <a:ext cx="2666880" cy="2197080"/>
            </a:xfrm>
            <a:custGeom>
              <a:avLst/>
              <a:gdLst/>
              <a:ahLst/>
              <a:rect l="l" t="t" r="r" b="b"/>
              <a:pathLst>
                <a:path w="1680" h="1384">
                  <a:moveTo>
                    <a:pt x="672" y="1008"/>
                  </a:moveTo>
                  <a:cubicBezTo>
                    <a:pt x="736" y="1108"/>
                    <a:pt x="800" y="1208"/>
                    <a:pt x="720" y="1248"/>
                  </a:cubicBezTo>
                  <a:cubicBezTo>
                    <a:pt x="640" y="1288"/>
                    <a:pt x="296" y="1384"/>
                    <a:pt x="192" y="1248"/>
                  </a:cubicBezTo>
                  <a:cubicBezTo>
                    <a:pt x="88" y="1112"/>
                    <a:pt x="0" y="608"/>
                    <a:pt x="96" y="432"/>
                  </a:cubicBezTo>
                  <a:cubicBezTo>
                    <a:pt x="192" y="256"/>
                    <a:pt x="504" y="264"/>
                    <a:pt x="768" y="192"/>
                  </a:cubicBezTo>
                  <a:cubicBezTo>
                    <a:pt x="1032" y="120"/>
                    <a:pt x="1528" y="24"/>
                    <a:pt x="1680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520" y="3733920"/>
              <a:ext cx="38124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H="1">
            <a:off x="3276720" y="2666880"/>
            <a:ext cx="3045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 Has No Self Poin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the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838080"/>
            <a:ext cx="6476760" cy="4864320"/>
            <a:chOff x="76320" y="838080"/>
            <a:chExt cx="6476760" cy="4864320"/>
          </a:xfrm>
        </p:grpSpPr>
        <p:sp>
          <p:nvSpPr>
            <p:cNvPr id="422" name=""/>
            <p:cNvSpPr/>
            <p:nvPr/>
          </p:nvSpPr>
          <p:spPr>
            <a:xfrm flipH="1">
              <a:off x="4546080" y="2057400"/>
              <a:ext cx="38124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4648320" y="1447920"/>
              <a:ext cx="1904760" cy="609480"/>
              <a:chOff x="4648320" y="1447920"/>
              <a:chExt cx="1904760" cy="60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4648320" y="1447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00600" y="1447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4267080" y="1143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460840" y="838080"/>
              <a:ext cx="4572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3200" y="3124080"/>
              <a:ext cx="1752480" cy="60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52680" y="3124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91120" y="2057400"/>
              <a:ext cx="1752480" cy="1994040"/>
            </a:xfrm>
            <a:custGeom>
              <a:avLst/>
              <a:gdLst/>
              <a:ahLst/>
              <a:rect l="l" t="t" r="r" b="b"/>
              <a:pathLst>
                <a:path w="1104" h="1256">
                  <a:moveTo>
                    <a:pt x="0" y="1056"/>
                  </a:moveTo>
                  <a:cubicBezTo>
                    <a:pt x="24" y="1156"/>
                    <a:pt x="48" y="1256"/>
                    <a:pt x="144" y="1248"/>
                  </a:cubicBezTo>
                  <a:cubicBezTo>
                    <a:pt x="240" y="1240"/>
                    <a:pt x="432" y="1168"/>
                    <a:pt x="576" y="1008"/>
                  </a:cubicBezTo>
                  <a:cubicBezTo>
                    <a:pt x="720" y="848"/>
                    <a:pt x="920" y="456"/>
                    <a:pt x="1008" y="288"/>
                  </a:cubicBezTo>
                  <a:cubicBezTo>
                    <a:pt x="1096" y="120"/>
                    <a:pt x="1088" y="48"/>
                    <a:pt x="1104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5880" y="2057400"/>
              <a:ext cx="304920" cy="533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6320" y="3505320"/>
              <a:ext cx="2666880" cy="2197080"/>
              <a:chOff x="76320" y="3505320"/>
              <a:chExt cx="2666880" cy="2197080"/>
            </a:xfrm>
          </p:grpSpPr>
          <p:sp>
            <p:nvSpPr>
              <p:cNvPr id="434" name=""/>
              <p:cNvSpPr/>
              <p:nvPr/>
            </p:nvSpPr>
            <p:spPr>
              <a:xfrm>
                <a:off x="762120" y="4495680"/>
                <a:ext cx="1752480" cy="609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371600" y="4495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0880" y="419112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320" y="3505320"/>
                <a:ext cx="2666880" cy="2197080"/>
              </a:xfrm>
              <a:custGeom>
                <a:avLst/>
                <a:gdLst/>
                <a:ahLst/>
                <a:rect l="l" t="t" r="r" b="b"/>
                <a:pathLst>
                  <a:path w="1680" h="1384">
                    <a:moveTo>
                      <a:pt x="672" y="1008"/>
                    </a:moveTo>
                    <a:cubicBezTo>
                      <a:pt x="736" y="1108"/>
                      <a:pt x="800" y="1208"/>
                      <a:pt x="720" y="1248"/>
                    </a:cubicBezTo>
                    <a:cubicBezTo>
                      <a:pt x="640" y="1288"/>
                      <a:pt x="296" y="1384"/>
                      <a:pt x="192" y="1248"/>
                    </a:cubicBezTo>
                    <a:cubicBezTo>
                      <a:pt x="88" y="1112"/>
                      <a:pt x="0" y="608"/>
                      <a:pt x="96" y="432"/>
                    </a:cubicBezTo>
                    <a:cubicBezTo>
                      <a:pt x="192" y="256"/>
                      <a:pt x="504" y="264"/>
                      <a:pt x="768" y="192"/>
                    </a:cubicBezTo>
                    <a:cubicBezTo>
                      <a:pt x="1032" y="120"/>
                      <a:pt x="1528" y="24"/>
                      <a:pt x="1680" y="0"/>
                    </a:cubicBezTo>
                  </a:path>
                </a:pathLst>
              </a:custGeom>
              <a:noFill/>
              <a:ln w="5724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4648320" y="1447920"/>
            <a:ext cx="1752480" cy="609480"/>
            <a:chOff x="4648320" y="1447920"/>
            <a:chExt cx="1752480" cy="609480"/>
          </a:xfrm>
        </p:grpSpPr>
        <p:sp>
          <p:nvSpPr>
            <p:cNvPr id="439" name=""/>
            <p:cNvSpPr/>
            <p:nvPr/>
          </p:nvSpPr>
          <p:spPr>
            <a:xfrm>
              <a:off x="4648320" y="144792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57800" y="14479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H="1">
            <a:off x="2666520" y="3733920"/>
            <a:ext cx="3812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276720" y="2666880"/>
            <a:ext cx="3045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 Has No Self Poin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back pointer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oint to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914400" y="762120"/>
            <a:ext cx="6476760" cy="4863600"/>
            <a:chOff x="914400" y="762120"/>
            <a:chExt cx="6476760" cy="4863600"/>
          </a:xfrm>
        </p:grpSpPr>
        <p:sp>
          <p:nvSpPr>
            <p:cNvPr id="446" name=""/>
            <p:cNvSpPr/>
            <p:nvPr/>
          </p:nvSpPr>
          <p:spPr>
            <a:xfrm flipH="1">
              <a:off x="5384160" y="1981080"/>
              <a:ext cx="38124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486400" y="1371600"/>
              <a:ext cx="1904760" cy="609120"/>
              <a:chOff x="5486400" y="1371600"/>
              <a:chExt cx="1904760" cy="60912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371600"/>
                <a:ext cx="1752480" cy="609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8680" y="1371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105160" y="1066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298920" y="7621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304776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90760" y="30477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00400" y="27432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29200" y="1981080"/>
              <a:ext cx="1752480" cy="1993680"/>
            </a:xfrm>
            <a:custGeom>
              <a:avLst/>
              <a:gdLst/>
              <a:ahLst/>
              <a:rect l="l" t="t" r="r" b="b"/>
              <a:pathLst>
                <a:path w="1104" h="1256">
                  <a:moveTo>
                    <a:pt x="0" y="1056"/>
                  </a:moveTo>
                  <a:cubicBezTo>
                    <a:pt x="24" y="1156"/>
                    <a:pt x="48" y="1256"/>
                    <a:pt x="144" y="1248"/>
                  </a:cubicBezTo>
                  <a:cubicBezTo>
                    <a:pt x="240" y="1240"/>
                    <a:pt x="432" y="1168"/>
                    <a:pt x="576" y="1008"/>
                  </a:cubicBezTo>
                  <a:cubicBezTo>
                    <a:pt x="720" y="848"/>
                    <a:pt x="920" y="456"/>
                    <a:pt x="1008" y="288"/>
                  </a:cubicBezTo>
                  <a:cubicBezTo>
                    <a:pt x="1096" y="120"/>
                    <a:pt x="1088" y="48"/>
                    <a:pt x="1104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33960" y="1981080"/>
              <a:ext cx="304920" cy="5331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914400" y="3429000"/>
              <a:ext cx="2666880" cy="2196720"/>
              <a:chOff x="914400" y="3429000"/>
              <a:chExt cx="2666880" cy="2196720"/>
            </a:xfrm>
          </p:grpSpPr>
          <p:sp>
            <p:nvSpPr>
              <p:cNvPr id="458" name=""/>
              <p:cNvSpPr/>
              <p:nvPr/>
            </p:nvSpPr>
            <p:spPr>
              <a:xfrm>
                <a:off x="1600200" y="44190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09680" y="44190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218960" y="411444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14400" y="3429000"/>
                <a:ext cx="2666880" cy="2196720"/>
              </a:xfrm>
              <a:custGeom>
                <a:avLst/>
                <a:gdLst/>
                <a:ahLst/>
                <a:rect l="l" t="t" r="r" b="b"/>
                <a:pathLst>
                  <a:path w="1680" h="1384">
                    <a:moveTo>
                      <a:pt x="672" y="1008"/>
                    </a:moveTo>
                    <a:cubicBezTo>
                      <a:pt x="736" y="1108"/>
                      <a:pt x="800" y="1208"/>
                      <a:pt x="720" y="1248"/>
                    </a:cubicBezTo>
                    <a:cubicBezTo>
                      <a:pt x="640" y="1288"/>
                      <a:pt x="296" y="1384"/>
                      <a:pt x="192" y="1248"/>
                    </a:cubicBezTo>
                    <a:cubicBezTo>
                      <a:pt x="88" y="1112"/>
                      <a:pt x="0" y="608"/>
                      <a:pt x="96" y="432"/>
                    </a:cubicBezTo>
                    <a:cubicBezTo>
                      <a:pt x="192" y="256"/>
                      <a:pt x="504" y="264"/>
                      <a:pt x="768" y="192"/>
                    </a:cubicBezTo>
                    <a:cubicBezTo>
                      <a:pt x="1032" y="120"/>
                      <a:pt x="1528" y="24"/>
                      <a:pt x="1680" y="0"/>
                    </a:cubicBezTo>
                  </a:path>
                </a:pathLst>
              </a:custGeom>
              <a:noFill/>
              <a:ln w="5724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5486400" y="1371600"/>
            <a:ext cx="1752480" cy="609480"/>
            <a:chOff x="5486400" y="1371600"/>
            <a:chExt cx="1752480" cy="609480"/>
          </a:xfrm>
        </p:grpSpPr>
        <p:sp>
          <p:nvSpPr>
            <p:cNvPr id="463" name=""/>
            <p:cNvSpPr/>
            <p:nvPr/>
          </p:nvSpPr>
          <p:spPr>
            <a:xfrm>
              <a:off x="5486400" y="137160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137160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752480" y="3276720"/>
            <a:ext cx="83844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1359000"/>
            <a:ext cx="4724280" cy="4457520"/>
          </a:xfrm>
          <a:custGeom>
            <a:avLst/>
            <a:gdLst/>
            <a:ahLst/>
            <a:rect l="l" t="t" r="r" b="b"/>
            <a:pathLst>
              <a:path w="2976" h="2808">
                <a:moveTo>
                  <a:pt x="768" y="2312"/>
                </a:moveTo>
                <a:cubicBezTo>
                  <a:pt x="688" y="2496"/>
                  <a:pt x="608" y="2680"/>
                  <a:pt x="528" y="2744"/>
                </a:cubicBezTo>
                <a:cubicBezTo>
                  <a:pt x="448" y="2808"/>
                  <a:pt x="360" y="2736"/>
                  <a:pt x="288" y="2696"/>
                </a:cubicBezTo>
                <a:cubicBezTo>
                  <a:pt x="216" y="2656"/>
                  <a:pt x="128" y="2712"/>
                  <a:pt x="96" y="2504"/>
                </a:cubicBezTo>
                <a:cubicBezTo>
                  <a:pt x="64" y="2296"/>
                  <a:pt x="0" y="1728"/>
                  <a:pt x="96" y="1448"/>
                </a:cubicBezTo>
                <a:cubicBezTo>
                  <a:pt x="192" y="1168"/>
                  <a:pt x="376" y="1048"/>
                  <a:pt x="672" y="824"/>
                </a:cubicBezTo>
                <a:cubicBezTo>
                  <a:pt x="968" y="600"/>
                  <a:pt x="1488" y="208"/>
                  <a:pt x="1872" y="104"/>
                </a:cubicBezTo>
                <a:cubicBezTo>
                  <a:pt x="2256" y="0"/>
                  <a:pt x="2616" y="100"/>
                  <a:pt x="2976" y="20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80920" y="3657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962520" y="2590920"/>
            <a:ext cx="3045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 Has No Self Poin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forward pointer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384880" y="198108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486400" y="1371600"/>
            <a:ext cx="1904760" cy="609480"/>
            <a:chOff x="5486400" y="1371600"/>
            <a:chExt cx="1904760" cy="609480"/>
          </a:xfrm>
        </p:grpSpPr>
        <p:sp>
          <p:nvSpPr>
            <p:cNvPr id="473" name=""/>
            <p:cNvSpPr/>
            <p:nvPr/>
          </p:nvSpPr>
          <p:spPr>
            <a:xfrm>
              <a:off x="5486400" y="137160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38680" y="13716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105520" y="1066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99280" y="762120"/>
            <a:ext cx="457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3048120"/>
            <a:ext cx="17528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911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0400" y="2743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1981080"/>
            <a:ext cx="1752480" cy="1994040"/>
          </a:xfrm>
          <a:custGeom>
            <a:avLst/>
            <a:gdLst/>
            <a:ahLst/>
            <a:rect l="l" t="t" r="r" b="b"/>
            <a:pathLst>
              <a:path w="1104" h="1256">
                <a:moveTo>
                  <a:pt x="0" y="1056"/>
                </a:moveTo>
                <a:cubicBezTo>
                  <a:pt x="24" y="1156"/>
                  <a:pt x="48" y="1256"/>
                  <a:pt x="144" y="1248"/>
                </a:cubicBezTo>
                <a:cubicBezTo>
                  <a:pt x="240" y="1240"/>
                  <a:pt x="432" y="1168"/>
                  <a:pt x="576" y="1008"/>
                </a:cubicBezTo>
                <a:cubicBezTo>
                  <a:pt x="720" y="848"/>
                  <a:pt x="920" y="456"/>
                  <a:pt x="1008" y="288"/>
                </a:cubicBezTo>
                <a:cubicBezTo>
                  <a:pt x="1096" y="120"/>
                  <a:pt x="1088" y="48"/>
                  <a:pt x="1104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4320" y="1981080"/>
            <a:ext cx="304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4419720"/>
            <a:ext cx="17524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4419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193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486400" y="1371600"/>
            <a:ext cx="1752480" cy="609480"/>
            <a:chOff x="5486400" y="1371600"/>
            <a:chExt cx="1752480" cy="609480"/>
          </a:xfrm>
        </p:grpSpPr>
        <p:sp>
          <p:nvSpPr>
            <p:cNvPr id="486" name=""/>
            <p:cNvSpPr/>
            <p:nvPr/>
          </p:nvSpPr>
          <p:spPr>
            <a:xfrm>
              <a:off x="5486400" y="137160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5880" y="137160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762120" y="1359000"/>
            <a:ext cx="4724280" cy="4457520"/>
          </a:xfrm>
          <a:custGeom>
            <a:avLst/>
            <a:gdLst/>
            <a:ahLst/>
            <a:rect l="l" t="t" r="r" b="b"/>
            <a:pathLst>
              <a:path w="2976" h="2808">
                <a:moveTo>
                  <a:pt x="768" y="2312"/>
                </a:moveTo>
                <a:cubicBezTo>
                  <a:pt x="688" y="2496"/>
                  <a:pt x="608" y="2680"/>
                  <a:pt x="528" y="2744"/>
                </a:cubicBezTo>
                <a:cubicBezTo>
                  <a:pt x="448" y="2808"/>
                  <a:pt x="360" y="2736"/>
                  <a:pt x="288" y="2696"/>
                </a:cubicBezTo>
                <a:cubicBezTo>
                  <a:pt x="216" y="2656"/>
                  <a:pt x="128" y="2712"/>
                  <a:pt x="96" y="2504"/>
                </a:cubicBezTo>
                <a:cubicBezTo>
                  <a:pt x="64" y="2296"/>
                  <a:pt x="0" y="1728"/>
                  <a:pt x="96" y="1448"/>
                </a:cubicBezTo>
                <a:cubicBezTo>
                  <a:pt x="192" y="1168"/>
                  <a:pt x="376" y="1048"/>
                  <a:pt x="672" y="824"/>
                </a:cubicBezTo>
                <a:cubicBezTo>
                  <a:pt x="968" y="600"/>
                  <a:pt x="1488" y="208"/>
                  <a:pt x="1872" y="104"/>
                </a:cubicBezTo>
                <a:cubicBezTo>
                  <a:pt x="2256" y="0"/>
                  <a:pt x="2616" y="100"/>
                  <a:pt x="2976" y="20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580920" y="365760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29080" y="2286000"/>
            <a:ext cx="1866600" cy="1828800"/>
          </a:xfrm>
          <a:custGeom>
            <a:avLst/>
            <a:gdLst/>
            <a:ahLst/>
            <a:rect l="l" t="t" r="r" b="b"/>
            <a:pathLst>
              <a:path w="1272" h="1048">
                <a:moveTo>
                  <a:pt x="1272" y="40"/>
                </a:moveTo>
                <a:cubicBezTo>
                  <a:pt x="1084" y="20"/>
                  <a:pt x="896" y="0"/>
                  <a:pt x="696" y="40"/>
                </a:cubicBezTo>
                <a:cubicBezTo>
                  <a:pt x="496" y="80"/>
                  <a:pt x="144" y="168"/>
                  <a:pt x="72" y="280"/>
                </a:cubicBezTo>
                <a:cubicBezTo>
                  <a:pt x="0" y="392"/>
                  <a:pt x="176" y="584"/>
                  <a:pt x="264" y="712"/>
                </a:cubicBezTo>
                <a:cubicBezTo>
                  <a:pt x="352" y="840"/>
                  <a:pt x="476" y="944"/>
                  <a:pt x="600" y="10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4343400"/>
            <a:ext cx="3886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de q now has been removed from t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962160" y="228600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9880" y="2514600"/>
            <a:ext cx="838440" cy="1522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rici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header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nodes define a trie structure that is the left subtree of the header no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e structure is the same as that for the compressed binary trie of previous le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t#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 used for bran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C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child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ir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ctionary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C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ght child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666880" y="2209680"/>
            <a:ext cx="3886200" cy="581400"/>
            <a:chOff x="2666880" y="2209680"/>
            <a:chExt cx="3886200" cy="581400"/>
          </a:xfrm>
        </p:grpSpPr>
        <p:sp>
          <p:nvSpPr>
            <p:cNvPr id="55" name=""/>
            <p:cNvSpPr/>
            <p:nvPr/>
          </p:nvSpPr>
          <p:spPr>
            <a:xfrm>
              <a:off x="4495680" y="2286000"/>
              <a:ext cx="914400" cy="457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2209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ai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6880" y="2286000"/>
              <a:ext cx="9144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66880" y="2209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it#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1280" y="2286000"/>
              <a:ext cx="9144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22096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2286000"/>
              <a:ext cx="91440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720" y="2209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ressed Binary Trie To Patrici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1143000"/>
            <a:ext cx="8610120" cy="4806720"/>
            <a:chOff x="533520" y="1143000"/>
            <a:chExt cx="8610120" cy="4806720"/>
          </a:xfrm>
        </p:grpSpPr>
        <p:sp>
          <p:nvSpPr>
            <p:cNvPr id="65" name=""/>
            <p:cNvSpPr/>
            <p:nvPr/>
          </p:nvSpPr>
          <p:spPr>
            <a:xfrm>
              <a:off x="67057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828800"/>
              <a:ext cx="1981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105520" y="3276720"/>
              <a:ext cx="167616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10280" y="3276720"/>
              <a:ext cx="9907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720" y="1523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25909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981080" y="1828800"/>
              <a:ext cx="24386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64760" y="29653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0920" y="29653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533520" y="3581280"/>
              <a:ext cx="1294920" cy="533160"/>
              <a:chOff x="533520" y="3581280"/>
              <a:chExt cx="1294920" cy="533160"/>
            </a:xfrm>
          </p:grpSpPr>
          <p:sp>
            <p:nvSpPr>
              <p:cNvPr id="78" name=""/>
              <p:cNvSpPr/>
              <p:nvPr/>
            </p:nvSpPr>
            <p:spPr>
              <a:xfrm>
                <a:off x="533520" y="36572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1760" y="35812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828800" y="3657600"/>
              <a:ext cx="1294920" cy="533160"/>
              <a:chOff x="1828800" y="3657600"/>
              <a:chExt cx="1294920" cy="533160"/>
            </a:xfrm>
          </p:grpSpPr>
          <p:sp>
            <p:nvSpPr>
              <p:cNvPr id="81" name=""/>
              <p:cNvSpPr/>
              <p:nvPr/>
            </p:nvSpPr>
            <p:spPr>
              <a:xfrm>
                <a:off x="1828800" y="37335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57040" y="36576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86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89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20040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102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114800" y="1143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52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41148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52280" y="6172200"/>
            <a:ext cx="883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each element into an ancestor or header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ressed Binary Trie To Patrici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048120"/>
            <a:ext cx="1447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638320" y="4572000"/>
            <a:ext cx="8384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4572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33720" y="3048120"/>
            <a:ext cx="182880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019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5715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5328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7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47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00800" y="990720"/>
            <a:ext cx="1752480" cy="609480"/>
            <a:chOff x="6400800" y="990720"/>
            <a:chExt cx="1752480" cy="609480"/>
          </a:xfrm>
        </p:grpSpPr>
        <p:sp>
          <p:nvSpPr>
            <p:cNvPr id="136" name=""/>
            <p:cNvSpPr/>
            <p:nvPr/>
          </p:nvSpPr>
          <p:spPr>
            <a:xfrm>
              <a:off x="6400800" y="99072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8000" y="9907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62520" y="2438280"/>
            <a:ext cx="1752480" cy="609480"/>
            <a:chOff x="3962520" y="2438280"/>
            <a:chExt cx="1752480" cy="609480"/>
          </a:xfrm>
        </p:grpSpPr>
        <p:sp>
          <p:nvSpPr>
            <p:cNvPr id="139" name=""/>
            <p:cNvSpPr/>
            <p:nvPr/>
          </p:nvSpPr>
          <p:spPr>
            <a:xfrm>
              <a:off x="3962520" y="243828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2438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4876560" y="1600200"/>
            <a:ext cx="15238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838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1360" y="1168560"/>
            <a:ext cx="5689440" cy="3924000"/>
          </a:xfrm>
          <a:custGeom>
            <a:avLst/>
            <a:gdLst/>
            <a:ahLst/>
            <a:rect l="l" t="t" r="r" b="b"/>
            <a:pathLst>
              <a:path w="3584" h="2472">
                <a:moveTo>
                  <a:pt x="752" y="1760"/>
                </a:moveTo>
                <a:cubicBezTo>
                  <a:pt x="728" y="1980"/>
                  <a:pt x="704" y="2200"/>
                  <a:pt x="608" y="2288"/>
                </a:cubicBezTo>
                <a:cubicBezTo>
                  <a:pt x="512" y="2376"/>
                  <a:pt x="240" y="2472"/>
                  <a:pt x="176" y="2288"/>
                </a:cubicBezTo>
                <a:cubicBezTo>
                  <a:pt x="112" y="2104"/>
                  <a:pt x="0" y="1536"/>
                  <a:pt x="224" y="1184"/>
                </a:cubicBezTo>
                <a:cubicBezTo>
                  <a:pt x="448" y="832"/>
                  <a:pt x="960" y="352"/>
                  <a:pt x="1520" y="176"/>
                </a:cubicBezTo>
                <a:cubicBezTo>
                  <a:pt x="2080" y="0"/>
                  <a:pt x="2832" y="64"/>
                  <a:pt x="3584" y="128"/>
                </a:cubicBezTo>
              </a:path>
            </a:pathLst>
          </a:custGeom>
          <a:noFill/>
          <a:ln w="7632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2184480"/>
            <a:ext cx="3429000" cy="4152960"/>
          </a:xfrm>
          <a:custGeom>
            <a:avLst/>
            <a:gdLst/>
            <a:ahLst/>
            <a:rect l="l" t="t" r="r" b="b"/>
            <a:pathLst>
              <a:path w="2048" h="2616">
                <a:moveTo>
                  <a:pt x="1584" y="2224"/>
                </a:moveTo>
                <a:cubicBezTo>
                  <a:pt x="1676" y="2420"/>
                  <a:pt x="1768" y="2616"/>
                  <a:pt x="1824" y="2560"/>
                </a:cubicBezTo>
                <a:cubicBezTo>
                  <a:pt x="1880" y="2504"/>
                  <a:pt x="1936" y="2272"/>
                  <a:pt x="1920" y="1888"/>
                </a:cubicBezTo>
                <a:cubicBezTo>
                  <a:pt x="1904" y="1504"/>
                  <a:pt x="2048" y="512"/>
                  <a:pt x="1728" y="256"/>
                </a:cubicBezTo>
                <a:cubicBezTo>
                  <a:pt x="1408" y="0"/>
                  <a:pt x="704" y="176"/>
                  <a:pt x="0" y="352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19320" y="3505320"/>
            <a:ext cx="1752480" cy="609480"/>
            <a:chOff x="1219320" y="3505320"/>
            <a:chExt cx="1752480" cy="609480"/>
          </a:xfrm>
        </p:grpSpPr>
        <p:sp>
          <p:nvSpPr>
            <p:cNvPr id="146" name=""/>
            <p:cNvSpPr/>
            <p:nvPr/>
          </p:nvSpPr>
          <p:spPr>
            <a:xfrm>
              <a:off x="1219320" y="350532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505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11560" y="3848040"/>
            <a:ext cx="1536480" cy="1028880"/>
          </a:xfrm>
          <a:custGeom>
            <a:avLst/>
            <a:gdLst/>
            <a:ahLst/>
            <a:rect l="l" t="t" r="r" b="b"/>
            <a:pathLst>
              <a:path w="968" h="648">
                <a:moveTo>
                  <a:pt x="80" y="168"/>
                </a:moveTo>
                <a:cubicBezTo>
                  <a:pt x="40" y="360"/>
                  <a:pt x="0" y="552"/>
                  <a:pt x="128" y="600"/>
                </a:cubicBezTo>
                <a:cubicBezTo>
                  <a:pt x="256" y="648"/>
                  <a:pt x="728" y="544"/>
                  <a:pt x="848" y="456"/>
                </a:cubicBezTo>
                <a:cubicBezTo>
                  <a:pt x="968" y="368"/>
                  <a:pt x="920" y="144"/>
                  <a:pt x="848" y="72"/>
                </a:cubicBezTo>
                <a:cubicBezTo>
                  <a:pt x="776" y="0"/>
                  <a:pt x="596" y="12"/>
                  <a:pt x="416" y="24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010280" y="5181480"/>
            <a:ext cx="1752480" cy="609480"/>
            <a:chOff x="7010280" y="5181480"/>
            <a:chExt cx="1752480" cy="609480"/>
          </a:xfrm>
        </p:grpSpPr>
        <p:sp>
          <p:nvSpPr>
            <p:cNvPr id="150" name=""/>
            <p:cNvSpPr/>
            <p:nvPr/>
          </p:nvSpPr>
          <p:spPr>
            <a:xfrm>
              <a:off x="7010280" y="518148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5181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667560" y="5486400"/>
            <a:ext cx="825480" cy="749160"/>
          </a:xfrm>
          <a:custGeom>
            <a:avLst/>
            <a:gdLst/>
            <a:ahLst/>
            <a:rect l="l" t="t" r="r" b="b"/>
            <a:pathLst>
              <a:path w="520" h="472">
                <a:moveTo>
                  <a:pt x="456" y="192"/>
                </a:moveTo>
                <a:cubicBezTo>
                  <a:pt x="488" y="292"/>
                  <a:pt x="520" y="392"/>
                  <a:pt x="456" y="432"/>
                </a:cubicBezTo>
                <a:cubicBezTo>
                  <a:pt x="392" y="472"/>
                  <a:pt x="136" y="472"/>
                  <a:pt x="72" y="432"/>
                </a:cubicBezTo>
                <a:cubicBezTo>
                  <a:pt x="8" y="392"/>
                  <a:pt x="80" y="256"/>
                  <a:pt x="72" y="192"/>
                </a:cubicBezTo>
                <a:cubicBezTo>
                  <a:pt x="64" y="128"/>
                  <a:pt x="0" y="80"/>
                  <a:pt x="24" y="48"/>
                </a:cubicBezTo>
                <a:cubicBezTo>
                  <a:pt x="48" y="16"/>
                  <a:pt x="184" y="8"/>
                  <a:pt x="216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172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172200" y="3962520"/>
            <a:ext cx="1752480" cy="609480"/>
            <a:chOff x="6172200" y="3962520"/>
            <a:chExt cx="1752480" cy="609480"/>
          </a:xfrm>
        </p:grpSpPr>
        <p:sp>
          <p:nvSpPr>
            <p:cNvPr id="155" name=""/>
            <p:cNvSpPr/>
            <p:nvPr/>
          </p:nvSpPr>
          <p:spPr>
            <a:xfrm>
              <a:off x="6172200" y="396252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400" y="39625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0" y="5181480"/>
            <a:ext cx="1752480" cy="609480"/>
            <a:chOff x="4572000" y="5181480"/>
            <a:chExt cx="1752480" cy="609480"/>
          </a:xfrm>
        </p:grpSpPr>
        <p:sp>
          <p:nvSpPr>
            <p:cNvPr id="158" name=""/>
            <p:cNvSpPr/>
            <p:nvPr/>
          </p:nvSpPr>
          <p:spPr>
            <a:xfrm>
              <a:off x="4572000" y="5181480"/>
              <a:ext cx="1752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81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42080" y="4572000"/>
            <a:ext cx="787320" cy="1727280"/>
          </a:xfrm>
          <a:custGeom>
            <a:avLst/>
            <a:gdLst/>
            <a:ahLst/>
            <a:rect l="l" t="t" r="r" b="b"/>
            <a:pathLst>
              <a:path w="496" h="1088">
                <a:moveTo>
                  <a:pt x="16" y="768"/>
                </a:moveTo>
                <a:cubicBezTo>
                  <a:pt x="8" y="900"/>
                  <a:pt x="0" y="1032"/>
                  <a:pt x="64" y="1056"/>
                </a:cubicBezTo>
                <a:cubicBezTo>
                  <a:pt x="128" y="1080"/>
                  <a:pt x="328" y="1088"/>
                  <a:pt x="400" y="912"/>
                </a:cubicBezTo>
                <a:cubicBezTo>
                  <a:pt x="472" y="736"/>
                  <a:pt x="480" y="152"/>
                  <a:pt x="496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5397480"/>
            <a:ext cx="927000" cy="736560"/>
          </a:xfrm>
          <a:custGeom>
            <a:avLst/>
            <a:gdLst/>
            <a:ahLst/>
            <a:rect l="l" t="t" r="r" b="b"/>
            <a:pathLst>
              <a:path w="584" h="464">
                <a:moveTo>
                  <a:pt x="512" y="248"/>
                </a:moveTo>
                <a:cubicBezTo>
                  <a:pt x="548" y="332"/>
                  <a:pt x="584" y="416"/>
                  <a:pt x="512" y="440"/>
                </a:cubicBezTo>
                <a:cubicBezTo>
                  <a:pt x="440" y="464"/>
                  <a:pt x="160" y="456"/>
                  <a:pt x="80" y="392"/>
                </a:cubicBezTo>
                <a:cubicBezTo>
                  <a:pt x="0" y="328"/>
                  <a:pt x="0" y="112"/>
                  <a:pt x="32" y="56"/>
                </a:cubicBezTo>
                <a:cubicBezTo>
                  <a:pt x="64" y="0"/>
                  <a:pt x="232" y="56"/>
                  <a:pt x="272" y="5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0020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587920" y="1447920"/>
            <a:ext cx="2336760" cy="1269720"/>
            <a:chOff x="5587920" y="1447920"/>
            <a:chExt cx="2336760" cy="1269720"/>
          </a:xfrm>
        </p:grpSpPr>
        <p:grpSp>
          <p:nvGrpSpPr>
            <p:cNvPr id="165" name=""/>
            <p:cNvGrpSpPr/>
            <p:nvPr/>
          </p:nvGrpSpPr>
          <p:grpSpPr>
            <a:xfrm>
              <a:off x="6019920" y="1752480"/>
              <a:ext cx="1904760" cy="609840"/>
              <a:chOff x="6019920" y="1752480"/>
              <a:chExt cx="1904760" cy="609840"/>
            </a:xfrm>
          </p:grpSpPr>
          <p:sp>
            <p:nvSpPr>
              <p:cNvPr id="166" name=""/>
              <p:cNvSpPr/>
              <p:nvPr/>
            </p:nvSpPr>
            <p:spPr>
              <a:xfrm>
                <a:off x="6019920" y="1752480"/>
                <a:ext cx="1752480" cy="609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72200" y="175248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38680" y="1447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7920" y="1981080"/>
              <a:ext cx="927360" cy="736560"/>
            </a:xfrm>
            <a:custGeom>
              <a:avLst/>
              <a:gdLst/>
              <a:ahLst/>
              <a:rect l="l" t="t" r="r" b="b"/>
              <a:pathLst>
                <a:path w="584" h="464">
                  <a:moveTo>
                    <a:pt x="512" y="248"/>
                  </a:moveTo>
                  <a:cubicBezTo>
                    <a:pt x="548" y="332"/>
                    <a:pt x="584" y="416"/>
                    <a:pt x="512" y="440"/>
                  </a:cubicBezTo>
                  <a:cubicBezTo>
                    <a:pt x="440" y="464"/>
                    <a:pt x="160" y="456"/>
                    <a:pt x="80" y="392"/>
                  </a:cubicBezTo>
                  <a:cubicBezTo>
                    <a:pt x="0" y="328"/>
                    <a:pt x="0" y="112"/>
                    <a:pt x="32" y="56"/>
                  </a:cubicBezTo>
                  <a:cubicBezTo>
                    <a:pt x="64" y="0"/>
                    <a:pt x="232" y="56"/>
                    <a:pt x="272" y="5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85800" y="380988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334120"/>
            <a:ext cx="927360" cy="736560"/>
          </a:xfrm>
          <a:custGeom>
            <a:avLst/>
            <a:gdLst/>
            <a:ahLst/>
            <a:rect l="l" t="t" r="r" b="b"/>
            <a:pathLst>
              <a:path w="584" h="464">
                <a:moveTo>
                  <a:pt x="512" y="248"/>
                </a:moveTo>
                <a:cubicBezTo>
                  <a:pt x="548" y="332"/>
                  <a:pt x="584" y="416"/>
                  <a:pt x="512" y="440"/>
                </a:cubicBezTo>
                <a:cubicBezTo>
                  <a:pt x="440" y="464"/>
                  <a:pt x="160" y="456"/>
                  <a:pt x="80" y="392"/>
                </a:cubicBezTo>
                <a:cubicBezTo>
                  <a:pt x="0" y="328"/>
                  <a:pt x="0" y="112"/>
                  <a:pt x="32" y="56"/>
                </a:cubicBezTo>
                <a:cubicBezTo>
                  <a:pt x="64" y="0"/>
                  <a:pt x="232" y="56"/>
                  <a:pt x="272" y="5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317840" y="3657600"/>
            <a:ext cx="3606840" cy="2057400"/>
            <a:chOff x="4317840" y="3657600"/>
            <a:chExt cx="3606840" cy="2057400"/>
          </a:xfrm>
        </p:grpSpPr>
        <p:grpSp>
          <p:nvGrpSpPr>
            <p:cNvPr id="173" name=""/>
            <p:cNvGrpSpPr/>
            <p:nvPr/>
          </p:nvGrpSpPr>
          <p:grpSpPr>
            <a:xfrm>
              <a:off x="4699080" y="5105520"/>
              <a:ext cx="1904760" cy="609480"/>
              <a:chOff x="4699080" y="5105520"/>
              <a:chExt cx="190476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4699080" y="5105520"/>
                <a:ext cx="1752480" cy="6094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51360" y="51055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19920" y="3962520"/>
              <a:ext cx="1904760" cy="609480"/>
              <a:chOff x="6019920" y="3962520"/>
              <a:chExt cx="190476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6019920" y="39625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72200" y="39625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638680" y="3657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17840" y="4800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095520" y="4572000"/>
              <a:ext cx="38124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095880" y="4572000"/>
            <a:ext cx="825480" cy="1447920"/>
          </a:xfrm>
          <a:custGeom>
            <a:avLst/>
            <a:gdLst/>
            <a:ahLst/>
            <a:rect l="l" t="t" r="r" b="b"/>
            <a:pathLst>
              <a:path w="520" h="912">
                <a:moveTo>
                  <a:pt x="0" y="720"/>
                </a:moveTo>
                <a:cubicBezTo>
                  <a:pt x="4" y="776"/>
                  <a:pt x="8" y="832"/>
                  <a:pt x="48" y="864"/>
                </a:cubicBezTo>
                <a:cubicBezTo>
                  <a:pt x="88" y="896"/>
                  <a:pt x="168" y="912"/>
                  <a:pt x="240" y="912"/>
                </a:cubicBezTo>
                <a:cubicBezTo>
                  <a:pt x="312" y="912"/>
                  <a:pt x="440" y="912"/>
                  <a:pt x="480" y="864"/>
                </a:cubicBezTo>
                <a:cubicBezTo>
                  <a:pt x="520" y="816"/>
                  <a:pt x="480" y="768"/>
                  <a:pt x="480" y="624"/>
                </a:cubicBezTo>
                <a:cubicBezTo>
                  <a:pt x="480" y="480"/>
                  <a:pt x="480" y="104"/>
                  <a:pt x="480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410080" y="228600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68580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191120" y="533520"/>
            <a:ext cx="3657600" cy="2412360"/>
            <a:chOff x="4191120" y="533520"/>
            <a:chExt cx="3657600" cy="2412360"/>
          </a:xfrm>
        </p:grpSpPr>
        <p:grpSp>
          <p:nvGrpSpPr>
            <p:cNvPr id="187" name=""/>
            <p:cNvGrpSpPr/>
            <p:nvPr/>
          </p:nvGrpSpPr>
          <p:grpSpPr>
            <a:xfrm>
              <a:off x="5943960" y="838080"/>
              <a:ext cx="1904760" cy="609120"/>
              <a:chOff x="5943960" y="838080"/>
              <a:chExt cx="1904760" cy="609120"/>
            </a:xfrm>
          </p:grpSpPr>
          <p:sp>
            <p:nvSpPr>
              <p:cNvPr id="188" name=""/>
              <p:cNvSpPr/>
              <p:nvPr/>
            </p:nvSpPr>
            <p:spPr>
              <a:xfrm>
                <a:off x="5943960" y="838080"/>
                <a:ext cx="1752480" cy="609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96240" y="83808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5562720" y="5335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623120" y="1981080"/>
              <a:ext cx="1904760" cy="609120"/>
              <a:chOff x="4623120" y="1981080"/>
              <a:chExt cx="1904760" cy="609120"/>
            </a:xfrm>
          </p:grpSpPr>
          <p:sp>
            <p:nvSpPr>
              <p:cNvPr id="192" name=""/>
              <p:cNvSpPr/>
              <p:nvPr/>
            </p:nvSpPr>
            <p:spPr>
              <a:xfrm>
                <a:off x="4623120" y="1981080"/>
                <a:ext cx="1752480" cy="609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75400" y="198108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241880" y="16761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2209680"/>
              <a:ext cx="927360" cy="736200"/>
            </a:xfrm>
            <a:custGeom>
              <a:avLst/>
              <a:gdLst/>
              <a:ahLst/>
              <a:rect l="l" t="t" r="r" b="b"/>
              <a:pathLst>
                <a:path w="584" h="464">
                  <a:moveTo>
                    <a:pt x="512" y="248"/>
                  </a:moveTo>
                  <a:cubicBezTo>
                    <a:pt x="548" y="332"/>
                    <a:pt x="584" y="416"/>
                    <a:pt x="512" y="440"/>
                  </a:cubicBezTo>
                  <a:cubicBezTo>
                    <a:pt x="440" y="464"/>
                    <a:pt x="160" y="456"/>
                    <a:pt x="80" y="392"/>
                  </a:cubicBezTo>
                  <a:cubicBezTo>
                    <a:pt x="0" y="328"/>
                    <a:pt x="0" y="112"/>
                    <a:pt x="32" y="56"/>
                  </a:cubicBezTo>
                  <a:cubicBezTo>
                    <a:pt x="64" y="0"/>
                    <a:pt x="232" y="56"/>
                    <a:pt x="272" y="5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19560" y="1447560"/>
              <a:ext cx="38124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960" y="1447560"/>
              <a:ext cx="825480" cy="1447560"/>
            </a:xfrm>
            <a:custGeom>
              <a:avLst/>
              <a:gdLst/>
              <a:ahLst/>
              <a:rect l="l" t="t" r="r" b="b"/>
              <a:pathLst>
                <a:path w="520" h="912">
                  <a:moveTo>
                    <a:pt x="0" y="720"/>
                  </a:moveTo>
                  <a:cubicBezTo>
                    <a:pt x="4" y="776"/>
                    <a:pt x="8" y="832"/>
                    <a:pt x="48" y="864"/>
                  </a:cubicBezTo>
                  <a:cubicBezTo>
                    <a:pt x="88" y="896"/>
                    <a:pt x="168" y="912"/>
                    <a:pt x="240" y="912"/>
                  </a:cubicBezTo>
                  <a:cubicBezTo>
                    <a:pt x="312" y="912"/>
                    <a:pt x="440" y="912"/>
                    <a:pt x="480" y="864"/>
                  </a:cubicBezTo>
                  <a:cubicBezTo>
                    <a:pt x="520" y="816"/>
                    <a:pt x="480" y="768"/>
                    <a:pt x="480" y="624"/>
                  </a:cubicBezTo>
                  <a:cubicBezTo>
                    <a:pt x="480" y="480"/>
                    <a:pt x="480" y="104"/>
                    <a:pt x="480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8720" y="396252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038480" y="251460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1040" y="3200400"/>
            <a:ext cx="4876560" cy="3124080"/>
            <a:chOff x="2921040" y="3200400"/>
            <a:chExt cx="4876560" cy="3124080"/>
          </a:xfrm>
        </p:grpSpPr>
        <p:grpSp>
          <p:nvGrpSpPr>
            <p:cNvPr id="201" name=""/>
            <p:cNvGrpSpPr/>
            <p:nvPr/>
          </p:nvGrpSpPr>
          <p:grpSpPr>
            <a:xfrm>
              <a:off x="5892840" y="3505320"/>
              <a:ext cx="1904760" cy="609480"/>
              <a:chOff x="5892840" y="3505320"/>
              <a:chExt cx="190476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5892840" y="35053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45120" y="35053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5511960" y="3200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572000" y="4648320"/>
              <a:ext cx="1904760" cy="609480"/>
              <a:chOff x="4572000" y="4648320"/>
              <a:chExt cx="1904760" cy="60948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2000" y="46483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24280" y="46483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19112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969160" y="4114800"/>
              <a:ext cx="38088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4114800"/>
              <a:ext cx="825480" cy="1447920"/>
            </a:xfrm>
            <a:custGeom>
              <a:avLst/>
              <a:gdLst/>
              <a:ahLst/>
              <a:rect l="l" t="t" r="r" b="b"/>
              <a:pathLst>
                <a:path w="520" h="912">
                  <a:moveTo>
                    <a:pt x="0" y="720"/>
                  </a:moveTo>
                  <a:cubicBezTo>
                    <a:pt x="4" y="776"/>
                    <a:pt x="8" y="832"/>
                    <a:pt x="48" y="864"/>
                  </a:cubicBezTo>
                  <a:cubicBezTo>
                    <a:pt x="88" y="896"/>
                    <a:pt x="168" y="912"/>
                    <a:pt x="240" y="912"/>
                  </a:cubicBezTo>
                  <a:cubicBezTo>
                    <a:pt x="312" y="912"/>
                    <a:pt x="440" y="912"/>
                    <a:pt x="480" y="864"/>
                  </a:cubicBezTo>
                  <a:cubicBezTo>
                    <a:pt x="520" y="816"/>
                    <a:pt x="480" y="768"/>
                    <a:pt x="480" y="624"/>
                  </a:cubicBezTo>
                  <a:cubicBezTo>
                    <a:pt x="480" y="480"/>
                    <a:pt x="480" y="104"/>
                    <a:pt x="480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01920" y="5715000"/>
              <a:ext cx="1905120" cy="609480"/>
              <a:chOff x="3301920" y="5715000"/>
              <a:chExt cx="1905120" cy="609480"/>
            </a:xfrm>
          </p:grpSpPr>
          <p:sp>
            <p:nvSpPr>
              <p:cNvPr id="212" name=""/>
              <p:cNvSpPr/>
              <p:nvPr/>
            </p:nvSpPr>
            <p:spPr>
              <a:xfrm>
                <a:off x="3301920" y="5715000"/>
                <a:ext cx="1752840" cy="6094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54560" y="57150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921040" y="5410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444920" y="52578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72000" y="6172200"/>
            <a:ext cx="723960" cy="431640"/>
          </a:xfrm>
          <a:custGeom>
            <a:avLst/>
            <a:gdLst/>
            <a:ahLst/>
            <a:rect l="l" t="t" r="r" b="b"/>
            <a:pathLst>
              <a:path w="456" h="272">
                <a:moveTo>
                  <a:pt x="56" y="96"/>
                </a:moveTo>
                <a:cubicBezTo>
                  <a:pt x="28" y="156"/>
                  <a:pt x="0" y="216"/>
                  <a:pt x="56" y="240"/>
                </a:cubicBezTo>
                <a:cubicBezTo>
                  <a:pt x="112" y="264"/>
                  <a:pt x="328" y="272"/>
                  <a:pt x="392" y="240"/>
                </a:cubicBezTo>
                <a:cubicBezTo>
                  <a:pt x="456" y="208"/>
                  <a:pt x="456" y="88"/>
                  <a:pt x="440" y="48"/>
                </a:cubicBezTo>
                <a:cubicBezTo>
                  <a:pt x="424" y="8"/>
                  <a:pt x="320" y="8"/>
                  <a:pt x="296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5800" y="4965840"/>
            <a:ext cx="1816200" cy="1778040"/>
          </a:xfrm>
          <a:custGeom>
            <a:avLst/>
            <a:gdLst/>
            <a:ahLst/>
            <a:rect l="l" t="t" r="r" b="b"/>
            <a:pathLst>
              <a:path w="1144" h="1120">
                <a:moveTo>
                  <a:pt x="568" y="856"/>
                </a:moveTo>
                <a:cubicBezTo>
                  <a:pt x="596" y="908"/>
                  <a:pt x="624" y="960"/>
                  <a:pt x="568" y="1000"/>
                </a:cubicBezTo>
                <a:cubicBezTo>
                  <a:pt x="512" y="1040"/>
                  <a:pt x="312" y="1120"/>
                  <a:pt x="232" y="1096"/>
                </a:cubicBezTo>
                <a:cubicBezTo>
                  <a:pt x="152" y="1072"/>
                  <a:pt x="120" y="992"/>
                  <a:pt x="88" y="856"/>
                </a:cubicBezTo>
                <a:cubicBezTo>
                  <a:pt x="56" y="720"/>
                  <a:pt x="0" y="416"/>
                  <a:pt x="40" y="280"/>
                </a:cubicBezTo>
                <a:cubicBezTo>
                  <a:pt x="80" y="144"/>
                  <a:pt x="144" y="80"/>
                  <a:pt x="328" y="40"/>
                </a:cubicBezTo>
                <a:cubicBezTo>
                  <a:pt x="512" y="0"/>
                  <a:pt x="1008" y="40"/>
                  <a:pt x="1144" y="4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617220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16000" y="685800"/>
            <a:ext cx="5041440" cy="3543480"/>
            <a:chOff x="216000" y="685800"/>
            <a:chExt cx="5041440" cy="3543480"/>
          </a:xfrm>
        </p:grpSpPr>
        <p:grpSp>
          <p:nvGrpSpPr>
            <p:cNvPr id="221" name=""/>
            <p:cNvGrpSpPr/>
            <p:nvPr/>
          </p:nvGrpSpPr>
          <p:grpSpPr>
            <a:xfrm>
              <a:off x="3352680" y="990720"/>
              <a:ext cx="1904760" cy="609480"/>
              <a:chOff x="3352680" y="990720"/>
              <a:chExt cx="190476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352680" y="9907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04960" y="9907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971800" y="685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031840" y="2133720"/>
              <a:ext cx="1904760" cy="609480"/>
              <a:chOff x="2031840" y="2133720"/>
              <a:chExt cx="1904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2031840" y="21337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84120" y="21337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650960" y="1828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429000" y="1600200"/>
              <a:ext cx="38088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1600200"/>
              <a:ext cx="825480" cy="1447920"/>
            </a:xfrm>
            <a:custGeom>
              <a:avLst/>
              <a:gdLst/>
              <a:ahLst/>
              <a:rect l="l" t="t" r="r" b="b"/>
              <a:pathLst>
                <a:path w="520" h="912">
                  <a:moveTo>
                    <a:pt x="0" y="720"/>
                  </a:moveTo>
                  <a:cubicBezTo>
                    <a:pt x="4" y="776"/>
                    <a:pt x="8" y="832"/>
                    <a:pt x="48" y="864"/>
                  </a:cubicBezTo>
                  <a:cubicBezTo>
                    <a:pt x="88" y="896"/>
                    <a:pt x="168" y="912"/>
                    <a:pt x="240" y="912"/>
                  </a:cubicBezTo>
                  <a:cubicBezTo>
                    <a:pt x="312" y="912"/>
                    <a:pt x="440" y="912"/>
                    <a:pt x="480" y="864"/>
                  </a:cubicBezTo>
                  <a:cubicBezTo>
                    <a:pt x="520" y="816"/>
                    <a:pt x="480" y="768"/>
                    <a:pt x="480" y="624"/>
                  </a:cubicBezTo>
                  <a:cubicBezTo>
                    <a:pt x="480" y="480"/>
                    <a:pt x="480" y="104"/>
                    <a:pt x="480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200400"/>
              <a:ext cx="1904760" cy="609480"/>
              <a:chOff x="762120" y="3200400"/>
              <a:chExt cx="1904760" cy="60948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2004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14400" y="32004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80880" y="28954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905120" y="27432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31840" y="3657600"/>
              <a:ext cx="723960" cy="431640"/>
            </a:xfrm>
            <a:custGeom>
              <a:avLst/>
              <a:gdLst/>
              <a:ahLst/>
              <a:rect l="l" t="t" r="r" b="b"/>
              <a:pathLst>
                <a:path w="456" h="272">
                  <a:moveTo>
                    <a:pt x="56" y="96"/>
                  </a:moveTo>
                  <a:cubicBezTo>
                    <a:pt x="28" y="156"/>
                    <a:pt x="0" y="216"/>
                    <a:pt x="56" y="240"/>
                  </a:cubicBezTo>
                  <a:cubicBezTo>
                    <a:pt x="112" y="264"/>
                    <a:pt x="328" y="272"/>
                    <a:pt x="392" y="240"/>
                  </a:cubicBezTo>
                  <a:cubicBezTo>
                    <a:pt x="456" y="208"/>
                    <a:pt x="456" y="88"/>
                    <a:pt x="440" y="48"/>
                  </a:cubicBezTo>
                  <a:cubicBezTo>
                    <a:pt x="424" y="8"/>
                    <a:pt x="320" y="8"/>
                    <a:pt x="296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6000" y="2451240"/>
              <a:ext cx="1815840" cy="1778040"/>
            </a:xfrm>
            <a:custGeom>
              <a:avLst/>
              <a:gdLst/>
              <a:ahLst/>
              <a:rect l="l" t="t" r="r" b="b"/>
              <a:pathLst>
                <a:path w="1144" h="1120">
                  <a:moveTo>
                    <a:pt x="568" y="856"/>
                  </a:moveTo>
                  <a:cubicBezTo>
                    <a:pt x="596" y="908"/>
                    <a:pt x="624" y="960"/>
                    <a:pt x="568" y="1000"/>
                  </a:cubicBezTo>
                  <a:cubicBezTo>
                    <a:pt x="512" y="1040"/>
                    <a:pt x="312" y="1120"/>
                    <a:pt x="232" y="1096"/>
                  </a:cubicBezTo>
                  <a:cubicBezTo>
                    <a:pt x="152" y="1072"/>
                    <a:pt x="120" y="992"/>
                    <a:pt x="88" y="856"/>
                  </a:cubicBezTo>
                  <a:cubicBezTo>
                    <a:pt x="56" y="720"/>
                    <a:pt x="0" y="416"/>
                    <a:pt x="40" y="280"/>
                  </a:cubicBezTo>
                  <a:cubicBezTo>
                    <a:pt x="80" y="144"/>
                    <a:pt x="144" y="80"/>
                    <a:pt x="328" y="40"/>
                  </a:cubicBezTo>
                  <a:cubicBezTo>
                    <a:pt x="512" y="0"/>
                    <a:pt x="1008" y="40"/>
                    <a:pt x="1144" y="4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H="1">
            <a:off x="6095520" y="3124080"/>
            <a:ext cx="3812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676520"/>
            <a:ext cx="609840" cy="2286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060720" y="990720"/>
            <a:ext cx="5854320" cy="4762440"/>
            <a:chOff x="3060720" y="990720"/>
            <a:chExt cx="5854320" cy="4762440"/>
          </a:xfrm>
        </p:grpSpPr>
        <p:grpSp>
          <p:nvGrpSpPr>
            <p:cNvPr id="241" name=""/>
            <p:cNvGrpSpPr/>
            <p:nvPr/>
          </p:nvGrpSpPr>
          <p:grpSpPr>
            <a:xfrm>
              <a:off x="6197760" y="2514600"/>
              <a:ext cx="1904760" cy="609480"/>
              <a:chOff x="6197760" y="2514600"/>
              <a:chExt cx="1904760" cy="609480"/>
            </a:xfrm>
          </p:grpSpPr>
          <p:sp>
            <p:nvSpPr>
              <p:cNvPr id="242" name=""/>
              <p:cNvSpPr/>
              <p:nvPr/>
            </p:nvSpPr>
            <p:spPr>
              <a:xfrm>
                <a:off x="6197760" y="2514600"/>
                <a:ext cx="1752480" cy="6094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50040" y="2514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816520" y="2209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876920" y="3657600"/>
              <a:ext cx="1904760" cy="609480"/>
              <a:chOff x="4876920" y="3657600"/>
              <a:chExt cx="1904760" cy="609480"/>
            </a:xfrm>
          </p:grpSpPr>
          <p:sp>
            <p:nvSpPr>
              <p:cNvPr id="246" name=""/>
              <p:cNvSpPr/>
              <p:nvPr/>
            </p:nvSpPr>
            <p:spPr>
              <a:xfrm>
                <a:off x="4876920" y="3657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29200" y="3657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495680" y="3352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606840" y="4724280"/>
              <a:ext cx="1904760" cy="609840"/>
              <a:chOff x="3606840" y="4724280"/>
              <a:chExt cx="1904760" cy="609840"/>
            </a:xfrm>
          </p:grpSpPr>
          <p:sp>
            <p:nvSpPr>
              <p:cNvPr id="250" name=""/>
              <p:cNvSpPr/>
              <p:nvPr/>
            </p:nvSpPr>
            <p:spPr>
              <a:xfrm>
                <a:off x="3606840" y="4724280"/>
                <a:ext cx="1752480" cy="609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59120" y="472428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225960" y="4419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749840" y="426708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6920" y="5181480"/>
              <a:ext cx="723960" cy="432000"/>
            </a:xfrm>
            <a:custGeom>
              <a:avLst/>
              <a:gdLst/>
              <a:ahLst/>
              <a:rect l="l" t="t" r="r" b="b"/>
              <a:pathLst>
                <a:path w="456" h="272">
                  <a:moveTo>
                    <a:pt x="56" y="96"/>
                  </a:moveTo>
                  <a:cubicBezTo>
                    <a:pt x="28" y="156"/>
                    <a:pt x="0" y="216"/>
                    <a:pt x="56" y="240"/>
                  </a:cubicBezTo>
                  <a:cubicBezTo>
                    <a:pt x="112" y="264"/>
                    <a:pt x="328" y="272"/>
                    <a:pt x="392" y="240"/>
                  </a:cubicBezTo>
                  <a:cubicBezTo>
                    <a:pt x="456" y="208"/>
                    <a:pt x="456" y="88"/>
                    <a:pt x="440" y="48"/>
                  </a:cubicBezTo>
                  <a:cubicBezTo>
                    <a:pt x="424" y="8"/>
                    <a:pt x="320" y="8"/>
                    <a:pt x="296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0720" y="3975120"/>
              <a:ext cx="1816200" cy="1778040"/>
            </a:xfrm>
            <a:custGeom>
              <a:avLst/>
              <a:gdLst/>
              <a:ahLst/>
              <a:rect l="l" t="t" r="r" b="b"/>
              <a:pathLst>
                <a:path w="1144" h="1120">
                  <a:moveTo>
                    <a:pt x="568" y="856"/>
                  </a:moveTo>
                  <a:cubicBezTo>
                    <a:pt x="596" y="908"/>
                    <a:pt x="624" y="960"/>
                    <a:pt x="568" y="1000"/>
                  </a:cubicBezTo>
                  <a:cubicBezTo>
                    <a:pt x="512" y="1040"/>
                    <a:pt x="312" y="1120"/>
                    <a:pt x="232" y="1096"/>
                  </a:cubicBezTo>
                  <a:cubicBezTo>
                    <a:pt x="152" y="1072"/>
                    <a:pt x="120" y="992"/>
                    <a:pt x="88" y="856"/>
                  </a:cubicBezTo>
                  <a:cubicBezTo>
                    <a:pt x="56" y="720"/>
                    <a:pt x="0" y="416"/>
                    <a:pt x="40" y="280"/>
                  </a:cubicBezTo>
                  <a:cubicBezTo>
                    <a:pt x="80" y="144"/>
                    <a:pt x="144" y="80"/>
                    <a:pt x="328" y="40"/>
                  </a:cubicBezTo>
                  <a:cubicBezTo>
                    <a:pt x="512" y="0"/>
                    <a:pt x="1008" y="40"/>
                    <a:pt x="1144" y="4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010280" y="1295280"/>
              <a:ext cx="1904760" cy="609840"/>
              <a:chOff x="7010280" y="1295280"/>
              <a:chExt cx="1904760" cy="609840"/>
            </a:xfrm>
          </p:grpSpPr>
          <p:sp>
            <p:nvSpPr>
              <p:cNvPr id="257" name=""/>
              <p:cNvSpPr/>
              <p:nvPr/>
            </p:nvSpPr>
            <p:spPr>
              <a:xfrm>
                <a:off x="7010280" y="1295280"/>
                <a:ext cx="1752480" cy="6098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62560" y="129528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6629400" y="990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10280" y="19051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6200" y="1905120"/>
              <a:ext cx="2489400" cy="2971800"/>
            </a:xfrm>
            <a:custGeom>
              <a:avLst/>
              <a:gdLst/>
              <a:ahLst/>
              <a:rect l="l" t="t" r="r" b="b"/>
              <a:pathLst>
                <a:path w="1568" h="1872">
                  <a:moveTo>
                    <a:pt x="184" y="1488"/>
                  </a:moveTo>
                  <a:cubicBezTo>
                    <a:pt x="92" y="1560"/>
                    <a:pt x="0" y="1632"/>
                    <a:pt x="184" y="1680"/>
                  </a:cubicBezTo>
                  <a:cubicBezTo>
                    <a:pt x="368" y="1728"/>
                    <a:pt x="1064" y="1872"/>
                    <a:pt x="1288" y="1776"/>
                  </a:cubicBezTo>
                  <a:cubicBezTo>
                    <a:pt x="1512" y="1680"/>
                    <a:pt x="1488" y="1400"/>
                    <a:pt x="1528" y="1104"/>
                  </a:cubicBezTo>
                  <a:cubicBezTo>
                    <a:pt x="1568" y="808"/>
                    <a:pt x="1528" y="184"/>
                    <a:pt x="1528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442280" y="2717640"/>
            <a:ext cx="812880" cy="825840"/>
          </a:xfrm>
          <a:custGeom>
            <a:avLst/>
            <a:gdLst/>
            <a:ahLst/>
            <a:rect l="l" t="t" r="r" b="b"/>
            <a:pathLst>
              <a:path w="512" h="520">
                <a:moveTo>
                  <a:pt x="64" y="256"/>
                </a:moveTo>
                <a:cubicBezTo>
                  <a:pt x="32" y="364"/>
                  <a:pt x="0" y="472"/>
                  <a:pt x="64" y="496"/>
                </a:cubicBezTo>
                <a:cubicBezTo>
                  <a:pt x="128" y="520"/>
                  <a:pt x="384" y="472"/>
                  <a:pt x="448" y="400"/>
                </a:cubicBezTo>
                <a:cubicBezTo>
                  <a:pt x="512" y="328"/>
                  <a:pt x="472" y="128"/>
                  <a:pt x="448" y="64"/>
                </a:cubicBezTo>
                <a:cubicBezTo>
                  <a:pt x="424" y="0"/>
                  <a:pt x="328" y="24"/>
                  <a:pt x="304" y="1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6172200"/>
            <a:ext cx="30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00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17520" y="1066680"/>
            <a:ext cx="5854320" cy="4762800"/>
            <a:chOff x="317520" y="1066680"/>
            <a:chExt cx="5854320" cy="4762800"/>
          </a:xfrm>
        </p:grpSpPr>
        <p:sp>
          <p:nvSpPr>
            <p:cNvPr id="266" name=""/>
            <p:cNvSpPr/>
            <p:nvPr/>
          </p:nvSpPr>
          <p:spPr>
            <a:xfrm flipH="1">
              <a:off x="3352320" y="3200400"/>
              <a:ext cx="38124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454560" y="2590920"/>
              <a:ext cx="1904760" cy="609480"/>
              <a:chOff x="3454560" y="2590920"/>
              <a:chExt cx="1904760" cy="609480"/>
            </a:xfrm>
          </p:grpSpPr>
          <p:sp>
            <p:nvSpPr>
              <p:cNvPr id="268" name=""/>
              <p:cNvSpPr/>
              <p:nvPr/>
            </p:nvSpPr>
            <p:spPr>
              <a:xfrm>
                <a:off x="3454560" y="2590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06840" y="2590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07332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33720" y="3733920"/>
              <a:ext cx="1904760" cy="609480"/>
              <a:chOff x="2133720" y="3733920"/>
              <a:chExt cx="1904760" cy="609480"/>
            </a:xfrm>
          </p:grpSpPr>
          <p:sp>
            <p:nvSpPr>
              <p:cNvPr id="272" name=""/>
              <p:cNvSpPr/>
              <p:nvPr/>
            </p:nvSpPr>
            <p:spPr>
              <a:xfrm>
                <a:off x="2133720" y="373392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0" y="37339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752480" y="3429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863640" y="4800600"/>
              <a:ext cx="1904760" cy="609480"/>
              <a:chOff x="863640" y="4800600"/>
              <a:chExt cx="1904760" cy="609480"/>
            </a:xfrm>
          </p:grpSpPr>
          <p:sp>
            <p:nvSpPr>
              <p:cNvPr id="276" name=""/>
              <p:cNvSpPr/>
              <p:nvPr/>
            </p:nvSpPr>
            <p:spPr>
              <a:xfrm>
                <a:off x="863640" y="4800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15920" y="4800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482760" y="4495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006640" y="4343400"/>
              <a:ext cx="4572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3720" y="5257800"/>
              <a:ext cx="723960" cy="431640"/>
            </a:xfrm>
            <a:custGeom>
              <a:avLst/>
              <a:gdLst/>
              <a:ahLst/>
              <a:rect l="l" t="t" r="r" b="b"/>
              <a:pathLst>
                <a:path w="456" h="272">
                  <a:moveTo>
                    <a:pt x="56" y="96"/>
                  </a:moveTo>
                  <a:cubicBezTo>
                    <a:pt x="28" y="156"/>
                    <a:pt x="0" y="216"/>
                    <a:pt x="56" y="240"/>
                  </a:cubicBezTo>
                  <a:cubicBezTo>
                    <a:pt x="112" y="264"/>
                    <a:pt x="328" y="272"/>
                    <a:pt x="392" y="240"/>
                  </a:cubicBezTo>
                  <a:cubicBezTo>
                    <a:pt x="456" y="208"/>
                    <a:pt x="456" y="88"/>
                    <a:pt x="440" y="48"/>
                  </a:cubicBezTo>
                  <a:cubicBezTo>
                    <a:pt x="424" y="8"/>
                    <a:pt x="320" y="8"/>
                    <a:pt x="296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7520" y="4051440"/>
              <a:ext cx="1816200" cy="1778040"/>
            </a:xfrm>
            <a:custGeom>
              <a:avLst/>
              <a:gdLst/>
              <a:ahLst/>
              <a:rect l="l" t="t" r="r" b="b"/>
              <a:pathLst>
                <a:path w="1144" h="1120">
                  <a:moveTo>
                    <a:pt x="568" y="856"/>
                  </a:moveTo>
                  <a:cubicBezTo>
                    <a:pt x="596" y="908"/>
                    <a:pt x="624" y="960"/>
                    <a:pt x="568" y="1000"/>
                  </a:cubicBezTo>
                  <a:cubicBezTo>
                    <a:pt x="512" y="1040"/>
                    <a:pt x="312" y="1120"/>
                    <a:pt x="232" y="1096"/>
                  </a:cubicBezTo>
                  <a:cubicBezTo>
                    <a:pt x="152" y="1072"/>
                    <a:pt x="120" y="992"/>
                    <a:pt x="88" y="856"/>
                  </a:cubicBezTo>
                  <a:cubicBezTo>
                    <a:pt x="56" y="720"/>
                    <a:pt x="0" y="416"/>
                    <a:pt x="40" y="280"/>
                  </a:cubicBezTo>
                  <a:cubicBezTo>
                    <a:pt x="80" y="144"/>
                    <a:pt x="144" y="80"/>
                    <a:pt x="328" y="40"/>
                  </a:cubicBezTo>
                  <a:cubicBezTo>
                    <a:pt x="512" y="0"/>
                    <a:pt x="1008" y="40"/>
                    <a:pt x="1144" y="4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267080" y="1371600"/>
              <a:ext cx="1904760" cy="609480"/>
              <a:chOff x="4267080" y="1371600"/>
              <a:chExt cx="1904760" cy="609480"/>
            </a:xfrm>
          </p:grpSpPr>
          <p:sp>
            <p:nvSpPr>
              <p:cNvPr id="283" name=""/>
              <p:cNvSpPr/>
              <p:nvPr/>
            </p:nvSpPr>
            <p:spPr>
              <a:xfrm>
                <a:off x="4267080" y="1371600"/>
                <a:ext cx="1752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19360" y="137160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0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88620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267080" y="1981080"/>
              <a:ext cx="4572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13000" y="1981080"/>
              <a:ext cx="2489400" cy="2971800"/>
            </a:xfrm>
            <a:custGeom>
              <a:avLst/>
              <a:gdLst/>
              <a:ahLst/>
              <a:rect l="l" t="t" r="r" b="b"/>
              <a:pathLst>
                <a:path w="1568" h="1872">
                  <a:moveTo>
                    <a:pt x="184" y="1488"/>
                  </a:moveTo>
                  <a:cubicBezTo>
                    <a:pt x="92" y="1560"/>
                    <a:pt x="0" y="1632"/>
                    <a:pt x="184" y="1680"/>
                  </a:cubicBezTo>
                  <a:cubicBezTo>
                    <a:pt x="368" y="1728"/>
                    <a:pt x="1064" y="1872"/>
                    <a:pt x="1288" y="1776"/>
                  </a:cubicBezTo>
                  <a:cubicBezTo>
                    <a:pt x="1512" y="1680"/>
                    <a:pt x="1488" y="1400"/>
                    <a:pt x="1528" y="1104"/>
                  </a:cubicBezTo>
                  <a:cubicBezTo>
                    <a:pt x="1568" y="808"/>
                    <a:pt x="1528" y="184"/>
                    <a:pt x="1528" y="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99080" y="2793960"/>
              <a:ext cx="812880" cy="825480"/>
            </a:xfrm>
            <a:custGeom>
              <a:avLst/>
              <a:gdLst/>
              <a:ahLst/>
              <a:rect l="l" t="t" r="r" b="b"/>
              <a:pathLst>
                <a:path w="512" h="520">
                  <a:moveTo>
                    <a:pt x="64" y="256"/>
                  </a:moveTo>
                  <a:cubicBezTo>
                    <a:pt x="32" y="364"/>
                    <a:pt x="0" y="472"/>
                    <a:pt x="64" y="496"/>
                  </a:cubicBezTo>
                  <a:cubicBezTo>
                    <a:pt x="128" y="520"/>
                    <a:pt x="384" y="472"/>
                    <a:pt x="448" y="400"/>
                  </a:cubicBezTo>
                  <a:cubicBezTo>
                    <a:pt x="512" y="328"/>
                    <a:pt x="472" y="128"/>
                    <a:pt x="448" y="64"/>
                  </a:cubicBezTo>
                  <a:cubicBezTo>
                    <a:pt x="424" y="0"/>
                    <a:pt x="328" y="24"/>
                    <a:pt x="304" y="16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257800" y="4038480"/>
            <a:ext cx="6094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20:00:05Z</dcterms:modified>
  <cp:revision>318</cp:revision>
  <dc:subject/>
  <dc:title>Data Representation Methods</dc:title>
</cp:coreProperties>
</file>