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E5B8-720B-46F3-8F9A-BB6CC06A47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&gt;= min gives rise to 3 sub c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is an element n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CDF-A8F1-400A-A840-C5E1E9EE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F17-25F2-47A3-B2E8-D9AFB476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552-84AB-42D2-85D2-B224AC67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37E-1082-47D9-BCCF-D21F9974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C6B-2763-4763-BC29-DFD9C0A7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AE6-460D-40F0-9A76-52311E88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B13-BC6F-4F9E-9DB6-ED7978D0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C5E-6F21-4771-8D11-BFA6EA19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0E1-E537-4E03-A1F1-B9209961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B69-0A07-4952-A5DF-407CBC24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AA5-591F-483B-9430-19D7A486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FFC-F7DB-4BCF-A9EE-EC7B5728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EDBA-CDA0-4025-9B7D-732CAECAB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ies (continued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plit(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split algorithm for unbalanced binary search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way down the t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with a backward cleanup pa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construc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6338880"/>
            <a:ext cx="4952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 Black"/>
              </a:rPr>
              <a:t>k = g.key = 1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orward Pas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324480" y="1281240"/>
            <a:ext cx="2133720" cy="3530520"/>
            <a:chOff x="6324480" y="1281240"/>
            <a:chExt cx="2133720" cy="3530520"/>
          </a:xfrm>
        </p:grpSpPr>
        <p:grpSp>
          <p:nvGrpSpPr>
            <p:cNvPr id="323" name=""/>
            <p:cNvGrpSpPr/>
            <p:nvPr/>
          </p:nvGrpSpPr>
          <p:grpSpPr>
            <a:xfrm>
              <a:off x="6324480" y="1281240"/>
              <a:ext cx="2133720" cy="3506400"/>
              <a:chOff x="6324480" y="1281240"/>
              <a:chExt cx="2133720" cy="3506400"/>
            </a:xfrm>
          </p:grpSpPr>
          <p:sp>
            <p:nvSpPr>
              <p:cNvPr id="324" name=""/>
              <p:cNvSpPr/>
              <p:nvPr/>
            </p:nvSpPr>
            <p:spPr>
              <a:xfrm>
                <a:off x="7550280" y="3664080"/>
                <a:ext cx="444240" cy="39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15200" y="3048120"/>
                <a:ext cx="380880" cy="609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924680" y="3962520"/>
                <a:ext cx="15264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001000" y="426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6324480" y="1281240"/>
                <a:ext cx="2057400" cy="1982520"/>
                <a:chOff x="6324480" y="1281240"/>
                <a:chExt cx="2057400" cy="19825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6324480" y="1281240"/>
                  <a:ext cx="2057400" cy="1982520"/>
                  <a:chOff x="6324480" y="1281240"/>
                  <a:chExt cx="2057400" cy="198252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7473960" y="2063880"/>
                    <a:ext cx="444600" cy="3920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848720" y="2362320"/>
                    <a:ext cx="152280" cy="380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7924680" y="27432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6324480" y="1281240"/>
                    <a:ext cx="1054080" cy="534600"/>
                    <a:chOff x="6324480" y="1281240"/>
                    <a:chExt cx="1054080" cy="53460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6934320" y="1281240"/>
                      <a:ext cx="444240" cy="4442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6324480" y="1295280"/>
                      <a:ext cx="5335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6" name=""/>
                  <p:cNvSpPr/>
                  <p:nvPr/>
                </p:nvSpPr>
                <p:spPr>
                  <a:xfrm>
                    <a:off x="7315200" y="1600200"/>
                    <a:ext cx="304920" cy="457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7" name=""/>
                <p:cNvSpPr/>
                <p:nvPr/>
              </p:nvSpPr>
              <p:spPr>
                <a:xfrm>
                  <a:off x="7016760" y="2749680"/>
                  <a:ext cx="444600" cy="392040"/>
                </a:xfrm>
                <a:prstGeom prst="ellipse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>
                  <a:off x="7238520" y="2362320"/>
                  <a:ext cx="30492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7010280" y="4419720"/>
              <a:ext cx="444600" cy="392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314840" y="40384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657600" y="1219320"/>
            <a:ext cx="1663560" cy="4566960"/>
            <a:chOff x="3657600" y="1219320"/>
            <a:chExt cx="1663560" cy="4566960"/>
          </a:xfrm>
        </p:grpSpPr>
        <p:sp>
          <p:nvSpPr>
            <p:cNvPr id="342" name=""/>
            <p:cNvSpPr/>
            <p:nvPr/>
          </p:nvSpPr>
          <p:spPr>
            <a:xfrm>
              <a:off x="4419720" y="4648320"/>
              <a:ext cx="444240" cy="392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260600" y="494676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32360" y="5265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657600" y="1219320"/>
              <a:ext cx="1663560" cy="3058920"/>
              <a:chOff x="3657600" y="1219320"/>
              <a:chExt cx="1663560" cy="305892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3657600" y="1219320"/>
                <a:ext cx="1511280" cy="2882520"/>
                <a:chOff x="3657600" y="1219320"/>
                <a:chExt cx="1511280" cy="28825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273560" y="2901960"/>
                  <a:ext cx="444600" cy="3920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4114440" y="3200400"/>
                  <a:ext cx="228600" cy="41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962520" y="3581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0" name=""/>
                <p:cNvGrpSpPr/>
                <p:nvPr/>
              </p:nvGrpSpPr>
              <p:grpSpPr>
                <a:xfrm>
                  <a:off x="3657600" y="1219320"/>
                  <a:ext cx="1511280" cy="1306440"/>
                  <a:chOff x="3657600" y="1219320"/>
                  <a:chExt cx="1511280" cy="1306440"/>
                </a:xfrm>
              </p:grpSpPr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3657600" y="1219320"/>
                    <a:ext cx="977760" cy="1282320"/>
                    <a:chOff x="3657600" y="1219320"/>
                    <a:chExt cx="977760" cy="128232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4191120" y="1295280"/>
                      <a:ext cx="444240" cy="4446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>
                      <a:off x="3885840" y="1676520"/>
                      <a:ext cx="374760" cy="3952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3657600" y="1981080"/>
                      <a:ext cx="4572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3657600" y="1219320"/>
                      <a:ext cx="5335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6" name=""/>
                  <p:cNvSpPr/>
                  <p:nvPr/>
                </p:nvSpPr>
                <p:spPr>
                  <a:xfrm>
                    <a:off x="4724280" y="2133720"/>
                    <a:ext cx="444600" cy="3920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4565520" y="1670040"/>
                    <a:ext cx="304920" cy="457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 flipH="1">
                  <a:off x="4495320" y="2514600"/>
                  <a:ext cx="30492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4876920" y="3886200"/>
                <a:ext cx="444240" cy="3920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41840" y="3270240"/>
                <a:ext cx="380880" cy="609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flipH="1">
              <a:off x="4723920" y="42670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413240" y="4952880"/>
            <a:ext cx="831960" cy="1595520"/>
            <a:chOff x="4413240" y="4952880"/>
            <a:chExt cx="831960" cy="1595520"/>
          </a:xfrm>
        </p:grpSpPr>
        <p:sp>
          <p:nvSpPr>
            <p:cNvPr id="363" name=""/>
            <p:cNvSpPr/>
            <p:nvPr/>
          </p:nvSpPr>
          <p:spPr>
            <a:xfrm>
              <a:off x="4800600" y="5410080"/>
              <a:ext cx="444600" cy="392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4641480" y="5708520"/>
              <a:ext cx="22860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13240" y="60278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00600" y="49528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391520" y="4800600"/>
            <a:ext cx="444240" cy="849240"/>
            <a:chOff x="7391520" y="4800600"/>
            <a:chExt cx="444240" cy="849240"/>
          </a:xfrm>
        </p:grpSpPr>
        <p:sp>
          <p:nvSpPr>
            <p:cNvPr id="368" name=""/>
            <p:cNvSpPr/>
            <p:nvPr/>
          </p:nvSpPr>
          <p:spPr>
            <a:xfrm>
              <a:off x="7391520" y="5257800"/>
              <a:ext cx="444240" cy="392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91520" y="48006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ward Cleanup Pas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ace path from current node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ward roots of respective 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 branch nodes that are roots of subtries that have few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ctionary pa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ward Cleanup Pas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657600" y="1219320"/>
            <a:ext cx="1663560" cy="5329080"/>
            <a:chOff x="3657600" y="1219320"/>
            <a:chExt cx="1663560" cy="5329080"/>
          </a:xfrm>
        </p:grpSpPr>
        <p:grpSp>
          <p:nvGrpSpPr>
            <p:cNvPr id="374" name=""/>
            <p:cNvGrpSpPr/>
            <p:nvPr/>
          </p:nvGrpSpPr>
          <p:grpSpPr>
            <a:xfrm>
              <a:off x="3657600" y="1219320"/>
              <a:ext cx="1663560" cy="4566960"/>
              <a:chOff x="3657600" y="1219320"/>
              <a:chExt cx="1663560" cy="4566960"/>
            </a:xfrm>
          </p:grpSpPr>
          <p:sp>
            <p:nvSpPr>
              <p:cNvPr id="375" name=""/>
              <p:cNvSpPr/>
              <p:nvPr/>
            </p:nvSpPr>
            <p:spPr>
              <a:xfrm>
                <a:off x="4419720" y="4648320"/>
                <a:ext cx="444240" cy="3920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4260600" y="4946760"/>
                <a:ext cx="228600" cy="41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2360" y="52657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3657600" y="1219320"/>
                <a:ext cx="1663560" cy="3058920"/>
                <a:chOff x="3657600" y="1219320"/>
                <a:chExt cx="1663560" cy="3058920"/>
              </a:xfrm>
            </p:grpSpPr>
            <p:grpSp>
              <p:nvGrpSpPr>
                <p:cNvPr id="379" name=""/>
                <p:cNvGrpSpPr/>
                <p:nvPr/>
              </p:nvGrpSpPr>
              <p:grpSpPr>
                <a:xfrm>
                  <a:off x="3657600" y="1219320"/>
                  <a:ext cx="1511280" cy="2882520"/>
                  <a:chOff x="3657600" y="1219320"/>
                  <a:chExt cx="1511280" cy="288252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4273560" y="2901960"/>
                    <a:ext cx="444600" cy="3920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>
                    <a:off x="4114440" y="3200400"/>
                    <a:ext cx="228600" cy="4158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962520" y="35812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3657600" y="1219320"/>
                    <a:ext cx="1511280" cy="1306440"/>
                    <a:chOff x="3657600" y="1219320"/>
                    <a:chExt cx="1511280" cy="1306440"/>
                  </a:xfrm>
                </p:grpSpPr>
                <p:grpSp>
                  <p:nvGrpSpPr>
                    <p:cNvPr id="384" name=""/>
                    <p:cNvGrpSpPr/>
                    <p:nvPr/>
                  </p:nvGrpSpPr>
                  <p:grpSpPr>
                    <a:xfrm>
                      <a:off x="3657600" y="1219320"/>
                      <a:ext cx="977760" cy="1282320"/>
                      <a:chOff x="3657600" y="1219320"/>
                      <a:chExt cx="977760" cy="1282320"/>
                    </a:xfrm>
                  </p:grpSpPr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4191120" y="1295280"/>
                        <a:ext cx="444240" cy="44460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 flipH="1">
                        <a:off x="3885840" y="1676520"/>
                        <a:ext cx="374760" cy="3952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7" name=""/>
                      <p:cNvSpPr/>
                      <p:nvPr/>
                    </p:nvSpPr>
                    <p:spPr>
                      <a:xfrm>
                        <a:off x="3657600" y="1981080"/>
                        <a:ext cx="45720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ff"/>
                            </a:solidFill>
                            <a:latin typeface="Times New Roman"/>
                          </a:rPr>
                          <a:t>a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8" name=""/>
                      <p:cNvSpPr/>
                      <p:nvPr/>
                    </p:nvSpPr>
                    <p:spPr>
                      <a:xfrm>
                        <a:off x="3657600" y="1219320"/>
                        <a:ext cx="53352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ff00ff"/>
                            </a:solidFill>
                            <a:latin typeface="Arial Black"/>
                          </a:rPr>
                          <a:t>S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4724280" y="2133720"/>
                      <a:ext cx="444600" cy="3920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4565520" y="1670040"/>
                      <a:ext cx="304920" cy="457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1" name=""/>
                  <p:cNvSpPr/>
                  <p:nvPr/>
                </p:nvSpPr>
                <p:spPr>
                  <a:xfrm flipH="1">
                    <a:off x="4495320" y="2514600"/>
                    <a:ext cx="304920" cy="380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2" name=""/>
                <p:cNvSpPr/>
                <p:nvPr/>
              </p:nvSpPr>
              <p:spPr>
                <a:xfrm>
                  <a:off x="4876920" y="3886200"/>
                  <a:ext cx="444240" cy="3920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641840" y="3270240"/>
                  <a:ext cx="380880" cy="6094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 flipH="1">
                <a:off x="4723920" y="4267080"/>
                <a:ext cx="30492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413240" y="4952880"/>
              <a:ext cx="831960" cy="1595520"/>
              <a:chOff x="4413240" y="4952880"/>
              <a:chExt cx="831960" cy="1595520"/>
            </a:xfrm>
          </p:grpSpPr>
          <p:sp>
            <p:nvSpPr>
              <p:cNvPr id="396" name=""/>
              <p:cNvSpPr/>
              <p:nvPr/>
            </p:nvSpPr>
            <p:spPr>
              <a:xfrm>
                <a:off x="4800600" y="5410080"/>
                <a:ext cx="444600" cy="392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4641480" y="5708520"/>
                <a:ext cx="228600" cy="416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413240" y="60278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00600" y="495288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6324480" y="1281240"/>
            <a:ext cx="2133720" cy="4368600"/>
            <a:chOff x="6324480" y="1281240"/>
            <a:chExt cx="2133720" cy="4368600"/>
          </a:xfrm>
        </p:grpSpPr>
        <p:grpSp>
          <p:nvGrpSpPr>
            <p:cNvPr id="401" name=""/>
            <p:cNvGrpSpPr/>
            <p:nvPr/>
          </p:nvGrpSpPr>
          <p:grpSpPr>
            <a:xfrm>
              <a:off x="6324480" y="1281240"/>
              <a:ext cx="2133720" cy="3530520"/>
              <a:chOff x="6324480" y="1281240"/>
              <a:chExt cx="2133720" cy="353052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6324480" y="1281240"/>
                <a:ext cx="2133720" cy="3506400"/>
                <a:chOff x="6324480" y="1281240"/>
                <a:chExt cx="2133720" cy="35064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550280" y="3664080"/>
                  <a:ext cx="444240" cy="392040"/>
                </a:xfrm>
                <a:prstGeom prst="ellipse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315200" y="3048120"/>
                  <a:ext cx="380880" cy="6094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924680" y="3962520"/>
                  <a:ext cx="15264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00100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7" name=""/>
                <p:cNvGrpSpPr/>
                <p:nvPr/>
              </p:nvGrpSpPr>
              <p:grpSpPr>
                <a:xfrm>
                  <a:off x="6324480" y="1281240"/>
                  <a:ext cx="2057400" cy="1982520"/>
                  <a:chOff x="6324480" y="1281240"/>
                  <a:chExt cx="2057400" cy="1982520"/>
                </a:xfrm>
              </p:grpSpPr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6324480" y="1281240"/>
                    <a:ext cx="2057400" cy="1982520"/>
                    <a:chOff x="6324480" y="1281240"/>
                    <a:chExt cx="2057400" cy="198252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7473960" y="2063880"/>
                      <a:ext cx="444600" cy="3920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7848720" y="2362320"/>
                      <a:ext cx="152280" cy="380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7924680" y="2743200"/>
                      <a:ext cx="4572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12" name=""/>
                    <p:cNvGrpSpPr/>
                    <p:nvPr/>
                  </p:nvGrpSpPr>
                  <p:grpSpPr>
                    <a:xfrm>
                      <a:off x="6324480" y="1281240"/>
                      <a:ext cx="1054080" cy="534600"/>
                      <a:chOff x="6324480" y="1281240"/>
                      <a:chExt cx="1054080" cy="534600"/>
                    </a:xfrm>
                  </p:grpSpPr>
                  <p:sp>
                    <p:nvSpPr>
                      <p:cNvPr id="413" name=""/>
                      <p:cNvSpPr/>
                      <p:nvPr/>
                    </p:nvSpPr>
                    <p:spPr>
                      <a:xfrm>
                        <a:off x="6934320" y="1281240"/>
                        <a:ext cx="444240" cy="444240"/>
                      </a:xfrm>
                      <a:prstGeom prst="ellipse">
                        <a:avLst/>
                      </a:prstGeom>
                      <a:solidFill>
                        <a:srgbClr val="0000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4" name=""/>
                      <p:cNvSpPr/>
                      <p:nvPr/>
                    </p:nvSpPr>
                    <p:spPr>
                      <a:xfrm>
                        <a:off x="6324480" y="1295280"/>
                        <a:ext cx="53352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ff"/>
                            </a:solidFill>
                            <a:latin typeface="Arial Black"/>
                          </a:rPr>
                          <a:t>B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7315200" y="1600200"/>
                      <a:ext cx="304920" cy="457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6" name=""/>
                  <p:cNvSpPr/>
                  <p:nvPr/>
                </p:nvSpPr>
                <p:spPr>
                  <a:xfrm>
                    <a:off x="7016760" y="2749680"/>
                    <a:ext cx="444600" cy="3920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7238520" y="2362320"/>
                    <a:ext cx="304920" cy="380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8" name=""/>
              <p:cNvSpPr/>
              <p:nvPr/>
            </p:nvSpPr>
            <p:spPr>
              <a:xfrm>
                <a:off x="7010280" y="4419720"/>
                <a:ext cx="444600" cy="39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7314840" y="4038480"/>
                <a:ext cx="30492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391520" y="4800600"/>
              <a:ext cx="444240" cy="849240"/>
              <a:chOff x="7391520" y="4800600"/>
              <a:chExt cx="444240" cy="849240"/>
            </a:xfrm>
          </p:grpSpPr>
          <p:sp>
            <p:nvSpPr>
              <p:cNvPr id="421" name=""/>
              <p:cNvSpPr/>
              <p:nvPr/>
            </p:nvSpPr>
            <p:spPr>
              <a:xfrm>
                <a:off x="7391520" y="5257800"/>
                <a:ext cx="444240" cy="39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91520" y="480060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457200" y="2514600"/>
            <a:ext cx="2743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element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87840" y="5126040"/>
            <a:ext cx="1011240" cy="930240"/>
          </a:xfrm>
          <a:custGeom>
            <a:avLst/>
            <a:gdLst/>
            <a:ahLst/>
            <a:rect l="l" t="t" r="r" b="b"/>
            <a:pathLst>
              <a:path w="637" h="586">
                <a:moveTo>
                  <a:pt x="585" y="0"/>
                </a:moveTo>
                <a:cubicBezTo>
                  <a:pt x="536" y="25"/>
                  <a:pt x="487" y="34"/>
                  <a:pt x="434" y="48"/>
                </a:cubicBezTo>
                <a:cubicBezTo>
                  <a:pt x="415" y="53"/>
                  <a:pt x="377" y="66"/>
                  <a:pt x="377" y="66"/>
                </a:cubicBezTo>
                <a:cubicBezTo>
                  <a:pt x="334" y="131"/>
                  <a:pt x="274" y="95"/>
                  <a:pt x="207" y="95"/>
                </a:cubicBezTo>
                <a:lnTo>
                  <a:pt x="38" y="131"/>
                </a:lnTo>
                <a:cubicBezTo>
                  <a:pt x="0" y="280"/>
                  <a:pt x="28" y="157"/>
                  <a:pt x="28" y="510"/>
                </a:cubicBezTo>
                <a:cubicBezTo>
                  <a:pt x="94" y="519"/>
                  <a:pt x="160" y="520"/>
                  <a:pt x="226" y="529"/>
                </a:cubicBezTo>
                <a:cubicBezTo>
                  <a:pt x="336" y="545"/>
                  <a:pt x="445" y="586"/>
                  <a:pt x="557" y="586"/>
                </a:cubicBezTo>
                <a:cubicBezTo>
                  <a:pt x="569" y="536"/>
                  <a:pt x="574" y="485"/>
                  <a:pt x="585" y="435"/>
                </a:cubicBezTo>
                <a:cubicBezTo>
                  <a:pt x="593" y="331"/>
                  <a:pt x="601" y="227"/>
                  <a:pt x="613" y="123"/>
                </a:cubicBezTo>
                <a:cubicBezTo>
                  <a:pt x="603" y="3"/>
                  <a:pt x="637" y="28"/>
                  <a:pt x="585" y="0"/>
                </a:cubicBezTo>
                <a:close/>
              </a:path>
            </a:pathLst>
          </a:custGeom>
          <a:noFill/>
          <a:ln w="7632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ward Cleanup Pas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657600" y="1219320"/>
            <a:ext cx="1663560" cy="4566960"/>
            <a:chOff x="3657600" y="1219320"/>
            <a:chExt cx="1663560" cy="4566960"/>
          </a:xfrm>
        </p:grpSpPr>
        <p:sp>
          <p:nvSpPr>
            <p:cNvPr id="427" name=""/>
            <p:cNvSpPr/>
            <p:nvPr/>
          </p:nvSpPr>
          <p:spPr>
            <a:xfrm>
              <a:off x="4419720" y="4648320"/>
              <a:ext cx="444240" cy="392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260600" y="494676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32360" y="5265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657600" y="1219320"/>
              <a:ext cx="1663560" cy="3058920"/>
              <a:chOff x="3657600" y="1219320"/>
              <a:chExt cx="1663560" cy="305892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3657600" y="1219320"/>
                <a:ext cx="1511280" cy="2882520"/>
                <a:chOff x="3657600" y="1219320"/>
                <a:chExt cx="1511280" cy="28825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273560" y="2901960"/>
                  <a:ext cx="444600" cy="3920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4114440" y="3200400"/>
                  <a:ext cx="228600" cy="41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962520" y="3581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3657600" y="1219320"/>
                  <a:ext cx="1511280" cy="1306440"/>
                  <a:chOff x="3657600" y="1219320"/>
                  <a:chExt cx="1511280" cy="1306440"/>
                </a:xfrm>
              </p:grpSpPr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3657600" y="1219320"/>
                    <a:ext cx="977760" cy="1282320"/>
                    <a:chOff x="3657600" y="1219320"/>
                    <a:chExt cx="977760" cy="1282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4191120" y="1295280"/>
                      <a:ext cx="444240" cy="4446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>
                      <a:off x="3885840" y="1676520"/>
                      <a:ext cx="374760" cy="3952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3657600" y="1981080"/>
                      <a:ext cx="4572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3657600" y="1219320"/>
                      <a:ext cx="5335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1" name=""/>
                  <p:cNvSpPr/>
                  <p:nvPr/>
                </p:nvSpPr>
                <p:spPr>
                  <a:xfrm>
                    <a:off x="4724280" y="2133720"/>
                    <a:ext cx="444600" cy="3920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565520" y="1670040"/>
                    <a:ext cx="304920" cy="457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3" name=""/>
                <p:cNvSpPr/>
                <p:nvPr/>
              </p:nvSpPr>
              <p:spPr>
                <a:xfrm flipH="1">
                  <a:off x="4495320" y="2514600"/>
                  <a:ext cx="30492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4876920" y="3886200"/>
                <a:ext cx="444240" cy="3920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641840" y="3270240"/>
                <a:ext cx="380880" cy="609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H="1">
              <a:off x="4723920" y="42670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80060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800600" y="4952880"/>
            <a:ext cx="2286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324480" y="1281240"/>
            <a:ext cx="2133720" cy="4368600"/>
            <a:chOff x="6324480" y="1281240"/>
            <a:chExt cx="2133720" cy="4368600"/>
          </a:xfrm>
        </p:grpSpPr>
        <p:grpSp>
          <p:nvGrpSpPr>
            <p:cNvPr id="450" name=""/>
            <p:cNvGrpSpPr/>
            <p:nvPr/>
          </p:nvGrpSpPr>
          <p:grpSpPr>
            <a:xfrm>
              <a:off x="6324480" y="1281240"/>
              <a:ext cx="2133720" cy="3530520"/>
              <a:chOff x="6324480" y="1281240"/>
              <a:chExt cx="2133720" cy="353052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6324480" y="1281240"/>
                <a:ext cx="2133720" cy="3506400"/>
                <a:chOff x="6324480" y="1281240"/>
                <a:chExt cx="2133720" cy="35064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7550280" y="3664080"/>
                  <a:ext cx="444240" cy="392040"/>
                </a:xfrm>
                <a:prstGeom prst="ellipse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315200" y="3048120"/>
                  <a:ext cx="380880" cy="6094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924680" y="3962520"/>
                  <a:ext cx="15264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8001000" y="42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6" name=""/>
                <p:cNvGrpSpPr/>
                <p:nvPr/>
              </p:nvGrpSpPr>
              <p:grpSpPr>
                <a:xfrm>
                  <a:off x="6324480" y="1281240"/>
                  <a:ext cx="2057400" cy="1982520"/>
                  <a:chOff x="6324480" y="1281240"/>
                  <a:chExt cx="2057400" cy="198252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324480" y="1281240"/>
                    <a:ext cx="2057400" cy="1982520"/>
                    <a:chOff x="6324480" y="1281240"/>
                    <a:chExt cx="2057400" cy="198252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7473960" y="2063880"/>
                      <a:ext cx="444600" cy="3920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7848720" y="2362320"/>
                      <a:ext cx="152280" cy="380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7924680" y="2743200"/>
                      <a:ext cx="4572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1" name=""/>
                    <p:cNvGrpSpPr/>
                    <p:nvPr/>
                  </p:nvGrpSpPr>
                  <p:grpSpPr>
                    <a:xfrm>
                      <a:off x="6324480" y="1281240"/>
                      <a:ext cx="1054080" cy="534600"/>
                      <a:chOff x="6324480" y="1281240"/>
                      <a:chExt cx="1054080" cy="534600"/>
                    </a:xfrm>
                  </p:grpSpPr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6934320" y="1281240"/>
                        <a:ext cx="444240" cy="444240"/>
                      </a:xfrm>
                      <a:prstGeom prst="ellipse">
                        <a:avLst/>
                      </a:prstGeom>
                      <a:solidFill>
                        <a:srgbClr val="0000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"/>
                      <p:cNvSpPr/>
                      <p:nvPr/>
                    </p:nvSpPr>
                    <p:spPr>
                      <a:xfrm>
                        <a:off x="6324480" y="1295280"/>
                        <a:ext cx="53352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ff"/>
                            </a:solidFill>
                            <a:latin typeface="Arial Black"/>
                          </a:rPr>
                          <a:t>B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7315200" y="1600200"/>
                      <a:ext cx="304920" cy="4572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5" name=""/>
                  <p:cNvSpPr/>
                  <p:nvPr/>
                </p:nvSpPr>
                <p:spPr>
                  <a:xfrm>
                    <a:off x="7016760" y="2749680"/>
                    <a:ext cx="444600" cy="3920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>
                    <a:off x="7238520" y="2362320"/>
                    <a:ext cx="304920" cy="380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7" name=""/>
              <p:cNvSpPr/>
              <p:nvPr/>
            </p:nvSpPr>
            <p:spPr>
              <a:xfrm>
                <a:off x="7010280" y="4419720"/>
                <a:ext cx="444600" cy="39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7314840" y="4038480"/>
                <a:ext cx="30492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7391520" y="4800600"/>
              <a:ext cx="444240" cy="849240"/>
              <a:chOff x="7391520" y="4800600"/>
              <a:chExt cx="444240" cy="849240"/>
            </a:xfrm>
          </p:grpSpPr>
          <p:sp>
            <p:nvSpPr>
              <p:cNvPr id="470" name=""/>
              <p:cNvSpPr/>
              <p:nvPr/>
            </p:nvSpPr>
            <p:spPr>
              <a:xfrm>
                <a:off x="7391520" y="5257800"/>
                <a:ext cx="444240" cy="39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91520" y="480060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457200" y="2514600"/>
            <a:ext cx="2743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backup 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4952880"/>
            <a:ext cx="1011240" cy="930240"/>
          </a:xfrm>
          <a:custGeom>
            <a:avLst/>
            <a:gdLst/>
            <a:ahLst/>
            <a:rect l="l" t="t" r="r" b="b"/>
            <a:pathLst>
              <a:path w="637" h="586">
                <a:moveTo>
                  <a:pt x="585" y="0"/>
                </a:moveTo>
                <a:cubicBezTo>
                  <a:pt x="536" y="25"/>
                  <a:pt x="487" y="34"/>
                  <a:pt x="434" y="48"/>
                </a:cubicBezTo>
                <a:cubicBezTo>
                  <a:pt x="415" y="53"/>
                  <a:pt x="377" y="66"/>
                  <a:pt x="377" y="66"/>
                </a:cubicBezTo>
                <a:cubicBezTo>
                  <a:pt x="334" y="131"/>
                  <a:pt x="274" y="95"/>
                  <a:pt x="207" y="95"/>
                </a:cubicBezTo>
                <a:lnTo>
                  <a:pt x="38" y="131"/>
                </a:lnTo>
                <a:cubicBezTo>
                  <a:pt x="0" y="280"/>
                  <a:pt x="28" y="157"/>
                  <a:pt x="28" y="510"/>
                </a:cubicBezTo>
                <a:cubicBezTo>
                  <a:pt x="94" y="519"/>
                  <a:pt x="160" y="520"/>
                  <a:pt x="226" y="529"/>
                </a:cubicBezTo>
                <a:cubicBezTo>
                  <a:pt x="336" y="545"/>
                  <a:pt x="445" y="586"/>
                  <a:pt x="557" y="586"/>
                </a:cubicBezTo>
                <a:cubicBezTo>
                  <a:pt x="569" y="536"/>
                  <a:pt x="574" y="485"/>
                  <a:pt x="585" y="435"/>
                </a:cubicBezTo>
                <a:cubicBezTo>
                  <a:pt x="593" y="331"/>
                  <a:pt x="601" y="227"/>
                  <a:pt x="613" y="123"/>
                </a:cubicBezTo>
                <a:cubicBezTo>
                  <a:pt x="603" y="3"/>
                  <a:pt x="637" y="28"/>
                  <a:pt x="585" y="0"/>
                </a:cubicBezTo>
                <a:close/>
              </a:path>
            </a:pathLst>
          </a:custGeom>
          <a:noFill/>
          <a:ln w="7632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ward Cleanup Pas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657600" y="1219320"/>
            <a:ext cx="1663560" cy="4566960"/>
            <a:chOff x="3657600" y="1219320"/>
            <a:chExt cx="1663560" cy="4566960"/>
          </a:xfrm>
        </p:grpSpPr>
        <p:sp>
          <p:nvSpPr>
            <p:cNvPr id="476" name=""/>
            <p:cNvSpPr/>
            <p:nvPr/>
          </p:nvSpPr>
          <p:spPr>
            <a:xfrm>
              <a:off x="4419720" y="4648320"/>
              <a:ext cx="444240" cy="392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260600" y="494676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32360" y="5265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3657600" y="1219320"/>
              <a:ext cx="1663560" cy="3058920"/>
              <a:chOff x="3657600" y="1219320"/>
              <a:chExt cx="1663560" cy="30589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3657600" y="1219320"/>
                <a:ext cx="1511280" cy="2882520"/>
                <a:chOff x="3657600" y="1219320"/>
                <a:chExt cx="1511280" cy="28825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273560" y="2901960"/>
                  <a:ext cx="444600" cy="3920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>
                  <a:off x="4114440" y="3200400"/>
                  <a:ext cx="228600" cy="41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962520" y="3581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4" name=""/>
                <p:cNvGrpSpPr/>
                <p:nvPr/>
              </p:nvGrpSpPr>
              <p:grpSpPr>
                <a:xfrm>
                  <a:off x="3657600" y="1219320"/>
                  <a:ext cx="1511280" cy="1306440"/>
                  <a:chOff x="3657600" y="1219320"/>
                  <a:chExt cx="1511280" cy="1306440"/>
                </a:xfrm>
              </p:grpSpPr>
              <p:grpSp>
                <p:nvGrpSpPr>
                  <p:cNvPr id="485" name=""/>
                  <p:cNvGrpSpPr/>
                  <p:nvPr/>
                </p:nvGrpSpPr>
                <p:grpSpPr>
                  <a:xfrm>
                    <a:off x="3657600" y="1219320"/>
                    <a:ext cx="977760" cy="1282320"/>
                    <a:chOff x="3657600" y="1219320"/>
                    <a:chExt cx="977760" cy="1282320"/>
                  </a:xfrm>
                </p:grpSpPr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4191120" y="1295280"/>
                      <a:ext cx="444240" cy="4446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H="1">
                      <a:off x="3885840" y="1676520"/>
                      <a:ext cx="374760" cy="3952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3657600" y="1981080"/>
                      <a:ext cx="4572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3657600" y="1219320"/>
                      <a:ext cx="5335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0" name=""/>
                  <p:cNvSpPr/>
                  <p:nvPr/>
                </p:nvSpPr>
                <p:spPr>
                  <a:xfrm>
                    <a:off x="4724280" y="2133720"/>
                    <a:ext cx="444600" cy="3920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4565520" y="1670040"/>
                    <a:ext cx="304920" cy="457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"/>
                <p:cNvSpPr/>
                <p:nvPr/>
              </p:nvSpPr>
              <p:spPr>
                <a:xfrm flipH="1">
                  <a:off x="4495320" y="2514600"/>
                  <a:ext cx="30492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4876920" y="3886200"/>
                <a:ext cx="444240" cy="3920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641840" y="3270240"/>
                <a:ext cx="380880" cy="609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 flipH="1">
              <a:off x="4723920" y="42670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80060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00600" y="4952880"/>
            <a:ext cx="2286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6324480" y="1281240"/>
            <a:ext cx="2133720" cy="3530520"/>
            <a:chOff x="6324480" y="1281240"/>
            <a:chExt cx="2133720" cy="3530520"/>
          </a:xfrm>
        </p:grpSpPr>
        <p:grpSp>
          <p:nvGrpSpPr>
            <p:cNvPr id="499" name=""/>
            <p:cNvGrpSpPr/>
            <p:nvPr/>
          </p:nvGrpSpPr>
          <p:grpSpPr>
            <a:xfrm>
              <a:off x="6324480" y="1281240"/>
              <a:ext cx="2133720" cy="3506400"/>
              <a:chOff x="6324480" y="1281240"/>
              <a:chExt cx="2133720" cy="3506400"/>
            </a:xfrm>
          </p:grpSpPr>
          <p:sp>
            <p:nvSpPr>
              <p:cNvPr id="500" name=""/>
              <p:cNvSpPr/>
              <p:nvPr/>
            </p:nvSpPr>
            <p:spPr>
              <a:xfrm>
                <a:off x="7550280" y="3664080"/>
                <a:ext cx="444240" cy="39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315200" y="3048120"/>
                <a:ext cx="380880" cy="609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924680" y="3962520"/>
                <a:ext cx="15264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001000" y="426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6324480" y="1281240"/>
                <a:ext cx="2057400" cy="1982520"/>
                <a:chOff x="6324480" y="1281240"/>
                <a:chExt cx="2057400" cy="1982520"/>
              </a:xfrm>
            </p:grpSpPr>
            <p:grpSp>
              <p:nvGrpSpPr>
                <p:cNvPr id="505" name=""/>
                <p:cNvGrpSpPr/>
                <p:nvPr/>
              </p:nvGrpSpPr>
              <p:grpSpPr>
                <a:xfrm>
                  <a:off x="6324480" y="1281240"/>
                  <a:ext cx="2057400" cy="1982520"/>
                  <a:chOff x="6324480" y="1281240"/>
                  <a:chExt cx="2057400" cy="198252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7473960" y="2063880"/>
                    <a:ext cx="444600" cy="3920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848720" y="2362320"/>
                    <a:ext cx="152280" cy="380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7924680" y="274320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6324480" y="1281240"/>
                    <a:ext cx="1054080" cy="534600"/>
                    <a:chOff x="6324480" y="1281240"/>
                    <a:chExt cx="1054080" cy="53460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6934320" y="1281240"/>
                      <a:ext cx="444240" cy="4442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6324480" y="1295280"/>
                      <a:ext cx="5335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2" name=""/>
                  <p:cNvSpPr/>
                  <p:nvPr/>
                </p:nvSpPr>
                <p:spPr>
                  <a:xfrm>
                    <a:off x="7315200" y="1600200"/>
                    <a:ext cx="304920" cy="457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3" name=""/>
                <p:cNvSpPr/>
                <p:nvPr/>
              </p:nvSpPr>
              <p:spPr>
                <a:xfrm>
                  <a:off x="7016760" y="2749680"/>
                  <a:ext cx="444600" cy="392040"/>
                </a:xfrm>
                <a:prstGeom prst="ellipse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>
                  <a:off x="7238520" y="2362320"/>
                  <a:ext cx="30492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5" name=""/>
            <p:cNvSpPr/>
            <p:nvPr/>
          </p:nvSpPr>
          <p:spPr>
            <a:xfrm>
              <a:off x="7010280" y="4419720"/>
              <a:ext cx="444600" cy="392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7314840" y="40384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457200" y="2514600"/>
            <a:ext cx="2743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backup 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705720" y="4114800"/>
            <a:ext cx="1011240" cy="930240"/>
          </a:xfrm>
          <a:custGeom>
            <a:avLst/>
            <a:gdLst/>
            <a:ahLst/>
            <a:rect l="l" t="t" r="r" b="b"/>
            <a:pathLst>
              <a:path w="637" h="586">
                <a:moveTo>
                  <a:pt x="585" y="0"/>
                </a:moveTo>
                <a:cubicBezTo>
                  <a:pt x="536" y="25"/>
                  <a:pt x="487" y="34"/>
                  <a:pt x="434" y="48"/>
                </a:cubicBezTo>
                <a:cubicBezTo>
                  <a:pt x="415" y="53"/>
                  <a:pt x="377" y="66"/>
                  <a:pt x="377" y="66"/>
                </a:cubicBezTo>
                <a:cubicBezTo>
                  <a:pt x="334" y="131"/>
                  <a:pt x="274" y="95"/>
                  <a:pt x="207" y="95"/>
                </a:cubicBezTo>
                <a:lnTo>
                  <a:pt x="38" y="131"/>
                </a:lnTo>
                <a:cubicBezTo>
                  <a:pt x="0" y="280"/>
                  <a:pt x="28" y="157"/>
                  <a:pt x="28" y="510"/>
                </a:cubicBezTo>
                <a:cubicBezTo>
                  <a:pt x="94" y="519"/>
                  <a:pt x="160" y="520"/>
                  <a:pt x="226" y="529"/>
                </a:cubicBezTo>
                <a:cubicBezTo>
                  <a:pt x="336" y="545"/>
                  <a:pt x="445" y="586"/>
                  <a:pt x="557" y="586"/>
                </a:cubicBezTo>
                <a:cubicBezTo>
                  <a:pt x="569" y="536"/>
                  <a:pt x="574" y="485"/>
                  <a:pt x="585" y="435"/>
                </a:cubicBezTo>
                <a:cubicBezTo>
                  <a:pt x="593" y="331"/>
                  <a:pt x="601" y="227"/>
                  <a:pt x="613" y="123"/>
                </a:cubicBezTo>
                <a:cubicBezTo>
                  <a:pt x="603" y="3"/>
                  <a:pt x="637" y="28"/>
                  <a:pt x="585" y="0"/>
                </a:cubicBezTo>
                <a:close/>
              </a:path>
            </a:pathLst>
          </a:custGeom>
          <a:noFill/>
          <a:ln w="7632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ward Cleanup Pas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3657600" y="1219320"/>
            <a:ext cx="1663560" cy="4566960"/>
            <a:chOff x="3657600" y="1219320"/>
            <a:chExt cx="1663560" cy="4566960"/>
          </a:xfrm>
        </p:grpSpPr>
        <p:sp>
          <p:nvSpPr>
            <p:cNvPr id="521" name=""/>
            <p:cNvSpPr/>
            <p:nvPr/>
          </p:nvSpPr>
          <p:spPr>
            <a:xfrm>
              <a:off x="4419720" y="4648320"/>
              <a:ext cx="444240" cy="392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4260600" y="494676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32360" y="5265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657600" y="1219320"/>
              <a:ext cx="1663560" cy="3058920"/>
              <a:chOff x="3657600" y="1219320"/>
              <a:chExt cx="1663560" cy="305892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3657600" y="1219320"/>
                <a:ext cx="1511280" cy="2882520"/>
                <a:chOff x="3657600" y="1219320"/>
                <a:chExt cx="1511280" cy="28825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4273560" y="2901960"/>
                  <a:ext cx="444600" cy="3920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H="1">
                  <a:off x="4114440" y="3200400"/>
                  <a:ext cx="228600" cy="41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962520" y="3581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9" name=""/>
                <p:cNvGrpSpPr/>
                <p:nvPr/>
              </p:nvGrpSpPr>
              <p:grpSpPr>
                <a:xfrm>
                  <a:off x="3657600" y="1219320"/>
                  <a:ext cx="1511280" cy="1306440"/>
                  <a:chOff x="3657600" y="1219320"/>
                  <a:chExt cx="1511280" cy="1306440"/>
                </a:xfrm>
              </p:grpSpPr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3657600" y="1219320"/>
                    <a:ext cx="977760" cy="1282320"/>
                    <a:chOff x="3657600" y="1219320"/>
                    <a:chExt cx="977760" cy="128232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4191120" y="1295280"/>
                      <a:ext cx="444240" cy="4446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H="1">
                      <a:off x="3885840" y="1676520"/>
                      <a:ext cx="374760" cy="3952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3657600" y="1981080"/>
                      <a:ext cx="4572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3657600" y="1219320"/>
                      <a:ext cx="5335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5" name=""/>
                  <p:cNvSpPr/>
                  <p:nvPr/>
                </p:nvSpPr>
                <p:spPr>
                  <a:xfrm>
                    <a:off x="4724280" y="2133720"/>
                    <a:ext cx="444600" cy="3920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4565520" y="1670040"/>
                    <a:ext cx="304920" cy="457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 flipH="1">
                  <a:off x="4495320" y="2514600"/>
                  <a:ext cx="30492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4876920" y="3886200"/>
                <a:ext cx="444240" cy="3920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641840" y="3270240"/>
                <a:ext cx="380880" cy="609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flipH="1">
              <a:off x="4723920" y="42670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480060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00600" y="4952880"/>
            <a:ext cx="2286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324480" y="1281240"/>
            <a:ext cx="2133720" cy="3506400"/>
            <a:chOff x="6324480" y="1281240"/>
            <a:chExt cx="2133720" cy="3506400"/>
          </a:xfrm>
        </p:grpSpPr>
        <p:sp>
          <p:nvSpPr>
            <p:cNvPr id="544" name=""/>
            <p:cNvSpPr/>
            <p:nvPr/>
          </p:nvSpPr>
          <p:spPr>
            <a:xfrm>
              <a:off x="7550280" y="3664080"/>
              <a:ext cx="444240" cy="392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315200" y="3048120"/>
              <a:ext cx="38088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5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01000" y="42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6324480" y="1281240"/>
              <a:ext cx="2057400" cy="1982520"/>
              <a:chOff x="6324480" y="1281240"/>
              <a:chExt cx="2057400" cy="198252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6324480" y="1281240"/>
                <a:ext cx="2057400" cy="1982520"/>
                <a:chOff x="6324480" y="1281240"/>
                <a:chExt cx="2057400" cy="19825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7473960" y="2063880"/>
                  <a:ext cx="444600" cy="392040"/>
                </a:xfrm>
                <a:prstGeom prst="ellipse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848720" y="2362320"/>
                  <a:ext cx="15228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92468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3" name=""/>
                <p:cNvGrpSpPr/>
                <p:nvPr/>
              </p:nvGrpSpPr>
              <p:grpSpPr>
                <a:xfrm>
                  <a:off x="6324480" y="1281240"/>
                  <a:ext cx="1054080" cy="534600"/>
                  <a:chOff x="6324480" y="1281240"/>
                  <a:chExt cx="1054080" cy="53460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6934320" y="1281240"/>
                    <a:ext cx="444240" cy="4442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6324480" y="129528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ff"/>
                        </a:solidFill>
                        <a:latin typeface="Arial Black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6" name=""/>
                <p:cNvSpPr/>
                <p:nvPr/>
              </p:nvSpPr>
              <p:spPr>
                <a:xfrm>
                  <a:off x="7315200" y="1600200"/>
                  <a:ext cx="304920" cy="45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7016760" y="2749680"/>
                <a:ext cx="444600" cy="39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7238520" y="2362320"/>
                <a:ext cx="30492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9" name=""/>
          <p:cNvSpPr/>
          <p:nvPr/>
        </p:nvSpPr>
        <p:spPr>
          <a:xfrm>
            <a:off x="457200" y="2514600"/>
            <a:ext cx="2743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backup 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3962520"/>
            <a:ext cx="2743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root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branch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15200" y="3352680"/>
            <a:ext cx="1011240" cy="930240"/>
          </a:xfrm>
          <a:custGeom>
            <a:avLst/>
            <a:gdLst/>
            <a:ahLst/>
            <a:rect l="l" t="t" r="r" b="b"/>
            <a:pathLst>
              <a:path w="637" h="586">
                <a:moveTo>
                  <a:pt x="585" y="0"/>
                </a:moveTo>
                <a:cubicBezTo>
                  <a:pt x="536" y="25"/>
                  <a:pt x="487" y="34"/>
                  <a:pt x="434" y="48"/>
                </a:cubicBezTo>
                <a:cubicBezTo>
                  <a:pt x="415" y="53"/>
                  <a:pt x="377" y="66"/>
                  <a:pt x="377" y="66"/>
                </a:cubicBezTo>
                <a:cubicBezTo>
                  <a:pt x="334" y="131"/>
                  <a:pt x="274" y="95"/>
                  <a:pt x="207" y="95"/>
                </a:cubicBezTo>
                <a:lnTo>
                  <a:pt x="38" y="131"/>
                </a:lnTo>
                <a:cubicBezTo>
                  <a:pt x="0" y="280"/>
                  <a:pt x="28" y="157"/>
                  <a:pt x="28" y="510"/>
                </a:cubicBezTo>
                <a:cubicBezTo>
                  <a:pt x="94" y="519"/>
                  <a:pt x="160" y="520"/>
                  <a:pt x="226" y="529"/>
                </a:cubicBezTo>
                <a:cubicBezTo>
                  <a:pt x="336" y="545"/>
                  <a:pt x="445" y="586"/>
                  <a:pt x="557" y="586"/>
                </a:cubicBezTo>
                <a:cubicBezTo>
                  <a:pt x="569" y="536"/>
                  <a:pt x="574" y="485"/>
                  <a:pt x="585" y="435"/>
                </a:cubicBezTo>
                <a:cubicBezTo>
                  <a:pt x="593" y="331"/>
                  <a:pt x="601" y="227"/>
                  <a:pt x="613" y="123"/>
                </a:cubicBezTo>
                <a:cubicBezTo>
                  <a:pt x="603" y="3"/>
                  <a:pt x="637" y="28"/>
                  <a:pt x="585" y="0"/>
                </a:cubicBezTo>
                <a:close/>
              </a:path>
            </a:pathLst>
          </a:custGeom>
          <a:noFill/>
          <a:ln w="7632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ckward Cleanup Pas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657600" y="1219320"/>
            <a:ext cx="1663560" cy="4566960"/>
            <a:chOff x="3657600" y="1219320"/>
            <a:chExt cx="1663560" cy="4566960"/>
          </a:xfrm>
        </p:grpSpPr>
        <p:sp>
          <p:nvSpPr>
            <p:cNvPr id="564" name=""/>
            <p:cNvSpPr/>
            <p:nvPr/>
          </p:nvSpPr>
          <p:spPr>
            <a:xfrm>
              <a:off x="4419720" y="4648320"/>
              <a:ext cx="444240" cy="392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4260600" y="494676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32360" y="5265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3657600" y="1219320"/>
              <a:ext cx="1663560" cy="3058920"/>
              <a:chOff x="3657600" y="1219320"/>
              <a:chExt cx="1663560" cy="305892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3657600" y="1219320"/>
                <a:ext cx="1511280" cy="2882520"/>
                <a:chOff x="3657600" y="1219320"/>
                <a:chExt cx="1511280" cy="28825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273560" y="2901960"/>
                  <a:ext cx="444600" cy="3920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>
                  <a:off x="4114440" y="3200400"/>
                  <a:ext cx="228600" cy="41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962520" y="3581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2" name=""/>
                <p:cNvGrpSpPr/>
                <p:nvPr/>
              </p:nvGrpSpPr>
              <p:grpSpPr>
                <a:xfrm>
                  <a:off x="3657600" y="1219320"/>
                  <a:ext cx="1511280" cy="1306440"/>
                  <a:chOff x="3657600" y="1219320"/>
                  <a:chExt cx="1511280" cy="1306440"/>
                </a:xfrm>
              </p:grpSpPr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3657600" y="1219320"/>
                    <a:ext cx="977760" cy="1282320"/>
                    <a:chOff x="3657600" y="1219320"/>
                    <a:chExt cx="977760" cy="12823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4191120" y="1295280"/>
                      <a:ext cx="444240" cy="4446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 flipH="1">
                      <a:off x="3885840" y="1676520"/>
                      <a:ext cx="374760" cy="3952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3657600" y="1981080"/>
                      <a:ext cx="4572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3657600" y="1219320"/>
                      <a:ext cx="5335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8" name=""/>
                  <p:cNvSpPr/>
                  <p:nvPr/>
                </p:nvSpPr>
                <p:spPr>
                  <a:xfrm>
                    <a:off x="4724280" y="2133720"/>
                    <a:ext cx="444600" cy="3920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4565520" y="1670040"/>
                    <a:ext cx="304920" cy="457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0" name=""/>
                <p:cNvSpPr/>
                <p:nvPr/>
              </p:nvSpPr>
              <p:spPr>
                <a:xfrm flipH="1">
                  <a:off x="4495320" y="2514600"/>
                  <a:ext cx="30492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4876920" y="3886200"/>
                <a:ext cx="444240" cy="3920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41840" y="3270240"/>
                <a:ext cx="380880" cy="609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 flipH="1">
              <a:off x="4723920" y="42670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80060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00600" y="4952880"/>
            <a:ext cx="2286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324480" y="1281240"/>
            <a:ext cx="2133720" cy="3506400"/>
            <a:chOff x="6324480" y="1281240"/>
            <a:chExt cx="2133720" cy="3506400"/>
          </a:xfrm>
        </p:grpSpPr>
        <p:sp>
          <p:nvSpPr>
            <p:cNvPr id="587" name=""/>
            <p:cNvSpPr/>
            <p:nvPr/>
          </p:nvSpPr>
          <p:spPr>
            <a:xfrm>
              <a:off x="7550280" y="3664080"/>
              <a:ext cx="444240" cy="392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315200" y="3048120"/>
              <a:ext cx="38088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924680" y="39625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001000" y="42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6324480" y="1281240"/>
              <a:ext cx="2057400" cy="1982520"/>
              <a:chOff x="6324480" y="1281240"/>
              <a:chExt cx="2057400" cy="198252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6324480" y="1281240"/>
                <a:ext cx="2057400" cy="1982520"/>
                <a:chOff x="6324480" y="1281240"/>
                <a:chExt cx="2057400" cy="19825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7473960" y="2063880"/>
                  <a:ext cx="444600" cy="392040"/>
                </a:xfrm>
                <a:prstGeom prst="ellipse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848720" y="2362320"/>
                  <a:ext cx="15228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924680" y="2743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6" name=""/>
                <p:cNvGrpSpPr/>
                <p:nvPr/>
              </p:nvGrpSpPr>
              <p:grpSpPr>
                <a:xfrm>
                  <a:off x="6324480" y="1281240"/>
                  <a:ext cx="1054080" cy="534600"/>
                  <a:chOff x="6324480" y="1281240"/>
                  <a:chExt cx="1054080" cy="5346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>
                    <a:off x="6934320" y="1281240"/>
                    <a:ext cx="444240" cy="4442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6324480" y="129528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ff"/>
                        </a:solidFill>
                        <a:latin typeface="Arial Black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9" name=""/>
                <p:cNvSpPr/>
                <p:nvPr/>
              </p:nvSpPr>
              <p:spPr>
                <a:xfrm>
                  <a:off x="7315200" y="1600200"/>
                  <a:ext cx="304920" cy="45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7016760" y="2749680"/>
                <a:ext cx="444600" cy="39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7238520" y="2362320"/>
                <a:ext cx="30492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"/>
          <p:cNvSpPr/>
          <p:nvPr/>
        </p:nvSpPr>
        <p:spPr>
          <a:xfrm>
            <a:off x="457200" y="2514600"/>
            <a:ext cx="2743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spli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heigh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ressed Binary Tr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branch node whose degre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it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eld to each branch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it#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s you which bit of the key to use to decide whether to move to the left or right subt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i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33520" y="1447920"/>
            <a:ext cx="8610120" cy="4501800"/>
            <a:chOff x="533520" y="1447920"/>
            <a:chExt cx="8610120" cy="4501800"/>
          </a:xfrm>
        </p:grpSpPr>
        <p:sp>
          <p:nvSpPr>
            <p:cNvPr id="607" name=""/>
            <p:cNvSpPr/>
            <p:nvPr/>
          </p:nvSpPr>
          <p:spPr>
            <a:xfrm>
              <a:off x="7010280" y="2438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51320" y="1746360"/>
              <a:ext cx="18288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5943240" y="2819520"/>
              <a:ext cx="1143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15200" y="2819520"/>
              <a:ext cx="9144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77120" y="2590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5438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00600" y="14479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666880" y="2438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76520" y="32767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86400" y="32767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117960" y="1746360"/>
              <a:ext cx="16761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974960" y="2813040"/>
              <a:ext cx="7617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364760" y="3651120"/>
              <a:ext cx="381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050920" y="365112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52880" y="42670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250960" y="372744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533520" y="4267080"/>
              <a:ext cx="1294920" cy="533160"/>
              <a:chOff x="533520" y="4267080"/>
              <a:chExt cx="1294920" cy="533160"/>
            </a:xfrm>
          </p:grpSpPr>
          <p:sp>
            <p:nvSpPr>
              <p:cNvPr id="624" name=""/>
              <p:cNvSpPr/>
              <p:nvPr/>
            </p:nvSpPr>
            <p:spPr>
              <a:xfrm>
                <a:off x="533520" y="434304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61760" y="42670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1828800" y="4343400"/>
              <a:ext cx="1294920" cy="533160"/>
              <a:chOff x="1828800" y="4343400"/>
              <a:chExt cx="1294920" cy="533160"/>
            </a:xfrm>
          </p:grpSpPr>
          <p:sp>
            <p:nvSpPr>
              <p:cNvPr id="627" name=""/>
              <p:cNvSpPr/>
              <p:nvPr/>
            </p:nvSpPr>
            <p:spPr>
              <a:xfrm>
                <a:off x="1828800" y="441936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05704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 flipH="1">
              <a:off x="4641840" y="464184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327640" y="464184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3809880" y="5257800"/>
              <a:ext cx="1295640" cy="533160"/>
              <a:chOff x="3809880" y="5257800"/>
              <a:chExt cx="1295640" cy="533160"/>
            </a:xfrm>
          </p:grpSpPr>
          <p:sp>
            <p:nvSpPr>
              <p:cNvPr id="632" name=""/>
              <p:cNvSpPr/>
              <p:nvPr/>
            </p:nvSpPr>
            <p:spPr>
              <a:xfrm>
                <a:off x="3809880" y="533376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038480" y="525780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5105520" y="5334120"/>
              <a:ext cx="1294920" cy="533160"/>
              <a:chOff x="5105520" y="5334120"/>
              <a:chExt cx="1294920" cy="533160"/>
            </a:xfrm>
          </p:grpSpPr>
          <p:sp>
            <p:nvSpPr>
              <p:cNvPr id="635" name=""/>
              <p:cNvSpPr/>
              <p:nvPr/>
            </p:nvSpPr>
            <p:spPr>
              <a:xfrm>
                <a:off x="5105520" y="541008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333760" y="5334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3886200" y="1600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0574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4300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956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552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19920" y="1676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864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20968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229600" y="3359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69608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6553080" y="5340240"/>
              <a:ext cx="1295640" cy="533160"/>
              <a:chOff x="6553080" y="5340240"/>
              <a:chExt cx="1295640" cy="533160"/>
            </a:xfrm>
          </p:grpSpPr>
          <p:sp>
            <p:nvSpPr>
              <p:cNvPr id="648" name=""/>
              <p:cNvSpPr/>
              <p:nvPr/>
            </p:nvSpPr>
            <p:spPr>
              <a:xfrm>
                <a:off x="6553080" y="541620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781680" y="534024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7848720" y="5416560"/>
              <a:ext cx="1294920" cy="533160"/>
              <a:chOff x="7848720" y="5416560"/>
              <a:chExt cx="1294920" cy="533160"/>
            </a:xfrm>
          </p:grpSpPr>
          <p:sp>
            <p:nvSpPr>
              <p:cNvPr id="651" name=""/>
              <p:cNvSpPr/>
              <p:nvPr/>
            </p:nvSpPr>
            <p:spPr>
              <a:xfrm>
                <a:off x="7848720" y="549252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076960" y="54165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7238880" y="4724280"/>
              <a:ext cx="527040" cy="685800"/>
              <a:chOff x="7238880" y="4724280"/>
              <a:chExt cx="527040" cy="685800"/>
            </a:xfrm>
          </p:grpSpPr>
          <p:sp>
            <p:nvSpPr>
              <p:cNvPr id="654" name=""/>
              <p:cNvSpPr/>
              <p:nvPr/>
            </p:nvSpPr>
            <p:spPr>
              <a:xfrm flipH="1">
                <a:off x="7385040" y="472428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23888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7848720" y="3740040"/>
              <a:ext cx="526680" cy="603360"/>
              <a:chOff x="7848720" y="3740040"/>
              <a:chExt cx="526680" cy="603360"/>
            </a:xfrm>
          </p:grpSpPr>
          <p:sp>
            <p:nvSpPr>
              <p:cNvPr id="657" name=""/>
              <p:cNvSpPr/>
              <p:nvPr/>
            </p:nvSpPr>
            <p:spPr>
              <a:xfrm flipH="1">
                <a:off x="7994160" y="3809880"/>
                <a:ext cx="38124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848720" y="37400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8070840" y="4724280"/>
              <a:ext cx="615960" cy="762120"/>
              <a:chOff x="8070840" y="4724280"/>
              <a:chExt cx="615960" cy="762120"/>
            </a:xfrm>
          </p:grpSpPr>
          <p:sp>
            <p:nvSpPr>
              <p:cNvPr id="660" name=""/>
              <p:cNvSpPr/>
              <p:nvPr/>
            </p:nvSpPr>
            <p:spPr>
              <a:xfrm>
                <a:off x="8070840" y="472428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22960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2" name=""/>
          <p:cNvSpPr/>
          <p:nvPr/>
        </p:nvSpPr>
        <p:spPr>
          <a:xfrm>
            <a:off x="2400480" y="1959120"/>
            <a:ext cx="1307880" cy="1531800"/>
          </a:xfrm>
          <a:custGeom>
            <a:avLst/>
            <a:gdLst/>
            <a:ahLst/>
            <a:rect l="l" t="t" r="r" b="b"/>
            <a:pathLst>
              <a:path w="824" h="965">
                <a:moveTo>
                  <a:pt x="672" y="854"/>
                </a:moveTo>
                <a:cubicBezTo>
                  <a:pt x="720" y="830"/>
                  <a:pt x="824" y="835"/>
                  <a:pt x="816" y="782"/>
                </a:cubicBezTo>
                <a:cubicBezTo>
                  <a:pt x="800" y="669"/>
                  <a:pt x="812" y="525"/>
                  <a:pt x="744" y="434"/>
                </a:cubicBezTo>
                <a:cubicBezTo>
                  <a:pt x="716" y="349"/>
                  <a:pt x="749" y="457"/>
                  <a:pt x="720" y="302"/>
                </a:cubicBezTo>
                <a:cubicBezTo>
                  <a:pt x="706" y="227"/>
                  <a:pt x="676" y="156"/>
                  <a:pt x="648" y="86"/>
                </a:cubicBezTo>
                <a:cubicBezTo>
                  <a:pt x="621" y="18"/>
                  <a:pt x="629" y="40"/>
                  <a:pt x="552" y="14"/>
                </a:cubicBezTo>
                <a:cubicBezTo>
                  <a:pt x="540" y="10"/>
                  <a:pt x="516" y="2"/>
                  <a:pt x="516" y="2"/>
                </a:cubicBezTo>
                <a:cubicBezTo>
                  <a:pt x="452" y="6"/>
                  <a:pt x="388" y="14"/>
                  <a:pt x="324" y="14"/>
                </a:cubicBezTo>
                <a:cubicBezTo>
                  <a:pt x="308" y="14"/>
                  <a:pt x="292" y="0"/>
                  <a:pt x="276" y="2"/>
                </a:cubicBezTo>
                <a:cubicBezTo>
                  <a:pt x="211" y="12"/>
                  <a:pt x="84" y="50"/>
                  <a:pt x="84" y="50"/>
                </a:cubicBezTo>
                <a:cubicBezTo>
                  <a:pt x="76" y="66"/>
                  <a:pt x="73" y="85"/>
                  <a:pt x="60" y="98"/>
                </a:cubicBezTo>
                <a:cubicBezTo>
                  <a:pt x="51" y="107"/>
                  <a:pt x="33" y="101"/>
                  <a:pt x="24" y="110"/>
                </a:cubicBezTo>
                <a:cubicBezTo>
                  <a:pt x="11" y="123"/>
                  <a:pt x="8" y="142"/>
                  <a:pt x="0" y="158"/>
                </a:cubicBezTo>
                <a:cubicBezTo>
                  <a:pt x="26" y="235"/>
                  <a:pt x="38" y="306"/>
                  <a:pt x="48" y="386"/>
                </a:cubicBezTo>
                <a:cubicBezTo>
                  <a:pt x="41" y="442"/>
                  <a:pt x="20" y="498"/>
                  <a:pt x="24" y="554"/>
                </a:cubicBezTo>
                <a:cubicBezTo>
                  <a:pt x="26" y="587"/>
                  <a:pt x="44" y="617"/>
                  <a:pt x="48" y="650"/>
                </a:cubicBezTo>
                <a:cubicBezTo>
                  <a:pt x="52" y="682"/>
                  <a:pt x="33" y="728"/>
                  <a:pt x="60" y="746"/>
                </a:cubicBezTo>
                <a:cubicBezTo>
                  <a:pt x="176" y="823"/>
                  <a:pt x="313" y="864"/>
                  <a:pt x="444" y="914"/>
                </a:cubicBezTo>
                <a:cubicBezTo>
                  <a:pt x="482" y="929"/>
                  <a:pt x="524" y="930"/>
                  <a:pt x="564" y="938"/>
                </a:cubicBezTo>
                <a:cubicBezTo>
                  <a:pt x="576" y="946"/>
                  <a:pt x="586" y="965"/>
                  <a:pt x="600" y="962"/>
                </a:cubicBezTo>
                <a:cubicBezTo>
                  <a:pt x="614" y="959"/>
                  <a:pt x="615" y="937"/>
                  <a:pt x="624" y="926"/>
                </a:cubicBezTo>
                <a:cubicBezTo>
                  <a:pt x="635" y="913"/>
                  <a:pt x="645" y="898"/>
                  <a:pt x="660" y="890"/>
                </a:cubicBezTo>
                <a:cubicBezTo>
                  <a:pt x="724" y="854"/>
                  <a:pt x="778" y="875"/>
                  <a:pt x="672" y="854"/>
                </a:cubicBez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181480" y="2819520"/>
            <a:ext cx="1308240" cy="1531800"/>
          </a:xfrm>
          <a:custGeom>
            <a:avLst/>
            <a:gdLst/>
            <a:ahLst/>
            <a:rect l="l" t="t" r="r" b="b"/>
            <a:pathLst>
              <a:path w="824" h="965">
                <a:moveTo>
                  <a:pt x="672" y="854"/>
                </a:moveTo>
                <a:cubicBezTo>
                  <a:pt x="720" y="830"/>
                  <a:pt x="824" y="835"/>
                  <a:pt x="816" y="782"/>
                </a:cubicBezTo>
                <a:cubicBezTo>
                  <a:pt x="800" y="669"/>
                  <a:pt x="812" y="525"/>
                  <a:pt x="744" y="434"/>
                </a:cubicBezTo>
                <a:cubicBezTo>
                  <a:pt x="716" y="349"/>
                  <a:pt x="749" y="457"/>
                  <a:pt x="720" y="302"/>
                </a:cubicBezTo>
                <a:cubicBezTo>
                  <a:pt x="706" y="227"/>
                  <a:pt x="676" y="156"/>
                  <a:pt x="648" y="86"/>
                </a:cubicBezTo>
                <a:cubicBezTo>
                  <a:pt x="621" y="18"/>
                  <a:pt x="629" y="40"/>
                  <a:pt x="552" y="14"/>
                </a:cubicBezTo>
                <a:cubicBezTo>
                  <a:pt x="540" y="10"/>
                  <a:pt x="516" y="2"/>
                  <a:pt x="516" y="2"/>
                </a:cubicBezTo>
                <a:cubicBezTo>
                  <a:pt x="452" y="6"/>
                  <a:pt x="388" y="14"/>
                  <a:pt x="324" y="14"/>
                </a:cubicBezTo>
                <a:cubicBezTo>
                  <a:pt x="308" y="14"/>
                  <a:pt x="292" y="0"/>
                  <a:pt x="276" y="2"/>
                </a:cubicBezTo>
                <a:cubicBezTo>
                  <a:pt x="211" y="12"/>
                  <a:pt x="84" y="50"/>
                  <a:pt x="84" y="50"/>
                </a:cubicBezTo>
                <a:cubicBezTo>
                  <a:pt x="76" y="66"/>
                  <a:pt x="73" y="85"/>
                  <a:pt x="60" y="98"/>
                </a:cubicBezTo>
                <a:cubicBezTo>
                  <a:pt x="51" y="107"/>
                  <a:pt x="33" y="101"/>
                  <a:pt x="24" y="110"/>
                </a:cubicBezTo>
                <a:cubicBezTo>
                  <a:pt x="11" y="123"/>
                  <a:pt x="8" y="142"/>
                  <a:pt x="0" y="158"/>
                </a:cubicBezTo>
                <a:cubicBezTo>
                  <a:pt x="26" y="235"/>
                  <a:pt x="38" y="306"/>
                  <a:pt x="48" y="386"/>
                </a:cubicBezTo>
                <a:cubicBezTo>
                  <a:pt x="41" y="442"/>
                  <a:pt x="20" y="498"/>
                  <a:pt x="24" y="554"/>
                </a:cubicBezTo>
                <a:cubicBezTo>
                  <a:pt x="26" y="587"/>
                  <a:pt x="44" y="617"/>
                  <a:pt x="48" y="650"/>
                </a:cubicBezTo>
                <a:cubicBezTo>
                  <a:pt x="52" y="682"/>
                  <a:pt x="33" y="728"/>
                  <a:pt x="60" y="746"/>
                </a:cubicBezTo>
                <a:cubicBezTo>
                  <a:pt x="176" y="823"/>
                  <a:pt x="313" y="864"/>
                  <a:pt x="444" y="914"/>
                </a:cubicBezTo>
                <a:cubicBezTo>
                  <a:pt x="482" y="929"/>
                  <a:pt x="524" y="930"/>
                  <a:pt x="564" y="938"/>
                </a:cubicBezTo>
                <a:cubicBezTo>
                  <a:pt x="576" y="946"/>
                  <a:pt x="586" y="965"/>
                  <a:pt x="600" y="962"/>
                </a:cubicBezTo>
                <a:cubicBezTo>
                  <a:pt x="614" y="959"/>
                  <a:pt x="615" y="937"/>
                  <a:pt x="624" y="926"/>
                </a:cubicBezTo>
                <a:cubicBezTo>
                  <a:pt x="635" y="913"/>
                  <a:pt x="645" y="898"/>
                  <a:pt x="660" y="890"/>
                </a:cubicBezTo>
                <a:cubicBezTo>
                  <a:pt x="724" y="854"/>
                  <a:pt x="778" y="875"/>
                  <a:pt x="672" y="854"/>
                </a:cubicBez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696080" y="2743200"/>
            <a:ext cx="1308240" cy="1531800"/>
          </a:xfrm>
          <a:custGeom>
            <a:avLst/>
            <a:gdLst/>
            <a:ahLst/>
            <a:rect l="l" t="t" r="r" b="b"/>
            <a:pathLst>
              <a:path w="824" h="965">
                <a:moveTo>
                  <a:pt x="672" y="854"/>
                </a:moveTo>
                <a:cubicBezTo>
                  <a:pt x="720" y="830"/>
                  <a:pt x="824" y="835"/>
                  <a:pt x="816" y="782"/>
                </a:cubicBezTo>
                <a:cubicBezTo>
                  <a:pt x="800" y="669"/>
                  <a:pt x="812" y="525"/>
                  <a:pt x="744" y="434"/>
                </a:cubicBezTo>
                <a:cubicBezTo>
                  <a:pt x="716" y="349"/>
                  <a:pt x="749" y="457"/>
                  <a:pt x="720" y="302"/>
                </a:cubicBezTo>
                <a:cubicBezTo>
                  <a:pt x="706" y="227"/>
                  <a:pt x="676" y="156"/>
                  <a:pt x="648" y="86"/>
                </a:cubicBezTo>
                <a:cubicBezTo>
                  <a:pt x="621" y="18"/>
                  <a:pt x="629" y="40"/>
                  <a:pt x="552" y="14"/>
                </a:cubicBezTo>
                <a:cubicBezTo>
                  <a:pt x="540" y="10"/>
                  <a:pt x="516" y="2"/>
                  <a:pt x="516" y="2"/>
                </a:cubicBezTo>
                <a:cubicBezTo>
                  <a:pt x="452" y="6"/>
                  <a:pt x="388" y="14"/>
                  <a:pt x="324" y="14"/>
                </a:cubicBezTo>
                <a:cubicBezTo>
                  <a:pt x="308" y="14"/>
                  <a:pt x="292" y="0"/>
                  <a:pt x="276" y="2"/>
                </a:cubicBezTo>
                <a:cubicBezTo>
                  <a:pt x="211" y="12"/>
                  <a:pt x="84" y="50"/>
                  <a:pt x="84" y="50"/>
                </a:cubicBezTo>
                <a:cubicBezTo>
                  <a:pt x="76" y="66"/>
                  <a:pt x="73" y="85"/>
                  <a:pt x="60" y="98"/>
                </a:cubicBezTo>
                <a:cubicBezTo>
                  <a:pt x="51" y="107"/>
                  <a:pt x="33" y="101"/>
                  <a:pt x="24" y="110"/>
                </a:cubicBezTo>
                <a:cubicBezTo>
                  <a:pt x="11" y="123"/>
                  <a:pt x="8" y="142"/>
                  <a:pt x="0" y="158"/>
                </a:cubicBezTo>
                <a:cubicBezTo>
                  <a:pt x="26" y="235"/>
                  <a:pt x="38" y="306"/>
                  <a:pt x="48" y="386"/>
                </a:cubicBezTo>
                <a:cubicBezTo>
                  <a:pt x="41" y="442"/>
                  <a:pt x="20" y="498"/>
                  <a:pt x="24" y="554"/>
                </a:cubicBezTo>
                <a:cubicBezTo>
                  <a:pt x="26" y="587"/>
                  <a:pt x="44" y="617"/>
                  <a:pt x="48" y="650"/>
                </a:cubicBezTo>
                <a:cubicBezTo>
                  <a:pt x="52" y="682"/>
                  <a:pt x="33" y="728"/>
                  <a:pt x="60" y="746"/>
                </a:cubicBezTo>
                <a:cubicBezTo>
                  <a:pt x="176" y="823"/>
                  <a:pt x="313" y="864"/>
                  <a:pt x="444" y="914"/>
                </a:cubicBezTo>
                <a:cubicBezTo>
                  <a:pt x="482" y="929"/>
                  <a:pt x="524" y="930"/>
                  <a:pt x="564" y="938"/>
                </a:cubicBezTo>
                <a:cubicBezTo>
                  <a:pt x="576" y="946"/>
                  <a:pt x="586" y="965"/>
                  <a:pt x="600" y="962"/>
                </a:cubicBezTo>
                <a:cubicBezTo>
                  <a:pt x="614" y="959"/>
                  <a:pt x="615" y="937"/>
                  <a:pt x="624" y="926"/>
                </a:cubicBezTo>
                <a:cubicBezTo>
                  <a:pt x="635" y="913"/>
                  <a:pt x="645" y="898"/>
                  <a:pt x="660" y="890"/>
                </a:cubicBezTo>
                <a:cubicBezTo>
                  <a:pt x="724" y="854"/>
                  <a:pt x="778" y="875"/>
                  <a:pt x="672" y="854"/>
                </a:cubicBez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95680" y="10666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6292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95280" y="2971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95680" y="4114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315200" y="4191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6095880"/>
            <a:ext cx="8076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it# </a:t>
            </a: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field shown in black outside  branch n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ressed Binary Tri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705720" y="289548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76920" y="1828800"/>
            <a:ext cx="198108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5105520" y="3276720"/>
            <a:ext cx="167616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10280" y="3276720"/>
            <a:ext cx="99072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63868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43800" y="342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19720" y="152388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76520" y="259092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1981080" y="1828800"/>
            <a:ext cx="24386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1364760" y="2965320"/>
            <a:ext cx="3812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050920" y="296532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52880" y="42670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520" y="3657600"/>
            <a:ext cx="121896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62120" y="3581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28800" y="3733920"/>
            <a:ext cx="121932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57400" y="36576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641840" y="464184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27640" y="464184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9880" y="5334120"/>
            <a:ext cx="121932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38480" y="52578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105520" y="5410080"/>
            <a:ext cx="121896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334120" y="5334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040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3000" y="2971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956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1992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8640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09680" y="2971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9608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553080" y="5416560"/>
            <a:ext cx="121932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781680" y="534024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848720" y="5492880"/>
            <a:ext cx="121896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077320" y="54165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7385040" y="472428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238880" y="480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070840" y="472428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229600" y="480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1143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0" y="2438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95280" y="2286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495680" y="4114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15200" y="4191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04920" y="6095880"/>
            <a:ext cx="7772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it# </a:t>
            </a: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field shown in black outside branch n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orward Pas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you are at nod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is at level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input t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505320" y="2362320"/>
            <a:ext cx="1523520" cy="1800360"/>
            <a:chOff x="3505320" y="2362320"/>
            <a:chExt cx="1523520" cy="1800360"/>
          </a:xfrm>
        </p:grpSpPr>
        <p:sp>
          <p:nvSpPr>
            <p:cNvPr id="53" name=""/>
            <p:cNvSpPr/>
            <p:nvPr/>
          </p:nvSpPr>
          <p:spPr>
            <a:xfrm>
              <a:off x="4044960" y="259704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733560" y="2971800"/>
              <a:ext cx="38088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05320" y="350496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57600" y="2362320"/>
              <a:ext cx="83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19360" y="2971800"/>
              <a:ext cx="304560" cy="76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2000" y="358128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838080" y="4267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bi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ove to root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5035680"/>
            <a:ext cx="984240" cy="1489320"/>
            <a:chOff x="609480" y="5035680"/>
            <a:chExt cx="984240" cy="1489320"/>
          </a:xfrm>
        </p:grpSpPr>
        <p:sp>
          <p:nvSpPr>
            <p:cNvPr id="61" name=""/>
            <p:cNvSpPr/>
            <p:nvPr/>
          </p:nvSpPr>
          <p:spPr>
            <a:xfrm>
              <a:off x="1149480" y="5035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837720" y="5410080"/>
              <a:ext cx="381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5943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447920" y="5638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lev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56386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638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leve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518148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ressed Binary Tri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533520" y="1143000"/>
            <a:ext cx="8610120" cy="4806720"/>
            <a:chOff x="533520" y="1143000"/>
            <a:chExt cx="8610120" cy="4806720"/>
          </a:xfrm>
        </p:grpSpPr>
        <p:sp>
          <p:nvSpPr>
            <p:cNvPr id="717" name=""/>
            <p:cNvSpPr/>
            <p:nvPr/>
          </p:nvSpPr>
          <p:spPr>
            <a:xfrm>
              <a:off x="6705720" y="2895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76920" y="1828800"/>
              <a:ext cx="198108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105520" y="3276720"/>
              <a:ext cx="167616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10280" y="3276720"/>
              <a:ext cx="99072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638680" y="33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543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419720" y="15238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76520" y="25909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1981080" y="1828800"/>
              <a:ext cx="243864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1364760" y="2965320"/>
              <a:ext cx="381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50920" y="296532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952880" y="42670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533520" y="3581280"/>
              <a:ext cx="1294920" cy="533160"/>
              <a:chOff x="533520" y="3581280"/>
              <a:chExt cx="1294920" cy="533160"/>
            </a:xfrm>
          </p:grpSpPr>
          <p:sp>
            <p:nvSpPr>
              <p:cNvPr id="730" name=""/>
              <p:cNvSpPr/>
              <p:nvPr/>
            </p:nvSpPr>
            <p:spPr>
              <a:xfrm>
                <a:off x="533520" y="365724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1760" y="35812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1828800" y="3657600"/>
              <a:ext cx="1294920" cy="533160"/>
              <a:chOff x="1828800" y="3657600"/>
              <a:chExt cx="1294920" cy="533160"/>
            </a:xfrm>
          </p:grpSpPr>
          <p:sp>
            <p:nvSpPr>
              <p:cNvPr id="733" name=""/>
              <p:cNvSpPr/>
              <p:nvPr/>
            </p:nvSpPr>
            <p:spPr>
              <a:xfrm>
                <a:off x="1828800" y="373356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057040" y="36576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 flipH="1">
              <a:off x="4641840" y="464184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27640" y="464184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3809880" y="5257800"/>
              <a:ext cx="1295640" cy="533160"/>
              <a:chOff x="3809880" y="5257800"/>
              <a:chExt cx="1295640" cy="533160"/>
            </a:xfrm>
          </p:grpSpPr>
          <p:sp>
            <p:nvSpPr>
              <p:cNvPr id="738" name=""/>
              <p:cNvSpPr/>
              <p:nvPr/>
            </p:nvSpPr>
            <p:spPr>
              <a:xfrm>
                <a:off x="3809880" y="533376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038480" y="525780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5105520" y="5334120"/>
              <a:ext cx="1294920" cy="533160"/>
              <a:chOff x="5105520" y="5334120"/>
              <a:chExt cx="1294920" cy="533160"/>
            </a:xfrm>
          </p:grpSpPr>
          <p:sp>
            <p:nvSpPr>
              <p:cNvPr id="741" name=""/>
              <p:cNvSpPr/>
              <p:nvPr/>
            </p:nvSpPr>
            <p:spPr>
              <a:xfrm>
                <a:off x="5105520" y="541008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333760" y="5334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3200400" y="12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43000" y="2971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956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19920" y="1676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4864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209680" y="2971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9608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6553080" y="5340240"/>
              <a:ext cx="1295640" cy="533160"/>
              <a:chOff x="6553080" y="5340240"/>
              <a:chExt cx="1295640" cy="533160"/>
            </a:xfrm>
          </p:grpSpPr>
          <p:sp>
            <p:nvSpPr>
              <p:cNvPr id="751" name=""/>
              <p:cNvSpPr/>
              <p:nvPr/>
            </p:nvSpPr>
            <p:spPr>
              <a:xfrm>
                <a:off x="6553080" y="541620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781680" y="534024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7848720" y="5416560"/>
              <a:ext cx="1294920" cy="533160"/>
              <a:chOff x="7848720" y="5416560"/>
              <a:chExt cx="1294920" cy="533160"/>
            </a:xfrm>
          </p:grpSpPr>
          <p:sp>
            <p:nvSpPr>
              <p:cNvPr id="754" name=""/>
              <p:cNvSpPr/>
              <p:nvPr/>
            </p:nvSpPr>
            <p:spPr>
              <a:xfrm>
                <a:off x="7848720" y="549252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076960" y="54165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7238880" y="4724280"/>
              <a:ext cx="527040" cy="685800"/>
              <a:chOff x="7238880" y="4724280"/>
              <a:chExt cx="527040" cy="685800"/>
            </a:xfrm>
          </p:grpSpPr>
          <p:sp>
            <p:nvSpPr>
              <p:cNvPr id="757" name=""/>
              <p:cNvSpPr/>
              <p:nvPr/>
            </p:nvSpPr>
            <p:spPr>
              <a:xfrm flipH="1">
                <a:off x="7385040" y="472428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23888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8070840" y="4724280"/>
              <a:ext cx="615960" cy="762120"/>
              <a:chOff x="8070840" y="4724280"/>
              <a:chExt cx="615960" cy="762120"/>
            </a:xfrm>
          </p:grpSpPr>
          <p:sp>
            <p:nvSpPr>
              <p:cNvPr id="760" name=""/>
              <p:cNvSpPr/>
              <p:nvPr/>
            </p:nvSpPr>
            <p:spPr>
              <a:xfrm>
                <a:off x="8070840" y="472428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22960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4114800" y="1143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58000" y="2438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295280" y="2286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495680" y="41148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15200" y="41911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04920" y="6095880"/>
            <a:ext cx="4038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branch node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n –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33520" y="1143000"/>
            <a:ext cx="8610120" cy="4806720"/>
            <a:chOff x="533520" y="1143000"/>
            <a:chExt cx="8610120" cy="4806720"/>
          </a:xfrm>
        </p:grpSpPr>
        <p:sp>
          <p:nvSpPr>
            <p:cNvPr id="770" name=""/>
            <p:cNvSpPr/>
            <p:nvPr/>
          </p:nvSpPr>
          <p:spPr>
            <a:xfrm>
              <a:off x="6705720" y="2895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76920" y="1828800"/>
              <a:ext cx="198108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5105520" y="3276720"/>
              <a:ext cx="167616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10280" y="3276720"/>
              <a:ext cx="99072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38680" y="33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43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419720" y="15238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676520" y="25909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1981080" y="1828800"/>
              <a:ext cx="243864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1364760" y="2965320"/>
              <a:ext cx="381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050920" y="296532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952880" y="42670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533520" y="3581280"/>
              <a:ext cx="1294920" cy="533160"/>
              <a:chOff x="533520" y="3581280"/>
              <a:chExt cx="1294920" cy="533160"/>
            </a:xfrm>
          </p:grpSpPr>
          <p:sp>
            <p:nvSpPr>
              <p:cNvPr id="783" name=""/>
              <p:cNvSpPr/>
              <p:nvPr/>
            </p:nvSpPr>
            <p:spPr>
              <a:xfrm>
                <a:off x="533520" y="365724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1760" y="35812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1828800" y="3657600"/>
              <a:ext cx="1294920" cy="533160"/>
              <a:chOff x="1828800" y="3657600"/>
              <a:chExt cx="1294920" cy="533160"/>
            </a:xfrm>
          </p:grpSpPr>
          <p:sp>
            <p:nvSpPr>
              <p:cNvPr id="786" name=""/>
              <p:cNvSpPr/>
              <p:nvPr/>
            </p:nvSpPr>
            <p:spPr>
              <a:xfrm>
                <a:off x="1828800" y="373356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057040" y="36576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 flipH="1">
              <a:off x="4641840" y="464184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27640" y="464184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3809880" y="5257800"/>
              <a:ext cx="1295640" cy="533160"/>
              <a:chOff x="3809880" y="5257800"/>
              <a:chExt cx="1295640" cy="533160"/>
            </a:xfrm>
          </p:grpSpPr>
          <p:sp>
            <p:nvSpPr>
              <p:cNvPr id="791" name=""/>
              <p:cNvSpPr/>
              <p:nvPr/>
            </p:nvSpPr>
            <p:spPr>
              <a:xfrm>
                <a:off x="3809880" y="533376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038480" y="525780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5105520" y="5334120"/>
              <a:ext cx="1294920" cy="533160"/>
              <a:chOff x="5105520" y="5334120"/>
              <a:chExt cx="1294920" cy="533160"/>
            </a:xfrm>
          </p:grpSpPr>
          <p:sp>
            <p:nvSpPr>
              <p:cNvPr id="794" name=""/>
              <p:cNvSpPr/>
              <p:nvPr/>
            </p:nvSpPr>
            <p:spPr>
              <a:xfrm>
                <a:off x="5105520" y="541008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333760" y="5334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3200400" y="12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43000" y="2971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956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19920" y="1676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864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209680" y="2971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69608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6553080" y="5340240"/>
              <a:ext cx="1295640" cy="533160"/>
              <a:chOff x="6553080" y="5340240"/>
              <a:chExt cx="1295640" cy="533160"/>
            </a:xfrm>
          </p:grpSpPr>
          <p:sp>
            <p:nvSpPr>
              <p:cNvPr id="804" name=""/>
              <p:cNvSpPr/>
              <p:nvPr/>
            </p:nvSpPr>
            <p:spPr>
              <a:xfrm>
                <a:off x="6553080" y="541620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781680" y="534024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7848720" y="5416560"/>
              <a:ext cx="1294920" cy="533160"/>
              <a:chOff x="7848720" y="5416560"/>
              <a:chExt cx="1294920" cy="533160"/>
            </a:xfrm>
          </p:grpSpPr>
          <p:sp>
            <p:nvSpPr>
              <p:cNvPr id="807" name=""/>
              <p:cNvSpPr/>
              <p:nvPr/>
            </p:nvSpPr>
            <p:spPr>
              <a:xfrm>
                <a:off x="7848720" y="549252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076960" y="54165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7238880" y="4724280"/>
              <a:ext cx="527040" cy="685800"/>
              <a:chOff x="7238880" y="4724280"/>
              <a:chExt cx="527040" cy="685800"/>
            </a:xfrm>
          </p:grpSpPr>
          <p:sp>
            <p:nvSpPr>
              <p:cNvPr id="810" name=""/>
              <p:cNvSpPr/>
              <p:nvPr/>
            </p:nvSpPr>
            <p:spPr>
              <a:xfrm flipH="1">
                <a:off x="7385040" y="472428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23888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8070840" y="4724280"/>
              <a:ext cx="615960" cy="762120"/>
              <a:chOff x="8070840" y="4724280"/>
              <a:chExt cx="615960" cy="762120"/>
            </a:xfrm>
          </p:grpSpPr>
          <p:sp>
            <p:nvSpPr>
              <p:cNvPr id="813" name=""/>
              <p:cNvSpPr/>
              <p:nvPr/>
            </p:nvSpPr>
            <p:spPr>
              <a:xfrm>
                <a:off x="8070840" y="472428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22960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114800" y="1143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58000" y="2438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295280" y="2286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495680" y="41148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315200" y="41911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304920" y="6095880"/>
            <a:ext cx="2743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00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752480" y="3581280"/>
            <a:ext cx="1828800" cy="1013040"/>
          </a:xfrm>
          <a:custGeom>
            <a:avLst/>
            <a:gdLst/>
            <a:ahLst/>
            <a:rect l="l" t="t" r="r" b="b"/>
            <a:pathLst>
              <a:path w="824" h="965">
                <a:moveTo>
                  <a:pt x="672" y="854"/>
                </a:moveTo>
                <a:cubicBezTo>
                  <a:pt x="720" y="830"/>
                  <a:pt x="824" y="835"/>
                  <a:pt x="816" y="782"/>
                </a:cubicBezTo>
                <a:cubicBezTo>
                  <a:pt x="800" y="669"/>
                  <a:pt x="812" y="525"/>
                  <a:pt x="744" y="434"/>
                </a:cubicBezTo>
                <a:cubicBezTo>
                  <a:pt x="716" y="349"/>
                  <a:pt x="749" y="457"/>
                  <a:pt x="720" y="302"/>
                </a:cubicBezTo>
                <a:cubicBezTo>
                  <a:pt x="706" y="227"/>
                  <a:pt x="676" y="156"/>
                  <a:pt x="648" y="86"/>
                </a:cubicBezTo>
                <a:cubicBezTo>
                  <a:pt x="621" y="18"/>
                  <a:pt x="629" y="40"/>
                  <a:pt x="552" y="14"/>
                </a:cubicBezTo>
                <a:cubicBezTo>
                  <a:pt x="540" y="10"/>
                  <a:pt x="516" y="2"/>
                  <a:pt x="516" y="2"/>
                </a:cubicBezTo>
                <a:cubicBezTo>
                  <a:pt x="452" y="6"/>
                  <a:pt x="388" y="14"/>
                  <a:pt x="324" y="14"/>
                </a:cubicBezTo>
                <a:cubicBezTo>
                  <a:pt x="308" y="14"/>
                  <a:pt x="292" y="0"/>
                  <a:pt x="276" y="2"/>
                </a:cubicBezTo>
                <a:cubicBezTo>
                  <a:pt x="211" y="12"/>
                  <a:pt x="84" y="50"/>
                  <a:pt x="84" y="50"/>
                </a:cubicBezTo>
                <a:cubicBezTo>
                  <a:pt x="76" y="66"/>
                  <a:pt x="73" y="85"/>
                  <a:pt x="60" y="98"/>
                </a:cubicBezTo>
                <a:cubicBezTo>
                  <a:pt x="51" y="107"/>
                  <a:pt x="33" y="101"/>
                  <a:pt x="24" y="110"/>
                </a:cubicBezTo>
                <a:cubicBezTo>
                  <a:pt x="11" y="123"/>
                  <a:pt x="8" y="142"/>
                  <a:pt x="0" y="158"/>
                </a:cubicBezTo>
                <a:cubicBezTo>
                  <a:pt x="26" y="235"/>
                  <a:pt x="38" y="306"/>
                  <a:pt x="48" y="386"/>
                </a:cubicBezTo>
                <a:cubicBezTo>
                  <a:pt x="41" y="442"/>
                  <a:pt x="20" y="498"/>
                  <a:pt x="24" y="554"/>
                </a:cubicBezTo>
                <a:cubicBezTo>
                  <a:pt x="26" y="587"/>
                  <a:pt x="44" y="617"/>
                  <a:pt x="48" y="650"/>
                </a:cubicBezTo>
                <a:cubicBezTo>
                  <a:pt x="52" y="682"/>
                  <a:pt x="33" y="728"/>
                  <a:pt x="60" y="746"/>
                </a:cubicBezTo>
                <a:cubicBezTo>
                  <a:pt x="176" y="823"/>
                  <a:pt x="313" y="864"/>
                  <a:pt x="444" y="914"/>
                </a:cubicBezTo>
                <a:cubicBezTo>
                  <a:pt x="482" y="929"/>
                  <a:pt x="524" y="930"/>
                  <a:pt x="564" y="938"/>
                </a:cubicBezTo>
                <a:cubicBezTo>
                  <a:pt x="576" y="946"/>
                  <a:pt x="586" y="965"/>
                  <a:pt x="600" y="962"/>
                </a:cubicBezTo>
                <a:cubicBezTo>
                  <a:pt x="614" y="959"/>
                  <a:pt x="615" y="937"/>
                  <a:pt x="624" y="926"/>
                </a:cubicBezTo>
                <a:cubicBezTo>
                  <a:pt x="635" y="913"/>
                  <a:pt x="645" y="898"/>
                  <a:pt x="660" y="890"/>
                </a:cubicBezTo>
                <a:cubicBezTo>
                  <a:pt x="724" y="854"/>
                  <a:pt x="778" y="875"/>
                  <a:pt x="672" y="854"/>
                </a:cubicBez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04920" y="6095880"/>
            <a:ext cx="2895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0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533520" y="1143000"/>
            <a:ext cx="8610120" cy="4806720"/>
            <a:chOff x="533520" y="1143000"/>
            <a:chExt cx="8610120" cy="4806720"/>
          </a:xfrm>
        </p:grpSpPr>
        <p:sp>
          <p:nvSpPr>
            <p:cNvPr id="825" name=""/>
            <p:cNvSpPr/>
            <p:nvPr/>
          </p:nvSpPr>
          <p:spPr>
            <a:xfrm>
              <a:off x="6705720" y="2895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76920" y="1828800"/>
              <a:ext cx="198108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5105520" y="3276720"/>
              <a:ext cx="167616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010280" y="3276720"/>
              <a:ext cx="99072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38680" y="33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543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419720" y="15238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676520" y="25909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1981080" y="1828800"/>
              <a:ext cx="243864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1364760" y="2965320"/>
              <a:ext cx="381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50920" y="296532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52880" y="42670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533520" y="3581280"/>
              <a:ext cx="1294920" cy="533160"/>
              <a:chOff x="533520" y="3581280"/>
              <a:chExt cx="1294920" cy="533160"/>
            </a:xfrm>
          </p:grpSpPr>
          <p:sp>
            <p:nvSpPr>
              <p:cNvPr id="838" name=""/>
              <p:cNvSpPr/>
              <p:nvPr/>
            </p:nvSpPr>
            <p:spPr>
              <a:xfrm>
                <a:off x="533520" y="365724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1760" y="35812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 flipH="1">
              <a:off x="4641840" y="464184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27640" y="464184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3809880" y="5257800"/>
              <a:ext cx="1295640" cy="533160"/>
              <a:chOff x="3809880" y="5257800"/>
              <a:chExt cx="1295640" cy="533160"/>
            </a:xfrm>
          </p:grpSpPr>
          <p:sp>
            <p:nvSpPr>
              <p:cNvPr id="843" name=""/>
              <p:cNvSpPr/>
              <p:nvPr/>
            </p:nvSpPr>
            <p:spPr>
              <a:xfrm>
                <a:off x="3809880" y="533376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038480" y="525780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5105520" y="5334120"/>
              <a:ext cx="1294920" cy="533160"/>
              <a:chOff x="5105520" y="5334120"/>
              <a:chExt cx="1294920" cy="533160"/>
            </a:xfrm>
          </p:grpSpPr>
          <p:sp>
            <p:nvSpPr>
              <p:cNvPr id="846" name=""/>
              <p:cNvSpPr/>
              <p:nvPr/>
            </p:nvSpPr>
            <p:spPr>
              <a:xfrm>
                <a:off x="5105520" y="541008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33760" y="5334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>
              <a:off x="3200400" y="12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143000" y="2971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956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19920" y="1676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4864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209680" y="2971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69608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6553080" y="5340240"/>
              <a:ext cx="1295640" cy="533160"/>
              <a:chOff x="6553080" y="5340240"/>
              <a:chExt cx="1295640" cy="533160"/>
            </a:xfrm>
          </p:grpSpPr>
          <p:sp>
            <p:nvSpPr>
              <p:cNvPr id="856" name=""/>
              <p:cNvSpPr/>
              <p:nvPr/>
            </p:nvSpPr>
            <p:spPr>
              <a:xfrm>
                <a:off x="6553080" y="541620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781680" y="534024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7848720" y="5416560"/>
              <a:ext cx="1294920" cy="533160"/>
              <a:chOff x="7848720" y="5416560"/>
              <a:chExt cx="1294920" cy="533160"/>
            </a:xfrm>
          </p:grpSpPr>
          <p:sp>
            <p:nvSpPr>
              <p:cNvPr id="859" name=""/>
              <p:cNvSpPr/>
              <p:nvPr/>
            </p:nvSpPr>
            <p:spPr>
              <a:xfrm>
                <a:off x="7848720" y="549252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76960" y="54165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7238880" y="4724280"/>
              <a:ext cx="527040" cy="685800"/>
              <a:chOff x="7238880" y="4724280"/>
              <a:chExt cx="527040" cy="685800"/>
            </a:xfrm>
          </p:grpSpPr>
          <p:sp>
            <p:nvSpPr>
              <p:cNvPr id="862" name=""/>
              <p:cNvSpPr/>
              <p:nvPr/>
            </p:nvSpPr>
            <p:spPr>
              <a:xfrm flipH="1">
                <a:off x="7385040" y="472428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23888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8070840" y="4724280"/>
              <a:ext cx="615960" cy="762120"/>
              <a:chOff x="8070840" y="4724280"/>
              <a:chExt cx="615960" cy="762120"/>
            </a:xfrm>
          </p:grpSpPr>
          <p:sp>
            <p:nvSpPr>
              <p:cNvPr id="865" name=""/>
              <p:cNvSpPr/>
              <p:nvPr/>
            </p:nvSpPr>
            <p:spPr>
              <a:xfrm>
                <a:off x="8070840" y="472428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2960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4114800" y="1143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58000" y="2438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95280" y="2286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495680" y="41148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315200" y="41911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209680" y="37339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1898640" y="41083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584440" y="410832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1066680" y="4724280"/>
              <a:ext cx="1295640" cy="533160"/>
              <a:chOff x="1066680" y="4724280"/>
              <a:chExt cx="1295640" cy="533160"/>
            </a:xfrm>
          </p:grpSpPr>
          <p:sp>
            <p:nvSpPr>
              <p:cNvPr id="876" name=""/>
              <p:cNvSpPr/>
              <p:nvPr/>
            </p:nvSpPr>
            <p:spPr>
              <a:xfrm>
                <a:off x="1066680" y="480024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295280" y="472428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2362320" y="4800600"/>
              <a:ext cx="1294920" cy="533160"/>
              <a:chOff x="2362320" y="4800600"/>
              <a:chExt cx="1294920" cy="533160"/>
            </a:xfrm>
          </p:grpSpPr>
          <p:sp>
            <p:nvSpPr>
              <p:cNvPr id="879" name=""/>
              <p:cNvSpPr/>
              <p:nvPr/>
            </p:nvSpPr>
            <p:spPr>
              <a:xfrm>
                <a:off x="2362320" y="487656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590560" y="48006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1752480" y="4191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743200" y="4191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590920" y="3657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304920" y="3429000"/>
            <a:ext cx="1828800" cy="1012680"/>
          </a:xfrm>
          <a:custGeom>
            <a:avLst/>
            <a:gdLst/>
            <a:ahLst/>
            <a:rect l="l" t="t" r="r" b="b"/>
            <a:pathLst>
              <a:path w="824" h="965">
                <a:moveTo>
                  <a:pt x="672" y="854"/>
                </a:moveTo>
                <a:cubicBezTo>
                  <a:pt x="720" y="830"/>
                  <a:pt x="824" y="835"/>
                  <a:pt x="816" y="782"/>
                </a:cubicBezTo>
                <a:cubicBezTo>
                  <a:pt x="800" y="669"/>
                  <a:pt x="812" y="525"/>
                  <a:pt x="744" y="434"/>
                </a:cubicBezTo>
                <a:cubicBezTo>
                  <a:pt x="716" y="349"/>
                  <a:pt x="749" y="457"/>
                  <a:pt x="720" y="302"/>
                </a:cubicBezTo>
                <a:cubicBezTo>
                  <a:pt x="706" y="227"/>
                  <a:pt x="676" y="156"/>
                  <a:pt x="648" y="86"/>
                </a:cubicBezTo>
                <a:cubicBezTo>
                  <a:pt x="621" y="18"/>
                  <a:pt x="629" y="40"/>
                  <a:pt x="552" y="14"/>
                </a:cubicBezTo>
                <a:cubicBezTo>
                  <a:pt x="540" y="10"/>
                  <a:pt x="516" y="2"/>
                  <a:pt x="516" y="2"/>
                </a:cubicBezTo>
                <a:cubicBezTo>
                  <a:pt x="452" y="6"/>
                  <a:pt x="388" y="14"/>
                  <a:pt x="324" y="14"/>
                </a:cubicBezTo>
                <a:cubicBezTo>
                  <a:pt x="308" y="14"/>
                  <a:pt x="292" y="0"/>
                  <a:pt x="276" y="2"/>
                </a:cubicBezTo>
                <a:cubicBezTo>
                  <a:pt x="211" y="12"/>
                  <a:pt x="84" y="50"/>
                  <a:pt x="84" y="50"/>
                </a:cubicBezTo>
                <a:cubicBezTo>
                  <a:pt x="76" y="66"/>
                  <a:pt x="73" y="85"/>
                  <a:pt x="60" y="98"/>
                </a:cubicBezTo>
                <a:cubicBezTo>
                  <a:pt x="51" y="107"/>
                  <a:pt x="33" y="101"/>
                  <a:pt x="24" y="110"/>
                </a:cubicBezTo>
                <a:cubicBezTo>
                  <a:pt x="11" y="123"/>
                  <a:pt x="8" y="142"/>
                  <a:pt x="0" y="158"/>
                </a:cubicBezTo>
                <a:cubicBezTo>
                  <a:pt x="26" y="235"/>
                  <a:pt x="38" y="306"/>
                  <a:pt x="48" y="386"/>
                </a:cubicBezTo>
                <a:cubicBezTo>
                  <a:pt x="41" y="442"/>
                  <a:pt x="20" y="498"/>
                  <a:pt x="24" y="554"/>
                </a:cubicBezTo>
                <a:cubicBezTo>
                  <a:pt x="26" y="587"/>
                  <a:pt x="44" y="617"/>
                  <a:pt x="48" y="650"/>
                </a:cubicBezTo>
                <a:cubicBezTo>
                  <a:pt x="52" y="682"/>
                  <a:pt x="33" y="728"/>
                  <a:pt x="60" y="746"/>
                </a:cubicBezTo>
                <a:cubicBezTo>
                  <a:pt x="176" y="823"/>
                  <a:pt x="313" y="864"/>
                  <a:pt x="444" y="914"/>
                </a:cubicBezTo>
                <a:cubicBezTo>
                  <a:pt x="482" y="929"/>
                  <a:pt x="524" y="930"/>
                  <a:pt x="564" y="938"/>
                </a:cubicBezTo>
                <a:cubicBezTo>
                  <a:pt x="576" y="946"/>
                  <a:pt x="586" y="965"/>
                  <a:pt x="600" y="962"/>
                </a:cubicBezTo>
                <a:cubicBezTo>
                  <a:pt x="614" y="959"/>
                  <a:pt x="615" y="937"/>
                  <a:pt x="624" y="926"/>
                </a:cubicBezTo>
                <a:cubicBezTo>
                  <a:pt x="635" y="913"/>
                  <a:pt x="645" y="898"/>
                  <a:pt x="660" y="890"/>
                </a:cubicBezTo>
                <a:cubicBezTo>
                  <a:pt x="724" y="854"/>
                  <a:pt x="778" y="875"/>
                  <a:pt x="672" y="854"/>
                </a:cubicBez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19520" y="1905120"/>
            <a:ext cx="609480" cy="6858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81680" y="25146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1447920"/>
            <a:ext cx="198144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5181120" y="2895480"/>
            <a:ext cx="16765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086600" y="2895480"/>
            <a:ext cx="99072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15000" y="2971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62012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495680" y="11430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219320" y="36576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2057040" y="1447920"/>
            <a:ext cx="243828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907560" y="4032360"/>
            <a:ext cx="3812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93720" y="403236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029200" y="38862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0" y="4648320"/>
            <a:ext cx="1294920" cy="533160"/>
            <a:chOff x="0" y="4648320"/>
            <a:chExt cx="1294920" cy="533160"/>
          </a:xfrm>
        </p:grpSpPr>
        <p:sp>
          <p:nvSpPr>
            <p:cNvPr id="900" name=""/>
            <p:cNvSpPr/>
            <p:nvPr/>
          </p:nvSpPr>
          <p:spPr>
            <a:xfrm>
              <a:off x="0" y="472428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28240" y="4648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 flipH="1">
            <a:off x="4718160" y="426096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403960" y="426096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3886200" y="4876920"/>
            <a:ext cx="1294920" cy="533160"/>
            <a:chOff x="3886200" y="4876920"/>
            <a:chExt cx="1294920" cy="533160"/>
          </a:xfrm>
        </p:grpSpPr>
        <p:sp>
          <p:nvSpPr>
            <p:cNvPr id="905" name=""/>
            <p:cNvSpPr/>
            <p:nvPr/>
          </p:nvSpPr>
          <p:spPr>
            <a:xfrm>
              <a:off x="3886200" y="495288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14440" y="48769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5181480" y="4952880"/>
            <a:ext cx="1295640" cy="533160"/>
            <a:chOff x="5181480" y="4952880"/>
            <a:chExt cx="1295640" cy="533160"/>
          </a:xfrm>
        </p:grpSpPr>
        <p:sp>
          <p:nvSpPr>
            <p:cNvPr id="908" name=""/>
            <p:cNvSpPr/>
            <p:nvPr/>
          </p:nvSpPr>
          <p:spPr>
            <a:xfrm>
              <a:off x="5181480" y="5028840"/>
              <a:ext cx="121932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410080" y="49528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3276720" y="914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572000" y="43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09588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562720" y="43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75248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77240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6629400" y="4959360"/>
            <a:ext cx="1294920" cy="533160"/>
            <a:chOff x="6629400" y="4959360"/>
            <a:chExt cx="1294920" cy="533160"/>
          </a:xfrm>
        </p:grpSpPr>
        <p:sp>
          <p:nvSpPr>
            <p:cNvPr id="918" name=""/>
            <p:cNvSpPr/>
            <p:nvPr/>
          </p:nvSpPr>
          <p:spPr>
            <a:xfrm>
              <a:off x="6629400" y="503532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857640" y="495936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7924680" y="5416560"/>
            <a:ext cx="1295640" cy="533160"/>
            <a:chOff x="7924680" y="5416560"/>
            <a:chExt cx="1295640" cy="533160"/>
          </a:xfrm>
        </p:grpSpPr>
        <p:sp>
          <p:nvSpPr>
            <p:cNvPr id="921" name=""/>
            <p:cNvSpPr/>
            <p:nvPr/>
          </p:nvSpPr>
          <p:spPr>
            <a:xfrm>
              <a:off x="7924680" y="5492520"/>
              <a:ext cx="121932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153280" y="541656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7315200" y="4343400"/>
            <a:ext cx="527040" cy="685800"/>
            <a:chOff x="7315200" y="4343400"/>
            <a:chExt cx="527040" cy="685800"/>
          </a:xfrm>
        </p:grpSpPr>
        <p:sp>
          <p:nvSpPr>
            <p:cNvPr id="924" name=""/>
            <p:cNvSpPr/>
            <p:nvPr/>
          </p:nvSpPr>
          <p:spPr>
            <a:xfrm flipH="1">
              <a:off x="7461360" y="43434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15200" y="4426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8147160" y="4343400"/>
            <a:ext cx="615960" cy="762120"/>
            <a:chOff x="8147160" y="4343400"/>
            <a:chExt cx="615960" cy="762120"/>
          </a:xfrm>
        </p:grpSpPr>
        <p:sp>
          <p:nvSpPr>
            <p:cNvPr id="927" name=""/>
            <p:cNvSpPr/>
            <p:nvPr/>
          </p:nvSpPr>
          <p:spPr>
            <a:xfrm>
              <a:off x="8147160" y="434340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305920" y="4426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4191120" y="762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934320" y="2057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38080" y="33526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572000" y="3733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391520" y="3809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52480" y="48006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1441440" y="517536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127240" y="517536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609480" y="5791320"/>
            <a:ext cx="1295640" cy="533160"/>
            <a:chOff x="609480" y="5791320"/>
            <a:chExt cx="1295640" cy="533160"/>
          </a:xfrm>
        </p:grpSpPr>
        <p:sp>
          <p:nvSpPr>
            <p:cNvPr id="938" name=""/>
            <p:cNvSpPr/>
            <p:nvPr/>
          </p:nvSpPr>
          <p:spPr>
            <a:xfrm>
              <a:off x="609480" y="5867280"/>
              <a:ext cx="121932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8080" y="57913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1905120" y="5867280"/>
            <a:ext cx="1294920" cy="533160"/>
            <a:chOff x="1905120" y="5867280"/>
            <a:chExt cx="1294920" cy="533160"/>
          </a:xfrm>
        </p:grpSpPr>
        <p:sp>
          <p:nvSpPr>
            <p:cNvPr id="941" name=""/>
            <p:cNvSpPr/>
            <p:nvPr/>
          </p:nvSpPr>
          <p:spPr>
            <a:xfrm>
              <a:off x="1905120" y="594324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33360" y="5867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1295280" y="5257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286000" y="5257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133720" y="472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752480" y="25146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3716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1523520" y="2971800"/>
            <a:ext cx="3812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378080" y="3054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127240" y="288936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905120" y="3581280"/>
            <a:ext cx="1294920" cy="533160"/>
            <a:chOff x="1905120" y="3581280"/>
            <a:chExt cx="1294920" cy="533160"/>
          </a:xfrm>
        </p:grpSpPr>
        <p:sp>
          <p:nvSpPr>
            <p:cNvPr id="952" name=""/>
            <p:cNvSpPr/>
            <p:nvPr/>
          </p:nvSpPr>
          <p:spPr>
            <a:xfrm>
              <a:off x="1905120" y="365724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133360" y="3581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2286000" y="2971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0" y="762120"/>
            <a:ext cx="9143640" cy="5638680"/>
            <a:chOff x="0" y="762120"/>
            <a:chExt cx="9143640" cy="5638680"/>
          </a:xfrm>
        </p:grpSpPr>
        <p:grpSp>
          <p:nvGrpSpPr>
            <p:cNvPr id="957" name=""/>
            <p:cNvGrpSpPr/>
            <p:nvPr/>
          </p:nvGrpSpPr>
          <p:grpSpPr>
            <a:xfrm>
              <a:off x="0" y="4648320"/>
              <a:ext cx="1294920" cy="533160"/>
              <a:chOff x="0" y="4648320"/>
              <a:chExt cx="1294920" cy="53316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472428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28240" y="46483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533520" y="762120"/>
              <a:ext cx="8610120" cy="5638680"/>
              <a:chOff x="533520" y="762120"/>
              <a:chExt cx="8610120" cy="5638680"/>
            </a:xfrm>
          </p:grpSpPr>
          <p:sp>
            <p:nvSpPr>
              <p:cNvPr id="961" name=""/>
              <p:cNvSpPr/>
              <p:nvPr/>
            </p:nvSpPr>
            <p:spPr>
              <a:xfrm>
                <a:off x="6705720" y="2514600"/>
                <a:ext cx="44424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876920" y="1447920"/>
                <a:ext cx="1981080" cy="10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5105520" y="2895840"/>
                <a:ext cx="1676160" cy="10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010280" y="2895840"/>
                <a:ext cx="99072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638680" y="2971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543800" y="30481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419720" y="1143000"/>
                <a:ext cx="44424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143000" y="365760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1981080" y="1447920"/>
                <a:ext cx="2438640" cy="10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831960" y="403236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517760" y="4032360"/>
                <a:ext cx="304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952880" y="388620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4641840" y="426096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327640" y="426096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5" name=""/>
              <p:cNvGrpSpPr/>
              <p:nvPr/>
            </p:nvGrpSpPr>
            <p:grpSpPr>
              <a:xfrm>
                <a:off x="3809880" y="4876920"/>
                <a:ext cx="1295640" cy="533160"/>
                <a:chOff x="3809880" y="4876920"/>
                <a:chExt cx="1295640" cy="53316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3809880" y="4952880"/>
                  <a:ext cx="121932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038480" y="4876920"/>
                  <a:ext cx="1067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5105520" y="4953240"/>
                <a:ext cx="1294920" cy="533160"/>
                <a:chOff x="5105520" y="4953240"/>
                <a:chExt cx="1294920" cy="53316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5105520" y="502920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333760" y="495324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00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" name=""/>
              <p:cNvSpPr/>
              <p:nvPr/>
            </p:nvSpPr>
            <p:spPr>
              <a:xfrm>
                <a:off x="3200400" y="9144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09480" y="40388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495680" y="43434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019920" y="12956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486400" y="43434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676520" y="40388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696080" y="396900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8" name=""/>
              <p:cNvGrpSpPr/>
              <p:nvPr/>
            </p:nvGrpSpPr>
            <p:grpSpPr>
              <a:xfrm>
                <a:off x="6553080" y="4959360"/>
                <a:ext cx="1295640" cy="533160"/>
                <a:chOff x="6553080" y="4959360"/>
                <a:chExt cx="1295640" cy="53316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6553080" y="5035320"/>
                  <a:ext cx="121932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781680" y="4959360"/>
                  <a:ext cx="1067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1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7848720" y="5035680"/>
                <a:ext cx="1294920" cy="533160"/>
                <a:chOff x="7848720" y="5035680"/>
                <a:chExt cx="1294920" cy="5331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7848720" y="511164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8076960" y="503568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10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7238880" y="4343400"/>
                <a:ext cx="527040" cy="685800"/>
                <a:chOff x="7238880" y="4343400"/>
                <a:chExt cx="527040" cy="685800"/>
              </a:xfrm>
            </p:grpSpPr>
            <p:sp>
              <p:nvSpPr>
                <p:cNvPr id="995" name=""/>
                <p:cNvSpPr/>
                <p:nvPr/>
              </p:nvSpPr>
              <p:spPr>
                <a:xfrm flipH="1">
                  <a:off x="7385040" y="4343400"/>
                  <a:ext cx="38088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238880" y="442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8070840" y="4343400"/>
                <a:ext cx="615960" cy="762120"/>
                <a:chOff x="8070840" y="4343400"/>
                <a:chExt cx="615960" cy="76212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8070840" y="4343400"/>
                  <a:ext cx="30492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8229600" y="4426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0" name=""/>
              <p:cNvSpPr/>
              <p:nvPr/>
            </p:nvSpPr>
            <p:spPr>
              <a:xfrm>
                <a:off x="4114800" y="76212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1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58000" y="20574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1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2120" y="335304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10000"/>
                    </a:solidFill>
                    <a:latin typeface="Arial Black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495680" y="373392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10000"/>
                    </a:solidFill>
                    <a:latin typeface="Arial Black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315200" y="381024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10000"/>
                    </a:solidFill>
                    <a:latin typeface="Arial Black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4800600"/>
                <a:ext cx="44424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1364760" y="5175360"/>
                <a:ext cx="38124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050920" y="517536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533520" y="5791320"/>
                <a:ext cx="1294920" cy="533160"/>
                <a:chOff x="533520" y="5791320"/>
                <a:chExt cx="1294920" cy="53316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33520" y="586728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61760" y="579132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00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1828800" y="5867640"/>
                <a:ext cx="1294920" cy="533160"/>
                <a:chOff x="1828800" y="5867640"/>
                <a:chExt cx="1294920" cy="53316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1828800" y="594360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2057040" y="586764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001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1219320" y="5257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209680" y="5257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057400" y="472464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10000"/>
                    </a:solidFill>
                    <a:latin typeface="Arial Black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676520" y="2514600"/>
                <a:ext cx="44424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295280" y="213372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1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1447920" y="297180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301760" y="30546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050920" y="288936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2" name=""/>
              <p:cNvGrpSpPr/>
              <p:nvPr/>
            </p:nvGrpSpPr>
            <p:grpSpPr>
              <a:xfrm>
                <a:off x="1828800" y="3581640"/>
                <a:ext cx="1294920" cy="533160"/>
                <a:chOff x="1828800" y="3581640"/>
                <a:chExt cx="1294920" cy="53316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1828800" y="365760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2057040" y="358164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01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5" name=""/>
              <p:cNvSpPr/>
              <p:nvPr/>
            </p:nvSpPr>
            <p:spPr>
              <a:xfrm>
                <a:off x="2209680" y="2971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6" name=""/>
          <p:cNvSpPr/>
          <p:nvPr/>
        </p:nvSpPr>
        <p:spPr>
          <a:xfrm>
            <a:off x="4876920" y="5638680"/>
            <a:ext cx="2895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Delet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00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5464080"/>
            <a:ext cx="1828800" cy="1013040"/>
          </a:xfrm>
          <a:custGeom>
            <a:avLst/>
            <a:gdLst/>
            <a:ahLst/>
            <a:rect l="l" t="t" r="r" b="b"/>
            <a:pathLst>
              <a:path w="824" h="965">
                <a:moveTo>
                  <a:pt x="672" y="854"/>
                </a:moveTo>
                <a:cubicBezTo>
                  <a:pt x="720" y="830"/>
                  <a:pt x="824" y="835"/>
                  <a:pt x="816" y="782"/>
                </a:cubicBezTo>
                <a:cubicBezTo>
                  <a:pt x="800" y="669"/>
                  <a:pt x="812" y="525"/>
                  <a:pt x="744" y="434"/>
                </a:cubicBezTo>
                <a:cubicBezTo>
                  <a:pt x="716" y="349"/>
                  <a:pt x="749" y="457"/>
                  <a:pt x="720" y="302"/>
                </a:cubicBezTo>
                <a:cubicBezTo>
                  <a:pt x="706" y="227"/>
                  <a:pt x="676" y="156"/>
                  <a:pt x="648" y="86"/>
                </a:cubicBezTo>
                <a:cubicBezTo>
                  <a:pt x="621" y="18"/>
                  <a:pt x="629" y="40"/>
                  <a:pt x="552" y="14"/>
                </a:cubicBezTo>
                <a:cubicBezTo>
                  <a:pt x="540" y="10"/>
                  <a:pt x="516" y="2"/>
                  <a:pt x="516" y="2"/>
                </a:cubicBezTo>
                <a:cubicBezTo>
                  <a:pt x="452" y="6"/>
                  <a:pt x="388" y="14"/>
                  <a:pt x="324" y="14"/>
                </a:cubicBezTo>
                <a:cubicBezTo>
                  <a:pt x="308" y="14"/>
                  <a:pt x="292" y="0"/>
                  <a:pt x="276" y="2"/>
                </a:cubicBezTo>
                <a:cubicBezTo>
                  <a:pt x="211" y="12"/>
                  <a:pt x="84" y="50"/>
                  <a:pt x="84" y="50"/>
                </a:cubicBezTo>
                <a:cubicBezTo>
                  <a:pt x="76" y="66"/>
                  <a:pt x="73" y="85"/>
                  <a:pt x="60" y="98"/>
                </a:cubicBezTo>
                <a:cubicBezTo>
                  <a:pt x="51" y="107"/>
                  <a:pt x="33" y="101"/>
                  <a:pt x="24" y="110"/>
                </a:cubicBezTo>
                <a:cubicBezTo>
                  <a:pt x="11" y="123"/>
                  <a:pt x="8" y="142"/>
                  <a:pt x="0" y="158"/>
                </a:cubicBezTo>
                <a:cubicBezTo>
                  <a:pt x="26" y="235"/>
                  <a:pt x="38" y="306"/>
                  <a:pt x="48" y="386"/>
                </a:cubicBezTo>
                <a:cubicBezTo>
                  <a:pt x="41" y="442"/>
                  <a:pt x="20" y="498"/>
                  <a:pt x="24" y="554"/>
                </a:cubicBezTo>
                <a:cubicBezTo>
                  <a:pt x="26" y="587"/>
                  <a:pt x="44" y="617"/>
                  <a:pt x="48" y="650"/>
                </a:cubicBezTo>
                <a:cubicBezTo>
                  <a:pt x="52" y="682"/>
                  <a:pt x="33" y="728"/>
                  <a:pt x="60" y="746"/>
                </a:cubicBezTo>
                <a:cubicBezTo>
                  <a:pt x="176" y="823"/>
                  <a:pt x="313" y="864"/>
                  <a:pt x="444" y="914"/>
                </a:cubicBezTo>
                <a:cubicBezTo>
                  <a:pt x="482" y="929"/>
                  <a:pt x="524" y="930"/>
                  <a:pt x="564" y="938"/>
                </a:cubicBezTo>
                <a:cubicBezTo>
                  <a:pt x="576" y="946"/>
                  <a:pt x="586" y="965"/>
                  <a:pt x="600" y="962"/>
                </a:cubicBezTo>
                <a:cubicBezTo>
                  <a:pt x="614" y="959"/>
                  <a:pt x="615" y="937"/>
                  <a:pt x="624" y="926"/>
                </a:cubicBezTo>
                <a:cubicBezTo>
                  <a:pt x="635" y="913"/>
                  <a:pt x="645" y="898"/>
                  <a:pt x="660" y="890"/>
                </a:cubicBezTo>
                <a:cubicBezTo>
                  <a:pt x="724" y="854"/>
                  <a:pt x="778" y="875"/>
                  <a:pt x="672" y="854"/>
                </a:cubicBez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0" y="1143000"/>
            <a:ext cx="9143640" cy="4806720"/>
            <a:chOff x="0" y="1143000"/>
            <a:chExt cx="9143640" cy="4806720"/>
          </a:xfrm>
        </p:grpSpPr>
        <p:grpSp>
          <p:nvGrpSpPr>
            <p:cNvPr id="1030" name=""/>
            <p:cNvGrpSpPr/>
            <p:nvPr/>
          </p:nvGrpSpPr>
          <p:grpSpPr>
            <a:xfrm>
              <a:off x="0" y="5029200"/>
              <a:ext cx="1294920" cy="533160"/>
              <a:chOff x="0" y="5029200"/>
              <a:chExt cx="1294920" cy="53316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510516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28240" y="50292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6705720" y="2895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876920" y="1828800"/>
              <a:ext cx="198108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105520" y="3276720"/>
              <a:ext cx="167616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010280" y="3276720"/>
              <a:ext cx="99072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638680" y="33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543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419720" y="15238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143000" y="40384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1981080" y="1828800"/>
              <a:ext cx="243864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831960" y="441324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517760" y="441324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952880" y="42670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4641840" y="464184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27640" y="464184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3809880" y="5257800"/>
              <a:ext cx="1295640" cy="533160"/>
              <a:chOff x="3809880" y="5257800"/>
              <a:chExt cx="1295640" cy="533160"/>
            </a:xfrm>
          </p:grpSpPr>
          <p:sp>
            <p:nvSpPr>
              <p:cNvPr id="1048" name=""/>
              <p:cNvSpPr/>
              <p:nvPr/>
            </p:nvSpPr>
            <p:spPr>
              <a:xfrm>
                <a:off x="3809880" y="533376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038480" y="525780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5105520" y="5334120"/>
              <a:ext cx="1294920" cy="533160"/>
              <a:chOff x="5105520" y="5334120"/>
              <a:chExt cx="1294920" cy="533160"/>
            </a:xfrm>
          </p:grpSpPr>
          <p:sp>
            <p:nvSpPr>
              <p:cNvPr id="1051" name=""/>
              <p:cNvSpPr/>
              <p:nvPr/>
            </p:nvSpPr>
            <p:spPr>
              <a:xfrm>
                <a:off x="5105520" y="541008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33760" y="5334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3200400" y="12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09480" y="4419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4956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019920" y="1676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4864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676520" y="4419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69608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6553080" y="5340240"/>
              <a:ext cx="1295640" cy="533160"/>
              <a:chOff x="6553080" y="5340240"/>
              <a:chExt cx="1295640" cy="533160"/>
            </a:xfrm>
          </p:grpSpPr>
          <p:sp>
            <p:nvSpPr>
              <p:cNvPr id="1061" name=""/>
              <p:cNvSpPr/>
              <p:nvPr/>
            </p:nvSpPr>
            <p:spPr>
              <a:xfrm>
                <a:off x="6553080" y="541620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781680" y="534024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7848720" y="5416560"/>
              <a:ext cx="1294920" cy="533160"/>
              <a:chOff x="7848720" y="5416560"/>
              <a:chExt cx="1294920" cy="533160"/>
            </a:xfrm>
          </p:grpSpPr>
          <p:sp>
            <p:nvSpPr>
              <p:cNvPr id="1064" name=""/>
              <p:cNvSpPr/>
              <p:nvPr/>
            </p:nvSpPr>
            <p:spPr>
              <a:xfrm>
                <a:off x="7848720" y="549252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076960" y="54165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7238880" y="4724280"/>
              <a:ext cx="527040" cy="685800"/>
              <a:chOff x="7238880" y="4724280"/>
              <a:chExt cx="527040" cy="685800"/>
            </a:xfrm>
          </p:grpSpPr>
          <p:sp>
            <p:nvSpPr>
              <p:cNvPr id="1067" name=""/>
              <p:cNvSpPr/>
              <p:nvPr/>
            </p:nvSpPr>
            <p:spPr>
              <a:xfrm flipH="1">
                <a:off x="7385040" y="472428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23888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8070840" y="4724280"/>
              <a:ext cx="615960" cy="762120"/>
              <a:chOff x="8070840" y="4724280"/>
              <a:chExt cx="615960" cy="762120"/>
            </a:xfrm>
          </p:grpSpPr>
          <p:sp>
            <p:nvSpPr>
              <p:cNvPr id="1070" name=""/>
              <p:cNvSpPr/>
              <p:nvPr/>
            </p:nvSpPr>
            <p:spPr>
              <a:xfrm>
                <a:off x="8070840" y="472428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22960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"/>
            <p:cNvSpPr/>
            <p:nvPr/>
          </p:nvSpPr>
          <p:spPr>
            <a:xfrm>
              <a:off x="4114800" y="1143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858000" y="2438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62120" y="37339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495680" y="41148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315200" y="41911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1295280" y="5105520"/>
              <a:ext cx="1295640" cy="533160"/>
              <a:chOff x="1295280" y="5105520"/>
              <a:chExt cx="1295640" cy="533160"/>
            </a:xfrm>
          </p:grpSpPr>
          <p:sp>
            <p:nvSpPr>
              <p:cNvPr id="1078" name=""/>
              <p:cNvSpPr/>
              <p:nvPr/>
            </p:nvSpPr>
            <p:spPr>
              <a:xfrm>
                <a:off x="1295280" y="518148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523880" y="510552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1676520" y="2895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295280" y="25146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1447920" y="335268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01760" y="343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050920" y="327024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1828800" y="3962520"/>
              <a:ext cx="1294920" cy="533160"/>
              <a:chOff x="1828800" y="3962520"/>
              <a:chExt cx="1294920" cy="533160"/>
            </a:xfrm>
          </p:grpSpPr>
          <p:sp>
            <p:nvSpPr>
              <p:cNvPr id="1086" name=""/>
              <p:cNvSpPr/>
              <p:nvPr/>
            </p:nvSpPr>
            <p:spPr>
              <a:xfrm>
                <a:off x="1828800" y="403848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057040" y="39625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>
              <a:off x="2209680" y="33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4952880" y="5181480"/>
            <a:ext cx="1828800" cy="1013040"/>
          </a:xfrm>
          <a:custGeom>
            <a:avLst/>
            <a:gdLst/>
            <a:ahLst/>
            <a:rect l="l" t="t" r="r" b="b"/>
            <a:pathLst>
              <a:path w="824" h="965">
                <a:moveTo>
                  <a:pt x="672" y="854"/>
                </a:moveTo>
                <a:cubicBezTo>
                  <a:pt x="720" y="830"/>
                  <a:pt x="824" y="835"/>
                  <a:pt x="816" y="782"/>
                </a:cubicBezTo>
                <a:cubicBezTo>
                  <a:pt x="800" y="669"/>
                  <a:pt x="812" y="525"/>
                  <a:pt x="744" y="434"/>
                </a:cubicBezTo>
                <a:cubicBezTo>
                  <a:pt x="716" y="349"/>
                  <a:pt x="749" y="457"/>
                  <a:pt x="720" y="302"/>
                </a:cubicBezTo>
                <a:cubicBezTo>
                  <a:pt x="706" y="227"/>
                  <a:pt x="676" y="156"/>
                  <a:pt x="648" y="86"/>
                </a:cubicBezTo>
                <a:cubicBezTo>
                  <a:pt x="621" y="18"/>
                  <a:pt x="629" y="40"/>
                  <a:pt x="552" y="14"/>
                </a:cubicBezTo>
                <a:cubicBezTo>
                  <a:pt x="540" y="10"/>
                  <a:pt x="516" y="2"/>
                  <a:pt x="516" y="2"/>
                </a:cubicBezTo>
                <a:cubicBezTo>
                  <a:pt x="452" y="6"/>
                  <a:pt x="388" y="14"/>
                  <a:pt x="324" y="14"/>
                </a:cubicBezTo>
                <a:cubicBezTo>
                  <a:pt x="308" y="14"/>
                  <a:pt x="292" y="0"/>
                  <a:pt x="276" y="2"/>
                </a:cubicBezTo>
                <a:cubicBezTo>
                  <a:pt x="211" y="12"/>
                  <a:pt x="84" y="50"/>
                  <a:pt x="84" y="50"/>
                </a:cubicBezTo>
                <a:cubicBezTo>
                  <a:pt x="76" y="66"/>
                  <a:pt x="73" y="85"/>
                  <a:pt x="60" y="98"/>
                </a:cubicBezTo>
                <a:cubicBezTo>
                  <a:pt x="51" y="107"/>
                  <a:pt x="33" y="101"/>
                  <a:pt x="24" y="110"/>
                </a:cubicBezTo>
                <a:cubicBezTo>
                  <a:pt x="11" y="123"/>
                  <a:pt x="8" y="142"/>
                  <a:pt x="0" y="158"/>
                </a:cubicBezTo>
                <a:cubicBezTo>
                  <a:pt x="26" y="235"/>
                  <a:pt x="38" y="306"/>
                  <a:pt x="48" y="386"/>
                </a:cubicBezTo>
                <a:cubicBezTo>
                  <a:pt x="41" y="442"/>
                  <a:pt x="20" y="498"/>
                  <a:pt x="24" y="554"/>
                </a:cubicBezTo>
                <a:cubicBezTo>
                  <a:pt x="26" y="587"/>
                  <a:pt x="44" y="617"/>
                  <a:pt x="48" y="650"/>
                </a:cubicBezTo>
                <a:cubicBezTo>
                  <a:pt x="52" y="682"/>
                  <a:pt x="33" y="728"/>
                  <a:pt x="60" y="746"/>
                </a:cubicBezTo>
                <a:cubicBezTo>
                  <a:pt x="176" y="823"/>
                  <a:pt x="313" y="864"/>
                  <a:pt x="444" y="914"/>
                </a:cubicBezTo>
                <a:cubicBezTo>
                  <a:pt x="482" y="929"/>
                  <a:pt x="524" y="930"/>
                  <a:pt x="564" y="938"/>
                </a:cubicBezTo>
                <a:cubicBezTo>
                  <a:pt x="576" y="946"/>
                  <a:pt x="586" y="965"/>
                  <a:pt x="600" y="962"/>
                </a:cubicBezTo>
                <a:cubicBezTo>
                  <a:pt x="614" y="959"/>
                  <a:pt x="615" y="937"/>
                  <a:pt x="624" y="926"/>
                </a:cubicBezTo>
                <a:cubicBezTo>
                  <a:pt x="635" y="913"/>
                  <a:pt x="645" y="898"/>
                  <a:pt x="660" y="890"/>
                </a:cubicBezTo>
                <a:cubicBezTo>
                  <a:pt x="724" y="854"/>
                  <a:pt x="778" y="875"/>
                  <a:pt x="672" y="854"/>
                </a:cubicBez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09480" y="6019920"/>
            <a:ext cx="2895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Delet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0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0" y="1143000"/>
            <a:ext cx="9143640" cy="4806720"/>
            <a:chOff x="0" y="1143000"/>
            <a:chExt cx="9143640" cy="4806720"/>
          </a:xfrm>
        </p:grpSpPr>
        <p:grpSp>
          <p:nvGrpSpPr>
            <p:cNvPr id="1093" name=""/>
            <p:cNvGrpSpPr/>
            <p:nvPr/>
          </p:nvGrpSpPr>
          <p:grpSpPr>
            <a:xfrm>
              <a:off x="0" y="5029200"/>
              <a:ext cx="1294920" cy="533160"/>
              <a:chOff x="0" y="5029200"/>
              <a:chExt cx="1294920" cy="533160"/>
            </a:xfrm>
          </p:grpSpPr>
          <p:sp>
            <p:nvSpPr>
              <p:cNvPr id="1094" name=""/>
              <p:cNvSpPr/>
              <p:nvPr/>
            </p:nvSpPr>
            <p:spPr>
              <a:xfrm>
                <a:off x="0" y="510516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28240" y="50292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6705720" y="2895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876920" y="1828800"/>
              <a:ext cx="198108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5105520" y="3276720"/>
              <a:ext cx="167616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010280" y="3276720"/>
              <a:ext cx="99072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33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543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419720" y="15238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143000" y="40384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1981080" y="1828800"/>
              <a:ext cx="243864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831960" y="441324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517760" y="441324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572000" y="4267080"/>
              <a:ext cx="1294920" cy="533160"/>
              <a:chOff x="4572000" y="4267080"/>
              <a:chExt cx="1294920" cy="5331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572000" y="434304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800240" y="42670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0" name=""/>
            <p:cNvSpPr/>
            <p:nvPr/>
          </p:nvSpPr>
          <p:spPr>
            <a:xfrm>
              <a:off x="3200400" y="12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09480" y="4419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019920" y="1676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676520" y="4419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69608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6553080" y="5340240"/>
              <a:ext cx="1295640" cy="533160"/>
              <a:chOff x="6553080" y="5340240"/>
              <a:chExt cx="1295640" cy="533160"/>
            </a:xfrm>
          </p:grpSpPr>
          <p:sp>
            <p:nvSpPr>
              <p:cNvPr id="1116" name=""/>
              <p:cNvSpPr/>
              <p:nvPr/>
            </p:nvSpPr>
            <p:spPr>
              <a:xfrm>
                <a:off x="6553080" y="541620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781680" y="534024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7848720" y="5416560"/>
              <a:ext cx="1294920" cy="533160"/>
              <a:chOff x="7848720" y="5416560"/>
              <a:chExt cx="1294920" cy="533160"/>
            </a:xfrm>
          </p:grpSpPr>
          <p:sp>
            <p:nvSpPr>
              <p:cNvPr id="1119" name=""/>
              <p:cNvSpPr/>
              <p:nvPr/>
            </p:nvSpPr>
            <p:spPr>
              <a:xfrm>
                <a:off x="7848720" y="549252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8076960" y="54165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7238880" y="4724280"/>
              <a:ext cx="527040" cy="685800"/>
              <a:chOff x="7238880" y="4724280"/>
              <a:chExt cx="527040" cy="685800"/>
            </a:xfrm>
          </p:grpSpPr>
          <p:sp>
            <p:nvSpPr>
              <p:cNvPr id="1122" name=""/>
              <p:cNvSpPr/>
              <p:nvPr/>
            </p:nvSpPr>
            <p:spPr>
              <a:xfrm flipH="1">
                <a:off x="7385040" y="472428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23888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8070840" y="4724280"/>
              <a:ext cx="615960" cy="762120"/>
              <a:chOff x="8070840" y="4724280"/>
              <a:chExt cx="615960" cy="762120"/>
            </a:xfrm>
          </p:grpSpPr>
          <p:sp>
            <p:nvSpPr>
              <p:cNvPr id="1125" name=""/>
              <p:cNvSpPr/>
              <p:nvPr/>
            </p:nvSpPr>
            <p:spPr>
              <a:xfrm>
                <a:off x="8070840" y="472428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22960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4114800" y="1143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858000" y="2438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62120" y="37339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315200" y="41911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1295280" y="5105520"/>
              <a:ext cx="1295640" cy="533160"/>
              <a:chOff x="1295280" y="5105520"/>
              <a:chExt cx="1295640" cy="533160"/>
            </a:xfrm>
          </p:grpSpPr>
          <p:sp>
            <p:nvSpPr>
              <p:cNvPr id="1132" name=""/>
              <p:cNvSpPr/>
              <p:nvPr/>
            </p:nvSpPr>
            <p:spPr>
              <a:xfrm>
                <a:off x="1295280" y="518148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523880" y="510552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4" name=""/>
            <p:cNvSpPr/>
            <p:nvPr/>
          </p:nvSpPr>
          <p:spPr>
            <a:xfrm>
              <a:off x="1676520" y="2895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295280" y="25146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447920" y="335268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301760" y="343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050920" y="327024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9" name=""/>
            <p:cNvGrpSpPr/>
            <p:nvPr/>
          </p:nvGrpSpPr>
          <p:grpSpPr>
            <a:xfrm>
              <a:off x="1828800" y="3962520"/>
              <a:ext cx="1294920" cy="533160"/>
              <a:chOff x="1828800" y="3962520"/>
              <a:chExt cx="1294920" cy="533160"/>
            </a:xfrm>
          </p:grpSpPr>
          <p:sp>
            <p:nvSpPr>
              <p:cNvPr id="1140" name=""/>
              <p:cNvSpPr/>
              <p:nvPr/>
            </p:nvSpPr>
            <p:spPr>
              <a:xfrm>
                <a:off x="1828800" y="403848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057040" y="39625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"/>
            <p:cNvSpPr/>
            <p:nvPr/>
          </p:nvSpPr>
          <p:spPr>
            <a:xfrm>
              <a:off x="2209680" y="33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(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splitting an uncompressed binary t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Join(S,m,B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|S| &lt;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|B’|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ndled as special cases as in the case of uncompressed 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|S|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|B’|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largest key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’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smallest key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first bit which is differen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’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ases To Consi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3886200"/>
            <a:ext cx="883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 &lt; min{bit#(S), bit#(B’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it#(S) = bit#(B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it#(S) &lt; bit#(B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it#(S) &gt; bit#(B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609480" y="1143000"/>
            <a:ext cx="7086600" cy="2638800"/>
            <a:chOff x="609480" y="1143000"/>
            <a:chExt cx="7086600" cy="2638800"/>
          </a:xfrm>
        </p:grpSpPr>
        <p:sp>
          <p:nvSpPr>
            <p:cNvPr id="1150" name=""/>
            <p:cNvSpPr/>
            <p:nvPr/>
          </p:nvSpPr>
          <p:spPr>
            <a:xfrm>
              <a:off x="2057400" y="14479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1745640" y="1822680"/>
              <a:ext cx="381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431800" y="182268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523880" y="1828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90560" y="1828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9480" y="11430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bit#(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600200" y="24386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590560" y="243864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828800" y="3200400"/>
              <a:ext cx="6094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553080" y="14479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6242040" y="182268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927840" y="1822680"/>
              <a:ext cx="3045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19560" y="1828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086600" y="1828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095880" y="24386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086600" y="24386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400800" y="3124440"/>
              <a:ext cx="6858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29200" y="1219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bit#(B’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orward Pas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038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bi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ove to root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54100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49528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57200" y="5029200"/>
            <a:ext cx="984240" cy="1565640"/>
            <a:chOff x="457200" y="5029200"/>
            <a:chExt cx="984240" cy="1565640"/>
          </a:xfrm>
        </p:grpSpPr>
        <p:sp>
          <p:nvSpPr>
            <p:cNvPr id="73" name=""/>
            <p:cNvSpPr/>
            <p:nvPr/>
          </p:nvSpPr>
          <p:spPr>
            <a:xfrm>
              <a:off x="457200" y="502920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1960" y="5403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84240" y="6013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143000" y="5410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lev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5410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leve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657600" y="1295280"/>
            <a:ext cx="1523520" cy="1800720"/>
            <a:chOff x="3657600" y="1295280"/>
            <a:chExt cx="1523520" cy="1800720"/>
          </a:xfrm>
        </p:grpSpPr>
        <p:sp>
          <p:nvSpPr>
            <p:cNvPr id="79" name=""/>
            <p:cNvSpPr/>
            <p:nvPr/>
          </p:nvSpPr>
          <p:spPr>
            <a:xfrm>
              <a:off x="4197240" y="1530360"/>
              <a:ext cx="44388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19051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57600" y="243828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09880" y="1295280"/>
              <a:ext cx="83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1640" y="1905120"/>
              <a:ext cx="3045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4280" y="251460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 &lt; min{bit#(S), bit#(B’)}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3657600" y="3505320"/>
            <a:ext cx="1676520" cy="1815840"/>
            <a:chOff x="3657600" y="3505320"/>
            <a:chExt cx="1676520" cy="1815840"/>
          </a:xfrm>
        </p:grpSpPr>
        <p:sp>
          <p:nvSpPr>
            <p:cNvPr id="1170" name=""/>
            <p:cNvSpPr/>
            <p:nvPr/>
          </p:nvSpPr>
          <p:spPr>
            <a:xfrm>
              <a:off x="4191120" y="38098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879360" y="4184640"/>
              <a:ext cx="381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565520" y="418464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57600" y="4191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24280" y="4191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809880" y="35053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733920" y="4800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24280" y="48006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1066680" y="1752480"/>
            <a:ext cx="48006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t#(S) = bit#(B’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600200" y="1066680"/>
            <a:ext cx="6172200" cy="2638800"/>
            <a:chOff x="1600200" y="1066680"/>
            <a:chExt cx="6172200" cy="2638800"/>
          </a:xfrm>
        </p:grpSpPr>
        <p:sp>
          <p:nvSpPr>
            <p:cNvPr id="1181" name=""/>
            <p:cNvSpPr/>
            <p:nvPr/>
          </p:nvSpPr>
          <p:spPr>
            <a:xfrm>
              <a:off x="2133720" y="13716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1821960" y="1746360"/>
              <a:ext cx="381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508120" y="174636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600200" y="1752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666880" y="1752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752480" y="10666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67652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666880" y="23623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905120" y="3124080"/>
              <a:ext cx="6094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629400" y="13716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6318360" y="174636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004160" y="1746360"/>
              <a:ext cx="3045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095880" y="1752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162920" y="1752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248520" y="1066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1722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16292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477120" y="3048120"/>
              <a:ext cx="6858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304920" y="3886200"/>
            <a:ext cx="883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ossible, because key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larger than those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all key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supposed to be smaller than those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t#(S) &lt; bit#(B’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609480" y="2057400"/>
            <a:ext cx="1676520" cy="2638800"/>
            <a:chOff x="609480" y="2057400"/>
            <a:chExt cx="1676520" cy="2638800"/>
          </a:xfrm>
        </p:grpSpPr>
        <p:sp>
          <p:nvSpPr>
            <p:cNvPr id="1202" name=""/>
            <p:cNvSpPr/>
            <p:nvPr/>
          </p:nvSpPr>
          <p:spPr>
            <a:xfrm>
              <a:off x="1143000" y="23623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831960" y="27367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517760" y="273672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0948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120" y="2057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5800" y="3352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676520" y="3352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914400" y="4114800"/>
              <a:ext cx="6094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352680" y="2057400"/>
            <a:ext cx="1676520" cy="2562480"/>
            <a:chOff x="3352680" y="2057400"/>
            <a:chExt cx="1676520" cy="2562480"/>
          </a:xfrm>
        </p:grpSpPr>
        <p:sp>
          <p:nvSpPr>
            <p:cNvPr id="1212" name=""/>
            <p:cNvSpPr/>
            <p:nvPr/>
          </p:nvSpPr>
          <p:spPr>
            <a:xfrm>
              <a:off x="3886200" y="23623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3575160" y="27367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60960" y="273672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35268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41972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505320" y="2057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b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352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419720" y="3352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733920" y="4038480"/>
              <a:ext cx="6858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 txBox="1"/>
          <p:nvPr/>
        </p:nvSpPr>
        <p:spPr>
          <a:xfrm>
            <a:off x="2514600" y="289548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+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5105520" y="281952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6248520" y="1981080"/>
            <a:ext cx="2133360" cy="1892160"/>
            <a:chOff x="6248520" y="1981080"/>
            <a:chExt cx="2133360" cy="1892160"/>
          </a:xfrm>
        </p:grpSpPr>
        <p:sp>
          <p:nvSpPr>
            <p:cNvPr id="1224" name=""/>
            <p:cNvSpPr/>
            <p:nvPr/>
          </p:nvSpPr>
          <p:spPr>
            <a:xfrm>
              <a:off x="6781680" y="228600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6470640" y="26604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156440" y="266040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24852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3152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400800" y="1981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324480" y="32763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010280" y="33526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J(b,B’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t#(S) &gt; bit#(B’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609480" y="2057400"/>
            <a:ext cx="1676520" cy="2638800"/>
            <a:chOff x="609480" y="2057400"/>
            <a:chExt cx="1676520" cy="2638800"/>
          </a:xfrm>
        </p:grpSpPr>
        <p:sp>
          <p:nvSpPr>
            <p:cNvPr id="1234" name=""/>
            <p:cNvSpPr/>
            <p:nvPr/>
          </p:nvSpPr>
          <p:spPr>
            <a:xfrm>
              <a:off x="1143000" y="23623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831960" y="27367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517760" y="273672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0948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7652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120" y="2057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85800" y="3352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676520" y="3352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4114800"/>
              <a:ext cx="6094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3352680" y="2057400"/>
            <a:ext cx="1676520" cy="2562480"/>
            <a:chOff x="3352680" y="2057400"/>
            <a:chExt cx="1676520" cy="2562480"/>
          </a:xfrm>
        </p:grpSpPr>
        <p:sp>
          <p:nvSpPr>
            <p:cNvPr id="1244" name=""/>
            <p:cNvSpPr/>
            <p:nvPr/>
          </p:nvSpPr>
          <p:spPr>
            <a:xfrm>
              <a:off x="3886200" y="23623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3575160" y="27367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60960" y="273672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35268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41972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505320" y="2057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b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429000" y="3352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419720" y="3352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733920" y="4038480"/>
              <a:ext cx="6858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 txBox="1"/>
          <p:nvPr/>
        </p:nvSpPr>
        <p:spPr>
          <a:xfrm>
            <a:off x="2514600" y="289548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+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5105520" y="281952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5943600" y="1981080"/>
            <a:ext cx="1905120" cy="1816200"/>
            <a:chOff x="5943600" y="1981080"/>
            <a:chExt cx="1905120" cy="1816200"/>
          </a:xfrm>
        </p:grpSpPr>
        <p:sp>
          <p:nvSpPr>
            <p:cNvPr id="1256" name=""/>
            <p:cNvSpPr/>
            <p:nvPr/>
          </p:nvSpPr>
          <p:spPr>
            <a:xfrm>
              <a:off x="6781680" y="22860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470640" y="266076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156440" y="266076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4852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3152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400800" y="1981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10000"/>
                  </a:solidFill>
                  <a:latin typeface="Arial Black"/>
                </a:rPr>
                <a:t>b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943600" y="32767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J(S,c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15200" y="32767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4" name=""/>
          <p:cNvSpPr/>
          <p:nvPr/>
        </p:nvSpPr>
        <p:spPr>
          <a:xfrm>
            <a:off x="990720" y="5257800"/>
            <a:ext cx="7543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max{height(S), height(B)}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066680" y="6095880"/>
            <a:ext cx="75438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’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found jus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orward Pas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04920" y="1295280"/>
            <a:ext cx="1981080" cy="4559400"/>
            <a:chOff x="304920" y="1295280"/>
            <a:chExt cx="1981080" cy="4559400"/>
          </a:xfrm>
        </p:grpSpPr>
        <p:sp>
          <p:nvSpPr>
            <p:cNvPr id="87" name=""/>
            <p:cNvSpPr/>
            <p:nvPr/>
          </p:nvSpPr>
          <p:spPr>
            <a:xfrm>
              <a:off x="838080" y="1357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78080" y="20638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218960" y="2362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52480" y="23623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129528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19320" y="1738440"/>
              <a:ext cx="304560" cy="3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33520" y="1738440"/>
              <a:ext cx="374400" cy="3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2057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71600" y="199548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6840" y="27496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837720" y="30481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71600" y="30481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720" y="268128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8080" y="34354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218960" y="37339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52480" y="37339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2880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71600" y="336708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96840" y="41068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37720" y="4405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1600" y="44053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94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403848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8080" y="471636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218960" y="5014800"/>
              <a:ext cx="22860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2480" y="5014800"/>
              <a:ext cx="15264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072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71600" y="464832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5248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809880" y="1143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 Black"/>
              </a:rPr>
              <a:t>S =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1143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B =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6019920"/>
            <a:ext cx="4952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 Black"/>
              </a:rPr>
              <a:t>k = g.key = 1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orward Pas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9480" y="2063880"/>
            <a:ext cx="1676520" cy="3790800"/>
            <a:chOff x="609480" y="2063880"/>
            <a:chExt cx="1676520" cy="3790800"/>
          </a:xfrm>
        </p:grpSpPr>
        <p:sp>
          <p:nvSpPr>
            <p:cNvPr id="123" name=""/>
            <p:cNvSpPr/>
            <p:nvPr/>
          </p:nvSpPr>
          <p:spPr>
            <a:xfrm>
              <a:off x="1378080" y="20638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218960" y="2362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52480" y="23623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2880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6840" y="27496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837720" y="30481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1600" y="30481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5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78080" y="34354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218960" y="37339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37339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2880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96840" y="41068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837720" y="4405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71600" y="44053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78080" y="471636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218960" y="5014800"/>
              <a:ext cx="22860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52480" y="5014800"/>
              <a:ext cx="15264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9072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248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57600" y="1219320"/>
            <a:ext cx="977760" cy="1282320"/>
            <a:chOff x="3657600" y="1219320"/>
            <a:chExt cx="977760" cy="1282320"/>
          </a:xfrm>
        </p:grpSpPr>
        <p:sp>
          <p:nvSpPr>
            <p:cNvPr id="145" name=""/>
            <p:cNvSpPr/>
            <p:nvPr/>
          </p:nvSpPr>
          <p:spPr>
            <a:xfrm>
              <a:off x="4191120" y="129528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885840" y="1676520"/>
              <a:ext cx="374760" cy="3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5760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12193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24480" y="1281240"/>
            <a:ext cx="1054080" cy="534600"/>
            <a:chOff x="6324480" y="1281240"/>
            <a:chExt cx="1054080" cy="534600"/>
          </a:xfrm>
        </p:grpSpPr>
        <p:sp>
          <p:nvSpPr>
            <p:cNvPr id="150" name=""/>
            <p:cNvSpPr/>
            <p:nvPr/>
          </p:nvSpPr>
          <p:spPr>
            <a:xfrm>
              <a:off x="6934320" y="1281240"/>
              <a:ext cx="44424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24480" y="1295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7200" y="6019920"/>
            <a:ext cx="4952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 Black"/>
              </a:rPr>
              <a:t>k = g.key = 1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orward Pas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09480" y="2749680"/>
            <a:ext cx="1676520" cy="3105000"/>
            <a:chOff x="609480" y="2749680"/>
            <a:chExt cx="1676520" cy="3105000"/>
          </a:xfrm>
        </p:grpSpPr>
        <p:sp>
          <p:nvSpPr>
            <p:cNvPr id="155" name=""/>
            <p:cNvSpPr/>
            <p:nvPr/>
          </p:nvSpPr>
          <p:spPr>
            <a:xfrm>
              <a:off x="996840" y="27496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837720" y="30481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71600" y="30481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8080" y="34354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218960" y="37339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52480" y="37339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6840" y="41068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837720" y="4405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71600" y="44053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78080" y="471636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218960" y="5014800"/>
              <a:ext cx="22860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52480" y="5014800"/>
              <a:ext cx="15264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9072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5248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324480" y="1281240"/>
            <a:ext cx="1054080" cy="534600"/>
            <a:chOff x="6324480" y="1281240"/>
            <a:chExt cx="1054080" cy="534600"/>
          </a:xfrm>
        </p:grpSpPr>
        <p:sp>
          <p:nvSpPr>
            <p:cNvPr id="173" name=""/>
            <p:cNvSpPr/>
            <p:nvPr/>
          </p:nvSpPr>
          <p:spPr>
            <a:xfrm>
              <a:off x="6934320" y="1281240"/>
              <a:ext cx="44424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1295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7315200" y="1600200"/>
            <a:ext cx="1066680" cy="1663560"/>
            <a:chOff x="7315200" y="1600200"/>
            <a:chExt cx="1066680" cy="1663560"/>
          </a:xfrm>
        </p:grpSpPr>
        <p:sp>
          <p:nvSpPr>
            <p:cNvPr id="176" name=""/>
            <p:cNvSpPr/>
            <p:nvPr/>
          </p:nvSpPr>
          <p:spPr>
            <a:xfrm>
              <a:off x="7473960" y="2063880"/>
              <a:ext cx="444600" cy="392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48720" y="23623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2468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15200" y="160020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657600" y="1219320"/>
            <a:ext cx="977760" cy="1282320"/>
            <a:chOff x="3657600" y="1219320"/>
            <a:chExt cx="977760" cy="1282320"/>
          </a:xfrm>
        </p:grpSpPr>
        <p:sp>
          <p:nvSpPr>
            <p:cNvPr id="181" name=""/>
            <p:cNvSpPr/>
            <p:nvPr/>
          </p:nvSpPr>
          <p:spPr>
            <a:xfrm>
              <a:off x="4191120" y="129528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885840" y="1676520"/>
              <a:ext cx="374760" cy="3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760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12193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565520" y="1670040"/>
            <a:ext cx="603360" cy="855720"/>
            <a:chOff x="4565520" y="1670040"/>
            <a:chExt cx="603360" cy="855720"/>
          </a:xfrm>
        </p:grpSpPr>
        <p:sp>
          <p:nvSpPr>
            <p:cNvPr id="186" name=""/>
            <p:cNvSpPr/>
            <p:nvPr/>
          </p:nvSpPr>
          <p:spPr>
            <a:xfrm>
              <a:off x="4724280" y="2133720"/>
              <a:ext cx="444600" cy="392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65520" y="167004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7200" y="6019920"/>
            <a:ext cx="4952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 Black"/>
              </a:rPr>
              <a:t>k = g.key = 1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orward Pas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09480" y="3435480"/>
            <a:ext cx="1676520" cy="2419200"/>
            <a:chOff x="609480" y="3435480"/>
            <a:chExt cx="1676520" cy="2419200"/>
          </a:xfrm>
        </p:grpSpPr>
        <p:sp>
          <p:nvSpPr>
            <p:cNvPr id="191" name=""/>
            <p:cNvSpPr/>
            <p:nvPr/>
          </p:nvSpPr>
          <p:spPr>
            <a:xfrm>
              <a:off x="1378080" y="34354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218960" y="37339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52480" y="37339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96840" y="41068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37720" y="4405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4053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94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78080" y="471636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218960" y="5014800"/>
              <a:ext cx="22860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52480" y="5014800"/>
              <a:ext cx="15264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9072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5248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1219320"/>
            <a:ext cx="1511280" cy="1306440"/>
            <a:chOff x="3657600" y="1219320"/>
            <a:chExt cx="1511280" cy="1306440"/>
          </a:xfrm>
        </p:grpSpPr>
        <p:grpSp>
          <p:nvGrpSpPr>
            <p:cNvPr id="205" name=""/>
            <p:cNvGrpSpPr/>
            <p:nvPr/>
          </p:nvGrpSpPr>
          <p:grpSpPr>
            <a:xfrm>
              <a:off x="3657600" y="1219320"/>
              <a:ext cx="977760" cy="1282320"/>
              <a:chOff x="3657600" y="1219320"/>
              <a:chExt cx="977760" cy="1282320"/>
            </a:xfrm>
          </p:grpSpPr>
          <p:sp>
            <p:nvSpPr>
              <p:cNvPr id="206" name=""/>
              <p:cNvSpPr/>
              <p:nvPr/>
            </p:nvSpPr>
            <p:spPr>
              <a:xfrm>
                <a:off x="4191120" y="1295280"/>
                <a:ext cx="444240" cy="4446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3885840" y="1676520"/>
                <a:ext cx="374760" cy="3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65760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57600" y="12193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Arial Black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4724280" y="2133720"/>
              <a:ext cx="444600" cy="392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65520" y="167004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962520" y="2514600"/>
            <a:ext cx="837720" cy="1587240"/>
            <a:chOff x="3962520" y="2514600"/>
            <a:chExt cx="837720" cy="1587240"/>
          </a:xfrm>
        </p:grpSpPr>
        <p:sp>
          <p:nvSpPr>
            <p:cNvPr id="213" name=""/>
            <p:cNvSpPr/>
            <p:nvPr/>
          </p:nvSpPr>
          <p:spPr>
            <a:xfrm>
              <a:off x="4273560" y="2901960"/>
              <a:ext cx="444600" cy="392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114440" y="320040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2520" y="358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495320" y="251460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324480" y="1281240"/>
            <a:ext cx="2057400" cy="1982520"/>
            <a:chOff x="6324480" y="1281240"/>
            <a:chExt cx="2057400" cy="1982520"/>
          </a:xfrm>
        </p:grpSpPr>
        <p:sp>
          <p:nvSpPr>
            <p:cNvPr id="218" name=""/>
            <p:cNvSpPr/>
            <p:nvPr/>
          </p:nvSpPr>
          <p:spPr>
            <a:xfrm>
              <a:off x="7473960" y="2063880"/>
              <a:ext cx="444600" cy="392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48720" y="23623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6324480" y="1281240"/>
              <a:ext cx="1054080" cy="534600"/>
              <a:chOff x="6324480" y="1281240"/>
              <a:chExt cx="1054080" cy="534600"/>
            </a:xfrm>
          </p:grpSpPr>
          <p:sp>
            <p:nvSpPr>
              <p:cNvPr id="222" name=""/>
              <p:cNvSpPr/>
              <p:nvPr/>
            </p:nvSpPr>
            <p:spPr>
              <a:xfrm>
                <a:off x="6934320" y="1281240"/>
                <a:ext cx="444240" cy="4442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24480" y="12952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Arial Black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7315200" y="160020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016760" y="2362320"/>
            <a:ext cx="526680" cy="779400"/>
            <a:chOff x="7016760" y="2362320"/>
            <a:chExt cx="526680" cy="779400"/>
          </a:xfrm>
        </p:grpSpPr>
        <p:sp>
          <p:nvSpPr>
            <p:cNvPr id="226" name=""/>
            <p:cNvSpPr/>
            <p:nvPr/>
          </p:nvSpPr>
          <p:spPr>
            <a:xfrm>
              <a:off x="7016760" y="2749680"/>
              <a:ext cx="444600" cy="392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238520" y="236232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57200" y="6019920"/>
            <a:ext cx="4952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 Black"/>
              </a:rPr>
              <a:t>k = g.key = 1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orward Pas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1219320"/>
            <a:ext cx="1511280" cy="2882520"/>
            <a:chOff x="3657600" y="1219320"/>
            <a:chExt cx="1511280" cy="2882520"/>
          </a:xfrm>
        </p:grpSpPr>
        <p:sp>
          <p:nvSpPr>
            <p:cNvPr id="231" name=""/>
            <p:cNvSpPr/>
            <p:nvPr/>
          </p:nvSpPr>
          <p:spPr>
            <a:xfrm>
              <a:off x="4273560" y="2901960"/>
              <a:ext cx="444600" cy="392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114440" y="320040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62520" y="358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3657600" y="1219320"/>
              <a:ext cx="1511280" cy="1306440"/>
              <a:chOff x="3657600" y="1219320"/>
              <a:chExt cx="1511280" cy="13064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3657600" y="1219320"/>
                <a:ext cx="977760" cy="1282320"/>
                <a:chOff x="3657600" y="1219320"/>
                <a:chExt cx="977760" cy="12823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191120" y="1295280"/>
                  <a:ext cx="444240" cy="444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3885840" y="1676520"/>
                  <a:ext cx="374760" cy="395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657600" y="1981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657600" y="121932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ff"/>
                      </a:solidFill>
                      <a:latin typeface="Arial Black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4724280" y="2133720"/>
                <a:ext cx="444600" cy="3920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65520" y="1670040"/>
                <a:ext cx="30492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 flipH="1">
              <a:off x="4495320" y="251460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641840" y="3270240"/>
            <a:ext cx="679320" cy="1008000"/>
            <a:chOff x="4641840" y="3270240"/>
            <a:chExt cx="679320" cy="1008000"/>
          </a:xfrm>
        </p:grpSpPr>
        <p:sp>
          <p:nvSpPr>
            <p:cNvPr id="244" name=""/>
            <p:cNvSpPr/>
            <p:nvPr/>
          </p:nvSpPr>
          <p:spPr>
            <a:xfrm>
              <a:off x="4876920" y="3886200"/>
              <a:ext cx="444240" cy="392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41840" y="3270240"/>
              <a:ext cx="38088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315200" y="3048120"/>
            <a:ext cx="1143000" cy="1739520"/>
            <a:chOff x="7315200" y="3048120"/>
            <a:chExt cx="1143000" cy="1739520"/>
          </a:xfrm>
        </p:grpSpPr>
        <p:sp>
          <p:nvSpPr>
            <p:cNvPr id="247" name=""/>
            <p:cNvSpPr/>
            <p:nvPr/>
          </p:nvSpPr>
          <p:spPr>
            <a:xfrm>
              <a:off x="7550280" y="3664080"/>
              <a:ext cx="444240" cy="392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15200" y="3048120"/>
              <a:ext cx="38088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24680" y="39625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01000" y="42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324480" y="1281240"/>
            <a:ext cx="2057400" cy="1982520"/>
            <a:chOff x="6324480" y="1281240"/>
            <a:chExt cx="2057400" cy="1982520"/>
          </a:xfrm>
        </p:grpSpPr>
        <p:grpSp>
          <p:nvGrpSpPr>
            <p:cNvPr id="252" name=""/>
            <p:cNvGrpSpPr/>
            <p:nvPr/>
          </p:nvGrpSpPr>
          <p:grpSpPr>
            <a:xfrm>
              <a:off x="6324480" y="1281240"/>
              <a:ext cx="2057400" cy="1982520"/>
              <a:chOff x="6324480" y="1281240"/>
              <a:chExt cx="2057400" cy="1982520"/>
            </a:xfrm>
          </p:grpSpPr>
          <p:sp>
            <p:nvSpPr>
              <p:cNvPr id="253" name=""/>
              <p:cNvSpPr/>
              <p:nvPr/>
            </p:nvSpPr>
            <p:spPr>
              <a:xfrm>
                <a:off x="7473960" y="2063880"/>
                <a:ext cx="444600" cy="39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48720" y="2362320"/>
                <a:ext cx="15228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924680" y="2743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6324480" y="1281240"/>
                <a:ext cx="1054080" cy="534600"/>
                <a:chOff x="6324480" y="1281240"/>
                <a:chExt cx="1054080" cy="5346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934320" y="1281240"/>
                  <a:ext cx="444240" cy="444240"/>
                </a:xfrm>
                <a:prstGeom prst="ellipse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324480" y="129528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Arial Black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7315200" y="1600200"/>
                <a:ext cx="30492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7016760" y="2749680"/>
              <a:ext cx="444600" cy="392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238520" y="236232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09480" y="4106880"/>
            <a:ext cx="1600200" cy="1747800"/>
            <a:chOff x="609480" y="4106880"/>
            <a:chExt cx="1600200" cy="1747800"/>
          </a:xfrm>
        </p:grpSpPr>
        <p:sp>
          <p:nvSpPr>
            <p:cNvPr id="263" name=""/>
            <p:cNvSpPr/>
            <p:nvPr/>
          </p:nvSpPr>
          <p:spPr>
            <a:xfrm>
              <a:off x="996840" y="41068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837720" y="4405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71600" y="44053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94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8080" y="471636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218960" y="5014800"/>
              <a:ext cx="22860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52480" y="5014800"/>
              <a:ext cx="15264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9072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5248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57200" y="6019920"/>
            <a:ext cx="4952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 Black"/>
              </a:rPr>
              <a:t>k = g.key = 1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orward Pas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990720" y="4716360"/>
            <a:ext cx="1218960" cy="1138320"/>
            <a:chOff x="990720" y="4716360"/>
            <a:chExt cx="1218960" cy="1138320"/>
          </a:xfrm>
        </p:grpSpPr>
        <p:sp>
          <p:nvSpPr>
            <p:cNvPr id="275" name=""/>
            <p:cNvSpPr/>
            <p:nvPr/>
          </p:nvSpPr>
          <p:spPr>
            <a:xfrm>
              <a:off x="1378080" y="471636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218960" y="5014800"/>
              <a:ext cx="22860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52480" y="5014800"/>
              <a:ext cx="15264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9072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5248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657600" y="1219320"/>
            <a:ext cx="1663560" cy="3058920"/>
            <a:chOff x="3657600" y="1219320"/>
            <a:chExt cx="1663560" cy="3058920"/>
          </a:xfrm>
        </p:grpSpPr>
        <p:grpSp>
          <p:nvGrpSpPr>
            <p:cNvPr id="281" name=""/>
            <p:cNvGrpSpPr/>
            <p:nvPr/>
          </p:nvGrpSpPr>
          <p:grpSpPr>
            <a:xfrm>
              <a:off x="3657600" y="1219320"/>
              <a:ext cx="1511280" cy="2882520"/>
              <a:chOff x="3657600" y="1219320"/>
              <a:chExt cx="1511280" cy="2882520"/>
            </a:xfrm>
          </p:grpSpPr>
          <p:sp>
            <p:nvSpPr>
              <p:cNvPr id="282" name=""/>
              <p:cNvSpPr/>
              <p:nvPr/>
            </p:nvSpPr>
            <p:spPr>
              <a:xfrm>
                <a:off x="4273560" y="2901960"/>
                <a:ext cx="444600" cy="3920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4114440" y="3200400"/>
                <a:ext cx="228600" cy="41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62520" y="35812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3657600" y="1219320"/>
                <a:ext cx="1511280" cy="1306440"/>
                <a:chOff x="3657600" y="1219320"/>
                <a:chExt cx="1511280" cy="1306440"/>
              </a:xfrm>
            </p:grpSpPr>
            <p:grpSp>
              <p:nvGrpSpPr>
                <p:cNvPr id="286" name=""/>
                <p:cNvGrpSpPr/>
                <p:nvPr/>
              </p:nvGrpSpPr>
              <p:grpSpPr>
                <a:xfrm>
                  <a:off x="3657600" y="1219320"/>
                  <a:ext cx="977760" cy="1282320"/>
                  <a:chOff x="3657600" y="1219320"/>
                  <a:chExt cx="977760" cy="128232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4191120" y="1295280"/>
                    <a:ext cx="444240" cy="4446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>
                    <a:off x="3885840" y="1676520"/>
                    <a:ext cx="374760" cy="395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657600" y="198108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657600" y="121932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ff00ff"/>
                        </a:solidFill>
                        <a:latin typeface="Arial Black"/>
                      </a:rPr>
                      <a:t>S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4724280" y="2133720"/>
                  <a:ext cx="444600" cy="3920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565520" y="1670040"/>
                  <a:ext cx="304920" cy="45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 flipH="1">
                <a:off x="4495320" y="2514600"/>
                <a:ext cx="30492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4876920" y="3886200"/>
              <a:ext cx="444240" cy="392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41840" y="3270240"/>
              <a:ext cx="38088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032360" y="4267080"/>
            <a:ext cx="996480" cy="1519200"/>
            <a:chOff x="4032360" y="4267080"/>
            <a:chExt cx="996480" cy="1519200"/>
          </a:xfrm>
        </p:grpSpPr>
        <p:sp>
          <p:nvSpPr>
            <p:cNvPr id="297" name=""/>
            <p:cNvSpPr/>
            <p:nvPr/>
          </p:nvSpPr>
          <p:spPr>
            <a:xfrm>
              <a:off x="4419720" y="4648320"/>
              <a:ext cx="444240" cy="392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260600" y="494676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32360" y="5265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723920" y="42670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550280" y="3664080"/>
            <a:ext cx="444240" cy="392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15200" y="304812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924680" y="396252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0100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324480" y="1281240"/>
            <a:ext cx="2057400" cy="1982520"/>
            <a:chOff x="6324480" y="1281240"/>
            <a:chExt cx="2057400" cy="1982520"/>
          </a:xfrm>
        </p:grpSpPr>
        <p:grpSp>
          <p:nvGrpSpPr>
            <p:cNvPr id="306" name=""/>
            <p:cNvGrpSpPr/>
            <p:nvPr/>
          </p:nvGrpSpPr>
          <p:grpSpPr>
            <a:xfrm>
              <a:off x="6324480" y="1281240"/>
              <a:ext cx="2057400" cy="1982520"/>
              <a:chOff x="6324480" y="1281240"/>
              <a:chExt cx="2057400" cy="1982520"/>
            </a:xfrm>
          </p:grpSpPr>
          <p:sp>
            <p:nvSpPr>
              <p:cNvPr id="307" name=""/>
              <p:cNvSpPr/>
              <p:nvPr/>
            </p:nvSpPr>
            <p:spPr>
              <a:xfrm>
                <a:off x="7473960" y="2063880"/>
                <a:ext cx="444600" cy="39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848720" y="2362320"/>
                <a:ext cx="15228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924680" y="2743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6324480" y="1281240"/>
                <a:ext cx="1054080" cy="534600"/>
                <a:chOff x="6324480" y="1281240"/>
                <a:chExt cx="1054080" cy="5346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934320" y="1281240"/>
                  <a:ext cx="444240" cy="444240"/>
                </a:xfrm>
                <a:prstGeom prst="ellipse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324480" y="129528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Arial Black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7315200" y="1600200"/>
                <a:ext cx="30492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7016760" y="2749680"/>
              <a:ext cx="444600" cy="392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238520" y="236232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7010280" y="4038480"/>
            <a:ext cx="609480" cy="773280"/>
            <a:chOff x="7010280" y="4038480"/>
            <a:chExt cx="609480" cy="773280"/>
          </a:xfrm>
        </p:grpSpPr>
        <p:sp>
          <p:nvSpPr>
            <p:cNvPr id="317" name=""/>
            <p:cNvSpPr/>
            <p:nvPr/>
          </p:nvSpPr>
          <p:spPr>
            <a:xfrm>
              <a:off x="7010280" y="4419720"/>
              <a:ext cx="444600" cy="392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314840" y="40384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57200" y="6019920"/>
            <a:ext cx="4952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 Black"/>
              </a:rPr>
              <a:t>k = g.key = 1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6-07-18T19:49:30Z</dcterms:modified>
  <cp:revision>317</cp:revision>
  <dc:subject/>
  <dc:title>Data Representation Methods</dc:title>
</cp:coreProperties>
</file>