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5043-B46A-4FBF-9A3B-95C5B82A0E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discuss IP application in detail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is to store only length k keys at level k. Then, 0000, for example, would be stored one level down from shown figure. Longest prefix mat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bling is branch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bling is element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from nonleaf =&gt; replace with key in subtree leaf. Note can’t delete as in binary search tree as that would change levels of nodes and mess up relationship between level and branching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branch node has &gt;=2 keys/pairs in its sub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6F0-7DAA-4B15-AE09-339A168E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29D-5AD6-45CD-98C8-8762CA87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73D-188C-40C4-9162-B28E5C0A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E65-7E58-4E5D-9B81-183CBF4E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1A0-57C6-4CFB-9714-17EF0A97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E6C-3AC7-44E8-BB46-46728DF6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7EF-3BDC-459A-934C-23B2475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CEB-1A93-4482-A4B9-4F6FF30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4D8-7D78-4626-B8CE-48DACA4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B1-D70A-4763-B460-B86B501F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1B0-FC20-4735-8064-7C8F26B3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686-29A9-49D6-9594-CA000EE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1961-BC14-4DAE-B35A-CD471F624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gital Search Trees &amp; Binary T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of radix sort to sear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are binary bit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length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110, 0010, 1010, 10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length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1, 00, 101, 10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– IP routing, packet classification, fire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v4 – 32 bit IP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v6 – 128 bit IP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riable Key Leng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and right child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and right pair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pair is pair whose key terminates at root of left subtree or the single pair that might otherwise be in the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ir is pair whose key terminates at root of right subtree or the single pair that might otherwise be in the righ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is null otherw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6019920"/>
            <a:ext cx="7010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one key comparison for a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175248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175248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828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219320"/>
            <a:ext cx="129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1219320"/>
            <a:ext cx="1295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2438280"/>
            <a:ext cx="12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438280"/>
            <a:ext cx="1295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3657600"/>
            <a:ext cx="129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3657600"/>
            <a:ext cx="12956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2438280"/>
            <a:ext cx="129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438280"/>
            <a:ext cx="1295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5105520"/>
            <a:ext cx="12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5105520"/>
            <a:ext cx="1295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657600"/>
            <a:ext cx="129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657600"/>
            <a:ext cx="12956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23880" y="297180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86400" y="297180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4191120"/>
            <a:ext cx="12956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1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3520" y="1447920"/>
            <a:ext cx="8001000" cy="4419360"/>
            <a:chOff x="533520" y="1447920"/>
            <a:chExt cx="8001000" cy="4419360"/>
          </a:xfrm>
        </p:grpSpPr>
        <p:grpSp>
          <p:nvGrpSpPr>
            <p:cNvPr id="259" name=""/>
            <p:cNvGrpSpPr/>
            <p:nvPr/>
          </p:nvGrpSpPr>
          <p:grpSpPr>
            <a:xfrm>
              <a:off x="533520" y="1447920"/>
              <a:ext cx="8001000" cy="4419360"/>
              <a:chOff x="533520" y="1447920"/>
              <a:chExt cx="8001000" cy="4419360"/>
            </a:xfrm>
          </p:grpSpPr>
          <p:sp>
            <p:nvSpPr>
              <p:cNvPr id="260" name=""/>
              <p:cNvSpPr/>
              <p:nvPr/>
            </p:nvSpPr>
            <p:spPr>
              <a:xfrm>
                <a:off x="4800600" y="144792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668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02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765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913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117960" y="1746360"/>
                <a:ext cx="167616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51320" y="1746360"/>
                <a:ext cx="182880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1974960" y="2813040"/>
                <a:ext cx="76176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165720" y="2819520"/>
                <a:ext cx="920880" cy="45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364760" y="3651120"/>
                <a:ext cx="3812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50920" y="36511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57800" y="42670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556240" y="3727440"/>
                <a:ext cx="3808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533520" y="4267080"/>
                <a:ext cx="1294920" cy="533160"/>
                <a:chOff x="533520" y="4267080"/>
                <a:chExt cx="1294920" cy="533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434304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1760" y="42670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828800" y="4343400"/>
                <a:ext cx="1294920" cy="533160"/>
                <a:chOff x="1828800" y="4343400"/>
                <a:chExt cx="1294920" cy="533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828800" y="44193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57040" y="43434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238880" y="3276720"/>
                <a:ext cx="1295640" cy="533160"/>
                <a:chOff x="7238880" y="3276720"/>
                <a:chExt cx="1295640" cy="533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238880" y="33526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67480" y="32767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7315200" y="2819520"/>
                <a:ext cx="6094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946760" y="464184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32560" y="464184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4114800" y="5257800"/>
                <a:ext cx="1294920" cy="533160"/>
                <a:chOff x="4114800" y="5257800"/>
                <a:chExt cx="1294920" cy="533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114800" y="53337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343040" y="5257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410080" y="5334120"/>
                <a:ext cx="1295640" cy="533160"/>
                <a:chOff x="5410080" y="5334120"/>
                <a:chExt cx="1295640" cy="533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10080" y="54100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38680" y="53341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0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132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819520" y="2819520"/>
            <a:ext cx="1294920" cy="1225440"/>
            <a:chOff x="2819520" y="2819520"/>
            <a:chExt cx="1294920" cy="1225440"/>
          </a:xfrm>
        </p:grpSpPr>
        <p:sp>
          <p:nvSpPr>
            <p:cNvPr id="302" name=""/>
            <p:cNvSpPr/>
            <p:nvPr/>
          </p:nvSpPr>
          <p:spPr>
            <a:xfrm>
              <a:off x="3041640" y="28195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819520" y="3511800"/>
              <a:ext cx="1294920" cy="533160"/>
              <a:chOff x="2819520" y="3511800"/>
              <a:chExt cx="1294920" cy="533160"/>
            </a:xfrm>
          </p:grpSpPr>
          <p:sp>
            <p:nvSpPr>
              <p:cNvPr id="304" name=""/>
              <p:cNvSpPr/>
              <p:nvPr/>
            </p:nvSpPr>
            <p:spPr>
              <a:xfrm>
                <a:off x="2819520" y="35877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47760" y="35118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200400" y="282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0292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33520" y="1447920"/>
            <a:ext cx="8001000" cy="4419360"/>
            <a:chOff x="533520" y="1447920"/>
            <a:chExt cx="8001000" cy="4419360"/>
          </a:xfrm>
        </p:grpSpPr>
        <p:grpSp>
          <p:nvGrpSpPr>
            <p:cNvPr id="311" name=""/>
            <p:cNvGrpSpPr/>
            <p:nvPr/>
          </p:nvGrpSpPr>
          <p:grpSpPr>
            <a:xfrm>
              <a:off x="533520" y="1447920"/>
              <a:ext cx="8001000" cy="4419360"/>
              <a:chOff x="533520" y="1447920"/>
              <a:chExt cx="8001000" cy="4419360"/>
            </a:xfrm>
          </p:grpSpPr>
          <p:sp>
            <p:nvSpPr>
              <p:cNvPr id="312" name=""/>
              <p:cNvSpPr/>
              <p:nvPr/>
            </p:nvSpPr>
            <p:spPr>
              <a:xfrm>
                <a:off x="4800600" y="144792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668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65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913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3117960" y="1746360"/>
                <a:ext cx="167616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1320" y="1746360"/>
                <a:ext cx="182880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1974960" y="2813040"/>
                <a:ext cx="76176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165720" y="2819520"/>
                <a:ext cx="920880" cy="45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364760" y="3651120"/>
                <a:ext cx="3812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050920" y="36511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57800" y="42670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556240" y="3727440"/>
                <a:ext cx="3808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33520" y="4267080"/>
                <a:ext cx="1294920" cy="533160"/>
                <a:chOff x="533520" y="4267080"/>
                <a:chExt cx="1294920" cy="533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33520" y="434304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61760" y="42670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828800" y="4343400"/>
                <a:ext cx="1294920" cy="533160"/>
                <a:chOff x="1828800" y="4343400"/>
                <a:chExt cx="1294920" cy="533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828800" y="44193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057040" y="43434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238880" y="3276720"/>
                <a:ext cx="1295640" cy="533160"/>
                <a:chOff x="7238880" y="3276720"/>
                <a:chExt cx="1295640" cy="533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38880" y="33526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467480" y="32767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7315200" y="2819520"/>
                <a:ext cx="6094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4946760" y="464184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32560" y="464184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114800" y="5257800"/>
                <a:ext cx="1294920" cy="533160"/>
                <a:chOff x="4114800" y="5257800"/>
                <a:chExt cx="1294920" cy="5331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114800" y="53337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343040" y="5257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5410080" y="5334120"/>
                <a:ext cx="1295640" cy="533160"/>
                <a:chOff x="5410080" y="5334120"/>
                <a:chExt cx="1295640" cy="5331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410080" y="54100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38680" y="53341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100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819520" y="2819520"/>
            <a:ext cx="1294920" cy="1225440"/>
            <a:chOff x="2819520" y="2819520"/>
            <a:chExt cx="1294920" cy="1225440"/>
          </a:xfrm>
        </p:grpSpPr>
        <p:sp>
          <p:nvSpPr>
            <p:cNvPr id="354" name=""/>
            <p:cNvSpPr/>
            <p:nvPr/>
          </p:nvSpPr>
          <p:spPr>
            <a:xfrm>
              <a:off x="3041640" y="28195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819520" y="3511800"/>
              <a:ext cx="1294920" cy="533160"/>
              <a:chOff x="2819520" y="3511800"/>
              <a:chExt cx="1294920" cy="533160"/>
            </a:xfrm>
          </p:grpSpPr>
          <p:sp>
            <p:nvSpPr>
              <p:cNvPr id="356" name=""/>
              <p:cNvSpPr/>
              <p:nvPr/>
            </p:nvSpPr>
            <p:spPr>
              <a:xfrm>
                <a:off x="2819520" y="35877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47760" y="35118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200400" y="282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391520" y="1066680"/>
            <a:ext cx="1294920" cy="533160"/>
            <a:chOff x="7391520" y="1066680"/>
            <a:chExt cx="1294920" cy="533160"/>
          </a:xfrm>
        </p:grpSpPr>
        <p:sp>
          <p:nvSpPr>
            <p:cNvPr id="365" name=""/>
            <p:cNvSpPr/>
            <p:nvPr/>
          </p:nvSpPr>
          <p:spPr>
            <a:xfrm>
              <a:off x="7391520" y="11426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19760" y="1066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33520" y="1447920"/>
            <a:ext cx="5943600" cy="4419360"/>
            <a:chOff x="533520" y="1447920"/>
            <a:chExt cx="5943600" cy="4419360"/>
          </a:xfrm>
        </p:grpSpPr>
        <p:sp>
          <p:nvSpPr>
            <p:cNvPr id="371" name=""/>
            <p:cNvSpPr/>
            <p:nvPr/>
          </p:nvSpPr>
          <p:spPr>
            <a:xfrm>
              <a:off x="4800600" y="1447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668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6520" y="3276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6400" y="3276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117960" y="174636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74960" y="281304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364760" y="36511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0920" y="36511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250960" y="372744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533520" y="4267080"/>
              <a:ext cx="1294920" cy="533160"/>
              <a:chOff x="533520" y="4267080"/>
              <a:chExt cx="1294920" cy="533160"/>
            </a:xfrm>
          </p:grpSpPr>
          <p:sp>
            <p:nvSpPr>
              <p:cNvPr id="382" name=""/>
              <p:cNvSpPr/>
              <p:nvPr/>
            </p:nvSpPr>
            <p:spPr>
              <a:xfrm>
                <a:off x="53352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176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828800" y="4343400"/>
              <a:ext cx="1294920" cy="533160"/>
              <a:chOff x="1828800" y="4343400"/>
              <a:chExt cx="1294920" cy="533160"/>
            </a:xfrm>
          </p:grpSpPr>
          <p:sp>
            <p:nvSpPr>
              <p:cNvPr id="385" name=""/>
              <p:cNvSpPr/>
              <p:nvPr/>
            </p:nvSpPr>
            <p:spPr>
              <a:xfrm>
                <a:off x="1828800" y="44193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5704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390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393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2819520" y="2819520"/>
              <a:ext cx="1294920" cy="1225440"/>
              <a:chOff x="2819520" y="2819520"/>
              <a:chExt cx="1294920" cy="1225440"/>
            </a:xfrm>
          </p:grpSpPr>
          <p:sp>
            <p:nvSpPr>
              <p:cNvPr id="404" name=""/>
              <p:cNvSpPr/>
              <p:nvPr/>
            </p:nvSpPr>
            <p:spPr>
              <a:xfrm>
                <a:off x="3041640" y="28195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2819520" y="3511800"/>
                <a:ext cx="1294920" cy="533160"/>
                <a:chOff x="2819520" y="3511800"/>
                <a:chExt cx="1294920" cy="533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819520" y="35877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047760" y="3511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1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3200400" y="2826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822960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238880" y="4724280"/>
            <a:ext cx="527040" cy="685800"/>
            <a:chOff x="7238880" y="4724280"/>
            <a:chExt cx="527040" cy="685800"/>
          </a:xfrm>
        </p:grpSpPr>
        <p:sp>
          <p:nvSpPr>
            <p:cNvPr id="412" name=""/>
            <p:cNvSpPr/>
            <p:nvPr/>
          </p:nvSpPr>
          <p:spPr>
            <a:xfrm flipH="1">
              <a:off x="7385040" y="47242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8880" y="480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848720" y="3740040"/>
            <a:ext cx="526680" cy="603360"/>
            <a:chOff x="7848720" y="3740040"/>
            <a:chExt cx="526680" cy="603360"/>
          </a:xfrm>
        </p:grpSpPr>
        <p:sp>
          <p:nvSpPr>
            <p:cNvPr id="415" name=""/>
            <p:cNvSpPr/>
            <p:nvPr/>
          </p:nvSpPr>
          <p:spPr>
            <a:xfrm flipH="1">
              <a:off x="7994160" y="38098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8720" y="374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520" y="1447920"/>
            <a:ext cx="5943600" cy="4419360"/>
            <a:chOff x="533520" y="1447920"/>
            <a:chExt cx="5943600" cy="4419360"/>
          </a:xfrm>
        </p:grpSpPr>
        <p:sp>
          <p:nvSpPr>
            <p:cNvPr id="426" name=""/>
            <p:cNvSpPr/>
            <p:nvPr/>
          </p:nvSpPr>
          <p:spPr>
            <a:xfrm>
              <a:off x="4800600" y="1447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68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3276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6400" y="3276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117960" y="174636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974960" y="281304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364760" y="36511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0920" y="36511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250960" y="372744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33520" y="4267080"/>
              <a:ext cx="1294920" cy="533160"/>
              <a:chOff x="533520" y="4267080"/>
              <a:chExt cx="1294920" cy="533160"/>
            </a:xfrm>
          </p:grpSpPr>
          <p:sp>
            <p:nvSpPr>
              <p:cNvPr id="437" name=""/>
              <p:cNvSpPr/>
              <p:nvPr/>
            </p:nvSpPr>
            <p:spPr>
              <a:xfrm>
                <a:off x="53352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176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828800" y="4343400"/>
              <a:ext cx="1294920" cy="533160"/>
              <a:chOff x="1828800" y="4343400"/>
              <a:chExt cx="1294920" cy="533160"/>
            </a:xfrm>
          </p:grpSpPr>
          <p:sp>
            <p:nvSpPr>
              <p:cNvPr id="440" name=""/>
              <p:cNvSpPr/>
              <p:nvPr/>
            </p:nvSpPr>
            <p:spPr>
              <a:xfrm>
                <a:off x="1828800" y="44193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5704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445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448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2819520" y="2819520"/>
              <a:ext cx="1294920" cy="1225440"/>
              <a:chOff x="2819520" y="2819520"/>
              <a:chExt cx="1294920" cy="1225440"/>
            </a:xfrm>
          </p:grpSpPr>
          <p:sp>
            <p:nvSpPr>
              <p:cNvPr id="459" name=""/>
              <p:cNvSpPr/>
              <p:nvPr/>
            </p:nvSpPr>
            <p:spPr>
              <a:xfrm>
                <a:off x="3041640" y="28195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2819520" y="3511800"/>
                <a:ext cx="1294920" cy="533160"/>
                <a:chOff x="2819520" y="3511800"/>
                <a:chExt cx="1294920" cy="5331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819520" y="35877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047760" y="3511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1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3200400" y="2826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50292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p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2960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553080" y="5340240"/>
            <a:ext cx="1295640" cy="533160"/>
            <a:chOff x="6553080" y="5340240"/>
            <a:chExt cx="1295640" cy="533160"/>
          </a:xfrm>
        </p:grpSpPr>
        <p:sp>
          <p:nvSpPr>
            <p:cNvPr id="468" name=""/>
            <p:cNvSpPr/>
            <p:nvPr/>
          </p:nvSpPr>
          <p:spPr>
            <a:xfrm>
              <a:off x="6553080" y="541620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81680" y="534024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848720" y="5416560"/>
            <a:ext cx="1294920" cy="533160"/>
            <a:chOff x="7848720" y="5416560"/>
            <a:chExt cx="1294920" cy="533160"/>
          </a:xfrm>
        </p:grpSpPr>
        <p:sp>
          <p:nvSpPr>
            <p:cNvPr id="471" name=""/>
            <p:cNvSpPr/>
            <p:nvPr/>
          </p:nvSpPr>
          <p:spPr>
            <a:xfrm>
              <a:off x="7848720" y="549252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76960" y="54165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238880" y="4724280"/>
            <a:ext cx="527040" cy="685800"/>
            <a:chOff x="7238880" y="4724280"/>
            <a:chExt cx="527040" cy="685800"/>
          </a:xfrm>
        </p:grpSpPr>
        <p:sp>
          <p:nvSpPr>
            <p:cNvPr id="474" name=""/>
            <p:cNvSpPr/>
            <p:nvPr/>
          </p:nvSpPr>
          <p:spPr>
            <a:xfrm flipH="1">
              <a:off x="7385040" y="47242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38880" y="480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848720" y="3740040"/>
            <a:ext cx="526680" cy="603360"/>
            <a:chOff x="7848720" y="3740040"/>
            <a:chExt cx="526680" cy="603360"/>
          </a:xfrm>
        </p:grpSpPr>
        <p:sp>
          <p:nvSpPr>
            <p:cNvPr id="477" name=""/>
            <p:cNvSpPr/>
            <p:nvPr/>
          </p:nvSpPr>
          <p:spPr>
            <a:xfrm flipH="1">
              <a:off x="7994160" y="38098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8720" y="374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070840" y="4724280"/>
            <a:ext cx="615960" cy="762120"/>
            <a:chOff x="8070840" y="4724280"/>
            <a:chExt cx="615960" cy="762120"/>
          </a:xfrm>
        </p:grpSpPr>
        <p:sp>
          <p:nvSpPr>
            <p:cNvPr id="480" name=""/>
            <p:cNvSpPr/>
            <p:nvPr/>
          </p:nvSpPr>
          <p:spPr>
            <a:xfrm>
              <a:off x="8070840" y="472428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29600" y="480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01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33520" y="1447920"/>
            <a:ext cx="8610120" cy="4501800"/>
            <a:chOff x="533520" y="1447920"/>
            <a:chExt cx="8610120" cy="4501800"/>
          </a:xfrm>
        </p:grpSpPr>
        <p:sp>
          <p:nvSpPr>
            <p:cNvPr id="485" name=""/>
            <p:cNvSpPr/>
            <p:nvPr/>
          </p:nvSpPr>
          <p:spPr>
            <a:xfrm>
              <a:off x="70102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51320" y="1746360"/>
              <a:ext cx="1828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943240" y="281952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28195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33520" y="1447920"/>
              <a:ext cx="5943600" cy="4419360"/>
              <a:chOff x="533520" y="1447920"/>
              <a:chExt cx="5943600" cy="4419360"/>
            </a:xfrm>
          </p:grpSpPr>
          <p:sp>
            <p:nvSpPr>
              <p:cNvPr id="492" name=""/>
              <p:cNvSpPr/>
              <p:nvPr/>
            </p:nvSpPr>
            <p:spPr>
              <a:xfrm>
                <a:off x="4800600" y="144792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6668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765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86400" y="327672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117960" y="1746360"/>
                <a:ext cx="167616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974960" y="2813040"/>
                <a:ext cx="76176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1364760" y="3651120"/>
                <a:ext cx="3812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050920" y="36511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52880" y="42670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5250960" y="3727440"/>
                <a:ext cx="3812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533520" y="4267080"/>
                <a:ext cx="1294920" cy="533160"/>
                <a:chOff x="533520" y="4267080"/>
                <a:chExt cx="1294920" cy="5331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33520" y="434304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61760" y="42670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828800" y="4343400"/>
                <a:ext cx="1294920" cy="533160"/>
                <a:chOff x="1828800" y="4343400"/>
                <a:chExt cx="1294920" cy="5331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828800" y="44193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57040" y="43434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 flipH="1">
                <a:off x="4641840" y="464184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27640" y="464184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809880" y="5257800"/>
                <a:ext cx="1295640" cy="533160"/>
                <a:chOff x="3809880" y="5257800"/>
                <a:chExt cx="1295640" cy="5331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809880" y="533376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038480" y="525780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105520" y="5334120"/>
                <a:ext cx="1294920" cy="533160"/>
                <a:chOff x="5105520" y="5334120"/>
                <a:chExt cx="1294920" cy="5331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105520" y="541008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333760" y="533412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388620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57400" y="2666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43000" y="3657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95680" y="4724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105520" y="3657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9920" y="1676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86400" y="47242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09680" y="3657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2819520" y="2819520"/>
                <a:ext cx="1294920" cy="1225440"/>
                <a:chOff x="2819520" y="2819520"/>
                <a:chExt cx="1294920" cy="1225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041640" y="2819520"/>
                  <a:ext cx="30492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2819520" y="3511800"/>
                  <a:ext cx="1294920" cy="533160"/>
                  <a:chOff x="2819520" y="3511800"/>
                  <a:chExt cx="1294920" cy="5331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2819520" y="3587760"/>
                    <a:ext cx="1218960" cy="4572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047760" y="3511800"/>
                    <a:ext cx="106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011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>
                  <a:off x="3200400" y="2826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0" name=""/>
            <p:cNvSpPr/>
            <p:nvPr/>
          </p:nvSpPr>
          <p:spPr>
            <a:xfrm>
              <a:off x="8229600" y="3359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533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536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539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848720" y="3740040"/>
              <a:ext cx="526680" cy="603360"/>
              <a:chOff x="7848720" y="3740040"/>
              <a:chExt cx="526680" cy="603360"/>
            </a:xfrm>
          </p:grpSpPr>
          <p:sp>
            <p:nvSpPr>
              <p:cNvPr id="542" name=""/>
              <p:cNvSpPr/>
              <p:nvPr/>
            </p:nvSpPr>
            <p:spPr>
              <a:xfrm flipH="1">
                <a:off x="7994160" y="3809880"/>
                <a:ext cx="3812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48720" y="37400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545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01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92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p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33520" y="1447920"/>
            <a:ext cx="8610120" cy="4501800"/>
            <a:chOff x="533520" y="1447920"/>
            <a:chExt cx="8610120" cy="4501800"/>
          </a:xfrm>
        </p:grpSpPr>
        <p:sp>
          <p:nvSpPr>
            <p:cNvPr id="551" name=""/>
            <p:cNvSpPr/>
            <p:nvPr/>
          </p:nvSpPr>
          <p:spPr>
            <a:xfrm>
              <a:off x="70102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51320" y="1746360"/>
              <a:ext cx="1828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5943240" y="281952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15200" y="28195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00600" y="1447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668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3276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6400" y="3276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117960" y="174636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974960" y="281304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364760" y="36511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50920" y="36511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250960" y="372744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533520" y="4267080"/>
              <a:ext cx="1294920" cy="533160"/>
              <a:chOff x="533520" y="4267080"/>
              <a:chExt cx="1294920" cy="533160"/>
            </a:xfrm>
          </p:grpSpPr>
          <p:sp>
            <p:nvSpPr>
              <p:cNvPr id="568" name=""/>
              <p:cNvSpPr/>
              <p:nvPr/>
            </p:nvSpPr>
            <p:spPr>
              <a:xfrm>
                <a:off x="53352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176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1828800" y="4343400"/>
              <a:ext cx="1294920" cy="533160"/>
              <a:chOff x="1828800" y="4343400"/>
              <a:chExt cx="1294920" cy="533160"/>
            </a:xfrm>
          </p:grpSpPr>
          <p:sp>
            <p:nvSpPr>
              <p:cNvPr id="571" name=""/>
              <p:cNvSpPr/>
              <p:nvPr/>
            </p:nvSpPr>
            <p:spPr>
              <a:xfrm>
                <a:off x="1828800" y="44193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5704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576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579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0552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9600" y="3359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592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595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7848720" y="3740040"/>
              <a:ext cx="526680" cy="603360"/>
              <a:chOff x="7848720" y="3740040"/>
              <a:chExt cx="526680" cy="60336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7994160" y="3809880"/>
                <a:ext cx="3812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48720" y="37400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604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33520" y="1447920"/>
            <a:ext cx="8610120" cy="4501800"/>
            <a:chOff x="533520" y="1447920"/>
            <a:chExt cx="8610120" cy="4501800"/>
          </a:xfrm>
        </p:grpSpPr>
        <p:sp>
          <p:nvSpPr>
            <p:cNvPr id="609" name=""/>
            <p:cNvSpPr/>
            <p:nvPr/>
          </p:nvSpPr>
          <p:spPr>
            <a:xfrm>
              <a:off x="70102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51320" y="1746360"/>
              <a:ext cx="1828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943240" y="281952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5200" y="281952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00600" y="1447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66880" y="2438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76520" y="3276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86400" y="3276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117960" y="174636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974960" y="281304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364760" y="36511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50920" y="365112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52880" y="42670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250960" y="372744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33520" y="4267080"/>
              <a:ext cx="1294920" cy="533160"/>
              <a:chOff x="533520" y="4267080"/>
              <a:chExt cx="1294920" cy="533160"/>
            </a:xfrm>
          </p:grpSpPr>
          <p:sp>
            <p:nvSpPr>
              <p:cNvPr id="626" name=""/>
              <p:cNvSpPr/>
              <p:nvPr/>
            </p:nvSpPr>
            <p:spPr>
              <a:xfrm>
                <a:off x="533520" y="434304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1760" y="42670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828800" y="4343400"/>
              <a:ext cx="1294920" cy="533160"/>
              <a:chOff x="1828800" y="4343400"/>
              <a:chExt cx="1294920" cy="533160"/>
            </a:xfrm>
          </p:grpSpPr>
          <p:sp>
            <p:nvSpPr>
              <p:cNvPr id="629" name=""/>
              <p:cNvSpPr/>
              <p:nvPr/>
            </p:nvSpPr>
            <p:spPr>
              <a:xfrm>
                <a:off x="1828800" y="441936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05704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 flipH="1">
              <a:off x="4641840" y="46418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27640" y="46418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809880" y="5257800"/>
              <a:ext cx="1295640" cy="533160"/>
              <a:chOff x="3809880" y="5257800"/>
              <a:chExt cx="1295640" cy="533160"/>
            </a:xfrm>
          </p:grpSpPr>
          <p:sp>
            <p:nvSpPr>
              <p:cNvPr id="634" name=""/>
              <p:cNvSpPr/>
              <p:nvPr/>
            </p:nvSpPr>
            <p:spPr>
              <a:xfrm>
                <a:off x="3809880" y="533376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38480" y="52578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105520" y="5334120"/>
              <a:ext cx="1294920" cy="533160"/>
              <a:chOff x="5105520" y="5334120"/>
              <a:chExt cx="1294920" cy="533160"/>
            </a:xfrm>
          </p:grpSpPr>
          <p:sp>
            <p:nvSpPr>
              <p:cNvPr id="637" name=""/>
              <p:cNvSpPr/>
              <p:nvPr/>
            </p:nvSpPr>
            <p:spPr>
              <a:xfrm>
                <a:off x="5105520" y="541008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33760" y="5334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956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0552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864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29600" y="3359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9608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6553080" y="5340240"/>
              <a:ext cx="1295640" cy="533160"/>
              <a:chOff x="6553080" y="5340240"/>
              <a:chExt cx="1295640" cy="533160"/>
            </a:xfrm>
          </p:grpSpPr>
          <p:sp>
            <p:nvSpPr>
              <p:cNvPr id="650" name=""/>
              <p:cNvSpPr/>
              <p:nvPr/>
            </p:nvSpPr>
            <p:spPr>
              <a:xfrm>
                <a:off x="6553080" y="5416200"/>
                <a:ext cx="121932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81680" y="5340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7848720" y="5416560"/>
              <a:ext cx="1294920" cy="533160"/>
              <a:chOff x="7848720" y="5416560"/>
              <a:chExt cx="1294920" cy="533160"/>
            </a:xfrm>
          </p:grpSpPr>
          <p:sp>
            <p:nvSpPr>
              <p:cNvPr id="653" name=""/>
              <p:cNvSpPr/>
              <p:nvPr/>
            </p:nvSpPr>
            <p:spPr>
              <a:xfrm>
                <a:off x="7848720" y="5492520"/>
                <a:ext cx="121896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076960" y="5416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1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7238880" y="4724280"/>
              <a:ext cx="527040" cy="685800"/>
              <a:chOff x="7238880" y="4724280"/>
              <a:chExt cx="527040" cy="685800"/>
            </a:xfrm>
          </p:grpSpPr>
          <p:sp>
            <p:nvSpPr>
              <p:cNvPr id="656" name=""/>
              <p:cNvSpPr/>
              <p:nvPr/>
            </p:nvSpPr>
            <p:spPr>
              <a:xfrm flipH="1">
                <a:off x="7385040" y="472428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3888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7848720" y="3740040"/>
              <a:ext cx="526680" cy="603360"/>
              <a:chOff x="7848720" y="3740040"/>
              <a:chExt cx="526680" cy="60336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7994160" y="3809880"/>
                <a:ext cx="3812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848720" y="37400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8070840" y="4724280"/>
              <a:ext cx="615960" cy="762120"/>
              <a:chOff x="8070840" y="4724280"/>
              <a:chExt cx="615960" cy="762120"/>
            </a:xfrm>
          </p:grpSpPr>
          <p:sp>
            <p:nvSpPr>
              <p:cNvPr id="662" name=""/>
              <p:cNvSpPr/>
              <p:nvPr/>
            </p:nvSpPr>
            <p:spPr>
              <a:xfrm>
                <a:off x="8070840" y="472428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229600" y="4807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1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00600" y="14479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76520" y="32767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6400" y="3276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17960" y="174636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974960" y="281304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364760" y="36511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0920" y="3651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2670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250960" y="37274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33520" y="4267080"/>
            <a:ext cx="1294920" cy="533160"/>
            <a:chOff x="533520" y="4267080"/>
            <a:chExt cx="1294920" cy="533160"/>
          </a:xfrm>
        </p:grpSpPr>
        <p:sp>
          <p:nvSpPr>
            <p:cNvPr id="683" name=""/>
            <p:cNvSpPr/>
            <p:nvPr/>
          </p:nvSpPr>
          <p:spPr>
            <a:xfrm>
              <a:off x="533520" y="43430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76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828800" y="4343400"/>
            <a:ext cx="1294920" cy="533160"/>
            <a:chOff x="1828800" y="4343400"/>
            <a:chExt cx="1294920" cy="533160"/>
          </a:xfrm>
        </p:grpSpPr>
        <p:sp>
          <p:nvSpPr>
            <p:cNvPr id="686" name=""/>
            <p:cNvSpPr/>
            <p:nvPr/>
          </p:nvSpPr>
          <p:spPr>
            <a:xfrm>
              <a:off x="1828800" y="441936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57040" y="4343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flipH="1">
            <a:off x="4641840" y="464184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7640" y="46418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809880" y="5257800"/>
            <a:ext cx="1295640" cy="533160"/>
            <a:chOff x="3809880" y="5257800"/>
            <a:chExt cx="1295640" cy="533160"/>
          </a:xfrm>
        </p:grpSpPr>
        <p:sp>
          <p:nvSpPr>
            <p:cNvPr id="691" name=""/>
            <p:cNvSpPr/>
            <p:nvPr/>
          </p:nvSpPr>
          <p:spPr>
            <a:xfrm>
              <a:off x="3809880" y="533376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38480" y="5257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05520" y="5334120"/>
            <a:ext cx="1294920" cy="533160"/>
            <a:chOff x="5105520" y="5334120"/>
            <a:chExt cx="1294920" cy="533160"/>
          </a:xfrm>
        </p:grpSpPr>
        <p:sp>
          <p:nvSpPr>
            <p:cNvPr id="694" name=""/>
            <p:cNvSpPr/>
            <p:nvPr/>
          </p:nvSpPr>
          <p:spPr>
            <a:xfrm>
              <a:off x="5105520" y="54100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33760" y="5334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88620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956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864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968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22960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9608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848720" y="5416560"/>
            <a:ext cx="1294920" cy="533160"/>
            <a:chOff x="7848720" y="5416560"/>
            <a:chExt cx="1294920" cy="533160"/>
          </a:xfrm>
        </p:grpSpPr>
        <p:sp>
          <p:nvSpPr>
            <p:cNvPr id="707" name=""/>
            <p:cNvSpPr/>
            <p:nvPr/>
          </p:nvSpPr>
          <p:spPr>
            <a:xfrm>
              <a:off x="7848720" y="549252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76960" y="54165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848720" y="3740040"/>
            <a:ext cx="526680" cy="603360"/>
            <a:chOff x="7848720" y="3740040"/>
            <a:chExt cx="526680" cy="603360"/>
          </a:xfrm>
        </p:grpSpPr>
        <p:sp>
          <p:nvSpPr>
            <p:cNvPr id="710" name=""/>
            <p:cNvSpPr/>
            <p:nvPr/>
          </p:nvSpPr>
          <p:spPr>
            <a:xfrm flipH="1">
              <a:off x="7994160" y="38098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848720" y="374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8070840" y="4724280"/>
            <a:ext cx="615960" cy="762120"/>
            <a:chOff x="8070840" y="4724280"/>
            <a:chExt cx="615960" cy="762120"/>
          </a:xfrm>
        </p:grpSpPr>
        <p:sp>
          <p:nvSpPr>
            <p:cNvPr id="713" name=""/>
            <p:cNvSpPr/>
            <p:nvPr/>
          </p:nvSpPr>
          <p:spPr>
            <a:xfrm>
              <a:off x="8070840" y="472428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29600" y="480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gital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fixed number of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mpt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contains one dictionary pair (any pai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maining pairs whose key begins with 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 the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maining pairs whose key begins with 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and right subtrees are digital subtrees on remaining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14479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6668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76520" y="32767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3276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117960" y="174636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974960" y="281304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364760" y="36511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50920" y="3651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42670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250960" y="37274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33520" y="4267080"/>
            <a:ext cx="1294920" cy="533160"/>
            <a:chOff x="533520" y="4267080"/>
            <a:chExt cx="1294920" cy="533160"/>
          </a:xfrm>
        </p:grpSpPr>
        <p:sp>
          <p:nvSpPr>
            <p:cNvPr id="734" name=""/>
            <p:cNvSpPr/>
            <p:nvPr/>
          </p:nvSpPr>
          <p:spPr>
            <a:xfrm>
              <a:off x="533520" y="43430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176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828800" y="4343400"/>
            <a:ext cx="1294920" cy="533160"/>
            <a:chOff x="1828800" y="4343400"/>
            <a:chExt cx="1294920" cy="533160"/>
          </a:xfrm>
        </p:grpSpPr>
        <p:sp>
          <p:nvSpPr>
            <p:cNvPr id="737" name=""/>
            <p:cNvSpPr/>
            <p:nvPr/>
          </p:nvSpPr>
          <p:spPr>
            <a:xfrm>
              <a:off x="1828800" y="441936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7040" y="4343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>
            <a:off x="4641840" y="464184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27640" y="46418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809880" y="5257800"/>
            <a:ext cx="1295640" cy="533160"/>
            <a:chOff x="3809880" y="5257800"/>
            <a:chExt cx="1295640" cy="533160"/>
          </a:xfrm>
        </p:grpSpPr>
        <p:sp>
          <p:nvSpPr>
            <p:cNvPr id="742" name=""/>
            <p:cNvSpPr/>
            <p:nvPr/>
          </p:nvSpPr>
          <p:spPr>
            <a:xfrm>
              <a:off x="3809880" y="533376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38480" y="5257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05520" y="5334120"/>
            <a:ext cx="1294920" cy="533160"/>
            <a:chOff x="5105520" y="5334120"/>
            <a:chExt cx="1294920" cy="533160"/>
          </a:xfrm>
        </p:grpSpPr>
        <p:sp>
          <p:nvSpPr>
            <p:cNvPr id="745" name=""/>
            <p:cNvSpPr/>
            <p:nvPr/>
          </p:nvSpPr>
          <p:spPr>
            <a:xfrm>
              <a:off x="5105520" y="54100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33760" y="5334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88620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4300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055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864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22960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7238880" y="1219320"/>
            <a:ext cx="1295640" cy="533160"/>
            <a:chOff x="7238880" y="1219320"/>
            <a:chExt cx="1295640" cy="533160"/>
          </a:xfrm>
        </p:grpSpPr>
        <p:sp>
          <p:nvSpPr>
            <p:cNvPr id="757" name=""/>
            <p:cNvSpPr/>
            <p:nvPr/>
          </p:nvSpPr>
          <p:spPr>
            <a:xfrm>
              <a:off x="7238880" y="129528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67480" y="1219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7848720" y="3740040"/>
            <a:ext cx="526680" cy="603360"/>
            <a:chOff x="7848720" y="3740040"/>
            <a:chExt cx="526680" cy="603360"/>
          </a:xfrm>
        </p:grpSpPr>
        <p:sp>
          <p:nvSpPr>
            <p:cNvPr id="760" name=""/>
            <p:cNvSpPr/>
            <p:nvPr/>
          </p:nvSpPr>
          <p:spPr>
            <a:xfrm flipH="1">
              <a:off x="7994160" y="38098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48720" y="3740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1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14479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668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32767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86400" y="3276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117960" y="174636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74960" y="281304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364760" y="36511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050920" y="3651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42670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250960" y="37274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533520" y="4267080"/>
            <a:ext cx="1294920" cy="533160"/>
            <a:chOff x="533520" y="4267080"/>
            <a:chExt cx="1294920" cy="533160"/>
          </a:xfrm>
        </p:grpSpPr>
        <p:sp>
          <p:nvSpPr>
            <p:cNvPr id="781" name=""/>
            <p:cNvSpPr/>
            <p:nvPr/>
          </p:nvSpPr>
          <p:spPr>
            <a:xfrm>
              <a:off x="533520" y="43430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176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828800" y="4343400"/>
            <a:ext cx="1294920" cy="533160"/>
            <a:chOff x="1828800" y="4343400"/>
            <a:chExt cx="1294920" cy="533160"/>
          </a:xfrm>
        </p:grpSpPr>
        <p:sp>
          <p:nvSpPr>
            <p:cNvPr id="784" name=""/>
            <p:cNvSpPr/>
            <p:nvPr/>
          </p:nvSpPr>
          <p:spPr>
            <a:xfrm>
              <a:off x="1828800" y="441936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57040" y="4343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H="1">
            <a:off x="4641840" y="464184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27640" y="46418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809880" y="5257800"/>
            <a:ext cx="1295640" cy="533160"/>
            <a:chOff x="3809880" y="5257800"/>
            <a:chExt cx="1295640" cy="533160"/>
          </a:xfrm>
        </p:grpSpPr>
        <p:sp>
          <p:nvSpPr>
            <p:cNvPr id="789" name=""/>
            <p:cNvSpPr/>
            <p:nvPr/>
          </p:nvSpPr>
          <p:spPr>
            <a:xfrm>
              <a:off x="3809880" y="533376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38480" y="5257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105520" y="5334120"/>
            <a:ext cx="1294920" cy="533160"/>
            <a:chOff x="5105520" y="5334120"/>
            <a:chExt cx="1294920" cy="533160"/>
          </a:xfrm>
        </p:grpSpPr>
        <p:sp>
          <p:nvSpPr>
            <p:cNvPr id="792" name=""/>
            <p:cNvSpPr/>
            <p:nvPr/>
          </p:nvSpPr>
          <p:spPr>
            <a:xfrm>
              <a:off x="5105520" y="54100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3760" y="5334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88620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574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956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055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199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864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0968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7238880" y="1219320"/>
            <a:ext cx="1295640" cy="533160"/>
            <a:chOff x="7238880" y="1219320"/>
            <a:chExt cx="1295640" cy="533160"/>
          </a:xfrm>
        </p:grpSpPr>
        <p:sp>
          <p:nvSpPr>
            <p:cNvPr id="803" name=""/>
            <p:cNvSpPr/>
            <p:nvPr/>
          </p:nvSpPr>
          <p:spPr>
            <a:xfrm>
              <a:off x="7238880" y="129528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67480" y="1219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29200" y="601992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p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02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1320" y="174636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943240" y="281952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15200" y="281952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77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438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14479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76520" y="32767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86400" y="3276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117960" y="174636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974960" y="281304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1364760" y="36511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50920" y="3651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42670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250960" y="37274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33520" y="4267080"/>
            <a:ext cx="1294920" cy="533160"/>
            <a:chOff x="533520" y="4267080"/>
            <a:chExt cx="1294920" cy="533160"/>
          </a:xfrm>
        </p:grpSpPr>
        <p:sp>
          <p:nvSpPr>
            <p:cNvPr id="825" name=""/>
            <p:cNvSpPr/>
            <p:nvPr/>
          </p:nvSpPr>
          <p:spPr>
            <a:xfrm>
              <a:off x="533520" y="434304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1760" y="4267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828800" y="4343400"/>
            <a:ext cx="1294920" cy="533160"/>
            <a:chOff x="1828800" y="4343400"/>
            <a:chExt cx="1294920" cy="533160"/>
          </a:xfrm>
        </p:grpSpPr>
        <p:sp>
          <p:nvSpPr>
            <p:cNvPr id="828" name=""/>
            <p:cNvSpPr/>
            <p:nvPr/>
          </p:nvSpPr>
          <p:spPr>
            <a:xfrm>
              <a:off x="1828800" y="441936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040" y="4343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 flipH="1">
            <a:off x="4641840" y="464184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27640" y="464184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809880" y="5257800"/>
            <a:ext cx="1295640" cy="533160"/>
            <a:chOff x="3809880" y="5257800"/>
            <a:chExt cx="1295640" cy="533160"/>
          </a:xfrm>
        </p:grpSpPr>
        <p:sp>
          <p:nvSpPr>
            <p:cNvPr id="833" name=""/>
            <p:cNvSpPr/>
            <p:nvPr/>
          </p:nvSpPr>
          <p:spPr>
            <a:xfrm>
              <a:off x="3809880" y="5333760"/>
              <a:ext cx="121932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38480" y="5257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05520" y="5334120"/>
            <a:ext cx="1294920" cy="533160"/>
            <a:chOff x="5105520" y="5334120"/>
            <a:chExt cx="1294920" cy="533160"/>
          </a:xfrm>
        </p:grpSpPr>
        <p:sp>
          <p:nvSpPr>
            <p:cNvPr id="836" name=""/>
            <p:cNvSpPr/>
            <p:nvPr/>
          </p:nvSpPr>
          <p:spPr>
            <a:xfrm>
              <a:off x="5105520" y="541008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33760" y="5334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88620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574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956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199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864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09680" y="3657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7543800" y="3429000"/>
            <a:ext cx="1294920" cy="533160"/>
            <a:chOff x="7543800" y="3429000"/>
            <a:chExt cx="1294920" cy="533160"/>
          </a:xfrm>
        </p:grpSpPr>
        <p:sp>
          <p:nvSpPr>
            <p:cNvPr id="847" name=""/>
            <p:cNvSpPr/>
            <p:nvPr/>
          </p:nvSpPr>
          <p:spPr>
            <a:xfrm>
              <a:off x="7543800" y="3504960"/>
              <a:ext cx="121896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72040" y="34290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1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Join(S,m,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&gt;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swer;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lement nod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don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lement nod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don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get to this step, the roots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branch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Join(S,m,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empty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895480"/>
            <a:ext cx="990720" cy="1724400"/>
            <a:chOff x="609480" y="2895480"/>
            <a:chExt cx="990720" cy="1724400"/>
          </a:xfrm>
        </p:grpSpPr>
        <p:sp>
          <p:nvSpPr>
            <p:cNvPr id="854" name=""/>
            <p:cNvSpPr/>
            <p:nvPr/>
          </p:nvSpPr>
          <p:spPr>
            <a:xfrm>
              <a:off x="11494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837720" y="3505320"/>
              <a:ext cx="381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9480" y="4038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62120" y="2895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819520" y="2971800"/>
            <a:ext cx="1904760" cy="1724400"/>
            <a:chOff x="2819520" y="2971800"/>
            <a:chExt cx="1904760" cy="1724400"/>
          </a:xfrm>
        </p:grpSpPr>
        <p:sp>
          <p:nvSpPr>
            <p:cNvPr id="859" name=""/>
            <p:cNvSpPr/>
            <p:nvPr/>
          </p:nvSpPr>
          <p:spPr>
            <a:xfrm>
              <a:off x="335916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304812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33920" y="350532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19520" y="41148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86200" y="41148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86200" y="29718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86000" y="35053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181480" y="2971800"/>
            <a:ext cx="3733920" cy="1800720"/>
            <a:chOff x="5181480" y="2971800"/>
            <a:chExt cx="3733920" cy="1800720"/>
          </a:xfrm>
        </p:grpSpPr>
        <p:sp>
          <p:nvSpPr>
            <p:cNvPr id="867" name=""/>
            <p:cNvSpPr/>
            <p:nvPr/>
          </p:nvSpPr>
          <p:spPr>
            <a:xfrm>
              <a:off x="64832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17220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58000" y="35053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10280" y="41148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010280" y="29718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J(S,B’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41911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J(a,b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 txBox="1"/>
          <p:nvPr/>
        </p:nvSpPr>
        <p:spPr>
          <a:xfrm>
            <a:off x="4952880" y="35053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5424480"/>
            <a:ext cx="693432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J(X,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Wingdings 3"/>
                <a:ea typeface="Wingdings 3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xed Length Join(S,m,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336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nempty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subtree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empty, because all keys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’ 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keys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581280" y="3429000"/>
            <a:ext cx="1365120" cy="1724400"/>
            <a:chOff x="3581280" y="3429000"/>
            <a:chExt cx="1365120" cy="1724400"/>
          </a:xfrm>
        </p:grpSpPr>
        <p:sp>
          <p:nvSpPr>
            <p:cNvPr id="878" name=""/>
            <p:cNvSpPr/>
            <p:nvPr/>
          </p:nvSpPr>
          <p:spPr>
            <a:xfrm>
              <a:off x="358128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56040" y="396252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08320" y="4572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8320" y="3429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 txBox="1"/>
          <p:nvPr/>
        </p:nvSpPr>
        <p:spPr>
          <a:xfrm>
            <a:off x="2508120" y="39625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248520" y="3657600"/>
            <a:ext cx="2895480" cy="1800720"/>
            <a:chOff x="6248520" y="3657600"/>
            <a:chExt cx="2895480" cy="1800720"/>
          </a:xfrm>
        </p:grpSpPr>
        <p:sp>
          <p:nvSpPr>
            <p:cNvPr id="884" name=""/>
            <p:cNvSpPr/>
            <p:nvPr/>
          </p:nvSpPr>
          <p:spPr>
            <a:xfrm>
              <a:off x="671184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400800" y="41911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86600" y="41911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48520" y="4800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38880" y="36576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J(S,B’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34320" y="487692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J(b,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 txBox="1"/>
          <p:nvPr/>
        </p:nvSpPr>
        <p:spPr>
          <a:xfrm>
            <a:off x="5175360" y="39625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831960" y="3352680"/>
            <a:ext cx="1523520" cy="1800720"/>
            <a:chOff x="831960" y="3352680"/>
            <a:chExt cx="1523520" cy="1800720"/>
          </a:xfrm>
        </p:grpSpPr>
        <p:sp>
          <p:nvSpPr>
            <p:cNvPr id="892" name=""/>
            <p:cNvSpPr/>
            <p:nvPr/>
          </p:nvSpPr>
          <p:spPr>
            <a:xfrm>
              <a:off x="1371600" y="358776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1060200" y="39625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1960" y="449568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84240" y="335268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46000" y="396252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98640" y="457200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984240" y="5867280"/>
            <a:ext cx="4419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empty digital search tree and insert a pair whose key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1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81280" y="2514600"/>
            <a:ext cx="1600200" cy="685800"/>
            <a:chOff x="3581280" y="2514600"/>
            <a:chExt cx="1600200" cy="685800"/>
          </a:xfrm>
        </p:grpSpPr>
        <p:sp>
          <p:nvSpPr>
            <p:cNvPr id="55" name=""/>
            <p:cNvSpPr/>
            <p:nvPr/>
          </p:nvSpPr>
          <p:spPr>
            <a:xfrm>
              <a:off x="3581280" y="2514600"/>
              <a:ext cx="1600200" cy="685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62520" y="25905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1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8580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insert a pair whose key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0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14600" y="4191120"/>
            <a:ext cx="2666880" cy="1904400"/>
            <a:chOff x="2514600" y="4191120"/>
            <a:chExt cx="2666880" cy="1904400"/>
          </a:xfrm>
        </p:grpSpPr>
        <p:grpSp>
          <p:nvGrpSpPr>
            <p:cNvPr id="59" name=""/>
            <p:cNvGrpSpPr/>
            <p:nvPr/>
          </p:nvGrpSpPr>
          <p:grpSpPr>
            <a:xfrm>
              <a:off x="3581280" y="4191120"/>
              <a:ext cx="1600200" cy="685440"/>
              <a:chOff x="3581280" y="4191120"/>
              <a:chExt cx="1600200" cy="685440"/>
            </a:xfrm>
          </p:grpSpPr>
          <p:sp>
            <p:nvSpPr>
              <p:cNvPr id="60" name=""/>
              <p:cNvSpPr/>
              <p:nvPr/>
            </p:nvSpPr>
            <p:spPr>
              <a:xfrm>
                <a:off x="3581280" y="4191120"/>
                <a:ext cx="1600200" cy="685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62520" y="42667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514600" y="5410080"/>
              <a:ext cx="1600200" cy="685440"/>
              <a:chOff x="2514600" y="5410080"/>
              <a:chExt cx="1600200" cy="685440"/>
            </a:xfrm>
          </p:grpSpPr>
          <p:sp>
            <p:nvSpPr>
              <p:cNvPr id="63" name=""/>
              <p:cNvSpPr/>
              <p:nvPr/>
            </p:nvSpPr>
            <p:spPr>
              <a:xfrm>
                <a:off x="2514600" y="5410080"/>
                <a:ext cx="1600200" cy="685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95840" y="54856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H="1">
              <a:off x="3505320" y="4800600"/>
              <a:ext cx="45720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828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insert a pair whose key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80880" y="2895480"/>
            <a:ext cx="2666880" cy="1905120"/>
            <a:chOff x="380880" y="2895480"/>
            <a:chExt cx="2666880" cy="1905120"/>
          </a:xfrm>
        </p:grpSpPr>
        <p:grpSp>
          <p:nvGrpSpPr>
            <p:cNvPr id="69" name=""/>
            <p:cNvGrpSpPr/>
            <p:nvPr/>
          </p:nvGrpSpPr>
          <p:grpSpPr>
            <a:xfrm>
              <a:off x="1447560" y="2895480"/>
              <a:ext cx="1600200" cy="685800"/>
              <a:chOff x="1447560" y="2895480"/>
              <a:chExt cx="160020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1447560" y="289548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28800" y="2971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80880" y="4114800"/>
              <a:ext cx="1600200" cy="685800"/>
              <a:chOff x="380880" y="4114800"/>
              <a:chExt cx="1600200" cy="685800"/>
            </a:xfrm>
          </p:grpSpPr>
          <p:sp>
            <p:nvSpPr>
              <p:cNvPr id="73" name=""/>
              <p:cNvSpPr/>
              <p:nvPr/>
            </p:nvSpPr>
            <p:spPr>
              <a:xfrm>
                <a:off x="380880" y="41148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2120" y="41907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H="1">
              <a:off x="1371600" y="35053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05320" y="39625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24280" y="3048120"/>
            <a:ext cx="3962520" cy="1980720"/>
            <a:chOff x="4724280" y="3048120"/>
            <a:chExt cx="3962520" cy="1980720"/>
          </a:xfrm>
        </p:grpSpPr>
        <p:grpSp>
          <p:nvGrpSpPr>
            <p:cNvPr id="78" name=""/>
            <p:cNvGrpSpPr/>
            <p:nvPr/>
          </p:nvGrpSpPr>
          <p:grpSpPr>
            <a:xfrm>
              <a:off x="7086600" y="4343400"/>
              <a:ext cx="1600200" cy="685440"/>
              <a:chOff x="7086600" y="4343400"/>
              <a:chExt cx="1600200" cy="685440"/>
            </a:xfrm>
          </p:grpSpPr>
          <p:sp>
            <p:nvSpPr>
              <p:cNvPr id="79" name=""/>
              <p:cNvSpPr/>
              <p:nvPr/>
            </p:nvSpPr>
            <p:spPr>
              <a:xfrm>
                <a:off x="7086600" y="4343400"/>
                <a:ext cx="1600200" cy="685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67840" y="44190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724280" y="3048120"/>
              <a:ext cx="2666880" cy="1904400"/>
              <a:chOff x="4724280" y="3048120"/>
              <a:chExt cx="2666880" cy="19044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5790960" y="3048120"/>
                <a:ext cx="1600200" cy="685440"/>
                <a:chOff x="5790960" y="3048120"/>
                <a:chExt cx="1600200" cy="6854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790960" y="3048120"/>
                  <a:ext cx="1600200" cy="6854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172200" y="312372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1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724280" y="4267080"/>
                <a:ext cx="1600200" cy="685440"/>
                <a:chOff x="4724280" y="4267080"/>
                <a:chExt cx="1600200" cy="6854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724280" y="4267080"/>
                  <a:ext cx="1600200" cy="6854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105520" y="43426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 flipH="1">
                <a:off x="5715000" y="3657600"/>
                <a:ext cx="457200" cy="609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086600" y="3657600"/>
              <a:ext cx="53352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28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insert a pair whose key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7339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320" y="2743200"/>
            <a:ext cx="3961800" cy="1980720"/>
            <a:chOff x="76320" y="2743200"/>
            <a:chExt cx="3961800" cy="1980720"/>
          </a:xfrm>
        </p:grpSpPr>
        <p:grpSp>
          <p:nvGrpSpPr>
            <p:cNvPr id="94" name=""/>
            <p:cNvGrpSpPr/>
            <p:nvPr/>
          </p:nvGrpSpPr>
          <p:grpSpPr>
            <a:xfrm>
              <a:off x="2438280" y="4038480"/>
              <a:ext cx="1599840" cy="685440"/>
              <a:chOff x="2438280" y="4038480"/>
              <a:chExt cx="1599840" cy="685440"/>
            </a:xfrm>
          </p:grpSpPr>
          <p:sp>
            <p:nvSpPr>
              <p:cNvPr id="95" name=""/>
              <p:cNvSpPr/>
              <p:nvPr/>
            </p:nvSpPr>
            <p:spPr>
              <a:xfrm>
                <a:off x="2438280" y="4038480"/>
                <a:ext cx="1599840" cy="685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9160" y="411408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6320" y="2743200"/>
              <a:ext cx="2666880" cy="1904400"/>
              <a:chOff x="76320" y="2743200"/>
              <a:chExt cx="2666880" cy="1904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143000" y="2743200"/>
                <a:ext cx="1600200" cy="685440"/>
                <a:chOff x="1143000" y="2743200"/>
                <a:chExt cx="1600200" cy="6854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43000" y="2743200"/>
                  <a:ext cx="1600200" cy="6854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4240" y="2818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1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76320" y="3962160"/>
                <a:ext cx="1600200" cy="685440"/>
                <a:chOff x="76320" y="3962160"/>
                <a:chExt cx="1600200" cy="6854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6320" y="3962160"/>
                  <a:ext cx="1600200" cy="6854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7560" y="403776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1067040" y="3352680"/>
                <a:ext cx="457200" cy="609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438280" y="3352680"/>
              <a:ext cx="53316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2666880"/>
            <a:ext cx="3961800" cy="3200400"/>
            <a:chOff x="4876920" y="2666880"/>
            <a:chExt cx="3961800" cy="3200400"/>
          </a:xfrm>
        </p:grpSpPr>
        <p:grpSp>
          <p:nvGrpSpPr>
            <p:cNvPr id="107" name=""/>
            <p:cNvGrpSpPr/>
            <p:nvPr/>
          </p:nvGrpSpPr>
          <p:grpSpPr>
            <a:xfrm>
              <a:off x="7238880" y="3962160"/>
              <a:ext cx="1599840" cy="685800"/>
              <a:chOff x="7238880" y="3962160"/>
              <a:chExt cx="1599840" cy="68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7238880" y="3962160"/>
                <a:ext cx="159984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19760" y="403812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943240" y="2666880"/>
              <a:ext cx="1599840" cy="685800"/>
              <a:chOff x="5943240" y="2666880"/>
              <a:chExt cx="1599840" cy="68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943240" y="2666880"/>
                <a:ext cx="159984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24120" y="274284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876920" y="3886200"/>
              <a:ext cx="1599840" cy="685800"/>
              <a:chOff x="4876920" y="3886200"/>
              <a:chExt cx="159984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876920" y="3886200"/>
                <a:ext cx="159984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57800" y="396216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5866920" y="3276360"/>
              <a:ext cx="45684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8880" y="3276360"/>
              <a:ext cx="532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171840" y="5181480"/>
              <a:ext cx="1599840" cy="685800"/>
              <a:chOff x="6171840" y="5181480"/>
              <a:chExt cx="1599840" cy="685800"/>
            </a:xfrm>
          </p:grpSpPr>
          <p:sp>
            <p:nvSpPr>
              <p:cNvPr id="119" name=""/>
              <p:cNvSpPr/>
              <p:nvPr/>
            </p:nvSpPr>
            <p:spPr>
              <a:xfrm>
                <a:off x="6171840" y="5181480"/>
                <a:ext cx="159984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2720" y="525744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H="1">
              <a:off x="7162200" y="4572000"/>
              <a:ext cx="456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828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, insert a pair whose key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312408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743200"/>
            <a:ext cx="3962520" cy="3200400"/>
            <a:chOff x="228600" y="2743200"/>
            <a:chExt cx="3962520" cy="3200400"/>
          </a:xfrm>
        </p:grpSpPr>
        <p:grpSp>
          <p:nvGrpSpPr>
            <p:cNvPr id="126" name=""/>
            <p:cNvGrpSpPr/>
            <p:nvPr/>
          </p:nvGrpSpPr>
          <p:grpSpPr>
            <a:xfrm>
              <a:off x="2590920" y="4038480"/>
              <a:ext cx="1600200" cy="685800"/>
              <a:chOff x="2590920" y="4038480"/>
              <a:chExt cx="1600200" cy="685800"/>
            </a:xfrm>
          </p:grpSpPr>
          <p:sp>
            <p:nvSpPr>
              <p:cNvPr id="127" name=""/>
              <p:cNvSpPr/>
              <p:nvPr/>
            </p:nvSpPr>
            <p:spPr>
              <a:xfrm>
                <a:off x="2590920" y="403848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72160" y="4114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295280" y="2743200"/>
              <a:ext cx="1600200" cy="685800"/>
              <a:chOff x="1295280" y="2743200"/>
              <a:chExt cx="1600200" cy="685800"/>
            </a:xfrm>
          </p:grpSpPr>
          <p:sp>
            <p:nvSpPr>
              <p:cNvPr id="130" name=""/>
              <p:cNvSpPr/>
              <p:nvPr/>
            </p:nvSpPr>
            <p:spPr>
              <a:xfrm>
                <a:off x="1295280" y="27432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76520" y="28191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62520"/>
              <a:ext cx="1600200" cy="685800"/>
              <a:chOff x="228600" y="3962520"/>
              <a:chExt cx="160020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28600" y="396252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9840" y="4038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1219320" y="3352680"/>
              <a:ext cx="45720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3352680"/>
              <a:ext cx="53316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23880" y="5257800"/>
              <a:ext cx="1600200" cy="685800"/>
              <a:chOff x="1523880" y="5257800"/>
              <a:chExt cx="1600200" cy="68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523880" y="52578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5120" y="53337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2514600" y="46483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86200" y="2666880"/>
            <a:ext cx="4952880" cy="3200400"/>
            <a:chOff x="3886200" y="2666880"/>
            <a:chExt cx="4952880" cy="3200400"/>
          </a:xfrm>
        </p:grpSpPr>
        <p:grpSp>
          <p:nvGrpSpPr>
            <p:cNvPr id="142" name=""/>
            <p:cNvGrpSpPr/>
            <p:nvPr/>
          </p:nvGrpSpPr>
          <p:grpSpPr>
            <a:xfrm>
              <a:off x="7238880" y="3962520"/>
              <a:ext cx="1600200" cy="685800"/>
              <a:chOff x="7238880" y="3962520"/>
              <a:chExt cx="1600200" cy="685800"/>
            </a:xfrm>
          </p:grpSpPr>
          <p:sp>
            <p:nvSpPr>
              <p:cNvPr id="143" name=""/>
              <p:cNvSpPr/>
              <p:nvPr/>
            </p:nvSpPr>
            <p:spPr>
              <a:xfrm>
                <a:off x="7238880" y="396252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038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943600" y="2666880"/>
              <a:ext cx="1600200" cy="685800"/>
              <a:chOff x="5943600" y="2666880"/>
              <a:chExt cx="1600200" cy="685800"/>
            </a:xfrm>
          </p:grpSpPr>
          <p:sp>
            <p:nvSpPr>
              <p:cNvPr id="146" name=""/>
              <p:cNvSpPr/>
              <p:nvPr/>
            </p:nvSpPr>
            <p:spPr>
              <a:xfrm>
                <a:off x="5943600" y="266688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4840" y="27428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876920" y="3886200"/>
              <a:ext cx="1600200" cy="685800"/>
              <a:chOff x="4876920" y="3886200"/>
              <a:chExt cx="1600200" cy="685800"/>
            </a:xfrm>
          </p:grpSpPr>
          <p:sp>
            <p:nvSpPr>
              <p:cNvPr id="149" name=""/>
              <p:cNvSpPr/>
              <p:nvPr/>
            </p:nvSpPr>
            <p:spPr>
              <a:xfrm>
                <a:off x="4876920" y="38862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8160" y="39621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5867280" y="32767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38880" y="3276720"/>
              <a:ext cx="5335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172200" y="5181480"/>
              <a:ext cx="1600200" cy="685800"/>
              <a:chOff x="6172200" y="5181480"/>
              <a:chExt cx="1600200" cy="68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6172200" y="518148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53440" y="5257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7162920" y="457200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886200" y="5181480"/>
              <a:ext cx="1600200" cy="685800"/>
              <a:chOff x="3886200" y="5181480"/>
              <a:chExt cx="1600200" cy="685800"/>
            </a:xfrm>
          </p:grpSpPr>
          <p:sp>
            <p:nvSpPr>
              <p:cNvPr id="158" name=""/>
              <p:cNvSpPr/>
              <p:nvPr/>
            </p:nvSpPr>
            <p:spPr>
              <a:xfrm>
                <a:off x="3886200" y="518148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67440" y="5257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4876920" y="457200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/Insert/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769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each opera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bits in a key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key comparison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sive when keys are very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523880" y="1371600"/>
            <a:ext cx="4952880" cy="3200400"/>
            <a:chOff x="1523880" y="1371600"/>
            <a:chExt cx="4952880" cy="3200400"/>
          </a:xfrm>
        </p:grpSpPr>
        <p:grpSp>
          <p:nvGrpSpPr>
            <p:cNvPr id="164" name=""/>
            <p:cNvGrpSpPr/>
            <p:nvPr/>
          </p:nvGrpSpPr>
          <p:grpSpPr>
            <a:xfrm>
              <a:off x="4876560" y="2667240"/>
              <a:ext cx="1600200" cy="685800"/>
              <a:chOff x="4876560" y="2667240"/>
              <a:chExt cx="1600200" cy="685800"/>
            </a:xfrm>
          </p:grpSpPr>
          <p:sp>
            <p:nvSpPr>
              <p:cNvPr id="165" name=""/>
              <p:cNvSpPr/>
              <p:nvPr/>
            </p:nvSpPr>
            <p:spPr>
              <a:xfrm>
                <a:off x="4876560" y="266724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57800" y="27432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581280" y="1371600"/>
              <a:ext cx="1600200" cy="685800"/>
              <a:chOff x="3581280" y="1371600"/>
              <a:chExt cx="1600200" cy="685800"/>
            </a:xfrm>
          </p:grpSpPr>
          <p:sp>
            <p:nvSpPr>
              <p:cNvPr id="168" name=""/>
              <p:cNvSpPr/>
              <p:nvPr/>
            </p:nvSpPr>
            <p:spPr>
              <a:xfrm>
                <a:off x="3581280" y="13716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62520" y="14475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1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514600" y="2590920"/>
              <a:ext cx="1600200" cy="685800"/>
              <a:chOff x="2514600" y="2590920"/>
              <a:chExt cx="1600200" cy="685800"/>
            </a:xfrm>
          </p:grpSpPr>
          <p:sp>
            <p:nvSpPr>
              <p:cNvPr id="171" name=""/>
              <p:cNvSpPr/>
              <p:nvPr/>
            </p:nvSpPr>
            <p:spPr>
              <a:xfrm>
                <a:off x="2514600" y="259092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95840" y="26668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>
              <a:off x="3504960" y="198144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560" y="1981440"/>
              <a:ext cx="5335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809880" y="3886200"/>
              <a:ext cx="1600200" cy="685800"/>
              <a:chOff x="3809880" y="3886200"/>
              <a:chExt cx="1600200" cy="685800"/>
            </a:xfrm>
          </p:grpSpPr>
          <p:sp>
            <p:nvSpPr>
              <p:cNvPr id="176" name=""/>
              <p:cNvSpPr/>
              <p:nvPr/>
            </p:nvSpPr>
            <p:spPr>
              <a:xfrm>
                <a:off x="3809880" y="38862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91120" y="39621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H="1">
              <a:off x="4800600" y="32767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523880" y="3886200"/>
              <a:ext cx="1600200" cy="685800"/>
              <a:chOff x="1523880" y="3886200"/>
              <a:chExt cx="1600200" cy="685800"/>
            </a:xfrm>
          </p:grpSpPr>
          <p:sp>
            <p:nvSpPr>
              <p:cNvPr id="180" name=""/>
              <p:cNvSpPr/>
              <p:nvPr/>
            </p:nvSpPr>
            <p:spPr>
              <a:xfrm>
                <a:off x="1523880" y="3886200"/>
                <a:ext cx="1600200" cy="685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39621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H="1">
              <a:off x="2514600" y="3276720"/>
              <a:ext cx="45720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i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one key comparison per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length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and right chil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field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il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ield to hold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6019920"/>
            <a:ext cx="7010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one key comparison for a sear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520" y="1447920"/>
            <a:ext cx="8001000" cy="4419360"/>
            <a:chOff x="533520" y="1447920"/>
            <a:chExt cx="8001000" cy="4419360"/>
          </a:xfrm>
        </p:grpSpPr>
        <p:grpSp>
          <p:nvGrpSpPr>
            <p:cNvPr id="188" name=""/>
            <p:cNvGrpSpPr/>
            <p:nvPr/>
          </p:nvGrpSpPr>
          <p:grpSpPr>
            <a:xfrm>
              <a:off x="533520" y="1447920"/>
              <a:ext cx="8001000" cy="4419360"/>
              <a:chOff x="533520" y="1447920"/>
              <a:chExt cx="8001000" cy="4419360"/>
            </a:xfrm>
          </p:grpSpPr>
          <p:sp>
            <p:nvSpPr>
              <p:cNvPr id="189" name=""/>
              <p:cNvSpPr/>
              <p:nvPr/>
            </p:nvSpPr>
            <p:spPr>
              <a:xfrm>
                <a:off x="4800600" y="144792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68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10280" y="24382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765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91320" y="3276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117960" y="1746360"/>
                <a:ext cx="167616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51320" y="1746360"/>
                <a:ext cx="182880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974960" y="2813040"/>
                <a:ext cx="76176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165720" y="2819520"/>
                <a:ext cx="920880" cy="45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364760" y="3651120"/>
                <a:ext cx="3812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50920" y="3651120"/>
                <a:ext cx="3049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57800" y="426708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556240" y="3727440"/>
                <a:ext cx="3808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533520" y="4267080"/>
                <a:ext cx="1294920" cy="533160"/>
                <a:chOff x="533520" y="4267080"/>
                <a:chExt cx="129492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33520" y="434304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1760" y="426708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828800" y="4343400"/>
                <a:ext cx="1294920" cy="533160"/>
                <a:chOff x="1828800" y="4343400"/>
                <a:chExt cx="1294920" cy="533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828800" y="44193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057040" y="43434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01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8880" y="3276720"/>
                <a:ext cx="1295640" cy="533160"/>
                <a:chOff x="7238880" y="3276720"/>
                <a:chExt cx="129564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38880" y="33526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67480" y="32767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315200" y="2819520"/>
                <a:ext cx="60948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46760" y="4641840"/>
                <a:ext cx="380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32560" y="464184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4114800" y="5257800"/>
                <a:ext cx="1294920" cy="533160"/>
                <a:chOff x="4114800" y="5257800"/>
                <a:chExt cx="1294920" cy="533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14800" y="5333760"/>
                  <a:ext cx="121896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43040" y="5257800"/>
                  <a:ext cx="106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410080" y="5334120"/>
                <a:ext cx="1295640" cy="533160"/>
                <a:chOff x="5410080" y="5334120"/>
                <a:chExt cx="1295640" cy="533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410080" y="5410080"/>
                  <a:ext cx="1219320" cy="4572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38680" y="5334120"/>
                  <a:ext cx="1067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00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388620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430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100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1676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132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0968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48:18Z</dcterms:modified>
  <cp:revision>316</cp:revision>
  <dc:subject/>
  <dc:title>Data Representation Methods</dc:title>
</cp:coreProperties>
</file>