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0164-6C48-4167-8983-A88F61ADC46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826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imum is when you delete 5, for exam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826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+4 =&gt; h reads on way down, a sibling read, 3 wri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n(h+5) if you account for deletes from the interior which require you to write the interior node as we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ges can only be done until the number of nodes becomes 3. So, number of merges is at most p-3. We use p-1 for simpli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(p-1) =&gt; p-1 sibling reads and p-1 w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826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lete must make at least h read and 1 write access. So, h+1 is the minimum number of disk accesses for each delete. Therefore, the average is at least h+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826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’s are subtree pointers, p’s are dictionary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826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ever the root splits, the number of nodes increases by 2. When any other node splits, the increase is by 1. The root splits at least once when p &gt; 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sert must make at least h read and 1 write access. So, h+1 is the minimum number of disk accesses for each insert. Therefore, the average is at least h+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5FBC-E5E2-4D67-A5F3-CF636E62C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FBEC-7363-4898-8821-E4BC0710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D55A-DFC3-4CDB-9558-EB4812DDD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FA46-AFB8-4363-8691-93F9D5CAB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5DAC-9C4B-405C-AC84-192FF5B6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8BDC-3C70-4DC1-A6BA-D632D15B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0073-941F-40BC-A8EE-8AD96146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0B3E-DF70-4AE2-91B0-9C9F317E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31BD-49AF-4D7D-ADC7-1EF66363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E738-B1FC-4F03-BF9D-D5371A6E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4015-2A0F-483A-BC6F-C0499C38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68F1-3856-40B9-BC32-DD12B521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BFD0-309D-4F5D-85AD-E2B398E91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-Trees (continued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sis of worst-case and average number of disk accesses for an ins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 and analy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 for B-tree 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lete From A Leaf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4343400"/>
            <a:ext cx="87631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 the pair with ke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ion from 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node become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934320" y="3429000"/>
            <a:ext cx="98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93432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 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90720" y="342900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05720" y="2743200"/>
            <a:ext cx="76176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19520" y="2666880"/>
            <a:ext cx="45720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43400" y="1295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60560" y="342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19520" y="3429000"/>
            <a:ext cx="98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905120" y="2362320"/>
            <a:ext cx="984240" cy="444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57400" y="2362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718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4120" y="342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39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09680" y="3429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362320" y="28195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4852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48520" y="243828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lete From A Leaf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64280" y="2901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90720" y="289548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273560" y="768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2514600" y="1066680"/>
            <a:ext cx="175248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1066680"/>
            <a:ext cx="175284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218960" y="2133720"/>
            <a:ext cx="99036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638320" y="2286000"/>
            <a:ext cx="6858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2209680"/>
            <a:ext cx="76176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2133720"/>
            <a:ext cx="45720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43400" y="762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60560" y="2889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19520" y="2895480"/>
            <a:ext cx="98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905120" y="1828800"/>
            <a:ext cx="98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5740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71800" y="2895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3412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39840" y="2901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2895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362320" y="22860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248520" y="1911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248520" y="190512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315200" y="2901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15200" y="289548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3809880"/>
            <a:ext cx="87631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 the pair with ke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ion from 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one sibling and determine if it is 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so borrow a pair and a subtree via parent 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lete From A Leaf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264280" y="28256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281952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73560" y="6922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2514600" y="990720"/>
            <a:ext cx="175248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724280" y="990720"/>
            <a:ext cx="175284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1218960" y="2057400"/>
            <a:ext cx="99036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5638320" y="2209680"/>
            <a:ext cx="6858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705720" y="2133720"/>
            <a:ext cx="76176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19520" y="2057400"/>
            <a:ext cx="45720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343400" y="685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60560" y="28130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05120" y="1752480"/>
            <a:ext cx="98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752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3412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139840" y="2825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09680" y="2819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362320" y="22096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248520" y="1835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48520" y="182880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315200" y="2825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315200" y="281952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3733920"/>
            <a:ext cx="87631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 the pair with ke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ion from 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one sibling and determine if it is 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t, combine with sibling and parent pa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124080" y="281952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193920" y="2813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lete From A Leaf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64280" y="2978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297180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73560" y="844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2514600" y="1143000"/>
            <a:ext cx="175248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724280" y="1143000"/>
            <a:ext cx="175284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1218960" y="2286000"/>
            <a:ext cx="11430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5638320" y="2362320"/>
            <a:ext cx="6858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705720" y="2286000"/>
            <a:ext cx="76176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666880" y="2209680"/>
            <a:ext cx="60984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343400" y="838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60560" y="296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819520" y="2971800"/>
            <a:ext cx="98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97180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3412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248520" y="19875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48520" y="198108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9782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97180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0880" y="3886200"/>
            <a:ext cx="87631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 the pair with ke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4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ion from 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one sibling and determine if it is 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t, combine with sibling and parent pa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190512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355840" y="1898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lete From A Leaf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90720" y="342900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1218960" y="2743200"/>
            <a:ext cx="11430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66880" y="2666880"/>
            <a:ext cx="60984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343400" y="1295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60560" y="342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19520" y="3429000"/>
            <a:ext cx="98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9718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24852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0880" y="4343400"/>
            <a:ext cx="87631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ent pair was from 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one sibling and determine if it is 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t, combine with sibling and parent pa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36232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55840" y="23558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81480" y="3505320"/>
            <a:ext cx="984240" cy="444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334120" y="35053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lete From A Leaf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90720" y="297180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273560" y="844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2514600" y="1143000"/>
            <a:ext cx="175248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219320" y="2133720"/>
            <a:ext cx="83808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895480" y="2133720"/>
            <a:ext cx="99072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514600" y="2286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060560" y="296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981080" y="2971800"/>
            <a:ext cx="98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1337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0880" y="3886200"/>
            <a:ext cx="87631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ent pair was from 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one sibling and determine if it is 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ibling, so must be the ro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ard root. Left child becomes new ro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429000" y="2971800"/>
            <a:ext cx="98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581280" y="2971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981080" y="1828800"/>
            <a:ext cx="98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1337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lete From A Leaf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048120" y="289548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276720" y="2057400"/>
            <a:ext cx="83808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2880" y="2057400"/>
            <a:ext cx="99072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572000" y="22096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17960" y="2889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038480" y="2895480"/>
            <a:ext cx="98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191120" y="2895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0880" y="43434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 reduces b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486400" y="2895480"/>
            <a:ext cx="98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38680" y="2895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38480" y="1752480"/>
            <a:ext cx="98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191120" y="1752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lete A Pai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3818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ion from interior node is transformed into a deletion from a leaf 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cient leaf triggers bottom-up borrowing and node combining p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cient node is combined with an adjacent sibling who has exactl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eil(m/2) 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i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combining, the node ha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ceil(m/2) – 2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original pairs)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+ [ceil(m/2) – 1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ibling pairs)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from parent)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= m –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i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sk Accesses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38080" y="5029200"/>
            <a:ext cx="2286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rr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38080" y="5562720"/>
            <a:ext cx="2286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38080" y="4449600"/>
            <a:ext cx="2286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387360" y="1371600"/>
            <a:ext cx="8756640" cy="2593440"/>
            <a:chOff x="387360" y="1371600"/>
            <a:chExt cx="8756640" cy="2593440"/>
          </a:xfrm>
        </p:grpSpPr>
        <p:sp>
          <p:nvSpPr>
            <p:cNvPr id="392" name=""/>
            <p:cNvSpPr/>
            <p:nvPr/>
          </p:nvSpPr>
          <p:spPr>
            <a:xfrm>
              <a:off x="4648320" y="2666880"/>
              <a:ext cx="457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572000" y="18288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705720" y="2438280"/>
              <a:ext cx="98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705720" y="24382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   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02604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36840" y="22924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1904760" y="1600200"/>
              <a:ext cx="236196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724280" y="1600200"/>
              <a:ext cx="243864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615960" y="2666880"/>
              <a:ext cx="9907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6400440" y="2895480"/>
              <a:ext cx="6094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20120" y="2819520"/>
              <a:ext cx="60948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835280" y="2666880"/>
              <a:ext cx="457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606680" y="2286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35280" y="3429000"/>
              <a:ext cx="98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87560" y="3429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  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238880" y="28954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772400" y="3429000"/>
              <a:ext cx="98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772400" y="34290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   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019920" y="3429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705720" y="3505320"/>
              <a:ext cx="98424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705720" y="35053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   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038480" y="1371600"/>
              <a:ext cx="98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114800" y="13716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   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349880" y="22924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3429000" y="2666880"/>
              <a:ext cx="9907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419720" y="2286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206880" y="34354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276720" y="3429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952880" y="34290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952880" y="342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8736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7200" y="3429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Worst-Case Disk Access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enough memory to hold al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s accessed on way 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ad accesses on way 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 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ibling read accesses on way 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 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rites of combined nodes on way 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rites of root and leve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s for sibling borrowing at leve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Worst-Case Disk Access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82440" y="1371600"/>
            <a:ext cx="9061560" cy="2593440"/>
            <a:chOff x="82440" y="1371600"/>
            <a:chExt cx="9061560" cy="2593440"/>
          </a:xfrm>
        </p:grpSpPr>
        <p:sp>
          <p:nvSpPr>
            <p:cNvPr id="52" name=""/>
            <p:cNvSpPr/>
            <p:nvPr/>
          </p:nvSpPr>
          <p:spPr>
            <a:xfrm>
              <a:off x="4648320" y="2666880"/>
              <a:ext cx="457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18288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705720" y="2438280"/>
              <a:ext cx="98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705720" y="24382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   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2604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36840" y="22924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1904760" y="1600200"/>
              <a:ext cx="236196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24280" y="1600200"/>
              <a:ext cx="243864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615960" y="2666880"/>
              <a:ext cx="9907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6400440" y="2895480"/>
              <a:ext cx="6094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620120" y="2819520"/>
              <a:ext cx="60948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35280" y="2666880"/>
              <a:ext cx="457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06680" y="2286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35280" y="3429000"/>
              <a:ext cx="98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2440" y="3429000"/>
              <a:ext cx="98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5080" y="34290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 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87560" y="3429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  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238880" y="28954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772400" y="3429000"/>
              <a:ext cx="98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772400" y="34290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   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19920" y="3429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705720" y="3505320"/>
              <a:ext cx="98424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705720" y="35053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   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038480" y="1371600"/>
              <a:ext cx="98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114800" y="13716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   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349880" y="22924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3429000" y="2666880"/>
              <a:ext cx="9907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19720" y="2286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06880" y="34354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76720" y="3429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952880" y="34290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952880" y="342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838080" y="5029200"/>
            <a:ext cx="2286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5562720"/>
            <a:ext cx="2286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1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4449600"/>
            <a:ext cx="2286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1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verage Disk Access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B-tree that ha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irs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 the pairs one by 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gt;= 1+(ceil(m/2) 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1)(p 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&lt;= 1 + (n – 1)/(ceil(m/2) – 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per bound on total number of disk acce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delete does a borr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letes together do at mos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p –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bines/merg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 accesse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&lt;= n(h+4) + 2(p – 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verage Disk Access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560" y="2438280"/>
            <a:ext cx="830556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# accesse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&lt;= [n(h+4)  + 2(p – 1)]/ n~ h + 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arly minim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Worst Cas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ng sequence of inserts and dele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insert do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plits at a cost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h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sk acce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delete moves back up to root at a cost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sk acce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for this sequenc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h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an insert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a dele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ternal Memory B-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che access time vs main memory access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main memory accesses using a B-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ode Structur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520" y="35053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 operations during a sear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the node for a given k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981080" y="1523880"/>
            <a:ext cx="4343400" cy="648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…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ode Operations For Inse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4038120"/>
            <a:ext cx="81532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1" marL="73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middle pa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way split around middle pa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04920" y="1905120"/>
            <a:ext cx="4343400" cy="648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…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8600" y="2895480"/>
            <a:ext cx="7924680" cy="648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eil(m/2)-1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…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ceil(m/2)-1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ceil(m/2)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4920" y="3886200"/>
            <a:ext cx="8458200" cy="6487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-ceil(m/2)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eil(m/2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eil(m/2)+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eil(m/2)+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04920" y="1066680"/>
            <a:ext cx="8153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a dictionary pair and a point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p,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ode Operations For Delet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 a dictionary pa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, replace, ins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way jo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ode Structur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B-tree node is an array partitioned into indexed red-black tree nodes that will keep one dictionary pair ea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ed red-black tree is built using simulated pointers (integer pointer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 Of B-Tree Node Oper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a B-tree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… O(log m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middle pai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… O(log m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a pai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… O(log m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 a pai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… O(log m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lit a B-tree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… O(log m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-tree nod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… O(m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copy indexed red-black tree that represents one B-tree node into the array space of the other B-tree 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Worst-Case Disk Access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enough memory to hold al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s accessed on way 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ad accesses on way 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s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rite accesses on way up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umber of nodes that spl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+2s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sk acce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h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verage Disk Access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empty B-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i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ing B-tree ha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 split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lt;= p –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p &gt;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 pair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gt;= 1+(ceil(m/2)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1)(p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avg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&lt;= (p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2)/(1+(ceil(m/2)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1)(p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1)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s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avg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&lt; 1/(ceil(m/2) – 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 = 200 =&gt; s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avg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&lt; 1/9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disk accesse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lt; h + 2/99 + 1 ~ h +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arly minim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-Tree – Delete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5029200"/>
            <a:ext cx="2286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5562720"/>
            <a:ext cx="2286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 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4449600"/>
            <a:ext cx="2286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 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87360" y="1371600"/>
            <a:ext cx="8756640" cy="2593440"/>
            <a:chOff x="387360" y="1371600"/>
            <a:chExt cx="8756640" cy="2593440"/>
          </a:xfrm>
        </p:grpSpPr>
        <p:sp>
          <p:nvSpPr>
            <p:cNvPr id="96" name=""/>
            <p:cNvSpPr/>
            <p:nvPr/>
          </p:nvSpPr>
          <p:spPr>
            <a:xfrm>
              <a:off x="4648320" y="2666880"/>
              <a:ext cx="457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0" y="18288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05720" y="2438280"/>
              <a:ext cx="98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05720" y="24382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   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2604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36840" y="22924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1904760" y="1600200"/>
              <a:ext cx="236196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724280" y="1600200"/>
              <a:ext cx="243864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615960" y="2666880"/>
              <a:ext cx="9907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6400440" y="2895480"/>
              <a:ext cx="6094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0120" y="2819520"/>
              <a:ext cx="60948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35280" y="2666880"/>
              <a:ext cx="457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06680" y="2286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35280" y="3429000"/>
              <a:ext cx="98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87560" y="3429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  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238880" y="28954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772400" y="3429000"/>
              <a:ext cx="98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772400" y="34290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   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19920" y="3429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05720" y="3505320"/>
              <a:ext cx="98424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705720" y="35053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   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38480" y="1371600"/>
              <a:ext cx="98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14800" y="13716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   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49880" y="22924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3429000" y="2666880"/>
              <a:ext cx="9907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419720" y="2286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06880" y="34354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76720" y="3429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952880" y="34290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52880" y="342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736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200" y="3429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lete (2-3 tree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4038480"/>
            <a:ext cx="87631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 the pair with ke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deletion from interior into deletion from a lea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ace by largest in left sub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990720" y="914400"/>
            <a:ext cx="7391160" cy="2669400"/>
            <a:chOff x="990720" y="914400"/>
            <a:chExt cx="7391160" cy="2669400"/>
          </a:xfrm>
        </p:grpSpPr>
        <p:sp>
          <p:nvSpPr>
            <p:cNvPr id="131" name=""/>
            <p:cNvSpPr/>
            <p:nvPr/>
          </p:nvSpPr>
          <p:spPr>
            <a:xfrm>
              <a:off x="5943600" y="2057040"/>
              <a:ext cx="98424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43600" y="205704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   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64280" y="3054240"/>
              <a:ext cx="444240" cy="443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90720" y="304776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273560" y="92052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2514600" y="1218960"/>
              <a:ext cx="175248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724280" y="1218960"/>
              <a:ext cx="175284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218960" y="2285640"/>
              <a:ext cx="99036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5638680" y="2514240"/>
              <a:ext cx="6098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58000" y="2438280"/>
              <a:ext cx="60948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19520" y="2285640"/>
              <a:ext cx="45720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343400" y="914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60560" y="3041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19520" y="3047760"/>
              <a:ext cx="98424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05120" y="1981080"/>
              <a:ext cx="984240" cy="443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57400" y="19810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 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71800" y="30477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  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77120" y="25142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10280" y="3047760"/>
              <a:ext cx="98424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10280" y="304776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   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34120" y="3047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43600" y="3124080"/>
              <a:ext cx="984240" cy="443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43600" y="31240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   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39840" y="3054240"/>
              <a:ext cx="444600" cy="443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09680" y="30477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2438280"/>
              <a:ext cx="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lete From A Leaf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5029200"/>
            <a:ext cx="8763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 the pair with ke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node become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990720" y="1295280"/>
            <a:ext cx="7391160" cy="2669760"/>
            <a:chOff x="990720" y="1295280"/>
            <a:chExt cx="7391160" cy="2669760"/>
          </a:xfrm>
        </p:grpSpPr>
        <p:sp>
          <p:nvSpPr>
            <p:cNvPr id="160" name=""/>
            <p:cNvSpPr/>
            <p:nvPr/>
          </p:nvSpPr>
          <p:spPr>
            <a:xfrm>
              <a:off x="5943600" y="2438280"/>
              <a:ext cx="98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43600" y="24382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   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64280" y="34354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90720" y="342900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73560" y="1301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2514600" y="1600200"/>
              <a:ext cx="17524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724280" y="1600200"/>
              <a:ext cx="175284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218960" y="2666880"/>
              <a:ext cx="99036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5638680" y="2895480"/>
              <a:ext cx="6098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58000" y="2819520"/>
              <a:ext cx="60948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19520" y="2666880"/>
              <a:ext cx="457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343400" y="1295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60560" y="3422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19520" y="3429000"/>
              <a:ext cx="98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05120" y="2362320"/>
              <a:ext cx="98424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57400" y="23623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 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71800" y="3429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  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477120" y="28954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10280" y="3429000"/>
              <a:ext cx="98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10280" y="34290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   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34120" y="3429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43600" y="3505320"/>
              <a:ext cx="98424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43600" y="35053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   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13984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09680" y="34290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62320" y="28195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lete From A Leaf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3886200"/>
            <a:ext cx="87631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 the pair with ke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1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ion from 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one sibling and determine if it is 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so borrow a pair and a subtree via parent 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43600" y="1905120"/>
            <a:ext cx="984240" cy="444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43600" y="1905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  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264280" y="2901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289548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73560" y="768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514600" y="1066680"/>
            <a:ext cx="175248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24280" y="1066680"/>
            <a:ext cx="175284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1218960" y="2133720"/>
            <a:ext cx="99036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638680" y="2362320"/>
            <a:ext cx="6098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0" y="2286000"/>
            <a:ext cx="6094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2133720"/>
            <a:ext cx="45720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343400" y="762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0560" y="2889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19520" y="2895480"/>
            <a:ext cx="98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05120" y="1828800"/>
            <a:ext cx="98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71800" y="2895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77120" y="23623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010280" y="2895480"/>
            <a:ext cx="98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10280" y="28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 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412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139840" y="2901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09680" y="2895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362320" y="22860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48520" y="297180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48520" y="296532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lete From A Leaf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3886200"/>
            <a:ext cx="87631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 the pair with ke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ion from 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one sibling and determine if it is 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t, combine with sibling and parent pa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1981080"/>
            <a:ext cx="98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943600" y="1981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  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64280" y="2978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297180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73560" y="844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514600" y="1143000"/>
            <a:ext cx="175248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24280" y="1143000"/>
            <a:ext cx="175284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218960" y="2209680"/>
            <a:ext cx="99036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5638680" y="2438280"/>
            <a:ext cx="6098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0" y="2362320"/>
            <a:ext cx="6094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19520" y="2209680"/>
            <a:ext cx="45720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43400" y="838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60560" y="296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2971800"/>
            <a:ext cx="98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05120" y="1905120"/>
            <a:ext cx="984240" cy="444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57400" y="1905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7180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7120" y="24382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412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9840" y="29782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09680" y="2971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62320" y="23623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48520" y="304812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48520" y="304164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8880" y="29782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238880" y="2971800"/>
            <a:ext cx="5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30T20:56:41Z</cp:lastPrinted>
  <dcterms:modified xsi:type="dcterms:W3CDTF">2006-07-18T19:44:35Z</dcterms:modified>
  <cp:revision>314</cp:revision>
  <dc:subject/>
  <dc:title>Data Representation Methods</dc:title>
</cp:coreProperties>
</file>