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A529-09CE-4557-89D6-B5ADAD4A4D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also be used internally to reduce cache misses and hence improve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ossible for an internal node in an extended tree to have only 1 ch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415-5A05-480F-805B-282B7284D2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pick m so as to fill a bl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Tree. Insert 10, no problem. Insert 18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 Spli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e will do all 3 steps as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CAE-BE96-470D-8F6F-EA3F43BC4B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cache misses possible when searching memory resident AVL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extension of 2-3 and 2-3-4 trees would leave worst case at m=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definition has pairs only in leaves; remaining nodes have keys only. Leaf-pushed B-tree or B+-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01E-37B1-4D94-AB23-37DA0439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759-B6C7-4B04-859C-FB57BEB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BA0-FBB3-401B-A42E-9B7F1ED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168-B6DB-4703-914F-EBE347BC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A1F-FC2C-4508-AE06-1331269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5E8-6623-40C6-91F5-2428FA30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DC0-5C68-4F0D-83BB-254A5160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9A7-79DE-4546-BEA5-567EBF8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9EC-89E5-4EE5-A47A-9CD82BF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E08-996E-433E-8F0B-E35FB4BC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619-2341-468A-97C8-1A33DAD3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F14-7D5A-4320-8EFF-9BACC0EA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F962-EEE2-45E5-B1A5-2DD02F182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-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egree B-trees used to represent very large dictionaries that reside on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degree B-trees used for internal-memory dictionaries to overcome cache-miss penal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-Trees Of Order 5 And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ay search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mpt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ot has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internal nodes (if any) have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eil(m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(or failure) nodes on sam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952880"/>
            <a:ext cx="77724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4-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(root may 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node thoug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ll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# Of Pai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# of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external node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n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on leve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962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4495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419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952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2*ceil(m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548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2*ceil(m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h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6019920"/>
            <a:ext cx="6019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+ 1 &gt;= 2*ceil(m/2)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h-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h &gt;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76520" y="3276720"/>
            <a:ext cx="5029200" cy="2819160"/>
            <a:chOff x="1676520" y="3276720"/>
            <a:chExt cx="5029200" cy="2819160"/>
          </a:xfrm>
        </p:grpSpPr>
        <p:sp>
          <p:nvSpPr>
            <p:cNvPr id="93" name=""/>
            <p:cNvSpPr/>
            <p:nvPr/>
          </p:nvSpPr>
          <p:spPr>
            <a:xfrm>
              <a:off x="1676520" y="33526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8320" y="33526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# of nod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9000" y="3276720"/>
              <a:ext cx="0" cy="28191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# Of Pai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 = 2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295280"/>
            <a:ext cx="60195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+ 1 &gt;= 2*ceil(m/2)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h-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h &gt;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2895480"/>
            <a:ext cx="5029200" cy="2819160"/>
            <a:chOff x="1600200" y="2895480"/>
            <a:chExt cx="5029200" cy="2819160"/>
          </a:xfrm>
        </p:grpSpPr>
        <p:sp>
          <p:nvSpPr>
            <p:cNvPr id="100" name=""/>
            <p:cNvSpPr/>
            <p:nvPr/>
          </p:nvSpPr>
          <p:spPr>
            <a:xfrm>
              <a:off x="1600200" y="29714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heigh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297144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# of pai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2680" y="2895480"/>
              <a:ext cx="0" cy="281916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905120" y="3657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1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038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19,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495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2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029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= 2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943600"/>
            <a:ext cx="60195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 &lt;= log 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ceil(m/2)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[(n+1)/2]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searc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ime to fetch a nod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search node)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a + b*m + c * 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) *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, b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n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3504960"/>
            <a:ext cx="6477120" cy="3248640"/>
            <a:chOff x="0" y="3504960"/>
            <a:chExt cx="6477120" cy="3248640"/>
          </a:xfrm>
        </p:grpSpPr>
        <p:sp>
          <p:nvSpPr>
            <p:cNvPr id="115" name=""/>
            <p:cNvSpPr/>
            <p:nvPr/>
          </p:nvSpPr>
          <p:spPr>
            <a:xfrm>
              <a:off x="3505320" y="6172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600200" y="3504960"/>
              <a:ext cx="0" cy="2438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0200" y="5943600"/>
              <a:ext cx="4343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495680"/>
              <a:ext cx="1600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search 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962520"/>
              <a:ext cx="762120" cy="1358640"/>
            </a:xfrm>
            <a:custGeom>
              <a:avLst/>
              <a:gdLst/>
              <a:ahLst/>
              <a:rect l="l" t="t" r="r" b="b"/>
              <a:pathLst>
                <a:path w="480" h="856">
                  <a:moveTo>
                    <a:pt x="0" y="0"/>
                  </a:moveTo>
                  <a:cubicBezTo>
                    <a:pt x="32" y="292"/>
                    <a:pt x="64" y="584"/>
                    <a:pt x="144" y="720"/>
                  </a:cubicBezTo>
                  <a:cubicBezTo>
                    <a:pt x="224" y="856"/>
                    <a:pt x="424" y="800"/>
                    <a:pt x="480" y="816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66880" y="4038480"/>
              <a:ext cx="3086280" cy="1384560"/>
            </a:xfrm>
            <a:custGeom>
              <a:avLst/>
              <a:gdLst/>
              <a:ahLst/>
              <a:rect l="l" t="t" r="r" b="b"/>
              <a:pathLst>
                <a:path w="1944" h="872">
                  <a:moveTo>
                    <a:pt x="0" y="768"/>
                  </a:moveTo>
                  <a:cubicBezTo>
                    <a:pt x="588" y="820"/>
                    <a:pt x="1176" y="872"/>
                    <a:pt x="1488" y="768"/>
                  </a:cubicBezTo>
                  <a:cubicBezTo>
                    <a:pt x="1800" y="664"/>
                    <a:pt x="1800" y="272"/>
                    <a:pt x="1872" y="144"/>
                  </a:cubicBezTo>
                  <a:cubicBezTo>
                    <a:pt x="1944" y="16"/>
                    <a:pt x="1932" y="8"/>
                    <a:pt x="1920" y="0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5867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6920" y="5867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4382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638680" y="28954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28195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0292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into a full leaf triggers bottom-up node splitting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505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n Overfull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inter to a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dictionary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371600"/>
            <a:ext cx="43434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886200"/>
            <a:ext cx="792504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il(m/2)-1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029200"/>
            <a:ext cx="8458200" cy="6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-ceil(m/2)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eil(m/2)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791320"/>
            <a:ext cx="8305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ceil(m/2)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us pointer to new node is inserted in par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19810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642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9840" y="1835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3560" y="844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514600" y="11430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1430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218960" y="22096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38680" y="24382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3623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22096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1828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8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9718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0384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ir goes into 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30481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600" y="2487600"/>
            <a:ext cx="1558800" cy="121932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Into A Leaf 3-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new pair so that th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are in ascend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514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overflowed node around middl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57600" y="1905120"/>
            <a:ext cx="1218960" cy="459720"/>
            <a:chOff x="3657600" y="1905120"/>
            <a:chExt cx="1218960" cy="459720"/>
          </a:xfrm>
        </p:grpSpPr>
        <p:sp>
          <p:nvSpPr>
            <p:cNvPr id="184" name=""/>
            <p:cNvSpPr/>
            <p:nvPr/>
          </p:nvSpPr>
          <p:spPr>
            <a:xfrm>
              <a:off x="3657600" y="190512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9880" y="1905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2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middle key and pointer to new node int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3276720"/>
            <a:ext cx="2819520" cy="1215360"/>
            <a:chOff x="3429000" y="3276720"/>
            <a:chExt cx="2819520" cy="1215360"/>
          </a:xfrm>
        </p:grpSpPr>
        <p:sp>
          <p:nvSpPr>
            <p:cNvPr id="188" name=""/>
            <p:cNvSpPr/>
            <p:nvPr/>
          </p:nvSpPr>
          <p:spPr>
            <a:xfrm>
              <a:off x="3429000" y="403848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98840" y="4032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2360" y="3282840"/>
              <a:ext cx="457200" cy="457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4038480"/>
              <a:ext cx="44460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6600" y="403236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83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89560" y="373392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24382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38680" y="28954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28195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5029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505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9600" y="2944800"/>
            <a:ext cx="1558800" cy="121932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24382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638680" y="28954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8195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3505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29248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30481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6040" y="3041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34290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84240" y="342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274320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562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2057400"/>
            <a:ext cx="121932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= 2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30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0 &lt;= height &lt;= 4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AVL tree resides on a disk, up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ccess are made for a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akes up to (approx)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ccep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5029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90720" y="1295280"/>
            <a:ext cx="7391160" cy="2669760"/>
            <a:chOff x="990720" y="1295280"/>
            <a:chExt cx="7391160" cy="2669760"/>
          </a:xfrm>
        </p:grpSpPr>
        <p:sp>
          <p:nvSpPr>
            <p:cNvPr id="255" name=""/>
            <p:cNvSpPr/>
            <p:nvPr/>
          </p:nvSpPr>
          <p:spPr>
            <a:xfrm>
              <a:off x="594360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720" y="3429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638680" y="2895480"/>
              <a:ext cx="6098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195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4340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560" y="342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1952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05120" y="2362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7712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0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028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9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96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2819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791320" y="3276720"/>
            <a:ext cx="121896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Into A Leaf 3-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81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new pair so that th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are in ascend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256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the overflowed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57600" y="1959120"/>
            <a:ext cx="1904760" cy="459720"/>
            <a:chOff x="3657600" y="1959120"/>
            <a:chExt cx="1904760" cy="459720"/>
          </a:xfrm>
        </p:grpSpPr>
        <p:sp>
          <p:nvSpPr>
            <p:cNvPr id="286" name=""/>
            <p:cNvSpPr/>
            <p:nvPr/>
          </p:nvSpPr>
          <p:spPr>
            <a:xfrm>
              <a:off x="3657600" y="1959120"/>
              <a:ext cx="153792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95560" y="1959120"/>
              <a:ext cx="166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17 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948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middle key and pointer to new node int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19520" y="3511440"/>
            <a:ext cx="2298600" cy="1215360"/>
            <a:chOff x="2819520" y="3511440"/>
            <a:chExt cx="2298600" cy="1215360"/>
          </a:xfrm>
        </p:grpSpPr>
        <p:sp>
          <p:nvSpPr>
            <p:cNvPr id="290" name=""/>
            <p:cNvSpPr/>
            <p:nvPr/>
          </p:nvSpPr>
          <p:spPr>
            <a:xfrm>
              <a:off x="4336920" y="4273560"/>
              <a:ext cx="44460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43400" y="42670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42735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4267080"/>
              <a:ext cx="76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22520" y="3517920"/>
              <a:ext cx="457200" cy="457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351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9720" y="3968640"/>
              <a:ext cx="6098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029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90720" y="1295280"/>
            <a:ext cx="7391160" cy="2669760"/>
            <a:chOff x="990720" y="1295280"/>
            <a:chExt cx="7391160" cy="2669760"/>
          </a:xfrm>
        </p:grpSpPr>
        <p:sp>
          <p:nvSpPr>
            <p:cNvPr id="300" name=""/>
            <p:cNvSpPr/>
            <p:nvPr/>
          </p:nvSpPr>
          <p:spPr>
            <a:xfrm>
              <a:off x="5943600" y="243828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4360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3429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638680" y="2895480"/>
              <a:ext cx="6098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2819520"/>
              <a:ext cx="609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195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4340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60560" y="342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952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05120" y="2362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74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7180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7712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10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028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3600" y="3505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3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39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096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62320" y="2819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791320" y="3200400"/>
            <a:ext cx="121896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029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7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43828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3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680" y="28954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281952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0560" y="342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2362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9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38880" y="175896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2514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9760" y="25081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20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2040" y="342900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4536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20968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2209680"/>
            <a:ext cx="121896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5029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7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30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160020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28840" y="274320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266688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60560" y="342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5120" y="2362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27432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9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122544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0852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08520" y="342900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928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16765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7536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2362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3422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06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2362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76760" y="28195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1066680"/>
            <a:ext cx="121932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5029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1143000"/>
            <a:ext cx="7391160" cy="2745720"/>
            <a:chOff x="990720" y="1143000"/>
            <a:chExt cx="7391160" cy="2745720"/>
          </a:xfrm>
        </p:grpSpPr>
        <p:sp>
          <p:nvSpPr>
            <p:cNvPr id="401" name=""/>
            <p:cNvSpPr/>
            <p:nvPr/>
          </p:nvSpPr>
          <p:spPr>
            <a:xfrm>
              <a:off x="41972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90720" y="3429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514600" y="1523880"/>
              <a:ext cx="190512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495320" y="274320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0" y="2666880"/>
              <a:ext cx="609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520" y="2666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560" y="342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1952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5120" y="2362320"/>
              <a:ext cx="98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74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29200" y="27432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0280" y="3429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10280" y="3429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70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9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09680" y="34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2819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7536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81480" y="3429000"/>
              <a:ext cx="7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4184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8320" y="236232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48520" y="3429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54640" y="342252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7064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236232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76760" y="281952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43400" y="1143000"/>
              <a:ext cx="98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95680" y="1143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 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6920" y="16002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57800" y="144792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666880" y="3124080"/>
            <a:ext cx="121932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7772400" y="3429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5029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6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72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593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34290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76360" y="1523880"/>
            <a:ext cx="190476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81080" y="2666880"/>
            <a:ext cx="9907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57440" y="274320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0120" y="266688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266688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2320" y="342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362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91320" y="274320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019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718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2819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3712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43600" y="342900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0396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0080" y="2362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34290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6760" y="3422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2760" y="2368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38880" y="2362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238520" y="28195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1143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386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1447920"/>
            <a:ext cx="1371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63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191124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6668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65120" y="26607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368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3623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2057400"/>
            <a:ext cx="121932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562720" y="3505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5029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4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627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96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3581280"/>
            <a:ext cx="4572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066680" y="1600200"/>
            <a:ext cx="19051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04560" y="2819520"/>
            <a:ext cx="60948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047760" y="28195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10080" y="274320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2120" y="357516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28195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19320" y="35812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89160" y="3575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43000" y="2819520"/>
            <a:ext cx="2286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274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33920" y="350532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9392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24382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00600" y="35053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7080" y="349884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2272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24382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028840" y="28954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12193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9880" y="15238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122544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848720" y="19810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18560" y="19749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676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91520" y="16765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2438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07920" y="2432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38880" y="3200400"/>
            <a:ext cx="4572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91160" y="243828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08720" y="319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05920" y="32004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75760" y="319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53280" y="243828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914400"/>
            <a:ext cx="1219320" cy="914400"/>
          </a:xfrm>
          <a:custGeom>
            <a:avLst/>
            <a:gdLst/>
            <a:ahLst/>
            <a:rect l="l" t="t" r="r" b="b"/>
            <a:pathLst>
              <a:path w="982" h="768">
                <a:moveTo>
                  <a:pt x="372" y="6"/>
                </a:moveTo>
                <a:cubicBezTo>
                  <a:pt x="348" y="9"/>
                  <a:pt x="323" y="6"/>
                  <a:pt x="301" y="15"/>
                </a:cubicBezTo>
                <a:cubicBezTo>
                  <a:pt x="286" y="21"/>
                  <a:pt x="279" y="40"/>
                  <a:pt x="266" y="50"/>
                </a:cubicBezTo>
                <a:cubicBezTo>
                  <a:pt x="142" y="152"/>
                  <a:pt x="248" y="53"/>
                  <a:pt x="177" y="121"/>
                </a:cubicBezTo>
                <a:cubicBezTo>
                  <a:pt x="158" y="178"/>
                  <a:pt x="154" y="246"/>
                  <a:pt x="124" y="298"/>
                </a:cubicBezTo>
                <a:cubicBezTo>
                  <a:pt x="102" y="335"/>
                  <a:pt x="70" y="371"/>
                  <a:pt x="44" y="405"/>
                </a:cubicBezTo>
                <a:cubicBezTo>
                  <a:pt x="24" y="432"/>
                  <a:pt x="15" y="463"/>
                  <a:pt x="0" y="493"/>
                </a:cubicBezTo>
                <a:cubicBezTo>
                  <a:pt x="3" y="526"/>
                  <a:pt x="2" y="559"/>
                  <a:pt x="9" y="591"/>
                </a:cubicBezTo>
                <a:cubicBezTo>
                  <a:pt x="17" y="626"/>
                  <a:pt x="125" y="641"/>
                  <a:pt x="159" y="653"/>
                </a:cubicBezTo>
                <a:cubicBezTo>
                  <a:pt x="205" y="713"/>
                  <a:pt x="261" y="753"/>
                  <a:pt x="337" y="768"/>
                </a:cubicBezTo>
                <a:cubicBezTo>
                  <a:pt x="434" y="754"/>
                  <a:pt x="534" y="765"/>
                  <a:pt x="629" y="741"/>
                </a:cubicBezTo>
                <a:cubicBezTo>
                  <a:pt x="650" y="720"/>
                  <a:pt x="670" y="700"/>
                  <a:pt x="691" y="679"/>
                </a:cubicBezTo>
                <a:cubicBezTo>
                  <a:pt x="727" y="643"/>
                  <a:pt x="803" y="654"/>
                  <a:pt x="851" y="644"/>
                </a:cubicBezTo>
                <a:cubicBezTo>
                  <a:pt x="879" y="630"/>
                  <a:pt x="914" y="628"/>
                  <a:pt x="939" y="609"/>
                </a:cubicBezTo>
                <a:cubicBezTo>
                  <a:pt x="969" y="586"/>
                  <a:pt x="975" y="502"/>
                  <a:pt x="975" y="502"/>
                </a:cubicBezTo>
                <a:cubicBezTo>
                  <a:pt x="972" y="419"/>
                  <a:pt x="982" y="335"/>
                  <a:pt x="966" y="254"/>
                </a:cubicBezTo>
                <a:cubicBezTo>
                  <a:pt x="956" y="202"/>
                  <a:pt x="869" y="148"/>
                  <a:pt x="833" y="112"/>
                </a:cubicBezTo>
                <a:cubicBezTo>
                  <a:pt x="778" y="96"/>
                  <a:pt x="722" y="84"/>
                  <a:pt x="669" y="65"/>
                </a:cubicBezTo>
                <a:cubicBezTo>
                  <a:pt x="662" y="63"/>
                  <a:pt x="622" y="25"/>
                  <a:pt x="611" y="24"/>
                </a:cubicBezTo>
                <a:cubicBezTo>
                  <a:pt x="369" y="0"/>
                  <a:pt x="372" y="95"/>
                  <a:pt x="372" y="6"/>
                </a:cubicBez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8001000" y="3962520"/>
            <a:ext cx="98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4952880"/>
            <a:ext cx="8076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pair with ke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8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a pointer into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parent. So, create a new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796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3733920"/>
            <a:ext cx="4572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219320" y="167652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56840" y="29718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486040" y="3276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848720" y="32004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4760" y="372744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32767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57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71600" y="37339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1440" y="3727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2971800"/>
            <a:ext cx="2286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6572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72200" y="396252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3256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38680" y="28954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3962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45360" y="395604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6136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67480" y="28954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7467120" y="3352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867280" y="2057400"/>
            <a:ext cx="6098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81680" y="20574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86400" y="920880"/>
            <a:ext cx="457200" cy="4572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8120" y="25146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7960" y="25081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6884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43600" y="137160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90720" y="25909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0560" y="2584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3733920"/>
            <a:ext cx="4572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590560" y="29718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08120" y="37274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05320" y="37339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75160" y="3727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297180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57400" y="12952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27240" y="1289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1676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167004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16765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391520" y="4572000"/>
            <a:ext cx="98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5791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increases b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84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920" y="4648320"/>
            <a:ext cx="4572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219320" y="259092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56840" y="38862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876560" y="388620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38880" y="3809880"/>
            <a:ext cx="609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760" y="464184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388620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8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371600" y="46483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1440" y="4641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3886200"/>
            <a:ext cx="2286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56240" y="4578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2720" y="457200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2272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3505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5720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35880" y="4565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152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35053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857640" y="39625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257440" y="266688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8120" y="3429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17960" y="342252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5053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0560" y="3498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4648320"/>
            <a:ext cx="4572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0560" y="38862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08120" y="4641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05320" y="46483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75160" y="4641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52680" y="3886200"/>
            <a:ext cx="3049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22096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27240" y="2203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91320" y="2286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27952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38280" y="25909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38480" y="990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08320" y="984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437920" y="121932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95680" y="1219320"/>
            <a:ext cx="14479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-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= 2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30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0 &lt;= height &lt;= 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d-black tree resides on a disk, up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k access are made for a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akes up to (approx)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c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ccep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-wa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up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 and m childr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 = 2 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4-Wa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18960" y="2286000"/>
            <a:ext cx="6553440" cy="2514600"/>
            <a:chOff x="1218960" y="2286000"/>
            <a:chExt cx="6553440" cy="2514600"/>
          </a:xfrm>
        </p:grpSpPr>
        <p:sp>
          <p:nvSpPr>
            <p:cNvPr id="58" name=""/>
            <p:cNvSpPr/>
            <p:nvPr/>
          </p:nvSpPr>
          <p:spPr>
            <a:xfrm>
              <a:off x="2133720" y="2286000"/>
              <a:ext cx="5333760" cy="1523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2666880"/>
              <a:ext cx="449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              30              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18960" y="3200400"/>
              <a:ext cx="10666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3048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30481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6600" y="2971800"/>
              <a:ext cx="68580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838080" y="4800600"/>
            <a:ext cx="1219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&lt;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4800600"/>
            <a:ext cx="1523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&lt; k &lt; 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800600"/>
            <a:ext cx="1523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&lt; k &lt; 3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4724280"/>
            <a:ext cx="1218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&gt; 3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imum # Of Pai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ens when all internal nodes ar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degre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node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 + m + 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 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 … + 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h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(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– 1)/(m – 1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# of pair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pacity Of m-Wa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8040" y="1905120"/>
          <a:ext cx="7107120" cy="43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905120"/>
                    <a:ext cx="710712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finition Of B-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assumes external nodes (extende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search 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ay search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mpty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ot has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internal nodes (if any) have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eil(m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(or failure) nodes on sam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3 And 2-3-4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ay search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mpty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ot has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internal nodes (if any) have at lea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eil(m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(or failure) nodes on sam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25780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is 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-3-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is B-tree of ord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43:03Z</dcterms:modified>
  <cp:revision>313</cp:revision>
  <dc:subject/>
  <dc:title>Data Representation Methods</dc:title>
</cp:coreProperties>
</file>