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BC6F-C3E3-41AE-9A7A-97733026CAD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r’(q) &gt; r(q), this follows from just proved bound of 2(r’(q) – r(q)). Re-analysis needed for case when r’(q) = r(q). In this case, the previous bound is shown to be 2(r’(q)-r(q))-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any root to leaf path at most rank(root) + 1 different rank values. When you insert only the first of each different value sequence (or last if you go from insert node to root) may increase/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ost is 1 if you count cost of checking you are in this c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do 1-level moves alone, the number of such moves may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-1, because the tree height may be n. So the amortized cost of the splay operation would be n - 1 + final rank of q – initial rank of q &lt;= n + floor(log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67FC-020B-4645-8918-E5988FDF2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3509-4A49-4198-A207-A218B4ED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A315-C92B-45C1-9543-6F1D4414E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33D0-116F-4F00-9B19-158DB0AAA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883B-AE5F-4F33-8966-4107CAE7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C2C5-E3F8-4CD1-912A-3EEC1638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A24B-22E2-4B57-9C6B-53C746DC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6B55-8617-4666-BDAD-1F11AE2E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E534-A885-4F02-B7CC-195A7A5B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6684-03BC-4916-A355-2B4C6AEE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6BBA-053A-49DD-9205-69D09B39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FDBA-A2E5-4A1B-8187-54323EEC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46D6-7ADB-4686-81FD-A87D04E11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ottom-Up Splay Trees–Analysi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ual and amortized complexity of join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ortized complexity of search, insert, delete, and spli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ual complexity of each splay tree operation is the same as that of the associated spl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fficient to show that the amortized complexity of the splay operation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2-Level Move (case 1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r’(gp) + r’(p) + r’(q) – r(gp) –  r(p) – r(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’(q) = r(g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’(gp) &lt;= r’(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’(p) &lt;= r’(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 (q) &lt;= r(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343400" y="990720"/>
            <a:ext cx="380880" cy="10666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486400" y="1066680"/>
            <a:ext cx="380880" cy="106704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4724280"/>
            <a:ext cx="85345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&lt;= r’(q) + r’(q) – r(q) – r(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2(r’(q) – r(q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38280" y="1752480"/>
            <a:ext cx="1498680" cy="1435320"/>
          </a:xfrm>
          <a:custGeom>
            <a:avLst/>
            <a:gdLst/>
            <a:ahLst/>
            <a:rect l="l" t="t" r="r" b="b"/>
            <a:pathLst>
              <a:path w="944" h="904">
                <a:moveTo>
                  <a:pt x="480" y="816"/>
                </a:moveTo>
                <a:cubicBezTo>
                  <a:pt x="712" y="860"/>
                  <a:pt x="944" y="904"/>
                  <a:pt x="864" y="768"/>
                </a:cubicBezTo>
                <a:cubicBezTo>
                  <a:pt x="784" y="632"/>
                  <a:pt x="392" y="316"/>
                  <a:pt x="0" y="0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19520" y="1676520"/>
            <a:ext cx="1726920" cy="2489040"/>
          </a:xfrm>
          <a:custGeom>
            <a:avLst/>
            <a:gdLst/>
            <a:ahLst/>
            <a:rect l="l" t="t" r="r" b="b"/>
            <a:pathLst>
              <a:path w="1088" h="1568">
                <a:moveTo>
                  <a:pt x="0" y="1344"/>
                </a:moveTo>
                <a:cubicBezTo>
                  <a:pt x="464" y="1456"/>
                  <a:pt x="928" y="1568"/>
                  <a:pt x="1008" y="1344"/>
                </a:cubicBezTo>
                <a:cubicBezTo>
                  <a:pt x="1088" y="1120"/>
                  <a:pt x="784" y="560"/>
                  <a:pt x="480" y="0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19520" y="1752480"/>
            <a:ext cx="5270400" cy="2819520"/>
          </a:xfrm>
          <a:custGeom>
            <a:avLst/>
            <a:gdLst/>
            <a:ahLst/>
            <a:rect l="l" t="t" r="r" b="b"/>
            <a:pathLst>
              <a:path w="3320" h="1776">
                <a:moveTo>
                  <a:pt x="0" y="1776"/>
                </a:moveTo>
                <a:cubicBezTo>
                  <a:pt x="1220" y="1684"/>
                  <a:pt x="2440" y="1592"/>
                  <a:pt x="2880" y="1296"/>
                </a:cubicBezTo>
                <a:cubicBezTo>
                  <a:pt x="3320" y="1000"/>
                  <a:pt x="2980" y="500"/>
                  <a:pt x="2640" y="0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2-Level Move (case 1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1905120"/>
            <a:ext cx="85345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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careful analysis reveals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&lt;= 3(r’(q) – r(q)) –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ee text for proo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2-Level Move (case 1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240" y="2590920"/>
            <a:ext cx="85345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ortized co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ctual co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= 1 + 3(r’(q) – r(q)) –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(r’(q) – r(q)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2-Level Move (case 2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to Case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lay Oper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 !=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nu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ot the root, zero or mo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evel splay steps followed by zero or on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evel splay ste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’’(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rank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ust after la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evel splay ste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’’’(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rank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ust aft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evel splay ste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lay Oper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ortized cost of al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evel splay steps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= 3(r’’(q) – r(q)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ortized cost of splay operatio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= 1 + r’’’(q) – r’’(q) + 3(r’’(q) – r(q)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= 1 + 3(r’’’(q) – r’’(q)) + 3(r’’(q) – r(q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 + 3(r’’’(q) – r(q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= 3(floor(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) – r(q)) +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ctual Cost Of Operation Seque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ual cost of 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peration 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ctual cost of the associate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play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ctual_cost_splay(i) = amortized_cost_splay(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– </a:t>
            </a: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= 3(floor(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) – r(q)) + 1 + P’(i) – P(i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’(i)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tential just befo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th spl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(i)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tential just aft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th spl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’(i) &lt;= P(i – 1) + floor(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ctual Cost Of Operation Seque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ctual_cost_splay(i) = amortized_cost_splay(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– </a:t>
            </a: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= 3(floor(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) – r(q)) + 1 + P’(i) – P(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 * floor(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) + 1 + P’(i) – P(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 * floor(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) + 1 + P(i – 1) – P(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(0) =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P(n) &gt;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ctual_cost_splay(i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n * floor(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) + n + P(0) – P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5n * floor(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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n log 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otential Func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ize(x)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#nodes in subtree whose roo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ank(x) = floor(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size(x)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(i)  = </a:t>
            </a: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x is a tree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ank(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P(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potential after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th op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ize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ank(x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computed after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th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P(0) =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join and split operations are done, number of splay tre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gt;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 ti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P(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btained by summing over all nodes in all tre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4876560"/>
            <a:ext cx="3505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ize(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 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600200" y="1143000"/>
            <a:ext cx="5778360" cy="3340080"/>
            <a:chOff x="1600200" y="1143000"/>
            <a:chExt cx="5778360" cy="3340080"/>
          </a:xfrm>
        </p:grpSpPr>
        <p:sp>
          <p:nvSpPr>
            <p:cNvPr id="55" name=""/>
            <p:cNvSpPr/>
            <p:nvPr/>
          </p:nvSpPr>
          <p:spPr>
            <a:xfrm>
              <a:off x="4724280" y="11430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90920" y="213372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934320" y="213372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00200" y="29718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15000" y="29718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33720" y="403848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3041280" y="1441440"/>
              <a:ext cx="167652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175360" y="1441440"/>
              <a:ext cx="182880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1898280" y="2508120"/>
              <a:ext cx="7621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6089760" y="2584440"/>
              <a:ext cx="9144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974960" y="3346560"/>
              <a:ext cx="30456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00880" y="116676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67160" y="215748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53120" y="299556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86640" y="40622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910560" y="215748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691240" y="299556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828800" y="4038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24280" y="4876920"/>
            <a:ext cx="3505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rank(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 b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5638680"/>
            <a:ext cx="3505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entia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2895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2057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10080" y="2971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629400" y="2133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1066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4038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33720" y="2895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133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2971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467480" y="2133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81480" y="1066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4876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ank(root) = floor(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563868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insert, potential may increase b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loor(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n)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219320" y="1066680"/>
            <a:ext cx="6705360" cy="3492360"/>
            <a:chOff x="1219320" y="1066680"/>
            <a:chExt cx="6705360" cy="3492360"/>
          </a:xfrm>
        </p:grpSpPr>
        <p:grpSp>
          <p:nvGrpSpPr>
            <p:cNvPr id="90" name=""/>
            <p:cNvGrpSpPr/>
            <p:nvPr/>
          </p:nvGrpSpPr>
          <p:grpSpPr>
            <a:xfrm>
              <a:off x="1600200" y="1143000"/>
              <a:ext cx="5778360" cy="3340080"/>
              <a:chOff x="1600200" y="1143000"/>
              <a:chExt cx="5778360" cy="3340080"/>
            </a:xfrm>
          </p:grpSpPr>
          <p:sp>
            <p:nvSpPr>
              <p:cNvPr id="91" name=""/>
              <p:cNvSpPr/>
              <p:nvPr/>
            </p:nvSpPr>
            <p:spPr>
              <a:xfrm>
                <a:off x="4724280" y="1143000"/>
                <a:ext cx="444600" cy="4446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590920" y="2133720"/>
                <a:ext cx="444240" cy="4442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934320" y="2133720"/>
                <a:ext cx="444240" cy="4442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600200" y="2971800"/>
                <a:ext cx="444600" cy="4446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715000" y="2971800"/>
                <a:ext cx="444600" cy="4446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133720" y="4038480"/>
                <a:ext cx="444240" cy="4446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3041280" y="1441440"/>
                <a:ext cx="167652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175360" y="1441440"/>
                <a:ext cx="182880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1898280" y="2508120"/>
                <a:ext cx="76212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6089760" y="2584440"/>
                <a:ext cx="91440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974960" y="3346560"/>
                <a:ext cx="304560" cy="76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700880" y="1166760"/>
                <a:ext cx="4410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567160" y="2157480"/>
                <a:ext cx="4410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653120" y="299556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186640" y="406224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10560" y="2157480"/>
                <a:ext cx="4410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4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691240" y="2995560"/>
                <a:ext cx="4410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828800" y="4038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9320" y="2895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86000" y="20574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10080" y="29718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629400" y="21337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19720" y="10666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90920" y="4038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33720" y="2895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48120" y="21337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72200" y="29718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67480" y="21337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181480" y="10666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lay Step Amortized Cos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 =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nu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root, do nothing (splay is ov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ortized co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ctual co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         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lay Step Amortized Cos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t leve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o a one-level move and terminate the splay op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9480" y="2743200"/>
            <a:ext cx="1905120" cy="2120760"/>
            <a:chOff x="609480" y="2743200"/>
            <a:chExt cx="1905120" cy="2120760"/>
          </a:xfrm>
        </p:grpSpPr>
        <p:sp>
          <p:nvSpPr>
            <p:cNvPr id="125" name=""/>
            <p:cNvSpPr/>
            <p:nvPr/>
          </p:nvSpPr>
          <p:spPr>
            <a:xfrm>
              <a:off x="1454040" y="28256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96840" y="3587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1219320" y="3200400"/>
              <a:ext cx="30456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28800" y="320040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6680" y="274320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480" y="35812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9480" y="43434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47920" y="43434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05120" y="35812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762120" y="3962520"/>
              <a:ext cx="30456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371600" y="396252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352680" y="3733920"/>
            <a:ext cx="1676520" cy="0"/>
          </a:xfrm>
          <a:prstGeom prst="line">
            <a:avLst/>
          </a:prstGeom>
          <a:ln w="57240">
            <a:solidFill>
              <a:srgbClr val="ff00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00800" y="2514600"/>
            <a:ext cx="1905120" cy="2273040"/>
            <a:chOff x="6400800" y="2514600"/>
            <a:chExt cx="1905120" cy="2273040"/>
          </a:xfrm>
        </p:grpSpPr>
        <p:sp>
          <p:nvSpPr>
            <p:cNvPr id="138" name=""/>
            <p:cNvSpPr/>
            <p:nvPr/>
          </p:nvSpPr>
          <p:spPr>
            <a:xfrm>
              <a:off x="6864480" y="2597040"/>
              <a:ext cx="444240" cy="4446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245360" y="3435480"/>
              <a:ext cx="444600" cy="4442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238880" y="297180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6629040" y="2971800"/>
              <a:ext cx="30492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58000" y="42670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96080" y="42670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7009920" y="3886200"/>
              <a:ext cx="30492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0120" y="388620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00800" y="32767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77120" y="251460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772400" y="33526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85800" y="5334120"/>
            <a:ext cx="8458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(x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k of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splay ste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’(x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k of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splay ste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lay Step Amortized Cos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33520" y="1447920"/>
            <a:ext cx="7696080" cy="2349360"/>
            <a:chOff x="533520" y="1447920"/>
            <a:chExt cx="7696080" cy="2349360"/>
          </a:xfrm>
        </p:grpSpPr>
        <p:sp>
          <p:nvSpPr>
            <p:cNvPr id="152" name=""/>
            <p:cNvSpPr/>
            <p:nvPr/>
          </p:nvSpPr>
          <p:spPr>
            <a:xfrm>
              <a:off x="1378080" y="17589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20880" y="25210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1142640" y="2133720"/>
              <a:ext cx="30492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52480" y="213372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90720" y="167652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3520" y="251460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3520" y="32767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71600" y="32767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2880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685440" y="2895480"/>
              <a:ext cx="30492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95280" y="289548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76720" y="2666880"/>
              <a:ext cx="1676160" cy="0"/>
            </a:xfrm>
            <a:prstGeom prst="line">
              <a:avLst/>
            </a:prstGeom>
            <a:ln w="57240">
              <a:solidFill>
                <a:srgbClr val="ff00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88160" y="1530360"/>
              <a:ext cx="444600" cy="4446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9040" y="2368440"/>
              <a:ext cx="444600" cy="4446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190512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552720" y="1905120"/>
              <a:ext cx="30492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81680" y="32004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20120" y="32004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934320" y="2819520"/>
              <a:ext cx="30456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43800" y="281952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324480" y="22096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00800" y="144792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696080" y="228600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685800" y="4038480"/>
            <a:ext cx="7848720" cy="32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r’(p) + r’(q) – r(p) – r(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= r’(q) – r(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99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ortized co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ctual co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= 1 + r’(q) – r(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2-Level Move (case 1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54100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r’(gp) + r’(p) + r’(q) – r(gp) –  r(p) – r(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762120" y="1143000"/>
            <a:ext cx="7924680" cy="3492360"/>
            <a:chOff x="762120" y="1143000"/>
            <a:chExt cx="7924680" cy="3492360"/>
          </a:xfrm>
        </p:grpSpPr>
        <p:sp>
          <p:nvSpPr>
            <p:cNvPr id="179" name=""/>
            <p:cNvSpPr/>
            <p:nvPr/>
          </p:nvSpPr>
          <p:spPr>
            <a:xfrm>
              <a:off x="3505320" y="3505320"/>
              <a:ext cx="1676160" cy="0"/>
            </a:xfrm>
            <a:prstGeom prst="line">
              <a:avLst/>
            </a:prstGeom>
            <a:ln w="57240">
              <a:solidFill>
                <a:srgbClr val="ff00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762120" y="1453680"/>
              <a:ext cx="2438280" cy="3181680"/>
              <a:chOff x="762120" y="1453680"/>
              <a:chExt cx="2438280" cy="3181680"/>
            </a:xfrm>
          </p:grpSpPr>
          <p:sp>
            <p:nvSpPr>
              <p:cNvPr id="181" name=""/>
              <p:cNvSpPr/>
              <p:nvPr/>
            </p:nvSpPr>
            <p:spPr>
              <a:xfrm>
                <a:off x="1606680" y="2597040"/>
                <a:ext cx="444240" cy="4446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149480" y="3359160"/>
                <a:ext cx="444240" cy="4446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1371240" y="2971800"/>
                <a:ext cx="304920" cy="380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981080" y="2971800"/>
                <a:ext cx="22860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2368440" y="1453680"/>
                <a:ext cx="0" cy="381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219320" y="2514600"/>
                <a:ext cx="304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62120" y="3352680"/>
                <a:ext cx="304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62120" y="411480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600200" y="411480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057400" y="33526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914040" y="3733920"/>
                <a:ext cx="30492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523880" y="3733920"/>
                <a:ext cx="22860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139840" y="1835280"/>
                <a:ext cx="444600" cy="4442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1905120" y="2209680"/>
                <a:ext cx="304560" cy="381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514600" y="2209680"/>
                <a:ext cx="22860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600200" y="167652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g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590920" y="259092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6172200" y="1143000"/>
              <a:ext cx="2514600" cy="3416040"/>
              <a:chOff x="6172200" y="1143000"/>
              <a:chExt cx="2514600" cy="3416040"/>
            </a:xfrm>
          </p:grpSpPr>
          <p:sp>
            <p:nvSpPr>
              <p:cNvPr id="199" name=""/>
              <p:cNvSpPr/>
              <p:nvPr/>
            </p:nvSpPr>
            <p:spPr>
              <a:xfrm>
                <a:off x="7016760" y="2368440"/>
                <a:ext cx="444600" cy="44460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397640" y="3206880"/>
                <a:ext cx="444600" cy="44424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391520" y="2743200"/>
                <a:ext cx="22860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6781320" y="2743200"/>
                <a:ext cx="304920" cy="380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010280" y="4038480"/>
                <a:ext cx="609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848720" y="40384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7162920" y="3657600"/>
                <a:ext cx="30456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772400" y="3657600"/>
                <a:ext cx="22860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553080" y="304812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620120" y="2286000"/>
                <a:ext cx="304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924680" y="3124080"/>
                <a:ext cx="762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g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6864480" y="1143000"/>
                <a:ext cx="0" cy="380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635880" y="1523880"/>
                <a:ext cx="444240" cy="44460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6400440" y="1898640"/>
                <a:ext cx="304920" cy="380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010280" y="1898640"/>
                <a:ext cx="22860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248520" y="1441440"/>
                <a:ext cx="304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172200" y="22096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2-Level Move (case 1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029200"/>
            <a:ext cx="3505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’(q) = r(g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’(p) &lt;= r’(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762120" y="1143000"/>
            <a:ext cx="7924680" cy="3492360"/>
            <a:chOff x="762120" y="1143000"/>
            <a:chExt cx="7924680" cy="3492360"/>
          </a:xfrm>
        </p:grpSpPr>
        <p:sp>
          <p:nvSpPr>
            <p:cNvPr id="219" name=""/>
            <p:cNvSpPr/>
            <p:nvPr/>
          </p:nvSpPr>
          <p:spPr>
            <a:xfrm>
              <a:off x="3505320" y="3505320"/>
              <a:ext cx="1676160" cy="0"/>
            </a:xfrm>
            <a:prstGeom prst="line">
              <a:avLst/>
            </a:prstGeom>
            <a:ln w="57240">
              <a:solidFill>
                <a:srgbClr val="ff00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762120" y="1453680"/>
              <a:ext cx="2438280" cy="3181680"/>
              <a:chOff x="762120" y="1453680"/>
              <a:chExt cx="2438280" cy="3181680"/>
            </a:xfrm>
          </p:grpSpPr>
          <p:sp>
            <p:nvSpPr>
              <p:cNvPr id="221" name=""/>
              <p:cNvSpPr/>
              <p:nvPr/>
            </p:nvSpPr>
            <p:spPr>
              <a:xfrm>
                <a:off x="1606680" y="2597040"/>
                <a:ext cx="444240" cy="4446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149480" y="3359160"/>
                <a:ext cx="444240" cy="4446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1371240" y="2971800"/>
                <a:ext cx="304920" cy="380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981080" y="2971800"/>
                <a:ext cx="22860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2368440" y="1453680"/>
                <a:ext cx="0" cy="381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219320" y="2514600"/>
                <a:ext cx="304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62120" y="3352680"/>
                <a:ext cx="304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120" y="411480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600200" y="411480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057400" y="33526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914040" y="3733920"/>
                <a:ext cx="30492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523880" y="3733920"/>
                <a:ext cx="22860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139840" y="1835280"/>
                <a:ext cx="444600" cy="4442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1905120" y="2209680"/>
                <a:ext cx="304560" cy="381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514600" y="2209680"/>
                <a:ext cx="22860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600200" y="167652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g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590920" y="259092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6172200" y="1143000"/>
              <a:ext cx="2514600" cy="3416040"/>
              <a:chOff x="6172200" y="1143000"/>
              <a:chExt cx="2514600" cy="3416040"/>
            </a:xfrm>
          </p:grpSpPr>
          <p:sp>
            <p:nvSpPr>
              <p:cNvPr id="239" name=""/>
              <p:cNvSpPr/>
              <p:nvPr/>
            </p:nvSpPr>
            <p:spPr>
              <a:xfrm>
                <a:off x="7016760" y="2368440"/>
                <a:ext cx="444600" cy="44460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397640" y="3206880"/>
                <a:ext cx="444600" cy="44424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391520" y="2743200"/>
                <a:ext cx="22860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6781320" y="2743200"/>
                <a:ext cx="304920" cy="380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010280" y="4038480"/>
                <a:ext cx="609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848720" y="40384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7162920" y="3657600"/>
                <a:ext cx="30456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772400" y="3657600"/>
                <a:ext cx="22860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553080" y="304812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620120" y="2286000"/>
                <a:ext cx="304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924680" y="3124080"/>
                <a:ext cx="762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g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6864480" y="1143000"/>
                <a:ext cx="0" cy="380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635880" y="1523880"/>
                <a:ext cx="444240" cy="44460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6400440" y="1898640"/>
                <a:ext cx="304920" cy="380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010280" y="1898640"/>
                <a:ext cx="22860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248520" y="1441440"/>
                <a:ext cx="304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172200" y="22096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6" name=""/>
          <p:cNvSpPr/>
          <p:nvPr/>
        </p:nvSpPr>
        <p:spPr>
          <a:xfrm>
            <a:off x="4876920" y="4952880"/>
            <a:ext cx="3504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’(gp) &lt;= r’(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 (q) &lt;= r(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30T20:56:41Z</cp:lastPrinted>
  <dcterms:modified xsi:type="dcterms:W3CDTF">2006-07-18T19:41:42Z</dcterms:modified>
  <cp:revision>312</cp:revision>
  <dc:subject/>
  <dc:title>Data Representation Methods</dc:title>
</cp:coreProperties>
</file>