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44E6-AD77-41AB-9514-E19D36C4E9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in S, some in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o 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61D-545D-40E4-B006-C38A026B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352-F67B-4316-9E13-C5F66206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CE2-0E94-4A4F-9D9D-BC025A82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EF4-87CE-4109-97B5-BE2FCB2A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152-2A42-4368-867F-F94769B9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EBB-3218-4484-851D-6DB6A154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0F0-61DF-45E7-82E0-2FD2818D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03B-D7DF-4A15-8A60-07E469BE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703-3722-442E-B3C7-8BDC96AB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A2F-6E93-4E5D-AD1B-CA25B52B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8C7-6D6E-49AB-B159-7F8E543E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A88-F573-45F4-B65D-07D697FD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AAE9-D40F-4463-9824-1090C1D04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, insert, delete, and split have amortized complex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actual complex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and amortized complexity of join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queue and double-ended priority queue versions outperform heaps, deaps, etc. over a sequence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varie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-Level Move (case 2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2971800"/>
            <a:ext cx="167652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5105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ft child of right chil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04920" y="1523520"/>
            <a:ext cx="2133000" cy="3258000"/>
            <a:chOff x="304920" y="1523520"/>
            <a:chExt cx="2133000" cy="3258000"/>
          </a:xfrm>
        </p:grpSpPr>
        <p:sp>
          <p:nvSpPr>
            <p:cNvPr id="223" name=""/>
            <p:cNvSpPr/>
            <p:nvPr/>
          </p:nvSpPr>
          <p:spPr>
            <a:xfrm>
              <a:off x="844560" y="2666880"/>
              <a:ext cx="44388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01760" y="350532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09480" y="3041640"/>
              <a:ext cx="304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8960" y="3041640"/>
              <a:ext cx="2282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606320" y="152352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" y="2584440"/>
              <a:ext cx="30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4400" y="3498840"/>
              <a:ext cx="30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4400" y="426096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2480" y="426096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4920" y="33465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066680" y="387972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76160" y="3879720"/>
              <a:ext cx="2282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77720" y="19051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142640" y="2279520"/>
              <a:ext cx="30420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52480" y="2279520"/>
              <a:ext cx="2282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8080" y="174636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28800" y="266076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791320" y="1218960"/>
            <a:ext cx="2743200" cy="2425680"/>
            <a:chOff x="5791320" y="1218960"/>
            <a:chExt cx="2743200" cy="2425680"/>
          </a:xfrm>
        </p:grpSpPr>
        <p:sp>
          <p:nvSpPr>
            <p:cNvPr id="241" name=""/>
            <p:cNvSpPr/>
            <p:nvPr/>
          </p:nvSpPr>
          <p:spPr>
            <a:xfrm>
              <a:off x="7397640" y="2444400"/>
              <a:ext cx="44460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02360" y="2368440"/>
              <a:ext cx="444600" cy="4438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72400" y="2819160"/>
              <a:ext cx="22860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162920" y="2819160"/>
              <a:ext cx="304560" cy="380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3124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34320" y="3124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943240" y="2819160"/>
              <a:ext cx="30492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00800" y="2819160"/>
              <a:ext cx="22860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00800" y="3124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24680" y="23619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1320" y="22856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016760" y="1218960"/>
              <a:ext cx="0" cy="380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88160" y="1599840"/>
              <a:ext cx="44460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400800" y="1974600"/>
              <a:ext cx="457200" cy="46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2920" y="1974600"/>
              <a:ext cx="380880" cy="46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00800" y="15174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24680" y="3124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 Operation Actual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empty splay tree and insert pairs with key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 this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403848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066680" y="3733920"/>
            <a:ext cx="761760" cy="520560"/>
            <a:chOff x="1066680" y="3733920"/>
            <a:chExt cx="761760" cy="520560"/>
          </a:xfrm>
        </p:grpSpPr>
        <p:sp>
          <p:nvSpPr>
            <p:cNvPr id="262" name=""/>
            <p:cNvSpPr/>
            <p:nvPr/>
          </p:nvSpPr>
          <p:spPr>
            <a:xfrm>
              <a:off x="1066680" y="380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42640" y="37339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664080" y="3733920"/>
            <a:ext cx="1136520" cy="1364760"/>
            <a:chOff x="3664080" y="3733920"/>
            <a:chExt cx="1136520" cy="1364760"/>
          </a:xfrm>
        </p:grpSpPr>
        <p:sp>
          <p:nvSpPr>
            <p:cNvPr id="265" name=""/>
            <p:cNvSpPr/>
            <p:nvPr/>
          </p:nvSpPr>
          <p:spPr>
            <a:xfrm>
              <a:off x="3664080" y="3816360"/>
              <a:ext cx="444600" cy="4438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44960" y="4654440"/>
              <a:ext cx="444600" cy="44424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8840" y="4190760"/>
              <a:ext cx="22860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920" y="37339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14800" y="45720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952880" y="4038480"/>
            <a:ext cx="76212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483240" y="3809880"/>
            <a:ext cx="1212840" cy="1289160"/>
            <a:chOff x="6483240" y="3809880"/>
            <a:chExt cx="1212840" cy="1289160"/>
          </a:xfrm>
        </p:grpSpPr>
        <p:sp>
          <p:nvSpPr>
            <p:cNvPr id="272" name=""/>
            <p:cNvSpPr/>
            <p:nvPr/>
          </p:nvSpPr>
          <p:spPr>
            <a:xfrm>
              <a:off x="6940440" y="3892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240" y="46544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705000" y="426708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3080" y="45720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10280" y="3809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 Operation Actual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empty splay tree and insert pairs with key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 this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403848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3733920"/>
            <a:ext cx="1752480" cy="1288800"/>
            <a:chOff x="457200" y="3733920"/>
            <a:chExt cx="1752480" cy="1288800"/>
          </a:xfrm>
        </p:grpSpPr>
        <p:sp>
          <p:nvSpPr>
            <p:cNvPr id="281" name=""/>
            <p:cNvSpPr/>
            <p:nvPr/>
          </p:nvSpPr>
          <p:spPr>
            <a:xfrm>
              <a:off x="914400" y="3816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578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78960" y="41911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7040" y="4495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84240" y="37339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4040" y="4578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280" y="4191120"/>
              <a:ext cx="3812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23880" y="4495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3429000"/>
            <a:ext cx="1752480" cy="2050920"/>
            <a:chOff x="3962520" y="3429000"/>
            <a:chExt cx="1752480" cy="2050920"/>
          </a:xfrm>
        </p:grpSpPr>
        <p:sp>
          <p:nvSpPr>
            <p:cNvPr id="290" name=""/>
            <p:cNvSpPr/>
            <p:nvPr/>
          </p:nvSpPr>
          <p:spPr>
            <a:xfrm>
              <a:off x="4419720" y="4273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184280" y="46483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32360" y="4952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89560" y="4191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9360" y="3511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724280" y="3886200"/>
              <a:ext cx="3812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9200" y="34290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791320" y="411480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553080" y="3581280"/>
            <a:ext cx="2362320" cy="2051280"/>
            <a:chOff x="6553080" y="3581280"/>
            <a:chExt cx="2362320" cy="2051280"/>
          </a:xfrm>
        </p:grpSpPr>
        <p:sp>
          <p:nvSpPr>
            <p:cNvPr id="300" name=""/>
            <p:cNvSpPr/>
            <p:nvPr/>
          </p:nvSpPr>
          <p:spPr>
            <a:xfrm>
              <a:off x="701028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5308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775560" y="4800600"/>
              <a:ext cx="304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22920" y="5105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80120" y="4343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50280" y="36640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315200" y="4038120"/>
              <a:ext cx="38088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3581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59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4680" y="4038480"/>
              <a:ext cx="45720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229600" y="4343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 Operation Actual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heigh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complexity of search, insert, delete, and spli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op-Down Splay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way down the tree, split the tree into the binary search trees </a:t>
            </a: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mall</a:t>
            </a: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)</a:t>
            </a: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ig</a:t>
            </a:r>
            <a:r>
              <a:rPr b="0" lang="en-US" sz="3200" spc="-1" strike="noStrike">
                <a:solidFill>
                  <a:srgbClr val="ff0033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split operation in an unbalanced binary search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a rotation is done whenever an LL or RR move is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dow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vels at a time, except (possibly) in the end when a one level move is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splay node is reached, </a:t>
            </a: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subtree rooted at the splay node are combined into a single binary search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317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04920" y="1295280"/>
            <a:ext cx="2209680" cy="4635360"/>
            <a:chOff x="304920" y="1295280"/>
            <a:chExt cx="2209680" cy="4635360"/>
          </a:xfrm>
        </p:grpSpPr>
        <p:sp>
          <p:nvSpPr>
            <p:cNvPr id="320" name=""/>
            <p:cNvSpPr/>
            <p:nvPr/>
          </p:nvSpPr>
          <p:spPr>
            <a:xfrm>
              <a:off x="205740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9072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080" y="1357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78080" y="20638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218960" y="2362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2480" y="2362320"/>
              <a:ext cx="22860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05120" y="2590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808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9320" y="1738440"/>
              <a:ext cx="304560" cy="3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33520" y="1738440"/>
              <a:ext cx="37440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71600" y="19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6840" y="2749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37720" y="3048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30481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5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90720" y="26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33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5235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7400" y="4405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01760" y="4792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142640" y="5091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76520" y="51055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5410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952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76520" y="5410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826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5248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352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361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H="1">
            <a:off x="4114440" y="236232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8080" y="20638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218960" y="23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2362320"/>
            <a:ext cx="22860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19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6840" y="2749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37720" y="3048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30481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26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218960" y="37339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7339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8080" y="34354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33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523520" y="4405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4053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01760" y="4792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142640" y="5091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76520" y="51055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440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82640" y="4106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391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25002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405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4114440" y="236232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314840" y="243828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90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96840" y="2749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37720" y="3048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30481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90720" y="26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218960" y="37339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7339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8080" y="34354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71600" y="33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523520" y="4405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57400" y="44053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01760" y="4792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142640" y="5091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76520" y="51055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82640" y="4106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431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38880" y="25002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73560" y="2963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114440" y="32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38480" y="2514600"/>
            <a:ext cx="3812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450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H="1">
            <a:off x="4723920" y="320040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314840" y="243828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90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218960" y="37339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52480" y="37339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8080" y="34354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71600" y="33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1523520" y="4405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57400" y="44053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01760" y="4792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142640" y="5091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51055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1440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952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7652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82640" y="4106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471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238880" y="25002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3560" y="2963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14440" y="32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38480" y="2514600"/>
            <a:ext cx="3812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490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 flipH="1">
            <a:off x="5181120" y="388620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7314840" y="243828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43400" y="4253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571640" y="3948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327672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730760" y="3649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2428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523520" y="4405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57400" y="44053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01760" y="4792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142640" y="5091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76520" y="51055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1440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82640" y="4106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57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511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ottom-Up Splay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, insert, delete, and join are done as in an unbalanced 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, insert, and delete are followed by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play op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begins at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pl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splay operation completes, the splay node has become the tre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requires no splay (or, a null splay is don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split operation, the splay is done in the middle (rather than end) of the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38880" y="25002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73560" y="2963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14440" y="32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2514600"/>
            <a:ext cx="3812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620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530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H="1">
            <a:off x="5181120" y="388620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5409720" y="304812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4253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4571640" y="3948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648320" y="327672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30760" y="3649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477120" y="251460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53080" y="311004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01760" y="4792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142640" y="5091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76520" y="51055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952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7652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8680" y="281160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2485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553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551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38880" y="25002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73560" y="2963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114440" y="32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38480" y="2514600"/>
            <a:ext cx="3812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8620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570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343400" y="4253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571640" y="3948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48320" y="327672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30760" y="3649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2428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477120" y="251460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3080" y="311004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301760" y="4792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019560" y="312408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39625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25780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78680" y="281160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485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53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589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wo-Level Mov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04920" y="1295280"/>
            <a:ext cx="2209680" cy="4635360"/>
            <a:chOff x="304920" y="1295280"/>
            <a:chExt cx="2209680" cy="4635360"/>
          </a:xfrm>
        </p:grpSpPr>
        <p:sp>
          <p:nvSpPr>
            <p:cNvPr id="593" name=""/>
            <p:cNvSpPr/>
            <p:nvPr/>
          </p:nvSpPr>
          <p:spPr>
            <a:xfrm>
              <a:off x="205740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072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1357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78080" y="20638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1218960" y="2362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52480" y="2362320"/>
              <a:ext cx="22860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905120" y="2590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19320" y="1738440"/>
              <a:ext cx="304560" cy="3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33520" y="1738440"/>
              <a:ext cx="37440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4920" y="20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71600" y="19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96840" y="2749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837720" y="3048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71600" y="30481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5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90720" y="26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371600" y="33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5235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057400" y="4405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01760" y="4792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1142640" y="5091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76520" y="51055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14400" y="5410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952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76520" y="5410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826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5248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splay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3040" y="1012680"/>
            <a:ext cx="1650960" cy="2413080"/>
          </a:xfrm>
          <a:custGeom>
            <a:avLst/>
            <a:gdLst/>
            <a:ahLst/>
            <a:rect l="l" t="t" r="r" b="b"/>
            <a:pathLst>
              <a:path w="1040" h="1520">
                <a:moveTo>
                  <a:pt x="562" y="9"/>
                </a:moveTo>
                <a:cubicBezTo>
                  <a:pt x="506" y="12"/>
                  <a:pt x="449" y="13"/>
                  <a:pt x="393" y="18"/>
                </a:cubicBezTo>
                <a:cubicBezTo>
                  <a:pt x="326" y="23"/>
                  <a:pt x="261" y="50"/>
                  <a:pt x="198" y="71"/>
                </a:cubicBezTo>
                <a:cubicBezTo>
                  <a:pt x="147" y="88"/>
                  <a:pt x="92" y="87"/>
                  <a:pt x="39" y="98"/>
                </a:cubicBezTo>
                <a:cubicBezTo>
                  <a:pt x="10" y="139"/>
                  <a:pt x="3" y="180"/>
                  <a:pt x="3" y="230"/>
                </a:cubicBezTo>
                <a:cubicBezTo>
                  <a:pt x="23" y="291"/>
                  <a:pt x="0" y="216"/>
                  <a:pt x="21" y="319"/>
                </a:cubicBezTo>
                <a:cubicBezTo>
                  <a:pt x="30" y="364"/>
                  <a:pt x="45" y="407"/>
                  <a:pt x="56" y="452"/>
                </a:cubicBezTo>
                <a:cubicBezTo>
                  <a:pt x="63" y="482"/>
                  <a:pt x="69" y="518"/>
                  <a:pt x="92" y="541"/>
                </a:cubicBezTo>
                <a:cubicBezTo>
                  <a:pt x="111" y="560"/>
                  <a:pt x="172" y="585"/>
                  <a:pt x="198" y="594"/>
                </a:cubicBezTo>
                <a:cubicBezTo>
                  <a:pt x="238" y="652"/>
                  <a:pt x="261" y="712"/>
                  <a:pt x="278" y="780"/>
                </a:cubicBezTo>
                <a:cubicBezTo>
                  <a:pt x="282" y="955"/>
                  <a:pt x="300" y="1130"/>
                  <a:pt x="287" y="1303"/>
                </a:cubicBezTo>
                <a:cubicBezTo>
                  <a:pt x="305" y="1389"/>
                  <a:pt x="280" y="1311"/>
                  <a:pt x="322" y="1374"/>
                </a:cubicBezTo>
                <a:cubicBezTo>
                  <a:pt x="365" y="1439"/>
                  <a:pt x="363" y="1470"/>
                  <a:pt x="455" y="1489"/>
                </a:cubicBezTo>
                <a:cubicBezTo>
                  <a:pt x="504" y="1520"/>
                  <a:pt x="599" y="1493"/>
                  <a:pt x="650" y="1489"/>
                </a:cubicBezTo>
                <a:cubicBezTo>
                  <a:pt x="714" y="1425"/>
                  <a:pt x="678" y="1352"/>
                  <a:pt x="659" y="1276"/>
                </a:cubicBezTo>
                <a:cubicBezTo>
                  <a:pt x="676" y="1211"/>
                  <a:pt x="711" y="1198"/>
                  <a:pt x="774" y="1187"/>
                </a:cubicBezTo>
                <a:cubicBezTo>
                  <a:pt x="854" y="1157"/>
                  <a:pt x="876" y="1093"/>
                  <a:pt x="934" y="1037"/>
                </a:cubicBezTo>
                <a:cubicBezTo>
                  <a:pt x="960" y="958"/>
                  <a:pt x="915" y="1085"/>
                  <a:pt x="978" y="966"/>
                </a:cubicBezTo>
                <a:cubicBezTo>
                  <a:pt x="992" y="940"/>
                  <a:pt x="1028" y="861"/>
                  <a:pt x="1040" y="824"/>
                </a:cubicBezTo>
                <a:cubicBezTo>
                  <a:pt x="1036" y="772"/>
                  <a:pt x="1039" y="664"/>
                  <a:pt x="1005" y="611"/>
                </a:cubicBezTo>
                <a:cubicBezTo>
                  <a:pt x="988" y="585"/>
                  <a:pt x="958" y="560"/>
                  <a:pt x="943" y="532"/>
                </a:cubicBezTo>
                <a:cubicBezTo>
                  <a:pt x="920" y="491"/>
                  <a:pt x="909" y="455"/>
                  <a:pt x="881" y="417"/>
                </a:cubicBezTo>
                <a:cubicBezTo>
                  <a:pt x="852" y="329"/>
                  <a:pt x="821" y="307"/>
                  <a:pt x="765" y="230"/>
                </a:cubicBezTo>
                <a:cubicBezTo>
                  <a:pt x="748" y="207"/>
                  <a:pt x="701" y="194"/>
                  <a:pt x="677" y="177"/>
                </a:cubicBezTo>
                <a:cubicBezTo>
                  <a:pt x="649" y="136"/>
                  <a:pt x="662" y="161"/>
                  <a:pt x="641" y="98"/>
                </a:cubicBezTo>
                <a:cubicBezTo>
                  <a:pt x="635" y="80"/>
                  <a:pt x="637" y="57"/>
                  <a:pt x="624" y="44"/>
                </a:cubicBezTo>
                <a:cubicBezTo>
                  <a:pt x="598" y="18"/>
                  <a:pt x="540" y="17"/>
                  <a:pt x="508" y="9"/>
                </a:cubicBezTo>
                <a:cubicBezTo>
                  <a:pt x="499" y="7"/>
                  <a:pt x="482" y="0"/>
                  <a:pt x="482" y="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98400" y="2616120"/>
            <a:ext cx="1906560" cy="2032200"/>
          </a:xfrm>
          <a:custGeom>
            <a:avLst/>
            <a:gdLst/>
            <a:ahLst/>
            <a:rect l="l" t="t" r="r" b="b"/>
            <a:pathLst>
              <a:path w="1201" h="1280">
                <a:moveTo>
                  <a:pt x="526" y="0"/>
                </a:moveTo>
                <a:cubicBezTo>
                  <a:pt x="418" y="9"/>
                  <a:pt x="316" y="21"/>
                  <a:pt x="207" y="27"/>
                </a:cubicBezTo>
                <a:cubicBezTo>
                  <a:pt x="198" y="30"/>
                  <a:pt x="189" y="33"/>
                  <a:pt x="180" y="36"/>
                </a:cubicBezTo>
                <a:cubicBezTo>
                  <a:pt x="168" y="39"/>
                  <a:pt x="145" y="45"/>
                  <a:pt x="145" y="45"/>
                </a:cubicBezTo>
                <a:cubicBezTo>
                  <a:pt x="110" y="57"/>
                  <a:pt x="72" y="62"/>
                  <a:pt x="40" y="80"/>
                </a:cubicBezTo>
                <a:cubicBezTo>
                  <a:pt x="0" y="103"/>
                  <a:pt x="34" y="191"/>
                  <a:pt x="39" y="204"/>
                </a:cubicBezTo>
                <a:cubicBezTo>
                  <a:pt x="64" y="271"/>
                  <a:pt x="132" y="330"/>
                  <a:pt x="171" y="390"/>
                </a:cubicBezTo>
                <a:cubicBezTo>
                  <a:pt x="192" y="476"/>
                  <a:pt x="182" y="575"/>
                  <a:pt x="216" y="656"/>
                </a:cubicBezTo>
                <a:cubicBezTo>
                  <a:pt x="231" y="693"/>
                  <a:pt x="250" y="694"/>
                  <a:pt x="287" y="718"/>
                </a:cubicBezTo>
                <a:cubicBezTo>
                  <a:pt x="309" y="732"/>
                  <a:pt x="358" y="753"/>
                  <a:pt x="358" y="753"/>
                </a:cubicBezTo>
                <a:cubicBezTo>
                  <a:pt x="378" y="796"/>
                  <a:pt x="403" y="808"/>
                  <a:pt x="437" y="842"/>
                </a:cubicBezTo>
                <a:cubicBezTo>
                  <a:pt x="469" y="937"/>
                  <a:pt x="453" y="896"/>
                  <a:pt x="482" y="966"/>
                </a:cubicBezTo>
                <a:cubicBezTo>
                  <a:pt x="494" y="1061"/>
                  <a:pt x="529" y="1104"/>
                  <a:pt x="606" y="1152"/>
                </a:cubicBezTo>
                <a:cubicBezTo>
                  <a:pt x="621" y="1199"/>
                  <a:pt x="626" y="1233"/>
                  <a:pt x="677" y="1250"/>
                </a:cubicBezTo>
                <a:cubicBezTo>
                  <a:pt x="714" y="1278"/>
                  <a:pt x="697" y="1276"/>
                  <a:pt x="721" y="1276"/>
                </a:cubicBezTo>
                <a:cubicBezTo>
                  <a:pt x="845" y="1270"/>
                  <a:pt x="873" y="1280"/>
                  <a:pt x="960" y="1250"/>
                </a:cubicBezTo>
                <a:cubicBezTo>
                  <a:pt x="970" y="1240"/>
                  <a:pt x="1027" y="1201"/>
                  <a:pt x="1031" y="1197"/>
                </a:cubicBezTo>
                <a:cubicBezTo>
                  <a:pt x="1087" y="1141"/>
                  <a:pt x="1013" y="1173"/>
                  <a:pt x="1075" y="1152"/>
                </a:cubicBezTo>
                <a:cubicBezTo>
                  <a:pt x="1101" y="1127"/>
                  <a:pt x="1121" y="1098"/>
                  <a:pt x="1146" y="1072"/>
                </a:cubicBezTo>
                <a:cubicBezTo>
                  <a:pt x="1149" y="1063"/>
                  <a:pt x="1150" y="1054"/>
                  <a:pt x="1155" y="1046"/>
                </a:cubicBezTo>
                <a:cubicBezTo>
                  <a:pt x="1162" y="1035"/>
                  <a:pt x="1182" y="1019"/>
                  <a:pt x="1182" y="1019"/>
                </a:cubicBezTo>
                <a:cubicBezTo>
                  <a:pt x="1201" y="968"/>
                  <a:pt x="1188" y="1017"/>
                  <a:pt x="1182" y="948"/>
                </a:cubicBezTo>
                <a:cubicBezTo>
                  <a:pt x="1170" y="820"/>
                  <a:pt x="1200" y="538"/>
                  <a:pt x="1022" y="479"/>
                </a:cubicBezTo>
                <a:cubicBezTo>
                  <a:pt x="1002" y="449"/>
                  <a:pt x="977" y="433"/>
                  <a:pt x="951" y="408"/>
                </a:cubicBezTo>
                <a:cubicBezTo>
                  <a:pt x="945" y="396"/>
                  <a:pt x="942" y="383"/>
                  <a:pt x="934" y="372"/>
                </a:cubicBezTo>
                <a:cubicBezTo>
                  <a:pt x="927" y="362"/>
                  <a:pt x="907" y="346"/>
                  <a:pt x="907" y="346"/>
                </a:cubicBezTo>
                <a:cubicBezTo>
                  <a:pt x="854" y="332"/>
                  <a:pt x="810" y="310"/>
                  <a:pt x="756" y="302"/>
                </a:cubicBezTo>
                <a:cubicBezTo>
                  <a:pt x="723" y="277"/>
                  <a:pt x="702" y="234"/>
                  <a:pt x="668" y="213"/>
                </a:cubicBezTo>
                <a:cubicBezTo>
                  <a:pt x="623" y="185"/>
                  <a:pt x="571" y="182"/>
                  <a:pt x="526" y="151"/>
                </a:cubicBezTo>
                <a:cubicBezTo>
                  <a:pt x="495" y="58"/>
                  <a:pt x="486" y="145"/>
                  <a:pt x="526" y="0"/>
                </a:cubicBezTo>
                <a:close/>
              </a:path>
            </a:pathLst>
          </a:custGeom>
          <a:noFill/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16120" y="3948120"/>
            <a:ext cx="1498320" cy="1495440"/>
          </a:xfrm>
          <a:custGeom>
            <a:avLst/>
            <a:gdLst/>
            <a:ahLst/>
            <a:rect l="l" t="t" r="r" b="b"/>
            <a:pathLst>
              <a:path w="944" h="942">
                <a:moveTo>
                  <a:pt x="0" y="756"/>
                </a:moveTo>
                <a:cubicBezTo>
                  <a:pt x="33" y="767"/>
                  <a:pt x="64" y="781"/>
                  <a:pt x="97" y="792"/>
                </a:cubicBezTo>
                <a:cubicBezTo>
                  <a:pt x="114" y="808"/>
                  <a:pt x="123" y="832"/>
                  <a:pt x="142" y="845"/>
                </a:cubicBezTo>
                <a:cubicBezTo>
                  <a:pt x="236" y="909"/>
                  <a:pt x="362" y="918"/>
                  <a:pt x="470" y="942"/>
                </a:cubicBezTo>
                <a:cubicBezTo>
                  <a:pt x="636" y="936"/>
                  <a:pt x="669" y="932"/>
                  <a:pt x="798" y="916"/>
                </a:cubicBezTo>
                <a:cubicBezTo>
                  <a:pt x="816" y="904"/>
                  <a:pt x="844" y="900"/>
                  <a:pt x="851" y="880"/>
                </a:cubicBezTo>
                <a:cubicBezTo>
                  <a:pt x="854" y="871"/>
                  <a:pt x="860" y="854"/>
                  <a:pt x="860" y="854"/>
                </a:cubicBezTo>
                <a:cubicBezTo>
                  <a:pt x="893" y="889"/>
                  <a:pt x="873" y="876"/>
                  <a:pt x="877" y="818"/>
                </a:cubicBezTo>
                <a:cubicBezTo>
                  <a:pt x="878" y="797"/>
                  <a:pt x="883" y="777"/>
                  <a:pt x="886" y="756"/>
                </a:cubicBezTo>
                <a:cubicBezTo>
                  <a:pt x="892" y="594"/>
                  <a:pt x="875" y="514"/>
                  <a:pt x="930" y="384"/>
                </a:cubicBezTo>
                <a:cubicBezTo>
                  <a:pt x="944" y="228"/>
                  <a:pt x="939" y="319"/>
                  <a:pt x="939" y="109"/>
                </a:cubicBezTo>
                <a:cubicBezTo>
                  <a:pt x="939" y="77"/>
                  <a:pt x="939" y="44"/>
                  <a:pt x="939" y="12"/>
                </a:cubicBezTo>
                <a:cubicBezTo>
                  <a:pt x="718" y="0"/>
                  <a:pt x="827" y="3"/>
                  <a:pt x="611" y="3"/>
                </a:cubicBezTo>
                <a:cubicBezTo>
                  <a:pt x="602" y="15"/>
                  <a:pt x="595" y="29"/>
                  <a:pt x="585" y="39"/>
                </a:cubicBezTo>
                <a:cubicBezTo>
                  <a:pt x="577" y="47"/>
                  <a:pt x="565" y="48"/>
                  <a:pt x="558" y="56"/>
                </a:cubicBezTo>
                <a:cubicBezTo>
                  <a:pt x="550" y="66"/>
                  <a:pt x="549" y="81"/>
                  <a:pt x="541" y="92"/>
                </a:cubicBezTo>
                <a:cubicBezTo>
                  <a:pt x="517" y="126"/>
                  <a:pt x="481" y="144"/>
                  <a:pt x="443" y="154"/>
                </a:cubicBezTo>
                <a:cubicBezTo>
                  <a:pt x="437" y="163"/>
                  <a:pt x="428" y="170"/>
                  <a:pt x="425" y="180"/>
                </a:cubicBezTo>
                <a:cubicBezTo>
                  <a:pt x="418" y="206"/>
                  <a:pt x="436" y="242"/>
                  <a:pt x="416" y="260"/>
                </a:cubicBezTo>
                <a:cubicBezTo>
                  <a:pt x="397" y="278"/>
                  <a:pt x="363" y="260"/>
                  <a:pt x="337" y="260"/>
                </a:cubicBezTo>
                <a:cubicBezTo>
                  <a:pt x="346" y="263"/>
                  <a:pt x="369" y="263"/>
                  <a:pt x="363" y="269"/>
                </a:cubicBezTo>
                <a:cubicBezTo>
                  <a:pt x="350" y="282"/>
                  <a:pt x="327" y="279"/>
                  <a:pt x="310" y="287"/>
                </a:cubicBezTo>
                <a:cubicBezTo>
                  <a:pt x="280" y="300"/>
                  <a:pt x="252" y="318"/>
                  <a:pt x="222" y="331"/>
                </a:cubicBezTo>
                <a:cubicBezTo>
                  <a:pt x="187" y="347"/>
                  <a:pt x="151" y="360"/>
                  <a:pt x="115" y="375"/>
                </a:cubicBezTo>
                <a:cubicBezTo>
                  <a:pt x="0" y="529"/>
                  <a:pt x="19" y="544"/>
                  <a:pt x="0" y="756"/>
                </a:cubicBez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24080" y="190512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L move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 move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move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L Mo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920" y="1219320"/>
            <a:ext cx="8534160" cy="4711320"/>
            <a:chOff x="304920" y="1219320"/>
            <a:chExt cx="8534160" cy="4711320"/>
          </a:xfrm>
        </p:grpSpPr>
        <p:grpSp>
          <p:nvGrpSpPr>
            <p:cNvPr id="631" name=""/>
            <p:cNvGrpSpPr/>
            <p:nvPr/>
          </p:nvGrpSpPr>
          <p:grpSpPr>
            <a:xfrm>
              <a:off x="304920" y="1219320"/>
              <a:ext cx="8534160" cy="4711320"/>
              <a:chOff x="304920" y="1219320"/>
              <a:chExt cx="8534160" cy="471132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7010280" y="1219320"/>
                <a:ext cx="1828800" cy="520560"/>
                <a:chOff x="7010280" y="1219320"/>
                <a:chExt cx="1828800" cy="5205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7010280" y="1219320"/>
                  <a:ext cx="914400" cy="4572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001000" y="121932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Arial Black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304920" y="1295280"/>
                <a:ext cx="2209680" cy="4635360"/>
                <a:chOff x="304920" y="1295280"/>
                <a:chExt cx="2209680" cy="46353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057400" y="46483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990720" y="4038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38080" y="135720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378080" y="2063880"/>
                  <a:ext cx="444240" cy="3920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>
                  <a:off x="1218960" y="2362320"/>
                  <a:ext cx="228600" cy="41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752480" y="2362320"/>
                  <a:ext cx="228600" cy="304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905120" y="259092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38080" y="1295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219320" y="1738440"/>
                  <a:ext cx="304560" cy="395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>
                  <a:off x="533520" y="1738440"/>
                  <a:ext cx="374400" cy="395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04920" y="20574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371600" y="1995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996840" y="2749680"/>
                  <a:ext cx="444600" cy="3920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>
                  <a:off x="837720" y="3048120"/>
                  <a:ext cx="228600" cy="41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371600" y="3048120"/>
                  <a:ext cx="15228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85800" y="34290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990720" y="2681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1218960" y="3733920"/>
                  <a:ext cx="228600" cy="41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752480" y="3733920"/>
                  <a:ext cx="15264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378080" y="3435480"/>
                  <a:ext cx="444240" cy="3920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371600" y="3367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1523520" y="4405320"/>
                  <a:ext cx="228600" cy="41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057400" y="4405320"/>
                  <a:ext cx="15228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301760" y="4792680"/>
                  <a:ext cx="444600" cy="3920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>
                  <a:off x="1142640" y="5091120"/>
                  <a:ext cx="228600" cy="41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676520" y="5105520"/>
                  <a:ext cx="15228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14400" y="5410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295280" y="47242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676520" y="54100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682640" y="4106880"/>
                  <a:ext cx="444600" cy="3920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752480" y="4038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7" name=""/>
            <p:cNvGrpSpPr/>
            <p:nvPr/>
          </p:nvGrpSpPr>
          <p:grpSpPr>
            <a:xfrm>
              <a:off x="3048120" y="1219320"/>
              <a:ext cx="1981080" cy="520560"/>
              <a:chOff x="3048120" y="1219320"/>
              <a:chExt cx="1981080" cy="520560"/>
            </a:xfrm>
          </p:grpSpPr>
          <p:sp>
            <p:nvSpPr>
              <p:cNvPr id="668" name=""/>
              <p:cNvSpPr/>
              <p:nvPr/>
            </p:nvSpPr>
            <p:spPr>
              <a:xfrm>
                <a:off x="3048120" y="1219320"/>
                <a:ext cx="914400" cy="457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191120" y="121932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99ff"/>
                    </a:solidFill>
                    <a:latin typeface="Arial Black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L Mo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388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682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 flipH="1">
            <a:off x="4114440" y="236232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7314840" y="243828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685800" y="2681280"/>
            <a:ext cx="1828800" cy="3249360"/>
            <a:chOff x="685800" y="2681280"/>
            <a:chExt cx="1828800" cy="3249360"/>
          </a:xfrm>
        </p:grpSpPr>
        <p:sp>
          <p:nvSpPr>
            <p:cNvPr id="687" name=""/>
            <p:cNvSpPr/>
            <p:nvPr/>
          </p:nvSpPr>
          <p:spPr>
            <a:xfrm>
              <a:off x="99072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2749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837720" y="3048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371600" y="30481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90720" y="26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71600" y="33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15235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57400" y="4405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301760" y="4792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1142640" y="5091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76520" y="51055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14400" y="5410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952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76520" y="5410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826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5248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5740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 txBox="1"/>
          <p:nvPr/>
        </p:nvSpPr>
        <p:spPr>
          <a:xfrm>
            <a:off x="3352680" y="4267080"/>
            <a:ext cx="47628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me outcome as in split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710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R Mo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2388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724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flipH="1">
            <a:off x="4114440" y="236232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7314840" y="243828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685800" y="2681280"/>
            <a:ext cx="1828800" cy="3249360"/>
            <a:chOff x="685800" y="2681280"/>
            <a:chExt cx="1828800" cy="3249360"/>
          </a:xfrm>
        </p:grpSpPr>
        <p:sp>
          <p:nvSpPr>
            <p:cNvPr id="729" name=""/>
            <p:cNvSpPr/>
            <p:nvPr/>
          </p:nvSpPr>
          <p:spPr>
            <a:xfrm>
              <a:off x="99072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6840" y="2749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837720" y="3048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71600" y="30481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5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90720" y="26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71600" y="33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5235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57400" y="4405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01760" y="4792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142640" y="5091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76520" y="51055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14400" y="5410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2952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5410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826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5248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5740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751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R Mo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388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765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 flipH="1">
            <a:off x="4419720" y="3124080"/>
            <a:ext cx="76176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7314840" y="243828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87760" y="3511440"/>
            <a:ext cx="444600" cy="3924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428640" y="380988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3809880"/>
            <a:ext cx="1522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76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58128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3809520" y="3200400"/>
            <a:ext cx="2286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384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968640" y="288756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523520" y="4405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57400" y="44053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01760" y="4792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1142640" y="5091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51055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1440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952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7652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82640" y="4106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75248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57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114800" y="4800600"/>
            <a:ext cx="372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tation performed.</a:t>
            </a:r>
            <a:endParaRPr b="0" lang="en-US" sz="2400" spc="1" strike="noStrike">
              <a:ln w="0">
                <a:noFill/>
              </a:ln>
              <a:solidFill>
                <a:srgbClr val="ff00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743200" y="5867280"/>
            <a:ext cx="576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utcome is different from split.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793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 Mo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2388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807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H="1">
            <a:off x="4419720" y="3124080"/>
            <a:ext cx="76176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7314840" y="243828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9625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7760" y="3511440"/>
            <a:ext cx="444600" cy="3924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428640" y="380988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962520" y="3809880"/>
            <a:ext cx="1522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276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809520" y="3200400"/>
            <a:ext cx="2286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384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68640" y="288756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6252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1523520" y="4405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057400" y="44053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301760" y="4792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142640" y="5091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676520" y="51055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1440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67652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82640" y="4106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75248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057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833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 Mo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2388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847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 flipH="1">
            <a:off x="4419720" y="3124080"/>
            <a:ext cx="76176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5562720" y="2971800"/>
            <a:ext cx="76176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9625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587760" y="3511440"/>
            <a:ext cx="444600" cy="3924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3428640" y="380988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962520" y="3809880"/>
            <a:ext cx="1522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276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58128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809520" y="3200400"/>
            <a:ext cx="2286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384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8640" y="288756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6629040" y="243828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705720" y="311004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301760" y="4792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1142640" y="5091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676520" y="51055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1440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952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67652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330960" y="281160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40080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873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rap U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388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887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 flipH="1">
            <a:off x="4419720" y="3124080"/>
            <a:ext cx="76176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562720" y="2971800"/>
            <a:ext cx="76176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625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587760" y="3511440"/>
            <a:ext cx="444600" cy="3924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428640" y="380988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962520" y="3809880"/>
            <a:ext cx="1522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276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58128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3809520" y="3200400"/>
            <a:ext cx="2286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0384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8640" y="288756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96252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6629040" y="243828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705720" y="311004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920880" y="13636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761760" y="1662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16765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3352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1440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952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330960" y="281160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40080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70572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913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Node – search(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ode containing this pair is the splay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wise, the parent of the external node where the search terminates is the splay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914400"/>
            <a:ext cx="6387840" cy="3340080"/>
            <a:chOff x="914400" y="914400"/>
            <a:chExt cx="6387840" cy="3340080"/>
          </a:xfrm>
        </p:grpSpPr>
        <p:sp>
          <p:nvSpPr>
            <p:cNvPr id="55" name=""/>
            <p:cNvSpPr/>
            <p:nvPr/>
          </p:nvSpPr>
          <p:spPr>
            <a:xfrm>
              <a:off x="4647960" y="9144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14600" y="19051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0" y="19051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3880" y="2743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6360" y="2743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38680" y="2743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14400" y="3810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7400" y="3810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964960" y="121284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99040" y="121284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821960" y="227988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9000" y="227988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13440" y="235584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212840" y="311796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8640" y="311796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05160" y="37339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403240" y="319428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24560" y="9381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90840" y="19288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76800" y="27669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67320" y="3834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10320" y="3834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52960" y="27669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34240" y="19288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14920" y="27669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7720" y="37576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rap U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2388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927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flipH="1">
            <a:off x="4419720" y="3124080"/>
            <a:ext cx="76176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562720" y="2971800"/>
            <a:ext cx="76176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7760" y="3511440"/>
            <a:ext cx="444600" cy="3924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3428640" y="380988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62520" y="3809880"/>
            <a:ext cx="1522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276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3809520" y="3200400"/>
            <a:ext cx="2286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0384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68640" y="288756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6252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6629040" y="243828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05720" y="311004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920880" y="13636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6171840" y="320040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343400" y="320040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91440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86728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330960" y="281160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40080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70572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953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rap U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2388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625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587760" y="3511440"/>
            <a:ext cx="444600" cy="3924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3428640" y="380988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962520" y="3809880"/>
            <a:ext cx="1522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276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8128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809520" y="3200400"/>
            <a:ext cx="2286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38480" y="25146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68640" y="288756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96252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629040" y="243828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705720" y="311004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264280" y="12873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171840" y="320040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43400" y="320040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1972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257800" y="1219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86728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30960" y="281160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0080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0572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4038120" y="15238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15000" y="1523880"/>
            <a:ext cx="129528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ottom Up vs Top Dow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down splay trees are faster than bottom up splay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Node – insert(newPair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43430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lready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ewPair.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ode containing this pair is the splay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wise, the newly inserted node is the splay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914400"/>
            <a:ext cx="6387840" cy="3340080"/>
            <a:chOff x="914400" y="914400"/>
            <a:chExt cx="6387840" cy="3340080"/>
          </a:xfrm>
        </p:grpSpPr>
        <p:sp>
          <p:nvSpPr>
            <p:cNvPr id="84" name=""/>
            <p:cNvSpPr/>
            <p:nvPr/>
          </p:nvSpPr>
          <p:spPr>
            <a:xfrm>
              <a:off x="4647960" y="9144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14600" y="19051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58000" y="19051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3880" y="2743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76360" y="2743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2743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3810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3810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121284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99040" y="121284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821960" y="227988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89000" y="227988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13440" y="235584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212840" y="311796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98640" y="311796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5160" y="37339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403240" y="319428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24560" y="9381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0840" y="19288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76800" y="27669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7320" y="3834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10320" y="3834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52960" y="27669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34240" y="19288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14920" y="27669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57720" y="37576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Node – delete(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43430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parent of the node that is physically deleted from the tree is the splay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wise, the parent of the external node where the search terminates is the splay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14400" y="914400"/>
            <a:ext cx="6387840" cy="3340080"/>
            <a:chOff x="914400" y="914400"/>
            <a:chExt cx="6387840" cy="3340080"/>
          </a:xfrm>
        </p:grpSpPr>
        <p:sp>
          <p:nvSpPr>
            <p:cNvPr id="113" name=""/>
            <p:cNvSpPr/>
            <p:nvPr/>
          </p:nvSpPr>
          <p:spPr>
            <a:xfrm>
              <a:off x="4647960" y="9144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19051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19051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3880" y="2743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360" y="2743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38680" y="2743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810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3810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64960" y="121284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99040" y="121284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821960" y="227988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89000" y="227988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013440" y="235584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212840" y="311796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98640" y="311796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160" y="37339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403240" y="319428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4560" y="9381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90840" y="19288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76800" y="27669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67320" y="3834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10320" y="3834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2960" y="27669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34240" y="19288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4920" y="27669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7720" y="37576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Node – split(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unbalanced binary search tree insert algorithm to insert a new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lay node is as for the splay tree insert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the splay, the left subtree of the roo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 right sub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276720" y="4114800"/>
            <a:ext cx="2286000" cy="1906560"/>
            <a:chOff x="3276720" y="4114800"/>
            <a:chExt cx="2286000" cy="1906560"/>
          </a:xfrm>
        </p:grpSpPr>
        <p:sp>
          <p:nvSpPr>
            <p:cNvPr id="142" name=""/>
            <p:cNvSpPr/>
            <p:nvPr/>
          </p:nvSpPr>
          <p:spPr>
            <a:xfrm>
              <a:off x="3276720" y="5410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428640" y="4724280"/>
              <a:ext cx="60948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95680" y="4724280"/>
              <a:ext cx="76212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86200" y="4114800"/>
              <a:ext cx="762120" cy="762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4800" y="41911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05520" y="5500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04920" y="5943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is the newly inserted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splay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moved up the tree using a series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lay ste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lay 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ves up the tree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splay step, except possibly the last one, mov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level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Ste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root, do nothing (splay is ov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o a one-level move and terminate the splay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3505320"/>
            <a:ext cx="1904760" cy="2120760"/>
            <a:chOff x="609480" y="3505320"/>
            <a:chExt cx="1904760" cy="2120760"/>
          </a:xfrm>
        </p:grpSpPr>
        <p:sp>
          <p:nvSpPr>
            <p:cNvPr id="154" name=""/>
            <p:cNvSpPr/>
            <p:nvPr/>
          </p:nvSpPr>
          <p:spPr>
            <a:xfrm>
              <a:off x="1454040" y="3587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6840" y="43498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218600" y="39625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8440" y="39625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6680" y="35053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480" y="434340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480" y="5105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560" y="5105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4760" y="43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61400" y="472464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240" y="472464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352680" y="4495680"/>
            <a:ext cx="167652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00800" y="3276720"/>
            <a:ext cx="1905120" cy="2273040"/>
            <a:chOff x="6400800" y="3276720"/>
            <a:chExt cx="1905120" cy="2273040"/>
          </a:xfrm>
        </p:grpSpPr>
        <p:sp>
          <p:nvSpPr>
            <p:cNvPr id="167" name=""/>
            <p:cNvSpPr/>
            <p:nvPr/>
          </p:nvSpPr>
          <p:spPr>
            <a:xfrm>
              <a:off x="6864480" y="3359160"/>
              <a:ext cx="44460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45360" y="4197600"/>
              <a:ext cx="44460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9240" y="37339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629040" y="37339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0" y="5029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96440" y="50292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010640" y="464832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0120" y="46483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40388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77120" y="3276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72400" y="41148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85800" y="5715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ght chil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ay Ste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a lev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o a two-level move and continue the splay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572000"/>
            <a:ext cx="16761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715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ght child of right chil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3520" y="2521080"/>
            <a:ext cx="2438280" cy="3180960"/>
            <a:chOff x="533520" y="2521080"/>
            <a:chExt cx="2438280" cy="3180960"/>
          </a:xfrm>
        </p:grpSpPr>
        <p:sp>
          <p:nvSpPr>
            <p:cNvPr id="184" name=""/>
            <p:cNvSpPr/>
            <p:nvPr/>
          </p:nvSpPr>
          <p:spPr>
            <a:xfrm>
              <a:off x="1378080" y="36637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20880" y="44258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142640" y="4038480"/>
              <a:ext cx="304920" cy="380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52480" y="4038480"/>
              <a:ext cx="22860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39840" y="252108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358128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520" y="44193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520" y="5181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71600" y="5181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8800" y="4419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85440" y="4800600"/>
              <a:ext cx="30492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5280" y="4800600"/>
              <a:ext cx="22860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11240" y="2901960"/>
              <a:ext cx="44460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676520" y="3276360"/>
              <a:ext cx="304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3276360"/>
              <a:ext cx="22860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1600" y="27432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62320" y="3657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943600" y="2209680"/>
            <a:ext cx="2514600" cy="3416040"/>
            <a:chOff x="5943600" y="2209680"/>
            <a:chExt cx="2514600" cy="3416040"/>
          </a:xfrm>
        </p:grpSpPr>
        <p:sp>
          <p:nvSpPr>
            <p:cNvPr id="202" name=""/>
            <p:cNvSpPr/>
            <p:nvPr/>
          </p:nvSpPr>
          <p:spPr>
            <a:xfrm>
              <a:off x="6788160" y="3435120"/>
              <a:ext cx="44460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9040" y="4273560"/>
              <a:ext cx="44460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920" y="38098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552720" y="380988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81680" y="51051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0120" y="51051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34320" y="472428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43800" y="47242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24480" y="4114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1520" y="335268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96080" y="41907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635880" y="220968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07280" y="2590560"/>
              <a:ext cx="44424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171840" y="29653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9653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9920" y="2508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3600" y="3276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9:39:38Z</dcterms:modified>
  <cp:revision>311</cp:revision>
  <dc:subject/>
  <dc:title>Data Representation Methods</dc:title>
</cp:coreProperties>
</file>