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248-BB57-47D8-81C5-A254CAAB78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(x) is a red node, we have 2 red nodes in a sequence. Retrace to root fixing 2 consecutive red node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825-C99B-4AA6-9445-00F2EFCE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815-80C3-462B-B48C-C3700D20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CC3-2444-40FC-A660-EEAAD3D2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D61-1354-487B-B686-D262FF8E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45E-2329-45D1-9C2D-A33999D6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681-6AC7-4AA4-A66C-C8669A5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CB4-957D-4CE2-86A0-F9601D45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3AA-4576-4278-8456-8B76E272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368-A09E-4CB8-B977-D2AB1D7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AFC-4B95-4AE2-B787-B4ED51CD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7F9-FD62-48C6-8C97-15BA001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75D-D760-4D22-8385-A04EB71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3B04-DACB-458D-971F-93A2A5DB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-Black Trees—Ag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ank(x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# black pointers on path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 external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as #black nodes (exclud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 external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ank(external node)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(S) &gt; rank(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right child pointers from root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first nod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ose rank equal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ank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1905120"/>
            <a:ext cx="3282840" cy="3498480"/>
            <a:chOff x="838080" y="1905120"/>
            <a:chExt cx="3282840" cy="3498480"/>
          </a:xfrm>
        </p:grpSpPr>
        <p:sp>
          <p:nvSpPr>
            <p:cNvPr id="178" name=""/>
            <p:cNvSpPr/>
            <p:nvPr/>
          </p:nvSpPr>
          <p:spPr>
            <a:xfrm>
              <a:off x="1377720" y="1905120"/>
              <a:ext cx="444600" cy="444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7920" y="4044600"/>
              <a:ext cx="444600" cy="444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520720" y="4419360"/>
              <a:ext cx="527040" cy="539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4419360"/>
              <a:ext cx="311040" cy="539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8440" y="4883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3720" y="48830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560" y="3962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1960" y="3124080"/>
              <a:ext cx="444600" cy="443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99840" y="2895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28440" y="2285640"/>
              <a:ext cx="762120" cy="8380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2840" y="3504960"/>
              <a:ext cx="38124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4038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114800" y="32767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645160" y="1676520"/>
            <a:ext cx="2813040" cy="4420800"/>
            <a:chOff x="5645160" y="1676520"/>
            <a:chExt cx="2813040" cy="4420800"/>
          </a:xfrm>
        </p:grpSpPr>
        <p:sp>
          <p:nvSpPr>
            <p:cNvPr id="192" name=""/>
            <p:cNvSpPr/>
            <p:nvPr/>
          </p:nvSpPr>
          <p:spPr>
            <a:xfrm>
              <a:off x="5645160" y="1676520"/>
              <a:ext cx="444600" cy="444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4738680"/>
              <a:ext cx="444600" cy="443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019920" y="5113080"/>
              <a:ext cx="527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1880" y="5113080"/>
              <a:ext cx="311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67640" y="5576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920" y="5576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9760" y="4655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29400" y="2895480"/>
              <a:ext cx="444600" cy="444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640" y="2666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6240" y="2057400"/>
              <a:ext cx="761760" cy="8377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10640" y="3276360"/>
              <a:ext cx="380880" cy="53316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373356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96440" y="4114800"/>
              <a:ext cx="45720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152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705360" y="4038480"/>
              <a:ext cx="6094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01000" y="4647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(S) &gt; rank(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are n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ecutive red pointers/nodes, perform bottom-up rebalancing beginning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rank(S) – rank(B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2666880"/>
            <a:ext cx="3282840" cy="3498840"/>
            <a:chOff x="609480" y="2666880"/>
            <a:chExt cx="3282840" cy="3498840"/>
          </a:xfrm>
        </p:grpSpPr>
        <p:sp>
          <p:nvSpPr>
            <p:cNvPr id="211" name=""/>
            <p:cNvSpPr/>
            <p:nvPr/>
          </p:nvSpPr>
          <p:spPr>
            <a:xfrm>
              <a:off x="1149120" y="2666880"/>
              <a:ext cx="444600" cy="444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4806720"/>
              <a:ext cx="444600" cy="444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92120" y="5181480"/>
              <a:ext cx="527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181480"/>
              <a:ext cx="311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9840" y="5645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35120" y="5645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196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360" y="3886200"/>
              <a:ext cx="444600" cy="444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71240" y="3657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9840" y="3047760"/>
              <a:ext cx="762120" cy="83844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14240" y="4267080"/>
              <a:ext cx="38124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80" y="4800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86200" y="403848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6400" y="2133720"/>
            <a:ext cx="2813040" cy="4420800"/>
            <a:chOff x="5486400" y="2133720"/>
            <a:chExt cx="2813040" cy="4420800"/>
          </a:xfrm>
        </p:grpSpPr>
        <p:sp>
          <p:nvSpPr>
            <p:cNvPr id="225" name=""/>
            <p:cNvSpPr/>
            <p:nvPr/>
          </p:nvSpPr>
          <p:spPr>
            <a:xfrm>
              <a:off x="5486400" y="2133720"/>
              <a:ext cx="444600" cy="444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8360" y="5195880"/>
              <a:ext cx="444600" cy="443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861160" y="5570280"/>
              <a:ext cx="527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3120" y="5570280"/>
              <a:ext cx="311040" cy="539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8880" y="603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4160" y="603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31000" y="5113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0640" y="3352680"/>
              <a:ext cx="444600" cy="444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8880" y="3124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37480" y="2514600"/>
              <a:ext cx="761760" cy="8377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1880" y="3733560"/>
              <a:ext cx="380880" cy="53316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56440" y="419076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37680" y="4572000"/>
              <a:ext cx="45720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4114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546600" y="4495680"/>
              <a:ext cx="6094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2240" y="5105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(S) &lt; rank(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left child pointers from roo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irst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se rank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ase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S) &gt; rank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(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of jo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dictionary of pairs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dictionary of pairs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pair with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pres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920" y="1295280"/>
            <a:ext cx="1981080" cy="4559400"/>
            <a:chOff x="304920" y="1295280"/>
            <a:chExt cx="1981080" cy="4559400"/>
          </a:xfrm>
        </p:grpSpPr>
        <p:sp>
          <p:nvSpPr>
            <p:cNvPr id="247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16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279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282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8080" y="20638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218960" y="23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23623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0481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68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377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218960" y="501480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50148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317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32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0481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68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377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218960" y="501480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50148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356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4114440" y="236232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36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218960" y="37339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68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77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218960" y="501480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50148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396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H="1">
            <a:off x="4723920" y="32004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14840" y="243828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40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2895480"/>
            <a:ext cx="44424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552720" y="2514600"/>
            <a:ext cx="3812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2920" y="319392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42040" y="28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6840" y="4106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37720" y="4405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44053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218960" y="501480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50148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436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>
            <a:off x="4723920" y="32004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562720" y="2971800"/>
            <a:ext cx="76176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44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895480"/>
            <a:ext cx="44424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552720" y="2514600"/>
            <a:ext cx="3812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2920" y="319392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94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2040" y="28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36496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647960" y="39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276720"/>
            <a:ext cx="30456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218960" y="5014800"/>
            <a:ext cx="228600" cy="41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50148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476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5257440" y="3886200"/>
            <a:ext cx="7621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562720" y="2971800"/>
            <a:ext cx="76176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481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5240" y="1447920"/>
            <a:ext cx="8750160" cy="4636440"/>
            <a:chOff x="165240" y="1447920"/>
            <a:chExt cx="8750160" cy="4636440"/>
          </a:xfrm>
        </p:grpSpPr>
        <p:sp>
          <p:nvSpPr>
            <p:cNvPr id="52" name=""/>
            <p:cNvSpPr/>
            <p:nvPr/>
          </p:nvSpPr>
          <p:spPr>
            <a:xfrm>
              <a:off x="4356000" y="144792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22640" y="2438280"/>
              <a:ext cx="444240" cy="44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66040" y="2438280"/>
              <a:ext cx="444240" cy="44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31920" y="327636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84400" y="327636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6720" y="327636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434304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65440" y="434304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73000" y="1746000"/>
              <a:ext cx="167652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7080" y="1746000"/>
              <a:ext cx="17524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06680" y="2812680"/>
              <a:ext cx="7617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97040" y="281268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21480" y="2889000"/>
              <a:ext cx="914400" cy="3805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20880" y="3651120"/>
              <a:ext cx="380880" cy="685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6680" y="3651120"/>
              <a:ext cx="304560" cy="685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13200" y="4267080"/>
              <a:ext cx="444600" cy="44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111280" y="3727080"/>
              <a:ext cx="3812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23040" y="502884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1640" y="4717800"/>
              <a:ext cx="457200" cy="3045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32520" y="411444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21480" y="365112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32720" y="3200040"/>
              <a:ext cx="444600" cy="444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40440" y="2812680"/>
              <a:ext cx="7621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66240" y="4038480"/>
              <a:ext cx="444240" cy="4438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7480" y="3574800"/>
              <a:ext cx="304560" cy="4568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1517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2480" y="250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54240" y="334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2280" y="433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35280" y="4412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40240" y="334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59560" y="250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7080" y="4336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560" y="5098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26040" y="41842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6240" y="3193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59760" y="4108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5240" y="53337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03320" y="53337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60520" y="53337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22640" y="53337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3520" y="44193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4240" y="441936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27400" y="525744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13200" y="579240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2520" y="579240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6200" y="510660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66040" y="510660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51840" y="4268520"/>
              <a:ext cx="291960" cy="291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61320" y="510660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23440" y="510660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01760" y="3346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9160" y="37270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673360" y="3727080"/>
              <a:ext cx="38088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0680" y="4794120"/>
              <a:ext cx="38124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0880" y="4794120"/>
              <a:ext cx="22860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06680" y="4794120"/>
              <a:ext cx="30456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3880" y="4794120"/>
              <a:ext cx="30456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196880" y="471780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59360" y="5403600"/>
              <a:ext cx="53352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1480" y="5479920"/>
              <a:ext cx="53316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102000" y="4565520"/>
              <a:ext cx="152280" cy="53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7280" y="4489200"/>
              <a:ext cx="30456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397280" y="3651120"/>
              <a:ext cx="38124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007480" y="4412880"/>
              <a:ext cx="3045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40640" y="4489200"/>
              <a:ext cx="22860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52280" y="4495680"/>
            <a:ext cx="9068040" cy="2044800"/>
            <a:chOff x="152280" y="4495680"/>
            <a:chExt cx="9068040" cy="2044800"/>
          </a:xfrm>
        </p:grpSpPr>
        <p:sp>
          <p:nvSpPr>
            <p:cNvPr id="119" name=""/>
            <p:cNvSpPr/>
            <p:nvPr/>
          </p:nvSpPr>
          <p:spPr>
            <a:xfrm>
              <a:off x="1522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5562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562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4648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4648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486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6019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6019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52722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3080" y="53341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4495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48720" y="53341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0480" y="53341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0492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952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362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14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21193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64480" y="22017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162920" y="1676520"/>
            <a:ext cx="30456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38880" y="250020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1600200"/>
            <a:ext cx="38088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352320" y="2500200"/>
            <a:ext cx="37476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73560" y="29638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114440" y="32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514600"/>
            <a:ext cx="38124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2895480"/>
            <a:ext cx="444240" cy="392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6552720" y="2514600"/>
            <a:ext cx="3812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22920" y="3193920"/>
            <a:ext cx="1526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2040" y="28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7080" y="36496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647960" y="39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3276720"/>
            <a:ext cx="30456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0060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78080" y="471636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095520" y="320040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9625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36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010280" y="1219320"/>
            <a:ext cx="1828800" cy="520560"/>
            <a:chOff x="7010280" y="1219320"/>
            <a:chExt cx="1828800" cy="520560"/>
          </a:xfrm>
        </p:grpSpPr>
        <p:sp>
          <p:nvSpPr>
            <p:cNvPr id="516" name=""/>
            <p:cNvSpPr/>
            <p:nvPr/>
          </p:nvSpPr>
          <p:spPr>
            <a:xfrm>
              <a:off x="7010280" y="1219320"/>
              <a:ext cx="914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0100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 Blac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048120" y="1219320"/>
            <a:ext cx="1981080" cy="520560"/>
            <a:chOff x="3048120" y="1219320"/>
            <a:chExt cx="1981080" cy="520560"/>
          </a:xfrm>
        </p:grpSpPr>
        <p:sp>
          <p:nvSpPr>
            <p:cNvPr id="519" name=""/>
            <p:cNvSpPr/>
            <p:nvPr/>
          </p:nvSpPr>
          <p:spPr>
            <a:xfrm>
              <a:off x="3048120" y="1219320"/>
              <a:ext cx="914400" cy="457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91120" y="12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ff"/>
                  </a:solidFill>
                  <a:latin typeface="Arial Black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strategy does not split a red-black tree into two red-black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do a search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ed by a traceback to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traceback use the join operation to constr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04920" y="1295280"/>
            <a:ext cx="1981080" cy="4559400"/>
            <a:chOff x="304920" y="1295280"/>
            <a:chExt cx="1981080" cy="4559400"/>
          </a:xfrm>
        </p:grpSpPr>
        <p:sp>
          <p:nvSpPr>
            <p:cNvPr id="525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71600" y="44053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78080" y="471636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218960" y="5014800"/>
              <a:ext cx="22860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2480" y="5014800"/>
              <a:ext cx="1526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9072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71600" y="4648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5248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 flipH="1">
            <a:off x="1828800" y="4876920"/>
            <a:ext cx="9907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505320" y="1219320"/>
            <a:ext cx="4190760" cy="581400"/>
            <a:chOff x="3505320" y="1219320"/>
            <a:chExt cx="4190760" cy="581400"/>
          </a:xfrm>
        </p:grpSpPr>
        <p:sp>
          <p:nvSpPr>
            <p:cNvPr id="558" name=""/>
            <p:cNvSpPr/>
            <p:nvPr/>
          </p:nvSpPr>
          <p:spPr>
            <a:xfrm>
              <a:off x="3505320" y="1219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Arial Black"/>
                </a:rPr>
                <a:t>S = </a:t>
              </a: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67280" y="1219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 Black"/>
                </a:rPr>
                <a:t>B =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04920" y="1295280"/>
            <a:ext cx="1981080" cy="3949560"/>
            <a:chOff x="304920" y="1295280"/>
            <a:chExt cx="1981080" cy="3949560"/>
          </a:xfrm>
        </p:grpSpPr>
        <p:sp>
          <p:nvSpPr>
            <p:cNvPr id="562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5960" y="4267080"/>
            <a:ext cx="99036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04920" y="1295280"/>
            <a:ext cx="1981080" cy="3949560"/>
            <a:chOff x="304920" y="1295280"/>
            <a:chExt cx="1981080" cy="3949560"/>
          </a:xfrm>
        </p:grpSpPr>
        <p:sp>
          <p:nvSpPr>
            <p:cNvPr id="591" name=""/>
            <p:cNvSpPr/>
            <p:nvPr/>
          </p:nvSpPr>
          <p:spPr>
            <a:xfrm>
              <a:off x="838080" y="1357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78080" y="20638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218960" y="2362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23623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2880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12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19320" y="1738440"/>
              <a:ext cx="304560" cy="3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33520" y="1738440"/>
              <a:ext cx="374400" cy="3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92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7160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96840" y="27496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837720" y="30481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1600" y="3048120"/>
              <a:ext cx="1522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5800" y="3429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90720" y="26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8080" y="3435480"/>
              <a:ext cx="44424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218960" y="37339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52480" y="3733920"/>
              <a:ext cx="1526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2880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71600" y="33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6840" y="4106880"/>
              <a:ext cx="444600" cy="392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37720" y="4405320"/>
              <a:ext cx="22860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480" y="47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0720" y="4038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0" y="4267080"/>
            <a:ext cx="99072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2057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e, E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1357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080" y="20638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218960" y="23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23623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738440"/>
            <a:ext cx="304560" cy="3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33520" y="1738440"/>
            <a:ext cx="37440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7160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71600" y="30481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78080" y="34354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37339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2880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3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828800" y="3657600"/>
            <a:ext cx="9907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81280" y="2057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e, E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812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D,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8080" y="1357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78080" y="20638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218960" y="23623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2480" y="23623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19320" y="1738440"/>
            <a:ext cx="304560" cy="3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33520" y="1738440"/>
            <a:ext cx="37440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7160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2749680"/>
            <a:ext cx="44460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837720" y="3048120"/>
            <a:ext cx="228600" cy="41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26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0" y="2895480"/>
            <a:ext cx="99072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2057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e, E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12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D,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57600" y="3352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c, C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8080" y="1357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8080" y="2063880"/>
            <a:ext cx="444240" cy="392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52480" y="236232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80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1738440"/>
            <a:ext cx="304560" cy="3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33520" y="1738440"/>
            <a:ext cx="37440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9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828800" y="2286000"/>
            <a:ext cx="99072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057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e, E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D,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3352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c, C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3962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B,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lit A 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8080" y="1357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3808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3520" y="1738440"/>
            <a:ext cx="37440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0532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67280" y="1219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18960" y="1600200"/>
            <a:ext cx="9903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057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e, E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743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D,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33526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c, C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57600" y="3962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join(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B,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5760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 =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join(a, A, </a:t>
            </a:r>
            <a:r>
              <a:rPr b="0" lang="en-US" sz="3200" spc="-1" strike="noStrike">
                <a:solidFill>
                  <a:srgbClr val="ff00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Spl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perties Of rank(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ex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ent of ex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ank(x) &lt;= rank(p(x)) &lt;= rank(x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ank(x) &lt;  rank(g(x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-Black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search tree is a red-black tree iff integer ranks can be assigned to its nodes so as to satisfy the sta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perties of r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ionship Between rank() And Col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p(x),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d pointer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 = rank(p(x)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p(x),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black pointer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x) = rank(p(x))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node iff pointer from parent is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is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nodes are black iff pointer from parent is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node/pointer colors, remaining ranks may be computed on wa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ank(roo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2 * rank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ternal nodes at 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#nod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 &lt;= i &lt;= rank(root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i -1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 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rank(root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ank(root) &lt;=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n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eight(root) &lt;= 2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oin(S,m,B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airs with small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airs with big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ditional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ey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mall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.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ey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big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.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ctionary that contains all pairs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us the pa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i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oin Binar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76720" y="2057400"/>
            <a:ext cx="2286000" cy="1906560"/>
            <a:chOff x="3276720" y="2057400"/>
            <a:chExt cx="2286000" cy="1906560"/>
          </a:xfrm>
        </p:grpSpPr>
        <p:sp>
          <p:nvSpPr>
            <p:cNvPr id="159" name=""/>
            <p:cNvSpPr/>
            <p:nvPr/>
          </p:nvSpPr>
          <p:spPr>
            <a:xfrm>
              <a:off x="327672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428640" y="2666880"/>
              <a:ext cx="60948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2666880"/>
              <a:ext cx="76212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2057400"/>
              <a:ext cx="762120" cy="762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2133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3443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Join Red-black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S) = rank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e binary search tre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76720" y="3200400"/>
            <a:ext cx="2286000" cy="1906560"/>
            <a:chOff x="3276720" y="3200400"/>
            <a:chExt cx="2286000" cy="1906560"/>
          </a:xfrm>
        </p:grpSpPr>
        <p:sp>
          <p:nvSpPr>
            <p:cNvPr id="168" name=""/>
            <p:cNvSpPr/>
            <p:nvPr/>
          </p:nvSpPr>
          <p:spPr>
            <a:xfrm>
              <a:off x="3276720" y="4495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428640" y="3809880"/>
              <a:ext cx="60948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3809880"/>
              <a:ext cx="76212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3200400"/>
              <a:ext cx="762120" cy="762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3276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45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nk(root) = rank(S) + 1 = rank(B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37:25Z</dcterms:modified>
  <cp:revision>310</cp:revision>
  <dc:subject/>
  <dc:title>Data Representation Methods</dc:title>
</cp:coreProperties>
</file>