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AA29-F105-4A9E-8F00-593E203651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L search tree is often simply referred to as an AVL 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alance factors on insert path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bf changes from 0 to +1 or –1 the subtree height increases and we need to go further up the tree adjusting balanc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node is the A node, nearest ancestor of newly inserted node whose bf becomes +2 or –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is a leaf prior to the in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is not a leaf prior to the insert, the insert takes place in the left subtree of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5; no traceback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q =&gt; tree is empty following dele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q is the parent of the deleted node. At this time, one subtree of q is empty and the other has just one node. As q moves up towards the root, neither subtree of q is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h table get and remove using O(n) select would take O(D + n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do not sum to 100% because of rounding errors in reporting frequencies to one decimal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for Fibonacci heaps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lso, for Fibonacci heaps, i is the de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heigh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53C-C7D0-474A-A610-BE752D59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8E5-0170-405A-A4D3-AEEDCB0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4B2-9893-4328-8655-363D73A2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3B5-775A-4877-8AB9-CD8EAB82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00B-38A5-4D2A-AE94-E2525C2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E0A-EDA3-4456-BB7A-9433A4F7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A5B-A9FB-44CB-A4FA-5A61FB3D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243-1675-4EB6-9D39-07F76FD7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3C4-B42D-4A17-BDE1-80F0078E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527-87D1-4AA9-8EDF-E4FD9DA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6EE-B3A1-4335-88BC-79A1D2A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4C5-EBBF-4D22-AE2F-A6B21E7A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D2E9-EA67-45B9-8B4E-C0AFE6B83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Dictiona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key)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nsert(key, element)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(key)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scen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Get(ind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(ind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8760" y="914400"/>
            <a:ext cx="8237880" cy="4329360"/>
            <a:chOff x="608760" y="914400"/>
            <a:chExt cx="8237880" cy="4329360"/>
          </a:xfrm>
        </p:grpSpPr>
        <p:sp>
          <p:nvSpPr>
            <p:cNvPr id="125" name=""/>
            <p:cNvSpPr/>
            <p:nvPr/>
          </p:nvSpPr>
          <p:spPr>
            <a:xfrm>
              <a:off x="4441680" y="11952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8320" y="218592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1720" y="218592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17600" y="30240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0080" y="30240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32400" y="302400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120" y="4090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51120" y="4090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758680" y="1493640"/>
              <a:ext cx="167652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92760" y="1493640"/>
              <a:ext cx="175248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15680" y="25603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82720" y="2560320"/>
              <a:ext cx="4572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807160" y="2636640"/>
              <a:ext cx="914400" cy="38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006560" y="3398760"/>
              <a:ext cx="38088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92360" y="3398760"/>
              <a:ext cx="30456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98880" y="4014720"/>
              <a:ext cx="44460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196960" y="34747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8760" y="3809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2640" y="3809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5960" y="2742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7920" y="28191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2640" y="1904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8720" y="4776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97320" y="4465440"/>
              <a:ext cx="457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0240" y="4571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2840" y="373356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18200" y="3862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07160" y="3398760"/>
              <a:ext cx="45720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6040" y="3733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56720" y="2742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18400" y="2947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26120" y="2560320"/>
              <a:ext cx="7621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51920" y="378612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93160" y="3322440"/>
              <a:ext cx="30456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33440" y="35049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75880" y="26668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5520" y="1904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99160" y="9144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35560" y="1265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78160" y="22557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39920" y="30938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87440" y="30938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960" y="40845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20960" y="41605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25920" y="30938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45240" y="22557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2760" y="40845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02240" y="48463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11720" y="3931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11920" y="29415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5440" y="38559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(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2860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33526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41911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168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5012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20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1680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92880" y="5568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52578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4400" y="5364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07000" y="45259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02360" y="4654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4191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60200" y="4525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0880" y="3535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02560" y="3740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33526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36080" y="4578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41148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1760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0040" y="34592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69680" y="2697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3320" y="17064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4080" y="4807080"/>
            <a:ext cx="444240" cy="44424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4191120"/>
            <a:ext cx="380880" cy="609480"/>
          </a:xfrm>
          <a:prstGeom prst="line">
            <a:avLst/>
          </a:prstGeom>
          <a:ln w="507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2640" y="4602240"/>
            <a:ext cx="31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17360" y="3565440"/>
            <a:ext cx="43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0320" y="26510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95280" y="64987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057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4876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56386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47242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3733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960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883040" y="389088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83040" y="389088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25840" y="10717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92480" y="20620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35880" y="20620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01760" y="29005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29005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6560" y="290052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2280" y="39672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39672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42840" y="137016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137016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99840" y="243684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243684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791320" y="251316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990720" y="3274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327492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335124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2920" y="3686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16800" y="3686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50120" y="2619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12080" y="2695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16800" y="1781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92880" y="465300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434196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74400" y="44481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02360" y="37386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32749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60200" y="36100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40880" y="2619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02560" y="28242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243684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36080" y="36622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319896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17600" y="33814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60040" y="25430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69680" y="1781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3320" y="79056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7280" y="5262480"/>
            <a:ext cx="444240" cy="4446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114156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2131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297036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297036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960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403704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97036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2131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3960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472284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380844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2817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3732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332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951440"/>
            <a:ext cx="533520" cy="380880"/>
          </a:xfrm>
          <a:prstGeom prst="line">
            <a:avLst/>
          </a:prstGeom>
          <a:ln w="507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5120" y="4905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54920" y="444816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07000" y="361008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6120" y="36860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495680"/>
            <a:ext cx="4953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 imbal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w node is in right subtree of right subtree of white node (node with b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3498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1616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956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25440" y="3130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8280" y="3130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40240" y="3130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596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896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666520" y="16002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1600200"/>
            <a:ext cx="17524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523520" y="26668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26668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715000" y="27432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914400" y="35053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350532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70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105520" y="358128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6600" y="3916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40480" y="3916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3800" y="2849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36120" y="2925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4048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6560" y="4883040"/>
            <a:ext cx="444600" cy="4446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98080" y="4678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260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35053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838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64920" y="2849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62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266688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597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01000" y="34290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44128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83720" y="27734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937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07000" y="10206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13716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362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3200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95280" y="3200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191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2670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32004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2362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4191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40384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0481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5328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3140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8640" y="488304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5335560"/>
            <a:ext cx="4952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R  rota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343400" y="4495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1700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4952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insert, retrace path towards root and adjust balance factors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when you reach a node whose balance factor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when you reach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tree is not an AVL tree only if you reach a node whose balance factor is 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we say the tree has beco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balanc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-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earest ancestor of the newly inserted node whose balance factor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ing the ins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factor of nodes between new node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fore inser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balance Typ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wly inserted node is in the right subtree of the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subtree of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subtree of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ght subtree of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L Ro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6172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ee height is un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adjustments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0880" y="1447920"/>
            <a:ext cx="2438640" cy="3202920"/>
            <a:chOff x="380880" y="1447920"/>
            <a:chExt cx="2438640" cy="3202920"/>
          </a:xfrm>
        </p:grpSpPr>
        <p:sp>
          <p:nvSpPr>
            <p:cNvPr id="361" name=""/>
            <p:cNvSpPr/>
            <p:nvPr/>
          </p:nvSpPr>
          <p:spPr>
            <a:xfrm>
              <a:off x="380880" y="41911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fore inser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80880" y="1447920"/>
              <a:ext cx="1905120" cy="2745720"/>
              <a:chOff x="380880" y="1447920"/>
              <a:chExt cx="1905120" cy="2745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225440" y="183528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8240" y="259704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990720" y="2209680"/>
                <a:ext cx="30456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600200" y="220968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295280" y="182880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8080" y="259092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447920" y="14479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8080" y="1828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0880" y="2590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0880" y="335268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19320" y="33526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76520" y="25909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33520" y="2971800"/>
                <a:ext cx="3045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43000" y="29718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0880" y="3733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295280" y="3733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52480" y="28195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3124080" y="1447920"/>
            <a:ext cx="2514600" cy="3202920"/>
            <a:chOff x="3124080" y="1447920"/>
            <a:chExt cx="2514600" cy="3202920"/>
          </a:xfrm>
        </p:grpSpPr>
        <p:sp>
          <p:nvSpPr>
            <p:cNvPr id="381" name=""/>
            <p:cNvSpPr/>
            <p:nvPr/>
          </p:nvSpPr>
          <p:spPr>
            <a:xfrm>
              <a:off x="4044960" y="18352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77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80952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1972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26708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57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0040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00400" y="3352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384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95680" y="25909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352320" y="29718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4191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inser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240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477120" y="1447920"/>
            <a:ext cx="831600" cy="840600"/>
            <a:chOff x="6477120" y="1447920"/>
            <a:chExt cx="831600" cy="840600"/>
          </a:xfrm>
        </p:grpSpPr>
        <p:sp>
          <p:nvSpPr>
            <p:cNvPr id="398" name=""/>
            <p:cNvSpPr/>
            <p:nvPr/>
          </p:nvSpPr>
          <p:spPr>
            <a:xfrm>
              <a:off x="6864480" y="183528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08660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7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38880" y="2209680"/>
            <a:ext cx="762120" cy="908280"/>
            <a:chOff x="7238880" y="2209680"/>
            <a:chExt cx="762120" cy="908280"/>
          </a:xfrm>
        </p:grpSpPr>
        <p:sp>
          <p:nvSpPr>
            <p:cNvPr id="402" name=""/>
            <p:cNvSpPr/>
            <p:nvPr/>
          </p:nvSpPr>
          <p:spPr>
            <a:xfrm>
              <a:off x="7245360" y="267336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3888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9608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01992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858000" y="3048120"/>
            <a:ext cx="685800" cy="1221480"/>
            <a:chOff x="6858000" y="3048120"/>
            <a:chExt cx="685800" cy="1221480"/>
          </a:xfrm>
        </p:grpSpPr>
        <p:sp>
          <p:nvSpPr>
            <p:cNvPr id="407" name=""/>
            <p:cNvSpPr/>
            <p:nvPr/>
          </p:nvSpPr>
          <p:spPr>
            <a:xfrm>
              <a:off x="6858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009920" y="304812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3432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620120" y="3048120"/>
            <a:ext cx="685800" cy="1221480"/>
            <a:chOff x="7620120" y="3048120"/>
            <a:chExt cx="685800" cy="1221480"/>
          </a:xfrm>
        </p:grpSpPr>
        <p:sp>
          <p:nvSpPr>
            <p:cNvPr id="411" name=""/>
            <p:cNvSpPr/>
            <p:nvPr/>
          </p:nvSpPr>
          <p:spPr>
            <a:xfrm>
              <a:off x="7696080" y="34290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0120" y="30481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72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400800" y="2209680"/>
            <a:ext cx="762120" cy="1145520"/>
            <a:chOff x="6400800" y="2209680"/>
            <a:chExt cx="762120" cy="1145520"/>
          </a:xfrm>
        </p:grpSpPr>
        <p:sp>
          <p:nvSpPr>
            <p:cNvPr id="415" name=""/>
            <p:cNvSpPr/>
            <p:nvPr/>
          </p:nvSpPr>
          <p:spPr>
            <a:xfrm flipH="1">
              <a:off x="662904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77120" y="2514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315200" y="2666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182880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57600" y="2590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14800" y="18288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R Rotation (case 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5105520"/>
            <a:ext cx="5639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 height is un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urther adjustments to be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80880" y="1447920"/>
            <a:ext cx="2438640" cy="3202920"/>
            <a:chOff x="380880" y="1447920"/>
            <a:chExt cx="2438640" cy="3202920"/>
          </a:xfrm>
        </p:grpSpPr>
        <p:sp>
          <p:nvSpPr>
            <p:cNvPr id="425" name=""/>
            <p:cNvSpPr/>
            <p:nvPr/>
          </p:nvSpPr>
          <p:spPr>
            <a:xfrm>
              <a:off x="380880" y="41911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fore inser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380880" y="1447920"/>
              <a:ext cx="1371600" cy="1602720"/>
              <a:chOff x="380880" y="1447920"/>
              <a:chExt cx="1371600" cy="1602720"/>
            </a:xfrm>
          </p:grpSpPr>
          <p:sp>
            <p:nvSpPr>
              <p:cNvPr id="427" name=""/>
              <p:cNvSpPr/>
              <p:nvPr/>
            </p:nvSpPr>
            <p:spPr>
              <a:xfrm>
                <a:off x="1225440" y="183528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8240" y="259704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990720" y="2209680"/>
                <a:ext cx="30456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95280" y="182880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38080" y="259092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1447920" y="14479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38080" y="1828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2590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3200400" y="1447920"/>
            <a:ext cx="2438280" cy="3202920"/>
            <a:chOff x="3200400" y="1447920"/>
            <a:chExt cx="2438280" cy="3202920"/>
          </a:xfrm>
        </p:grpSpPr>
        <p:sp>
          <p:nvSpPr>
            <p:cNvPr id="436" name=""/>
            <p:cNvSpPr/>
            <p:nvPr/>
          </p:nvSpPr>
          <p:spPr>
            <a:xfrm>
              <a:off x="4044960" y="18352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80952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26708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57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040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6252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4191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inser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68640" y="34354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760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477120" y="1447920"/>
            <a:ext cx="831600" cy="840600"/>
            <a:chOff x="6477120" y="1447920"/>
            <a:chExt cx="831600" cy="840600"/>
          </a:xfrm>
        </p:grpSpPr>
        <p:sp>
          <p:nvSpPr>
            <p:cNvPr id="447" name=""/>
            <p:cNvSpPr/>
            <p:nvPr/>
          </p:nvSpPr>
          <p:spPr>
            <a:xfrm>
              <a:off x="6864480" y="183528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08660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238880" y="2209680"/>
            <a:ext cx="762120" cy="908280"/>
            <a:chOff x="7238880" y="2209680"/>
            <a:chExt cx="762120" cy="908280"/>
          </a:xfrm>
        </p:grpSpPr>
        <p:sp>
          <p:nvSpPr>
            <p:cNvPr id="451" name=""/>
            <p:cNvSpPr/>
            <p:nvPr/>
          </p:nvSpPr>
          <p:spPr>
            <a:xfrm>
              <a:off x="7245360" y="267336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9608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01992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089760" y="2209680"/>
            <a:ext cx="844200" cy="910800"/>
            <a:chOff x="6089760" y="2209680"/>
            <a:chExt cx="844200" cy="910800"/>
          </a:xfrm>
        </p:grpSpPr>
        <p:sp>
          <p:nvSpPr>
            <p:cNvPr id="456" name=""/>
            <p:cNvSpPr/>
            <p:nvPr/>
          </p:nvSpPr>
          <p:spPr>
            <a:xfrm flipH="1">
              <a:off x="670536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77120" y="2666880"/>
              <a:ext cx="44424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89760" y="26607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038480" y="34290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590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18288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2666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15200" y="26668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4320" y="18288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R Rotation (case 2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ee height is un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adjustments to b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477120" y="1447920"/>
            <a:ext cx="831600" cy="840600"/>
            <a:chOff x="6477120" y="1447920"/>
            <a:chExt cx="831600" cy="840600"/>
          </a:xfrm>
        </p:grpSpPr>
        <p:sp>
          <p:nvSpPr>
            <p:cNvPr id="468" name=""/>
            <p:cNvSpPr/>
            <p:nvPr/>
          </p:nvSpPr>
          <p:spPr>
            <a:xfrm>
              <a:off x="6864480" y="183528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08660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77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238880" y="2209680"/>
            <a:ext cx="1371600" cy="831960"/>
            <a:chOff x="7238880" y="2209680"/>
            <a:chExt cx="1371600" cy="831960"/>
          </a:xfrm>
        </p:grpSpPr>
        <p:sp>
          <p:nvSpPr>
            <p:cNvPr id="472" name=""/>
            <p:cNvSpPr/>
            <p:nvPr/>
          </p:nvSpPr>
          <p:spPr>
            <a:xfrm>
              <a:off x="7238880" y="2209680"/>
              <a:ext cx="7621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854840" y="2514600"/>
              <a:ext cx="755640" cy="527040"/>
              <a:chOff x="7854840" y="2514600"/>
              <a:chExt cx="755640" cy="527040"/>
            </a:xfrm>
          </p:grpSpPr>
          <p:sp>
            <p:nvSpPr>
              <p:cNvPr id="474" name=""/>
              <p:cNvSpPr/>
              <p:nvPr/>
            </p:nvSpPr>
            <p:spPr>
              <a:xfrm>
                <a:off x="7854840" y="2597040"/>
                <a:ext cx="444600" cy="4446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05920" y="25146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7467480" y="2971800"/>
            <a:ext cx="838440" cy="1221840"/>
            <a:chOff x="7467480" y="2971800"/>
            <a:chExt cx="838440" cy="1221840"/>
          </a:xfrm>
        </p:grpSpPr>
        <p:sp>
          <p:nvSpPr>
            <p:cNvPr id="477" name=""/>
            <p:cNvSpPr/>
            <p:nvPr/>
          </p:nvSpPr>
          <p:spPr>
            <a:xfrm>
              <a:off x="7467480" y="3352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7620120" y="29718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4380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8229600" y="2971800"/>
            <a:ext cx="685800" cy="1221840"/>
            <a:chOff x="8229600" y="2971800"/>
            <a:chExt cx="685800" cy="1221840"/>
          </a:xfrm>
        </p:grpSpPr>
        <p:sp>
          <p:nvSpPr>
            <p:cNvPr id="481" name=""/>
            <p:cNvSpPr/>
            <p:nvPr/>
          </p:nvSpPr>
          <p:spPr>
            <a:xfrm>
              <a:off x="8305920" y="33526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2960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1880" y="3733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80880" y="1447920"/>
            <a:ext cx="1981440" cy="3507480"/>
            <a:chOff x="380880" y="1447920"/>
            <a:chExt cx="1981440" cy="3507480"/>
          </a:xfrm>
        </p:grpSpPr>
        <p:sp>
          <p:nvSpPr>
            <p:cNvPr id="485" name=""/>
            <p:cNvSpPr/>
            <p:nvPr/>
          </p:nvSpPr>
          <p:spPr>
            <a:xfrm>
              <a:off x="1225440" y="1835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82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990720" y="2209680"/>
              <a:ext cx="30456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0020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95280" y="18288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2590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44792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808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088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8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00200" y="4114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33520" y="29718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4300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880" y="3733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7652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2480" y="2819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49480" y="3359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19320" y="3352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120" y="4114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914040" y="373392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7339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212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00200" y="3429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124080" y="1371600"/>
            <a:ext cx="1981440" cy="3507840"/>
            <a:chOff x="3124080" y="1371600"/>
            <a:chExt cx="1981440" cy="3507840"/>
          </a:xfrm>
        </p:grpSpPr>
        <p:sp>
          <p:nvSpPr>
            <p:cNvPr id="510" name=""/>
            <p:cNvSpPr/>
            <p:nvPr/>
          </p:nvSpPr>
          <p:spPr>
            <a:xfrm>
              <a:off x="3968640" y="17589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11440" y="2521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733920" y="213372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43400" y="21337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191120" y="13716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17524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24080" y="2514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24080" y="32767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43400" y="4038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19720" y="2514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276720" y="289548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6200" y="28954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40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95680" y="2743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92680" y="32828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05320" y="4038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657240" y="36576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67080" y="36576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81280" y="4419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43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330960" y="2209680"/>
            <a:ext cx="755640" cy="831960"/>
            <a:chOff x="6330960" y="2209680"/>
            <a:chExt cx="755640" cy="831960"/>
          </a:xfrm>
        </p:grpSpPr>
        <p:sp>
          <p:nvSpPr>
            <p:cNvPr id="532" name=""/>
            <p:cNvSpPr/>
            <p:nvPr/>
          </p:nvSpPr>
          <p:spPr>
            <a:xfrm flipH="1">
              <a:off x="662904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30960" y="259704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81680" y="2514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943600" y="2971800"/>
            <a:ext cx="685800" cy="1221840"/>
            <a:chOff x="5943600" y="2971800"/>
            <a:chExt cx="685800" cy="1221840"/>
          </a:xfrm>
        </p:grpSpPr>
        <p:sp>
          <p:nvSpPr>
            <p:cNvPr id="536" name=""/>
            <p:cNvSpPr/>
            <p:nvPr/>
          </p:nvSpPr>
          <p:spPr>
            <a:xfrm>
              <a:off x="5943600" y="3352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29718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199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705720" y="2971800"/>
            <a:ext cx="761760" cy="1221840"/>
            <a:chOff x="6705720" y="2971800"/>
            <a:chExt cx="761760" cy="1221840"/>
          </a:xfrm>
        </p:grpSpPr>
        <p:sp>
          <p:nvSpPr>
            <p:cNvPr id="540" name=""/>
            <p:cNvSpPr/>
            <p:nvPr/>
          </p:nvSpPr>
          <p:spPr>
            <a:xfrm>
              <a:off x="6781680" y="3352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6705720" y="2971800"/>
              <a:ext cx="533160" cy="1221840"/>
              <a:chOff x="6705720" y="2971800"/>
              <a:chExt cx="533160" cy="1221840"/>
            </a:xfrm>
          </p:grpSpPr>
          <p:sp>
            <p:nvSpPr>
              <p:cNvPr id="542" name=""/>
              <p:cNvSpPr/>
              <p:nvPr/>
            </p:nvSpPr>
            <p:spPr>
              <a:xfrm>
                <a:off x="6705720" y="29718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58000" y="3733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396252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25146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17524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00800" y="2590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25909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18288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Dictionary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Get(), Insert() and Delete(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8080" y="1600200"/>
            <a:ext cx="7377120" cy="4702680"/>
            <a:chOff x="838080" y="1600200"/>
            <a:chExt cx="7377120" cy="4702680"/>
          </a:xfrm>
        </p:grpSpPr>
        <p:graphicFrame>
          <p:nvGraphicFramePr>
            <p:cNvPr id="52" name=""/>
            <p:cNvGraphicFramePr/>
            <p:nvPr/>
          </p:nvGraphicFramePr>
          <p:xfrm>
            <a:off x="838080" y="1600200"/>
            <a:ext cx="7313760" cy="4043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600200"/>
                      <a:ext cx="7313760" cy="40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262320" y="168444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6320" y="2293920"/>
              <a:ext cx="670536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2000" y="168444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6320" y="572292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elements in diction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R Rotation (case 3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5105520"/>
            <a:ext cx="5638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 height is un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urther adjustments to be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80880" y="1447920"/>
            <a:ext cx="1981440" cy="3507480"/>
            <a:chOff x="380880" y="1447920"/>
            <a:chExt cx="1981440" cy="3507480"/>
          </a:xfrm>
        </p:grpSpPr>
        <p:sp>
          <p:nvSpPr>
            <p:cNvPr id="553" name=""/>
            <p:cNvSpPr/>
            <p:nvPr/>
          </p:nvSpPr>
          <p:spPr>
            <a:xfrm>
              <a:off x="1225440" y="1835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82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990720" y="2209680"/>
              <a:ext cx="30456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0020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95280" y="18288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8080" y="2590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44792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808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088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4114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5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33520" y="29718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300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880" y="3733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7652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52480" y="2819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49480" y="3359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19320" y="3352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2120" y="4114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914040" y="373392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23880" y="37339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212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00200" y="3429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124080" y="1371600"/>
            <a:ext cx="1981440" cy="3507840"/>
            <a:chOff x="3124080" y="1371600"/>
            <a:chExt cx="1981440" cy="3507840"/>
          </a:xfrm>
        </p:grpSpPr>
        <p:sp>
          <p:nvSpPr>
            <p:cNvPr id="578" name=""/>
            <p:cNvSpPr/>
            <p:nvPr/>
          </p:nvSpPr>
          <p:spPr>
            <a:xfrm>
              <a:off x="3968640" y="17589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11440" y="2521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733920" y="213372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21337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191120" y="13716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81280" y="17524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24080" y="2514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24080" y="32767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3400" y="4038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19720" y="2514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276720" y="289548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86200" y="28954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3657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197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95680" y="2743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92680" y="32828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05320" y="4038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657240" y="36576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36576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43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32767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1280" y="25146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38480" y="17524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943600" y="1447920"/>
            <a:ext cx="2971800" cy="2745720"/>
            <a:chOff x="5943600" y="1447920"/>
            <a:chExt cx="2971800" cy="2745720"/>
          </a:xfrm>
        </p:grpSpPr>
        <p:grpSp>
          <p:nvGrpSpPr>
            <p:cNvPr id="603" name=""/>
            <p:cNvGrpSpPr/>
            <p:nvPr/>
          </p:nvGrpSpPr>
          <p:grpSpPr>
            <a:xfrm>
              <a:off x="6477120" y="1447920"/>
              <a:ext cx="831600" cy="840600"/>
              <a:chOff x="6477120" y="1447920"/>
              <a:chExt cx="831600" cy="840600"/>
            </a:xfrm>
          </p:grpSpPr>
          <p:sp>
            <p:nvSpPr>
              <p:cNvPr id="604" name=""/>
              <p:cNvSpPr/>
              <p:nvPr/>
            </p:nvSpPr>
            <p:spPr>
              <a:xfrm>
                <a:off x="6864480" y="1835280"/>
                <a:ext cx="444240" cy="44424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7086600" y="14479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477120" y="1828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7238880" y="2209680"/>
              <a:ext cx="1371600" cy="831960"/>
              <a:chOff x="7238880" y="2209680"/>
              <a:chExt cx="1371600" cy="831960"/>
            </a:xfrm>
          </p:grpSpPr>
          <p:sp>
            <p:nvSpPr>
              <p:cNvPr id="608" name=""/>
              <p:cNvSpPr/>
              <p:nvPr/>
            </p:nvSpPr>
            <p:spPr>
              <a:xfrm>
                <a:off x="7238880" y="2209680"/>
                <a:ext cx="7621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7854840" y="2514600"/>
                <a:ext cx="755640" cy="527040"/>
                <a:chOff x="7854840" y="2514600"/>
                <a:chExt cx="755640" cy="5270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54840" y="2597040"/>
                  <a:ext cx="444600" cy="4446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305920" y="251460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33"/>
                      </a:solidFill>
                      <a:latin typeface="Albertus Extra Bold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7467480" y="2971800"/>
              <a:ext cx="838440" cy="1221840"/>
              <a:chOff x="7467480" y="2971800"/>
              <a:chExt cx="838440" cy="1221840"/>
            </a:xfrm>
          </p:grpSpPr>
          <p:sp>
            <p:nvSpPr>
              <p:cNvPr id="613" name=""/>
              <p:cNvSpPr/>
              <p:nvPr/>
            </p:nvSpPr>
            <p:spPr>
              <a:xfrm>
                <a:off x="7467480" y="33526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C’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620120" y="2971800"/>
                <a:ext cx="3045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43800" y="37339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8229600" y="2971800"/>
              <a:ext cx="685800" cy="1221840"/>
              <a:chOff x="8229600" y="2971800"/>
              <a:chExt cx="685800" cy="1221840"/>
            </a:xfrm>
          </p:grpSpPr>
          <p:sp>
            <p:nvSpPr>
              <p:cNvPr id="617" name=""/>
              <p:cNvSpPr/>
              <p:nvPr/>
            </p:nvSpPr>
            <p:spPr>
              <a:xfrm>
                <a:off x="8305920" y="33526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229600" y="29718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381880" y="3733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330960" y="2209680"/>
              <a:ext cx="755640" cy="831960"/>
              <a:chOff x="6330960" y="2209680"/>
              <a:chExt cx="755640" cy="831960"/>
            </a:xfrm>
          </p:grpSpPr>
          <p:sp>
            <p:nvSpPr>
              <p:cNvPr id="621" name=""/>
              <p:cNvSpPr/>
              <p:nvPr/>
            </p:nvSpPr>
            <p:spPr>
              <a:xfrm flipH="1">
                <a:off x="6629040" y="220968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330960" y="2597040"/>
                <a:ext cx="444600" cy="4446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781680" y="25146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943600" y="2971800"/>
              <a:ext cx="685800" cy="1221840"/>
              <a:chOff x="5943600" y="2971800"/>
              <a:chExt cx="685800" cy="1221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943600" y="33526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6095520" y="2971800"/>
                <a:ext cx="30492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19920" y="3733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6781680" y="3352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572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0" y="3733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00800" y="2590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4680" y="2590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34320" y="18288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&amp; Double Rot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 and 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 and 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 is RR followed by 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 is LL followed by 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R Is RR + L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80880" y="1371600"/>
            <a:ext cx="2438640" cy="4041000"/>
            <a:chOff x="380880" y="1371600"/>
            <a:chExt cx="2438640" cy="4041000"/>
          </a:xfrm>
        </p:grpSpPr>
        <p:grpSp>
          <p:nvGrpSpPr>
            <p:cNvPr id="638" name=""/>
            <p:cNvGrpSpPr/>
            <p:nvPr/>
          </p:nvGrpSpPr>
          <p:grpSpPr>
            <a:xfrm>
              <a:off x="457200" y="1371600"/>
              <a:ext cx="1980720" cy="3507840"/>
              <a:chOff x="457200" y="1371600"/>
              <a:chExt cx="1980720" cy="3507840"/>
            </a:xfrm>
          </p:grpSpPr>
          <p:sp>
            <p:nvSpPr>
              <p:cNvPr id="639" name=""/>
              <p:cNvSpPr/>
              <p:nvPr/>
            </p:nvSpPr>
            <p:spPr>
              <a:xfrm>
                <a:off x="1301400" y="1758960"/>
                <a:ext cx="444240" cy="4446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44200" y="2521080"/>
                <a:ext cx="44424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066320" y="2133720"/>
                <a:ext cx="30420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676160" y="2133720"/>
                <a:ext cx="22824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1523880" y="13716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914040" y="17524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7200" y="25146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7200" y="32767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676160" y="4038480"/>
                <a:ext cx="761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C’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752480" y="2514600"/>
                <a:ext cx="60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609120" y="2895480"/>
                <a:ext cx="3042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18960" y="2895480"/>
                <a:ext cx="22824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57200" y="3657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752480" y="441972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28440" y="274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25440" y="3282840"/>
                <a:ext cx="443880" cy="4446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38080" y="40384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990360" y="3657600"/>
                <a:ext cx="3045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599840" y="3657600"/>
                <a:ext cx="22824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38080" y="441972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676160" y="3352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295280" y="3276720"/>
                <a:ext cx="456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914040" y="2514600"/>
                <a:ext cx="456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71240" y="1752480"/>
                <a:ext cx="4568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80880" y="4952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inser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3200400" y="1294920"/>
            <a:ext cx="2590920" cy="4117680"/>
            <a:chOff x="3200400" y="1294920"/>
            <a:chExt cx="2590920" cy="4117680"/>
          </a:xfrm>
        </p:grpSpPr>
        <p:sp>
          <p:nvSpPr>
            <p:cNvPr id="665" name=""/>
            <p:cNvSpPr/>
            <p:nvPr/>
          </p:nvSpPr>
          <p:spPr>
            <a:xfrm>
              <a:off x="4502160" y="16826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044960" y="244476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267440" y="205740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76920" y="20574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724640" y="129492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14800" y="1676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57600" y="2438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38840" y="4038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96040" y="3276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53240" y="2438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810240" y="281952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19720" y="28195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200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2920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87760" y="32828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00400" y="40384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353040" y="36576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62520" y="36576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7672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03884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72000" y="16765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53040" y="49528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RR rot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3884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943600" y="1447920"/>
            <a:ext cx="2971800" cy="3964680"/>
            <a:chOff x="5943600" y="1447920"/>
            <a:chExt cx="2971800" cy="3964680"/>
          </a:xfrm>
        </p:grpSpPr>
        <p:grpSp>
          <p:nvGrpSpPr>
            <p:cNvPr id="689" name=""/>
            <p:cNvGrpSpPr/>
            <p:nvPr/>
          </p:nvGrpSpPr>
          <p:grpSpPr>
            <a:xfrm>
              <a:off x="5943600" y="1447920"/>
              <a:ext cx="2971800" cy="2745720"/>
              <a:chOff x="5943600" y="1447920"/>
              <a:chExt cx="2971800" cy="274572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6477120" y="1447920"/>
                <a:ext cx="831600" cy="840600"/>
                <a:chOff x="6477120" y="1447920"/>
                <a:chExt cx="831600" cy="8406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864480" y="1835280"/>
                  <a:ext cx="44424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7086600" y="144792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477120" y="182880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33"/>
                      </a:solidFill>
                      <a:latin typeface="Albertus Extra Bold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7238880" y="2209680"/>
                <a:ext cx="1371600" cy="831960"/>
                <a:chOff x="7238880" y="2209680"/>
                <a:chExt cx="1371600" cy="8319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7238880" y="2209680"/>
                  <a:ext cx="762120" cy="38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6" name=""/>
                <p:cNvGrpSpPr/>
                <p:nvPr/>
              </p:nvGrpSpPr>
              <p:grpSpPr>
                <a:xfrm>
                  <a:off x="7854840" y="2514600"/>
                  <a:ext cx="755640" cy="527040"/>
                  <a:chOff x="7854840" y="2514600"/>
                  <a:chExt cx="755640" cy="5270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7854840" y="2597040"/>
                    <a:ext cx="444600" cy="444600"/>
                  </a:xfrm>
                  <a:prstGeom prst="ellipse">
                    <a:avLst/>
                  </a:prstGeom>
                  <a:solidFill>
                    <a:srgbClr val="ff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8305920" y="2514600"/>
                    <a:ext cx="304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0033"/>
                        </a:solidFill>
                        <a:latin typeface="Albertus Extra Bold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9" name=""/>
              <p:cNvGrpSpPr/>
              <p:nvPr/>
            </p:nvGrpSpPr>
            <p:grpSpPr>
              <a:xfrm>
                <a:off x="7467480" y="2971800"/>
                <a:ext cx="838440" cy="1221840"/>
                <a:chOff x="7467480" y="2971800"/>
                <a:chExt cx="838440" cy="12218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467480" y="33526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33"/>
                      </a:solidFill>
                      <a:latin typeface="Albertus Extra Bold"/>
                    </a:rPr>
                    <a:t>C’</a:t>
                  </a:r>
                  <a:r>
                    <a:rPr b="0" lang="en-US" sz="2400" spc="-1" strike="noStrike" baseline="-25000">
                      <a:solidFill>
                        <a:srgbClr val="ff0033"/>
                      </a:solidFill>
                      <a:latin typeface="Albertus Extra Bold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7620120" y="2971800"/>
                  <a:ext cx="30456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543800" y="373392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8229600" y="2971800"/>
                <a:ext cx="685800" cy="1221840"/>
                <a:chOff x="8229600" y="2971800"/>
                <a:chExt cx="685800" cy="122184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8305920" y="3352680"/>
                  <a:ext cx="6094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33"/>
                      </a:solidFill>
                      <a:latin typeface="Albertus Extra Bold"/>
                    </a:rPr>
                    <a:t>A</a:t>
                  </a:r>
                  <a:r>
                    <a:rPr b="0" lang="en-US" sz="2400" spc="-1" strike="noStrike" baseline="-25000">
                      <a:solidFill>
                        <a:srgbClr val="ff0033"/>
                      </a:solidFill>
                      <a:latin typeface="Albertus Extra Bold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229600" y="2971800"/>
                  <a:ext cx="22860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381880" y="373392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330960" y="2209680"/>
                <a:ext cx="755640" cy="831960"/>
                <a:chOff x="6330960" y="2209680"/>
                <a:chExt cx="755640" cy="831960"/>
              </a:xfrm>
            </p:grpSpPr>
            <p:sp>
              <p:nvSpPr>
                <p:cNvPr id="708" name=""/>
                <p:cNvSpPr/>
                <p:nvPr/>
              </p:nvSpPr>
              <p:spPr>
                <a:xfrm flipH="1">
                  <a:off x="6629040" y="2209680"/>
                  <a:ext cx="304920" cy="38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330960" y="2597040"/>
                  <a:ext cx="444600" cy="4446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781680" y="2514600"/>
                  <a:ext cx="30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33"/>
                      </a:solidFill>
                      <a:latin typeface="Albertus Extra Bold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5943600" y="2971800"/>
                <a:ext cx="685800" cy="1221840"/>
                <a:chOff x="5943600" y="2971800"/>
                <a:chExt cx="685800" cy="12218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5943600" y="33526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33"/>
                      </a:solidFill>
                      <a:latin typeface="Albertus Extra Bold"/>
                    </a:rPr>
                    <a:t>B</a:t>
                  </a:r>
                  <a:r>
                    <a:rPr b="0" lang="en-US" sz="2400" spc="-1" strike="noStrike" baseline="-25000">
                      <a:solidFill>
                        <a:srgbClr val="ff0033"/>
                      </a:solidFill>
                      <a:latin typeface="Albertus Extra Bold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6095520" y="2971800"/>
                  <a:ext cx="30492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019920" y="3733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6781680" y="33526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05720" y="29718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5800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00800" y="259092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924680" y="259092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934320" y="182880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172200" y="49528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LL rot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An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532440" y="1066680"/>
            <a:ext cx="8237880" cy="4329720"/>
            <a:chOff x="532440" y="1066680"/>
            <a:chExt cx="8237880" cy="4329720"/>
          </a:xfrm>
        </p:grpSpPr>
        <p:sp>
          <p:nvSpPr>
            <p:cNvPr id="724" name=""/>
            <p:cNvSpPr/>
            <p:nvPr/>
          </p:nvSpPr>
          <p:spPr>
            <a:xfrm>
              <a:off x="4365360" y="1347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2000" y="23385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75400" y="23385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41280" y="3176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93760" y="3176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56080" y="3176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1800" y="4243320"/>
              <a:ext cx="44388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74800" y="4243320"/>
              <a:ext cx="44388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2682720" y="1646280"/>
              <a:ext cx="16761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16440" y="1646280"/>
              <a:ext cx="1752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1539720" y="2712960"/>
              <a:ext cx="7617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06400" y="2712960"/>
              <a:ext cx="4568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730480" y="2789280"/>
              <a:ext cx="9140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929880" y="3551400"/>
              <a:ext cx="380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16040" y="3551400"/>
              <a:ext cx="304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22560" y="41673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121000" y="362736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24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5632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89280" y="2895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51600" y="2971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56320" y="2057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32400" y="4929120"/>
              <a:ext cx="44388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21000" y="4618080"/>
              <a:ext cx="4568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13920" y="47242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46160" y="38862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41880" y="4014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30840" y="3551400"/>
              <a:ext cx="456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99720" y="3886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80400" y="2895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3100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49800" y="2712960"/>
              <a:ext cx="7617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175600" y="39387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16840" y="3475080"/>
              <a:ext cx="304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57120" y="3657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99200" y="28195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09200" y="2057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22480" y="1066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59240" y="141768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01840" y="24084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63600" y="324648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11120" y="324648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1640" y="42372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44640" y="431316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49600" y="324648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68920" y="24084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16440" y="42372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25920" y="499896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35400" y="408456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35600" y="30942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69120" y="40086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244440" y="5456160"/>
            <a:ext cx="227016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An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608760" y="1066680"/>
            <a:ext cx="8237880" cy="4329720"/>
            <a:chOff x="608760" y="1066680"/>
            <a:chExt cx="8237880" cy="4329720"/>
          </a:xfrm>
        </p:grpSpPr>
        <p:sp>
          <p:nvSpPr>
            <p:cNvPr id="778" name=""/>
            <p:cNvSpPr/>
            <p:nvPr/>
          </p:nvSpPr>
          <p:spPr>
            <a:xfrm>
              <a:off x="4441680" y="1347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08320" y="2338560"/>
              <a:ext cx="444240" cy="444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651720" y="23385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17600" y="3176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32400" y="3176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8120" y="4243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851120" y="4243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58680" y="1646280"/>
              <a:ext cx="1676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92760" y="1646280"/>
              <a:ext cx="17524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1615680" y="271296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5807160" y="278928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006560" y="35514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92360" y="355140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98880" y="416736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5196960" y="362736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876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2640" y="3962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65960" y="2895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2640" y="2057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08720" y="49291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97320" y="461808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90240" y="47242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22840" y="388620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18200" y="4014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07160" y="355140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76040" y="3886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56720" y="2895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18400" y="31003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26120" y="271296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51920" y="39387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93160" y="347508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533440" y="3657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75880" y="28195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85520" y="2057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99160" y="1066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35560" y="1417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78160" y="2408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87440" y="32464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7960" y="4237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20960" y="43131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25920" y="32464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45240" y="24084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92760" y="4237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02240" y="49989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11720" y="40845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11920" y="3094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45440" y="40086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0" y="4952880"/>
            <a:ext cx="64771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arent of deleted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ace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wards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43828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ew Balance Factor Of q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left subtre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f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from right subtre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f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alance factor 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–1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change in height of subtree rooted 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alance factor 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ight of subtree rooted 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decreased by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alance factor 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–2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 is unbalanced 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733920" y="1066320"/>
            <a:ext cx="1066680" cy="1143360"/>
            <a:chOff x="3733920" y="1066320"/>
            <a:chExt cx="1066680" cy="1143360"/>
          </a:xfrm>
        </p:grpSpPr>
        <p:sp>
          <p:nvSpPr>
            <p:cNvPr id="83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962520" y="182880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67080" y="1447920"/>
              <a:ext cx="4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4419720" y="106632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3920" y="144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72000" y="1828800"/>
              <a:ext cx="22860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balance Classific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earest ancestor of the deleted  node whose balance factor has bec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ing a dele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from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from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f(A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ol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f(A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left chil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f(B) = 0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R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f(B) = 1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R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f(B) = –1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R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0 Ro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 height is un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-113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urther adjustments to be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-113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1447920"/>
            <a:ext cx="2438640" cy="3202920"/>
            <a:chOff x="380880" y="1447920"/>
            <a:chExt cx="2438640" cy="3202920"/>
          </a:xfrm>
        </p:grpSpPr>
        <p:sp>
          <p:nvSpPr>
            <p:cNvPr id="841" name=""/>
            <p:cNvSpPr/>
            <p:nvPr/>
          </p:nvSpPr>
          <p:spPr>
            <a:xfrm>
              <a:off x="380880" y="41911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fore dele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380880" y="1447920"/>
              <a:ext cx="1905120" cy="2745720"/>
              <a:chOff x="380880" y="1447920"/>
              <a:chExt cx="1905120" cy="2745720"/>
            </a:xfrm>
          </p:grpSpPr>
          <p:sp>
            <p:nvSpPr>
              <p:cNvPr id="843" name=""/>
              <p:cNvSpPr/>
              <p:nvPr/>
            </p:nvSpPr>
            <p:spPr>
              <a:xfrm>
                <a:off x="1225440" y="183528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8240" y="259704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990720" y="2209680"/>
                <a:ext cx="30456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00200" y="220968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295280" y="182880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8080" y="259092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447920" y="14479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38080" y="1828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80880" y="2590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80880" y="3352680"/>
                <a:ext cx="609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19320" y="33526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B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76520" y="25909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r>
                  <a:rPr b="0" lang="en-US" sz="2400" spc="-1" strike="noStrike" baseline="-25000">
                    <a:solidFill>
                      <a:srgbClr val="ff0033"/>
                    </a:solidFill>
                    <a:latin typeface="Albertus Extra Bold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533520" y="2971800"/>
                <a:ext cx="30456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43000" y="2971800"/>
                <a:ext cx="2286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80880" y="3733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95280" y="3733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752480" y="28195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6019920" y="1447920"/>
            <a:ext cx="2514600" cy="3202920"/>
            <a:chOff x="6019920" y="1447920"/>
            <a:chExt cx="2514600" cy="3202920"/>
          </a:xfrm>
        </p:grpSpPr>
        <p:sp>
          <p:nvSpPr>
            <p:cNvPr id="861" name=""/>
            <p:cNvSpPr/>
            <p:nvPr/>
          </p:nvSpPr>
          <p:spPr>
            <a:xfrm>
              <a:off x="6864480" y="183528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08660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77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45360" y="267336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3888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9608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19920" y="4191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rot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58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009920" y="304812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3432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960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20120" y="30481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72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62904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77120" y="2514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2895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15200" y="2666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4320" y="18288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124080" y="1447920"/>
            <a:ext cx="2514600" cy="3202920"/>
            <a:chOff x="3124080" y="1447920"/>
            <a:chExt cx="2514600" cy="3202920"/>
          </a:xfrm>
        </p:grpSpPr>
        <p:sp>
          <p:nvSpPr>
            <p:cNvPr id="880" name=""/>
            <p:cNvSpPr/>
            <p:nvPr/>
          </p:nvSpPr>
          <p:spPr>
            <a:xfrm>
              <a:off x="4044960" y="18352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877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80952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1972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708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0040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00400" y="3352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384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95680" y="2590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352320" y="29718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96252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00400" y="4191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dele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40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7200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57600" y="2590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14800" y="18288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1 Ro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762120" y="4952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 height is reduc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continue on path to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80880" y="1447920"/>
            <a:ext cx="2438640" cy="3202920"/>
            <a:chOff x="380880" y="1447920"/>
            <a:chExt cx="2438640" cy="3202920"/>
          </a:xfrm>
        </p:grpSpPr>
        <p:sp>
          <p:nvSpPr>
            <p:cNvPr id="901" name=""/>
            <p:cNvSpPr/>
            <p:nvPr/>
          </p:nvSpPr>
          <p:spPr>
            <a:xfrm>
              <a:off x="380880" y="41911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fore dele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25440" y="1835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82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990720" y="2209680"/>
              <a:ext cx="30456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60020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295280" y="18288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590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144792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808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088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8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19320" y="33526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765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533520" y="297180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4300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880" y="3733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95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52480" y="2819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019920" y="1447920"/>
            <a:ext cx="2514600" cy="3202920"/>
            <a:chOff x="6019920" y="1447920"/>
            <a:chExt cx="2514600" cy="3202920"/>
          </a:xfrm>
        </p:grpSpPr>
        <p:sp>
          <p:nvSpPr>
            <p:cNvPr id="920" name=""/>
            <p:cNvSpPr/>
            <p:nvPr/>
          </p:nvSpPr>
          <p:spPr>
            <a:xfrm>
              <a:off x="6864480" y="183528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08660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7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45360" y="267336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3888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9608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19920" y="4191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rot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58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009920" y="304812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5800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960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20120" y="304812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72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662904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77120" y="2514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53080" y="2895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15200" y="2666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934320" y="18288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124080" y="1447920"/>
            <a:ext cx="2514600" cy="3202920"/>
            <a:chOff x="3124080" y="1447920"/>
            <a:chExt cx="2514600" cy="3202920"/>
          </a:xfrm>
        </p:grpSpPr>
        <p:sp>
          <p:nvSpPr>
            <p:cNvPr id="939" name=""/>
            <p:cNvSpPr/>
            <p:nvPr/>
          </p:nvSpPr>
          <p:spPr>
            <a:xfrm>
              <a:off x="4044960" y="18352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877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3809520" y="220968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19720" y="2209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267080" y="14479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657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00400" y="2590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00400" y="33526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384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95680" y="2590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352320" y="29718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62520" y="2971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00400" y="4191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dele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240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1480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7200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657600" y="25909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14800" y="18288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-1 Ro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alance factor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 height is reduc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continue on path to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304920" y="1143000"/>
            <a:ext cx="1981080" cy="3177000"/>
            <a:chOff x="304920" y="1143000"/>
            <a:chExt cx="1981080" cy="3177000"/>
          </a:xfrm>
        </p:grpSpPr>
        <p:sp>
          <p:nvSpPr>
            <p:cNvPr id="960" name=""/>
            <p:cNvSpPr/>
            <p:nvPr/>
          </p:nvSpPr>
          <p:spPr>
            <a:xfrm>
              <a:off x="1225440" y="153036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8240" y="22921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990720" y="1904760"/>
              <a:ext cx="30456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00200" y="190476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295280" y="1523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38080" y="22860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1447920" y="11430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3808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808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0880" y="304776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600200" y="380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76520" y="2286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533520" y="266688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43000" y="26668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04920" y="3429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52480" y="2514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149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19320" y="30477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2120" y="380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914040" y="342900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34290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00200" y="3124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3048120" y="1066680"/>
            <a:ext cx="2209680" cy="3177000"/>
            <a:chOff x="3048120" y="1066680"/>
            <a:chExt cx="2209680" cy="3177000"/>
          </a:xfrm>
        </p:grpSpPr>
        <p:sp>
          <p:nvSpPr>
            <p:cNvPr id="983" name=""/>
            <p:cNvSpPr/>
            <p:nvPr/>
          </p:nvSpPr>
          <p:spPr>
            <a:xfrm>
              <a:off x="3968640" y="1454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11440" y="221616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3733920" y="182880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43400" y="182880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4191120" y="10666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581280" y="14475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2408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124080" y="2971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43400" y="37335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720" y="22096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276720" y="259056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86200" y="259056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8120" y="3352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95680" y="2590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92680" y="297792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05320" y="37335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3657240" y="335268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67080" y="33526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4340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62520" y="29718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581280" y="22096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38480" y="144756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5867280" y="1143000"/>
            <a:ext cx="3276720" cy="2745720"/>
            <a:chOff x="5867280" y="1143000"/>
            <a:chExt cx="3276720" cy="2745720"/>
          </a:xfrm>
        </p:grpSpPr>
        <p:sp>
          <p:nvSpPr>
            <p:cNvPr id="1006" name=""/>
            <p:cNvSpPr/>
            <p:nvPr/>
          </p:nvSpPr>
          <p:spPr>
            <a:xfrm>
              <a:off x="6864480" y="153036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086600" y="11430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77120" y="1523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38880" y="1904760"/>
              <a:ext cx="7621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7854840" y="2209680"/>
              <a:ext cx="755640" cy="527040"/>
              <a:chOff x="7854840" y="2209680"/>
              <a:chExt cx="755640" cy="527040"/>
            </a:xfrm>
          </p:grpSpPr>
          <p:sp>
            <p:nvSpPr>
              <p:cNvPr id="1011" name=""/>
              <p:cNvSpPr/>
              <p:nvPr/>
            </p:nvSpPr>
            <p:spPr>
              <a:xfrm>
                <a:off x="7854840" y="2292120"/>
                <a:ext cx="444600" cy="4446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3059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lbertus Extra Bold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>
              <a:off x="7467480" y="30477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7620120" y="2666880"/>
              <a:ext cx="30456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305920" y="30477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A’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229600" y="26668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8188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629040" y="1904760"/>
              <a:ext cx="3049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30960" y="2292120"/>
              <a:ext cx="44460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8168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43600" y="30477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B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095520" y="2666880"/>
              <a:ext cx="3049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6728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81680" y="30477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Albertus Extra Bold"/>
                </a:rPr>
                <a:t>C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Albertus Extra Bold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05720" y="26668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934320" y="1523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Other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Ascend(), Get(index), Delete(index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24040" y="1523880"/>
            <a:ext cx="7315200" cy="4618800"/>
            <a:chOff x="824040" y="1523880"/>
            <a:chExt cx="7315200" cy="4618800"/>
          </a:xfrm>
        </p:grpSpPr>
        <p:graphicFrame>
          <p:nvGraphicFramePr>
            <p:cNvPr id="60" name=""/>
            <p:cNvGraphicFramePr/>
            <p:nvPr/>
          </p:nvGraphicFramePr>
          <p:xfrm>
            <a:off x="849240" y="1649520"/>
            <a:ext cx="7045560" cy="35686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9240" y="1649520"/>
                      <a:ext cx="7045560" cy="356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" name=""/>
            <p:cNvSpPr/>
            <p:nvPr/>
          </p:nvSpPr>
          <p:spPr>
            <a:xfrm>
              <a:off x="3186000" y="152388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4040" y="2514600"/>
              <a:ext cx="670536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48320" y="152388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00" y="5562720"/>
              <a:ext cx="7239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bucke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 Of Rebalancing Rot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s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del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tation Frequenc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random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otation …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3.4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ppro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/RR …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3.3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ppro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/RL …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3.2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ppro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VL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fine its balance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alance factor of x = height of left subtree of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–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ight of right subtree of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factor of every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lance Facto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32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9480" y="3130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01960" y="3130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64280" y="3130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826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590920" y="1600200"/>
            <a:ext cx="1676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447920" y="266688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6668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638680" y="27432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37720" y="350532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30760" y="4121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029200" y="358128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0280" y="3916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64520" y="3916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7480" y="2849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59800" y="2925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645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40240" y="4883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45720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22120" y="4678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54720" y="384012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500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5053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079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88600" y="2849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02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26668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834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34290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65320" y="3611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07400" y="277344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1740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31040" y="1020600"/>
            <a:ext cx="39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373392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n AVL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Of An AVL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n AVL tree that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.44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i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 &lt;= height &l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.44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of Of Upper Bound On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 # of nodes in an AVL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6576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, h &gt;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lang="en-US" sz="2800" spc="-1" strike="noStrike">
                <a:solidFill>
                  <a:srgbClr val="ff0033"/>
                </a:solidFill>
                <a:latin typeface="Rockwell Extra Bold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Rockwell Extra Bold"/>
              </a:rPr>
              <a:t> 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VL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ight of on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ight of the other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tree whose heigh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h-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btree whose heigh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-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h-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h-1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h-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505320" y="1371600"/>
            <a:ext cx="1752480" cy="1419480"/>
            <a:chOff x="3505320" y="1371600"/>
            <a:chExt cx="1752480" cy="1419480"/>
          </a:xfrm>
        </p:grpSpPr>
        <p:sp>
          <p:nvSpPr>
            <p:cNvPr id="116" name=""/>
            <p:cNvSpPr/>
            <p:nvPr/>
          </p:nvSpPr>
          <p:spPr>
            <a:xfrm>
              <a:off x="4038480" y="1371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733920" y="1752480"/>
              <a:ext cx="38088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9720" y="1752480"/>
              <a:ext cx="30456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Rockwell Extra Bol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Rockwell Extra Bold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bonacci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0, 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-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-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, i &gt;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0,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h-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h-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1, i &gt;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h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sqrt(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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r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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3T14:52:59Z</dcterms:modified>
  <cp:revision>308</cp:revision>
  <dc:subject/>
  <dc:title>Data Representation Methods</dc:title>
</cp:coreProperties>
</file>