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E7C3-2CA5-4464-B2E0-7E732368FC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of a search equals number of key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Huffman trees minimize the weighted external path length. Now we want to minimize the sum of weighted external path length and weighted internal path 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AB6-C716-4B84-A1B8-D3790A06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A82-3CE4-4112-984B-DAB72333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465-22FC-481E-8649-2D8655ED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AA8-8423-498D-866C-7E527ACF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C12-64B1-4D62-88F0-B66C96B2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2EF-FF60-4078-8D51-AA42F703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27C-ACFE-46C5-ADAB-4BDC86F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EED-669B-429B-AB64-87334F21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7CA-FE59-4706-AA2A-FC03310A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00F-AFE1-4E25-8962-8AC3B579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B42-82DE-4036-9D5A-6AE732D8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1D4-5D2B-4612-84B1-52D8A73E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BA66-CD51-498C-974D-58ADF3474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atic Dictiona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 is a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ey, 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 have different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/cre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(se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/key/element has an estimated access frequency (or probabilit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binary search tree on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 &lt; j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st cost tre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lt; k &l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 in the roo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48120" y="2971800"/>
            <a:ext cx="2666880" cy="1676520"/>
            <a:chOff x="3048120" y="2971800"/>
            <a:chExt cx="2666880" cy="1676520"/>
          </a:xfrm>
        </p:grpSpPr>
        <p:sp>
          <p:nvSpPr>
            <p:cNvPr id="197" name=""/>
            <p:cNvSpPr/>
            <p:nvPr/>
          </p:nvSpPr>
          <p:spPr>
            <a:xfrm>
              <a:off x="3733920" y="3048120"/>
              <a:ext cx="44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39320" y="2971800"/>
              <a:ext cx="409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429000" y="3498840"/>
              <a:ext cx="527040" cy="4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3505320"/>
              <a:ext cx="3812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048120" y="3962520"/>
              <a:ext cx="990360" cy="685800"/>
              <a:chOff x="3048120" y="3962520"/>
              <a:chExt cx="990360" cy="685800"/>
            </a:xfrm>
          </p:grpSpPr>
          <p:sp>
            <p:nvSpPr>
              <p:cNvPr id="202" name=""/>
              <p:cNvSpPr/>
              <p:nvPr/>
            </p:nvSpPr>
            <p:spPr>
              <a:xfrm>
                <a:off x="3048120" y="3962520"/>
                <a:ext cx="6858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00400" y="41911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Rockwell Extra Bold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038480" y="3962520"/>
              <a:ext cx="990360" cy="685800"/>
              <a:chOff x="4038480" y="3962520"/>
              <a:chExt cx="990360" cy="685800"/>
            </a:xfrm>
          </p:grpSpPr>
          <p:sp>
            <p:nvSpPr>
              <p:cNvPr id="205" name=""/>
              <p:cNvSpPr/>
              <p:nvPr/>
            </p:nvSpPr>
            <p:spPr>
              <a:xfrm>
                <a:off x="4038480" y="3962520"/>
                <a:ext cx="6858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90760" y="41911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Rockwell Extra Bold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4876920" y="35053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57200" y="50292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(</a:t>
            </a:r>
            <a:r>
              <a:rPr b="0" lang="en-US" sz="3200" spc="-1" strike="noStrike">
                <a:solidFill>
                  <a:srgbClr val="000099"/>
                </a:solidFill>
                <a:latin typeface="Rockwell Extra Bold"/>
              </a:rPr>
              <a:t>L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3657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ed path length of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viewed as a stand alone 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962520" y="2209680"/>
            <a:ext cx="990360" cy="685800"/>
            <a:chOff x="3962520" y="2209680"/>
            <a:chExt cx="990360" cy="685800"/>
          </a:xfrm>
        </p:grpSpPr>
        <p:sp>
          <p:nvSpPr>
            <p:cNvPr id="212" name=""/>
            <p:cNvSpPr/>
            <p:nvPr/>
          </p:nvSpPr>
          <p:spPr>
            <a:xfrm>
              <a:off x="3962520" y="2209680"/>
              <a:ext cx="685800" cy="6858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4800" y="24382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ckwell Extra Bold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ribution To c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ij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= u &lt;= 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level(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– 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 u &lt;= 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*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vel(s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viewed as a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level of each nod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re than when 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viewed as a stand alone tr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ontribution of 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1676520"/>
            <a:ext cx="990360" cy="685800"/>
            <a:chOff x="1676520" y="1676520"/>
            <a:chExt cx="990360" cy="685800"/>
          </a:xfrm>
        </p:grpSpPr>
        <p:sp>
          <p:nvSpPr>
            <p:cNvPr id="217" name=""/>
            <p:cNvSpPr/>
            <p:nvPr/>
          </p:nvSpPr>
          <p:spPr>
            <a:xfrm>
              <a:off x="1676520" y="1676520"/>
              <a:ext cx="685800" cy="6858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8800" y="19051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ckwell Extra Bold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343400" y="1143000"/>
            <a:ext cx="2666880" cy="1676520"/>
            <a:chOff x="4343400" y="1143000"/>
            <a:chExt cx="2666880" cy="1676520"/>
          </a:xfrm>
        </p:grpSpPr>
        <p:sp>
          <p:nvSpPr>
            <p:cNvPr id="220" name=""/>
            <p:cNvSpPr/>
            <p:nvPr/>
          </p:nvSpPr>
          <p:spPr>
            <a:xfrm>
              <a:off x="5029200" y="1219320"/>
              <a:ext cx="44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34600" y="1143000"/>
              <a:ext cx="409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724280" y="1670040"/>
              <a:ext cx="527040" cy="4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3760" y="1676520"/>
              <a:ext cx="3812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343400" y="2133720"/>
              <a:ext cx="990360" cy="685800"/>
              <a:chOff x="4343400" y="2133720"/>
              <a:chExt cx="990360" cy="685800"/>
            </a:xfrm>
          </p:grpSpPr>
          <p:sp>
            <p:nvSpPr>
              <p:cNvPr id="225" name=""/>
              <p:cNvSpPr/>
              <p:nvPr/>
            </p:nvSpPr>
            <p:spPr>
              <a:xfrm>
                <a:off x="4343400" y="2133720"/>
                <a:ext cx="6858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495680" y="23623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Rockwell Extra Bold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333760" y="2133720"/>
              <a:ext cx="990360" cy="685800"/>
              <a:chOff x="5333760" y="2133720"/>
              <a:chExt cx="990360" cy="685800"/>
            </a:xfrm>
          </p:grpSpPr>
          <p:sp>
            <p:nvSpPr>
              <p:cNvPr id="228" name=""/>
              <p:cNvSpPr/>
              <p:nvPr/>
            </p:nvSpPr>
            <p:spPr>
              <a:xfrm>
                <a:off x="5333760" y="2133720"/>
                <a:ext cx="6858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86040" y="23623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Rockwell Extra Bold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17220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ij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365760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 of 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 of 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k-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505320" y="1219320"/>
            <a:ext cx="2666880" cy="1675800"/>
            <a:chOff x="3505320" y="1219320"/>
            <a:chExt cx="2666880" cy="1675800"/>
          </a:xfrm>
        </p:grpSpPr>
        <p:sp>
          <p:nvSpPr>
            <p:cNvPr id="234" name=""/>
            <p:cNvSpPr/>
            <p:nvPr/>
          </p:nvSpPr>
          <p:spPr>
            <a:xfrm>
              <a:off x="4191120" y="1295280"/>
              <a:ext cx="444240" cy="443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96520" y="1219320"/>
              <a:ext cx="409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886200" y="1746000"/>
              <a:ext cx="527040" cy="46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1752480"/>
              <a:ext cx="38124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505320" y="2209680"/>
              <a:ext cx="990360" cy="685440"/>
              <a:chOff x="3505320" y="2209680"/>
              <a:chExt cx="990360" cy="685440"/>
            </a:xfrm>
          </p:grpSpPr>
          <p:sp>
            <p:nvSpPr>
              <p:cNvPr id="239" name=""/>
              <p:cNvSpPr/>
              <p:nvPr/>
            </p:nvSpPr>
            <p:spPr>
              <a:xfrm>
                <a:off x="3505320" y="2209680"/>
                <a:ext cx="685800" cy="6854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57600" y="24379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Rockwell Extra Bold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95680" y="2209680"/>
              <a:ext cx="990360" cy="685440"/>
              <a:chOff x="4495680" y="2209680"/>
              <a:chExt cx="990360" cy="685440"/>
            </a:xfrm>
          </p:grpSpPr>
          <p:sp>
            <p:nvSpPr>
              <p:cNvPr id="242" name=""/>
              <p:cNvSpPr/>
              <p:nvPr/>
            </p:nvSpPr>
            <p:spPr>
              <a:xfrm>
                <a:off x="4495680" y="2209680"/>
                <a:ext cx="685800" cy="6854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47960" y="24379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Rockwell Extra Bold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5334120" y="175248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ij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32000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=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st(</a:t>
            </a:r>
            <a:r>
              <a:rPr b="0" lang="en-US" sz="3200" spc="-1" strike="noStrike">
                <a:solidFill>
                  <a:srgbClr val="ff0033"/>
                </a:solidFill>
                <a:latin typeface="Rockwell Extra Bold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=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min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 k &lt;= 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505320" y="1219320"/>
            <a:ext cx="2666880" cy="1675800"/>
            <a:chOff x="3505320" y="1219320"/>
            <a:chExt cx="2666880" cy="1675800"/>
          </a:xfrm>
        </p:grpSpPr>
        <p:sp>
          <p:nvSpPr>
            <p:cNvPr id="248" name=""/>
            <p:cNvSpPr/>
            <p:nvPr/>
          </p:nvSpPr>
          <p:spPr>
            <a:xfrm>
              <a:off x="4191120" y="1295280"/>
              <a:ext cx="444240" cy="443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96520" y="1219320"/>
              <a:ext cx="409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886200" y="1746000"/>
              <a:ext cx="527040" cy="46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95680" y="1752480"/>
              <a:ext cx="38124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3505320" y="2209680"/>
              <a:ext cx="990360" cy="685440"/>
              <a:chOff x="3505320" y="2209680"/>
              <a:chExt cx="990360" cy="685440"/>
            </a:xfrm>
          </p:grpSpPr>
          <p:sp>
            <p:nvSpPr>
              <p:cNvPr id="253" name=""/>
              <p:cNvSpPr/>
              <p:nvPr/>
            </p:nvSpPr>
            <p:spPr>
              <a:xfrm>
                <a:off x="3505320" y="2209680"/>
                <a:ext cx="685800" cy="6854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7600" y="24379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Rockwell Extra Bold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495680" y="2209680"/>
              <a:ext cx="990360" cy="685440"/>
              <a:chOff x="4495680" y="2209680"/>
              <a:chExt cx="990360" cy="685440"/>
            </a:xfrm>
          </p:grpSpPr>
          <p:sp>
            <p:nvSpPr>
              <p:cNvPr id="256" name=""/>
              <p:cNvSpPr/>
              <p:nvPr/>
            </p:nvSpPr>
            <p:spPr>
              <a:xfrm>
                <a:off x="4495680" y="2209680"/>
                <a:ext cx="685800" cy="6854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47960" y="24379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Rockwell Extra Bold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334120" y="175248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ij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32000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min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 k &lt;= 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inimizes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505320" y="1219320"/>
            <a:ext cx="2666880" cy="1675800"/>
            <a:chOff x="3505320" y="1219320"/>
            <a:chExt cx="2666880" cy="1675800"/>
          </a:xfrm>
        </p:grpSpPr>
        <p:sp>
          <p:nvSpPr>
            <p:cNvPr id="262" name=""/>
            <p:cNvSpPr/>
            <p:nvPr/>
          </p:nvSpPr>
          <p:spPr>
            <a:xfrm>
              <a:off x="4191120" y="1295280"/>
              <a:ext cx="444240" cy="443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96520" y="1219320"/>
              <a:ext cx="409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886200" y="1746000"/>
              <a:ext cx="527040" cy="46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95680" y="1752480"/>
              <a:ext cx="38124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505320" y="2209680"/>
              <a:ext cx="990360" cy="685440"/>
              <a:chOff x="3505320" y="2209680"/>
              <a:chExt cx="990360" cy="685440"/>
            </a:xfrm>
          </p:grpSpPr>
          <p:sp>
            <p:nvSpPr>
              <p:cNvPr id="267" name=""/>
              <p:cNvSpPr/>
              <p:nvPr/>
            </p:nvSpPr>
            <p:spPr>
              <a:xfrm>
                <a:off x="3505320" y="2209680"/>
                <a:ext cx="685800" cy="6854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57600" y="24379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Rockwell Extra Bold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495680" y="2209680"/>
              <a:ext cx="990360" cy="685440"/>
              <a:chOff x="4495680" y="2209680"/>
              <a:chExt cx="990360" cy="685440"/>
            </a:xfrm>
          </p:grpSpPr>
          <p:sp>
            <p:nvSpPr>
              <p:cNvPr id="270" name=""/>
              <p:cNvSpPr/>
              <p:nvPr/>
            </p:nvSpPr>
            <p:spPr>
              <a:xfrm>
                <a:off x="4495680" y="2209680"/>
                <a:ext cx="685800" cy="6854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47960" y="24379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Rockwell Extra Bold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5334120" y="175248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ation Of c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0n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d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0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i &lt;=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zero-key tre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min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 k &lt;= 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i &lt;= n –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ne-key tre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use the equation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i &lt;= n –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wo-key tre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use the equation 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i+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+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i &lt;= n – 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ree-key tre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unti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n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tree) have been comp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utation Of c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0n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d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0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971800" y="1974960"/>
            <a:ext cx="3200400" cy="3853800"/>
            <a:chOff x="2971800" y="1974960"/>
            <a:chExt cx="3200400" cy="3853800"/>
          </a:xfrm>
        </p:grpSpPr>
        <p:sp>
          <p:nvSpPr>
            <p:cNvPr id="277" name=""/>
            <p:cNvSpPr/>
            <p:nvPr/>
          </p:nvSpPr>
          <p:spPr>
            <a:xfrm>
              <a:off x="4038480" y="24382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4382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24382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10080" y="24382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95680" y="28954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52880" y="28954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28954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33526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0080" y="33526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38098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6200" y="5181480"/>
              <a:ext cx="228600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j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, r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ij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, i &lt;= 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32360" y="197496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89560" y="197496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46760" y="197496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3960" y="197496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28195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71800" y="33526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71800" y="38862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419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81280" y="24382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38480" y="28954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95680" y="33526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52880" y="38098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10080" y="426708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71800" y="23623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81280" y="19810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581280" y="2438280"/>
            <a:ext cx="2273400" cy="2273040"/>
            <a:chOff x="3581280" y="2438280"/>
            <a:chExt cx="2273400" cy="2273040"/>
          </a:xfrm>
        </p:grpSpPr>
        <p:sp>
          <p:nvSpPr>
            <p:cNvPr id="304" name=""/>
            <p:cNvSpPr/>
            <p:nvPr/>
          </p:nvSpPr>
          <p:spPr>
            <a:xfrm>
              <a:off x="4038480" y="24382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95680" y="24382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2880" y="24382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10080" y="24382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28954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52880" y="28954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10080" y="28954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52880" y="33526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0080" y="33526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10080" y="38098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81280" y="243828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289548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95680" y="335268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52880" y="380988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0080" y="426708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038480" y="2438280"/>
            <a:ext cx="1816200" cy="1815840"/>
            <a:chOff x="4038480" y="2438280"/>
            <a:chExt cx="1816200" cy="1815840"/>
          </a:xfrm>
        </p:grpSpPr>
        <p:sp>
          <p:nvSpPr>
            <p:cNvPr id="320" name=""/>
            <p:cNvSpPr/>
            <p:nvPr/>
          </p:nvSpPr>
          <p:spPr>
            <a:xfrm>
              <a:off x="4038480" y="2438280"/>
              <a:ext cx="444600" cy="444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24382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24382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10080" y="24382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5680" y="2895480"/>
              <a:ext cx="444600" cy="444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52880" y="28954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10080" y="28954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52880" y="3352680"/>
              <a:ext cx="444600" cy="444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10080" y="33526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0080" y="3809880"/>
              <a:ext cx="444600" cy="444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495680" y="2438280"/>
            <a:ext cx="1359000" cy="1358640"/>
            <a:chOff x="4495680" y="2438280"/>
            <a:chExt cx="1359000" cy="1358640"/>
          </a:xfrm>
        </p:grpSpPr>
        <p:sp>
          <p:nvSpPr>
            <p:cNvPr id="331" name=""/>
            <p:cNvSpPr/>
            <p:nvPr/>
          </p:nvSpPr>
          <p:spPr>
            <a:xfrm>
              <a:off x="4495680" y="2438280"/>
              <a:ext cx="444600" cy="4442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52880" y="24382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10080" y="24382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2880" y="2895480"/>
              <a:ext cx="444600" cy="4442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0080" y="28954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0080" y="3352680"/>
              <a:ext cx="444600" cy="4442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952880" y="2438280"/>
            <a:ext cx="901800" cy="901440"/>
            <a:chOff x="4952880" y="2438280"/>
            <a:chExt cx="901800" cy="901440"/>
          </a:xfrm>
        </p:grpSpPr>
        <p:sp>
          <p:nvSpPr>
            <p:cNvPr id="338" name=""/>
            <p:cNvSpPr/>
            <p:nvPr/>
          </p:nvSpPr>
          <p:spPr>
            <a:xfrm>
              <a:off x="4952880" y="2438280"/>
              <a:ext cx="444600" cy="4442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10080" y="2438280"/>
              <a:ext cx="444600" cy="444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0080" y="2895480"/>
              <a:ext cx="444600" cy="4442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410080" y="2438280"/>
            <a:ext cx="444600" cy="444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min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 k &lt;= 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to compute o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to comp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reduced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min 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ri,j-1 &lt; k &lt;= ri+1,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k-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}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struct T</a:t>
            </a:r>
            <a:r>
              <a:rPr b="0" lang="en-US" sz="4400" spc="-1" strike="noStrike" baseline="-25000">
                <a:solidFill>
                  <a:srgbClr val="000099"/>
                </a:solidFill>
                <a:latin typeface="Times New Roman"/>
              </a:rPr>
              <a:t>0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590920" y="2666880"/>
            <a:ext cx="3657600" cy="1791720"/>
            <a:chOff x="2590920" y="2666880"/>
            <a:chExt cx="3657600" cy="1791720"/>
          </a:xfrm>
        </p:grpSpPr>
        <p:sp>
          <p:nvSpPr>
            <p:cNvPr id="347" name=""/>
            <p:cNvSpPr/>
            <p:nvPr/>
          </p:nvSpPr>
          <p:spPr>
            <a:xfrm>
              <a:off x="3962520" y="2819520"/>
              <a:ext cx="44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74760" y="2743200"/>
              <a:ext cx="4975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657600" y="3270240"/>
              <a:ext cx="527040" cy="4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67080" y="3276720"/>
              <a:ext cx="3812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276720" y="3733920"/>
              <a:ext cx="990360" cy="685800"/>
              <a:chOff x="3276720" y="3733920"/>
              <a:chExt cx="990360" cy="685800"/>
            </a:xfrm>
          </p:grpSpPr>
          <p:sp>
            <p:nvSpPr>
              <p:cNvPr id="352" name=""/>
              <p:cNvSpPr/>
              <p:nvPr/>
            </p:nvSpPr>
            <p:spPr>
              <a:xfrm>
                <a:off x="3276720" y="3733920"/>
                <a:ext cx="6858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29000" y="3962520"/>
                <a:ext cx="8380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267080" y="3733920"/>
              <a:ext cx="990360" cy="685800"/>
              <a:chOff x="4267080" y="3733920"/>
              <a:chExt cx="990360" cy="685800"/>
            </a:xfrm>
          </p:grpSpPr>
          <p:sp>
            <p:nvSpPr>
              <p:cNvPr id="355" name=""/>
              <p:cNvSpPr/>
              <p:nvPr/>
            </p:nvSpPr>
            <p:spPr>
              <a:xfrm>
                <a:off x="4267080" y="3733920"/>
                <a:ext cx="6858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19360" y="3962520"/>
                <a:ext cx="8380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5029200" y="266688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0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920" y="37339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0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0552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10,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6858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0,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666880" y="1295280"/>
          <a:ext cx="3886200" cy="20703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pSp>
        <p:nvGrpSpPr>
          <p:cNvPr id="52" name=""/>
          <p:cNvGrpSpPr/>
          <p:nvPr/>
        </p:nvGrpSpPr>
        <p:grpSpPr>
          <a:xfrm>
            <a:off x="304920" y="3962520"/>
            <a:ext cx="1533240" cy="1358640"/>
            <a:chOff x="304920" y="3962520"/>
            <a:chExt cx="1533240" cy="1358640"/>
          </a:xfrm>
        </p:grpSpPr>
        <p:sp>
          <p:nvSpPr>
            <p:cNvPr id="53" name=""/>
            <p:cNvSpPr/>
            <p:nvPr/>
          </p:nvSpPr>
          <p:spPr>
            <a:xfrm>
              <a:off x="838080" y="396252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4876920"/>
              <a:ext cx="44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560" y="490068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91360" y="39862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33520" y="4413240"/>
              <a:ext cx="527040" cy="4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93920" y="4853160"/>
              <a:ext cx="44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47560" y="48769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3000" y="44197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09880" y="3581280"/>
            <a:ext cx="1447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&lt; b &lt;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867280"/>
            <a:ext cx="36576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0.8 * 2 + 0.1 * 1 + 0.1 *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400800" y="3505320"/>
            <a:ext cx="1838160" cy="1868400"/>
            <a:chOff x="6400800" y="3505320"/>
            <a:chExt cx="1838160" cy="1868400"/>
          </a:xfrm>
        </p:grpSpPr>
        <p:sp>
          <p:nvSpPr>
            <p:cNvPr id="64" name=""/>
            <p:cNvSpPr/>
            <p:nvPr/>
          </p:nvSpPr>
          <p:spPr>
            <a:xfrm>
              <a:off x="7162920" y="4114800"/>
              <a:ext cx="444240" cy="44460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3505320"/>
              <a:ext cx="444600" cy="444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54440" y="352908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15840" y="4138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6781320" y="3885840"/>
              <a:ext cx="4510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94720" y="4929120"/>
              <a:ext cx="444240" cy="44460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48360" y="495288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43800" y="44956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257800" y="5791320"/>
            <a:ext cx="3657600" cy="862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= 0.8 * 1 + 0.1 * 2 + 0.1 *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arch Typ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3428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a key that is in the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s at an internal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a key that is not in the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s at an external/failur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124080" y="1143000"/>
            <a:ext cx="2514600" cy="1964520"/>
            <a:chOff x="3124080" y="1143000"/>
            <a:chExt cx="2514600" cy="1964520"/>
          </a:xfrm>
        </p:grpSpPr>
        <p:sp>
          <p:nvSpPr>
            <p:cNvPr id="76" name=""/>
            <p:cNvSpPr/>
            <p:nvPr/>
          </p:nvSpPr>
          <p:spPr>
            <a:xfrm>
              <a:off x="3124080" y="2682720"/>
              <a:ext cx="38124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24080" y="26668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505320" y="1143000"/>
              <a:ext cx="1533240" cy="1358640"/>
              <a:chOff x="3505320" y="1143000"/>
              <a:chExt cx="1533240" cy="1358640"/>
            </a:xfrm>
          </p:grpSpPr>
          <p:sp>
            <p:nvSpPr>
              <p:cNvPr id="79" name=""/>
              <p:cNvSpPr/>
              <p:nvPr/>
            </p:nvSpPr>
            <p:spPr>
              <a:xfrm>
                <a:off x="4038480" y="1143000"/>
                <a:ext cx="444600" cy="444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5320" y="2057400"/>
                <a:ext cx="444240" cy="444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58960" y="208116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091760" y="1166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3733920" y="1593720"/>
                <a:ext cx="527040" cy="46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94320" y="2033640"/>
                <a:ext cx="444240" cy="444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647960" y="205740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43400" y="160020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flipH="1">
              <a:off x="335232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57164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620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5288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86200" y="2682720"/>
              <a:ext cx="38088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86200" y="26668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9720" y="2682720"/>
              <a:ext cx="38088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19720" y="26668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05520" y="2682720"/>
              <a:ext cx="38088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05520" y="26668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rnal And External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33526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tree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nal nodes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ternal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internal nodes, in in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ey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&lt; key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&lt; … &lt; key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key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= –infin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key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= infin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external nodes, in in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ached if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ey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 search key 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ey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124080" y="1143000"/>
            <a:ext cx="2514600" cy="1964520"/>
            <a:chOff x="3124080" y="1143000"/>
            <a:chExt cx="2514600" cy="1964520"/>
          </a:xfrm>
        </p:grpSpPr>
        <p:sp>
          <p:nvSpPr>
            <p:cNvPr id="100" name=""/>
            <p:cNvSpPr/>
            <p:nvPr/>
          </p:nvSpPr>
          <p:spPr>
            <a:xfrm>
              <a:off x="3124080" y="2682720"/>
              <a:ext cx="38124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24080" y="26668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505320" y="1143000"/>
              <a:ext cx="1533240" cy="1358640"/>
              <a:chOff x="3505320" y="1143000"/>
              <a:chExt cx="1533240" cy="1358640"/>
            </a:xfrm>
          </p:grpSpPr>
          <p:sp>
            <p:nvSpPr>
              <p:cNvPr id="103" name=""/>
              <p:cNvSpPr/>
              <p:nvPr/>
            </p:nvSpPr>
            <p:spPr>
              <a:xfrm>
                <a:off x="4038480" y="1143000"/>
                <a:ext cx="444600" cy="444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05320" y="2057400"/>
                <a:ext cx="444240" cy="444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58960" y="208116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091760" y="1166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3733920" y="1593720"/>
                <a:ext cx="527040" cy="46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94320" y="2033640"/>
                <a:ext cx="444240" cy="444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47960" y="205740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43400" y="160020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 flipH="1">
              <a:off x="335232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57164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8620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288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6200" y="2682720"/>
              <a:ext cx="38088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6200" y="26668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720" y="2682720"/>
              <a:ext cx="38088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19720" y="26668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05520" y="2682720"/>
              <a:ext cx="38088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26668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Of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bability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ey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bability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ey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 search key 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ey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tree =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0 &lt;= i &lt;= 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level(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– 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&lt;= i &lt;= 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*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vel(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ighted path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124080" y="1143000"/>
            <a:ext cx="2514600" cy="1964520"/>
            <a:chOff x="3124080" y="1143000"/>
            <a:chExt cx="2514600" cy="1964520"/>
          </a:xfrm>
        </p:grpSpPr>
        <p:sp>
          <p:nvSpPr>
            <p:cNvPr id="124" name=""/>
            <p:cNvSpPr/>
            <p:nvPr/>
          </p:nvSpPr>
          <p:spPr>
            <a:xfrm>
              <a:off x="3124080" y="2682720"/>
              <a:ext cx="38124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24080" y="26668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505320" y="1143000"/>
              <a:ext cx="1533240" cy="1358640"/>
              <a:chOff x="3505320" y="1143000"/>
              <a:chExt cx="1533240" cy="1358640"/>
            </a:xfrm>
          </p:grpSpPr>
          <p:sp>
            <p:nvSpPr>
              <p:cNvPr id="127" name=""/>
              <p:cNvSpPr/>
              <p:nvPr/>
            </p:nvSpPr>
            <p:spPr>
              <a:xfrm>
                <a:off x="4038480" y="1143000"/>
                <a:ext cx="444600" cy="444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5320" y="2057400"/>
                <a:ext cx="444240" cy="444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58960" y="208116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91760" y="1166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733920" y="1593720"/>
                <a:ext cx="527040" cy="46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94320" y="2033640"/>
                <a:ext cx="444240" cy="444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47960" y="2057400"/>
                <a:ext cx="297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3400" y="160020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>
              <a:off x="335232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57164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8620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52880" y="2438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2682720"/>
              <a:ext cx="38088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26668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2682720"/>
              <a:ext cx="38088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26668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520" y="2682720"/>
              <a:ext cx="38088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5520" y="26668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ute Force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all binary search tree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the weighted path length of 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ree with minimum weighted path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trees to examin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4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.5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te force approach is impractical for lar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…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st cost tre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st cost tre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666880" y="2666880"/>
            <a:ext cx="3733920" cy="3260160"/>
            <a:chOff x="2666880" y="2666880"/>
            <a:chExt cx="3733920" cy="3260160"/>
          </a:xfrm>
        </p:grpSpPr>
        <p:sp>
          <p:nvSpPr>
            <p:cNvPr id="150" name=""/>
            <p:cNvSpPr/>
            <p:nvPr/>
          </p:nvSpPr>
          <p:spPr>
            <a:xfrm>
              <a:off x="3809880" y="266688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76720" y="358128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4320" y="3605040"/>
              <a:ext cx="372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67480" y="2690640"/>
              <a:ext cx="372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05320" y="3117960"/>
              <a:ext cx="527040" cy="46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94320" y="3481560"/>
              <a:ext cx="44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51920" y="3505320"/>
              <a:ext cx="372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14800" y="312408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03800" y="4319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61400" y="4343400"/>
              <a:ext cx="372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2880" y="3886200"/>
              <a:ext cx="3812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32200" y="447192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9800" y="4495680"/>
              <a:ext cx="372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81280" y="4038480"/>
              <a:ext cx="3812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66880" y="4572000"/>
              <a:ext cx="381240" cy="38088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4572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819160" y="39625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400" y="5486400"/>
              <a:ext cx="380880" cy="38088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0400" y="54864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352680" y="4876920"/>
              <a:ext cx="5335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19720" y="4495680"/>
              <a:ext cx="38088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4495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571640" y="3886200"/>
              <a:ext cx="228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43400" y="5470560"/>
              <a:ext cx="380880" cy="38088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43400" y="547056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14800" y="493704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67280" y="5181480"/>
              <a:ext cx="381240" cy="38124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67280" y="51814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8680" y="4648320"/>
              <a:ext cx="3812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2880" y="5334120"/>
              <a:ext cx="381240" cy="38088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53341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160" y="4724280"/>
              <a:ext cx="2286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880" y="6019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3809880"/>
            <a:ext cx="106668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Ultra Bold"/>
              </a:rPr>
              <a:t>2,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st cost tre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s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= u &lt;= 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level(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– 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&lt; u &lt;= 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*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vel(s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o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igh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m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…+ 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… + 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 = j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05320" y="2666880"/>
            <a:ext cx="1904760" cy="516960"/>
            <a:chOff x="3505320" y="2666880"/>
            <a:chExt cx="1904760" cy="516960"/>
          </a:xfrm>
        </p:grpSpPr>
        <p:grpSp>
          <p:nvGrpSpPr>
            <p:cNvPr id="189" name=""/>
            <p:cNvGrpSpPr/>
            <p:nvPr/>
          </p:nvGrpSpPr>
          <p:grpSpPr>
            <a:xfrm>
              <a:off x="3505320" y="2743200"/>
              <a:ext cx="533160" cy="440640"/>
              <a:chOff x="3505320" y="2743200"/>
              <a:chExt cx="533160" cy="440640"/>
            </a:xfrm>
          </p:grpSpPr>
          <p:sp>
            <p:nvSpPr>
              <p:cNvPr id="190" name=""/>
              <p:cNvSpPr/>
              <p:nvPr/>
            </p:nvSpPr>
            <p:spPr>
              <a:xfrm>
                <a:off x="3505320" y="2743200"/>
                <a:ext cx="380520" cy="380880"/>
              </a:xfrm>
              <a:prstGeom prst="rect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05320" y="2743200"/>
                <a:ext cx="533160" cy="4406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724280" y="2666880"/>
              <a:ext cx="685800" cy="51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280" y="3276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s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o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igh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m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q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23:52Z</dcterms:modified>
  <cp:revision>307</cp:revision>
  <dc:subject/>
  <dc:title>Data Representation Methods</dc:title>
</cp:coreProperties>
</file>