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5D66-E954-4396-B411-4EE95EB646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arbitrary is useful in (for example) correspondence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make parent pointers in theNode’s children equal to nu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airwise combining of equal-degree trees. Child pointer from parent (if any) needs to be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p pointer is unchanged. Parent pointers of theNode’s children need to be set to null. Actual complexity is degree of the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Key(theNode,4). Possible update of min element pointer. Parent pointer set to null and child pointer from parent may need to be reset. Actual complexity is O(1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complexity of cascading cut is O(n), because now the tree height may be O(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ps to create a B2 (height = 3). Now do a decrease key to get a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eight (length) 3 and a B0. Do 2 inserts, a remove min,  and a decrease key to get a chain of height 4 and B0. We can increase height by 1 each time we do 2 inserts, a remove min, and a decrease key. So, height is O(n), where n is number of operations (or number of elements in tre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y linked list … remove arbitrary uses external pointers to nodes. So, we cannot copy an element from the next node as is done in the delete of an arbitrary node from a singularly linked circular list. Further, there is a parent pointer to a node. If you move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you must change the parent pointer from its children. This would take O(children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field needed for decreaseKey and cascading c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remove 4. If you copy the 5 over, there is an external pointer to 5’s former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lso a parent pointer from 9 to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C21-65E3-4DB7-9E50-5C3257CB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7F6-EEF5-44DC-A2B8-50B8F46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90D-A297-4DF7-B79F-8C3F4EE0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0AD-9FEF-4A03-9459-9F480E94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771-75BE-4705-8204-1AB665B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1B3-14B2-4A05-AEED-B26C59F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04-2ECC-45B4-8931-DAFBE99D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3B0-2470-4540-ABC3-9C20669E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952-804B-4255-B428-A7C48D26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A84-EDFF-4B0C-BD03-70D306A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8F2-F4EC-4247-8E08-C9B57FE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D1F-77F1-4198-828E-663F43C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51F-EDAA-403A-9036-35DC983F4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bonacci Hea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1833480"/>
          <a:ext cx="761976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33480"/>
                    <a:ext cx="761976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(theNod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 to an element other than the min el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its doubly linked sibling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ibling list becomes empty, make parent’s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of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hildren 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op-level list and children list of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do not pairwise combine equal degree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actual complex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um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r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(theNod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172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N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its doubly linked sibling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04920" y="685800"/>
            <a:ext cx="8689680" cy="5068800"/>
            <a:chOff x="304920" y="685800"/>
            <a:chExt cx="8689680" cy="5068800"/>
          </a:xfrm>
        </p:grpSpPr>
        <p:sp>
          <p:nvSpPr>
            <p:cNvPr id="228" name=""/>
            <p:cNvSpPr/>
            <p:nvPr/>
          </p:nvSpPr>
          <p:spPr>
            <a:xfrm>
              <a:off x="6111720" y="762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38680" y="18590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75560" y="1776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54520" y="297180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07800" y="2995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91960" y="1882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28480" y="18003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6500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1160" y="23097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861160" y="1090440"/>
              <a:ext cx="3045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46960" y="10904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5840" y="198108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2320" y="31305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98840" y="3048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78160" y="4243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31080" y="4267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524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5176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08760" y="2004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8444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84440" y="2438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6720" y="2362320"/>
              <a:ext cx="9144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5160" y="3100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4197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92360" y="4167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960" y="5310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0880" y="533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504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4528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8080" y="3124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84240" y="4648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060200" y="350532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93720" y="3505320"/>
              <a:ext cx="381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593360" y="2286000"/>
              <a:ext cx="7621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67080" y="3048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5640" y="30481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7080" y="190512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2320" y="1905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3048120"/>
              <a:ext cx="444240" cy="44424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21360" y="40845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74280" y="4108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5844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27640" y="3498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5680" y="23623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2286000"/>
              <a:ext cx="68580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571640" y="1066680"/>
              <a:ext cx="152388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666520" y="990720"/>
              <a:ext cx="342900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1676520" y="1295280"/>
              <a:ext cx="2666880" cy="60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920" y="1219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the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7467480" y="685800"/>
              <a:ext cx="444240" cy="444240"/>
              <a:chOff x="7467480" y="685800"/>
              <a:chExt cx="444240" cy="444240"/>
            </a:xfrm>
          </p:grpSpPr>
          <p:sp>
            <p:nvSpPr>
              <p:cNvPr id="278" name=""/>
              <p:cNvSpPr/>
              <p:nvPr/>
            </p:nvSpPr>
            <p:spPr>
              <a:xfrm>
                <a:off x="7467480" y="68580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20400" y="7095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8534520" y="76212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50360" y="1798560"/>
              <a:ext cx="44424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03280" y="1822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8744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56640" y="1212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(theNod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6172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op-level list and children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762120"/>
            <a:ext cx="8232480" cy="5068800"/>
            <a:chOff x="762120" y="762120"/>
            <a:chExt cx="8232480" cy="5068800"/>
          </a:xfrm>
        </p:grpSpPr>
        <p:sp>
          <p:nvSpPr>
            <p:cNvPr id="288" name=""/>
            <p:cNvSpPr/>
            <p:nvPr/>
          </p:nvSpPr>
          <p:spPr>
            <a:xfrm>
              <a:off x="6111720" y="762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8680" y="18590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75560" y="1776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4520" y="297180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07800" y="2995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91960" y="1882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8480" y="18003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500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61160" y="23097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1160" y="1090440"/>
              <a:ext cx="3045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46960" y="10904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55840" y="198108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2320" y="31305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98840" y="3048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78160" y="4243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1080" y="4267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1524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5176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08760" y="2004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8444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84440" y="2438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36720" y="2362320"/>
              <a:ext cx="9144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5160" y="3100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4197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167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960" y="5310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0880" y="533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504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4528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88080" y="3124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84240" y="4648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060200" y="350532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3720" y="3505320"/>
              <a:ext cx="381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593360" y="2286000"/>
              <a:ext cx="7621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97640" y="43498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6200" y="434988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97640" y="32068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72880" y="3206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36080" y="43498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51920" y="5386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04840" y="5410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90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58200" y="4800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6240" y="366408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78880" y="3587760"/>
              <a:ext cx="68580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666520" y="990720"/>
              <a:ext cx="342900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7543800" y="762120"/>
              <a:ext cx="444240" cy="444240"/>
              <a:chOff x="7543800" y="762120"/>
              <a:chExt cx="444240" cy="444240"/>
            </a:xfrm>
          </p:grpSpPr>
          <p:sp>
            <p:nvSpPr>
              <p:cNvPr id="335" name=""/>
              <p:cNvSpPr/>
              <p:nvPr/>
            </p:nvSpPr>
            <p:spPr>
              <a:xfrm>
                <a:off x="7543800" y="76212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96720" y="7858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8534520" y="76212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550360" y="1798560"/>
              <a:ext cx="44424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603280" y="1822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8744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56640" y="1212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(theNod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1720" y="76212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1859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75560" y="17762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54520" y="297180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07800" y="29955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91960" y="1882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28480" y="1800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65000" y="785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61160" y="2309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861160" y="109044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46960" y="109044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55840" y="198108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31305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98840" y="304812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78160" y="424332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31080" y="4267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15240" y="3154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51760" y="3071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08760" y="2004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84440" y="3581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84440" y="2438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36720" y="236232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35160" y="310032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41972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416736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7960" y="531036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0880" y="533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5040" y="4221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45280" y="4191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88080" y="3124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84240" y="4648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060200" y="35053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93720" y="3505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593360" y="2286000"/>
            <a:ext cx="7621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1040" y="84456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9600" y="84456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9480" y="84456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65320" y="1881360"/>
            <a:ext cx="44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8240" y="1905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02400" y="868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1295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666520" y="990720"/>
            <a:ext cx="342900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543800" y="762120"/>
            <a:ext cx="444240" cy="444240"/>
            <a:chOff x="7543800" y="762120"/>
            <a:chExt cx="444240" cy="444240"/>
          </a:xfrm>
        </p:grpSpPr>
        <p:sp>
          <p:nvSpPr>
            <p:cNvPr id="386" name=""/>
            <p:cNvSpPr/>
            <p:nvPr/>
          </p:nvSpPr>
          <p:spPr>
            <a:xfrm>
              <a:off x="7543800" y="7621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9672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534520" y="762120"/>
            <a:ext cx="444240" cy="44424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50360" y="1798560"/>
            <a:ext cx="444240" cy="4446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603280" y="1822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87440" y="785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56640" y="1212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reaseKey(theNode, theAmou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4843440"/>
            <a:ext cx="69343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N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a root and new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 key, remove subtree rooted 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its doubly linked sibling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into top-level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04920" y="685800"/>
            <a:ext cx="8689680" cy="5068800"/>
            <a:chOff x="304920" y="685800"/>
            <a:chExt cx="8689680" cy="5068800"/>
          </a:xfrm>
        </p:grpSpPr>
        <p:sp>
          <p:nvSpPr>
            <p:cNvPr id="396" name=""/>
            <p:cNvSpPr/>
            <p:nvPr/>
          </p:nvSpPr>
          <p:spPr>
            <a:xfrm>
              <a:off x="6111720" y="762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38680" y="18590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75560" y="1776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54520" y="297180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07800" y="2995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91960" y="1882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28480" y="18003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6500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61160" y="23097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61160" y="1090440"/>
              <a:ext cx="3045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46960" y="10904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55840" y="198108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31305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8840" y="3048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78160" y="4243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31080" y="4267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1524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5176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08760" y="2004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8444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84440" y="2438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36720" y="2362320"/>
              <a:ext cx="9144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35160" y="3100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4197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92360" y="4167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7960" y="5310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0880" y="533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504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528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88080" y="3124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84240" y="4648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060200" y="3505320"/>
              <a:ext cx="2286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93720" y="3505320"/>
              <a:ext cx="381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93360" y="2286000"/>
              <a:ext cx="7621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7080" y="304812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65640" y="30481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67080" y="190512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42320" y="1905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05520" y="3048120"/>
              <a:ext cx="444240" cy="44424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21360" y="40845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74280" y="4108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5844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7640" y="3498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95680" y="23623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48320" y="2286000"/>
              <a:ext cx="68580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1066680"/>
              <a:ext cx="152388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666520" y="990720"/>
              <a:ext cx="342900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1676520" y="1295280"/>
              <a:ext cx="2666880" cy="60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4920" y="1219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the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467480" y="685800"/>
              <a:ext cx="444240" cy="444240"/>
              <a:chOff x="7467480" y="685800"/>
              <a:chExt cx="444240" cy="444240"/>
            </a:xfrm>
          </p:grpSpPr>
          <p:sp>
            <p:nvSpPr>
              <p:cNvPr id="446" name=""/>
              <p:cNvSpPr/>
              <p:nvPr/>
            </p:nvSpPr>
            <p:spPr>
              <a:xfrm>
                <a:off x="7467480" y="68580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20400" y="7095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8534520" y="762120"/>
              <a:ext cx="444240" cy="4442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50360" y="1798560"/>
              <a:ext cx="444240" cy="444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3280" y="1822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8744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56640" y="1212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reaseKey(theNode, theAmou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175248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3480" y="17524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60948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160" y="6094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43000" y="1752480"/>
            <a:ext cx="444600" cy="444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58840" y="278928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1760" y="2813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95920" y="177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65120" y="22035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1066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990720"/>
            <a:ext cx="68580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219320" y="685800"/>
            <a:ext cx="6457320" cy="4992840"/>
            <a:chOff x="1219320" y="685800"/>
            <a:chExt cx="6457320" cy="4992840"/>
          </a:xfrm>
        </p:grpSpPr>
        <p:sp>
          <p:nvSpPr>
            <p:cNvPr id="466" name=""/>
            <p:cNvSpPr/>
            <p:nvPr/>
          </p:nvSpPr>
          <p:spPr>
            <a:xfrm>
              <a:off x="6568920" y="68580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5880" y="17827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32400" y="170028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11720" y="289584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64640" y="291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48800" y="1806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85320" y="1724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21840" y="709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18000" y="2233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318000" y="1014480"/>
              <a:ext cx="3045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03800" y="101448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13040" y="1905120"/>
              <a:ext cx="44388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19160" y="30542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56040" y="2971800"/>
              <a:ext cx="44388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35000" y="4167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8792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72080" y="30783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08960" y="2995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65960" y="1928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1640" y="3505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1640" y="2362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93920" y="2286000"/>
              <a:ext cx="9140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92000" y="302436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412128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9200" y="4091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34800" y="5234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87720" y="525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71880" y="4145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02120" y="4114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44920" y="3048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1440" y="4572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517400" y="3429000"/>
              <a:ext cx="228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0920" y="3429000"/>
              <a:ext cx="380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050920" y="2210040"/>
              <a:ext cx="76176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124080" y="914400"/>
              <a:ext cx="342864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467480" y="685800"/>
            <a:ext cx="444240" cy="444240"/>
            <a:chOff x="7467480" y="685800"/>
            <a:chExt cx="444240" cy="444240"/>
          </a:xfrm>
        </p:grpSpPr>
        <p:sp>
          <p:nvSpPr>
            <p:cNvPr id="502" name=""/>
            <p:cNvSpPr/>
            <p:nvPr/>
          </p:nvSpPr>
          <p:spPr>
            <a:xfrm>
              <a:off x="7467480" y="68580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20400" y="709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8534520" y="762120"/>
            <a:ext cx="444240" cy="44424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550360" y="1798560"/>
            <a:ext cx="444240" cy="4446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03280" y="1822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87440" y="785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756640" y="1212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cading C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ut out of its sibling list in a remove or decrease key operation, follow path from par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ntered nodes (other than root)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hildCut = tr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ut from their sibling lists and inserted into top-level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at first nod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hildCut = 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is node,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hildCut = 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cading Cut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04920" y="738360"/>
            <a:ext cx="4124160" cy="5725800"/>
            <a:chOff x="304920" y="738360"/>
            <a:chExt cx="4124160" cy="5725800"/>
          </a:xfrm>
        </p:grpSpPr>
        <p:sp>
          <p:nvSpPr>
            <p:cNvPr id="513" name=""/>
            <p:cNvSpPr/>
            <p:nvPr/>
          </p:nvSpPr>
          <p:spPr>
            <a:xfrm>
              <a:off x="1546200" y="73836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3840" y="16826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30360" y="160020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1640" y="25430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4920" y="25671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6760" y="1706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3280" y="1623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99120" y="762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9480" y="2133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85800" y="114300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1143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19520" y="167652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47960" y="257328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84480" y="2490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19520" y="342900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72440" y="3452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00880" y="2597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37760" y="2514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94760" y="1676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812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8120" y="2133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00400" y="20574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0800" y="25430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03480" y="33829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33720" y="335268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33720" y="42670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86640" y="4290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56400" y="34066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86640" y="3376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73720" y="25671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62320" y="38098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447920" y="28954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57400" y="29718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981080" y="2057400"/>
              <a:ext cx="9144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05120" y="1143000"/>
              <a:ext cx="10666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60680" y="513540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90920" y="510552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601992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3840" y="60436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13600" y="5159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43840" y="5129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19520" y="5562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905120" y="46483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38280" y="4648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294920" y="4495680"/>
              <a:ext cx="8384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4920" y="44956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the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28800" y="3352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09680" y="2514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76720" y="1600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733920" y="5867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key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cading Cut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46200" y="73836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3840" y="16826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30360" y="160020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1640" y="2543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4920" y="25671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6760" y="1706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83280" y="1623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99120" y="762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85800" y="114300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14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19520" y="167652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47960" y="257328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84480" y="2490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19520" y="3429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72440" y="34527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900880" y="2597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7760" y="2514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4760" y="1676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81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12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00400" y="2057400"/>
            <a:ext cx="7621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20800" y="2543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03480" y="338292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33720" y="33526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56400" y="3406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86640" y="3376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73720" y="25671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447920" y="28954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7400" y="2971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81080" y="20574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05120" y="114300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21360" y="762120"/>
            <a:ext cx="44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74280" y="785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16304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78560" y="16002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78560" y="25146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31480" y="2538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01240" y="1654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1480" y="1623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0716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892760" y="1143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25920" y="11430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3352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9680" y="2514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76720" y="1600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cading Cut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46200" y="73836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3840" y="16826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30360" y="160020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1640" y="2543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4920" y="25671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6760" y="1706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83280" y="1623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99120" y="762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85800" y="114300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2480" y="114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167652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47960" y="257328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84480" y="2490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3429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72440" y="34527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00880" y="2597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37760" y="2514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94760" y="1676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057400"/>
            <a:ext cx="7621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20800" y="2543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03480" y="338292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23120" y="81432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56400" y="3406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76040" y="838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73720" y="25671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447920" y="28954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981080" y="20574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114300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21360" y="762120"/>
            <a:ext cx="44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74280" y="785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48320" y="16304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78560" y="16002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78560" y="25146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1480" y="2538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701240" y="1654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31480" y="1623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0716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892760" y="1143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25920" y="11430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09680" y="2514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76720" y="1600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All Destinations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4400" y="1981080"/>
            <a:ext cx="7655040" cy="3430800"/>
            <a:chOff x="644400" y="1981080"/>
            <a:chExt cx="7655040" cy="3430800"/>
          </a:xfrm>
        </p:grpSpPr>
        <p:sp>
          <p:nvSpPr>
            <p:cNvPr id="53" name=""/>
            <p:cNvSpPr/>
            <p:nvPr/>
          </p:nvSpPr>
          <p:spPr>
            <a:xfrm>
              <a:off x="6934320" y="251460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581280" y="236196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2480" y="26668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01760" y="2444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55400" y="2422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01760" y="4044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540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305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84200" y="2422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54240" y="4044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0788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544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0808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9560" y="2139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320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54840" y="4044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0848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3880" y="28954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52480" y="426708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289548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676160" y="289548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2819520"/>
              <a:ext cx="12189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752480" y="3352320"/>
              <a:ext cx="289584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429000" y="3581280"/>
              <a:ext cx="1295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5320" y="42670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05520" y="3429000"/>
              <a:ext cx="2819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4400" y="2743200"/>
              <a:ext cx="7282080" cy="2668680"/>
            </a:xfrm>
            <a:custGeom>
              <a:avLst/>
              <a:gdLst/>
              <a:ahLst/>
              <a:rect l="l" t="t" r="r" b="b"/>
              <a:pathLst>
                <a:path w="4587" h="1681">
                  <a:moveTo>
                    <a:pt x="410" y="0"/>
                  </a:moveTo>
                  <a:lnTo>
                    <a:pt x="362" y="28"/>
                  </a:lnTo>
                  <a:lnTo>
                    <a:pt x="306" y="58"/>
                  </a:lnTo>
                  <a:lnTo>
                    <a:pt x="272" y="78"/>
                  </a:lnTo>
                  <a:lnTo>
                    <a:pt x="249" y="108"/>
                  </a:lnTo>
                  <a:lnTo>
                    <a:pt x="226" y="148"/>
                  </a:lnTo>
                  <a:lnTo>
                    <a:pt x="215" y="178"/>
                  </a:lnTo>
                  <a:lnTo>
                    <a:pt x="193" y="208"/>
                  </a:lnTo>
                  <a:lnTo>
                    <a:pt x="170" y="238"/>
                  </a:lnTo>
                  <a:lnTo>
                    <a:pt x="159" y="268"/>
                  </a:lnTo>
                  <a:lnTo>
                    <a:pt x="136" y="298"/>
                  </a:lnTo>
                  <a:lnTo>
                    <a:pt x="125" y="328"/>
                  </a:lnTo>
                  <a:lnTo>
                    <a:pt x="91" y="378"/>
                  </a:lnTo>
                  <a:lnTo>
                    <a:pt x="79" y="419"/>
                  </a:lnTo>
                  <a:lnTo>
                    <a:pt x="57" y="468"/>
                  </a:lnTo>
                  <a:lnTo>
                    <a:pt x="45" y="498"/>
                  </a:lnTo>
                  <a:lnTo>
                    <a:pt x="34" y="539"/>
                  </a:lnTo>
                  <a:lnTo>
                    <a:pt x="23" y="588"/>
                  </a:lnTo>
                  <a:lnTo>
                    <a:pt x="23" y="628"/>
                  </a:lnTo>
                  <a:lnTo>
                    <a:pt x="11" y="669"/>
                  </a:lnTo>
                  <a:lnTo>
                    <a:pt x="11" y="699"/>
                  </a:lnTo>
                  <a:lnTo>
                    <a:pt x="0" y="729"/>
                  </a:lnTo>
                  <a:lnTo>
                    <a:pt x="0" y="759"/>
                  </a:lnTo>
                  <a:lnTo>
                    <a:pt x="0" y="789"/>
                  </a:lnTo>
                  <a:lnTo>
                    <a:pt x="0" y="818"/>
                  </a:lnTo>
                  <a:lnTo>
                    <a:pt x="0" y="869"/>
                  </a:lnTo>
                  <a:lnTo>
                    <a:pt x="0" y="899"/>
                  </a:lnTo>
                  <a:lnTo>
                    <a:pt x="23" y="939"/>
                  </a:lnTo>
                  <a:lnTo>
                    <a:pt x="34" y="969"/>
                  </a:lnTo>
                  <a:lnTo>
                    <a:pt x="68" y="1029"/>
                  </a:lnTo>
                  <a:lnTo>
                    <a:pt x="79" y="1059"/>
                  </a:lnTo>
                  <a:lnTo>
                    <a:pt x="125" y="1109"/>
                  </a:lnTo>
                  <a:lnTo>
                    <a:pt x="159" y="1149"/>
                  </a:lnTo>
                  <a:lnTo>
                    <a:pt x="215" y="1179"/>
                  </a:lnTo>
                  <a:lnTo>
                    <a:pt x="283" y="1209"/>
                  </a:lnTo>
                  <a:lnTo>
                    <a:pt x="328" y="1229"/>
                  </a:lnTo>
                  <a:lnTo>
                    <a:pt x="385" y="1259"/>
                  </a:lnTo>
                  <a:lnTo>
                    <a:pt x="442" y="1279"/>
                  </a:lnTo>
                  <a:lnTo>
                    <a:pt x="532" y="1309"/>
                  </a:lnTo>
                  <a:lnTo>
                    <a:pt x="645" y="1339"/>
                  </a:lnTo>
                  <a:lnTo>
                    <a:pt x="747" y="1369"/>
                  </a:lnTo>
                  <a:lnTo>
                    <a:pt x="872" y="1399"/>
                  </a:lnTo>
                  <a:lnTo>
                    <a:pt x="974" y="1409"/>
                  </a:lnTo>
                  <a:lnTo>
                    <a:pt x="1076" y="1429"/>
                  </a:lnTo>
                  <a:lnTo>
                    <a:pt x="1200" y="1450"/>
                  </a:lnTo>
                  <a:lnTo>
                    <a:pt x="1348" y="1480"/>
                  </a:lnTo>
                  <a:lnTo>
                    <a:pt x="1517" y="1529"/>
                  </a:lnTo>
                  <a:lnTo>
                    <a:pt x="1676" y="1569"/>
                  </a:lnTo>
                  <a:lnTo>
                    <a:pt x="1789" y="1599"/>
                  </a:lnTo>
                  <a:lnTo>
                    <a:pt x="1914" y="1619"/>
                  </a:lnTo>
                  <a:lnTo>
                    <a:pt x="2061" y="1640"/>
                  </a:lnTo>
                  <a:lnTo>
                    <a:pt x="2231" y="1659"/>
                  </a:lnTo>
                  <a:lnTo>
                    <a:pt x="2401" y="1670"/>
                  </a:lnTo>
                  <a:lnTo>
                    <a:pt x="2548" y="1680"/>
                  </a:lnTo>
                  <a:lnTo>
                    <a:pt x="2638" y="1680"/>
                  </a:lnTo>
                  <a:lnTo>
                    <a:pt x="2706" y="1680"/>
                  </a:lnTo>
                  <a:lnTo>
                    <a:pt x="2797" y="1659"/>
                  </a:lnTo>
                  <a:lnTo>
                    <a:pt x="2910" y="1649"/>
                  </a:lnTo>
                  <a:lnTo>
                    <a:pt x="3035" y="1629"/>
                  </a:lnTo>
                  <a:lnTo>
                    <a:pt x="3159" y="1629"/>
                  </a:lnTo>
                  <a:lnTo>
                    <a:pt x="3250" y="1619"/>
                  </a:lnTo>
                  <a:lnTo>
                    <a:pt x="3295" y="1610"/>
                  </a:lnTo>
                  <a:lnTo>
                    <a:pt x="3329" y="1589"/>
                  </a:lnTo>
                  <a:lnTo>
                    <a:pt x="3374" y="1569"/>
                  </a:lnTo>
                  <a:lnTo>
                    <a:pt x="3408" y="1550"/>
                  </a:lnTo>
                  <a:lnTo>
                    <a:pt x="3454" y="1519"/>
                  </a:lnTo>
                  <a:lnTo>
                    <a:pt x="3499" y="1509"/>
                  </a:lnTo>
                  <a:lnTo>
                    <a:pt x="3556" y="1499"/>
                  </a:lnTo>
                  <a:lnTo>
                    <a:pt x="3601" y="1489"/>
                  </a:lnTo>
                  <a:lnTo>
                    <a:pt x="3646" y="1469"/>
                  </a:lnTo>
                  <a:lnTo>
                    <a:pt x="3726" y="1450"/>
                  </a:lnTo>
                  <a:lnTo>
                    <a:pt x="3793" y="1429"/>
                  </a:lnTo>
                  <a:lnTo>
                    <a:pt x="3827" y="1420"/>
                  </a:lnTo>
                  <a:lnTo>
                    <a:pt x="3873" y="1399"/>
                  </a:lnTo>
                  <a:lnTo>
                    <a:pt x="3907" y="1369"/>
                  </a:lnTo>
                  <a:lnTo>
                    <a:pt x="3952" y="1339"/>
                  </a:lnTo>
                  <a:lnTo>
                    <a:pt x="3986" y="1329"/>
                  </a:lnTo>
                  <a:lnTo>
                    <a:pt x="4020" y="1309"/>
                  </a:lnTo>
                  <a:lnTo>
                    <a:pt x="4054" y="1309"/>
                  </a:lnTo>
                  <a:lnTo>
                    <a:pt x="4099" y="1289"/>
                  </a:lnTo>
                  <a:lnTo>
                    <a:pt x="4145" y="1269"/>
                  </a:lnTo>
                  <a:lnTo>
                    <a:pt x="4178" y="1259"/>
                  </a:lnTo>
                  <a:lnTo>
                    <a:pt x="4224" y="1239"/>
                  </a:lnTo>
                  <a:lnTo>
                    <a:pt x="4269" y="1209"/>
                  </a:lnTo>
                  <a:lnTo>
                    <a:pt x="4314" y="1189"/>
                  </a:lnTo>
                  <a:lnTo>
                    <a:pt x="4360" y="1169"/>
                  </a:lnTo>
                  <a:lnTo>
                    <a:pt x="4405" y="1139"/>
                  </a:lnTo>
                  <a:lnTo>
                    <a:pt x="4450" y="1109"/>
                  </a:lnTo>
                  <a:lnTo>
                    <a:pt x="4484" y="1079"/>
                  </a:lnTo>
                  <a:lnTo>
                    <a:pt x="4518" y="1049"/>
                  </a:lnTo>
                  <a:lnTo>
                    <a:pt x="4552" y="1029"/>
                  </a:lnTo>
                  <a:lnTo>
                    <a:pt x="4575" y="999"/>
                  </a:lnTo>
                  <a:lnTo>
                    <a:pt x="4586" y="9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9320" y="3124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81080" y="281952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5480" y="30481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1981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31240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25909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487692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33920" y="3124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41911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41911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91520" y="2743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cading Cut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46200" y="73836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3840" y="16826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30360" y="160020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1640" y="2543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4920" y="25671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6760" y="1706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83280" y="1623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99120" y="762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85800" y="114300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52480" y="114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16765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47960" y="257328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84480" y="2490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429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2440" y="34527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00880" y="2597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7760" y="2514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94760" y="1676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4812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057400"/>
            <a:ext cx="7621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93000" y="79056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75680" y="16304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23120" y="81432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28600" y="1654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6040" y="8380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45920" y="814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620120" y="1143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05120" y="114300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21360" y="762120"/>
            <a:ext cx="44424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74280" y="7858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16304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78560" y="16002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78560" y="25146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631480" y="2538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01240" y="1654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631480" y="1623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0716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892760" y="1143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25920" y="11430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76720" y="16002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scading Cut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393840" y="738360"/>
            <a:ext cx="7943760" cy="3135240"/>
            <a:chOff x="393840" y="738360"/>
            <a:chExt cx="7943760" cy="3135240"/>
          </a:xfrm>
        </p:grpSpPr>
        <p:sp>
          <p:nvSpPr>
            <p:cNvPr id="700" name=""/>
            <p:cNvSpPr/>
            <p:nvPr/>
          </p:nvSpPr>
          <p:spPr>
            <a:xfrm>
              <a:off x="1546200" y="73836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3840" y="16826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160020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1640" y="25430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4920" y="25671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760" y="1706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83280" y="1623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99120" y="762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9480" y="2133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85800" y="114300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1143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19520" y="167652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47960" y="257328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84480" y="2490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19520" y="342900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72440" y="3452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00880" y="2597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37760" y="2514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94760" y="1676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48120" y="3048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48120" y="2133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00400" y="20574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93000" y="7905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5680" y="16304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3120" y="81432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28600" y="1654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76040" y="838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45920" y="81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620120" y="1143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05120" y="1143000"/>
              <a:ext cx="10666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121360" y="762120"/>
              <a:ext cx="44424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4280" y="785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48320" y="16304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78560" y="160020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78560" y="251460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31480" y="25383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01240" y="1654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31480" y="16239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07160" y="2057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892760" y="1143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25920" y="11430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76720" y="1600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52280" y="5410080"/>
            <a:ext cx="883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mplexity of cascading cut is O(h) = O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reedy Single Source All Destination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n as Dijkstra’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one edge extension of an already generated shortest path, the one edge extension ends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hortest path is to an as yet unreached vertex for which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s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next shortest path is generated, s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are updated (decreas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tions On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vertices in the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edges in the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log n + e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onacci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log n +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’s Min-Cost Spanning Tree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log n + e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onacci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log n +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Fibonacci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min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 trees need not be Binomial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, Child,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and Right Sib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circula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ou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ked list of sib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paren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 if node has lost a child since it became a child of its current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o false by remove min, which is the only operation that makes one node a child of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ined for a roo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324480" y="533520"/>
            <a:ext cx="2590920" cy="598680"/>
            <a:chOff x="6324480" y="533520"/>
            <a:chExt cx="2590920" cy="598680"/>
          </a:xfrm>
        </p:grpSpPr>
        <p:grpSp>
          <p:nvGrpSpPr>
            <p:cNvPr id="104" name=""/>
            <p:cNvGrpSpPr/>
            <p:nvPr/>
          </p:nvGrpSpPr>
          <p:grpSpPr>
            <a:xfrm>
              <a:off x="6324480" y="677520"/>
              <a:ext cx="298440" cy="454680"/>
              <a:chOff x="6324480" y="677520"/>
              <a:chExt cx="298440" cy="45468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4480" y="716400"/>
                <a:ext cx="183600" cy="1832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08080" y="716400"/>
                <a:ext cx="114840" cy="1832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46440" y="677520"/>
                <a:ext cx="186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897600" y="677520"/>
              <a:ext cx="298440" cy="454680"/>
              <a:chOff x="6897600" y="677520"/>
              <a:chExt cx="298440" cy="454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897600" y="716400"/>
                <a:ext cx="183600" cy="1832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81200" y="716400"/>
                <a:ext cx="114840" cy="1832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919560" y="677520"/>
                <a:ext cx="18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470720" y="677520"/>
              <a:ext cx="298440" cy="454680"/>
              <a:chOff x="7470720" y="677520"/>
              <a:chExt cx="298440" cy="454680"/>
            </a:xfrm>
          </p:grpSpPr>
          <p:sp>
            <p:nvSpPr>
              <p:cNvPr id="113" name=""/>
              <p:cNvSpPr/>
              <p:nvPr/>
            </p:nvSpPr>
            <p:spPr>
              <a:xfrm>
                <a:off x="7470720" y="716400"/>
                <a:ext cx="183600" cy="1832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54320" y="716400"/>
                <a:ext cx="114840" cy="1832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492680" y="677520"/>
                <a:ext cx="18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8043840" y="677520"/>
              <a:ext cx="298440" cy="454680"/>
              <a:chOff x="8043840" y="677520"/>
              <a:chExt cx="298440" cy="454680"/>
            </a:xfrm>
          </p:grpSpPr>
          <p:sp>
            <p:nvSpPr>
              <p:cNvPr id="117" name=""/>
              <p:cNvSpPr/>
              <p:nvPr/>
            </p:nvSpPr>
            <p:spPr>
              <a:xfrm>
                <a:off x="8043840" y="716400"/>
                <a:ext cx="183600" cy="1832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27440" y="716400"/>
                <a:ext cx="114840" cy="1832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65800" y="677520"/>
                <a:ext cx="18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8616960" y="677520"/>
              <a:ext cx="298440" cy="454680"/>
              <a:chOff x="8616960" y="677520"/>
              <a:chExt cx="298440" cy="454680"/>
            </a:xfrm>
          </p:grpSpPr>
          <p:sp>
            <p:nvSpPr>
              <p:cNvPr id="121" name=""/>
              <p:cNvSpPr/>
              <p:nvPr/>
            </p:nvSpPr>
            <p:spPr>
              <a:xfrm>
                <a:off x="8616960" y="716400"/>
                <a:ext cx="183600" cy="1832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00560" y="716400"/>
                <a:ext cx="114840" cy="1832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638920" y="677520"/>
                <a:ext cx="18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576840" y="828000"/>
              <a:ext cx="3207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9960" y="828000"/>
              <a:ext cx="3207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23080" y="828000"/>
              <a:ext cx="3207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96200" y="828000"/>
              <a:ext cx="32076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847000" y="533520"/>
              <a:ext cx="0" cy="29448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462360" y="533520"/>
              <a:ext cx="238428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62720" y="533520"/>
              <a:ext cx="0" cy="18180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bonacci Heap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0199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and ChildCut fields not sh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52280" y="457200"/>
            <a:ext cx="8991360" cy="5473800"/>
            <a:chOff x="152280" y="457200"/>
            <a:chExt cx="8991360" cy="5473800"/>
          </a:xfrm>
        </p:grpSpPr>
        <p:grpSp>
          <p:nvGrpSpPr>
            <p:cNvPr id="134" name=""/>
            <p:cNvGrpSpPr/>
            <p:nvPr/>
          </p:nvGrpSpPr>
          <p:grpSpPr>
            <a:xfrm>
              <a:off x="380880" y="1219320"/>
              <a:ext cx="7759800" cy="4452120"/>
              <a:chOff x="380880" y="1219320"/>
              <a:chExt cx="7759800" cy="44521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800600" y="4724280"/>
                <a:ext cx="444240" cy="444240"/>
                <a:chOff x="4800600" y="4724280"/>
                <a:chExt cx="444240" cy="4442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800600" y="47242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853520" y="47480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495680" y="1523880"/>
                <a:ext cx="444600" cy="444240"/>
                <a:chOff x="4495680" y="1523880"/>
                <a:chExt cx="444600" cy="44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95680" y="1523880"/>
                  <a:ext cx="444600" cy="4442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570920" y="152388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790960" y="3733560"/>
                <a:ext cx="460080" cy="1480680"/>
                <a:chOff x="5790960" y="3733560"/>
                <a:chExt cx="460080" cy="14806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790960" y="3733560"/>
                  <a:ext cx="444240" cy="44424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806800" y="4770000"/>
                  <a:ext cx="444240" cy="44424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859720" y="47937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43880" y="37569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13080" y="4184280"/>
                  <a:ext cx="0" cy="609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559560" y="1271520"/>
                <a:ext cx="1581120" cy="2653560"/>
                <a:chOff x="6559560" y="1271520"/>
                <a:chExt cx="1581120" cy="26535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032600" y="1271520"/>
                  <a:ext cx="444240" cy="4442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559560" y="2368080"/>
                  <a:ext cx="444240" cy="4442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96080" y="2285640"/>
                  <a:ext cx="444600" cy="44388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75400" y="3480840"/>
                  <a:ext cx="444240" cy="44424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628320" y="35046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612480" y="23918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749000" y="23094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085520" y="129492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81680" y="281880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6781320" y="1599840"/>
                  <a:ext cx="304920" cy="761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467480" y="1599840"/>
                  <a:ext cx="38088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504960" y="4190760"/>
                <a:ext cx="460440" cy="1480680"/>
                <a:chOff x="3504960" y="4190760"/>
                <a:chExt cx="460440" cy="1480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04960" y="4190760"/>
                  <a:ext cx="444600" cy="4442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520800" y="5227200"/>
                  <a:ext cx="444600" cy="4442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574080" y="52509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558240" y="42141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727440" y="4641480"/>
                  <a:ext cx="0" cy="609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80880" y="1219320"/>
                <a:ext cx="3181320" cy="3772800"/>
                <a:chOff x="380880" y="1219320"/>
                <a:chExt cx="3181320" cy="37728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974600" y="121932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81080" y="236844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17600" y="2286000"/>
                  <a:ext cx="444600" cy="44388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996920" y="348120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049840" y="35049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034000" y="23922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170880" y="23097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027880" y="124272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03200" y="281916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3200" y="167616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55840" y="1600200"/>
                  <a:ext cx="91440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3920" y="233820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80880" y="343512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11120" y="3405240"/>
                  <a:ext cx="444600" cy="44388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96720" y="4548240"/>
                  <a:ext cx="444600" cy="44388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49640" y="45720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33800" y="345888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64040" y="34290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906840" y="236196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3000" y="3886200"/>
                  <a:ext cx="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678960" y="2743200"/>
                  <a:ext cx="22860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212840" y="2743200"/>
                  <a:ext cx="380880" cy="68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1212840" y="1523880"/>
                  <a:ext cx="76176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2438280" y="1371600"/>
              <a:ext cx="2057400" cy="380880"/>
            </a:xfrm>
            <a:prstGeom prst="line">
              <a:avLst/>
            </a:prstGeom>
            <a:ln w="57240">
              <a:solidFill>
                <a:srgbClr val="ff00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657600" y="1981080"/>
              <a:ext cx="990720" cy="2210040"/>
            </a:xfrm>
            <a:prstGeom prst="line">
              <a:avLst/>
            </a:prstGeom>
            <a:ln w="57240">
              <a:solidFill>
                <a:srgbClr val="ff00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4572000"/>
              <a:ext cx="914400" cy="304920"/>
            </a:xfrm>
            <a:prstGeom prst="line">
              <a:avLst/>
            </a:prstGeom>
            <a:ln w="57240">
              <a:solidFill>
                <a:srgbClr val="ff00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029200" y="3962520"/>
              <a:ext cx="762120" cy="761760"/>
            </a:xfrm>
            <a:prstGeom prst="line">
              <a:avLst/>
            </a:prstGeom>
            <a:ln w="57240">
              <a:solidFill>
                <a:srgbClr val="ff00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095880" y="1676160"/>
              <a:ext cx="1143000" cy="2057400"/>
            </a:xfrm>
            <a:prstGeom prst="line">
              <a:avLst/>
            </a:prstGeom>
            <a:ln w="57240">
              <a:solidFill>
                <a:srgbClr val="ff00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438280" y="1371600"/>
              <a:ext cx="4648320" cy="0"/>
            </a:xfrm>
            <a:prstGeom prst="line">
              <a:avLst/>
            </a:prstGeom>
            <a:ln w="57240">
              <a:solidFill>
                <a:srgbClr val="ff00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2590920"/>
              <a:ext cx="685800" cy="0"/>
            </a:xfrm>
            <a:prstGeom prst="line">
              <a:avLst/>
            </a:prstGeom>
            <a:ln w="57240">
              <a:solidFill>
                <a:srgbClr val="ff00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2590920"/>
              <a:ext cx="685800" cy="0"/>
            </a:xfrm>
            <a:prstGeom prst="line">
              <a:avLst/>
            </a:prstGeom>
            <a:ln w="57240">
              <a:solidFill>
                <a:srgbClr val="ff00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2057400"/>
              <a:ext cx="3441960" cy="482760"/>
            </a:xfrm>
            <a:custGeom>
              <a:avLst/>
              <a:gdLst/>
              <a:ahLst/>
              <a:rect l="l" t="t" r="r" b="b"/>
              <a:pathLst>
                <a:path w="2168" h="304">
                  <a:moveTo>
                    <a:pt x="1896" y="304"/>
                  </a:moveTo>
                  <a:cubicBezTo>
                    <a:pt x="2032" y="208"/>
                    <a:pt x="2168" y="112"/>
                    <a:pt x="1896" y="64"/>
                  </a:cubicBezTo>
                  <a:cubicBezTo>
                    <a:pt x="1624" y="16"/>
                    <a:pt x="528" y="0"/>
                    <a:pt x="264" y="16"/>
                  </a:cubicBezTo>
                  <a:cubicBezTo>
                    <a:pt x="0" y="32"/>
                    <a:pt x="304" y="136"/>
                    <a:pt x="312" y="160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219320" y="1523880"/>
              <a:ext cx="761760" cy="8384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261120" y="1600200"/>
              <a:ext cx="2438280" cy="977760"/>
              <a:chOff x="6261120" y="1600200"/>
              <a:chExt cx="2438280" cy="9777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6261120" y="2006640"/>
                <a:ext cx="2438280" cy="571320"/>
                <a:chOff x="6261120" y="2006640"/>
                <a:chExt cx="2438280" cy="571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010280" y="2514600"/>
                  <a:ext cx="685800" cy="0"/>
                </a:xfrm>
                <a:prstGeom prst="line">
                  <a:avLst/>
                </a:prstGeom>
                <a:ln w="57240">
                  <a:solidFill>
                    <a:srgbClr val="66ff33"/>
                  </a:solidFill>
                  <a:prstDash val="sys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61120" y="2006640"/>
                  <a:ext cx="2438280" cy="571320"/>
                </a:xfrm>
                <a:custGeom>
                  <a:avLst/>
                  <a:gdLst/>
                  <a:ahLst/>
                  <a:rect l="l" t="t" r="r" b="b"/>
                  <a:pathLst>
                    <a:path w="1536" h="360">
                      <a:moveTo>
                        <a:pt x="1192" y="320"/>
                      </a:moveTo>
                      <a:cubicBezTo>
                        <a:pt x="1276" y="340"/>
                        <a:pt x="1360" y="360"/>
                        <a:pt x="1384" y="320"/>
                      </a:cubicBezTo>
                      <a:cubicBezTo>
                        <a:pt x="1408" y="280"/>
                        <a:pt x="1536" y="128"/>
                        <a:pt x="1336" y="80"/>
                      </a:cubicBezTo>
                      <a:cubicBezTo>
                        <a:pt x="1136" y="32"/>
                        <a:pt x="368" y="0"/>
                        <a:pt x="184" y="32"/>
                      </a:cubicBezTo>
                      <a:cubicBezTo>
                        <a:pt x="0" y="64"/>
                        <a:pt x="116" y="168"/>
                        <a:pt x="232" y="272"/>
                      </a:cubicBezTo>
                    </a:path>
                  </a:pathLst>
                </a:custGeom>
                <a:noFill/>
                <a:ln w="57240">
                  <a:solidFill>
                    <a:srgbClr val="66ff33"/>
                  </a:solidFill>
                  <a:prstDash val="sysDot"/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 flipH="1">
                <a:off x="6781320" y="1600200"/>
                <a:ext cx="304920" cy="761760"/>
              </a:xfrm>
              <a:prstGeom prst="line">
                <a:avLst/>
              </a:prstGeom>
              <a:ln w="57240">
                <a:solidFill>
                  <a:srgbClr val="66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263760" y="5423040"/>
              <a:ext cx="1092240" cy="507960"/>
            </a:xfrm>
            <a:custGeom>
              <a:avLst/>
              <a:gdLst/>
              <a:ahLst/>
              <a:rect l="l" t="t" r="r" b="b"/>
              <a:pathLst>
                <a:path w="688" h="320">
                  <a:moveTo>
                    <a:pt x="440" y="40"/>
                  </a:moveTo>
                  <a:cubicBezTo>
                    <a:pt x="556" y="20"/>
                    <a:pt x="672" y="0"/>
                    <a:pt x="680" y="40"/>
                  </a:cubicBezTo>
                  <a:cubicBezTo>
                    <a:pt x="688" y="80"/>
                    <a:pt x="592" y="240"/>
                    <a:pt x="488" y="280"/>
                  </a:cubicBezTo>
                  <a:cubicBezTo>
                    <a:pt x="384" y="320"/>
                    <a:pt x="112" y="320"/>
                    <a:pt x="56" y="280"/>
                  </a:cubicBezTo>
                  <a:cubicBezTo>
                    <a:pt x="0" y="240"/>
                    <a:pt x="76" y="140"/>
                    <a:pt x="152" y="4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3920" y="4648320"/>
              <a:ext cx="0" cy="6094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24480" y="3670200"/>
              <a:ext cx="1092240" cy="507960"/>
            </a:xfrm>
            <a:custGeom>
              <a:avLst/>
              <a:gdLst/>
              <a:ahLst/>
              <a:rect l="l" t="t" r="r" b="b"/>
              <a:pathLst>
                <a:path w="688" h="320">
                  <a:moveTo>
                    <a:pt x="440" y="40"/>
                  </a:moveTo>
                  <a:cubicBezTo>
                    <a:pt x="556" y="20"/>
                    <a:pt x="672" y="0"/>
                    <a:pt x="680" y="40"/>
                  </a:cubicBezTo>
                  <a:cubicBezTo>
                    <a:pt x="688" y="80"/>
                    <a:pt x="592" y="240"/>
                    <a:pt x="488" y="280"/>
                  </a:cubicBezTo>
                  <a:cubicBezTo>
                    <a:pt x="384" y="320"/>
                    <a:pt x="112" y="320"/>
                    <a:pt x="56" y="280"/>
                  </a:cubicBezTo>
                  <a:cubicBezTo>
                    <a:pt x="0" y="240"/>
                    <a:pt x="76" y="140"/>
                    <a:pt x="152" y="40"/>
                  </a:cubicBezTo>
                </a:path>
              </a:pathLst>
            </a:custGeom>
            <a:noFill/>
            <a:ln w="57240">
              <a:solidFill>
                <a:srgbClr val="66ff3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1680" y="2819520"/>
              <a:ext cx="12960" cy="68580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37160" y="4965840"/>
              <a:ext cx="1092240" cy="507960"/>
            </a:xfrm>
            <a:custGeom>
              <a:avLst/>
              <a:gdLst/>
              <a:ahLst/>
              <a:rect l="l" t="t" r="r" b="b"/>
              <a:pathLst>
                <a:path w="688" h="320">
                  <a:moveTo>
                    <a:pt x="440" y="40"/>
                  </a:moveTo>
                  <a:cubicBezTo>
                    <a:pt x="556" y="20"/>
                    <a:pt x="672" y="0"/>
                    <a:pt x="680" y="40"/>
                  </a:cubicBezTo>
                  <a:cubicBezTo>
                    <a:pt x="688" y="80"/>
                    <a:pt x="592" y="240"/>
                    <a:pt x="488" y="280"/>
                  </a:cubicBezTo>
                  <a:cubicBezTo>
                    <a:pt x="384" y="320"/>
                    <a:pt x="112" y="320"/>
                    <a:pt x="56" y="280"/>
                  </a:cubicBezTo>
                  <a:cubicBezTo>
                    <a:pt x="0" y="240"/>
                    <a:pt x="76" y="140"/>
                    <a:pt x="152" y="40"/>
                  </a:cubicBezTo>
                </a:path>
              </a:pathLst>
            </a:custGeom>
            <a:noFill/>
            <a:ln w="57240">
              <a:solidFill>
                <a:srgbClr val="ff003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6960" y="4191120"/>
              <a:ext cx="0" cy="60948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280" y="4749840"/>
              <a:ext cx="1092240" cy="507960"/>
            </a:xfrm>
            <a:custGeom>
              <a:avLst/>
              <a:gdLst/>
              <a:ahLst/>
              <a:rect l="l" t="t" r="r" b="b"/>
              <a:pathLst>
                <a:path w="688" h="320">
                  <a:moveTo>
                    <a:pt x="440" y="40"/>
                  </a:moveTo>
                  <a:cubicBezTo>
                    <a:pt x="556" y="20"/>
                    <a:pt x="672" y="0"/>
                    <a:pt x="680" y="40"/>
                  </a:cubicBezTo>
                  <a:cubicBezTo>
                    <a:pt x="688" y="80"/>
                    <a:pt x="592" y="240"/>
                    <a:pt x="488" y="280"/>
                  </a:cubicBezTo>
                  <a:cubicBezTo>
                    <a:pt x="384" y="320"/>
                    <a:pt x="112" y="320"/>
                    <a:pt x="56" y="280"/>
                  </a:cubicBezTo>
                  <a:cubicBezTo>
                    <a:pt x="0" y="240"/>
                    <a:pt x="76" y="140"/>
                    <a:pt x="152" y="40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9480" y="3886200"/>
              <a:ext cx="0" cy="685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52280" y="3149640"/>
              <a:ext cx="1905120" cy="583920"/>
              <a:chOff x="152280" y="3149640"/>
              <a:chExt cx="1905120" cy="583920"/>
            </a:xfrm>
          </p:grpSpPr>
          <p:sp>
            <p:nvSpPr>
              <p:cNvPr id="213" name=""/>
              <p:cNvSpPr/>
              <p:nvPr/>
            </p:nvSpPr>
            <p:spPr>
              <a:xfrm>
                <a:off x="737640" y="3668760"/>
                <a:ext cx="5356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280" y="3149640"/>
                <a:ext cx="1905120" cy="583920"/>
              </a:xfrm>
              <a:custGeom>
                <a:avLst/>
                <a:gdLst/>
                <a:ahLst/>
                <a:rect l="l" t="t" r="r" b="b"/>
                <a:pathLst>
                  <a:path w="1536" h="360">
                    <a:moveTo>
                      <a:pt x="1192" y="320"/>
                    </a:moveTo>
                    <a:cubicBezTo>
                      <a:pt x="1276" y="340"/>
                      <a:pt x="1360" y="360"/>
                      <a:pt x="1384" y="320"/>
                    </a:cubicBezTo>
                    <a:cubicBezTo>
                      <a:pt x="1408" y="280"/>
                      <a:pt x="1536" y="128"/>
                      <a:pt x="1336" y="80"/>
                    </a:cubicBezTo>
                    <a:cubicBezTo>
                      <a:pt x="1136" y="32"/>
                      <a:pt x="368" y="0"/>
                      <a:pt x="184" y="32"/>
                    </a:cubicBezTo>
                    <a:cubicBezTo>
                      <a:pt x="0" y="64"/>
                      <a:pt x="116" y="168"/>
                      <a:pt x="232" y="272"/>
                    </a:cubicBezTo>
                  </a:path>
                </a:pathLst>
              </a:custGeom>
              <a:noFill/>
              <a:ln w="57240">
                <a:solidFill>
                  <a:srgbClr val="ff00ff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H="1">
              <a:off x="685800" y="2743200"/>
              <a:ext cx="272880" cy="7621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3670200"/>
              <a:ext cx="1092240" cy="507960"/>
            </a:xfrm>
            <a:custGeom>
              <a:avLst/>
              <a:gdLst/>
              <a:ahLst/>
              <a:rect l="l" t="t" r="r" b="b"/>
              <a:pathLst>
                <a:path w="688" h="320">
                  <a:moveTo>
                    <a:pt x="440" y="40"/>
                  </a:moveTo>
                  <a:cubicBezTo>
                    <a:pt x="556" y="20"/>
                    <a:pt x="672" y="0"/>
                    <a:pt x="680" y="40"/>
                  </a:cubicBezTo>
                  <a:cubicBezTo>
                    <a:pt x="688" y="80"/>
                    <a:pt x="592" y="240"/>
                    <a:pt x="488" y="280"/>
                  </a:cubicBezTo>
                  <a:cubicBezTo>
                    <a:pt x="384" y="320"/>
                    <a:pt x="112" y="320"/>
                    <a:pt x="56" y="280"/>
                  </a:cubicBezTo>
                  <a:cubicBezTo>
                    <a:pt x="0" y="240"/>
                    <a:pt x="76" y="140"/>
                    <a:pt x="152" y="40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2819520"/>
              <a:ext cx="0" cy="685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391520" y="457200"/>
              <a:ext cx="1752120" cy="838080"/>
              <a:chOff x="7391520" y="457200"/>
              <a:chExt cx="1752120" cy="83808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7391520" y="457200"/>
                <a:ext cx="1295280" cy="83808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229600" y="685800"/>
                <a:ext cx="91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(theNod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N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o the Fibonacci heap node that contains the element that is to be de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ints to min elemen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delete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complexity is the same as that for delete m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06:22Z</dcterms:modified>
  <cp:revision>303</cp:revision>
  <dc:subject/>
  <dc:title>Data Representation Methods</dc:title>
</cp:coreProperties>
</file>