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8CEC-F651-4D60-85A0-9B5A366EAF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in-tree root has a credit of 1 to pay for its future pairwise comb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is degree of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quals number of credits. Initially number of credits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in-tree root has a credit of 1 to pay for its future pairwise combine. Potential equals number of cred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ED5-7A8D-4E8A-AB12-8C21CB9A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209-E6A1-4C54-8DC8-59D5C868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852-5518-47E8-9B15-A3648F21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E2B-1C27-4093-8CCC-3178B9F1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EFD-0291-4540-AC41-64331402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595-1251-466B-9458-16D5FD9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104-7373-4BE2-8570-2F9654C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799-ED4B-407E-9CBD-9256D7D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806-A422-4067-8F4A-2BA88CB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A9E-DF47-44BA-B974-6A15AB4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973-5107-4EAE-8BB4-8671FF4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2FE-2760-444C-B57E-A9DD72D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777-5B29-4809-B396-07D16136D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alysis Of Binomial Hea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95440" y="1893960"/>
          <a:ext cx="7524720" cy="44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893960"/>
                    <a:ext cx="752472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ed amortized co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 to pay for the actual cost of the m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s unchanged, because actual and amortized costs are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248520" y="152280"/>
            <a:ext cx="2341080" cy="1371240"/>
            <a:chOff x="6248520" y="152280"/>
            <a:chExt cx="2341080" cy="1371240"/>
          </a:xfrm>
        </p:grpSpPr>
        <p:sp>
          <p:nvSpPr>
            <p:cNvPr id="155" name=""/>
            <p:cNvSpPr/>
            <p:nvPr/>
          </p:nvSpPr>
          <p:spPr>
            <a:xfrm>
              <a:off x="7581600" y="1232640"/>
              <a:ext cx="133560" cy="136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90160" y="247320"/>
              <a:ext cx="133560" cy="136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80760" y="92700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86160" y="124668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47360" y="106488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5520" y="16884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12960" y="50544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56040" y="48060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18360" y="84816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7992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179560" y="270000"/>
              <a:ext cx="9108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7640" y="270000"/>
              <a:ext cx="11448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1000" y="1067400"/>
              <a:ext cx="133560" cy="136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6760" y="1387440"/>
              <a:ext cx="133560" cy="136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57960" y="120564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8760" y="15228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0200" y="505440"/>
              <a:ext cx="13500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73280" y="48060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5600" y="848160"/>
              <a:ext cx="13356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9896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98960" y="292680"/>
              <a:ext cx="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4680" y="270000"/>
              <a:ext cx="27576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0720" y="49716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83592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29680" y="82584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53560" y="1176840"/>
              <a:ext cx="133560" cy="137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15120" y="97416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338160" y="621000"/>
              <a:ext cx="6840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99800" y="621000"/>
              <a:ext cx="1144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499800" y="247320"/>
              <a:ext cx="22896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inTre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set of min trees in the binomial heap just before delet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degree of min tree whose roo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min trees in binomial heap just before pairwise comb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 = #MinTrees + u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delete mi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&lt;= MaxDegree 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&lt;= 2log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–1+ #MinTr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248520" y="152280"/>
            <a:ext cx="2341080" cy="1371240"/>
            <a:chOff x="6248520" y="152280"/>
            <a:chExt cx="2341080" cy="1371240"/>
          </a:xfrm>
        </p:grpSpPr>
        <p:sp>
          <p:nvSpPr>
            <p:cNvPr id="188" name=""/>
            <p:cNvSpPr/>
            <p:nvPr/>
          </p:nvSpPr>
          <p:spPr>
            <a:xfrm>
              <a:off x="7581600" y="1232640"/>
              <a:ext cx="133560" cy="136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90160" y="247320"/>
              <a:ext cx="133560" cy="136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0760" y="92700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6160" y="124668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47360" y="106488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55520" y="16884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12960" y="50544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6040" y="48060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18360" y="84816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992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179560" y="270000"/>
              <a:ext cx="9108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7640" y="270000"/>
              <a:ext cx="11448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000" y="1067400"/>
              <a:ext cx="133560" cy="136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96760" y="1387440"/>
              <a:ext cx="133560" cy="136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57960" y="120564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8760" y="15228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0200" y="505440"/>
              <a:ext cx="13500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73280" y="48060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5600" y="848160"/>
              <a:ext cx="13356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9896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98960" y="292680"/>
              <a:ext cx="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4680" y="270000"/>
              <a:ext cx="27576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90720" y="49716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83592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29680" y="82584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53560" y="1176840"/>
              <a:ext cx="133560" cy="137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15120" y="97416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38160" y="621000"/>
              <a:ext cx="6840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99800" y="621000"/>
              <a:ext cx="1144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99800" y="247320"/>
              <a:ext cx="22896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ed amortized cos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3log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&lt;= 2log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– 1 + #MinTr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amortized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– 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y part of actual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remaining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+ 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redit to pay part of the actual cost of a future delete mi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of credit on each of the at mo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+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 trees left behind by the delete mi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ard the remaining credits (if an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48520" y="152280"/>
            <a:ext cx="2341080" cy="1371240"/>
            <a:chOff x="6248520" y="152280"/>
            <a:chExt cx="2341080" cy="1371240"/>
          </a:xfrm>
        </p:grpSpPr>
        <p:sp>
          <p:nvSpPr>
            <p:cNvPr id="221" name=""/>
            <p:cNvSpPr/>
            <p:nvPr/>
          </p:nvSpPr>
          <p:spPr>
            <a:xfrm>
              <a:off x="7581600" y="1232640"/>
              <a:ext cx="133560" cy="136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90160" y="247320"/>
              <a:ext cx="133560" cy="136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80760" y="92700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6160" y="124668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47360" y="106488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5520" y="16884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2960" y="50544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56040" y="48060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18360" y="84816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7992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179560" y="270000"/>
              <a:ext cx="9108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7640" y="270000"/>
              <a:ext cx="11448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91000" y="1067400"/>
              <a:ext cx="133560" cy="136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6760" y="1387440"/>
              <a:ext cx="133560" cy="136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7960" y="120564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8760" y="15228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30200" y="505440"/>
              <a:ext cx="13500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73280" y="48060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5600" y="848160"/>
              <a:ext cx="13356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896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8960" y="292680"/>
              <a:ext cx="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44680" y="270000"/>
              <a:ext cx="27576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90720" y="49716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8520" y="83592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9680" y="82584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53560" y="1176840"/>
              <a:ext cx="133560" cy="137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97416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338160" y="621000"/>
              <a:ext cx="6840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99800" y="621000"/>
              <a:ext cx="1144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499800" y="247320"/>
              <a:ext cx="22896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aying Actual Cost Of A Delete Mi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&lt;= 2log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 – 1  + #Mi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it pai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–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s from amortized cost of this delete mi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#MinTr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s from the min trees themselves, at the rate of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 per min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remains nonnegative, because there are enough credits to pay the balance of the actual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a suitable potential function for which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– P(0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 amortized cost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operation using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 = P(i) – P(i –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amortized cost – actu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mortized cost 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=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MinTrees(j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#MinTrees(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#MinTre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binomial heap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inomial heap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melded,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 longer included in the s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0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&gt;= 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operation is an ins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cost of inse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  = P(i) – P(i – 1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rtized cost of inse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actual cost +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 Operation Is A Mel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mel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=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MinTrees(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 = P(i) – P(i – 1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rtized cost of mel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 Operation Is A 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just before the delete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just after the delet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MinTrees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ol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j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MinTr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binomial heap just before this delet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delete min is done i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binomial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 Operation Is A 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cost of delete m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binomial heap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&lt;= 2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– 1  + 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  = P(i) – P(i – 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j) – 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j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k) – 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ld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rtized cost of delet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n = actual cost +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&lt;= 2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 – 1 + #MinTrees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(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&lt;= 3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min tree to top-level circular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wo circula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wise combine min trees whose roots have equal de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(MaxDegree + 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min trees following removal of min element but before pairwise comb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omial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9907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k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w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se is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280" y="1951200"/>
            <a:ext cx="8915400" cy="4899960"/>
            <a:chOff x="152280" y="1951200"/>
            <a:chExt cx="8915400" cy="4899960"/>
          </a:xfrm>
        </p:grpSpPr>
        <p:sp>
          <p:nvSpPr>
            <p:cNvPr id="56" name=""/>
            <p:cNvSpPr/>
            <p:nvPr/>
          </p:nvSpPr>
          <p:spPr>
            <a:xfrm>
              <a:off x="1994040" y="2316240"/>
              <a:ext cx="44424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09880" y="3352680"/>
              <a:ext cx="444240" cy="444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63880" y="33764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8040" y="23400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16160" y="27669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4040" y="6202440"/>
              <a:ext cx="761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Rockwell Extra Bold"/>
                </a:rPr>
                <a:t>B</a:t>
              </a:r>
              <a:r>
                <a:rPr b="0" lang="en-US" sz="3200" spc="-1" strike="noStrike" baseline="-25000">
                  <a:solidFill>
                    <a:srgbClr val="00ffff"/>
                  </a:solidFill>
                  <a:latin typeface="Rockwell Extra Bold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14640" y="2239920"/>
              <a:ext cx="444600" cy="44460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41600" y="3336840"/>
              <a:ext cx="444600" cy="44460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8480" y="3254400"/>
              <a:ext cx="444240" cy="44460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57440" y="4449600"/>
              <a:ext cx="444600" cy="44460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11440" y="447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5600" y="3360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2480" y="32781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8640" y="22636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4080" y="3787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664080" y="2568600"/>
              <a:ext cx="3045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9880" y="256860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22840" y="6126120"/>
              <a:ext cx="761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9933"/>
                  </a:solidFill>
                  <a:latin typeface="Rockwell Extra Bold"/>
                </a:rPr>
                <a:t>B</a:t>
              </a:r>
              <a:r>
                <a:rPr b="0" lang="en-US" sz="3200" spc="-1" strike="noStrike" baseline="-25000">
                  <a:solidFill>
                    <a:srgbClr val="339933"/>
                  </a:solidFill>
                  <a:latin typeface="Rockwell Extra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499000" y="2316240"/>
              <a:ext cx="3181320" cy="4534920"/>
              <a:chOff x="5499000" y="2316240"/>
              <a:chExt cx="3181320" cy="45349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99000" y="2316240"/>
                <a:ext cx="3181320" cy="3773520"/>
                <a:chOff x="5499000" y="2316240"/>
                <a:chExt cx="3181320" cy="377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092720" y="231624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099200" y="346572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235720" y="338328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115040" y="457848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169040" y="460224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153200" y="3489480"/>
                  <a:ext cx="1839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89720" y="340704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234000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321320" y="391644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21320" y="277344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473960" y="2697480"/>
                  <a:ext cx="91440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972040" y="343548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499000" y="4532400"/>
                  <a:ext cx="444600" cy="4446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429240" y="450252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514840" y="5645520"/>
                  <a:ext cx="444600" cy="44424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8840" y="56692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53000" y="4556160"/>
                  <a:ext cx="1839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483240" y="45262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026040" y="345924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721120" y="498348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5797080" y="3840480"/>
                  <a:ext cx="22860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30960" y="38404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6330960" y="2621160"/>
                  <a:ext cx="76176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175160" y="6202440"/>
                <a:ext cx="838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Rockwell Extra Bold"/>
                  </a:rPr>
                  <a:t>B</a:t>
                </a:r>
                <a:r>
                  <a:rPr b="0" lang="en-US" sz="3200" spc="-1" strike="noStrike" baseline="-25000">
                    <a:solidFill>
                      <a:srgbClr val="ff00ff"/>
                    </a:solidFill>
                    <a:latin typeface="Rockwell Extra Bol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633680" y="2174760"/>
              <a:ext cx="1265040" cy="787680"/>
            </a:xfrm>
            <a:custGeom>
              <a:avLst/>
              <a:gdLst/>
              <a:ahLst/>
              <a:rect l="l" t="t" r="r" b="b"/>
              <a:pathLst>
                <a:path w="797" h="496">
                  <a:moveTo>
                    <a:pt x="726" y="35"/>
                  </a:moveTo>
                  <a:cubicBezTo>
                    <a:pt x="603" y="10"/>
                    <a:pt x="479" y="9"/>
                    <a:pt x="354" y="0"/>
                  </a:cubicBezTo>
                  <a:cubicBezTo>
                    <a:pt x="258" y="25"/>
                    <a:pt x="159" y="8"/>
                    <a:pt x="62" y="35"/>
                  </a:cubicBezTo>
                  <a:cubicBezTo>
                    <a:pt x="53" y="41"/>
                    <a:pt x="40" y="44"/>
                    <a:pt x="35" y="53"/>
                  </a:cubicBezTo>
                  <a:cubicBezTo>
                    <a:pt x="25" y="71"/>
                    <a:pt x="5" y="170"/>
                    <a:pt x="0" y="195"/>
                  </a:cubicBezTo>
                  <a:cubicBezTo>
                    <a:pt x="3" y="233"/>
                    <a:pt x="1" y="272"/>
                    <a:pt x="8" y="310"/>
                  </a:cubicBezTo>
                  <a:cubicBezTo>
                    <a:pt x="11" y="325"/>
                    <a:pt x="35" y="421"/>
                    <a:pt x="62" y="443"/>
                  </a:cubicBezTo>
                  <a:cubicBezTo>
                    <a:pt x="104" y="477"/>
                    <a:pt x="199" y="490"/>
                    <a:pt x="248" y="496"/>
                  </a:cubicBezTo>
                  <a:cubicBezTo>
                    <a:pt x="401" y="493"/>
                    <a:pt x="555" y="493"/>
                    <a:pt x="708" y="487"/>
                  </a:cubicBezTo>
                  <a:cubicBezTo>
                    <a:pt x="717" y="487"/>
                    <a:pt x="729" y="485"/>
                    <a:pt x="735" y="478"/>
                  </a:cubicBezTo>
                  <a:cubicBezTo>
                    <a:pt x="756" y="453"/>
                    <a:pt x="769" y="402"/>
                    <a:pt x="788" y="372"/>
                  </a:cubicBezTo>
                  <a:cubicBezTo>
                    <a:pt x="791" y="295"/>
                    <a:pt x="797" y="219"/>
                    <a:pt x="797" y="142"/>
                  </a:cubicBezTo>
                  <a:cubicBezTo>
                    <a:pt x="797" y="99"/>
                    <a:pt x="774" y="35"/>
                    <a:pt x="726" y="35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3124080"/>
              <a:ext cx="1265400" cy="787680"/>
            </a:xfrm>
            <a:custGeom>
              <a:avLst/>
              <a:gdLst/>
              <a:ahLst/>
              <a:rect l="l" t="t" r="r" b="b"/>
              <a:pathLst>
                <a:path w="797" h="496">
                  <a:moveTo>
                    <a:pt x="726" y="35"/>
                  </a:moveTo>
                  <a:cubicBezTo>
                    <a:pt x="603" y="10"/>
                    <a:pt x="479" y="9"/>
                    <a:pt x="354" y="0"/>
                  </a:cubicBezTo>
                  <a:cubicBezTo>
                    <a:pt x="258" y="25"/>
                    <a:pt x="159" y="8"/>
                    <a:pt x="62" y="35"/>
                  </a:cubicBezTo>
                  <a:cubicBezTo>
                    <a:pt x="53" y="41"/>
                    <a:pt x="40" y="44"/>
                    <a:pt x="35" y="53"/>
                  </a:cubicBezTo>
                  <a:cubicBezTo>
                    <a:pt x="25" y="71"/>
                    <a:pt x="5" y="170"/>
                    <a:pt x="0" y="195"/>
                  </a:cubicBezTo>
                  <a:cubicBezTo>
                    <a:pt x="3" y="233"/>
                    <a:pt x="1" y="272"/>
                    <a:pt x="8" y="310"/>
                  </a:cubicBezTo>
                  <a:cubicBezTo>
                    <a:pt x="11" y="325"/>
                    <a:pt x="35" y="421"/>
                    <a:pt x="62" y="443"/>
                  </a:cubicBezTo>
                  <a:cubicBezTo>
                    <a:pt x="104" y="477"/>
                    <a:pt x="199" y="490"/>
                    <a:pt x="248" y="496"/>
                  </a:cubicBezTo>
                  <a:cubicBezTo>
                    <a:pt x="401" y="493"/>
                    <a:pt x="555" y="493"/>
                    <a:pt x="708" y="487"/>
                  </a:cubicBezTo>
                  <a:cubicBezTo>
                    <a:pt x="717" y="487"/>
                    <a:pt x="729" y="485"/>
                    <a:pt x="735" y="478"/>
                  </a:cubicBezTo>
                  <a:cubicBezTo>
                    <a:pt x="756" y="453"/>
                    <a:pt x="769" y="402"/>
                    <a:pt x="788" y="372"/>
                  </a:cubicBezTo>
                  <a:cubicBezTo>
                    <a:pt x="791" y="295"/>
                    <a:pt x="797" y="219"/>
                    <a:pt x="797" y="142"/>
                  </a:cubicBezTo>
                  <a:cubicBezTo>
                    <a:pt x="797" y="99"/>
                    <a:pt x="774" y="35"/>
                    <a:pt x="726" y="35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60920" y="1951200"/>
              <a:ext cx="1544400" cy="1968480"/>
            </a:xfrm>
            <a:custGeom>
              <a:avLst/>
              <a:gdLst/>
              <a:ahLst/>
              <a:rect l="l" t="t" r="r" b="b"/>
              <a:pathLst>
                <a:path w="973" h="1240">
                  <a:moveTo>
                    <a:pt x="893" y="105"/>
                  </a:moveTo>
                  <a:cubicBezTo>
                    <a:pt x="644" y="73"/>
                    <a:pt x="360" y="0"/>
                    <a:pt x="139" y="132"/>
                  </a:cubicBezTo>
                  <a:cubicBezTo>
                    <a:pt x="123" y="204"/>
                    <a:pt x="147" y="132"/>
                    <a:pt x="95" y="194"/>
                  </a:cubicBezTo>
                  <a:cubicBezTo>
                    <a:pt x="89" y="201"/>
                    <a:pt x="90" y="212"/>
                    <a:pt x="86" y="221"/>
                  </a:cubicBezTo>
                  <a:cubicBezTo>
                    <a:pt x="73" y="252"/>
                    <a:pt x="61" y="282"/>
                    <a:pt x="42" y="309"/>
                  </a:cubicBezTo>
                  <a:cubicBezTo>
                    <a:pt x="23" y="385"/>
                    <a:pt x="0" y="496"/>
                    <a:pt x="51" y="557"/>
                  </a:cubicBezTo>
                  <a:cubicBezTo>
                    <a:pt x="60" y="568"/>
                    <a:pt x="75" y="574"/>
                    <a:pt x="86" y="584"/>
                  </a:cubicBezTo>
                  <a:cubicBezTo>
                    <a:pt x="96" y="592"/>
                    <a:pt x="105" y="601"/>
                    <a:pt x="113" y="611"/>
                  </a:cubicBezTo>
                  <a:cubicBezTo>
                    <a:pt x="129" y="631"/>
                    <a:pt x="157" y="673"/>
                    <a:pt x="157" y="673"/>
                  </a:cubicBezTo>
                  <a:cubicBezTo>
                    <a:pt x="178" y="736"/>
                    <a:pt x="164" y="711"/>
                    <a:pt x="193" y="752"/>
                  </a:cubicBezTo>
                  <a:cubicBezTo>
                    <a:pt x="197" y="801"/>
                    <a:pt x="215" y="974"/>
                    <a:pt x="255" y="1018"/>
                  </a:cubicBezTo>
                  <a:cubicBezTo>
                    <a:pt x="322" y="1091"/>
                    <a:pt x="450" y="1089"/>
                    <a:pt x="538" y="1098"/>
                  </a:cubicBezTo>
                  <a:cubicBezTo>
                    <a:pt x="565" y="1136"/>
                    <a:pt x="555" y="1210"/>
                    <a:pt x="583" y="1222"/>
                  </a:cubicBezTo>
                  <a:cubicBezTo>
                    <a:pt x="611" y="1234"/>
                    <a:pt x="671" y="1240"/>
                    <a:pt x="671" y="1240"/>
                  </a:cubicBezTo>
                  <a:cubicBezTo>
                    <a:pt x="698" y="1231"/>
                    <a:pt x="731" y="1233"/>
                    <a:pt x="751" y="1213"/>
                  </a:cubicBezTo>
                  <a:cubicBezTo>
                    <a:pt x="769" y="1195"/>
                    <a:pt x="782" y="1171"/>
                    <a:pt x="804" y="1160"/>
                  </a:cubicBezTo>
                  <a:cubicBezTo>
                    <a:pt x="839" y="1142"/>
                    <a:pt x="864" y="1126"/>
                    <a:pt x="893" y="1098"/>
                  </a:cubicBezTo>
                  <a:cubicBezTo>
                    <a:pt x="911" y="1059"/>
                    <a:pt x="919" y="1025"/>
                    <a:pt x="928" y="983"/>
                  </a:cubicBezTo>
                  <a:cubicBezTo>
                    <a:pt x="927" y="921"/>
                    <a:pt x="973" y="344"/>
                    <a:pt x="893" y="105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1840" y="3214800"/>
              <a:ext cx="1079640" cy="1906560"/>
            </a:xfrm>
            <a:custGeom>
              <a:avLst/>
              <a:gdLst/>
              <a:ahLst/>
              <a:rect l="l" t="t" r="r" b="b"/>
              <a:pathLst>
                <a:path w="680" h="1201">
                  <a:moveTo>
                    <a:pt x="57" y="1161"/>
                  </a:moveTo>
                  <a:cubicBezTo>
                    <a:pt x="178" y="1158"/>
                    <a:pt x="300" y="1158"/>
                    <a:pt x="421" y="1153"/>
                  </a:cubicBezTo>
                  <a:cubicBezTo>
                    <a:pt x="479" y="1151"/>
                    <a:pt x="483" y="1093"/>
                    <a:pt x="509" y="1055"/>
                  </a:cubicBezTo>
                  <a:cubicBezTo>
                    <a:pt x="535" y="1016"/>
                    <a:pt x="565" y="973"/>
                    <a:pt x="598" y="940"/>
                  </a:cubicBezTo>
                  <a:cubicBezTo>
                    <a:pt x="617" y="899"/>
                    <a:pt x="642" y="877"/>
                    <a:pt x="660" y="834"/>
                  </a:cubicBezTo>
                  <a:cubicBezTo>
                    <a:pt x="654" y="645"/>
                    <a:pt x="680" y="469"/>
                    <a:pt x="545" y="328"/>
                  </a:cubicBezTo>
                  <a:cubicBezTo>
                    <a:pt x="538" y="308"/>
                    <a:pt x="537" y="285"/>
                    <a:pt x="527" y="266"/>
                  </a:cubicBezTo>
                  <a:cubicBezTo>
                    <a:pt x="517" y="247"/>
                    <a:pt x="491" y="213"/>
                    <a:pt x="491" y="213"/>
                  </a:cubicBezTo>
                  <a:cubicBezTo>
                    <a:pt x="471" y="151"/>
                    <a:pt x="465" y="134"/>
                    <a:pt x="429" y="80"/>
                  </a:cubicBezTo>
                  <a:cubicBezTo>
                    <a:pt x="426" y="75"/>
                    <a:pt x="350" y="45"/>
                    <a:pt x="350" y="45"/>
                  </a:cubicBezTo>
                  <a:cubicBezTo>
                    <a:pt x="322" y="37"/>
                    <a:pt x="304" y="40"/>
                    <a:pt x="279" y="27"/>
                  </a:cubicBezTo>
                  <a:cubicBezTo>
                    <a:pt x="269" y="22"/>
                    <a:pt x="263" y="11"/>
                    <a:pt x="252" y="9"/>
                  </a:cubicBezTo>
                  <a:cubicBezTo>
                    <a:pt x="220" y="2"/>
                    <a:pt x="187" y="4"/>
                    <a:pt x="155" y="1"/>
                  </a:cubicBezTo>
                  <a:cubicBezTo>
                    <a:pt x="118" y="9"/>
                    <a:pt x="118" y="0"/>
                    <a:pt x="102" y="36"/>
                  </a:cubicBezTo>
                  <a:cubicBezTo>
                    <a:pt x="95" y="53"/>
                    <a:pt x="84" y="89"/>
                    <a:pt x="84" y="89"/>
                  </a:cubicBezTo>
                  <a:cubicBezTo>
                    <a:pt x="77" y="192"/>
                    <a:pt x="90" y="309"/>
                    <a:pt x="31" y="399"/>
                  </a:cubicBezTo>
                  <a:cubicBezTo>
                    <a:pt x="16" y="458"/>
                    <a:pt x="11" y="517"/>
                    <a:pt x="4" y="577"/>
                  </a:cubicBezTo>
                  <a:cubicBezTo>
                    <a:pt x="11" y="685"/>
                    <a:pt x="0" y="827"/>
                    <a:pt x="66" y="922"/>
                  </a:cubicBezTo>
                  <a:cubicBezTo>
                    <a:pt x="78" y="971"/>
                    <a:pt x="136" y="1201"/>
                    <a:pt x="57" y="1161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78800" y="2048040"/>
              <a:ext cx="2288880" cy="3055680"/>
            </a:xfrm>
            <a:custGeom>
              <a:avLst/>
              <a:gdLst/>
              <a:ahLst/>
              <a:rect l="l" t="t" r="r" b="b"/>
              <a:pathLst>
                <a:path w="1442" h="1925">
                  <a:moveTo>
                    <a:pt x="1189" y="0"/>
                  </a:moveTo>
                  <a:cubicBezTo>
                    <a:pt x="1051" y="11"/>
                    <a:pt x="919" y="31"/>
                    <a:pt x="782" y="53"/>
                  </a:cubicBezTo>
                  <a:cubicBezTo>
                    <a:pt x="699" y="50"/>
                    <a:pt x="616" y="51"/>
                    <a:pt x="534" y="44"/>
                  </a:cubicBezTo>
                  <a:cubicBezTo>
                    <a:pt x="447" y="36"/>
                    <a:pt x="384" y="14"/>
                    <a:pt x="303" y="0"/>
                  </a:cubicBezTo>
                  <a:cubicBezTo>
                    <a:pt x="263" y="14"/>
                    <a:pt x="221" y="20"/>
                    <a:pt x="179" y="27"/>
                  </a:cubicBezTo>
                  <a:cubicBezTo>
                    <a:pt x="131" y="44"/>
                    <a:pt x="116" y="72"/>
                    <a:pt x="82" y="106"/>
                  </a:cubicBezTo>
                  <a:cubicBezTo>
                    <a:pt x="63" y="182"/>
                    <a:pt x="86" y="106"/>
                    <a:pt x="55" y="168"/>
                  </a:cubicBezTo>
                  <a:cubicBezTo>
                    <a:pt x="36" y="206"/>
                    <a:pt x="28" y="259"/>
                    <a:pt x="20" y="301"/>
                  </a:cubicBezTo>
                  <a:cubicBezTo>
                    <a:pt x="22" y="399"/>
                    <a:pt x="0" y="728"/>
                    <a:pt x="82" y="851"/>
                  </a:cubicBezTo>
                  <a:cubicBezTo>
                    <a:pt x="91" y="891"/>
                    <a:pt x="112" y="941"/>
                    <a:pt x="135" y="975"/>
                  </a:cubicBezTo>
                  <a:cubicBezTo>
                    <a:pt x="141" y="1056"/>
                    <a:pt x="153" y="1112"/>
                    <a:pt x="161" y="1188"/>
                  </a:cubicBezTo>
                  <a:cubicBezTo>
                    <a:pt x="168" y="1253"/>
                    <a:pt x="168" y="1305"/>
                    <a:pt x="188" y="1365"/>
                  </a:cubicBezTo>
                  <a:cubicBezTo>
                    <a:pt x="194" y="1441"/>
                    <a:pt x="200" y="1512"/>
                    <a:pt x="215" y="1586"/>
                  </a:cubicBezTo>
                  <a:cubicBezTo>
                    <a:pt x="212" y="1636"/>
                    <a:pt x="215" y="1687"/>
                    <a:pt x="206" y="1737"/>
                  </a:cubicBezTo>
                  <a:cubicBezTo>
                    <a:pt x="200" y="1771"/>
                    <a:pt x="177" y="1800"/>
                    <a:pt x="170" y="1834"/>
                  </a:cubicBezTo>
                  <a:cubicBezTo>
                    <a:pt x="204" y="1886"/>
                    <a:pt x="170" y="1849"/>
                    <a:pt x="259" y="1870"/>
                  </a:cubicBezTo>
                  <a:cubicBezTo>
                    <a:pt x="274" y="1874"/>
                    <a:pt x="288" y="1882"/>
                    <a:pt x="303" y="1888"/>
                  </a:cubicBezTo>
                  <a:cubicBezTo>
                    <a:pt x="452" y="1883"/>
                    <a:pt x="567" y="1925"/>
                    <a:pt x="666" y="1826"/>
                  </a:cubicBezTo>
                  <a:cubicBezTo>
                    <a:pt x="687" y="1764"/>
                    <a:pt x="827" y="1717"/>
                    <a:pt x="879" y="1675"/>
                  </a:cubicBezTo>
                  <a:cubicBezTo>
                    <a:pt x="905" y="1654"/>
                    <a:pt x="927" y="1629"/>
                    <a:pt x="950" y="1604"/>
                  </a:cubicBezTo>
                  <a:cubicBezTo>
                    <a:pt x="984" y="1567"/>
                    <a:pt x="1048" y="1489"/>
                    <a:pt x="1048" y="1489"/>
                  </a:cubicBezTo>
                  <a:cubicBezTo>
                    <a:pt x="1059" y="1460"/>
                    <a:pt x="1057" y="1426"/>
                    <a:pt x="1074" y="1400"/>
                  </a:cubicBezTo>
                  <a:cubicBezTo>
                    <a:pt x="1082" y="1387"/>
                    <a:pt x="1100" y="1384"/>
                    <a:pt x="1110" y="1374"/>
                  </a:cubicBezTo>
                  <a:cubicBezTo>
                    <a:pt x="1180" y="1304"/>
                    <a:pt x="1084" y="1369"/>
                    <a:pt x="1180" y="1312"/>
                  </a:cubicBezTo>
                  <a:cubicBezTo>
                    <a:pt x="1232" y="1243"/>
                    <a:pt x="1291" y="1179"/>
                    <a:pt x="1340" y="1108"/>
                  </a:cubicBezTo>
                  <a:cubicBezTo>
                    <a:pt x="1373" y="1060"/>
                    <a:pt x="1380" y="1004"/>
                    <a:pt x="1411" y="957"/>
                  </a:cubicBezTo>
                  <a:cubicBezTo>
                    <a:pt x="1419" y="910"/>
                    <a:pt x="1434" y="863"/>
                    <a:pt x="1437" y="815"/>
                  </a:cubicBezTo>
                  <a:cubicBezTo>
                    <a:pt x="1442" y="728"/>
                    <a:pt x="1418" y="635"/>
                    <a:pt x="1402" y="550"/>
                  </a:cubicBezTo>
                  <a:cubicBezTo>
                    <a:pt x="1392" y="499"/>
                    <a:pt x="1396" y="452"/>
                    <a:pt x="1367" y="408"/>
                  </a:cubicBezTo>
                  <a:cubicBezTo>
                    <a:pt x="1343" y="327"/>
                    <a:pt x="1291" y="264"/>
                    <a:pt x="1242" y="195"/>
                  </a:cubicBezTo>
                  <a:cubicBezTo>
                    <a:pt x="1225" y="171"/>
                    <a:pt x="1207" y="115"/>
                    <a:pt x="1207" y="115"/>
                  </a:cubicBezTo>
                  <a:cubicBezTo>
                    <a:pt x="1203" y="81"/>
                    <a:pt x="1189" y="36"/>
                    <a:pt x="1189" y="0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64200" y="3100320"/>
              <a:ext cx="1843200" cy="3083040"/>
            </a:xfrm>
            <a:custGeom>
              <a:avLst/>
              <a:gdLst/>
              <a:ahLst/>
              <a:rect l="l" t="t" r="r" b="b"/>
              <a:pathLst>
                <a:path w="1161" h="1942">
                  <a:moveTo>
                    <a:pt x="53" y="1783"/>
                  </a:moveTo>
                  <a:cubicBezTo>
                    <a:pt x="68" y="1827"/>
                    <a:pt x="50" y="1797"/>
                    <a:pt x="88" y="1818"/>
                  </a:cubicBezTo>
                  <a:cubicBezTo>
                    <a:pt x="177" y="1868"/>
                    <a:pt x="103" y="1848"/>
                    <a:pt x="204" y="1863"/>
                  </a:cubicBezTo>
                  <a:cubicBezTo>
                    <a:pt x="271" y="1901"/>
                    <a:pt x="333" y="1925"/>
                    <a:pt x="407" y="1942"/>
                  </a:cubicBezTo>
                  <a:cubicBezTo>
                    <a:pt x="421" y="1902"/>
                    <a:pt x="449" y="1909"/>
                    <a:pt x="478" y="1871"/>
                  </a:cubicBezTo>
                  <a:cubicBezTo>
                    <a:pt x="506" y="1834"/>
                    <a:pt x="514" y="1774"/>
                    <a:pt x="540" y="1730"/>
                  </a:cubicBezTo>
                  <a:cubicBezTo>
                    <a:pt x="560" y="1652"/>
                    <a:pt x="530" y="1731"/>
                    <a:pt x="585" y="1677"/>
                  </a:cubicBezTo>
                  <a:cubicBezTo>
                    <a:pt x="592" y="1670"/>
                    <a:pt x="588" y="1657"/>
                    <a:pt x="594" y="1650"/>
                  </a:cubicBezTo>
                  <a:cubicBezTo>
                    <a:pt x="690" y="1533"/>
                    <a:pt x="637" y="1597"/>
                    <a:pt x="709" y="1552"/>
                  </a:cubicBezTo>
                  <a:cubicBezTo>
                    <a:pt x="736" y="1535"/>
                    <a:pt x="788" y="1499"/>
                    <a:pt x="788" y="1499"/>
                  </a:cubicBezTo>
                  <a:cubicBezTo>
                    <a:pt x="824" y="1396"/>
                    <a:pt x="889" y="1326"/>
                    <a:pt x="966" y="1251"/>
                  </a:cubicBezTo>
                  <a:cubicBezTo>
                    <a:pt x="1022" y="1196"/>
                    <a:pt x="1001" y="1151"/>
                    <a:pt x="1081" y="1101"/>
                  </a:cubicBezTo>
                  <a:cubicBezTo>
                    <a:pt x="1093" y="1083"/>
                    <a:pt x="1104" y="1065"/>
                    <a:pt x="1116" y="1047"/>
                  </a:cubicBezTo>
                  <a:cubicBezTo>
                    <a:pt x="1122" y="1038"/>
                    <a:pt x="1134" y="1021"/>
                    <a:pt x="1134" y="1021"/>
                  </a:cubicBezTo>
                  <a:cubicBezTo>
                    <a:pt x="1161" y="940"/>
                    <a:pt x="1140" y="860"/>
                    <a:pt x="1116" y="782"/>
                  </a:cubicBezTo>
                  <a:cubicBezTo>
                    <a:pt x="1112" y="770"/>
                    <a:pt x="1112" y="757"/>
                    <a:pt x="1107" y="746"/>
                  </a:cubicBezTo>
                  <a:cubicBezTo>
                    <a:pt x="1098" y="727"/>
                    <a:pt x="1072" y="693"/>
                    <a:pt x="1072" y="693"/>
                  </a:cubicBezTo>
                  <a:cubicBezTo>
                    <a:pt x="1066" y="669"/>
                    <a:pt x="1060" y="646"/>
                    <a:pt x="1054" y="622"/>
                  </a:cubicBezTo>
                  <a:cubicBezTo>
                    <a:pt x="1048" y="599"/>
                    <a:pt x="1027" y="582"/>
                    <a:pt x="1019" y="560"/>
                  </a:cubicBezTo>
                  <a:cubicBezTo>
                    <a:pt x="994" y="487"/>
                    <a:pt x="973" y="412"/>
                    <a:pt x="948" y="338"/>
                  </a:cubicBezTo>
                  <a:cubicBezTo>
                    <a:pt x="943" y="322"/>
                    <a:pt x="929" y="309"/>
                    <a:pt x="921" y="294"/>
                  </a:cubicBezTo>
                  <a:cubicBezTo>
                    <a:pt x="914" y="280"/>
                    <a:pt x="914" y="262"/>
                    <a:pt x="904" y="250"/>
                  </a:cubicBezTo>
                  <a:cubicBezTo>
                    <a:pt x="898" y="243"/>
                    <a:pt x="886" y="244"/>
                    <a:pt x="877" y="241"/>
                  </a:cubicBezTo>
                  <a:cubicBezTo>
                    <a:pt x="857" y="164"/>
                    <a:pt x="887" y="243"/>
                    <a:pt x="833" y="188"/>
                  </a:cubicBezTo>
                  <a:cubicBezTo>
                    <a:pt x="826" y="181"/>
                    <a:pt x="830" y="168"/>
                    <a:pt x="824" y="161"/>
                  </a:cubicBezTo>
                  <a:cubicBezTo>
                    <a:pt x="817" y="153"/>
                    <a:pt x="806" y="149"/>
                    <a:pt x="797" y="143"/>
                  </a:cubicBezTo>
                  <a:cubicBezTo>
                    <a:pt x="765" y="94"/>
                    <a:pt x="759" y="100"/>
                    <a:pt x="709" y="73"/>
                  </a:cubicBezTo>
                  <a:cubicBezTo>
                    <a:pt x="690" y="63"/>
                    <a:pt x="674" y="49"/>
                    <a:pt x="656" y="37"/>
                  </a:cubicBezTo>
                  <a:cubicBezTo>
                    <a:pt x="640" y="26"/>
                    <a:pt x="570" y="9"/>
                    <a:pt x="540" y="2"/>
                  </a:cubicBezTo>
                  <a:cubicBezTo>
                    <a:pt x="519" y="5"/>
                    <a:pt x="496" y="0"/>
                    <a:pt x="478" y="11"/>
                  </a:cubicBezTo>
                  <a:cubicBezTo>
                    <a:pt x="460" y="22"/>
                    <a:pt x="455" y="46"/>
                    <a:pt x="443" y="64"/>
                  </a:cubicBezTo>
                  <a:cubicBezTo>
                    <a:pt x="438" y="72"/>
                    <a:pt x="425" y="69"/>
                    <a:pt x="416" y="73"/>
                  </a:cubicBezTo>
                  <a:cubicBezTo>
                    <a:pt x="347" y="107"/>
                    <a:pt x="432" y="76"/>
                    <a:pt x="363" y="99"/>
                  </a:cubicBezTo>
                  <a:cubicBezTo>
                    <a:pt x="351" y="117"/>
                    <a:pt x="340" y="134"/>
                    <a:pt x="328" y="152"/>
                  </a:cubicBezTo>
                  <a:cubicBezTo>
                    <a:pt x="253" y="266"/>
                    <a:pt x="351" y="427"/>
                    <a:pt x="221" y="525"/>
                  </a:cubicBezTo>
                  <a:cubicBezTo>
                    <a:pt x="199" y="588"/>
                    <a:pt x="174" y="649"/>
                    <a:pt x="133" y="702"/>
                  </a:cubicBezTo>
                  <a:cubicBezTo>
                    <a:pt x="117" y="779"/>
                    <a:pt x="138" y="717"/>
                    <a:pt x="88" y="782"/>
                  </a:cubicBezTo>
                  <a:cubicBezTo>
                    <a:pt x="66" y="811"/>
                    <a:pt x="57" y="837"/>
                    <a:pt x="44" y="870"/>
                  </a:cubicBezTo>
                  <a:cubicBezTo>
                    <a:pt x="26" y="1014"/>
                    <a:pt x="10" y="1136"/>
                    <a:pt x="0" y="1287"/>
                  </a:cubicBezTo>
                  <a:cubicBezTo>
                    <a:pt x="3" y="1396"/>
                    <a:pt x="4" y="1506"/>
                    <a:pt x="9" y="1615"/>
                  </a:cubicBezTo>
                  <a:cubicBezTo>
                    <a:pt x="9" y="1622"/>
                    <a:pt x="27" y="1809"/>
                    <a:pt x="53" y="1783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280" y="2209680"/>
              <a:ext cx="444600" cy="444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5029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280" y="6095880"/>
              <a:ext cx="762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Rockwell Extra Bold"/>
                </a:rPr>
                <a:t>B</a:t>
              </a:r>
              <a:r>
                <a:rPr b="0" lang="en-US" sz="3200" spc="-1" strike="noStrike" baseline="-25000">
                  <a:solidFill>
                    <a:srgbClr val="ff3300"/>
                  </a:solidFill>
                  <a:latin typeface="Rockwell Extra Bold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 Trees In Binomial Heap Are Binomial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creates 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does not create new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combine takes two trees of equal degree and makes one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operations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inserts is at mo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inomial tree has more th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xDegree &lt;= 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remove min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(log n + s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good bound on the cost of every sequence of operations and divide by the numb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same amortized cost for each operation, regardless of operation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this method, because we want to show a different amortized cost for remove mins than for inserts and m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 – Alternati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good bound on the cost of every sequence of delete mins and divide by the number of delet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sequenc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ert, insert, …, insert, delete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the delete min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operations in the sequ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amortized cost of a delete min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(n/1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counting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the amortized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m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log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– P(0) &gt;= 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(i) = amortizedCost(i) – actualCost(i) + P(i –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(i) – P(0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mount by which th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have been over char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all use a credit scheme to show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(i) – P(0) &gt;= 0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(i)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credits after operatio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number of credits i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(0)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ed amortized cos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 to pay for the actual cost of the ins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remaining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 as a credit for a future delete min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is credit with the min tree that is created by the insert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ncreases b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ecause there is a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harge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248520" y="152280"/>
            <a:ext cx="2341080" cy="1371240"/>
            <a:chOff x="6248520" y="152280"/>
            <a:chExt cx="2341080" cy="1371240"/>
          </a:xfrm>
        </p:grpSpPr>
        <p:sp>
          <p:nvSpPr>
            <p:cNvPr id="122" name=""/>
            <p:cNvSpPr/>
            <p:nvPr/>
          </p:nvSpPr>
          <p:spPr>
            <a:xfrm>
              <a:off x="7581600" y="1232640"/>
              <a:ext cx="133560" cy="136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90160" y="247320"/>
              <a:ext cx="133560" cy="136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80760" y="92700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86160" y="1246680"/>
              <a:ext cx="133560" cy="1360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47360" y="106488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55520" y="16884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12960" y="50544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56040" y="480600"/>
              <a:ext cx="133560" cy="136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18360" y="848160"/>
              <a:ext cx="133560" cy="1386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992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179560" y="270000"/>
              <a:ext cx="9108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7640" y="270000"/>
              <a:ext cx="11448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91000" y="1067400"/>
              <a:ext cx="133560" cy="1360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96760" y="1387440"/>
              <a:ext cx="133560" cy="136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7960" y="1205640"/>
              <a:ext cx="0" cy="18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28760" y="15228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0200" y="505440"/>
              <a:ext cx="13500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73280" y="480600"/>
              <a:ext cx="13500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35600" y="848160"/>
              <a:ext cx="133560" cy="1386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98960" y="64584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98960" y="292680"/>
              <a:ext cx="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4680" y="270000"/>
              <a:ext cx="27576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0720" y="49716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8520" y="83592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9680" y="825840"/>
              <a:ext cx="133560" cy="1360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53560" y="1176840"/>
              <a:ext cx="133560" cy="1378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15120" y="974160"/>
              <a:ext cx="0" cy="21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38160" y="621000"/>
              <a:ext cx="6840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99800" y="621000"/>
              <a:ext cx="114480" cy="2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499800" y="247320"/>
              <a:ext cx="22896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9:04:17Z</dcterms:modified>
  <cp:revision>302</cp:revision>
  <dc:subject/>
  <dc:title>Data Representation Methods</dc:title>
</cp:coreProperties>
</file>