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557C-0B43-4410-8C41-B9C2DB29CCA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let’s turn our attention to a sequence of ta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asks could, for example,  be inserts, deletes, and searches in some data structure. Average cost of a task is not of much use in this ana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amortized cost of 2 is sometimes less than the actual cost, sometimes more, and sometimes eq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(I) is potential after I’th operation. P(0) is initial potential. This function keeps track of the accumulated difference between the amortized (I.e. charged) costs and actual co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ume P(0) =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 cost = # of pops and pus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 by induction on i. When i=0, P(i) = 0 = #symbols on stack. Assume true for arbitrary i. For next i, if symbol is not ) or ;, #symbols on stack increases by 1 and potential also increases by 1. Do other two cases at h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shown P(i) &gt;= 0 for all i, you can conclude that the cost of the n invocations is at most 2*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se of accounting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with the accounting and potential function methods it is possible for different symbols to have a different amortized complexity. So, if we change the definition of P() to be number of symbols on stack, the amortized complexity of ; becomes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expression is used when the bound on the cost of a task depends on the task index or on the nature of the task (insert, search, dele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439E-30B3-47E3-BAFF-86D953BA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3F97-846A-4D7C-94CD-55471D85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66D6-D57E-4B95-8D75-7ACE6DE24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5EA7-2AA3-4C23-BC48-E76B0327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FBF0-DDB5-45BF-970B-BABD6925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D705-7881-4E0D-A1FE-4E68C433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7F2D-F1BC-4D18-9AAE-78B2D672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F584-8E5E-402E-B17B-DD6F8A2F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1109-12E1-406F-B2BA-36222DD1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1582-C7A7-46F8-9225-BB96C2FC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1241-848F-44B6-81EA-F62D0E45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453C-3730-4398-B1AD-6CC571D2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C6B6-B031-4556-BB00-5497E7CC4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Kinds Of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orst-case complex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verage complex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mortized complex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rithmetic Statemen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writing is done using a stack and a metho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ocessNextSymb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reate an empty stack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r (int i = 1; i &lt;= n; i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// n is number of symbols in statement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ocessNextSymbol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1295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= x+((a+b)*c+d)+y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rithmetic Statemen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ocessNextSymbo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cts the next symbol from the input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bols other than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simply pushed on to the st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1295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= x+((a+b)*c+d)+y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543800" y="3505320"/>
            <a:ext cx="761760" cy="3124080"/>
            <a:chOff x="7543800" y="3505320"/>
            <a:chExt cx="761760" cy="3124080"/>
          </a:xfrm>
        </p:grpSpPr>
        <p:sp>
          <p:nvSpPr>
            <p:cNvPr id="73" name=""/>
            <p:cNvSpPr/>
            <p:nvPr/>
          </p:nvSpPr>
          <p:spPr>
            <a:xfrm>
              <a:off x="7543800" y="3505320"/>
              <a:ext cx="0" cy="312408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543800" y="662940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305560" y="3505320"/>
              <a:ext cx="0" cy="312408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7620120" y="6095880"/>
            <a:ext cx="533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96080" y="58672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96080" y="55627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96080" y="525780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96080" y="49528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96080" y="457200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96080" y="41911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96080" y="38098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96080" y="342900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rithmetic Statemen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next symbol is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ymbols are popped from the stack up to and including the firs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 assignment statement is generated, and the left hand symbol is added to the st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1295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= x+((a+b)*c+d)+y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7543800" y="3429000"/>
            <a:ext cx="838080" cy="3200400"/>
            <a:chOff x="7543800" y="3429000"/>
            <a:chExt cx="838080" cy="3200400"/>
          </a:xfrm>
        </p:grpSpPr>
        <p:grpSp>
          <p:nvGrpSpPr>
            <p:cNvPr id="89" name=""/>
            <p:cNvGrpSpPr/>
            <p:nvPr/>
          </p:nvGrpSpPr>
          <p:grpSpPr>
            <a:xfrm>
              <a:off x="7543800" y="3505320"/>
              <a:ext cx="761760" cy="3124080"/>
              <a:chOff x="7543800" y="3505320"/>
              <a:chExt cx="761760" cy="3124080"/>
            </a:xfrm>
          </p:grpSpPr>
          <p:sp>
            <p:nvSpPr>
              <p:cNvPr id="90" name=""/>
              <p:cNvSpPr/>
              <p:nvPr/>
            </p:nvSpPr>
            <p:spPr>
              <a:xfrm>
                <a:off x="7543800" y="3505320"/>
                <a:ext cx="0" cy="312408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543800" y="6629400"/>
                <a:ext cx="761760" cy="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305560" y="3505320"/>
                <a:ext cx="0" cy="312408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7620120" y="6095880"/>
              <a:ext cx="5331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96080" y="586728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96080" y="55627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696080" y="52578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96080" y="495288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96080" y="45720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96080" y="41911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96080" y="380988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96080" y="342900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7696080" y="3733920"/>
            <a:ext cx="457200" cy="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96080" y="4114800"/>
            <a:ext cx="457200" cy="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96080" y="4495680"/>
            <a:ext cx="457200" cy="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96080" y="4876920"/>
            <a:ext cx="457200" cy="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79640" y="5181480"/>
            <a:ext cx="1729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z1 = a+b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rithmetic Statemen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1295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= x+((a+b)*c+d)+y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43800" y="3505320"/>
            <a:ext cx="0" cy="31240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43800" y="6629400"/>
            <a:ext cx="76212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05920" y="3505320"/>
            <a:ext cx="0" cy="31240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6095880"/>
            <a:ext cx="533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96080" y="58672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6080" y="55627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96080" y="525780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96080" y="49528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96080" y="457200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z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5181480"/>
            <a:ext cx="1729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z1 = a+b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96080" y="434340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39625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96080" y="365760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96080" y="33526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96080" y="3657600"/>
            <a:ext cx="457200" cy="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96080" y="3886200"/>
            <a:ext cx="457200" cy="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96080" y="4267080"/>
            <a:ext cx="457200" cy="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96080" y="4572000"/>
            <a:ext cx="457200" cy="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96080" y="4876920"/>
            <a:ext cx="457200" cy="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96080" y="5181480"/>
            <a:ext cx="457200" cy="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78200" y="5638680"/>
            <a:ext cx="2318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z2 = z1*c+d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next symbol is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ymbols are popped from the stack up to and including the firs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 assignment statement is generated, and the left hand symbol is added to the st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rithmetic Statemen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1295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= x+((a+b)*c+d)+y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505320"/>
            <a:ext cx="0" cy="31240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43800" y="6629400"/>
            <a:ext cx="76212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05920" y="3505320"/>
            <a:ext cx="0" cy="31240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0120" y="6095880"/>
            <a:ext cx="533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96080" y="58672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96080" y="55627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96080" y="525780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96080" y="49528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z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79640" y="5181480"/>
            <a:ext cx="1729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z1 = a+b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78200" y="5638680"/>
            <a:ext cx="2318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z2 = z1*c+d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96080" y="46483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96080" y="411480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next symbol is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ymbols are popped from the stack up to and including the firs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 assignment statement is generated, and the left hand symbol is added to the st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rithmetic Statemen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715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next symbol is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ymbols are popped from the stack until the stack becomes empty. The final assignment statement                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 = x+z2+y;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gener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1295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= x+((a+b)*c+d)+y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79640" y="5181480"/>
            <a:ext cx="1729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z1 = a+b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3505320"/>
            <a:ext cx="0" cy="31240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43800" y="6629400"/>
            <a:ext cx="76212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05920" y="3505320"/>
            <a:ext cx="0" cy="31240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6095880"/>
            <a:ext cx="533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96080" y="58672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96080" y="55627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525780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49528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z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6080" y="46483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96080" y="411480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78200" y="5638680"/>
            <a:ext cx="2318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z2 = z1*c+d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omplexity Of processNextSymbol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symbols that get popped from stack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op ind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0920" y="1295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= x+((a+b)*c+d)+y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Overall Complexity (Conventional Analysis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41907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, overall complexity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</a:t>
            </a:r>
            <a:r>
              <a:rPr b="0" lang="en-US" sz="2800" spc="-1" strike="noStrike">
                <a:solidFill>
                  <a:srgbClr val="ff0033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) = O(n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ly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*n) = O(n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correct, a more careful analysis permits us to conclude that the complexity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838080"/>
            <a:ext cx="7696080" cy="2806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reate an empty stack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r (int i = 1; i &lt;= n; i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// n is number of symbols in statement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ocessNextSymbol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ays To Determine Amortized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e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ing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ential function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ggregate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how obtain a good upper bound on the actual cost of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vocations of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ocessNextSymbol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this bound b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et the amortized cost of one invocation of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ocessNextSymbol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see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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ctual cost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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mortized cost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ask Seque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at a sequence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sks is perform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st-case cost of a task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w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(actual) cost of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sk in this sequ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lt;=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wc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, 1 &lt;= i &lt;=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w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upper bound on the cost of the sequ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j 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w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upper bound on the cost of the firs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s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ggregate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tual cost of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vocations of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ocessNextSymbol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als number of stack pop and push op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vocations cause at m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ymbols to be pushed on to the st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ount includes the symbols for new variables, because each new variable is the result of a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ing processed. Note that no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get pushed on to the st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ggregate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tual cost of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vocations of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ocessNextSymbol()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t mos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2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using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n/n =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the amortized cost of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ocessNextSymbol()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OK, because this cost results in                    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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ctual cost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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mortized cost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the amortized cost of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ocessNextSymbol()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actual cost of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vocations is at m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ggregate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ggregate method isn’t very useful, because to figure out the amortized cost we must first obtain a good bound on the aggregate cost of a sequence of invoc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our objective was to use amortized complexity to get a better bound on the cost of a sequence of invocations, if we can obtain this better bound through other techniques, w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omit dividing the bound b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obtain the amortized c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otential Fun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i) = amortizedCost(i) – actualCost(i) + P(i –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P(i) – P(i–1)) =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amortizedCost(i) –actualCost(i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n) – P(0) = 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amortizedCost(i) –actualCost(i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n) – P(0) &gt;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P(0) 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P(i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amount by which th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s/operations have been over charg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otential Function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43200" y="144792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 = x + ( ( a + b  ) * c + d  ) + y 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20574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ctual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320" y="26668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mortized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32004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ot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20574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205740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52680" y="20574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57600" y="20574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05740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67080" y="20574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95680" y="20574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00600" y="20574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205740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20574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91320" y="205740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20574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20574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05720" y="205740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10280" y="20574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15200" y="20574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0120" y="205740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924680" y="20574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43200" y="26668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8120" y="266688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52680" y="26668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57600" y="26668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266688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67080" y="26668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95680" y="26668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00600" y="26668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05520" y="266688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86400" y="26668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91320" y="2666880"/>
            <a:ext cx="30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5880" y="26668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800" y="26668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05720" y="266688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10280" y="26668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26668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0120" y="266688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924680" y="26668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43200" y="32004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48120" y="320040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2680" y="32004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57600" y="32004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320040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32004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95680" y="32004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32004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05520" y="320040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86400" y="32004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91320" y="320040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5880" y="32004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00800" y="32004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629400" y="3276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10280" y="32004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315200" y="32004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0120" y="320040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924680" y="32004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006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otential = stack size except at 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ccounting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ess the amortized c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 that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(n) – P(0) &gt;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Accounting Method Exampl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3962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ess that amortized complexity of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rocessNextSymb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(0) 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show that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(i) &gt;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umber of elements on stack after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 symbol is proces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838080"/>
            <a:ext cx="7696080" cy="2806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n empty stack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int i = 1; i &lt;= n; i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// n is number of symbols in statement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NextSymbol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ccounting Method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ential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&gt;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umber of symbols on st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(i) &gt;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articular,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(n) &gt;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" y="1447920"/>
            <a:ext cx="8305560" cy="2333880"/>
            <a:chOff x="76320" y="1447920"/>
            <a:chExt cx="8305560" cy="2333880"/>
          </a:xfrm>
        </p:grpSpPr>
        <p:sp>
          <p:nvSpPr>
            <p:cNvPr id="247" name=""/>
            <p:cNvSpPr/>
            <p:nvPr/>
          </p:nvSpPr>
          <p:spPr>
            <a:xfrm>
              <a:off x="2743200" y="1447920"/>
              <a:ext cx="563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a = x + ( ( a + b  ) * c + d  ) + y 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5800" y="20574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actual cos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" y="2666880"/>
              <a:ext cx="266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amortized cos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066680" y="320040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potent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43200" y="205740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048120" y="2057400"/>
              <a:ext cx="30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352680" y="205740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57600" y="205740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62520" y="2057400"/>
              <a:ext cx="30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67080" y="205740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95680" y="205740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00600" y="205740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05520" y="2057400"/>
              <a:ext cx="30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86400" y="205740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91320" y="2057400"/>
              <a:ext cx="30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95880" y="205740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00800" y="205740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05720" y="2057400"/>
              <a:ext cx="30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010280" y="205740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315200" y="205740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20120" y="2057400"/>
              <a:ext cx="30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24680" y="205740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43200" y="266688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48120" y="2666880"/>
              <a:ext cx="30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52680" y="266688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7600" y="266688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62520" y="2666880"/>
              <a:ext cx="30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67080" y="266688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95680" y="266688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800600" y="266688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105520" y="2666880"/>
              <a:ext cx="30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486400" y="266688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91320" y="2666880"/>
              <a:ext cx="3045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95880" y="266688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0800" y="266688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705720" y="2666880"/>
              <a:ext cx="30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10280" y="266688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315200" y="266688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20120" y="2666880"/>
              <a:ext cx="30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924680" y="266688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43200" y="320040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48120" y="3200400"/>
              <a:ext cx="30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52680" y="320040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57600" y="320040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62520" y="3200400"/>
              <a:ext cx="30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267080" y="320040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95680" y="320040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00600" y="320040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05520" y="3200400"/>
              <a:ext cx="30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486400" y="320040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91320" y="3200400"/>
              <a:ext cx="30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5880" y="320040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00800" y="320040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629400" y="3276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010280" y="320040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315200" y="320040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20120" y="3200400"/>
              <a:ext cx="30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24680" y="320040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otential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ess a suitable potential function for which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(n) – P(0) &gt;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ive amortized cost of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 operation using 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  = P(i) – P(i–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= amortized cost – actual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mortized cost = actual cost + 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otential Method Exampl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2120" y="41911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ess that the potential function is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(i)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umber of elements on stack after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ymbol is processed (exception i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(n) =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(0) = 0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(i) – P(0) &gt;=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838080"/>
            <a:ext cx="7696080" cy="2806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n empty stack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int i = 1; i &lt;= n; i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// n is number of symbols in stat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NextSymbol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ask Seque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av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average cost of a task in this sequ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avg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/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av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cost of the sequ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 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av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an upper bound on the cost of the fir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s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, determining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av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quite h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4400" spc="-1" strike="noStrike" baseline="30000">
                <a:solidFill>
                  <a:srgbClr val="000099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Symbol Is Not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or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;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ual cost of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processNextSymb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elements on stack increases by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 = P(i) – P(i–1) 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mortized cost = actual cost + 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= 1 + 1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4400" spc="-1" strike="noStrike" baseline="30000">
                <a:solidFill>
                  <a:srgbClr val="000099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Symbol Is </a:t>
            </a: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ual cost of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processNextSymb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#unstacked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elements on stack decreases by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#unstacked –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 = P(i) – P(i–1) = 1 – #unstack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mortized cost = actual cost + 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               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= #unstacked + 1 +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                 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(1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#unstack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4400" spc="-1" strike="noStrike" baseline="30000">
                <a:solidFill>
                  <a:srgbClr val="000099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Symbol Is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;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ual cost of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processNextSymb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#unstacked = P(n–1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elements on stack decreases by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(n–1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 = P(n) – P(n–1) = 2 – P(n–1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mortized cost = actual cost + 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               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= P(n–1) + (2 – P(n–1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ask Seque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times, a better upper bound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 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w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w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sequence cost is obtained using amortized complex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mortized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mortized complex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task is the amount you charge the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ventional way to bound the cost of doing a task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imes is to use one of the express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*(worst-case cost of tas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Symbol"/>
                <a:ea typeface="Symbol"/>
              </a:rPr>
              <a:t>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worst-case cost</a:t>
            </a:r>
            <a:r>
              <a:rPr b="0" lang="en-US" sz="2800" spc="-1" strike="noStrike">
                <a:solidFill>
                  <a:srgbClr val="ff0033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f task i</a:t>
            </a:r>
            <a:r>
              <a:rPr b="0" lang="en-US" sz="2800" spc="-1" strike="noStrike">
                <a:solidFill>
                  <a:srgbClr val="ff0033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mortized complex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y to bound the cost of doing a task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imes is to use one of the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*(amortized cost of tas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Symbol"/>
                <a:ea typeface="Symbol"/>
              </a:rPr>
              <a:t>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mortized cost of task i</a:t>
            </a:r>
            <a:r>
              <a:rPr b="0" lang="en-US" sz="2800" spc="-1" strike="noStrike">
                <a:solidFill>
                  <a:srgbClr val="ff0033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mortized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mortized complexity/cost of individual tasks in any task sequence must satisf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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ctual cost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f task i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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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mortized cost of task i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we ca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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mortized cost of task i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 bound on the actual complexity of the task sequ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mortized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mortized complexity of a task may bear no direct relationship to the actual complexity of the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mortized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conventional complexity analysis, each task is charged an amount tha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gt;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s c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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ctual cost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f task i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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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orst-case cost of task 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mortized analysis, some tasks may be charged an amount tha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ir c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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ctual cost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f task i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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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mortized cost of task 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rithmetic Statemen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write an arithmetic statement as a sequence of statements without using parenthe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= x+((a+b)*c+d)+y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equivalent to the sequ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z1 = a+b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z2 = z1*c+d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= x+z2+y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6-07-18T18:52:43Z</dcterms:modified>
  <cp:revision>299</cp:revision>
  <dc:subject/>
  <dc:title>Data Representation Methods</dc:title>
</cp:coreProperties>
</file>