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511F-5519-4289-92DE-7A70A798C8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x is a dictionary of keys. With each key we store the address of the corresponding record on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n &gt;&gt; u, we may approximately say number of records doesn’t change even when inserts are allow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ize filter error probability for successful search/up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record =&gt; changed, inserted, deleted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 all updates are for different records. So di and df size equals #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 that all hash functions map to different addr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F is large, it cannot be backed up too frequently. The time to process the transactions since last backup is large. So recovery time is l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p(u) for above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ver backup of df and index and process small number of transactions to recover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really index size determines backup frequency 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 may be small enough to fit in memory =&gt; no performance h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AD8-2352-4F91-BB34-F88489F9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D5A-F7B2-491B-B30D-FD0A2BD0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A45-B797-4FA0-9C30-F7EC5FDB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924-BFD2-467F-B1CA-DD635D41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C47-3C6E-49A8-BBEB-61792FAD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2DE-DEC8-47B9-A4C4-B5E2EE7E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85F-C8D3-4BB3-B9CF-8D01C997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B9A-6810-4D9E-874B-E68AEABF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6A5-BB73-4FBB-82B1-D271538F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076-0F1C-4309-9ECB-6FE6174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B37-10BD-4E70-BB0A-213200A1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1B4-6C8D-4A8F-A07A-1292A306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8C97-ACD3-40E8-AC77-00BEAEF72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loom Filt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large data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of records residing on d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to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ie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 new rec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changes to an existing rec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a rec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loom Filter (BF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733560" y="1447920"/>
            <a:ext cx="5105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F says May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 says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990720"/>
            <a:ext cx="3809880" cy="5638680"/>
            <a:chOff x="228600" y="990720"/>
            <a:chExt cx="3809880" cy="5638680"/>
          </a:xfrm>
        </p:grpSpPr>
        <p:sp>
          <p:nvSpPr>
            <p:cNvPr id="228" name=""/>
            <p:cNvSpPr/>
            <p:nvPr/>
          </p:nvSpPr>
          <p:spPr>
            <a:xfrm>
              <a:off x="762120" y="990720"/>
              <a:ext cx="914400" cy="685800"/>
            </a:xfrm>
            <a:prstGeom prst="flowChartPunchedCar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080" y="1066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685800" y="3733920"/>
              <a:ext cx="1371600" cy="914400"/>
              <a:chOff x="685800" y="3733920"/>
              <a:chExt cx="1371600" cy="914400"/>
            </a:xfrm>
          </p:grpSpPr>
          <p:sp>
            <p:nvSpPr>
              <p:cNvPr id="231" name=""/>
              <p:cNvSpPr/>
              <p:nvPr/>
            </p:nvSpPr>
            <p:spPr>
              <a:xfrm>
                <a:off x="685800" y="3733920"/>
                <a:ext cx="1219320" cy="91440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8080" y="394488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e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28600" y="4876920"/>
              <a:ext cx="990720" cy="609480"/>
              <a:chOff x="228600" y="4876920"/>
              <a:chExt cx="990720" cy="609480"/>
            </a:xfrm>
          </p:grpSpPr>
          <p:sp>
            <p:nvSpPr>
              <p:cNvPr id="234" name=""/>
              <p:cNvSpPr/>
              <p:nvPr/>
            </p:nvSpPr>
            <p:spPr>
              <a:xfrm>
                <a:off x="228600" y="4876920"/>
                <a:ext cx="914400" cy="6094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4920" y="487692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838080" y="5943600"/>
              <a:ext cx="990360" cy="685800"/>
              <a:chOff x="838080" y="5943600"/>
              <a:chExt cx="990360" cy="685800"/>
            </a:xfrm>
          </p:grpSpPr>
          <p:sp>
            <p:nvSpPr>
              <p:cNvPr id="237" name=""/>
              <p:cNvSpPr/>
              <p:nvPr/>
            </p:nvSpPr>
            <p:spPr>
              <a:xfrm>
                <a:off x="838080" y="5943600"/>
                <a:ext cx="914400" cy="685800"/>
              </a:xfrm>
              <a:prstGeom prst="flowChartPunchedCard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14040" y="600876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ns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295280" y="3048120"/>
              <a:ext cx="0" cy="6858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" y="4191120"/>
              <a:ext cx="0" cy="6858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120" y="5486400"/>
              <a:ext cx="457200" cy="4572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895480" y="4952880"/>
              <a:ext cx="785880" cy="609480"/>
              <a:chOff x="2895480" y="4952880"/>
              <a:chExt cx="785880" cy="60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2895480" y="4952880"/>
                <a:ext cx="633240" cy="609480"/>
              </a:xfrm>
              <a:prstGeom prst="flowChartAlternateProcess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895480" y="4952880"/>
                <a:ext cx="78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D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 flipH="1">
              <a:off x="1295280" y="3200400"/>
              <a:ext cx="18288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676160" y="5562720"/>
              <a:ext cx="1523880" cy="76176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5800" y="2286000"/>
              <a:ext cx="1219320" cy="9144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90720" y="25146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95280" y="1676520"/>
              <a:ext cx="0" cy="60948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05120" y="2743200"/>
              <a:ext cx="685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1800" y="35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120" y="3124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4600" y="2286000"/>
              <a:ext cx="1219320" cy="9144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9520" y="25146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05120" y="2209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81080" y="29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3200400" y="2743200"/>
              <a:ext cx="533520" cy="220968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809880" y="3809880"/>
            <a:ext cx="51055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F resides in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hit paid only when there is a filter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loom Filter Desig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ts of memory for the B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ewer filter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I empty,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h functions: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erted into DI, set bi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gna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= 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ormally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uld be much much larger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h functio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(2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971800" y="1447920"/>
            <a:ext cx="3352680" cy="990360"/>
            <a:chOff x="2971800" y="1447920"/>
            <a:chExt cx="3352680" cy="990360"/>
          </a:xfrm>
        </p:grpSpPr>
        <p:grpSp>
          <p:nvGrpSpPr>
            <p:cNvPr id="265" name=""/>
            <p:cNvGrpSpPr/>
            <p:nvPr/>
          </p:nvGrpSpPr>
          <p:grpSpPr>
            <a:xfrm>
              <a:off x="2971800" y="1447920"/>
              <a:ext cx="304920" cy="533160"/>
              <a:chOff x="2971800" y="1447920"/>
              <a:chExt cx="304920" cy="533160"/>
            </a:xfrm>
          </p:grpSpPr>
          <p:sp>
            <p:nvSpPr>
              <p:cNvPr id="266" name=""/>
              <p:cNvSpPr/>
              <p:nvPr/>
            </p:nvSpPr>
            <p:spPr>
              <a:xfrm>
                <a:off x="2971800" y="1523880"/>
                <a:ext cx="30492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971800" y="14479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276720" y="1447920"/>
              <a:ext cx="304560" cy="533160"/>
              <a:chOff x="3276720" y="1447920"/>
              <a:chExt cx="304560" cy="533160"/>
            </a:xfrm>
          </p:grpSpPr>
          <p:sp>
            <p:nvSpPr>
              <p:cNvPr id="269" name=""/>
              <p:cNvSpPr/>
              <p:nvPr/>
            </p:nvSpPr>
            <p:spPr>
              <a:xfrm>
                <a:off x="3276720" y="1523880"/>
                <a:ext cx="30456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76720" y="144792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581280" y="1447920"/>
              <a:ext cx="304920" cy="533160"/>
              <a:chOff x="3581280" y="1447920"/>
              <a:chExt cx="304920" cy="533160"/>
            </a:xfrm>
          </p:grpSpPr>
          <p:sp>
            <p:nvSpPr>
              <p:cNvPr id="272" name=""/>
              <p:cNvSpPr/>
              <p:nvPr/>
            </p:nvSpPr>
            <p:spPr>
              <a:xfrm>
                <a:off x="3581280" y="1523880"/>
                <a:ext cx="30492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81280" y="14479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886200" y="1447920"/>
              <a:ext cx="304920" cy="533160"/>
              <a:chOff x="3886200" y="1447920"/>
              <a:chExt cx="304920" cy="533160"/>
            </a:xfrm>
          </p:grpSpPr>
          <p:sp>
            <p:nvSpPr>
              <p:cNvPr id="275" name=""/>
              <p:cNvSpPr/>
              <p:nvPr/>
            </p:nvSpPr>
            <p:spPr>
              <a:xfrm>
                <a:off x="3886200" y="1523880"/>
                <a:ext cx="30492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86200" y="14479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191120" y="1447920"/>
              <a:ext cx="304560" cy="533160"/>
              <a:chOff x="4191120" y="1447920"/>
              <a:chExt cx="304560" cy="533160"/>
            </a:xfrm>
          </p:grpSpPr>
          <p:sp>
            <p:nvSpPr>
              <p:cNvPr id="278" name=""/>
              <p:cNvSpPr/>
              <p:nvPr/>
            </p:nvSpPr>
            <p:spPr>
              <a:xfrm>
                <a:off x="4191120" y="1523880"/>
                <a:ext cx="30456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91120" y="144792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495680" y="1447920"/>
              <a:ext cx="304920" cy="533160"/>
              <a:chOff x="4495680" y="1447920"/>
              <a:chExt cx="304920" cy="533160"/>
            </a:xfrm>
          </p:grpSpPr>
          <p:sp>
            <p:nvSpPr>
              <p:cNvPr id="281" name=""/>
              <p:cNvSpPr/>
              <p:nvPr/>
            </p:nvSpPr>
            <p:spPr>
              <a:xfrm>
                <a:off x="4495680" y="1523880"/>
                <a:ext cx="30492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495680" y="14479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800600" y="1447920"/>
              <a:ext cx="304920" cy="533160"/>
              <a:chOff x="4800600" y="1447920"/>
              <a:chExt cx="304920" cy="533160"/>
            </a:xfrm>
          </p:grpSpPr>
          <p:sp>
            <p:nvSpPr>
              <p:cNvPr id="284" name=""/>
              <p:cNvSpPr/>
              <p:nvPr/>
            </p:nvSpPr>
            <p:spPr>
              <a:xfrm>
                <a:off x="4800600" y="1523880"/>
                <a:ext cx="30492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00600" y="14479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105520" y="1447920"/>
              <a:ext cx="304560" cy="533160"/>
              <a:chOff x="5105520" y="1447920"/>
              <a:chExt cx="304560" cy="533160"/>
            </a:xfrm>
          </p:grpSpPr>
          <p:sp>
            <p:nvSpPr>
              <p:cNvPr id="287" name=""/>
              <p:cNvSpPr/>
              <p:nvPr/>
            </p:nvSpPr>
            <p:spPr>
              <a:xfrm>
                <a:off x="5105520" y="1523880"/>
                <a:ext cx="30456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105520" y="144792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5410080" y="1447920"/>
              <a:ext cx="304920" cy="533160"/>
              <a:chOff x="5410080" y="1447920"/>
              <a:chExt cx="304920" cy="533160"/>
            </a:xfrm>
          </p:grpSpPr>
          <p:sp>
            <p:nvSpPr>
              <p:cNvPr id="290" name=""/>
              <p:cNvSpPr/>
              <p:nvPr/>
            </p:nvSpPr>
            <p:spPr>
              <a:xfrm>
                <a:off x="5410080" y="1523880"/>
                <a:ext cx="30492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10080" y="14479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715000" y="1447920"/>
              <a:ext cx="304920" cy="533160"/>
              <a:chOff x="5715000" y="1447920"/>
              <a:chExt cx="304920" cy="533160"/>
            </a:xfrm>
          </p:grpSpPr>
          <p:sp>
            <p:nvSpPr>
              <p:cNvPr id="293" name=""/>
              <p:cNvSpPr/>
              <p:nvPr/>
            </p:nvSpPr>
            <p:spPr>
              <a:xfrm>
                <a:off x="5715000" y="1523880"/>
                <a:ext cx="30492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715000" y="14479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971800" y="1905120"/>
              <a:ext cx="304920" cy="533160"/>
              <a:chOff x="2971800" y="1905120"/>
              <a:chExt cx="304920" cy="533160"/>
            </a:xfrm>
          </p:grpSpPr>
          <p:sp>
            <p:nvSpPr>
              <p:cNvPr id="296" name=""/>
              <p:cNvSpPr/>
              <p:nvPr/>
            </p:nvSpPr>
            <p:spPr>
              <a:xfrm>
                <a:off x="2971800" y="198108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71800" y="19051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276720" y="1905120"/>
              <a:ext cx="304560" cy="533160"/>
              <a:chOff x="3276720" y="1905120"/>
              <a:chExt cx="304560" cy="533160"/>
            </a:xfrm>
          </p:grpSpPr>
          <p:sp>
            <p:nvSpPr>
              <p:cNvPr id="299" name=""/>
              <p:cNvSpPr/>
              <p:nvPr/>
            </p:nvSpPr>
            <p:spPr>
              <a:xfrm>
                <a:off x="3276720" y="1981080"/>
                <a:ext cx="3045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76720" y="190512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3581280" y="1905120"/>
              <a:ext cx="304920" cy="533160"/>
              <a:chOff x="3581280" y="1905120"/>
              <a:chExt cx="304920" cy="533160"/>
            </a:xfrm>
          </p:grpSpPr>
          <p:sp>
            <p:nvSpPr>
              <p:cNvPr id="302" name=""/>
              <p:cNvSpPr/>
              <p:nvPr/>
            </p:nvSpPr>
            <p:spPr>
              <a:xfrm>
                <a:off x="3581280" y="198108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81280" y="19051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886200" y="1905120"/>
              <a:ext cx="304920" cy="533160"/>
              <a:chOff x="3886200" y="1905120"/>
              <a:chExt cx="304920" cy="533160"/>
            </a:xfrm>
          </p:grpSpPr>
          <p:sp>
            <p:nvSpPr>
              <p:cNvPr id="305" name=""/>
              <p:cNvSpPr/>
              <p:nvPr/>
            </p:nvSpPr>
            <p:spPr>
              <a:xfrm>
                <a:off x="3886200" y="198108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86200" y="19051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4191120" y="1905120"/>
              <a:ext cx="304560" cy="533160"/>
              <a:chOff x="4191120" y="1905120"/>
              <a:chExt cx="304560" cy="533160"/>
            </a:xfrm>
          </p:grpSpPr>
          <p:sp>
            <p:nvSpPr>
              <p:cNvPr id="308" name=""/>
              <p:cNvSpPr/>
              <p:nvPr/>
            </p:nvSpPr>
            <p:spPr>
              <a:xfrm>
                <a:off x="4191120" y="1981080"/>
                <a:ext cx="3045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91120" y="190512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495680" y="1905120"/>
              <a:ext cx="304920" cy="533160"/>
              <a:chOff x="4495680" y="1905120"/>
              <a:chExt cx="304920" cy="533160"/>
            </a:xfrm>
          </p:grpSpPr>
          <p:sp>
            <p:nvSpPr>
              <p:cNvPr id="311" name=""/>
              <p:cNvSpPr/>
              <p:nvPr/>
            </p:nvSpPr>
            <p:spPr>
              <a:xfrm>
                <a:off x="4495680" y="198108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495680" y="19051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800600" y="1905120"/>
              <a:ext cx="304920" cy="533160"/>
              <a:chOff x="4800600" y="1905120"/>
              <a:chExt cx="304920" cy="533160"/>
            </a:xfrm>
          </p:grpSpPr>
          <p:sp>
            <p:nvSpPr>
              <p:cNvPr id="314" name=""/>
              <p:cNvSpPr/>
              <p:nvPr/>
            </p:nvSpPr>
            <p:spPr>
              <a:xfrm>
                <a:off x="4800600" y="198108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0600" y="19051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105520" y="1905120"/>
              <a:ext cx="304560" cy="533160"/>
              <a:chOff x="5105520" y="1905120"/>
              <a:chExt cx="304560" cy="533160"/>
            </a:xfrm>
          </p:grpSpPr>
          <p:sp>
            <p:nvSpPr>
              <p:cNvPr id="317" name=""/>
              <p:cNvSpPr/>
              <p:nvPr/>
            </p:nvSpPr>
            <p:spPr>
              <a:xfrm>
                <a:off x="5105520" y="1981080"/>
                <a:ext cx="3045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05520" y="190512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410080" y="1905120"/>
              <a:ext cx="304920" cy="533160"/>
              <a:chOff x="5410080" y="1905120"/>
              <a:chExt cx="304920" cy="533160"/>
            </a:xfrm>
          </p:grpSpPr>
          <p:sp>
            <p:nvSpPr>
              <p:cNvPr id="320" name=""/>
              <p:cNvSpPr/>
              <p:nvPr/>
            </p:nvSpPr>
            <p:spPr>
              <a:xfrm>
                <a:off x="5410080" y="198108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10080" y="19051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5715000" y="1905120"/>
              <a:ext cx="304920" cy="533160"/>
              <a:chOff x="5715000" y="1905120"/>
              <a:chExt cx="304920" cy="533160"/>
            </a:xfrm>
          </p:grpSpPr>
          <p:sp>
            <p:nvSpPr>
              <p:cNvPr id="323" name=""/>
              <p:cNvSpPr/>
              <p:nvPr/>
            </p:nvSpPr>
            <p:spPr>
              <a:xfrm>
                <a:off x="5715000" y="198108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15000" y="190512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019920" y="1447920"/>
              <a:ext cx="304560" cy="533160"/>
              <a:chOff x="6019920" y="1447920"/>
              <a:chExt cx="304560" cy="533160"/>
            </a:xfrm>
          </p:grpSpPr>
          <p:sp>
            <p:nvSpPr>
              <p:cNvPr id="326" name=""/>
              <p:cNvSpPr/>
              <p:nvPr/>
            </p:nvSpPr>
            <p:spPr>
              <a:xfrm>
                <a:off x="6019920" y="1523880"/>
                <a:ext cx="304560" cy="45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19920" y="144792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"/>
          <p:cNvGrpSpPr/>
          <p:nvPr/>
        </p:nvGrpSpPr>
        <p:grpSpPr>
          <a:xfrm>
            <a:off x="4191120" y="1447920"/>
            <a:ext cx="304560" cy="532800"/>
            <a:chOff x="4191120" y="1447920"/>
            <a:chExt cx="304560" cy="532800"/>
          </a:xfrm>
        </p:grpSpPr>
        <p:sp>
          <p:nvSpPr>
            <p:cNvPr id="329" name=""/>
            <p:cNvSpPr/>
            <p:nvPr/>
          </p:nvSpPr>
          <p:spPr>
            <a:xfrm>
              <a:off x="4191120" y="1523880"/>
              <a:ext cx="304560" cy="456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91120" y="14479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410080" y="1447920"/>
            <a:ext cx="304560" cy="532800"/>
            <a:chOff x="5410080" y="1447920"/>
            <a:chExt cx="304560" cy="532800"/>
          </a:xfrm>
        </p:grpSpPr>
        <p:sp>
          <p:nvSpPr>
            <p:cNvPr id="332" name=""/>
            <p:cNvSpPr/>
            <p:nvPr/>
          </p:nvSpPr>
          <p:spPr>
            <a:xfrm>
              <a:off x="5410080" y="1523880"/>
              <a:ext cx="304560" cy="456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10080" y="14479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800600" y="1447920"/>
            <a:ext cx="304560" cy="532800"/>
            <a:chOff x="4800600" y="1447920"/>
            <a:chExt cx="304560" cy="532800"/>
          </a:xfrm>
        </p:grpSpPr>
        <p:sp>
          <p:nvSpPr>
            <p:cNvPr id="335" name=""/>
            <p:cNvSpPr/>
            <p:nvPr/>
          </p:nvSpPr>
          <p:spPr>
            <a:xfrm>
              <a:off x="4800600" y="1523880"/>
              <a:ext cx="304560" cy="456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00600" y="14479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85800" y="5867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1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276720" y="1447920"/>
            <a:ext cx="304560" cy="532800"/>
            <a:chOff x="3276720" y="1447920"/>
            <a:chExt cx="304560" cy="532800"/>
          </a:xfrm>
        </p:grpSpPr>
        <p:sp>
          <p:nvSpPr>
            <p:cNvPr id="339" name=""/>
            <p:cNvSpPr/>
            <p:nvPr/>
          </p:nvSpPr>
          <p:spPr>
            <a:xfrm>
              <a:off x="3276720" y="1523880"/>
              <a:ext cx="304560" cy="456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76720" y="14479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1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D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f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in D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lter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971800" y="1447920"/>
            <a:ext cx="3352680" cy="990360"/>
            <a:chOff x="2971800" y="1447920"/>
            <a:chExt cx="3352680" cy="990360"/>
          </a:xfrm>
        </p:grpSpPr>
        <p:grpSp>
          <p:nvGrpSpPr>
            <p:cNvPr id="344" name=""/>
            <p:cNvGrpSpPr/>
            <p:nvPr/>
          </p:nvGrpSpPr>
          <p:grpSpPr>
            <a:xfrm>
              <a:off x="2971800" y="1447920"/>
              <a:ext cx="3352680" cy="990360"/>
              <a:chOff x="2971800" y="1447920"/>
              <a:chExt cx="3352680" cy="99036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2971800" y="1447920"/>
                <a:ext cx="304920" cy="533160"/>
                <a:chOff x="2971800" y="1447920"/>
                <a:chExt cx="304920" cy="5331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971800" y="1523880"/>
                  <a:ext cx="304920" cy="4572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971800" y="14479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3276720" y="1447920"/>
                <a:ext cx="304560" cy="533160"/>
                <a:chOff x="3276720" y="1447920"/>
                <a:chExt cx="304560" cy="5331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276720" y="1523880"/>
                  <a:ext cx="304560" cy="4572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276720" y="1447920"/>
                  <a:ext cx="30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581280" y="1447920"/>
                <a:ext cx="304920" cy="533160"/>
                <a:chOff x="3581280" y="1447920"/>
                <a:chExt cx="304920" cy="5331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581280" y="1523880"/>
                  <a:ext cx="304920" cy="4572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581280" y="14479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3886200" y="1447920"/>
                <a:ext cx="304920" cy="533160"/>
                <a:chOff x="3886200" y="1447920"/>
                <a:chExt cx="304920" cy="5331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886200" y="1523880"/>
                  <a:ext cx="304920" cy="4572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886200" y="14479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4191120" y="1447920"/>
                <a:ext cx="304560" cy="533160"/>
                <a:chOff x="4191120" y="1447920"/>
                <a:chExt cx="304560" cy="5331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191120" y="1523880"/>
                  <a:ext cx="304560" cy="4572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191120" y="1447920"/>
                  <a:ext cx="30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4495680" y="1447920"/>
                <a:ext cx="304920" cy="533160"/>
                <a:chOff x="4495680" y="1447920"/>
                <a:chExt cx="304920" cy="5331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4495680" y="1523880"/>
                  <a:ext cx="304920" cy="4572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495680" y="14479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800600" y="1447920"/>
                <a:ext cx="304920" cy="533160"/>
                <a:chOff x="4800600" y="1447920"/>
                <a:chExt cx="304920" cy="5331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800600" y="1523880"/>
                  <a:ext cx="304920" cy="4572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800600" y="14479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105520" y="1447920"/>
                <a:ext cx="304560" cy="533160"/>
                <a:chOff x="5105520" y="1447920"/>
                <a:chExt cx="304560" cy="5331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105520" y="1523880"/>
                  <a:ext cx="304560" cy="4572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105520" y="1447920"/>
                  <a:ext cx="30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5410080" y="1447920"/>
                <a:ext cx="304920" cy="533160"/>
                <a:chOff x="5410080" y="1447920"/>
                <a:chExt cx="304920" cy="5331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5410080" y="1523880"/>
                  <a:ext cx="304920" cy="4572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410080" y="14479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5715000" y="1447920"/>
                <a:ext cx="304920" cy="533160"/>
                <a:chOff x="5715000" y="1447920"/>
                <a:chExt cx="304920" cy="5331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5715000" y="1523880"/>
                  <a:ext cx="304920" cy="4572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715000" y="14479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971800" y="1905120"/>
                <a:ext cx="304920" cy="533160"/>
                <a:chOff x="2971800" y="1905120"/>
                <a:chExt cx="304920" cy="5331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971800" y="1981080"/>
                  <a:ext cx="304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971800" y="19051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276720" y="1905120"/>
                <a:ext cx="304560" cy="533160"/>
                <a:chOff x="3276720" y="1905120"/>
                <a:chExt cx="304560" cy="53316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276720" y="1981080"/>
                  <a:ext cx="304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276720" y="1905120"/>
                  <a:ext cx="30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3581280" y="1905120"/>
                <a:ext cx="304920" cy="533160"/>
                <a:chOff x="3581280" y="1905120"/>
                <a:chExt cx="304920" cy="53316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3581280" y="1981080"/>
                  <a:ext cx="304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581280" y="19051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886200" y="1905120"/>
                <a:ext cx="304920" cy="533160"/>
                <a:chOff x="3886200" y="1905120"/>
                <a:chExt cx="304920" cy="53316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886200" y="1981080"/>
                  <a:ext cx="304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886200" y="19051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191120" y="1905120"/>
                <a:ext cx="304560" cy="533160"/>
                <a:chOff x="4191120" y="1905120"/>
                <a:chExt cx="304560" cy="5331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191120" y="1981080"/>
                  <a:ext cx="304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191120" y="1905120"/>
                  <a:ext cx="30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495680" y="1905120"/>
                <a:ext cx="304920" cy="533160"/>
                <a:chOff x="4495680" y="1905120"/>
                <a:chExt cx="304920" cy="53316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495680" y="1981080"/>
                  <a:ext cx="304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495680" y="19051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4800600" y="1905120"/>
                <a:ext cx="304920" cy="533160"/>
                <a:chOff x="4800600" y="1905120"/>
                <a:chExt cx="304920" cy="53316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4800600" y="1981080"/>
                  <a:ext cx="304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800600" y="19051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5105520" y="1905120"/>
                <a:ext cx="304560" cy="533160"/>
                <a:chOff x="5105520" y="1905120"/>
                <a:chExt cx="304560" cy="5331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5105520" y="1981080"/>
                  <a:ext cx="304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105520" y="1905120"/>
                  <a:ext cx="30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5410080" y="1905120"/>
                <a:ext cx="304920" cy="533160"/>
                <a:chOff x="5410080" y="1905120"/>
                <a:chExt cx="304920" cy="5331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410080" y="1981080"/>
                  <a:ext cx="304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410080" y="19051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15000" y="1905120"/>
                <a:ext cx="304920" cy="533160"/>
                <a:chOff x="5715000" y="1905120"/>
                <a:chExt cx="304920" cy="53316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15000" y="1981080"/>
                  <a:ext cx="304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15000" y="1905120"/>
                  <a:ext cx="304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019920" y="1447920"/>
                <a:ext cx="304560" cy="533160"/>
                <a:chOff x="6019920" y="1447920"/>
                <a:chExt cx="304560" cy="53316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019920" y="1523880"/>
                  <a:ext cx="304560" cy="4572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019920" y="1447920"/>
                  <a:ext cx="30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8" name=""/>
            <p:cNvGrpSpPr/>
            <p:nvPr/>
          </p:nvGrpSpPr>
          <p:grpSpPr>
            <a:xfrm>
              <a:off x="4191120" y="1447920"/>
              <a:ext cx="304560" cy="532800"/>
              <a:chOff x="4191120" y="1447920"/>
              <a:chExt cx="304560" cy="532800"/>
            </a:xfrm>
          </p:grpSpPr>
          <p:sp>
            <p:nvSpPr>
              <p:cNvPr id="409" name=""/>
              <p:cNvSpPr/>
              <p:nvPr/>
            </p:nvSpPr>
            <p:spPr>
              <a:xfrm>
                <a:off x="4191120" y="1523880"/>
                <a:ext cx="304560" cy="456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191120" y="144792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410080" y="1447920"/>
              <a:ext cx="304560" cy="532800"/>
              <a:chOff x="5410080" y="1447920"/>
              <a:chExt cx="304560" cy="532800"/>
            </a:xfrm>
          </p:grpSpPr>
          <p:sp>
            <p:nvSpPr>
              <p:cNvPr id="412" name=""/>
              <p:cNvSpPr/>
              <p:nvPr/>
            </p:nvSpPr>
            <p:spPr>
              <a:xfrm>
                <a:off x="5410080" y="1523880"/>
                <a:ext cx="304560" cy="456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410080" y="144792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800600" y="1447920"/>
              <a:ext cx="304560" cy="532800"/>
              <a:chOff x="4800600" y="1447920"/>
              <a:chExt cx="304560" cy="532800"/>
            </a:xfrm>
          </p:grpSpPr>
          <p:sp>
            <p:nvSpPr>
              <p:cNvPr id="415" name=""/>
              <p:cNvSpPr/>
              <p:nvPr/>
            </p:nvSpPr>
            <p:spPr>
              <a:xfrm>
                <a:off x="4800600" y="1523880"/>
                <a:ext cx="304560" cy="456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00600" y="144792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3276720" y="1447920"/>
              <a:ext cx="304560" cy="532800"/>
              <a:chOff x="3276720" y="1447920"/>
              <a:chExt cx="304560" cy="532800"/>
            </a:xfrm>
          </p:grpSpPr>
          <p:sp>
            <p:nvSpPr>
              <p:cNvPr id="418" name=""/>
              <p:cNvSpPr/>
              <p:nvPr/>
            </p:nvSpPr>
            <p:spPr>
              <a:xfrm>
                <a:off x="3276720" y="1523880"/>
                <a:ext cx="304560" cy="456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276720" y="144792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loom Filter Desig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ilter size in bit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s much memory as i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umber of hash functio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o small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bability of different keys having same signature is hig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o larg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lter becomes filled with ones too s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h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functions should be relatively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timal Choice Of 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a filter error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size …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hash functions …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 of updates before filter is reset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 of master file recor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&gt;&gt;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ability Of Filter Err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u)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ability of a filter error af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 *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 for an unmodified record af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dat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bits are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his request for an unmodified recor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= p(request for unmodified record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for recor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) = 1/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t modified by 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) = 1 – 1/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t modified by any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dat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(1 – 1/n)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 = p(filter bits are all 1 for this reques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n update with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) != i) = 1 – 1/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) !=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) = (1 – 1/m)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one updat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= (1 – 1/m)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dat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= (1 – 1/m)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u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=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dat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= 1 – (1 – 1/m)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u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tur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f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dat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1 – (1 – 1/m)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u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bability Of Filter Err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u) = A *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(1 – 1/n)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*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 – (1 – 1/m)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u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1 – 1/x)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~ e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–q/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u) ~ e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–u/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1 – e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–uh/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p(u)/dh = 0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 = (ln 2)m/u ~ 0.693m/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aïve Mode Of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5640" y="1447560"/>
            <a:ext cx="6553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and File change with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oner or later, system will cra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Master File (MF) from back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Master Index (MI) from back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all transactions since last back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time depends on MF &amp; MI size + #transactions since last backu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5800" y="1447920"/>
            <a:ext cx="1371600" cy="4914720"/>
            <a:chOff x="685800" y="1447920"/>
            <a:chExt cx="1371600" cy="4914720"/>
          </a:xfrm>
        </p:grpSpPr>
        <p:sp>
          <p:nvSpPr>
            <p:cNvPr id="53" name=""/>
            <p:cNvSpPr/>
            <p:nvPr/>
          </p:nvSpPr>
          <p:spPr>
            <a:xfrm>
              <a:off x="762120" y="1447920"/>
              <a:ext cx="914400" cy="799920"/>
            </a:xfrm>
            <a:prstGeom prst="flowChartPunchedCar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5238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685800" y="2819520"/>
              <a:ext cx="1371600" cy="990360"/>
              <a:chOff x="685800" y="2819520"/>
              <a:chExt cx="1371600" cy="990360"/>
            </a:xfrm>
          </p:grpSpPr>
          <p:sp>
            <p:nvSpPr>
              <p:cNvPr id="56" name=""/>
              <p:cNvSpPr/>
              <p:nvPr/>
            </p:nvSpPr>
            <p:spPr>
              <a:xfrm>
                <a:off x="685800" y="2819520"/>
                <a:ext cx="1219320" cy="99036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8080" y="304812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e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838080" y="4343400"/>
              <a:ext cx="990720" cy="609480"/>
              <a:chOff x="838080" y="4343400"/>
              <a:chExt cx="990720" cy="609480"/>
            </a:xfrm>
          </p:grpSpPr>
          <p:sp>
            <p:nvSpPr>
              <p:cNvPr id="59" name=""/>
              <p:cNvSpPr/>
              <p:nvPr/>
            </p:nvSpPr>
            <p:spPr>
              <a:xfrm>
                <a:off x="838080" y="4343400"/>
                <a:ext cx="914400" cy="6094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14400" y="43434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38080" y="5562720"/>
              <a:ext cx="990360" cy="799920"/>
              <a:chOff x="838080" y="5562720"/>
              <a:chExt cx="990360" cy="799920"/>
            </a:xfrm>
          </p:grpSpPr>
          <p:sp>
            <p:nvSpPr>
              <p:cNvPr id="62" name=""/>
              <p:cNvSpPr/>
              <p:nvPr/>
            </p:nvSpPr>
            <p:spPr>
              <a:xfrm>
                <a:off x="838080" y="5562720"/>
                <a:ext cx="914400" cy="799920"/>
              </a:xfrm>
              <a:prstGeom prst="flowChartPunchedCard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14040" y="563868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ns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95280" y="2209680"/>
              <a:ext cx="0" cy="6858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95280" y="3809880"/>
              <a:ext cx="0" cy="53352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95280" y="5029200"/>
              <a:ext cx="0" cy="53352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timal 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4343400"/>
            <a:ext cx="38862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 ~ 0.693m/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= 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= 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 ~ 1.3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h 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h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4343400"/>
            <a:ext cx="4343400" cy="220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= 2*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= 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 ~ 2.7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h 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h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752480" y="1066320"/>
            <a:ext cx="6623640" cy="3172320"/>
            <a:chOff x="1752480" y="1066320"/>
            <a:chExt cx="6623640" cy="3172320"/>
          </a:xfrm>
        </p:grpSpPr>
        <p:grpSp>
          <p:nvGrpSpPr>
            <p:cNvPr id="436" name=""/>
            <p:cNvGrpSpPr/>
            <p:nvPr/>
          </p:nvGrpSpPr>
          <p:grpSpPr>
            <a:xfrm>
              <a:off x="1752480" y="1066320"/>
              <a:ext cx="5257800" cy="3172320"/>
              <a:chOff x="1752480" y="1066320"/>
              <a:chExt cx="5257800" cy="3172320"/>
            </a:xfrm>
          </p:grpSpPr>
          <p:sp>
            <p:nvSpPr>
              <p:cNvPr id="437" name=""/>
              <p:cNvSpPr/>
              <p:nvPr/>
            </p:nvSpPr>
            <p:spPr>
              <a:xfrm>
                <a:off x="5638680" y="365724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2666880" y="1066320"/>
                <a:ext cx="0" cy="24382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666880" y="3504960"/>
                <a:ext cx="434340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52480" y="2057040"/>
                <a:ext cx="99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p(u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048120" y="1828440"/>
                <a:ext cx="1447560" cy="1143000"/>
              </a:xfrm>
              <a:custGeom>
                <a:avLst/>
                <a:gdLst/>
                <a:ahLst/>
                <a:rect l="l" t="t" r="r" b="b"/>
                <a:pathLst>
                  <a:path w="912" h="720">
                    <a:moveTo>
                      <a:pt x="0" y="0"/>
                    </a:moveTo>
                    <a:cubicBezTo>
                      <a:pt x="20" y="180"/>
                      <a:pt x="40" y="360"/>
                      <a:pt x="192" y="480"/>
                    </a:cubicBezTo>
                    <a:cubicBezTo>
                      <a:pt x="344" y="600"/>
                      <a:pt x="784" y="680"/>
                      <a:pt x="912" y="720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4495680" y="1828440"/>
                <a:ext cx="1447920" cy="1143000"/>
              </a:xfrm>
              <a:custGeom>
                <a:avLst/>
                <a:gdLst/>
                <a:ahLst/>
                <a:rect l="l" t="t" r="r" b="b"/>
                <a:pathLst>
                  <a:path w="912" h="720">
                    <a:moveTo>
                      <a:pt x="0" y="0"/>
                    </a:moveTo>
                    <a:cubicBezTo>
                      <a:pt x="20" y="180"/>
                      <a:pt x="40" y="360"/>
                      <a:pt x="192" y="480"/>
                    </a:cubicBezTo>
                    <a:cubicBezTo>
                      <a:pt x="344" y="600"/>
                      <a:pt x="784" y="680"/>
                      <a:pt x="912" y="720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495680" y="2971440"/>
                <a:ext cx="0" cy="53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191120" y="3581280"/>
                <a:ext cx="761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op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4650480" y="1143000"/>
              <a:ext cx="372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p(u) ~ e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–u/n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(1 – e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–uh/m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fferential Fi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no changes to master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 index and write updated record to a new file call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ifferential 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fferential File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1447920"/>
            <a:ext cx="2157480" cy="4914720"/>
            <a:chOff x="228600" y="1447920"/>
            <a:chExt cx="2157480" cy="4914720"/>
          </a:xfrm>
        </p:grpSpPr>
        <p:sp>
          <p:nvSpPr>
            <p:cNvPr id="71" name=""/>
            <p:cNvSpPr/>
            <p:nvPr/>
          </p:nvSpPr>
          <p:spPr>
            <a:xfrm>
              <a:off x="762120" y="1447920"/>
              <a:ext cx="914400" cy="799920"/>
            </a:xfrm>
            <a:prstGeom prst="flowChartPunchedCar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8080" y="15238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85800" y="2819520"/>
              <a:ext cx="1371600" cy="990360"/>
              <a:chOff x="685800" y="2819520"/>
              <a:chExt cx="1371600" cy="990360"/>
            </a:xfrm>
          </p:grpSpPr>
          <p:sp>
            <p:nvSpPr>
              <p:cNvPr id="74" name=""/>
              <p:cNvSpPr/>
              <p:nvPr/>
            </p:nvSpPr>
            <p:spPr>
              <a:xfrm>
                <a:off x="685800" y="2819520"/>
                <a:ext cx="1219320" cy="99036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38080" y="304812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e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28600" y="4343400"/>
              <a:ext cx="990720" cy="609480"/>
              <a:chOff x="228600" y="4343400"/>
              <a:chExt cx="990720" cy="609480"/>
            </a:xfrm>
          </p:grpSpPr>
          <p:sp>
            <p:nvSpPr>
              <p:cNvPr id="77" name=""/>
              <p:cNvSpPr/>
              <p:nvPr/>
            </p:nvSpPr>
            <p:spPr>
              <a:xfrm>
                <a:off x="228600" y="4343400"/>
                <a:ext cx="914400" cy="6094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04920" y="43434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838080" y="5562720"/>
              <a:ext cx="990360" cy="799920"/>
              <a:chOff x="838080" y="5562720"/>
              <a:chExt cx="990360" cy="799920"/>
            </a:xfrm>
          </p:grpSpPr>
          <p:sp>
            <p:nvSpPr>
              <p:cNvPr id="80" name=""/>
              <p:cNvSpPr/>
              <p:nvPr/>
            </p:nvSpPr>
            <p:spPr>
              <a:xfrm>
                <a:off x="838080" y="5562720"/>
                <a:ext cx="914400" cy="799920"/>
              </a:xfrm>
              <a:prstGeom prst="flowChartPunchedCard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14040" y="563868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ns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1295280" y="2209680"/>
              <a:ext cx="0" cy="6858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800" y="3352680"/>
              <a:ext cx="0" cy="99072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120" y="4952880"/>
              <a:ext cx="533160" cy="60984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00200" y="4343400"/>
              <a:ext cx="633240" cy="60948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00200" y="434340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5120" y="3352680"/>
              <a:ext cx="0" cy="99072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447920" y="4952880"/>
              <a:ext cx="457200" cy="60984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1447560"/>
            <a:ext cx="65530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F is smaller than File and so may be backed up more frequ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needs to be backed up whenever DF is. So, index should be no larger than D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covery time is redu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fferential File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28600" y="1447920"/>
            <a:ext cx="2157480" cy="4914720"/>
            <a:chOff x="228600" y="1447920"/>
            <a:chExt cx="2157480" cy="4914720"/>
          </a:xfrm>
        </p:grpSpPr>
        <p:sp>
          <p:nvSpPr>
            <p:cNvPr id="92" name=""/>
            <p:cNvSpPr/>
            <p:nvPr/>
          </p:nvSpPr>
          <p:spPr>
            <a:xfrm>
              <a:off x="762120" y="1447920"/>
              <a:ext cx="914400" cy="799920"/>
            </a:xfrm>
            <a:prstGeom prst="flowChartPunchedCar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15238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685800" y="2819520"/>
              <a:ext cx="1371600" cy="990360"/>
              <a:chOff x="685800" y="2819520"/>
              <a:chExt cx="1371600" cy="990360"/>
            </a:xfrm>
          </p:grpSpPr>
          <p:sp>
            <p:nvSpPr>
              <p:cNvPr id="95" name=""/>
              <p:cNvSpPr/>
              <p:nvPr/>
            </p:nvSpPr>
            <p:spPr>
              <a:xfrm>
                <a:off x="685800" y="2819520"/>
                <a:ext cx="1219320" cy="99036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38080" y="304812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e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8600" y="4343400"/>
              <a:ext cx="990720" cy="609480"/>
              <a:chOff x="228600" y="4343400"/>
              <a:chExt cx="990720" cy="609480"/>
            </a:xfrm>
          </p:grpSpPr>
          <p:sp>
            <p:nvSpPr>
              <p:cNvPr id="98" name=""/>
              <p:cNvSpPr/>
              <p:nvPr/>
            </p:nvSpPr>
            <p:spPr>
              <a:xfrm>
                <a:off x="228600" y="4343400"/>
                <a:ext cx="914400" cy="6094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4920" y="43434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838080" y="5562720"/>
              <a:ext cx="990360" cy="799920"/>
              <a:chOff x="838080" y="5562720"/>
              <a:chExt cx="990360" cy="799920"/>
            </a:xfrm>
          </p:grpSpPr>
          <p:sp>
            <p:nvSpPr>
              <p:cNvPr id="101" name=""/>
              <p:cNvSpPr/>
              <p:nvPr/>
            </p:nvSpPr>
            <p:spPr>
              <a:xfrm>
                <a:off x="838080" y="5562720"/>
                <a:ext cx="914400" cy="799920"/>
              </a:xfrm>
              <a:prstGeom prst="flowChartPunchedCard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14040" y="563868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ns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295280" y="2209680"/>
              <a:ext cx="0" cy="6858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" y="3352680"/>
              <a:ext cx="0" cy="99072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120" y="4952880"/>
              <a:ext cx="533160" cy="60984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00200" y="4343400"/>
              <a:ext cx="633240" cy="60948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0200" y="434340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5120" y="3352680"/>
              <a:ext cx="0" cy="99072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447920" y="4952880"/>
              <a:ext cx="457200" cy="60984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5640" y="1447560"/>
            <a:ext cx="65530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DF becomes large and can no longer be backed up with desired frequ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integrate File and DF no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integration, DF is emp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fferential File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" y="1447920"/>
            <a:ext cx="2157480" cy="4914720"/>
            <a:chOff x="228600" y="1447920"/>
            <a:chExt cx="2157480" cy="4914720"/>
          </a:xfrm>
        </p:grpSpPr>
        <p:sp>
          <p:nvSpPr>
            <p:cNvPr id="113" name=""/>
            <p:cNvSpPr/>
            <p:nvPr/>
          </p:nvSpPr>
          <p:spPr>
            <a:xfrm>
              <a:off x="762120" y="1447920"/>
              <a:ext cx="914400" cy="799920"/>
            </a:xfrm>
            <a:prstGeom prst="flowChartPunchedCar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8080" y="15238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85800" y="2819520"/>
              <a:ext cx="1371600" cy="990360"/>
              <a:chOff x="685800" y="2819520"/>
              <a:chExt cx="1371600" cy="990360"/>
            </a:xfrm>
          </p:grpSpPr>
          <p:sp>
            <p:nvSpPr>
              <p:cNvPr id="116" name=""/>
              <p:cNvSpPr/>
              <p:nvPr/>
            </p:nvSpPr>
            <p:spPr>
              <a:xfrm>
                <a:off x="685800" y="2819520"/>
                <a:ext cx="1219320" cy="99036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38080" y="304812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e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8600" y="4343400"/>
              <a:ext cx="990720" cy="609480"/>
              <a:chOff x="228600" y="4343400"/>
              <a:chExt cx="990720" cy="60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228600" y="4343400"/>
                <a:ext cx="914400" cy="6094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4920" y="43434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838080" y="5562720"/>
              <a:ext cx="990360" cy="799920"/>
              <a:chOff x="838080" y="5562720"/>
              <a:chExt cx="990360" cy="799920"/>
            </a:xfrm>
          </p:grpSpPr>
          <p:sp>
            <p:nvSpPr>
              <p:cNvPr id="122" name=""/>
              <p:cNvSpPr/>
              <p:nvPr/>
            </p:nvSpPr>
            <p:spPr>
              <a:xfrm>
                <a:off x="838080" y="5562720"/>
                <a:ext cx="914400" cy="799920"/>
              </a:xfrm>
              <a:prstGeom prst="flowChartPunchedCard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14040" y="563868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ns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295280" y="2209680"/>
              <a:ext cx="0" cy="6858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3352680"/>
              <a:ext cx="0" cy="99072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4952880"/>
              <a:ext cx="533160" cy="60984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0200" y="4343400"/>
              <a:ext cx="633240" cy="60948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0200" y="434340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5120" y="3352680"/>
              <a:ext cx="0" cy="99072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447920" y="4952880"/>
              <a:ext cx="457200" cy="60984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5640" y="1447560"/>
            <a:ext cx="65530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Ind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annot be backed up as frequently as des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recover current state of index &amp; DF is exces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differential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no changes to Ind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is an index to all deleted records and updated records in D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fferential File &amp; Index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5105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h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queries search both DI and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in # of disk accesses/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filter to decide whether or not DI should be sear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990720"/>
            <a:ext cx="2286000" cy="5638680"/>
            <a:chOff x="228600" y="990720"/>
            <a:chExt cx="2286000" cy="5638680"/>
          </a:xfrm>
        </p:grpSpPr>
        <p:sp>
          <p:nvSpPr>
            <p:cNvPr id="135" name=""/>
            <p:cNvSpPr/>
            <p:nvPr/>
          </p:nvSpPr>
          <p:spPr>
            <a:xfrm>
              <a:off x="762120" y="990720"/>
              <a:ext cx="914400" cy="685800"/>
            </a:xfrm>
            <a:prstGeom prst="flowChartPunchedCar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8080" y="1066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85800" y="3733920"/>
              <a:ext cx="1371600" cy="914400"/>
              <a:chOff x="685800" y="3733920"/>
              <a:chExt cx="1371600" cy="914400"/>
            </a:xfrm>
          </p:grpSpPr>
          <p:sp>
            <p:nvSpPr>
              <p:cNvPr id="138" name=""/>
              <p:cNvSpPr/>
              <p:nvPr/>
            </p:nvSpPr>
            <p:spPr>
              <a:xfrm>
                <a:off x="685800" y="3733920"/>
                <a:ext cx="1219320" cy="91440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38080" y="394488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e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28600" y="4876920"/>
              <a:ext cx="990720" cy="609480"/>
              <a:chOff x="228600" y="4876920"/>
              <a:chExt cx="990720" cy="609480"/>
            </a:xfrm>
          </p:grpSpPr>
          <p:sp>
            <p:nvSpPr>
              <p:cNvPr id="141" name=""/>
              <p:cNvSpPr/>
              <p:nvPr/>
            </p:nvSpPr>
            <p:spPr>
              <a:xfrm>
                <a:off x="228600" y="4876920"/>
                <a:ext cx="914400" cy="6094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4920" y="487692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838080" y="5943600"/>
              <a:ext cx="990360" cy="685800"/>
              <a:chOff x="838080" y="5943600"/>
              <a:chExt cx="990360" cy="685800"/>
            </a:xfrm>
          </p:grpSpPr>
          <p:sp>
            <p:nvSpPr>
              <p:cNvPr id="144" name=""/>
              <p:cNvSpPr/>
              <p:nvPr/>
            </p:nvSpPr>
            <p:spPr>
              <a:xfrm>
                <a:off x="838080" y="5943600"/>
                <a:ext cx="914400" cy="685800"/>
              </a:xfrm>
              <a:prstGeom prst="flowChartPunchedCard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14040" y="600876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ns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1295280" y="3048120"/>
              <a:ext cx="0" cy="6858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800" y="4191120"/>
              <a:ext cx="0" cy="6858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120" y="5486400"/>
              <a:ext cx="457200" cy="4572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0200" y="4876920"/>
              <a:ext cx="633240" cy="60948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0200" y="487692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743200"/>
              <a:ext cx="0" cy="20574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447920" y="5486400"/>
              <a:ext cx="457200" cy="4572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" y="2286000"/>
              <a:ext cx="1219320" cy="9144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90720" y="25146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1676520"/>
              <a:ext cx="0" cy="60948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05120" y="2743200"/>
              <a:ext cx="152280" cy="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5740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2120" y="3124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deal Filt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8600" y="990720"/>
            <a:ext cx="3809880" cy="5638680"/>
            <a:chOff x="228600" y="990720"/>
            <a:chExt cx="3809880" cy="5638680"/>
          </a:xfrm>
        </p:grpSpPr>
        <p:sp>
          <p:nvSpPr>
            <p:cNvPr id="162" name=""/>
            <p:cNvSpPr/>
            <p:nvPr/>
          </p:nvSpPr>
          <p:spPr>
            <a:xfrm>
              <a:off x="762120" y="990720"/>
              <a:ext cx="914400" cy="685800"/>
            </a:xfrm>
            <a:prstGeom prst="flowChartPunchedCar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080" y="1066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685800" y="3733920"/>
              <a:ext cx="1371600" cy="914400"/>
              <a:chOff x="685800" y="3733920"/>
              <a:chExt cx="1371600" cy="91440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" y="3733920"/>
                <a:ext cx="1219320" cy="91440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38080" y="394488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e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28600" y="4876920"/>
              <a:ext cx="990720" cy="609480"/>
              <a:chOff x="228600" y="4876920"/>
              <a:chExt cx="990720" cy="609480"/>
            </a:xfrm>
          </p:grpSpPr>
          <p:sp>
            <p:nvSpPr>
              <p:cNvPr id="168" name=""/>
              <p:cNvSpPr/>
              <p:nvPr/>
            </p:nvSpPr>
            <p:spPr>
              <a:xfrm>
                <a:off x="228600" y="4876920"/>
                <a:ext cx="914400" cy="6094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4920" y="487692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38080" y="5943600"/>
              <a:ext cx="990360" cy="685800"/>
              <a:chOff x="838080" y="5943600"/>
              <a:chExt cx="990360" cy="685800"/>
            </a:xfrm>
          </p:grpSpPr>
          <p:sp>
            <p:nvSpPr>
              <p:cNvPr id="171" name=""/>
              <p:cNvSpPr/>
              <p:nvPr/>
            </p:nvSpPr>
            <p:spPr>
              <a:xfrm>
                <a:off x="838080" y="5943600"/>
                <a:ext cx="914400" cy="685800"/>
              </a:xfrm>
              <a:prstGeom prst="flowChartPunchedCard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14040" y="600876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ns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1295280" y="3048120"/>
              <a:ext cx="0" cy="6858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5800" y="4191120"/>
              <a:ext cx="0" cy="6858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120" y="5486400"/>
              <a:ext cx="457200" cy="4572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0200" y="4876920"/>
              <a:ext cx="633240" cy="60948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00200" y="487692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057040" y="3200400"/>
              <a:ext cx="1066680" cy="16002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447920" y="5486400"/>
              <a:ext cx="457200" cy="4572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2286000"/>
              <a:ext cx="1219320" cy="9144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080" y="25146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95280" y="1676520"/>
              <a:ext cx="0" cy="60948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2743200"/>
              <a:ext cx="685800" cy="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0" y="3352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2120" y="3124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Gill Sans Ultra Bold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60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4600" y="2286000"/>
              <a:ext cx="1219320" cy="9144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25146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05120" y="2209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Gill Sans Ultra Bold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5105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 Ultra Bold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key is in the D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 Ultra Bold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key is not in the D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ity of ideal filter is same as that of D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a filter that eliminates performance hit of DI doesn’t 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loom Filter (BF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733560" y="144792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 Ultra Bold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key is not in the D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 Ultra Bold"/>
              </a:rPr>
              <a:t>M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(mayb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key may be in the D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F says May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 says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" y="990720"/>
            <a:ext cx="3809880" cy="5638680"/>
            <a:chOff x="228600" y="990720"/>
            <a:chExt cx="3809880" cy="5638680"/>
          </a:xfrm>
        </p:grpSpPr>
        <p:sp>
          <p:nvSpPr>
            <p:cNvPr id="194" name=""/>
            <p:cNvSpPr/>
            <p:nvPr/>
          </p:nvSpPr>
          <p:spPr>
            <a:xfrm>
              <a:off x="762120" y="990720"/>
              <a:ext cx="914400" cy="685800"/>
            </a:xfrm>
            <a:prstGeom prst="flowChartPunchedCar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1066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85800" y="3733920"/>
              <a:ext cx="1371600" cy="914400"/>
              <a:chOff x="685800" y="3733920"/>
              <a:chExt cx="1371600" cy="914400"/>
            </a:xfrm>
          </p:grpSpPr>
          <p:sp>
            <p:nvSpPr>
              <p:cNvPr id="197" name=""/>
              <p:cNvSpPr/>
              <p:nvPr/>
            </p:nvSpPr>
            <p:spPr>
              <a:xfrm>
                <a:off x="685800" y="3733920"/>
                <a:ext cx="1219320" cy="91440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38080" y="394488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e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8600" y="4876920"/>
              <a:ext cx="990720" cy="609480"/>
              <a:chOff x="228600" y="4876920"/>
              <a:chExt cx="990720" cy="609480"/>
            </a:xfrm>
          </p:grpSpPr>
          <p:sp>
            <p:nvSpPr>
              <p:cNvPr id="200" name=""/>
              <p:cNvSpPr/>
              <p:nvPr/>
            </p:nvSpPr>
            <p:spPr>
              <a:xfrm>
                <a:off x="228600" y="4876920"/>
                <a:ext cx="914400" cy="6094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4920" y="487692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838080" y="5943600"/>
              <a:ext cx="990360" cy="685800"/>
              <a:chOff x="838080" y="5943600"/>
              <a:chExt cx="990360" cy="685800"/>
            </a:xfrm>
          </p:grpSpPr>
          <p:sp>
            <p:nvSpPr>
              <p:cNvPr id="203" name=""/>
              <p:cNvSpPr/>
              <p:nvPr/>
            </p:nvSpPr>
            <p:spPr>
              <a:xfrm>
                <a:off x="838080" y="5943600"/>
                <a:ext cx="914400" cy="685800"/>
              </a:xfrm>
              <a:prstGeom prst="flowChartPunchedCard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914040" y="600876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ns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295280" y="3048120"/>
              <a:ext cx="0" cy="6858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" y="4191120"/>
              <a:ext cx="0" cy="6858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2120" y="5486400"/>
              <a:ext cx="457200" cy="4572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895480" y="4952880"/>
              <a:ext cx="785880" cy="609480"/>
              <a:chOff x="2895480" y="4952880"/>
              <a:chExt cx="785880" cy="609480"/>
            </a:xfrm>
          </p:grpSpPr>
          <p:sp>
            <p:nvSpPr>
              <p:cNvPr id="209" name=""/>
              <p:cNvSpPr/>
              <p:nvPr/>
            </p:nvSpPr>
            <p:spPr>
              <a:xfrm>
                <a:off x="2895480" y="4952880"/>
                <a:ext cx="633240" cy="609480"/>
              </a:xfrm>
              <a:prstGeom prst="flowChartAlternateProcess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895480" y="4952880"/>
                <a:ext cx="78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D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>
              <a:off x="1295280" y="3200400"/>
              <a:ext cx="1828800" cy="53352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676160" y="5562720"/>
              <a:ext cx="1523880" cy="76176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" y="2286000"/>
              <a:ext cx="1219320" cy="9144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90720" y="25146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95280" y="1676520"/>
              <a:ext cx="0" cy="60948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05120" y="2743200"/>
              <a:ext cx="685800" cy="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1800" y="35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120" y="3124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Gill Sans Ultra Bold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860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14600" y="2286000"/>
              <a:ext cx="1219320" cy="9144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25146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05120" y="2209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Gill Sans Ultra Bold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81080" y="29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00400" y="2743200"/>
              <a:ext cx="533520" cy="220968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7-09-13T14:36:16Z</dcterms:modified>
  <cp:revision>298</cp:revision>
  <dc:subject/>
  <dc:title>Data Representation Methods</dc:title>
</cp:coreProperties>
</file>