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whoosh.wav" ContentType="audio/x-wav"/>
  <Override PartName="/ppt/media/driveby.wav" ContentType="audio/x-wav"/>
  <Override PartName="/ppt/media/laser.wav" ContentType="audio/x-wav"/>
  <Override PartName="/ppt/media/drumroll.wav" ContentType="audio/x-wav"/>
  <Override PartName="/ppt/media/applause.wav" ContentType="audio/x-wav"/>
  <Override PartName="/ppt/media/carbrake.wav" ContentType="audio/x-wav"/>
  <Override PartName="/ppt/media/explode.wav" ContentType="audio/x-wav"/>
  <Override PartName="/ppt/media/image2.gif" ContentType="image/gif"/>
  <Override PartName="/ppt/media/chimes.wav" ContentType="audio/x-wav"/>
  <Override PartName="/ppt/media/gunshot.wav" ContentType="audio/x-wav"/>
  <Override PartName="/ppt/media/image3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15E5-995D-4D2F-939C-94871F675AA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ins may be sorted or unsorted (the text uses sorted chai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ut that increases the number of pairs in the table involves an unsuccessful search followed by the addition of an element. An unsuccessful remove is essentially an unsuccessful search. A successful remove must also go to the end of the cluster and so is like an unsuccessful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845-758B-4EFA-BC23-00D81A1A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B75-FB96-4F77-A8B4-FA2CD509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1A6-8E3E-4BA4-91E8-F2054224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A106-5BC9-4BB3-B6CE-83D7D15A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8E1-CE8C-4CF3-9E21-09630D04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2B9-2FFC-4AEF-9E38-AA941190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8CE-204A-49BC-B031-99B19ECB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191-8A82-4278-B43C-63823232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A0A-DA9A-45D4-940B-6D8059C4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66E-6B06-4EFF-9E90-91A08380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8BB-A5D8-4830-9692-CF1AEBFF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E30-D00A-47BC-B8FB-BBBEB018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692B-DE98-48AB-BD84-2BAFE3F2F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driveby.wav"/><Relationship Id="rId3" Type="http://schemas.openxmlformats.org/officeDocument/2006/relationships/audio" Target="../media/drumroll.wav"/><Relationship Id="rId4" Type="http://schemas.openxmlformats.org/officeDocument/2006/relationships/audio" Target="../media/carbrake.wav"/><Relationship Id="rId5" Type="http://schemas.openxmlformats.org/officeDocument/2006/relationships/audio" Target="../media/explode.wav"/><Relationship Id="rId6" Type="http://schemas.openxmlformats.org/officeDocument/2006/relationships/audio" Target="../media/laser.wav"/><Relationship Id="rId7" Type="http://schemas.openxmlformats.org/officeDocument/2006/relationships/audio" Target="../media/explode.wav"/><Relationship Id="rId8" Type="http://schemas.openxmlformats.org/officeDocument/2006/relationships/audio" Target="../media/chimes.wav"/><Relationship Id="rId9" Type="http://schemas.openxmlformats.org/officeDocument/2006/relationships/audio" Target="../media/explode.wav"/><Relationship Id="rId10" Type="http://schemas.openxmlformats.org/officeDocument/2006/relationships/audio" Target="../media/chimes.wav"/><Relationship Id="rId11" Type="http://schemas.openxmlformats.org/officeDocument/2006/relationships/audio" Target="../media/gunshot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verflow Hand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flow occurs when the home bucket for a new pai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ey, elemen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f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handle overflows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the hash table in some systematic fashion for a bucket that is not f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robing (linear open address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dratic pro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pro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overflows by permitting each bucket to keep a list of all pairs for which it is the home buc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 linear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3204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Table Desig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resizing of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ever loading density exceeds threshold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/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our example), rehash into a table of approximately twice the current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table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maximum number of p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ore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ing densit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4/5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b &gt;= 5/4*1000 = 12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k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qual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be a prime number or an odd number with no prime divisors smaller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38080" y="62784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List Of Synony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ucket keeps a linear list of all pairs for which it is the home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near list may or may not be sorted by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near list may be an array linear list or a ch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457200" y="1600200"/>
            <a:ext cx="2895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pairs whose keys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, 12, 34, 29, 28, 11, 23, 7, 0, 33, 30,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bucke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 key % 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57200" y="5335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rted Ch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343400" y="0"/>
            <a:ext cx="4260960" cy="6553080"/>
            <a:chOff x="4343400" y="0"/>
            <a:chExt cx="4260960" cy="6553080"/>
          </a:xfrm>
        </p:grpSpPr>
        <p:sp>
          <p:nvSpPr>
            <p:cNvPr id="613" name=""/>
            <p:cNvSpPr/>
            <p:nvPr/>
          </p:nvSpPr>
          <p:spPr>
            <a:xfrm>
              <a:off x="5035680" y="82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035680" y="463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35680" y="844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35680" y="1225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35680" y="1606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95680" y="0"/>
              <a:ext cx="60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19720" y="1523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21480" y="82440"/>
              <a:ext cx="44424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78680" y="824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11840" y="82440"/>
              <a:ext cx="44460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69040" y="8244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81480" y="2286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324480" y="2286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35680" y="1987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35680" y="2368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035680" y="274968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35680" y="31305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035680" y="35114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95680" y="3048120"/>
              <a:ext cx="60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8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21480" y="2368440"/>
              <a:ext cx="44424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78680" y="23684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11840" y="2368440"/>
              <a:ext cx="44460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69040" y="2368440"/>
              <a:ext cx="292320" cy="292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1480" y="25146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24480" y="25146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21480" y="274968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78680" y="274968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81480" y="28954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35680" y="38307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35680" y="42116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721480" y="421164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81480" y="43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78680" y="421164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711840" y="4211640"/>
              <a:ext cx="44460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69040" y="421164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324480" y="43578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54840" y="4211640"/>
              <a:ext cx="44460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2040" y="4211640"/>
              <a:ext cx="29232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15200" y="43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5680" y="459252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35680" y="49737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5680" y="535464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35680" y="573552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35680" y="6116760"/>
              <a:ext cx="36828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43400" y="4495680"/>
              <a:ext cx="990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1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43400" y="6033960"/>
              <a:ext cx="914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1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21480" y="457848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78680" y="45784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11840" y="4578480"/>
              <a:ext cx="44460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169040" y="4578480"/>
              <a:ext cx="29232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81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324480" y="4724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721480" y="497376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178680" y="4973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81480" y="51195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21480" y="6116760"/>
              <a:ext cx="444240" cy="291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81480" y="62625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78680" y="6116760"/>
              <a:ext cx="29196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15000" y="4495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791320" y="22860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05720" y="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705720" y="4495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057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1500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05720" y="22860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791320" y="2666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91320" y="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15000" y="60199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15000" y="48769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487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cted 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43792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&gt;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chain length is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~ 1 +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~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960480" cy="18856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838080" y="62784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Probing – Get And 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ivisor = 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umber of buckets)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 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ome bucket = key % 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85800" y="3048120"/>
            <a:ext cx="7772400" cy="838080"/>
            <a:chOff x="685800" y="3048120"/>
            <a:chExt cx="7772400" cy="838080"/>
          </a:xfrm>
        </p:grpSpPr>
        <p:sp>
          <p:nvSpPr>
            <p:cNvPr id="55" name=""/>
            <p:cNvSpPr/>
            <p:nvPr/>
          </p:nvSpPr>
          <p:spPr>
            <a:xfrm>
              <a:off x="6858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30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002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574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146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718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290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862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434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578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150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722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294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866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438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01000" y="35053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176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146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72200" y="3048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246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572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pairs whose keys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, 12, 34, 29, 28, 11, 23, 7, 0, 33, 30,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Probing – Dele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28195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lete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5800" y="1600200"/>
            <a:ext cx="7848720" cy="840600"/>
            <a:chOff x="685800" y="1600200"/>
            <a:chExt cx="7848720" cy="840600"/>
          </a:xfrm>
        </p:grpSpPr>
        <p:grpSp>
          <p:nvGrpSpPr>
            <p:cNvPr id="93" name=""/>
            <p:cNvGrpSpPr/>
            <p:nvPr/>
          </p:nvGrpSpPr>
          <p:grpSpPr>
            <a:xfrm>
              <a:off x="685800" y="1600200"/>
              <a:ext cx="7772400" cy="838080"/>
              <a:chOff x="685800" y="1600200"/>
              <a:chExt cx="7772400" cy="838080"/>
            </a:xfrm>
          </p:grpSpPr>
          <p:sp>
            <p:nvSpPr>
              <p:cNvPr id="94" name=""/>
              <p:cNvSpPr/>
              <p:nvPr/>
            </p:nvSpPr>
            <p:spPr>
              <a:xfrm>
                <a:off x="6858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430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002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574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146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9718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290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862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434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8006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2578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150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1722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294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866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5438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01000" y="205740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1760" y="1600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14600" y="1600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43400" y="1600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72200" y="16002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924680" y="16002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42900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9588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294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5800" y="1981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150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6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1981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972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010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438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0200" y="1981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09480" y="3581280"/>
            <a:ext cx="7848720" cy="840960"/>
            <a:chOff x="609480" y="3581280"/>
            <a:chExt cx="7848720" cy="840960"/>
          </a:xfrm>
        </p:grpSpPr>
        <p:sp>
          <p:nvSpPr>
            <p:cNvPr id="129" name=""/>
            <p:cNvSpPr/>
            <p:nvPr/>
          </p:nvSpPr>
          <p:spPr>
            <a:xfrm>
              <a:off x="6094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6680" y="4038480"/>
              <a:ext cx="457200" cy="38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38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810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26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98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814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86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58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530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102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674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24680" y="40384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3828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708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3581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48720" y="3581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52680" y="3962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19920" y="3962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0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480" y="3962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386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3962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38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246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0880" y="4876920"/>
            <a:ext cx="78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cluster for pair (if any) to fill vacated buc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5638680"/>
            <a:ext cx="7848720" cy="840960"/>
            <a:chOff x="609480" y="5638680"/>
            <a:chExt cx="7848720" cy="840960"/>
          </a:xfrm>
        </p:grpSpPr>
        <p:sp>
          <p:nvSpPr>
            <p:cNvPr id="164" name=""/>
            <p:cNvSpPr/>
            <p:nvPr/>
          </p:nvSpPr>
          <p:spPr>
            <a:xfrm>
              <a:off x="6094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666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23880" y="6095880"/>
              <a:ext cx="457200" cy="38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10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82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954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26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98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670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242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814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386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58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530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102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674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4680" y="60958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8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3828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6708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5638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48720" y="5638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52680" y="6019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19920" y="6019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530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480" y="60199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102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9880" y="60199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43400" y="6019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666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246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67480" y="6019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Probing – Delete(34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30477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cluster for pair (if any) to fill vacated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85800" y="990720"/>
            <a:ext cx="7848720" cy="840600"/>
            <a:chOff x="685800" y="990720"/>
            <a:chExt cx="7848720" cy="840600"/>
          </a:xfrm>
        </p:grpSpPr>
        <p:grpSp>
          <p:nvGrpSpPr>
            <p:cNvPr id="200" name=""/>
            <p:cNvGrpSpPr/>
            <p:nvPr/>
          </p:nvGrpSpPr>
          <p:grpSpPr>
            <a:xfrm>
              <a:off x="685800" y="990720"/>
              <a:ext cx="7772400" cy="838080"/>
              <a:chOff x="685800" y="990720"/>
              <a:chExt cx="7772400" cy="838080"/>
            </a:xfrm>
          </p:grpSpPr>
          <p:sp>
            <p:nvSpPr>
              <p:cNvPr id="201" name=""/>
              <p:cNvSpPr/>
              <p:nvPr/>
            </p:nvSpPr>
            <p:spPr>
              <a:xfrm>
                <a:off x="685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143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600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057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14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71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29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86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43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800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57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15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72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29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086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543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001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176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1460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340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172200" y="990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924680" y="990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342900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588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294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5800" y="13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150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866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86200" y="13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1972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1932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10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38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00200" y="1371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09480" y="3962520"/>
            <a:ext cx="7848720" cy="840600"/>
            <a:chOff x="609480" y="3962520"/>
            <a:chExt cx="7848720" cy="840600"/>
          </a:xfrm>
        </p:grpSpPr>
        <p:sp>
          <p:nvSpPr>
            <p:cNvPr id="236" name=""/>
            <p:cNvSpPr/>
            <p:nvPr/>
          </p:nvSpPr>
          <p:spPr>
            <a:xfrm>
              <a:off x="6094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66680" y="441972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238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810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382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954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526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098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670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242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814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386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58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530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102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74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2468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58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38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670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958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48720" y="3962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52680" y="4343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19920" y="4343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530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9480" y="4343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386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102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09880" y="4343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34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43000" y="434340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246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674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880" y="4343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09480" y="5029200"/>
            <a:ext cx="7848720" cy="840600"/>
            <a:chOff x="609480" y="5029200"/>
            <a:chExt cx="7848720" cy="840600"/>
          </a:xfrm>
        </p:grpSpPr>
        <p:sp>
          <p:nvSpPr>
            <p:cNvPr id="271" name=""/>
            <p:cNvSpPr/>
            <p:nvPr/>
          </p:nvSpPr>
          <p:spPr>
            <a:xfrm>
              <a:off x="6094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23880" y="548640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810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382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954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526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098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670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242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814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386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958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30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102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674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24680" y="54864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580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828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08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5880" y="5029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48720" y="5029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52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19920" y="5410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530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9480" y="5410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386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102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5410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434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3000" y="541008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246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674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66680" y="5410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85800" y="1981080"/>
            <a:ext cx="7848720" cy="840960"/>
            <a:chOff x="685800" y="1981080"/>
            <a:chExt cx="7848720" cy="840960"/>
          </a:xfrm>
        </p:grpSpPr>
        <p:sp>
          <p:nvSpPr>
            <p:cNvPr id="306" name=""/>
            <p:cNvSpPr/>
            <p:nvPr/>
          </p:nvSpPr>
          <p:spPr>
            <a:xfrm>
              <a:off x="685800" y="2438280"/>
              <a:ext cx="457200" cy="38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43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0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14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71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29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86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3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00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57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15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72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29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86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43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1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1460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4340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722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468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900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588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294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150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866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86200" y="2362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1972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1932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010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438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0020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ear Probing – Delete(29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240" y="30477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cluster for pair (if any) to fill vacated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5800" y="990720"/>
            <a:ext cx="7848720" cy="840600"/>
            <a:chOff x="685800" y="990720"/>
            <a:chExt cx="7848720" cy="840600"/>
          </a:xfrm>
        </p:grpSpPr>
        <p:grpSp>
          <p:nvGrpSpPr>
            <p:cNvPr id="342" name=""/>
            <p:cNvGrpSpPr/>
            <p:nvPr/>
          </p:nvGrpSpPr>
          <p:grpSpPr>
            <a:xfrm>
              <a:off x="685800" y="990720"/>
              <a:ext cx="7772400" cy="838080"/>
              <a:chOff x="685800" y="990720"/>
              <a:chExt cx="7772400" cy="838080"/>
            </a:xfrm>
          </p:grpSpPr>
          <p:sp>
            <p:nvSpPr>
              <p:cNvPr id="343" name=""/>
              <p:cNvSpPr/>
              <p:nvPr/>
            </p:nvSpPr>
            <p:spPr>
              <a:xfrm>
                <a:off x="685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143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600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057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514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71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29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86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343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800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57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15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1722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294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0866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5438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001000" y="14479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6176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51460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343400" y="990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72200" y="990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924680" y="990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342900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9588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94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5800" y="13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150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866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86200" y="13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1972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1932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010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00200" y="1371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85800" y="1981080"/>
            <a:ext cx="7848720" cy="840960"/>
            <a:chOff x="685800" y="1981080"/>
            <a:chExt cx="7848720" cy="840960"/>
          </a:xfrm>
        </p:grpSpPr>
        <p:sp>
          <p:nvSpPr>
            <p:cNvPr id="378" name=""/>
            <p:cNvSpPr/>
            <p:nvPr/>
          </p:nvSpPr>
          <p:spPr>
            <a:xfrm>
              <a:off x="685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3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00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57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14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71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29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86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434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00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57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15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722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9400" y="2438280"/>
              <a:ext cx="457200" cy="38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866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438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01000" y="2438280"/>
              <a:ext cx="457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212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1460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4340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722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2468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2900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9588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29400" y="236232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5800" y="2362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150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866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2362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72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1932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010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438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0020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85800" y="3962520"/>
            <a:ext cx="7848720" cy="840600"/>
            <a:chOff x="685800" y="3962520"/>
            <a:chExt cx="7848720" cy="840600"/>
          </a:xfrm>
        </p:grpSpPr>
        <p:sp>
          <p:nvSpPr>
            <p:cNvPr id="413" name=""/>
            <p:cNvSpPr/>
            <p:nvPr/>
          </p:nvSpPr>
          <p:spPr>
            <a:xfrm>
              <a:off x="6858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430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574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146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718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290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862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434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06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578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150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722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294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86600" y="441972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438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01000" y="441972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12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434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7220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246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290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958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940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800" y="4343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1500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86600" y="43434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86200" y="4343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19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193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0100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4380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0200" y="4343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85800" y="4800600"/>
            <a:ext cx="7848720" cy="840600"/>
            <a:chOff x="685800" y="4800600"/>
            <a:chExt cx="7848720" cy="840600"/>
          </a:xfrm>
        </p:grpSpPr>
        <p:sp>
          <p:nvSpPr>
            <p:cNvPr id="448" name=""/>
            <p:cNvSpPr/>
            <p:nvPr/>
          </p:nvSpPr>
          <p:spPr>
            <a:xfrm>
              <a:off x="6858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430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002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574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146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718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290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862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434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006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578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150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722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294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866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43800" y="525780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001000" y="52578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212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146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3434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7220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468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2900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9588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294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5800" y="5181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150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86600" y="51814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86200" y="5181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1972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1932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010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0866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00200" y="51814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85800" y="5715000"/>
            <a:ext cx="7848720" cy="840600"/>
            <a:chOff x="685800" y="5715000"/>
            <a:chExt cx="7848720" cy="840600"/>
          </a:xfrm>
        </p:grpSpPr>
        <p:sp>
          <p:nvSpPr>
            <p:cNvPr id="483" name=""/>
            <p:cNvSpPr/>
            <p:nvPr/>
          </p:nvSpPr>
          <p:spPr>
            <a:xfrm>
              <a:off x="6858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430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00200" y="617220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574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146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718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290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862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434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8006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578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150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722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294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866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438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01000" y="6172200"/>
              <a:ext cx="457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212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146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434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722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92468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2900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9588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294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5800" y="6095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86600" y="6095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86200" y="6095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1972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1932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01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866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43800" y="6095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formance Of Linear Prob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t-case find/insert/erase time is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pairs in the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happens when all pairs are in the same clu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1851120" cy="1451160"/>
          </a:xfrm>
          <a:prstGeom prst="rect">
            <a:avLst/>
          </a:prstGeom>
          <a:ln w="0">
            <a:noFill/>
          </a:ln>
        </p:spPr>
      </p:pic>
      <p:grpSp>
        <p:nvGrpSpPr>
          <p:cNvPr id="520" name=""/>
          <p:cNvGrpSpPr/>
          <p:nvPr/>
        </p:nvGrpSpPr>
        <p:grpSpPr>
          <a:xfrm>
            <a:off x="685800" y="2819520"/>
            <a:ext cx="7848720" cy="840600"/>
            <a:chOff x="685800" y="2819520"/>
            <a:chExt cx="7848720" cy="840600"/>
          </a:xfrm>
        </p:grpSpPr>
        <p:grpSp>
          <p:nvGrpSpPr>
            <p:cNvPr id="521" name=""/>
            <p:cNvGrpSpPr/>
            <p:nvPr/>
          </p:nvGrpSpPr>
          <p:grpSpPr>
            <a:xfrm>
              <a:off x="685800" y="2819520"/>
              <a:ext cx="7772400" cy="838080"/>
              <a:chOff x="685800" y="2819520"/>
              <a:chExt cx="7772400" cy="838080"/>
            </a:xfrm>
          </p:grpSpPr>
          <p:sp>
            <p:nvSpPr>
              <p:cNvPr id="522" name=""/>
              <p:cNvSpPr/>
              <p:nvPr/>
            </p:nvSpPr>
            <p:spPr>
              <a:xfrm>
                <a:off x="6858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1430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002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0574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5146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9718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4290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8862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434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006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2578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7150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1722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6294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0866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5438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001000" y="327672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61760" y="2819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514600" y="2819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43400" y="2819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172200" y="2819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924680" y="28195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342900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9588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294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58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50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866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862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1972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1932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010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438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002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cted 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28600" y="2895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4000"/>
          </a:bodyPr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loading density = (number of pairs)/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200" indent="-6840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= 12/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ected number of buckets examined in a successful search 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ected number of buckets examined in a unsuccessful search 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-82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to put and remove governed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960480" cy="1886040"/>
          </a:xfrm>
          <a:prstGeom prst="rect">
            <a:avLst/>
          </a:prstGeom>
          <a:ln w="0">
            <a:noFill/>
          </a:ln>
        </p:spPr>
      </p:pic>
      <p:grpSp>
        <p:nvGrpSpPr>
          <p:cNvPr id="559" name=""/>
          <p:cNvGrpSpPr/>
          <p:nvPr/>
        </p:nvGrpSpPr>
        <p:grpSpPr>
          <a:xfrm>
            <a:off x="380880" y="1981080"/>
            <a:ext cx="7848720" cy="840600"/>
            <a:chOff x="380880" y="1981080"/>
            <a:chExt cx="7848720" cy="840600"/>
          </a:xfrm>
        </p:grpSpPr>
        <p:grpSp>
          <p:nvGrpSpPr>
            <p:cNvPr id="560" name=""/>
            <p:cNvGrpSpPr/>
            <p:nvPr/>
          </p:nvGrpSpPr>
          <p:grpSpPr>
            <a:xfrm>
              <a:off x="380880" y="1981080"/>
              <a:ext cx="7772400" cy="838080"/>
              <a:chOff x="380880" y="1981080"/>
              <a:chExt cx="7772400" cy="838080"/>
            </a:xfrm>
          </p:grpSpPr>
          <p:sp>
            <p:nvSpPr>
              <p:cNvPr id="561" name=""/>
              <p:cNvSpPr/>
              <p:nvPr/>
            </p:nvSpPr>
            <p:spPr>
              <a:xfrm>
                <a:off x="3808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380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2952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7524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2096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668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1240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5812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0384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4956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9528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100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672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244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7816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2388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96080" y="2438280"/>
                <a:ext cx="45720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56840" y="1981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09680" y="1981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038480" y="1981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67280" y="1981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19760" y="1981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124080" y="2361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9096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244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088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100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7816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58128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14800" y="2361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14400" y="2361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960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38880" y="2361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95280" y="23619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pected 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~ ½(1 + 1/(1 – 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~ ½(1 + 1/(1 – 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 &lt;= 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&lt;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960480" cy="188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8" name=""/>
          <p:cNvGraphicFramePr/>
          <p:nvPr/>
        </p:nvGraphicFramePr>
        <p:xfrm>
          <a:off x="1447920" y="2878200"/>
          <a:ext cx="6858000" cy="397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878200"/>
                    <a:ext cx="685800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838080" y="62784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15000" y="419112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0.75 is recommen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Table Desig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requirements are given, determine maximum permissible loading d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 a successful search to make no more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ares (expect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~ ½(1 + 1/(1 – 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18/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 an unsuccessful search to make no more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s (expected).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~ ½(1 + 1/(1 – 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4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&lt;= min{18/19, 4/5} = 4/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62784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7-09-13T14:35:15Z</dcterms:modified>
  <cp:revision>297</cp:revision>
  <dc:subject/>
  <dc:title>Data Representation Methods</dc:title>
</cp:coreProperties>
</file>