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DAA3-CD05-4416-8BBB-AB44E41D04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ar list is an ordered sequence of elements. A dictionary is just a collection of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char is shifted left 8 bits before adding to number. Could shift every third char 16 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hash  maps into a nonnegative integer. % works properly only with nonnegative inte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cket size equal to size of L1 cache line or of a disk track or sector may yield better performance in the case of non-ideal has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(100,h) go? There is no bucket with index 100/11 = 9. There is a problem with the hash function, because it is supposed to map all valid keys into a valid buc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D8C-F52C-42AF-83AB-022B0010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499-5246-49C9-A566-924E9316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B3D-8B52-491E-BC7D-ECBA9900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150-B1D3-48D3-B542-792B954E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9ED-8536-4E11-AB80-2F413CF2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5E0-C32B-405C-A5AF-BFA1DE6D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A4C-3A17-4236-96BB-2D175B9A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B29-CA72-4E8F-895C-4CD6ACEA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483-A048-4E0C-B65D-07C33984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4D2-D3BD-48D8-9B9D-006B5ED0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B6E-9D5C-4C44-8750-60BF47B7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7EF-3E22-4852-B0D1-4035FAAE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9746-5161-4216-865D-D922EFC61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ctionaries Aga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pai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key, 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 have different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earch(the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(the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nsert(theKey, the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57800" y="10666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ing To Integ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unsigned 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stringToInt(</a:t>
            </a: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*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number = 0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*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 += *key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(*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 += ((int) *key++) &lt;&lt;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numb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p Into A Home Bucke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method is by div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omeBucket = hash(theKey) % divis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ivis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s number of bucket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homeBucket &lt; divisor =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135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136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form Hash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2590920"/>
            <a:ext cx="769644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set of all possible 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niform hash fun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the key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buckets such that approximately the same number of keys get mapped into each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161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162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form Hash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590920"/>
            <a:ext cx="7696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2514600"/>
            <a:ext cx="8686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, the probability that a randomly selected key has buck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its home bucke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/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&lt;= i &lt;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form hash function minimizes the likelihood of an overflow when keys are selected at rand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188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189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ing By Divi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umber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that get mapped (hashed) into buck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roximate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the division method results in a uniform hash function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Space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keys tend to be cor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choice of the divis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ffects the distribution of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ng The Divis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of this correlation, applications tend to have a bias towards keys that map into odd integers (or into even on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divisor is an even number, odd integers hash into odd home buckets and even integers into even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%14 = 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0%14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8%14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5%14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%14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23%14 =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as in the keys results in a bias toward either the odd or even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ng The Divis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divisor is an odd number, odd (even) integers may hash into any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%15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0%15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8%15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5%15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3%15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23%15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as in the keys does not result in a bias toward either the odd or even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chance of uniformly distributed home bu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do not use an even divi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ng The Diviso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biased distribution of home buckets is seen, in practice, when the divisor is a multiple of prime numbers such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each prime divis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s lar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choo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it is a prim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ly, choo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that it has no prime factor small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t-case ti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siz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deal Hash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1D array (or table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able[0:b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osition of this array is a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u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ucket can normally hold only one dictionary 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hash func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s each ke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an index in the rang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[0, b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me buc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ke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dictionary pai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ey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ored in its home buck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able[f[key]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609480" y="4572000"/>
            <a:ext cx="8001000" cy="993240"/>
            <a:chOff x="609480" y="4572000"/>
            <a:chExt cx="8001000" cy="993240"/>
          </a:xfrm>
        </p:grpSpPr>
        <p:grpSp>
          <p:nvGrpSpPr>
            <p:cNvPr id="57" name=""/>
            <p:cNvGrpSpPr/>
            <p:nvPr/>
          </p:nvGrpSpPr>
          <p:grpSpPr>
            <a:xfrm>
              <a:off x="609480" y="4572000"/>
              <a:ext cx="7924320" cy="457200"/>
              <a:chOff x="609480" y="4572000"/>
              <a:chExt cx="7924320" cy="457200"/>
            </a:xfrm>
          </p:grpSpPr>
          <p:sp>
            <p:nvSpPr>
              <p:cNvPr id="58" name=""/>
              <p:cNvSpPr/>
              <p:nvPr/>
            </p:nvSpPr>
            <p:spPr>
              <a:xfrm>
                <a:off x="60948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9984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90560" y="4572000"/>
                <a:ext cx="99000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58092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164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562360" y="4572000"/>
                <a:ext cx="99000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55272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543440" y="4572000"/>
                <a:ext cx="990360" cy="4572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76176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44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954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584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24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3396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2468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deal Hash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are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2,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3,c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d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73,e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85,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tabl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able[0:7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function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ey/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are stored in table as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5715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hat Can Go Wrong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6,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 that have the same home bucket ar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nony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ynonyms with respect to the hash function that is i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me bucket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6,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ready occup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7200" y="1219320"/>
            <a:ext cx="8001000" cy="992880"/>
            <a:chOff x="457200" y="1219320"/>
            <a:chExt cx="8001000" cy="992880"/>
          </a:xfrm>
        </p:grpSpPr>
        <p:grpSp>
          <p:nvGrpSpPr>
            <p:cNvPr id="85" name=""/>
            <p:cNvGrpSpPr/>
            <p:nvPr/>
          </p:nvGrpSpPr>
          <p:grpSpPr>
            <a:xfrm>
              <a:off x="457200" y="1219320"/>
              <a:ext cx="7924320" cy="456840"/>
              <a:chOff x="457200" y="1219320"/>
              <a:chExt cx="7924320" cy="456840"/>
            </a:xfrm>
          </p:grpSpPr>
          <p:sp>
            <p:nvSpPr>
              <p:cNvPr id="86" name=""/>
              <p:cNvSpPr/>
              <p:nvPr/>
            </p:nvSpPr>
            <p:spPr>
              <a:xfrm>
                <a:off x="45720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475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4382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4286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193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10080" y="121932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0044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91160" y="121932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6094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761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335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796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6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240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[7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3915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5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14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3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14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3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hat Can Go Wrong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lli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 when the home bucket for a new pair is occupied by a pair with a different ke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verflo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when there is no space in the home bucket for the new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bucket can hold only one pair, collisions and overflows occur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 method to handle over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3520" y="1219320"/>
            <a:ext cx="8152920" cy="532800"/>
            <a:chOff x="533520" y="1219320"/>
            <a:chExt cx="8152920" cy="532800"/>
          </a:xfrm>
        </p:grpSpPr>
        <p:grpSp>
          <p:nvGrpSpPr>
            <p:cNvPr id="110" name=""/>
            <p:cNvGrpSpPr/>
            <p:nvPr/>
          </p:nvGrpSpPr>
          <p:grpSpPr>
            <a:xfrm>
              <a:off x="533520" y="1295280"/>
              <a:ext cx="7924320" cy="456840"/>
              <a:chOff x="533520" y="1295280"/>
              <a:chExt cx="7924320" cy="456840"/>
            </a:xfrm>
          </p:grpSpPr>
          <p:sp>
            <p:nvSpPr>
              <p:cNvPr id="111" name=""/>
              <p:cNvSpPr/>
              <p:nvPr/>
            </p:nvSpPr>
            <p:spPr>
              <a:xfrm>
                <a:off x="53352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2388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14600" y="129528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0496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9568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86400" y="1295280"/>
                <a:ext cx="99000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7676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467480" y="1295280"/>
                <a:ext cx="990360" cy="4568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746748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85,f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3828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22,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496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33,c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3,d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76760" y="12193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73,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Table Issu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 of hash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flow handl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(number of buckets) of hash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ash Func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key into a nonnegative integer in case the key is not an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e by the functi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ash(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an integer into a home bu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integer in the ran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[0, b-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buckets in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ing To Integ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haracter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 str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ey[0: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converted into a uniqu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non-negativ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ing the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umber = key[0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umber += ((int) key[1]) &lt;&lt; 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 that are lon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s do not have a unique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non-negative 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7-09-13T14:34:17Z</dcterms:modified>
  <cp:revision>293</cp:revision>
  <dc:subject/>
  <dc:title>Data Representation Methods</dc:title>
</cp:coreProperties>
</file>