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01D9-D8EB-4513-A193-B0093DEC2C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scheme described earlier is optimal only when we start with equal-size runs. New scheme runs into problems with input runs being on different disks. May need to move some runs from one disk to another before run merging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coded/compressed string size is WE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simply use next to last formula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-1)mod (k-1) = 0 when k = 2, all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 could be text messages as in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099-D69C-48DE-B46C-31E79DBE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62C-E6DF-4F37-A18B-352BF2B9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18C-B351-4485-B0B5-B7E75917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D4A-D054-4D16-AF39-1D82E094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ABF-2E53-46DE-987F-C5F8F98B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F4F-52E3-4A67-B6AA-0F43DE2F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49D-566D-4B43-B280-B7F01048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9A6-192A-4814-B99C-823ECC5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F57-3FC4-4261-B497-38DC8094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254-3C90-4361-A581-CB4E979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5E0-65A2-41D2-8A9A-9FF65A55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523-B081-4F74-BCDE-7CFECF09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4DCF-C3AD-43F9-8780-E07CD00DD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timal Merging Of Ru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21520" y="1600200"/>
            <a:ext cx="7217640" cy="5030640"/>
            <a:chOff x="821520" y="1600200"/>
            <a:chExt cx="7217640" cy="5030640"/>
          </a:xfrm>
        </p:grpSpPr>
        <p:grpSp>
          <p:nvGrpSpPr>
            <p:cNvPr id="50" name=""/>
            <p:cNvGrpSpPr/>
            <p:nvPr/>
          </p:nvGrpSpPr>
          <p:grpSpPr>
            <a:xfrm>
              <a:off x="821520" y="1987560"/>
              <a:ext cx="1917000" cy="2173680"/>
              <a:chOff x="821520" y="1987560"/>
              <a:chExt cx="1917000" cy="2173680"/>
            </a:xfrm>
          </p:grpSpPr>
          <p:sp>
            <p:nvSpPr>
              <p:cNvPr id="51" name=""/>
              <p:cNvSpPr/>
              <p:nvPr/>
            </p:nvSpPr>
            <p:spPr>
              <a:xfrm>
                <a:off x="846000" y="3816360"/>
                <a:ext cx="292320" cy="29196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79520" y="3816360"/>
                <a:ext cx="291960" cy="29196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13040" y="3816360"/>
                <a:ext cx="291960" cy="29196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46200" y="3816360"/>
                <a:ext cx="292320" cy="29196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96840" y="297828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530360" y="198756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19320" y="2362320"/>
                <a:ext cx="3808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05120" y="2362320"/>
                <a:ext cx="30456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914040" y="3429000"/>
                <a:ext cx="22860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1980720" y="3429000"/>
                <a:ext cx="22860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95280" y="3429000"/>
                <a:ext cx="22860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362320" y="3352680"/>
                <a:ext cx="3045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063880" y="2978280"/>
                <a:ext cx="44424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1520" y="376380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54680" y="376380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888200" y="376380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21720" y="376380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936320" y="1606680"/>
              <a:ext cx="3058200" cy="3164400"/>
              <a:chOff x="4936320" y="1606680"/>
              <a:chExt cx="3058200" cy="3164400"/>
            </a:xfrm>
          </p:grpSpPr>
          <p:sp>
            <p:nvSpPr>
              <p:cNvPr id="69" name=""/>
              <p:cNvSpPr/>
              <p:nvPr/>
            </p:nvSpPr>
            <p:spPr>
              <a:xfrm>
                <a:off x="4960800" y="4425840"/>
                <a:ext cx="292320" cy="29232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94320" y="4425840"/>
                <a:ext cx="291960" cy="29232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202440" y="3564000"/>
                <a:ext cx="291960" cy="29196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11640" y="358776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645160" y="2597040"/>
                <a:ext cx="444600" cy="444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1840" y="1606680"/>
                <a:ext cx="444600" cy="444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019560" y="1981080"/>
                <a:ext cx="68580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62920" y="1905120"/>
                <a:ext cx="68580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5409720" y="304812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9920" y="3048120"/>
                <a:ext cx="30456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028840" y="40384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86400" y="40384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936320" y="43736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69480" y="43736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177600" y="35114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02560" y="2597040"/>
                <a:ext cx="291960" cy="29232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77720" y="25448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 txBox="1"/>
            <p:nvPr/>
          </p:nvSpPr>
          <p:spPr>
            <a:xfrm>
              <a:off x="838080" y="4800600"/>
              <a:ext cx="171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Cost = 44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6324480" y="4572000"/>
              <a:ext cx="17146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Cost = 42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66680" y="29718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7400" y="29718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3880" y="19810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1480" y="3581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38680" y="25909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05720" y="16002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2514600" y="5638680"/>
              <a:ext cx="4600440" cy="99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Arial Black"/>
                </a:rPr>
                <a:t>Best merge order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ssless Data Compres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b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{a, b, c, d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0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00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= 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 = 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 = 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str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0*2 + 5*2 + 100*2 + 900*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0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size of cod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ssless Data Compres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variable length code that satisfies prefix property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o code is a prefix 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= 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 = 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= 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str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0*3 + 5*3 + 100*2 + 900*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14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size of cod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 ratio is approx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30/1145 = 1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ssless Data Compres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d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001100101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bc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 ratio is maximized when the decode tree has minimum WEP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14680" y="388620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47840" y="388620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55960" y="302436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65520" y="304812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98680" y="20574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65720" y="106668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673080" y="144144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16440" y="1365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063960" y="250812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3440" y="250812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682360" y="349884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39920" y="349884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56080" y="205740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FrnkGothITC Hv B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FrnkGothITC Hv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FrnkGothITC Hv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FrnkGothITC Hv B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41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3352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FrnkGothITC Hv B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FrnkGothITC Hv B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uffman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s that have minimum WE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s with minimum WEPL may be constructed using a greedy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higher order trees with minimum WEPL, a preprocessing step followed by the greedy algorithm may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ffman codes: codes defined by minimum WEPL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eedy Algorithm For Binary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collection of external nodes, each with one of the given weights. Each external node defines a differen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number of trees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s with minimum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them by making them children of a new roo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of the new tree is the sum of the weights of the individual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ew tree to tree col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reduce step until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 rem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[0:4] = [2, 5, 4, 7, 9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00200" y="2286000"/>
            <a:ext cx="6019560" cy="3886200"/>
            <a:chOff x="1600200" y="2286000"/>
            <a:chExt cx="6019560" cy="3886200"/>
          </a:xfrm>
        </p:grpSpPr>
        <p:grpSp>
          <p:nvGrpSpPr>
            <p:cNvPr id="311" name=""/>
            <p:cNvGrpSpPr/>
            <p:nvPr/>
          </p:nvGrpSpPr>
          <p:grpSpPr>
            <a:xfrm>
              <a:off x="1600200" y="2286000"/>
              <a:ext cx="6019560" cy="3886200"/>
              <a:chOff x="1600200" y="2286000"/>
              <a:chExt cx="6019560" cy="3886200"/>
            </a:xfrm>
          </p:grpSpPr>
          <p:sp>
            <p:nvSpPr>
              <p:cNvPr id="312" name=""/>
              <p:cNvSpPr/>
              <p:nvPr/>
            </p:nvSpPr>
            <p:spPr>
              <a:xfrm>
                <a:off x="6248160" y="297180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00200" y="2286000"/>
                <a:ext cx="6019560" cy="3886200"/>
              </a:xfrm>
              <a:custGeom>
                <a:avLst/>
                <a:gdLst/>
                <a:ahLst/>
                <a:rect l="l" t="t" r="r" b="b"/>
                <a:pathLst>
                  <a:path w="3022" h="1789">
                    <a:moveTo>
                      <a:pt x="278" y="317"/>
                    </a:moveTo>
                    <a:cubicBezTo>
                      <a:pt x="205" y="343"/>
                      <a:pt x="126" y="356"/>
                      <a:pt x="58" y="394"/>
                    </a:cubicBezTo>
                    <a:cubicBezTo>
                      <a:pt x="40" y="404"/>
                      <a:pt x="44" y="432"/>
                      <a:pt x="38" y="451"/>
                    </a:cubicBezTo>
                    <a:cubicBezTo>
                      <a:pt x="24" y="499"/>
                      <a:pt x="14" y="547"/>
                      <a:pt x="0" y="595"/>
                    </a:cubicBezTo>
                    <a:cubicBezTo>
                      <a:pt x="3" y="640"/>
                      <a:pt x="0" y="686"/>
                      <a:pt x="10" y="730"/>
                    </a:cubicBezTo>
                    <a:cubicBezTo>
                      <a:pt x="16" y="755"/>
                      <a:pt x="38" y="773"/>
                      <a:pt x="48" y="797"/>
                    </a:cubicBezTo>
                    <a:cubicBezTo>
                      <a:pt x="59" y="824"/>
                      <a:pt x="60" y="854"/>
                      <a:pt x="67" y="883"/>
                    </a:cubicBezTo>
                    <a:cubicBezTo>
                      <a:pt x="78" y="975"/>
                      <a:pt x="103" y="1060"/>
                      <a:pt x="115" y="1152"/>
                    </a:cubicBezTo>
                    <a:cubicBezTo>
                      <a:pt x="112" y="1181"/>
                      <a:pt x="106" y="1210"/>
                      <a:pt x="106" y="1239"/>
                    </a:cubicBezTo>
                    <a:cubicBezTo>
                      <a:pt x="106" y="1284"/>
                      <a:pt x="107" y="1329"/>
                      <a:pt x="115" y="1373"/>
                    </a:cubicBezTo>
                    <a:cubicBezTo>
                      <a:pt x="131" y="1467"/>
                      <a:pt x="310" y="1484"/>
                      <a:pt x="365" y="1498"/>
                    </a:cubicBezTo>
                    <a:cubicBezTo>
                      <a:pt x="407" y="1509"/>
                      <a:pt x="448" y="1523"/>
                      <a:pt x="490" y="1536"/>
                    </a:cubicBezTo>
                    <a:cubicBezTo>
                      <a:pt x="621" y="1630"/>
                      <a:pt x="489" y="1545"/>
                      <a:pt x="701" y="1632"/>
                    </a:cubicBezTo>
                    <a:cubicBezTo>
                      <a:pt x="741" y="1648"/>
                      <a:pt x="776" y="1676"/>
                      <a:pt x="816" y="1690"/>
                    </a:cubicBezTo>
                    <a:cubicBezTo>
                      <a:pt x="1013" y="1760"/>
                      <a:pt x="1236" y="1751"/>
                      <a:pt x="1440" y="1757"/>
                    </a:cubicBezTo>
                    <a:cubicBezTo>
                      <a:pt x="1731" y="1789"/>
                      <a:pt x="2014" y="1750"/>
                      <a:pt x="2304" y="1728"/>
                    </a:cubicBezTo>
                    <a:cubicBezTo>
                      <a:pt x="2336" y="1723"/>
                      <a:pt x="2443" y="1714"/>
                      <a:pt x="2486" y="1690"/>
                    </a:cubicBezTo>
                    <a:cubicBezTo>
                      <a:pt x="2503" y="1680"/>
                      <a:pt x="2546" y="1621"/>
                      <a:pt x="2554" y="1613"/>
                    </a:cubicBezTo>
                    <a:cubicBezTo>
                      <a:pt x="2840" y="1349"/>
                      <a:pt x="2674" y="1533"/>
                      <a:pt x="2822" y="1363"/>
                    </a:cubicBezTo>
                    <a:cubicBezTo>
                      <a:pt x="2886" y="1201"/>
                      <a:pt x="2919" y="1123"/>
                      <a:pt x="2938" y="960"/>
                    </a:cubicBezTo>
                    <a:cubicBezTo>
                      <a:pt x="2933" y="702"/>
                      <a:pt x="3022" y="459"/>
                      <a:pt x="2842" y="279"/>
                    </a:cubicBezTo>
                    <a:cubicBezTo>
                      <a:pt x="2837" y="252"/>
                      <a:pt x="2836" y="161"/>
                      <a:pt x="2803" y="144"/>
                    </a:cubicBezTo>
                    <a:cubicBezTo>
                      <a:pt x="2786" y="135"/>
                      <a:pt x="2765" y="136"/>
                      <a:pt x="2746" y="135"/>
                    </a:cubicBezTo>
                    <a:cubicBezTo>
                      <a:pt x="2656" y="130"/>
                      <a:pt x="2567" y="129"/>
                      <a:pt x="2477" y="125"/>
                    </a:cubicBezTo>
                    <a:cubicBezTo>
                      <a:pt x="2403" y="121"/>
                      <a:pt x="2321" y="113"/>
                      <a:pt x="2246" y="106"/>
                    </a:cubicBezTo>
                    <a:cubicBezTo>
                      <a:pt x="1040" y="126"/>
                      <a:pt x="1491" y="142"/>
                      <a:pt x="893" y="115"/>
                    </a:cubicBezTo>
                    <a:cubicBezTo>
                      <a:pt x="861" y="112"/>
                      <a:pt x="825" y="121"/>
                      <a:pt x="797" y="106"/>
                    </a:cubicBezTo>
                    <a:cubicBezTo>
                      <a:pt x="773" y="93"/>
                      <a:pt x="775" y="48"/>
                      <a:pt x="749" y="39"/>
                    </a:cubicBezTo>
                    <a:cubicBezTo>
                      <a:pt x="739" y="36"/>
                      <a:pt x="729" y="34"/>
                      <a:pt x="720" y="29"/>
                    </a:cubicBezTo>
                    <a:cubicBezTo>
                      <a:pt x="710" y="24"/>
                      <a:pt x="702" y="11"/>
                      <a:pt x="691" y="10"/>
                    </a:cubicBezTo>
                    <a:cubicBezTo>
                      <a:pt x="618" y="2"/>
                      <a:pt x="544" y="3"/>
                      <a:pt x="470" y="0"/>
                    </a:cubicBezTo>
                    <a:cubicBezTo>
                      <a:pt x="391" y="17"/>
                      <a:pt x="378" y="30"/>
                      <a:pt x="355" y="125"/>
                    </a:cubicBezTo>
                    <a:cubicBezTo>
                      <a:pt x="352" y="138"/>
                      <a:pt x="350" y="151"/>
                      <a:pt x="346" y="163"/>
                    </a:cubicBezTo>
                    <a:cubicBezTo>
                      <a:pt x="340" y="183"/>
                      <a:pt x="326" y="221"/>
                      <a:pt x="326" y="221"/>
                    </a:cubicBezTo>
                    <a:cubicBezTo>
                      <a:pt x="314" y="307"/>
                      <a:pt x="323" y="272"/>
                      <a:pt x="278" y="317"/>
                    </a:cubicBezTo>
                    <a:close/>
                  </a:path>
                </a:pathLst>
              </a:custGeom>
              <a:solidFill>
                <a:srgbClr val="ffff66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95480" y="2971800"/>
                <a:ext cx="457200" cy="45720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71800" y="297180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33560" y="2971800"/>
                <a:ext cx="457200" cy="45720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809880" y="297180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72000" y="2971800"/>
                <a:ext cx="457200" cy="45720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47960" y="297180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48160" y="2971800"/>
                <a:ext cx="457200" cy="45720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10080" y="2971800"/>
                <a:ext cx="457200" cy="457200"/>
              </a:xfrm>
              <a:prstGeom prst="rect">
                <a:avLst/>
              </a:prstGeom>
              <a:solidFill>
                <a:srgbClr val="ffed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86400" y="297180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6324480" y="297180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248520" y="2743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057400"/>
            <a:ext cx="6019920" cy="3886200"/>
          </a:xfrm>
          <a:custGeom>
            <a:avLst/>
            <a:gdLst/>
            <a:ahLst/>
            <a:rect l="l" t="t" r="r" b="b"/>
            <a:pathLst>
              <a:path w="3022" h="1789">
                <a:moveTo>
                  <a:pt x="278" y="317"/>
                </a:moveTo>
                <a:cubicBezTo>
                  <a:pt x="205" y="343"/>
                  <a:pt x="126" y="356"/>
                  <a:pt x="58" y="394"/>
                </a:cubicBezTo>
                <a:cubicBezTo>
                  <a:pt x="40" y="404"/>
                  <a:pt x="44" y="432"/>
                  <a:pt x="38" y="451"/>
                </a:cubicBezTo>
                <a:cubicBezTo>
                  <a:pt x="24" y="499"/>
                  <a:pt x="14" y="547"/>
                  <a:pt x="0" y="595"/>
                </a:cubicBezTo>
                <a:cubicBezTo>
                  <a:pt x="3" y="640"/>
                  <a:pt x="0" y="686"/>
                  <a:pt x="10" y="730"/>
                </a:cubicBezTo>
                <a:cubicBezTo>
                  <a:pt x="16" y="755"/>
                  <a:pt x="38" y="773"/>
                  <a:pt x="48" y="797"/>
                </a:cubicBezTo>
                <a:cubicBezTo>
                  <a:pt x="59" y="824"/>
                  <a:pt x="60" y="854"/>
                  <a:pt x="67" y="883"/>
                </a:cubicBezTo>
                <a:cubicBezTo>
                  <a:pt x="78" y="975"/>
                  <a:pt x="103" y="1060"/>
                  <a:pt x="115" y="1152"/>
                </a:cubicBezTo>
                <a:cubicBezTo>
                  <a:pt x="112" y="1181"/>
                  <a:pt x="106" y="1210"/>
                  <a:pt x="106" y="1239"/>
                </a:cubicBezTo>
                <a:cubicBezTo>
                  <a:pt x="106" y="1284"/>
                  <a:pt x="107" y="1329"/>
                  <a:pt x="115" y="1373"/>
                </a:cubicBezTo>
                <a:cubicBezTo>
                  <a:pt x="131" y="1467"/>
                  <a:pt x="310" y="1484"/>
                  <a:pt x="365" y="1498"/>
                </a:cubicBezTo>
                <a:cubicBezTo>
                  <a:pt x="407" y="1509"/>
                  <a:pt x="448" y="1523"/>
                  <a:pt x="490" y="1536"/>
                </a:cubicBezTo>
                <a:cubicBezTo>
                  <a:pt x="621" y="1630"/>
                  <a:pt x="489" y="1545"/>
                  <a:pt x="701" y="1632"/>
                </a:cubicBezTo>
                <a:cubicBezTo>
                  <a:pt x="741" y="1648"/>
                  <a:pt x="776" y="1676"/>
                  <a:pt x="816" y="1690"/>
                </a:cubicBezTo>
                <a:cubicBezTo>
                  <a:pt x="1013" y="1760"/>
                  <a:pt x="1236" y="1751"/>
                  <a:pt x="1440" y="1757"/>
                </a:cubicBezTo>
                <a:cubicBezTo>
                  <a:pt x="1731" y="1789"/>
                  <a:pt x="2014" y="1750"/>
                  <a:pt x="2304" y="1728"/>
                </a:cubicBezTo>
                <a:cubicBezTo>
                  <a:pt x="2336" y="1723"/>
                  <a:pt x="2443" y="1714"/>
                  <a:pt x="2486" y="1690"/>
                </a:cubicBezTo>
                <a:cubicBezTo>
                  <a:pt x="2503" y="1680"/>
                  <a:pt x="2546" y="1621"/>
                  <a:pt x="2554" y="1613"/>
                </a:cubicBezTo>
                <a:cubicBezTo>
                  <a:pt x="2840" y="1349"/>
                  <a:pt x="2674" y="1533"/>
                  <a:pt x="2822" y="1363"/>
                </a:cubicBezTo>
                <a:cubicBezTo>
                  <a:pt x="2886" y="1201"/>
                  <a:pt x="2919" y="1123"/>
                  <a:pt x="2938" y="960"/>
                </a:cubicBezTo>
                <a:cubicBezTo>
                  <a:pt x="2933" y="702"/>
                  <a:pt x="3022" y="459"/>
                  <a:pt x="2842" y="279"/>
                </a:cubicBezTo>
                <a:cubicBezTo>
                  <a:pt x="2837" y="252"/>
                  <a:pt x="2836" y="161"/>
                  <a:pt x="2803" y="144"/>
                </a:cubicBezTo>
                <a:cubicBezTo>
                  <a:pt x="2786" y="135"/>
                  <a:pt x="2765" y="136"/>
                  <a:pt x="2746" y="135"/>
                </a:cubicBezTo>
                <a:cubicBezTo>
                  <a:pt x="2656" y="130"/>
                  <a:pt x="2567" y="129"/>
                  <a:pt x="2477" y="125"/>
                </a:cubicBezTo>
                <a:cubicBezTo>
                  <a:pt x="2403" y="121"/>
                  <a:pt x="2321" y="113"/>
                  <a:pt x="2246" y="106"/>
                </a:cubicBezTo>
                <a:cubicBezTo>
                  <a:pt x="1040" y="126"/>
                  <a:pt x="1491" y="142"/>
                  <a:pt x="893" y="115"/>
                </a:cubicBezTo>
                <a:cubicBezTo>
                  <a:pt x="861" y="112"/>
                  <a:pt x="825" y="121"/>
                  <a:pt x="797" y="106"/>
                </a:cubicBezTo>
                <a:cubicBezTo>
                  <a:pt x="773" y="93"/>
                  <a:pt x="775" y="48"/>
                  <a:pt x="749" y="39"/>
                </a:cubicBezTo>
                <a:cubicBezTo>
                  <a:pt x="739" y="36"/>
                  <a:pt x="729" y="34"/>
                  <a:pt x="720" y="29"/>
                </a:cubicBezTo>
                <a:cubicBezTo>
                  <a:pt x="710" y="24"/>
                  <a:pt x="702" y="11"/>
                  <a:pt x="691" y="10"/>
                </a:cubicBezTo>
                <a:cubicBezTo>
                  <a:pt x="618" y="2"/>
                  <a:pt x="544" y="3"/>
                  <a:pt x="470" y="0"/>
                </a:cubicBezTo>
                <a:cubicBezTo>
                  <a:pt x="391" y="17"/>
                  <a:pt x="378" y="30"/>
                  <a:pt x="355" y="125"/>
                </a:cubicBezTo>
                <a:cubicBezTo>
                  <a:pt x="352" y="138"/>
                  <a:pt x="350" y="151"/>
                  <a:pt x="346" y="163"/>
                </a:cubicBezTo>
                <a:cubicBezTo>
                  <a:pt x="340" y="183"/>
                  <a:pt x="326" y="221"/>
                  <a:pt x="326" y="221"/>
                </a:cubicBezTo>
                <a:cubicBezTo>
                  <a:pt x="314" y="307"/>
                  <a:pt x="323" y="272"/>
                  <a:pt x="278" y="317"/>
                </a:cubicBez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274320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2743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48520" y="274320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274320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86400" y="2743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274320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2743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274320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2743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48520" y="274320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2743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464832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464832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[0:4] = [2, 5, 4, 7, 9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64832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32480" y="464832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3733920"/>
            <a:ext cx="533160" cy="5331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733920" y="41911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41911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600200" y="2362320"/>
            <a:ext cx="6019920" cy="3886200"/>
          </a:xfrm>
          <a:custGeom>
            <a:avLst/>
            <a:gdLst/>
            <a:ahLst/>
            <a:rect l="l" t="t" r="r" b="b"/>
            <a:pathLst>
              <a:path w="3022" h="1789">
                <a:moveTo>
                  <a:pt x="278" y="317"/>
                </a:moveTo>
                <a:cubicBezTo>
                  <a:pt x="205" y="343"/>
                  <a:pt x="126" y="356"/>
                  <a:pt x="58" y="394"/>
                </a:cubicBezTo>
                <a:cubicBezTo>
                  <a:pt x="40" y="404"/>
                  <a:pt x="44" y="432"/>
                  <a:pt x="38" y="451"/>
                </a:cubicBezTo>
                <a:cubicBezTo>
                  <a:pt x="24" y="499"/>
                  <a:pt x="14" y="547"/>
                  <a:pt x="0" y="595"/>
                </a:cubicBezTo>
                <a:cubicBezTo>
                  <a:pt x="3" y="640"/>
                  <a:pt x="0" y="686"/>
                  <a:pt x="10" y="730"/>
                </a:cubicBezTo>
                <a:cubicBezTo>
                  <a:pt x="16" y="755"/>
                  <a:pt x="38" y="773"/>
                  <a:pt x="48" y="797"/>
                </a:cubicBezTo>
                <a:cubicBezTo>
                  <a:pt x="59" y="824"/>
                  <a:pt x="60" y="854"/>
                  <a:pt x="67" y="883"/>
                </a:cubicBezTo>
                <a:cubicBezTo>
                  <a:pt x="78" y="975"/>
                  <a:pt x="103" y="1060"/>
                  <a:pt x="115" y="1152"/>
                </a:cubicBezTo>
                <a:cubicBezTo>
                  <a:pt x="112" y="1181"/>
                  <a:pt x="106" y="1210"/>
                  <a:pt x="106" y="1239"/>
                </a:cubicBezTo>
                <a:cubicBezTo>
                  <a:pt x="106" y="1284"/>
                  <a:pt x="107" y="1329"/>
                  <a:pt x="115" y="1373"/>
                </a:cubicBezTo>
                <a:cubicBezTo>
                  <a:pt x="131" y="1467"/>
                  <a:pt x="310" y="1484"/>
                  <a:pt x="365" y="1498"/>
                </a:cubicBezTo>
                <a:cubicBezTo>
                  <a:pt x="407" y="1509"/>
                  <a:pt x="448" y="1523"/>
                  <a:pt x="490" y="1536"/>
                </a:cubicBezTo>
                <a:cubicBezTo>
                  <a:pt x="621" y="1630"/>
                  <a:pt x="489" y="1545"/>
                  <a:pt x="701" y="1632"/>
                </a:cubicBezTo>
                <a:cubicBezTo>
                  <a:pt x="741" y="1648"/>
                  <a:pt x="776" y="1676"/>
                  <a:pt x="816" y="1690"/>
                </a:cubicBezTo>
                <a:cubicBezTo>
                  <a:pt x="1013" y="1760"/>
                  <a:pt x="1236" y="1751"/>
                  <a:pt x="1440" y="1757"/>
                </a:cubicBezTo>
                <a:cubicBezTo>
                  <a:pt x="1731" y="1789"/>
                  <a:pt x="2014" y="1750"/>
                  <a:pt x="2304" y="1728"/>
                </a:cubicBezTo>
                <a:cubicBezTo>
                  <a:pt x="2336" y="1723"/>
                  <a:pt x="2443" y="1714"/>
                  <a:pt x="2486" y="1690"/>
                </a:cubicBezTo>
                <a:cubicBezTo>
                  <a:pt x="2503" y="1680"/>
                  <a:pt x="2546" y="1621"/>
                  <a:pt x="2554" y="1613"/>
                </a:cubicBezTo>
                <a:cubicBezTo>
                  <a:pt x="2840" y="1349"/>
                  <a:pt x="2674" y="1533"/>
                  <a:pt x="2822" y="1363"/>
                </a:cubicBezTo>
                <a:cubicBezTo>
                  <a:pt x="2886" y="1201"/>
                  <a:pt x="2919" y="1123"/>
                  <a:pt x="2938" y="960"/>
                </a:cubicBezTo>
                <a:cubicBezTo>
                  <a:pt x="2933" y="702"/>
                  <a:pt x="3022" y="459"/>
                  <a:pt x="2842" y="279"/>
                </a:cubicBezTo>
                <a:cubicBezTo>
                  <a:pt x="2837" y="252"/>
                  <a:pt x="2836" y="161"/>
                  <a:pt x="2803" y="144"/>
                </a:cubicBezTo>
                <a:cubicBezTo>
                  <a:pt x="2786" y="135"/>
                  <a:pt x="2765" y="136"/>
                  <a:pt x="2746" y="135"/>
                </a:cubicBezTo>
                <a:cubicBezTo>
                  <a:pt x="2656" y="130"/>
                  <a:pt x="2567" y="129"/>
                  <a:pt x="2477" y="125"/>
                </a:cubicBezTo>
                <a:cubicBezTo>
                  <a:pt x="2403" y="121"/>
                  <a:pt x="2321" y="113"/>
                  <a:pt x="2246" y="106"/>
                </a:cubicBezTo>
                <a:cubicBezTo>
                  <a:pt x="1040" y="126"/>
                  <a:pt x="1491" y="142"/>
                  <a:pt x="893" y="115"/>
                </a:cubicBezTo>
                <a:cubicBezTo>
                  <a:pt x="861" y="112"/>
                  <a:pt x="825" y="121"/>
                  <a:pt x="797" y="106"/>
                </a:cubicBezTo>
                <a:cubicBezTo>
                  <a:pt x="773" y="93"/>
                  <a:pt x="775" y="48"/>
                  <a:pt x="749" y="39"/>
                </a:cubicBezTo>
                <a:cubicBezTo>
                  <a:pt x="739" y="36"/>
                  <a:pt x="729" y="34"/>
                  <a:pt x="720" y="29"/>
                </a:cubicBezTo>
                <a:cubicBezTo>
                  <a:pt x="710" y="24"/>
                  <a:pt x="702" y="11"/>
                  <a:pt x="691" y="10"/>
                </a:cubicBezTo>
                <a:cubicBezTo>
                  <a:pt x="618" y="2"/>
                  <a:pt x="544" y="3"/>
                  <a:pt x="470" y="0"/>
                </a:cubicBezTo>
                <a:cubicBezTo>
                  <a:pt x="391" y="17"/>
                  <a:pt x="378" y="30"/>
                  <a:pt x="355" y="125"/>
                </a:cubicBezTo>
                <a:cubicBezTo>
                  <a:pt x="352" y="138"/>
                  <a:pt x="350" y="151"/>
                  <a:pt x="346" y="163"/>
                </a:cubicBezTo>
                <a:cubicBezTo>
                  <a:pt x="340" y="183"/>
                  <a:pt x="326" y="221"/>
                  <a:pt x="326" y="221"/>
                </a:cubicBezTo>
                <a:cubicBezTo>
                  <a:pt x="314" y="307"/>
                  <a:pt x="323" y="272"/>
                  <a:pt x="278" y="317"/>
                </a:cubicBez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304812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304812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304812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8520" y="304812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[0:4] = [2, 5, 4, 7, 9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495680" y="3886200"/>
            <a:ext cx="533520" cy="533520"/>
            <a:chOff x="4495680" y="3886200"/>
            <a:chExt cx="533520" cy="533520"/>
          </a:xfrm>
        </p:grpSpPr>
        <p:sp>
          <p:nvSpPr>
            <p:cNvPr id="355" name=""/>
            <p:cNvSpPr/>
            <p:nvPr/>
          </p:nvSpPr>
          <p:spPr>
            <a:xfrm>
              <a:off x="4495680" y="3886200"/>
              <a:ext cx="533520" cy="5335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0" y="3962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H="1">
            <a:off x="4266720" y="434340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43434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3048120"/>
            <a:ext cx="533160" cy="5331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3124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733920" y="350532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19720" y="350532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388620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3886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480060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14800" y="48006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4800600"/>
            <a:ext cx="457200" cy="457200"/>
          </a:xfrm>
          <a:prstGeom prst="rect">
            <a:avLst/>
          </a:prstGeom>
          <a:solidFill>
            <a:srgbClr val="ffed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48006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057400" y="2438280"/>
            <a:ext cx="6019920" cy="3886200"/>
          </a:xfrm>
          <a:custGeom>
            <a:avLst/>
            <a:gdLst/>
            <a:ahLst/>
            <a:rect l="l" t="t" r="r" b="b"/>
            <a:pathLst>
              <a:path w="3022" h="1789">
                <a:moveTo>
                  <a:pt x="278" y="317"/>
                </a:moveTo>
                <a:cubicBezTo>
                  <a:pt x="205" y="343"/>
                  <a:pt x="126" y="356"/>
                  <a:pt x="58" y="394"/>
                </a:cubicBezTo>
                <a:cubicBezTo>
                  <a:pt x="40" y="404"/>
                  <a:pt x="44" y="432"/>
                  <a:pt x="38" y="451"/>
                </a:cubicBezTo>
                <a:cubicBezTo>
                  <a:pt x="24" y="499"/>
                  <a:pt x="14" y="547"/>
                  <a:pt x="0" y="595"/>
                </a:cubicBezTo>
                <a:cubicBezTo>
                  <a:pt x="3" y="640"/>
                  <a:pt x="0" y="686"/>
                  <a:pt x="10" y="730"/>
                </a:cubicBezTo>
                <a:cubicBezTo>
                  <a:pt x="16" y="755"/>
                  <a:pt x="38" y="773"/>
                  <a:pt x="48" y="797"/>
                </a:cubicBezTo>
                <a:cubicBezTo>
                  <a:pt x="59" y="824"/>
                  <a:pt x="60" y="854"/>
                  <a:pt x="67" y="883"/>
                </a:cubicBezTo>
                <a:cubicBezTo>
                  <a:pt x="78" y="975"/>
                  <a:pt x="103" y="1060"/>
                  <a:pt x="115" y="1152"/>
                </a:cubicBezTo>
                <a:cubicBezTo>
                  <a:pt x="112" y="1181"/>
                  <a:pt x="106" y="1210"/>
                  <a:pt x="106" y="1239"/>
                </a:cubicBezTo>
                <a:cubicBezTo>
                  <a:pt x="106" y="1284"/>
                  <a:pt x="107" y="1329"/>
                  <a:pt x="115" y="1373"/>
                </a:cubicBezTo>
                <a:cubicBezTo>
                  <a:pt x="131" y="1467"/>
                  <a:pt x="310" y="1484"/>
                  <a:pt x="365" y="1498"/>
                </a:cubicBezTo>
                <a:cubicBezTo>
                  <a:pt x="407" y="1509"/>
                  <a:pt x="448" y="1523"/>
                  <a:pt x="490" y="1536"/>
                </a:cubicBezTo>
                <a:cubicBezTo>
                  <a:pt x="621" y="1630"/>
                  <a:pt x="489" y="1545"/>
                  <a:pt x="701" y="1632"/>
                </a:cubicBezTo>
                <a:cubicBezTo>
                  <a:pt x="741" y="1648"/>
                  <a:pt x="776" y="1676"/>
                  <a:pt x="816" y="1690"/>
                </a:cubicBezTo>
                <a:cubicBezTo>
                  <a:pt x="1013" y="1760"/>
                  <a:pt x="1236" y="1751"/>
                  <a:pt x="1440" y="1757"/>
                </a:cubicBezTo>
                <a:cubicBezTo>
                  <a:pt x="1731" y="1789"/>
                  <a:pt x="2014" y="1750"/>
                  <a:pt x="2304" y="1728"/>
                </a:cubicBezTo>
                <a:cubicBezTo>
                  <a:pt x="2336" y="1723"/>
                  <a:pt x="2443" y="1714"/>
                  <a:pt x="2486" y="1690"/>
                </a:cubicBezTo>
                <a:cubicBezTo>
                  <a:pt x="2503" y="1680"/>
                  <a:pt x="2546" y="1621"/>
                  <a:pt x="2554" y="1613"/>
                </a:cubicBezTo>
                <a:cubicBezTo>
                  <a:pt x="2840" y="1349"/>
                  <a:pt x="2674" y="1533"/>
                  <a:pt x="2822" y="1363"/>
                </a:cubicBezTo>
                <a:cubicBezTo>
                  <a:pt x="2886" y="1201"/>
                  <a:pt x="2919" y="1123"/>
                  <a:pt x="2938" y="960"/>
                </a:cubicBezTo>
                <a:cubicBezTo>
                  <a:pt x="2933" y="702"/>
                  <a:pt x="3022" y="459"/>
                  <a:pt x="2842" y="279"/>
                </a:cubicBezTo>
                <a:cubicBezTo>
                  <a:pt x="2837" y="252"/>
                  <a:pt x="2836" y="161"/>
                  <a:pt x="2803" y="144"/>
                </a:cubicBezTo>
                <a:cubicBezTo>
                  <a:pt x="2786" y="135"/>
                  <a:pt x="2765" y="136"/>
                  <a:pt x="2746" y="135"/>
                </a:cubicBezTo>
                <a:cubicBezTo>
                  <a:pt x="2656" y="130"/>
                  <a:pt x="2567" y="129"/>
                  <a:pt x="2477" y="125"/>
                </a:cubicBezTo>
                <a:cubicBezTo>
                  <a:pt x="2403" y="121"/>
                  <a:pt x="2321" y="113"/>
                  <a:pt x="2246" y="106"/>
                </a:cubicBezTo>
                <a:cubicBezTo>
                  <a:pt x="1040" y="126"/>
                  <a:pt x="1491" y="142"/>
                  <a:pt x="893" y="115"/>
                </a:cubicBezTo>
                <a:cubicBezTo>
                  <a:pt x="861" y="112"/>
                  <a:pt x="825" y="121"/>
                  <a:pt x="797" y="106"/>
                </a:cubicBezTo>
                <a:cubicBezTo>
                  <a:pt x="773" y="93"/>
                  <a:pt x="775" y="48"/>
                  <a:pt x="749" y="39"/>
                </a:cubicBezTo>
                <a:cubicBezTo>
                  <a:pt x="739" y="36"/>
                  <a:pt x="729" y="34"/>
                  <a:pt x="720" y="29"/>
                </a:cubicBezTo>
                <a:cubicBezTo>
                  <a:pt x="710" y="24"/>
                  <a:pt x="702" y="11"/>
                  <a:pt x="691" y="10"/>
                </a:cubicBezTo>
                <a:cubicBezTo>
                  <a:pt x="618" y="2"/>
                  <a:pt x="544" y="3"/>
                  <a:pt x="470" y="0"/>
                </a:cubicBezTo>
                <a:cubicBezTo>
                  <a:pt x="391" y="17"/>
                  <a:pt x="378" y="30"/>
                  <a:pt x="355" y="125"/>
                </a:cubicBezTo>
                <a:cubicBezTo>
                  <a:pt x="352" y="138"/>
                  <a:pt x="350" y="151"/>
                  <a:pt x="346" y="163"/>
                </a:cubicBezTo>
                <a:cubicBezTo>
                  <a:pt x="340" y="183"/>
                  <a:pt x="326" y="221"/>
                  <a:pt x="326" y="221"/>
                </a:cubicBezTo>
                <a:cubicBezTo>
                  <a:pt x="314" y="307"/>
                  <a:pt x="323" y="272"/>
                  <a:pt x="278" y="317"/>
                </a:cubicBez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352680" y="4038480"/>
            <a:ext cx="549360" cy="457200"/>
            <a:chOff x="3352680" y="4038480"/>
            <a:chExt cx="549360" cy="457200"/>
          </a:xfrm>
        </p:grpSpPr>
        <p:sp>
          <p:nvSpPr>
            <p:cNvPr id="371" name=""/>
            <p:cNvSpPr/>
            <p:nvPr/>
          </p:nvSpPr>
          <p:spPr>
            <a:xfrm>
              <a:off x="3352680" y="4038480"/>
              <a:ext cx="45720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403848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[0:4] = [2, 5, 4, 7, 9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962520" y="4952880"/>
            <a:ext cx="548640" cy="457200"/>
            <a:chOff x="3962520" y="4952880"/>
            <a:chExt cx="548640" cy="457200"/>
          </a:xfrm>
        </p:grpSpPr>
        <p:sp>
          <p:nvSpPr>
            <p:cNvPr id="376" name=""/>
            <p:cNvSpPr/>
            <p:nvPr/>
          </p:nvSpPr>
          <p:spPr>
            <a:xfrm>
              <a:off x="3962520" y="4952880"/>
              <a:ext cx="45684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8480" y="4952880"/>
              <a:ext cx="47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029200" y="4952880"/>
            <a:ext cx="533520" cy="457200"/>
            <a:chOff x="5029200" y="4952880"/>
            <a:chExt cx="533520" cy="457200"/>
          </a:xfrm>
        </p:grpSpPr>
        <p:sp>
          <p:nvSpPr>
            <p:cNvPr id="379" name=""/>
            <p:cNvSpPr/>
            <p:nvPr/>
          </p:nvSpPr>
          <p:spPr>
            <a:xfrm>
              <a:off x="5029200" y="4952880"/>
              <a:ext cx="45720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89680" y="495288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419720" y="4038480"/>
            <a:ext cx="533160" cy="533520"/>
            <a:chOff x="4419720" y="4038480"/>
            <a:chExt cx="533160" cy="533520"/>
          </a:xfrm>
        </p:grpSpPr>
        <p:sp>
          <p:nvSpPr>
            <p:cNvPr id="382" name=""/>
            <p:cNvSpPr/>
            <p:nvPr/>
          </p:nvSpPr>
          <p:spPr>
            <a:xfrm>
              <a:off x="4419720" y="4038480"/>
              <a:ext cx="533160" cy="5335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5680" y="41148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4191120" y="4495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76920" y="44956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3200400"/>
            <a:ext cx="533520" cy="533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3276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657240" y="36576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43400" y="36576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019920" y="4191120"/>
            <a:ext cx="548640" cy="457200"/>
            <a:chOff x="6019920" y="4191120"/>
            <a:chExt cx="548640" cy="457200"/>
          </a:xfrm>
        </p:grpSpPr>
        <p:sp>
          <p:nvSpPr>
            <p:cNvPr id="391" name=""/>
            <p:cNvSpPr/>
            <p:nvPr/>
          </p:nvSpPr>
          <p:spPr>
            <a:xfrm>
              <a:off x="6019920" y="4191120"/>
              <a:ext cx="45684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5880" y="4191120"/>
              <a:ext cx="47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086600" y="4191120"/>
            <a:ext cx="533520" cy="457200"/>
            <a:chOff x="7086600" y="4191120"/>
            <a:chExt cx="533520" cy="457200"/>
          </a:xfrm>
        </p:grpSpPr>
        <p:sp>
          <p:nvSpPr>
            <p:cNvPr id="394" name=""/>
            <p:cNvSpPr/>
            <p:nvPr/>
          </p:nvSpPr>
          <p:spPr>
            <a:xfrm>
              <a:off x="7086600" y="4191120"/>
              <a:ext cx="45720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47080" y="419112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477120" y="3276720"/>
            <a:ext cx="533160" cy="5331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3352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248520" y="37339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7339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057400" y="2438280"/>
            <a:ext cx="6019920" cy="3886200"/>
          </a:xfrm>
          <a:custGeom>
            <a:avLst/>
            <a:gdLst/>
            <a:ahLst/>
            <a:rect l="l" t="t" r="r" b="b"/>
            <a:pathLst>
              <a:path w="3022" h="1789">
                <a:moveTo>
                  <a:pt x="278" y="317"/>
                </a:moveTo>
                <a:cubicBezTo>
                  <a:pt x="205" y="343"/>
                  <a:pt x="126" y="356"/>
                  <a:pt x="58" y="394"/>
                </a:cubicBezTo>
                <a:cubicBezTo>
                  <a:pt x="40" y="404"/>
                  <a:pt x="44" y="432"/>
                  <a:pt x="38" y="451"/>
                </a:cubicBezTo>
                <a:cubicBezTo>
                  <a:pt x="24" y="499"/>
                  <a:pt x="14" y="547"/>
                  <a:pt x="0" y="595"/>
                </a:cubicBezTo>
                <a:cubicBezTo>
                  <a:pt x="3" y="640"/>
                  <a:pt x="0" y="686"/>
                  <a:pt x="10" y="730"/>
                </a:cubicBezTo>
                <a:cubicBezTo>
                  <a:pt x="16" y="755"/>
                  <a:pt x="38" y="773"/>
                  <a:pt x="48" y="797"/>
                </a:cubicBezTo>
                <a:cubicBezTo>
                  <a:pt x="59" y="824"/>
                  <a:pt x="60" y="854"/>
                  <a:pt x="67" y="883"/>
                </a:cubicBezTo>
                <a:cubicBezTo>
                  <a:pt x="78" y="975"/>
                  <a:pt x="103" y="1060"/>
                  <a:pt x="115" y="1152"/>
                </a:cubicBezTo>
                <a:cubicBezTo>
                  <a:pt x="112" y="1181"/>
                  <a:pt x="106" y="1210"/>
                  <a:pt x="106" y="1239"/>
                </a:cubicBezTo>
                <a:cubicBezTo>
                  <a:pt x="106" y="1284"/>
                  <a:pt x="107" y="1329"/>
                  <a:pt x="115" y="1373"/>
                </a:cubicBezTo>
                <a:cubicBezTo>
                  <a:pt x="131" y="1467"/>
                  <a:pt x="310" y="1484"/>
                  <a:pt x="365" y="1498"/>
                </a:cubicBezTo>
                <a:cubicBezTo>
                  <a:pt x="407" y="1509"/>
                  <a:pt x="448" y="1523"/>
                  <a:pt x="490" y="1536"/>
                </a:cubicBezTo>
                <a:cubicBezTo>
                  <a:pt x="621" y="1630"/>
                  <a:pt x="489" y="1545"/>
                  <a:pt x="701" y="1632"/>
                </a:cubicBezTo>
                <a:cubicBezTo>
                  <a:pt x="741" y="1648"/>
                  <a:pt x="776" y="1676"/>
                  <a:pt x="816" y="1690"/>
                </a:cubicBezTo>
                <a:cubicBezTo>
                  <a:pt x="1013" y="1760"/>
                  <a:pt x="1236" y="1751"/>
                  <a:pt x="1440" y="1757"/>
                </a:cubicBezTo>
                <a:cubicBezTo>
                  <a:pt x="1731" y="1789"/>
                  <a:pt x="2014" y="1750"/>
                  <a:pt x="2304" y="1728"/>
                </a:cubicBezTo>
                <a:cubicBezTo>
                  <a:pt x="2336" y="1723"/>
                  <a:pt x="2443" y="1714"/>
                  <a:pt x="2486" y="1690"/>
                </a:cubicBezTo>
                <a:cubicBezTo>
                  <a:pt x="2503" y="1680"/>
                  <a:pt x="2546" y="1621"/>
                  <a:pt x="2554" y="1613"/>
                </a:cubicBezTo>
                <a:cubicBezTo>
                  <a:pt x="2840" y="1349"/>
                  <a:pt x="2674" y="1533"/>
                  <a:pt x="2822" y="1363"/>
                </a:cubicBezTo>
                <a:cubicBezTo>
                  <a:pt x="2886" y="1201"/>
                  <a:pt x="2919" y="1123"/>
                  <a:pt x="2938" y="960"/>
                </a:cubicBezTo>
                <a:cubicBezTo>
                  <a:pt x="2933" y="702"/>
                  <a:pt x="3022" y="459"/>
                  <a:pt x="2842" y="279"/>
                </a:cubicBezTo>
                <a:cubicBezTo>
                  <a:pt x="2837" y="252"/>
                  <a:pt x="2836" y="161"/>
                  <a:pt x="2803" y="144"/>
                </a:cubicBezTo>
                <a:cubicBezTo>
                  <a:pt x="2786" y="135"/>
                  <a:pt x="2765" y="136"/>
                  <a:pt x="2746" y="135"/>
                </a:cubicBezTo>
                <a:cubicBezTo>
                  <a:pt x="2656" y="130"/>
                  <a:pt x="2567" y="129"/>
                  <a:pt x="2477" y="125"/>
                </a:cubicBezTo>
                <a:cubicBezTo>
                  <a:pt x="2403" y="121"/>
                  <a:pt x="2321" y="113"/>
                  <a:pt x="2246" y="106"/>
                </a:cubicBezTo>
                <a:cubicBezTo>
                  <a:pt x="1040" y="126"/>
                  <a:pt x="1491" y="142"/>
                  <a:pt x="893" y="115"/>
                </a:cubicBezTo>
                <a:cubicBezTo>
                  <a:pt x="861" y="112"/>
                  <a:pt x="825" y="121"/>
                  <a:pt x="797" y="106"/>
                </a:cubicBezTo>
                <a:cubicBezTo>
                  <a:pt x="773" y="93"/>
                  <a:pt x="775" y="48"/>
                  <a:pt x="749" y="39"/>
                </a:cubicBezTo>
                <a:cubicBezTo>
                  <a:pt x="739" y="36"/>
                  <a:pt x="729" y="34"/>
                  <a:pt x="720" y="29"/>
                </a:cubicBezTo>
                <a:cubicBezTo>
                  <a:pt x="710" y="24"/>
                  <a:pt x="702" y="11"/>
                  <a:pt x="691" y="10"/>
                </a:cubicBezTo>
                <a:cubicBezTo>
                  <a:pt x="618" y="2"/>
                  <a:pt x="544" y="3"/>
                  <a:pt x="470" y="0"/>
                </a:cubicBezTo>
                <a:cubicBezTo>
                  <a:pt x="391" y="17"/>
                  <a:pt x="378" y="30"/>
                  <a:pt x="355" y="125"/>
                </a:cubicBezTo>
                <a:cubicBezTo>
                  <a:pt x="352" y="138"/>
                  <a:pt x="350" y="151"/>
                  <a:pt x="346" y="163"/>
                </a:cubicBezTo>
                <a:cubicBezTo>
                  <a:pt x="340" y="183"/>
                  <a:pt x="326" y="221"/>
                  <a:pt x="326" y="221"/>
                </a:cubicBezTo>
                <a:cubicBezTo>
                  <a:pt x="314" y="307"/>
                  <a:pt x="323" y="272"/>
                  <a:pt x="278" y="317"/>
                </a:cubicBez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352680" y="4648320"/>
            <a:ext cx="549360" cy="457200"/>
            <a:chOff x="3352680" y="4648320"/>
            <a:chExt cx="549360" cy="457200"/>
          </a:xfrm>
        </p:grpSpPr>
        <p:sp>
          <p:nvSpPr>
            <p:cNvPr id="402" name=""/>
            <p:cNvSpPr/>
            <p:nvPr/>
          </p:nvSpPr>
          <p:spPr>
            <a:xfrm>
              <a:off x="3352680" y="4648320"/>
              <a:ext cx="45720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29000" y="464832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[0:4] = [2, 5, 4, 7, 9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62520" y="5562720"/>
            <a:ext cx="548640" cy="457200"/>
            <a:chOff x="3962520" y="5562720"/>
            <a:chExt cx="548640" cy="457200"/>
          </a:xfrm>
        </p:grpSpPr>
        <p:sp>
          <p:nvSpPr>
            <p:cNvPr id="407" name=""/>
            <p:cNvSpPr/>
            <p:nvPr/>
          </p:nvSpPr>
          <p:spPr>
            <a:xfrm>
              <a:off x="3962520" y="5562720"/>
              <a:ext cx="45684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38480" y="5562720"/>
              <a:ext cx="47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029200" y="5562720"/>
            <a:ext cx="533520" cy="457200"/>
            <a:chOff x="5029200" y="5562720"/>
            <a:chExt cx="533520" cy="457200"/>
          </a:xfrm>
        </p:grpSpPr>
        <p:sp>
          <p:nvSpPr>
            <p:cNvPr id="410" name=""/>
            <p:cNvSpPr/>
            <p:nvPr/>
          </p:nvSpPr>
          <p:spPr>
            <a:xfrm>
              <a:off x="5029200" y="5562720"/>
              <a:ext cx="45720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89680" y="556272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419720" y="4648320"/>
            <a:ext cx="533160" cy="533160"/>
            <a:chOff x="4419720" y="4648320"/>
            <a:chExt cx="533160" cy="533160"/>
          </a:xfrm>
        </p:grpSpPr>
        <p:sp>
          <p:nvSpPr>
            <p:cNvPr id="413" name=""/>
            <p:cNvSpPr/>
            <p:nvPr/>
          </p:nvSpPr>
          <p:spPr>
            <a:xfrm>
              <a:off x="4419720" y="4648320"/>
              <a:ext cx="533160" cy="533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95680" y="47242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 flipH="1">
            <a:off x="4191120" y="51055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51055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3809880"/>
            <a:ext cx="533520" cy="5335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3886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nkGothITC Hv BT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657240" y="426708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43400" y="426708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19920" y="4724280"/>
            <a:ext cx="548640" cy="457200"/>
            <a:chOff x="6019920" y="4724280"/>
            <a:chExt cx="548640" cy="457200"/>
          </a:xfrm>
        </p:grpSpPr>
        <p:sp>
          <p:nvSpPr>
            <p:cNvPr id="422" name=""/>
            <p:cNvSpPr/>
            <p:nvPr/>
          </p:nvSpPr>
          <p:spPr>
            <a:xfrm>
              <a:off x="6019920" y="4724280"/>
              <a:ext cx="45684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95880" y="4724280"/>
              <a:ext cx="47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086600" y="4724280"/>
            <a:ext cx="533520" cy="457200"/>
            <a:chOff x="7086600" y="4724280"/>
            <a:chExt cx="533520" cy="457200"/>
          </a:xfrm>
        </p:grpSpPr>
        <p:sp>
          <p:nvSpPr>
            <p:cNvPr id="425" name=""/>
            <p:cNvSpPr/>
            <p:nvPr/>
          </p:nvSpPr>
          <p:spPr>
            <a:xfrm>
              <a:off x="7086600" y="4724280"/>
              <a:ext cx="457200" cy="4572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47080" y="472428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77120" y="3809880"/>
            <a:ext cx="533160" cy="533520"/>
            <a:chOff x="6477120" y="3809880"/>
            <a:chExt cx="533160" cy="533520"/>
          </a:xfrm>
        </p:grpSpPr>
        <p:sp>
          <p:nvSpPr>
            <p:cNvPr id="428" name=""/>
            <p:cNvSpPr/>
            <p:nvPr/>
          </p:nvSpPr>
          <p:spPr>
            <a:xfrm>
              <a:off x="6477120" y="3809880"/>
              <a:ext cx="533160" cy="5335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77120" y="38862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6248520" y="42670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42670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181480" y="2819520"/>
            <a:ext cx="533160" cy="533160"/>
            <a:chOff x="5181480" y="2819520"/>
            <a:chExt cx="533160" cy="533160"/>
          </a:xfrm>
        </p:grpSpPr>
        <p:sp>
          <p:nvSpPr>
            <p:cNvPr id="433" name=""/>
            <p:cNvSpPr/>
            <p:nvPr/>
          </p:nvSpPr>
          <p:spPr>
            <a:xfrm>
              <a:off x="5181480" y="2819520"/>
              <a:ext cx="533160" cy="533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81480" y="2895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4343400" y="3200400"/>
            <a:ext cx="914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eighted External Path Leng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1040" y="3200400"/>
            <a:ext cx="1917000" cy="2173680"/>
            <a:chOff x="761040" y="3200400"/>
            <a:chExt cx="1917000" cy="2173680"/>
          </a:xfrm>
        </p:grpSpPr>
        <p:sp>
          <p:nvSpPr>
            <p:cNvPr id="97" name=""/>
            <p:cNvSpPr/>
            <p:nvPr/>
          </p:nvSpPr>
          <p:spPr>
            <a:xfrm>
              <a:off x="785880" y="5029200"/>
              <a:ext cx="291960" cy="29196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19040" y="5029200"/>
              <a:ext cx="292320" cy="29196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52560" y="5029200"/>
              <a:ext cx="292320" cy="29196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86080" y="5029200"/>
              <a:ext cx="291960" cy="29196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720" y="41911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69880" y="32004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158840" y="357516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4640" y="357516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853560" y="464184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920600" y="464184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35160" y="464184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456552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3400" y="41911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1040" y="4976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94560" y="4976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7720" y="4976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1240" y="4976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EPL(T) =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weight of external node 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* (distance of node i from root of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429000"/>
            <a:ext cx="5562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PL(T) = 4 * 2 + 3*2 + 6*2 + 9*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 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76920" y="4572000"/>
            <a:ext cx="171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= Merge Cos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90720" y="3200400"/>
            <a:ext cx="1523520" cy="1389600"/>
            <a:chOff x="990720" y="3200400"/>
            <a:chExt cx="1523520" cy="1389600"/>
          </a:xfrm>
        </p:grpSpPr>
        <p:sp>
          <p:nvSpPr>
            <p:cNvPr id="118" name=""/>
            <p:cNvSpPr/>
            <p:nvPr/>
          </p:nvSpPr>
          <p:spPr>
            <a:xfrm>
              <a:off x="990720" y="41911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41911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560" y="32004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 For Tree Colle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s with least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ew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min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…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(n –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 operations …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ert operations …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 –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 –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nge m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igher Order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dy scheme doesn’t wor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tree with 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, 6, 1, 9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600200" y="2743200"/>
            <a:ext cx="2590920" cy="1523880"/>
            <a:chOff x="1600200" y="2743200"/>
            <a:chExt cx="2590920" cy="1523880"/>
          </a:xfrm>
        </p:grpSpPr>
        <p:grpSp>
          <p:nvGrpSpPr>
            <p:cNvPr id="442" name=""/>
            <p:cNvGrpSpPr/>
            <p:nvPr/>
          </p:nvGrpSpPr>
          <p:grpSpPr>
            <a:xfrm>
              <a:off x="3657600" y="3809880"/>
              <a:ext cx="533520" cy="457200"/>
              <a:chOff x="3657600" y="3809880"/>
              <a:chExt cx="533520" cy="457200"/>
            </a:xfrm>
          </p:grpSpPr>
          <p:sp>
            <p:nvSpPr>
              <p:cNvPr id="443" name=""/>
              <p:cNvSpPr/>
              <p:nvPr/>
            </p:nvSpPr>
            <p:spPr>
              <a:xfrm>
                <a:off x="3657600" y="3809880"/>
                <a:ext cx="45720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18080" y="380988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438280" y="2743200"/>
              <a:ext cx="533160" cy="533520"/>
              <a:chOff x="2438280" y="2743200"/>
              <a:chExt cx="533160" cy="533520"/>
            </a:xfrm>
          </p:grpSpPr>
          <p:sp>
            <p:nvSpPr>
              <p:cNvPr id="446" name=""/>
              <p:cNvSpPr/>
              <p:nvPr/>
            </p:nvSpPr>
            <p:spPr>
              <a:xfrm>
                <a:off x="2438280" y="2743200"/>
                <a:ext cx="533160" cy="533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38280" y="2819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1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flipH="1">
              <a:off x="1600200" y="3124080"/>
              <a:ext cx="9144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71800" y="3048120"/>
              <a:ext cx="9144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28600" y="3733920"/>
            <a:ext cx="2590920" cy="2209680"/>
            <a:chOff x="228600" y="3733920"/>
            <a:chExt cx="2590920" cy="2209680"/>
          </a:xfrm>
        </p:grpSpPr>
        <p:grpSp>
          <p:nvGrpSpPr>
            <p:cNvPr id="451" name=""/>
            <p:cNvGrpSpPr/>
            <p:nvPr/>
          </p:nvGrpSpPr>
          <p:grpSpPr>
            <a:xfrm>
              <a:off x="228600" y="5486400"/>
              <a:ext cx="549360" cy="457200"/>
              <a:chOff x="228600" y="5486400"/>
              <a:chExt cx="549360" cy="457200"/>
            </a:xfrm>
          </p:grpSpPr>
          <p:sp>
            <p:nvSpPr>
              <p:cNvPr id="452" name=""/>
              <p:cNvSpPr/>
              <p:nvPr/>
            </p:nvSpPr>
            <p:spPr>
              <a:xfrm>
                <a:off x="228600" y="5486400"/>
                <a:ext cx="45720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548640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1219320" y="5486400"/>
              <a:ext cx="548640" cy="457200"/>
              <a:chOff x="1219320" y="5486400"/>
              <a:chExt cx="548640" cy="457200"/>
            </a:xfrm>
          </p:grpSpPr>
          <p:sp>
            <p:nvSpPr>
              <p:cNvPr id="455" name=""/>
              <p:cNvSpPr/>
              <p:nvPr/>
            </p:nvSpPr>
            <p:spPr>
              <a:xfrm>
                <a:off x="1219320" y="5486400"/>
                <a:ext cx="45684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95280" y="5486400"/>
                <a:ext cx="47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286000" y="5486400"/>
              <a:ext cx="533520" cy="457200"/>
              <a:chOff x="2286000" y="5486400"/>
              <a:chExt cx="533520" cy="457200"/>
            </a:xfrm>
          </p:grpSpPr>
          <p:sp>
            <p:nvSpPr>
              <p:cNvPr id="458" name=""/>
              <p:cNvSpPr/>
              <p:nvPr/>
            </p:nvSpPr>
            <p:spPr>
              <a:xfrm>
                <a:off x="2286000" y="5486400"/>
                <a:ext cx="45720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46480" y="548640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143000" y="3733920"/>
              <a:ext cx="533520" cy="533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3000" y="38098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80520" y="4191120"/>
              <a:ext cx="83844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00200" y="4191120"/>
              <a:ext cx="83808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47920" y="4267080"/>
              <a:ext cx="14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85800" y="6248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FrnkGothITC Hv BT"/>
              </a:rPr>
              <a:t>Greedy Tree Cost =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876920" y="2666880"/>
            <a:ext cx="3961800" cy="3904200"/>
            <a:chOff x="4876920" y="2666880"/>
            <a:chExt cx="3961800" cy="3904200"/>
          </a:xfrm>
        </p:grpSpPr>
        <p:grpSp>
          <p:nvGrpSpPr>
            <p:cNvPr id="467" name=""/>
            <p:cNvGrpSpPr/>
            <p:nvPr/>
          </p:nvGrpSpPr>
          <p:grpSpPr>
            <a:xfrm>
              <a:off x="4876920" y="5410080"/>
              <a:ext cx="548640" cy="457200"/>
              <a:chOff x="4876920" y="5410080"/>
              <a:chExt cx="54864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4876920" y="5410080"/>
                <a:ext cx="45684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952880" y="5410080"/>
                <a:ext cx="47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7162920" y="3733920"/>
              <a:ext cx="548640" cy="457200"/>
              <a:chOff x="7162920" y="3733920"/>
              <a:chExt cx="548640" cy="457200"/>
            </a:xfrm>
          </p:grpSpPr>
          <p:sp>
            <p:nvSpPr>
              <p:cNvPr id="471" name=""/>
              <p:cNvSpPr/>
              <p:nvPr/>
            </p:nvSpPr>
            <p:spPr>
              <a:xfrm>
                <a:off x="7162920" y="3733920"/>
                <a:ext cx="45684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38880" y="3733920"/>
                <a:ext cx="47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5410080"/>
              <a:ext cx="532800" cy="457200"/>
              <a:chOff x="6934320" y="5410080"/>
              <a:chExt cx="532800" cy="457200"/>
            </a:xfrm>
          </p:grpSpPr>
          <p:sp>
            <p:nvSpPr>
              <p:cNvPr id="474" name=""/>
              <p:cNvSpPr/>
              <p:nvPr/>
            </p:nvSpPr>
            <p:spPr>
              <a:xfrm>
                <a:off x="6934320" y="5410080"/>
                <a:ext cx="45684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94440" y="5410080"/>
                <a:ext cx="47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5791320" y="3657600"/>
              <a:ext cx="533160" cy="5335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280" y="37339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029200" y="4114800"/>
              <a:ext cx="8380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114800"/>
              <a:ext cx="8380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8305920" y="3733920"/>
              <a:ext cx="532800" cy="457200"/>
              <a:chOff x="8305920" y="3733920"/>
              <a:chExt cx="532800" cy="457200"/>
            </a:xfrm>
          </p:grpSpPr>
          <p:sp>
            <p:nvSpPr>
              <p:cNvPr id="481" name=""/>
              <p:cNvSpPr/>
              <p:nvPr/>
            </p:nvSpPr>
            <p:spPr>
              <a:xfrm>
                <a:off x="8305920" y="3733920"/>
                <a:ext cx="45684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366040" y="3733920"/>
                <a:ext cx="47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7086600" y="2666880"/>
              <a:ext cx="533160" cy="533520"/>
              <a:chOff x="7086600" y="2666880"/>
              <a:chExt cx="533160" cy="533520"/>
            </a:xfrm>
          </p:grpSpPr>
          <p:sp>
            <p:nvSpPr>
              <p:cNvPr id="484" name=""/>
              <p:cNvSpPr/>
              <p:nvPr/>
            </p:nvSpPr>
            <p:spPr>
              <a:xfrm>
                <a:off x="7086600" y="2666880"/>
                <a:ext cx="533160" cy="533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86600" y="274320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1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6248520" y="3048120"/>
              <a:ext cx="9144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0120" y="2971800"/>
              <a:ext cx="9144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915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10080" y="6172200"/>
              <a:ext cx="31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Optimal Tree Cost = 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ause Of Fail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node is no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node is like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node, one of whose children has a weigh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057400" y="762120"/>
            <a:ext cx="6629400" cy="3200400"/>
            <a:chOff x="2057400" y="762120"/>
            <a:chExt cx="6629400" cy="3200400"/>
          </a:xfrm>
        </p:grpSpPr>
        <p:grpSp>
          <p:nvGrpSpPr>
            <p:cNvPr id="493" name=""/>
            <p:cNvGrpSpPr/>
            <p:nvPr/>
          </p:nvGrpSpPr>
          <p:grpSpPr>
            <a:xfrm>
              <a:off x="2057400" y="3505320"/>
              <a:ext cx="549360" cy="457200"/>
              <a:chOff x="2057400" y="3505320"/>
              <a:chExt cx="549360" cy="457200"/>
            </a:xfrm>
          </p:grpSpPr>
          <p:sp>
            <p:nvSpPr>
              <p:cNvPr id="494" name=""/>
              <p:cNvSpPr/>
              <p:nvPr/>
            </p:nvSpPr>
            <p:spPr>
              <a:xfrm>
                <a:off x="2057400" y="3505320"/>
                <a:ext cx="45720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33720" y="350532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3048120" y="3505320"/>
              <a:ext cx="548640" cy="457200"/>
              <a:chOff x="3048120" y="3505320"/>
              <a:chExt cx="548640" cy="457200"/>
            </a:xfrm>
          </p:grpSpPr>
          <p:sp>
            <p:nvSpPr>
              <p:cNvPr id="497" name=""/>
              <p:cNvSpPr/>
              <p:nvPr/>
            </p:nvSpPr>
            <p:spPr>
              <a:xfrm>
                <a:off x="3048120" y="3505320"/>
                <a:ext cx="45684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24080" y="3505320"/>
                <a:ext cx="47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4114800" y="3505320"/>
              <a:ext cx="533520" cy="457200"/>
              <a:chOff x="4114800" y="3505320"/>
              <a:chExt cx="533520" cy="457200"/>
            </a:xfrm>
          </p:grpSpPr>
          <p:sp>
            <p:nvSpPr>
              <p:cNvPr id="500" name=""/>
              <p:cNvSpPr/>
              <p:nvPr/>
            </p:nvSpPr>
            <p:spPr>
              <a:xfrm>
                <a:off x="4114800" y="3505320"/>
                <a:ext cx="45720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75280" y="350532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971800" y="1752480"/>
              <a:ext cx="533520" cy="5335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971800" y="18288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rnkGothITC Hv BT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209320" y="2209680"/>
              <a:ext cx="83844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29000" y="2209680"/>
              <a:ext cx="8380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5486400" y="1828800"/>
              <a:ext cx="533520" cy="457200"/>
              <a:chOff x="5486400" y="1828800"/>
              <a:chExt cx="533520" cy="457200"/>
            </a:xfrm>
          </p:grpSpPr>
          <p:sp>
            <p:nvSpPr>
              <p:cNvPr id="507" name=""/>
              <p:cNvSpPr/>
              <p:nvPr/>
            </p:nvSpPr>
            <p:spPr>
              <a:xfrm>
                <a:off x="5486400" y="1828800"/>
                <a:ext cx="45720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46880" y="182880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4267080" y="762120"/>
              <a:ext cx="533160" cy="533160"/>
              <a:chOff x="4267080" y="762120"/>
              <a:chExt cx="533160" cy="533160"/>
            </a:xfrm>
          </p:grpSpPr>
          <p:sp>
            <p:nvSpPr>
              <p:cNvPr id="510" name=""/>
              <p:cNvSpPr/>
              <p:nvPr/>
            </p:nvSpPr>
            <p:spPr>
              <a:xfrm>
                <a:off x="4267080" y="762120"/>
                <a:ext cx="533160" cy="5331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67080" y="83808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1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flipH="1">
              <a:off x="3429000" y="1143000"/>
              <a:ext cx="9144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00600" y="1066680"/>
              <a:ext cx="9144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76720" y="2286000"/>
              <a:ext cx="144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57800" y="32767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Greedy Tree Cost = 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343400" y="1295280"/>
            <a:ext cx="533520" cy="990720"/>
            <a:chOff x="4343400" y="1295280"/>
            <a:chExt cx="533520" cy="990720"/>
          </a:xfrm>
        </p:grpSpPr>
        <p:grpSp>
          <p:nvGrpSpPr>
            <p:cNvPr id="517" name=""/>
            <p:cNvGrpSpPr/>
            <p:nvPr/>
          </p:nvGrpSpPr>
          <p:grpSpPr>
            <a:xfrm>
              <a:off x="4343400" y="1828800"/>
              <a:ext cx="533520" cy="457200"/>
              <a:chOff x="4343400" y="182880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4343400" y="1828800"/>
                <a:ext cx="457200" cy="4572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03880" y="182880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FrnkGothITC Hv BT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4572000" y="12952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09480" y="5791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tart with enough runs/weights of leng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that all node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ow Many Length 0 Runs To Add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tree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number of run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 &gt;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 of leng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merge reduces the number of runs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runs af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mer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+ q – s(k –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positive integ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number of remaining runs must beco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ow Many Length 0 Runs To Add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e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 + q  – s(k–1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positive integ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 + q – 1 = s(k  – 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r + q – 1) mod (k – 1)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 + q –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ivisible by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k –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that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q &lt; k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r – 1) mod (k – 1) = 0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q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r – 1) mod (k – 1) !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 = k –1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r – 1) mod (k – 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1 – r) mod (k – 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1 – r) mod (k – 1) = (1 – r) mod 1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no runs of leng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o be 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1 – r) mod (k – 1) = (1 – 6) mod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(–5)mod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(6 – 5) mod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must start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ns, and then apply greedy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eighted External Path Leng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EPL(T) =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weight of external node 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* (distance of node i from root of 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429000"/>
            <a:ext cx="5562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PL(T) = 4 * 3 + 3*3 + 6*2 + 9*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76920" y="4572000"/>
            <a:ext cx="171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= Merge Cos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1680" y="2978280"/>
            <a:ext cx="3058560" cy="3164400"/>
            <a:chOff x="211680" y="2978280"/>
            <a:chExt cx="3058560" cy="3164400"/>
          </a:xfrm>
        </p:grpSpPr>
        <p:sp>
          <p:nvSpPr>
            <p:cNvPr id="126" name=""/>
            <p:cNvSpPr/>
            <p:nvPr/>
          </p:nvSpPr>
          <p:spPr>
            <a:xfrm>
              <a:off x="236520" y="5797440"/>
              <a:ext cx="29196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040" y="5797440"/>
              <a:ext cx="29196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7800" y="4935600"/>
              <a:ext cx="292320" cy="29196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7360" y="4959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0880" y="39686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7560" y="2978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294920" y="33526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32767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85440" y="44197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5280" y="44197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4560" y="5410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54100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1680" y="5745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5200" y="5745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53320" y="4883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8280" y="3968640"/>
              <a:ext cx="29196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53440" y="3916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1295280" y="5715000"/>
            <a:ext cx="73231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ind binary tree with minimum WEPL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2971800"/>
            <a:ext cx="2057400" cy="2379960"/>
            <a:chOff x="457200" y="2971800"/>
            <a:chExt cx="2057400" cy="2379960"/>
          </a:xfrm>
        </p:grpSpPr>
        <p:sp>
          <p:nvSpPr>
            <p:cNvPr id="145" name=""/>
            <p:cNvSpPr/>
            <p:nvPr/>
          </p:nvSpPr>
          <p:spPr>
            <a:xfrm>
              <a:off x="457200" y="4952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39625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81440" y="29718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ther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coding and deco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less data com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ssage Coding &amp; Deco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trans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ssages do not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ender and receiver know the mess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it is adequate to transmit a code that identifies the message (e.g., message inde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ent with frequenc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message codes so as to minimize transmission and decoding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quencie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4, 8, 100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co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00, 01, 10, 1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*2 + 4*2 + 8*2 + 100*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2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ing is done using 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42670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ing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*2 + 4*2 + 8*2 + 100*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WE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00400" y="1295280"/>
            <a:ext cx="2286000" cy="2567520"/>
            <a:chOff x="3200400" y="1295280"/>
            <a:chExt cx="2286000" cy="2567520"/>
          </a:xfrm>
        </p:grpSpPr>
        <p:sp>
          <p:nvSpPr>
            <p:cNvPr id="157" name=""/>
            <p:cNvSpPr/>
            <p:nvPr/>
          </p:nvSpPr>
          <p:spPr>
            <a:xfrm>
              <a:off x="3300480" y="3124080"/>
              <a:ext cx="29196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33640" y="3124080"/>
              <a:ext cx="29232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67160" y="3124080"/>
              <a:ext cx="29232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00680" y="3124080"/>
              <a:ext cx="29196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51320" y="2286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84480" y="1295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673440" y="167004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59240" y="167004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368160" y="273672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35200" y="273672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9760" y="273672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16440" y="266076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18000" y="22860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5640" y="3071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9160" y="3071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42320" y="30718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75120" y="3071880"/>
              <a:ext cx="56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1676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1676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9880" y="2666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2666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76920" y="33526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6720" y="33526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9880" y="33526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rnal nodes defines a code set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0880" y="2819520"/>
            <a:ext cx="3429000" cy="3634200"/>
            <a:chOff x="380880" y="2819520"/>
            <a:chExt cx="3429000" cy="3634200"/>
          </a:xfrm>
        </p:grpSpPr>
        <p:sp>
          <p:nvSpPr>
            <p:cNvPr id="185" name=""/>
            <p:cNvSpPr/>
            <p:nvPr/>
          </p:nvSpPr>
          <p:spPr>
            <a:xfrm>
              <a:off x="480960" y="5638680"/>
              <a:ext cx="29232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14480" y="5638680"/>
              <a:ext cx="29196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22600" y="4776840"/>
              <a:ext cx="291960" cy="29196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1800" y="4800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65320" y="38098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32000" y="28195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539360" y="31939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82720" y="311796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929880" y="426096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39720" y="426096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49000" y="525132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06560" y="525132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120" y="5586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89640" y="5586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97760" y="47242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2720" y="3809880"/>
              <a:ext cx="291960" cy="292320"/>
            </a:xfrm>
            <a:prstGeom prst="rect">
              <a:avLst/>
            </a:prstGeom>
            <a:solidFill>
              <a:srgbClr val="ffed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22280" y="3733920"/>
              <a:ext cx="56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6520" y="3200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1800" y="3200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6520" y="42670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120" y="42670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00400" y="4191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880" y="59436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4400" y="59436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51055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88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038480" y="3124080"/>
            <a:ext cx="47246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ing c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*3 + 4*3 + 8*2 + 100*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WE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6095880"/>
            <a:ext cx="601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de is a prefix of an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2280" y="1454040"/>
            <a:ext cx="8458200" cy="4618800"/>
            <a:chOff x="152280" y="1454040"/>
            <a:chExt cx="8458200" cy="4618800"/>
          </a:xfrm>
        </p:grpSpPr>
        <p:sp>
          <p:nvSpPr>
            <p:cNvPr id="216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210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82840" y="4425840"/>
              <a:ext cx="29232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214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83440" y="34354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5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08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8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756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59092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0400" y="365760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04560" y="47242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4800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523880" y="4724280"/>
              <a:ext cx="1526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1080" y="480060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640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2819520"/>
              <a:ext cx="1447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2128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796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190760" y="4648320"/>
              <a:ext cx="5331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9200" y="46483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19520" y="19810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3880" y="2743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" y="3733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15000" y="2819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6920" y="3733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3809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38680" y="1905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3200" y="2819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2819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3880" y="37339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3809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8680" y="3809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FrnkGothITC Hv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280" y="556272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556272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556272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5120" y="55627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8280" y="47242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00400" y="47242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38680" y="47242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01000" y="3733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8480" y="54864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05520" y="54864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7-09-13T14:12:56Z</dcterms:modified>
  <cp:revision>149</cp:revision>
  <dc:subject/>
  <dc:title>Data Representation Methods</dc:title>
</cp:coreProperties>
</file>