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C74-8ED6-42B8-9159-4C80329C1A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of quicksort exposed the need for data structures for double-ended priority queues; concept of buffers (portions of memory to read into and write from); and buffer management to reduce time spent waiting for a buffer to empty or fill to/from dis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= c*(seek + latency time) + d * (transmission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e*k +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c, d, e, and f are const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ive internal merge sort starts with sorted segments; performs merge passes in each of which the number of sorted segments becomes half; stops when we have just one sorted segment. The sorted segments may be created using insertion sort say to get initial segments of size 15 (say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942-D707-48CB-87FB-5A76A81F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9A8-EB9F-48B0-A4F4-8F15EC8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99F-1230-4760-990D-D25AB702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5D0-5F16-41E1-9912-92BBCD11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29F-EF18-4E23-8387-3D915D1C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DBB-A874-4042-8F52-B62AF52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623-C590-4781-A467-CFFAEAA2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F7F-57BF-4B85-8F76-B6CBAFC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750-FF10-4737-9B75-AB68E8A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45B-1612-4337-9C44-F935AE9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645-D218-4F5E-BBA9-77B7AD8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354-A42D-4B3F-A2CB-DE96F50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4AA6-D0A1-4D48-9409-CD3924E87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fastest internal-sort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sort …best average ru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… best worst-case run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For Pass 1 (R    S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merge one pair of runs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merg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 of runs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76212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To Merge S1 and S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/output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For Pass 2 (S    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merge one pair of runs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merg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s of runs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76212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For One Merge Pa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put all block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output all block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merge all block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for a merge pa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otal Run-Merging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time for one merge pass) * (number of pa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(time for one merge pas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 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umber of initial run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(2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* 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(2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*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actors In Overall Run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eneration.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s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and outpu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merging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00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+ 100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M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* ceil(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2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merg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and outpu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initial r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order (number of merge passes is determined by number of runs and merge or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rove Run Gen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 input, output, and internal sor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90720" y="2514600"/>
            <a:ext cx="6400800" cy="3352680"/>
            <a:chOff x="990720" y="2514600"/>
            <a:chExt cx="6400800" cy="3352680"/>
          </a:xfrm>
        </p:grpSpPr>
        <p:sp>
          <p:nvSpPr>
            <p:cNvPr id="198" name=""/>
            <p:cNvSpPr/>
            <p:nvPr/>
          </p:nvSpPr>
          <p:spPr>
            <a:xfrm>
              <a:off x="990720" y="2590920"/>
              <a:ext cx="3200400" cy="32004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67640" y="4495680"/>
              <a:ext cx="1447920" cy="1371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2560" y="4952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5334120"/>
              <a:ext cx="1676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5120" y="403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67640" y="2514600"/>
              <a:ext cx="1447920" cy="1371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72560" y="2971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91120" y="3352680"/>
              <a:ext cx="167652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rove Run Gen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runs whose length (on average) exceeds memory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reducing number of runs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rove Run Merg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 input, output, and internal m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90720" y="2514600"/>
            <a:ext cx="6400800" cy="3352680"/>
            <a:chOff x="990720" y="2514600"/>
            <a:chExt cx="6400800" cy="3352680"/>
          </a:xfrm>
        </p:grpSpPr>
        <p:sp>
          <p:nvSpPr>
            <p:cNvPr id="211" name=""/>
            <p:cNvSpPr/>
            <p:nvPr/>
          </p:nvSpPr>
          <p:spPr>
            <a:xfrm>
              <a:off x="990720" y="2590920"/>
              <a:ext cx="3200400" cy="32004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640" y="4495680"/>
              <a:ext cx="1447920" cy="1371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2560" y="4952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1120" y="5334120"/>
              <a:ext cx="1676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5120" y="403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67640" y="2514600"/>
              <a:ext cx="1447920" cy="1371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2560" y="2971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352680"/>
              <a:ext cx="167652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rove Run Merg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number of merge p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higher-order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sses             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number of initial runs))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erg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nal Merge Sort Review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initial sorted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pairs of sorted segments, in merge passes, until on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 rem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20 Runs Using 5-Way Merg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1447920"/>
            <a:ext cx="9220320" cy="398880"/>
            <a:chOff x="0" y="1447920"/>
            <a:chExt cx="9220320" cy="398880"/>
          </a:xfrm>
        </p:grpSpPr>
        <p:sp>
          <p:nvSpPr>
            <p:cNvPr id="223" name=""/>
            <p:cNvSpPr/>
            <p:nvPr/>
          </p:nvSpPr>
          <p:spPr>
            <a:xfrm>
              <a:off x="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23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860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90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92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057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629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773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104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96252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120" y="2514600"/>
            <a:ext cx="7619760" cy="459720"/>
            <a:chOff x="762120" y="2514600"/>
            <a:chExt cx="7619760" cy="459720"/>
          </a:xfrm>
        </p:grpSpPr>
        <p:sp>
          <p:nvSpPr>
            <p:cNvPr id="245" name=""/>
            <p:cNvSpPr/>
            <p:nvPr/>
          </p:nvSpPr>
          <p:spPr>
            <a:xfrm>
              <a:off x="762120" y="251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251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9200" y="251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2400" y="251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04920" y="1752480"/>
            <a:ext cx="8838720" cy="838440"/>
            <a:chOff x="304920" y="1752480"/>
            <a:chExt cx="8838720" cy="838440"/>
          </a:xfrm>
        </p:grpSpPr>
        <p:sp>
          <p:nvSpPr>
            <p:cNvPr id="250" name=""/>
            <p:cNvSpPr/>
            <p:nvPr/>
          </p:nvSpPr>
          <p:spPr>
            <a:xfrm>
              <a:off x="304920" y="1828800"/>
              <a:ext cx="6094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1752480"/>
              <a:ext cx="2286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90720" y="1828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990720" y="18288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066320" y="17524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09680" y="1752480"/>
              <a:ext cx="533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1752480"/>
              <a:ext cx="763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819520" y="175248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19160" y="1752480"/>
              <a:ext cx="1522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895480" y="1752480"/>
              <a:ext cx="9144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67080" y="1752480"/>
              <a:ext cx="9144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0600" y="1752480"/>
              <a:ext cx="3808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181120" y="1752480"/>
              <a:ext cx="2286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81480" y="1752480"/>
              <a:ext cx="60984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257440" y="1752480"/>
              <a:ext cx="12193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10280" y="1752480"/>
              <a:ext cx="9144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0120" y="1752480"/>
              <a:ext cx="3808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1000" y="1752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001000" y="1752480"/>
              <a:ext cx="3808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076960" y="175248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990720" y="2895480"/>
            <a:ext cx="6858000" cy="1143000"/>
            <a:chOff x="990720" y="2895480"/>
            <a:chExt cx="6858000" cy="1143000"/>
          </a:xfrm>
        </p:grpSpPr>
        <p:sp>
          <p:nvSpPr>
            <p:cNvPr id="271" name=""/>
            <p:cNvSpPr/>
            <p:nvPr/>
          </p:nvSpPr>
          <p:spPr>
            <a:xfrm>
              <a:off x="990720" y="2971800"/>
              <a:ext cx="312408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191120" y="2895480"/>
              <a:ext cx="36576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800" y="2895480"/>
              <a:ext cx="12193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190760" y="289548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5120" y="56386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ass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/O Time Per Merge Pa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input buffers needed is linear in merg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memory size is fixed, block size decreases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reases (after a certa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number of blocks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number of seek and latency delays per pass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/O Time Per Merge Pa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8600" y="1828800"/>
            <a:ext cx="8534520" cy="4696200"/>
            <a:chOff x="228600" y="1828800"/>
            <a:chExt cx="8534520" cy="4696200"/>
          </a:xfrm>
        </p:grpSpPr>
        <p:sp>
          <p:nvSpPr>
            <p:cNvPr id="280" name=""/>
            <p:cNvSpPr/>
            <p:nvPr/>
          </p:nvSpPr>
          <p:spPr>
            <a:xfrm>
              <a:off x="1143000" y="1828800"/>
              <a:ext cx="7620120" cy="365760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200400" y="2819520"/>
              <a:ext cx="4876920" cy="1828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6880" y="594360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merge order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86400" y="624852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" y="3505320"/>
              <a:ext cx="838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/O time per p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09480" y="2590560"/>
              <a:ext cx="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76520" y="464832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otal I/O Time To Merge Ru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2280" y="2163600"/>
            <a:ext cx="8763120" cy="4696200"/>
            <a:chOff x="152280" y="2163600"/>
            <a:chExt cx="8763120" cy="4696200"/>
          </a:xfrm>
        </p:grpSpPr>
        <p:sp>
          <p:nvSpPr>
            <p:cNvPr id="289" name=""/>
            <p:cNvSpPr/>
            <p:nvPr/>
          </p:nvSpPr>
          <p:spPr>
            <a:xfrm>
              <a:off x="152280" y="3840120"/>
              <a:ext cx="1066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otal I/O time to merge ru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09480" y="2163600"/>
              <a:ext cx="8305920" cy="4696200"/>
              <a:chOff x="609480" y="2163600"/>
              <a:chExt cx="8305920" cy="4696200"/>
            </a:xfrm>
          </p:grpSpPr>
          <p:sp>
            <p:nvSpPr>
              <p:cNvPr id="291" name=""/>
              <p:cNvSpPr/>
              <p:nvPr/>
            </p:nvSpPr>
            <p:spPr>
              <a:xfrm>
                <a:off x="1295280" y="2163600"/>
                <a:ext cx="7620120" cy="365760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9160" y="62784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Times New Roman"/>
                  </a:rPr>
                  <a:t>merge order </a:t>
                </a: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k</a:t>
                </a: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638680" y="6583320"/>
                <a:ext cx="685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09480" y="2925360"/>
                <a:ext cx="0" cy="685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3763800"/>
                <a:ext cx="3276720" cy="952560"/>
              </a:xfrm>
              <a:custGeom>
                <a:avLst/>
                <a:gdLst/>
                <a:ahLst/>
                <a:rect l="l" t="t" r="r" b="b"/>
                <a:pathLst>
                  <a:path w="2064" h="600">
                    <a:moveTo>
                      <a:pt x="0" y="144"/>
                    </a:moveTo>
                    <a:cubicBezTo>
                      <a:pt x="92" y="372"/>
                      <a:pt x="184" y="600"/>
                      <a:pt x="528" y="576"/>
                    </a:cubicBezTo>
                    <a:cubicBezTo>
                      <a:pt x="872" y="552"/>
                      <a:pt x="1468" y="276"/>
                      <a:pt x="2064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/O time for one merge pass)                                     * 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umber of initial runs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ernal Merge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411480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ïve wa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k –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ares to determine next record to move to the output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mer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rd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 – 1)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time per pas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 – 1)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merge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 – 1)n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cn(k/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) 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981080" y="1066680"/>
            <a:ext cx="5257800" cy="2974320"/>
            <a:chOff x="1981080" y="1066680"/>
            <a:chExt cx="5257800" cy="2974320"/>
          </a:xfrm>
        </p:grpSpPr>
        <p:grpSp>
          <p:nvGrpSpPr>
            <p:cNvPr id="300" name=""/>
            <p:cNvGrpSpPr/>
            <p:nvPr/>
          </p:nvGrpSpPr>
          <p:grpSpPr>
            <a:xfrm>
              <a:off x="1981080" y="2895480"/>
              <a:ext cx="685800" cy="1145520"/>
              <a:chOff x="1981080" y="2895480"/>
              <a:chExt cx="685800" cy="1145520"/>
            </a:xfrm>
          </p:grpSpPr>
          <p:sp>
            <p:nvSpPr>
              <p:cNvPr id="301" name=""/>
              <p:cNvSpPr/>
              <p:nvPr/>
            </p:nvSpPr>
            <p:spPr>
              <a:xfrm>
                <a:off x="19810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810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895480" y="2895480"/>
              <a:ext cx="685800" cy="1145520"/>
              <a:chOff x="2895480" y="2895480"/>
              <a:chExt cx="685800" cy="1145520"/>
            </a:xfrm>
          </p:grpSpPr>
          <p:sp>
            <p:nvSpPr>
              <p:cNvPr id="304" name=""/>
              <p:cNvSpPr/>
              <p:nvPr/>
            </p:nvSpPr>
            <p:spPr>
              <a:xfrm>
                <a:off x="28954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954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809880" y="2895480"/>
              <a:ext cx="685800" cy="1145520"/>
              <a:chOff x="3809880" y="2895480"/>
              <a:chExt cx="685800" cy="1145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8098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098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724280" y="2895480"/>
              <a:ext cx="685800" cy="1145520"/>
              <a:chOff x="4724280" y="2895480"/>
              <a:chExt cx="685800" cy="1145520"/>
            </a:xfrm>
          </p:grpSpPr>
          <p:sp>
            <p:nvSpPr>
              <p:cNvPr id="310" name=""/>
              <p:cNvSpPr/>
              <p:nvPr/>
            </p:nvSpPr>
            <p:spPr>
              <a:xfrm>
                <a:off x="47242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242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638680" y="2895480"/>
              <a:ext cx="685800" cy="1145520"/>
              <a:chOff x="5638680" y="2895480"/>
              <a:chExt cx="685800" cy="1145520"/>
            </a:xfrm>
          </p:grpSpPr>
          <p:sp>
            <p:nvSpPr>
              <p:cNvPr id="313" name=""/>
              <p:cNvSpPr/>
              <p:nvPr/>
            </p:nvSpPr>
            <p:spPr>
              <a:xfrm>
                <a:off x="56386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86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553080" y="2895480"/>
              <a:ext cx="685800" cy="1145520"/>
              <a:chOff x="6553080" y="2895480"/>
              <a:chExt cx="685800" cy="1145520"/>
            </a:xfrm>
          </p:grpSpPr>
          <p:sp>
            <p:nvSpPr>
              <p:cNvPr id="316" name=""/>
              <p:cNvSpPr/>
              <p:nvPr/>
            </p:nvSpPr>
            <p:spPr>
              <a:xfrm>
                <a:off x="65530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530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4267080" y="1066680"/>
              <a:ext cx="381240" cy="68580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692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rge Time Using A Selection Tre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4114440"/>
            <a:ext cx="8991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mer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ord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n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ime per pas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n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merge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dn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 = dn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981080" y="1066680"/>
            <a:ext cx="5257800" cy="2974320"/>
            <a:chOff x="1981080" y="1066680"/>
            <a:chExt cx="5257800" cy="2974320"/>
          </a:xfrm>
        </p:grpSpPr>
        <p:grpSp>
          <p:nvGrpSpPr>
            <p:cNvPr id="323" name=""/>
            <p:cNvGrpSpPr/>
            <p:nvPr/>
          </p:nvGrpSpPr>
          <p:grpSpPr>
            <a:xfrm>
              <a:off x="1981080" y="2895480"/>
              <a:ext cx="685800" cy="1145520"/>
              <a:chOff x="1981080" y="2895480"/>
              <a:chExt cx="685800" cy="1145520"/>
            </a:xfrm>
          </p:grpSpPr>
          <p:sp>
            <p:nvSpPr>
              <p:cNvPr id="324" name=""/>
              <p:cNvSpPr/>
              <p:nvPr/>
            </p:nvSpPr>
            <p:spPr>
              <a:xfrm>
                <a:off x="19810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810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895480" y="2895480"/>
              <a:ext cx="685800" cy="1145520"/>
              <a:chOff x="2895480" y="2895480"/>
              <a:chExt cx="685800" cy="1145520"/>
            </a:xfrm>
          </p:grpSpPr>
          <p:sp>
            <p:nvSpPr>
              <p:cNvPr id="327" name=""/>
              <p:cNvSpPr/>
              <p:nvPr/>
            </p:nvSpPr>
            <p:spPr>
              <a:xfrm>
                <a:off x="28954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8954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809880" y="2895480"/>
              <a:ext cx="685800" cy="1145520"/>
              <a:chOff x="3809880" y="2895480"/>
              <a:chExt cx="685800" cy="1145520"/>
            </a:xfrm>
          </p:grpSpPr>
          <p:sp>
            <p:nvSpPr>
              <p:cNvPr id="330" name=""/>
              <p:cNvSpPr/>
              <p:nvPr/>
            </p:nvSpPr>
            <p:spPr>
              <a:xfrm>
                <a:off x="38098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098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724280" y="2895480"/>
              <a:ext cx="685800" cy="1145520"/>
              <a:chOff x="4724280" y="2895480"/>
              <a:chExt cx="685800" cy="1145520"/>
            </a:xfrm>
          </p:grpSpPr>
          <p:sp>
            <p:nvSpPr>
              <p:cNvPr id="333" name=""/>
              <p:cNvSpPr/>
              <p:nvPr/>
            </p:nvSpPr>
            <p:spPr>
              <a:xfrm>
                <a:off x="47242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242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638680" y="2895480"/>
              <a:ext cx="685800" cy="1145520"/>
              <a:chOff x="5638680" y="2895480"/>
              <a:chExt cx="685800" cy="1145520"/>
            </a:xfrm>
          </p:grpSpPr>
          <p:sp>
            <p:nvSpPr>
              <p:cNvPr id="336" name=""/>
              <p:cNvSpPr/>
              <p:nvPr/>
            </p:nvSpPr>
            <p:spPr>
              <a:xfrm>
                <a:off x="56386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386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553080" y="2895480"/>
              <a:ext cx="685800" cy="1145520"/>
              <a:chOff x="6553080" y="2895480"/>
              <a:chExt cx="685800" cy="1145520"/>
            </a:xfrm>
          </p:grpSpPr>
          <p:sp>
            <p:nvSpPr>
              <p:cNvPr id="339" name=""/>
              <p:cNvSpPr/>
              <p:nvPr/>
            </p:nvSpPr>
            <p:spPr>
              <a:xfrm>
                <a:off x="6553080" y="2895480"/>
                <a:ext cx="381240" cy="68580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53080" y="358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267080" y="1066680"/>
              <a:ext cx="381240" cy="68580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57400" y="1905120"/>
              <a:ext cx="4800600" cy="914400"/>
            </a:xfrm>
            <a:prstGeom prst="triangle">
              <a:avLst>
                <a:gd name="adj" fmla="val 50000"/>
              </a:avLst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ough memory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iz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input/outpu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cludes seek, latency, and transmission ti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internally so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ory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M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to internally mer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lock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rnal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p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un is a sorted sequence of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mer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un Gen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4648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5 bl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as a r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20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6560" y="48002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0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+ 20t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47920" y="1219320"/>
            <a:ext cx="6400800" cy="3276360"/>
            <a:chOff x="1447920" y="1219320"/>
            <a:chExt cx="6400800" cy="3276360"/>
          </a:xfrm>
        </p:grpSpPr>
        <p:sp>
          <p:nvSpPr>
            <p:cNvPr id="60" name=""/>
            <p:cNvSpPr/>
            <p:nvPr/>
          </p:nvSpPr>
          <p:spPr>
            <a:xfrm>
              <a:off x="1447920" y="1219320"/>
              <a:ext cx="3200400" cy="32004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24840" y="3124080"/>
              <a:ext cx="1447920" cy="1371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29760" y="35812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48320" y="3962520"/>
              <a:ext cx="1676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2666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13372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00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1828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,000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581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438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0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un Merg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wise merg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n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rge pa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uns (except possibly one) are pairwise mer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re merge passes, reducing the number of runs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20 Ru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447920"/>
            <a:ext cx="9220320" cy="398880"/>
            <a:chOff x="0" y="1447920"/>
            <a:chExt cx="9220320" cy="398880"/>
          </a:xfrm>
        </p:grpSpPr>
        <p:sp>
          <p:nvSpPr>
            <p:cNvPr id="73" name=""/>
            <p:cNvSpPr/>
            <p:nvPr/>
          </p:nvSpPr>
          <p:spPr>
            <a:xfrm>
              <a:off x="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30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05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60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66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8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290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862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292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58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629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01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7732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10480" y="14479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52280" y="2133720"/>
            <a:ext cx="8991720" cy="535680"/>
            <a:chOff x="152280" y="2133720"/>
            <a:chExt cx="8991720" cy="535680"/>
          </a:xfrm>
        </p:grpSpPr>
        <p:sp>
          <p:nvSpPr>
            <p:cNvPr id="94" name=""/>
            <p:cNvSpPr/>
            <p:nvPr/>
          </p:nvSpPr>
          <p:spPr>
            <a:xfrm>
              <a:off x="152280" y="2209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2209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04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11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7480" y="2209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2133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8600" y="1752480"/>
            <a:ext cx="8686440" cy="533520"/>
            <a:chOff x="228600" y="1752480"/>
            <a:chExt cx="8686440" cy="533520"/>
          </a:xfrm>
        </p:grpSpPr>
        <p:sp>
          <p:nvSpPr>
            <p:cNvPr id="105" name=""/>
            <p:cNvSpPr/>
            <p:nvPr/>
          </p:nvSpPr>
          <p:spPr>
            <a:xfrm>
              <a:off x="22860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1752480"/>
              <a:ext cx="1526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1752480"/>
              <a:ext cx="1526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1752480"/>
              <a:ext cx="1526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712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012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58200" y="1752480"/>
              <a:ext cx="1522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56840" y="17524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18960" y="175248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905120" y="1752480"/>
              <a:ext cx="304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666520" y="17524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428640" y="17524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419720" y="1752480"/>
              <a:ext cx="304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409720" y="17524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629040" y="17524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772040" y="17524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8610120" y="175248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57200" y="3048120"/>
            <a:ext cx="8001000" cy="535680"/>
            <a:chOff x="457200" y="3048120"/>
            <a:chExt cx="8001000" cy="535680"/>
          </a:xfrm>
        </p:grpSpPr>
        <p:sp>
          <p:nvSpPr>
            <p:cNvPr id="126" name=""/>
            <p:cNvSpPr/>
            <p:nvPr/>
          </p:nvSpPr>
          <p:spPr>
            <a:xfrm>
              <a:off x="45720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740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3048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8720" y="3048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0880" y="2514600"/>
            <a:ext cx="8305920" cy="685800"/>
            <a:chOff x="380880" y="2514600"/>
            <a:chExt cx="8305920" cy="685800"/>
          </a:xfrm>
        </p:grpSpPr>
        <p:sp>
          <p:nvSpPr>
            <p:cNvPr id="132" name=""/>
            <p:cNvSpPr/>
            <p:nvPr/>
          </p:nvSpPr>
          <p:spPr>
            <a:xfrm>
              <a:off x="380880" y="25909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1080" y="25909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1280" y="25909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25146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2400" y="25146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85800" y="259092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286000" y="259092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886200" y="259092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095880" y="251460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153280" y="251460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219320" y="4038480"/>
            <a:ext cx="7315200" cy="612360"/>
            <a:chOff x="1219320" y="4038480"/>
            <a:chExt cx="7315200" cy="612360"/>
          </a:xfrm>
        </p:grpSpPr>
        <p:sp>
          <p:nvSpPr>
            <p:cNvPr id="143" name=""/>
            <p:cNvSpPr/>
            <p:nvPr/>
          </p:nvSpPr>
          <p:spPr>
            <a:xfrm>
              <a:off x="121932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114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4680" y="4038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U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2120" y="3352680"/>
            <a:ext cx="7391160" cy="914400"/>
            <a:chOff x="762120" y="3352680"/>
            <a:chExt cx="7391160" cy="914400"/>
          </a:xfrm>
        </p:grpSpPr>
        <p:sp>
          <p:nvSpPr>
            <p:cNvPr id="147" name=""/>
            <p:cNvSpPr/>
            <p:nvPr/>
          </p:nvSpPr>
          <p:spPr>
            <a:xfrm>
              <a:off x="762120" y="3505320"/>
              <a:ext cx="60948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505320"/>
              <a:ext cx="8384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71600" y="3505320"/>
              <a:ext cx="9144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029200" y="3352680"/>
              <a:ext cx="9907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53280" y="342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19520" y="5029200"/>
            <a:ext cx="5790960" cy="536040"/>
            <a:chOff x="2819520" y="5029200"/>
            <a:chExt cx="5790960" cy="536040"/>
          </a:xfrm>
        </p:grpSpPr>
        <p:sp>
          <p:nvSpPr>
            <p:cNvPr id="153" name=""/>
            <p:cNvSpPr/>
            <p:nvPr/>
          </p:nvSpPr>
          <p:spPr>
            <a:xfrm>
              <a:off x="28195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468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2578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76520" y="4419720"/>
            <a:ext cx="6476760" cy="761760"/>
            <a:chOff x="1676520" y="4419720"/>
            <a:chExt cx="6476760" cy="761760"/>
          </a:xfrm>
        </p:grpSpPr>
        <p:sp>
          <p:nvSpPr>
            <p:cNvPr id="157" name=""/>
            <p:cNvSpPr/>
            <p:nvPr/>
          </p:nvSpPr>
          <p:spPr>
            <a:xfrm>
              <a:off x="1676520" y="4572000"/>
              <a:ext cx="1371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124080" y="4495680"/>
              <a:ext cx="19814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53280" y="44197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76720" y="5410080"/>
            <a:ext cx="4876560" cy="838440"/>
            <a:chOff x="3276720" y="5410080"/>
            <a:chExt cx="4876560" cy="838440"/>
          </a:xfrm>
        </p:grpSpPr>
        <p:sp>
          <p:nvSpPr>
            <p:cNvPr id="161" name=""/>
            <p:cNvSpPr/>
            <p:nvPr/>
          </p:nvSpPr>
          <p:spPr>
            <a:xfrm>
              <a:off x="3276720" y="5562720"/>
              <a:ext cx="21333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486400" y="5410080"/>
              <a:ext cx="26668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R1 and R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464832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put 0)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output buff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whenever output buffer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whenever input buffer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447920" y="1219320"/>
            <a:ext cx="6400800" cy="3276360"/>
            <a:chOff x="1447920" y="1219320"/>
            <a:chExt cx="6400800" cy="3276360"/>
          </a:xfrm>
        </p:grpSpPr>
        <p:sp>
          <p:nvSpPr>
            <p:cNvPr id="166" name=""/>
            <p:cNvSpPr/>
            <p:nvPr/>
          </p:nvSpPr>
          <p:spPr>
            <a:xfrm>
              <a:off x="1447920" y="1219320"/>
              <a:ext cx="3200400" cy="3200400"/>
            </a:xfrm>
            <a:prstGeom prst="rect">
              <a:avLst/>
            </a:prstGeom>
            <a:solidFill>
              <a:srgbClr val="99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24480" y="3124080"/>
              <a:ext cx="1447920" cy="1371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48320" y="3962520"/>
              <a:ext cx="1676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47920" y="3048120"/>
            <a:ext cx="1600200" cy="1371600"/>
            <a:chOff x="1447920" y="3048120"/>
            <a:chExt cx="1600200" cy="1371600"/>
          </a:xfrm>
        </p:grpSpPr>
        <p:sp>
          <p:nvSpPr>
            <p:cNvPr id="171" name=""/>
            <p:cNvSpPr/>
            <p:nvPr/>
          </p:nvSpPr>
          <p:spPr>
            <a:xfrm>
              <a:off x="1447920" y="3048120"/>
              <a:ext cx="1600200" cy="137160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76520" y="3476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put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8120" y="3048120"/>
            <a:ext cx="1600200" cy="1371600"/>
            <a:chOff x="3048120" y="3048120"/>
            <a:chExt cx="1600200" cy="1371600"/>
          </a:xfrm>
        </p:grpSpPr>
        <p:sp>
          <p:nvSpPr>
            <p:cNvPr id="174" name=""/>
            <p:cNvSpPr/>
            <p:nvPr/>
          </p:nvSpPr>
          <p:spPr>
            <a:xfrm>
              <a:off x="3048120" y="3048120"/>
              <a:ext cx="1600200" cy="137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3476520"/>
              <a:ext cx="137160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pu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447920" y="2209680"/>
            <a:ext cx="3200400" cy="838440"/>
            <a:chOff x="1447920" y="2209680"/>
            <a:chExt cx="3200400" cy="838440"/>
          </a:xfrm>
        </p:grpSpPr>
        <p:sp>
          <p:nvSpPr>
            <p:cNvPr id="177" name=""/>
            <p:cNvSpPr/>
            <p:nvPr/>
          </p:nvSpPr>
          <p:spPr>
            <a:xfrm>
              <a:off x="1447920" y="2209680"/>
              <a:ext cx="3200400" cy="838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8280" y="2471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To Merge R1 and R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/output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 10t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7-09-13T14:05:51Z</dcterms:modified>
  <cp:revision>146</cp:revision>
  <dc:subject/>
  <dc:title>Data Representation Methods</dc:title>
</cp:coreProperties>
</file>