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1C65-D878-4220-928E-95C73E90FF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is number of elements to s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ion sort divides a large instance into two smaller instances. These smaller instances are of a very different size: n-1 vs 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8D3-C0FE-42F7-A7F0-BE1ABBB5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CDD-5E51-4CBC-8F23-51ABA117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227-040E-4E19-BCD8-C095A396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A16-6DEB-4C05-9BB5-15D8975F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CAA-E00F-4FE3-9B30-A6C8CA46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64E-F84E-42D4-A235-8BB43120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27B-154F-44AF-AA22-115E0E54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BC8-6760-490F-8D0F-2F495F65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892-309C-4C8C-8FEA-5A3B3D55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570-206F-4396-B9D0-5D0167EF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BBD-7837-4333-9428-548C5356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D90-CDF9-406E-A0A4-4AA1AE9A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1CB9-7DE9-4CE3-81F1-542D68C60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rran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 into ascending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, 3, 6, 2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, 2, 3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titioning Example Using Additional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1676520"/>
            <a:ext cx="5943600" cy="579960"/>
            <a:chOff x="914400" y="1676520"/>
            <a:chExt cx="5943600" cy="579960"/>
          </a:xfrm>
        </p:grpSpPr>
        <p:grpSp>
          <p:nvGrpSpPr>
            <p:cNvPr id="183" name=""/>
            <p:cNvGrpSpPr/>
            <p:nvPr/>
          </p:nvGrpSpPr>
          <p:grpSpPr>
            <a:xfrm>
              <a:off x="1758960" y="1676520"/>
              <a:ext cx="5099040" cy="519120"/>
              <a:chOff x="1758960" y="1676520"/>
              <a:chExt cx="5099040" cy="519120"/>
            </a:xfrm>
          </p:grpSpPr>
          <p:sp>
            <p:nvSpPr>
              <p:cNvPr id="184" name=""/>
              <p:cNvSpPr/>
              <p:nvPr/>
            </p:nvSpPr>
            <p:spPr>
              <a:xfrm>
                <a:off x="1758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12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16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70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73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27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30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84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87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65440" y="16765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44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22640" y="16765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02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56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59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13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16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70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73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9277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330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84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914400" y="16765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990720" y="3276720"/>
            <a:ext cx="5708520" cy="579960"/>
            <a:chOff x="990720" y="3276720"/>
            <a:chExt cx="5708520" cy="579960"/>
          </a:xfrm>
        </p:grpSpPr>
        <p:sp>
          <p:nvSpPr>
            <p:cNvPr id="208" name=""/>
            <p:cNvSpPr/>
            <p:nvPr/>
          </p:nvSpPr>
          <p:spPr>
            <a:xfrm>
              <a:off x="1682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398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970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542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114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8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258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830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402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74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54640" y="3359160"/>
              <a:ext cx="44460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907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682640" y="3276720"/>
            <a:ext cx="444600" cy="519120"/>
            <a:chOff x="1682640" y="3276720"/>
            <a:chExt cx="444600" cy="519120"/>
          </a:xfrm>
        </p:grpSpPr>
        <p:sp>
          <p:nvSpPr>
            <p:cNvPr id="221" name=""/>
            <p:cNvSpPr/>
            <p:nvPr/>
          </p:nvSpPr>
          <p:spPr>
            <a:xfrm>
              <a:off x="16826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36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54640" y="3276720"/>
            <a:ext cx="444600" cy="519120"/>
            <a:chOff x="6254640" y="3276720"/>
            <a:chExt cx="444600" cy="519120"/>
          </a:xfrm>
        </p:grpSpPr>
        <p:sp>
          <p:nvSpPr>
            <p:cNvPr id="224" name=""/>
            <p:cNvSpPr/>
            <p:nvPr/>
          </p:nvSpPr>
          <p:spPr>
            <a:xfrm>
              <a:off x="62546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08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139840" y="3276720"/>
            <a:ext cx="444600" cy="519120"/>
            <a:chOff x="2139840" y="3276720"/>
            <a:chExt cx="444600" cy="519120"/>
          </a:xfrm>
        </p:grpSpPr>
        <p:sp>
          <p:nvSpPr>
            <p:cNvPr id="227" name=""/>
            <p:cNvSpPr/>
            <p:nvPr/>
          </p:nvSpPr>
          <p:spPr>
            <a:xfrm>
              <a:off x="21398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938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775480" y="3276720"/>
            <a:ext cx="701640" cy="519120"/>
            <a:chOff x="5775480" y="3276720"/>
            <a:chExt cx="701640" cy="519120"/>
          </a:xfrm>
        </p:grpSpPr>
        <p:sp>
          <p:nvSpPr>
            <p:cNvPr id="230" name=""/>
            <p:cNvSpPr/>
            <p:nvPr/>
          </p:nvSpPr>
          <p:spPr>
            <a:xfrm>
              <a:off x="57974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75480" y="327672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18280" y="3276720"/>
            <a:ext cx="701640" cy="519120"/>
            <a:chOff x="5318280" y="3276720"/>
            <a:chExt cx="701640" cy="519120"/>
          </a:xfrm>
        </p:grpSpPr>
        <p:sp>
          <p:nvSpPr>
            <p:cNvPr id="233" name=""/>
            <p:cNvSpPr/>
            <p:nvPr/>
          </p:nvSpPr>
          <p:spPr>
            <a:xfrm>
              <a:off x="53402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18280" y="327672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597040" y="3276720"/>
            <a:ext cx="444600" cy="519120"/>
            <a:chOff x="2597040" y="3276720"/>
            <a:chExt cx="444600" cy="519120"/>
          </a:xfrm>
        </p:grpSpPr>
        <p:sp>
          <p:nvSpPr>
            <p:cNvPr id="236" name=""/>
            <p:cNvSpPr/>
            <p:nvPr/>
          </p:nvSpPr>
          <p:spPr>
            <a:xfrm>
              <a:off x="25970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510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054240" y="3276720"/>
            <a:ext cx="444600" cy="519120"/>
            <a:chOff x="3054240" y="3276720"/>
            <a:chExt cx="444600" cy="519120"/>
          </a:xfrm>
        </p:grpSpPr>
        <p:sp>
          <p:nvSpPr>
            <p:cNvPr id="239" name=""/>
            <p:cNvSpPr/>
            <p:nvPr/>
          </p:nvSpPr>
          <p:spPr>
            <a:xfrm>
              <a:off x="30542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082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83040" y="3276720"/>
            <a:ext cx="444600" cy="519120"/>
            <a:chOff x="4883040" y="3276720"/>
            <a:chExt cx="444600" cy="519120"/>
          </a:xfrm>
        </p:grpSpPr>
        <p:sp>
          <p:nvSpPr>
            <p:cNvPr id="242" name=""/>
            <p:cNvSpPr/>
            <p:nvPr/>
          </p:nvSpPr>
          <p:spPr>
            <a:xfrm>
              <a:off x="48830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370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425840" y="3276720"/>
            <a:ext cx="444600" cy="519120"/>
            <a:chOff x="4425840" y="3276720"/>
            <a:chExt cx="444600" cy="519120"/>
          </a:xfrm>
        </p:grpSpPr>
        <p:sp>
          <p:nvSpPr>
            <p:cNvPr id="245" name=""/>
            <p:cNvSpPr/>
            <p:nvPr/>
          </p:nvSpPr>
          <p:spPr>
            <a:xfrm>
              <a:off x="44258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798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511440" y="3276720"/>
            <a:ext cx="444600" cy="519120"/>
            <a:chOff x="3511440" y="3276720"/>
            <a:chExt cx="444600" cy="519120"/>
          </a:xfrm>
        </p:grpSpPr>
        <p:sp>
          <p:nvSpPr>
            <p:cNvPr id="248" name=""/>
            <p:cNvSpPr/>
            <p:nvPr/>
          </p:nvSpPr>
          <p:spPr>
            <a:xfrm>
              <a:off x="3511440" y="33591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654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968640" y="3276720"/>
            <a:ext cx="444600" cy="519120"/>
            <a:chOff x="3968640" y="3276720"/>
            <a:chExt cx="444600" cy="519120"/>
          </a:xfrm>
        </p:grpSpPr>
        <p:sp>
          <p:nvSpPr>
            <p:cNvPr id="251" name=""/>
            <p:cNvSpPr/>
            <p:nvPr/>
          </p:nvSpPr>
          <p:spPr>
            <a:xfrm>
              <a:off x="3968640" y="335916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22640" y="3276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914400" y="4876920"/>
            <a:ext cx="71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left and right segments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place Partitio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leftmost element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rightmost element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o the left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-Place Partition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43000" y="1143000"/>
            <a:ext cx="5943600" cy="579960"/>
            <a:chOff x="1143000" y="1143000"/>
            <a:chExt cx="5943600" cy="579960"/>
          </a:xfrm>
        </p:grpSpPr>
        <p:grpSp>
          <p:nvGrpSpPr>
            <p:cNvPr id="258" name=""/>
            <p:cNvGrpSpPr/>
            <p:nvPr/>
          </p:nvGrpSpPr>
          <p:grpSpPr>
            <a:xfrm>
              <a:off x="1143000" y="1143000"/>
              <a:ext cx="5943600" cy="579960"/>
              <a:chOff x="1143000" y="1143000"/>
              <a:chExt cx="5943600" cy="579960"/>
            </a:xfrm>
          </p:grpSpPr>
          <p:sp>
            <p:nvSpPr>
              <p:cNvPr id="259" name=""/>
              <p:cNvSpPr/>
              <p:nvPr/>
            </p:nvSpPr>
            <p:spPr>
              <a:xfrm>
                <a:off x="1987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41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447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987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019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559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591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131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163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94040" y="11430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73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51240" y="1143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307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847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1879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419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451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991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023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563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559560" y="1225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613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43000" y="11430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987560" y="1143000"/>
              <a:ext cx="527040" cy="519120"/>
              <a:chOff x="1987560" y="1143000"/>
              <a:chExt cx="527040" cy="519120"/>
            </a:xfrm>
          </p:grpSpPr>
          <p:sp>
            <p:nvSpPr>
              <p:cNvPr id="283" name=""/>
              <p:cNvSpPr/>
              <p:nvPr/>
            </p:nvSpPr>
            <p:spPr>
              <a:xfrm>
                <a:off x="1987560" y="12254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041560" y="11430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2901960" y="1143000"/>
            <a:ext cx="527040" cy="519120"/>
            <a:chOff x="2901960" y="1143000"/>
            <a:chExt cx="527040" cy="519120"/>
          </a:xfrm>
        </p:grpSpPr>
        <p:sp>
          <p:nvSpPr>
            <p:cNvPr id="286" name=""/>
            <p:cNvSpPr/>
            <p:nvPr/>
          </p:nvSpPr>
          <p:spPr>
            <a:xfrm>
              <a:off x="2901960" y="122544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55960" y="11430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559560" y="1143000"/>
            <a:ext cx="527040" cy="519120"/>
            <a:chOff x="6559560" y="1143000"/>
            <a:chExt cx="527040" cy="519120"/>
          </a:xfrm>
        </p:grpSpPr>
        <p:sp>
          <p:nvSpPr>
            <p:cNvPr id="289" name=""/>
            <p:cNvSpPr/>
            <p:nvPr/>
          </p:nvSpPr>
          <p:spPr>
            <a:xfrm>
              <a:off x="6559560" y="122544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13560" y="11430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43000" y="2057400"/>
            <a:ext cx="5943600" cy="579960"/>
            <a:chOff x="1143000" y="2057400"/>
            <a:chExt cx="5943600" cy="579960"/>
          </a:xfrm>
        </p:grpSpPr>
        <p:grpSp>
          <p:nvGrpSpPr>
            <p:cNvPr id="292" name=""/>
            <p:cNvGrpSpPr/>
            <p:nvPr/>
          </p:nvGrpSpPr>
          <p:grpSpPr>
            <a:xfrm>
              <a:off x="1143000" y="2057400"/>
              <a:ext cx="5943600" cy="579960"/>
              <a:chOff x="1143000" y="2057400"/>
              <a:chExt cx="5943600" cy="579960"/>
            </a:xfrm>
          </p:grpSpPr>
          <p:sp>
            <p:nvSpPr>
              <p:cNvPr id="293" name=""/>
              <p:cNvSpPr/>
              <p:nvPr/>
            </p:nvSpPr>
            <p:spPr>
              <a:xfrm>
                <a:off x="1987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41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447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987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019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559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591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131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163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94040" y="20574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73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251240" y="20574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307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847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879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419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6451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6991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023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563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59560" y="21398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13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43000" y="20574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987560" y="2057400"/>
              <a:ext cx="527040" cy="519120"/>
              <a:chOff x="1987560" y="2057400"/>
              <a:chExt cx="527040" cy="519120"/>
            </a:xfrm>
          </p:grpSpPr>
          <p:sp>
            <p:nvSpPr>
              <p:cNvPr id="317" name=""/>
              <p:cNvSpPr/>
              <p:nvPr/>
            </p:nvSpPr>
            <p:spPr>
              <a:xfrm>
                <a:off x="1987560" y="21398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41560" y="20574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794040" y="2057400"/>
            <a:ext cx="625680" cy="519120"/>
            <a:chOff x="3794040" y="2057400"/>
            <a:chExt cx="625680" cy="519120"/>
          </a:xfrm>
        </p:grpSpPr>
        <p:sp>
          <p:nvSpPr>
            <p:cNvPr id="320" name=""/>
            <p:cNvSpPr/>
            <p:nvPr/>
          </p:nvSpPr>
          <p:spPr>
            <a:xfrm>
              <a:off x="3816360" y="213984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94040" y="205740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187960" y="2057400"/>
            <a:ext cx="527040" cy="519120"/>
            <a:chOff x="5187960" y="2057400"/>
            <a:chExt cx="527040" cy="519120"/>
          </a:xfrm>
        </p:grpSpPr>
        <p:sp>
          <p:nvSpPr>
            <p:cNvPr id="323" name=""/>
            <p:cNvSpPr/>
            <p:nvPr/>
          </p:nvSpPr>
          <p:spPr>
            <a:xfrm>
              <a:off x="5187960" y="213984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41960" y="205740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43000" y="2895480"/>
            <a:ext cx="5943600" cy="579960"/>
            <a:chOff x="1143000" y="2895480"/>
            <a:chExt cx="5943600" cy="579960"/>
          </a:xfrm>
        </p:grpSpPr>
        <p:grpSp>
          <p:nvGrpSpPr>
            <p:cNvPr id="326" name=""/>
            <p:cNvGrpSpPr/>
            <p:nvPr/>
          </p:nvGrpSpPr>
          <p:grpSpPr>
            <a:xfrm>
              <a:off x="1143000" y="2895480"/>
              <a:ext cx="5943600" cy="579960"/>
              <a:chOff x="1143000" y="2895480"/>
              <a:chExt cx="5943600" cy="57996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7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41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4447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987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019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559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591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131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163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70360" y="289548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73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51240" y="289548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307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847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1879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65640" y="289548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451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991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023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563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59560" y="297828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13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143000" y="289548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987560" y="2895480"/>
              <a:ext cx="527040" cy="519120"/>
              <a:chOff x="1987560" y="2895480"/>
              <a:chExt cx="527040" cy="519120"/>
            </a:xfrm>
          </p:grpSpPr>
          <p:sp>
            <p:nvSpPr>
              <p:cNvPr id="351" name=""/>
              <p:cNvSpPr/>
              <p:nvPr/>
            </p:nvSpPr>
            <p:spPr>
              <a:xfrm>
                <a:off x="1987560" y="297828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41560" y="289548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4251240" y="2895480"/>
            <a:ext cx="625680" cy="519120"/>
            <a:chOff x="4251240" y="2895480"/>
            <a:chExt cx="625680" cy="519120"/>
          </a:xfrm>
        </p:grpSpPr>
        <p:sp>
          <p:nvSpPr>
            <p:cNvPr id="354" name=""/>
            <p:cNvSpPr/>
            <p:nvPr/>
          </p:nvSpPr>
          <p:spPr>
            <a:xfrm>
              <a:off x="4273560" y="297828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51240" y="289548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730760" y="2895480"/>
            <a:ext cx="527040" cy="519120"/>
            <a:chOff x="4730760" y="2895480"/>
            <a:chExt cx="527040" cy="519120"/>
          </a:xfrm>
        </p:grpSpPr>
        <p:sp>
          <p:nvSpPr>
            <p:cNvPr id="357" name=""/>
            <p:cNvSpPr/>
            <p:nvPr/>
          </p:nvSpPr>
          <p:spPr>
            <a:xfrm>
              <a:off x="4730760" y="297828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84760" y="289548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143000" y="3733920"/>
            <a:ext cx="5943600" cy="579960"/>
            <a:chOff x="1143000" y="3733920"/>
            <a:chExt cx="5943600" cy="579960"/>
          </a:xfrm>
        </p:grpSpPr>
        <p:grpSp>
          <p:nvGrpSpPr>
            <p:cNvPr id="360" name=""/>
            <p:cNvGrpSpPr/>
            <p:nvPr/>
          </p:nvGrpSpPr>
          <p:grpSpPr>
            <a:xfrm>
              <a:off x="1143000" y="3733920"/>
              <a:ext cx="5943600" cy="579960"/>
              <a:chOff x="1143000" y="3733920"/>
              <a:chExt cx="5943600" cy="579960"/>
            </a:xfrm>
          </p:grpSpPr>
          <p:sp>
            <p:nvSpPr>
              <p:cNvPr id="361" name=""/>
              <p:cNvSpPr/>
              <p:nvPr/>
            </p:nvSpPr>
            <p:spPr>
              <a:xfrm>
                <a:off x="1987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41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4447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987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019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559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591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4131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163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70360" y="373392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273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327560" y="37339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307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32480" y="37339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879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165640" y="37339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51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991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023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563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59560" y="38163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613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43000" y="373392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1987560" y="3733920"/>
              <a:ext cx="527040" cy="519120"/>
              <a:chOff x="1987560" y="3733920"/>
              <a:chExt cx="527040" cy="519120"/>
            </a:xfrm>
          </p:grpSpPr>
          <p:sp>
            <p:nvSpPr>
              <p:cNvPr id="385" name=""/>
              <p:cNvSpPr/>
              <p:nvPr/>
            </p:nvSpPr>
            <p:spPr>
              <a:xfrm>
                <a:off x="1987560" y="381636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041560" y="37339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4708440" y="3733920"/>
            <a:ext cx="625680" cy="519120"/>
            <a:chOff x="4708440" y="3733920"/>
            <a:chExt cx="625680" cy="519120"/>
          </a:xfrm>
        </p:grpSpPr>
        <p:sp>
          <p:nvSpPr>
            <p:cNvPr id="388" name=""/>
            <p:cNvSpPr/>
            <p:nvPr/>
          </p:nvSpPr>
          <p:spPr>
            <a:xfrm>
              <a:off x="4730760" y="3816360"/>
              <a:ext cx="444600" cy="36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08440" y="3733920"/>
              <a:ext cx="62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273560" y="3733920"/>
            <a:ext cx="527040" cy="519120"/>
            <a:chOff x="4273560" y="3733920"/>
            <a:chExt cx="527040" cy="519120"/>
          </a:xfrm>
        </p:grpSpPr>
        <p:sp>
          <p:nvSpPr>
            <p:cNvPr id="391" name=""/>
            <p:cNvSpPr/>
            <p:nvPr/>
          </p:nvSpPr>
          <p:spPr>
            <a:xfrm>
              <a:off x="4273560" y="3816360"/>
              <a:ext cx="44460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27560" y="373392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04920" y="472428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to left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erminate process. Swa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295280" y="5943600"/>
            <a:ext cx="5943600" cy="579960"/>
            <a:chOff x="1295280" y="5943600"/>
            <a:chExt cx="5943600" cy="579960"/>
          </a:xfrm>
        </p:grpSpPr>
        <p:grpSp>
          <p:nvGrpSpPr>
            <p:cNvPr id="395" name=""/>
            <p:cNvGrpSpPr/>
            <p:nvPr/>
          </p:nvGrpSpPr>
          <p:grpSpPr>
            <a:xfrm>
              <a:off x="1295280" y="5943600"/>
              <a:ext cx="5943600" cy="579960"/>
              <a:chOff x="1295280" y="5943600"/>
              <a:chExt cx="5943600" cy="579960"/>
            </a:xfrm>
          </p:grpSpPr>
          <p:sp>
            <p:nvSpPr>
              <p:cNvPr id="396" name=""/>
              <p:cNvSpPr/>
              <p:nvPr/>
            </p:nvSpPr>
            <p:spPr>
              <a:xfrm>
                <a:off x="62546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398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193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5970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510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542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082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114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5654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68640" y="60260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22640" y="594360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79840" y="59436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402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8280" y="5943600"/>
                <a:ext cx="625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7974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514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086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118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765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95280" y="5943600"/>
                <a:ext cx="4572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479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83040" y="60260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84760" y="59436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4425840" y="5943600"/>
              <a:ext cx="527040" cy="519120"/>
              <a:chOff x="4425840" y="5943600"/>
              <a:chExt cx="527040" cy="5191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840" y="6026040"/>
                <a:ext cx="444600" cy="368280"/>
              </a:xfrm>
              <a:prstGeom prst="rect">
                <a:avLst/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79840" y="594360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partition an array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needed to 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|left|) + t(|right|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ximum whe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left|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|right|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ing each partitio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appens, for example, when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iv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ways the smalle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worst-case 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n-1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peated substitution to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case arises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left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|right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equal (or differ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llowing each partiti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6108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 best-cas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complexity is al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elp get partitions with almost equal size, change in-place swap ru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leftmost element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rightmost element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g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 the left of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mall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ace is needed for the recursion stack. May be reduced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mprove performance, stop recursion when segment siz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= 1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ay) and sort these small segments using insertion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th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n &gt;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into two smaller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eil(n/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define one of the smaller instances; remain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loor(n/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define the second smalle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 two smaller instances is sorted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rted smaller instances are combined using a process called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e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2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1, 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smallest elements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maller in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2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3, 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= (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 = (1, 2,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, 3,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ready sorted. So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orted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n-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serted into the sort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:n-2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mplemented nonrecursively (see tex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sp>
          <p:nvSpPr>
            <p:cNvPr id="53" name=""/>
            <p:cNvSpPr/>
            <p:nvPr/>
          </p:nvSpPr>
          <p:spPr>
            <a:xfrm>
              <a:off x="609480" y="2133360"/>
              <a:ext cx="7391160" cy="533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1523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48360" y="16761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09480" y="1600200"/>
            <a:ext cx="7162920" cy="1066680"/>
            <a:chOff x="609480" y="1600200"/>
            <a:chExt cx="7162920" cy="1066680"/>
          </a:xfrm>
        </p:grpSpPr>
        <p:sp>
          <p:nvSpPr>
            <p:cNvPr id="57" name=""/>
            <p:cNvSpPr/>
            <p:nvPr/>
          </p:nvSpPr>
          <p:spPr>
            <a:xfrm>
              <a:off x="609480" y="2133720"/>
              <a:ext cx="7010280" cy="533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816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620120" y="2133720"/>
            <a:ext cx="38088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Two Sort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 = (8, 9, 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= (1, 2, 3, 5,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ne of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empty, appe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list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needed to move an element in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, respectively, the number of elements initially i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0200" y="21337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, 2, 14, 5, 9, 10, 1, 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3048120"/>
            <a:ext cx="365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, 2, 14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752120" y="2590920"/>
            <a:ext cx="2590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03720" y="3048120"/>
            <a:ext cx="33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, 1, 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2590920"/>
            <a:ext cx="25905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3962520"/>
            <a:ext cx="213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, 1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294920" y="3505320"/>
            <a:ext cx="6858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14600" y="39625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0" y="3505320"/>
            <a:ext cx="9144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480060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6212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3000" y="4800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, 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3880" y="4419720"/>
            <a:ext cx="3049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5627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80520" y="52578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2120" y="5334120"/>
            <a:ext cx="22860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43000" y="556272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5235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5120" y="5562720"/>
            <a:ext cx="76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38280" y="480060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971800" y="4419720"/>
            <a:ext cx="38088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48006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81280" y="4419720"/>
            <a:ext cx="381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460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19520" y="52578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5562720"/>
            <a:ext cx="99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76720" y="5334120"/>
            <a:ext cx="30456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0560" y="3962520"/>
            <a:ext cx="167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, 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562360" y="3505320"/>
            <a:ext cx="9903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07400" y="3962520"/>
            <a:ext cx="1755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3505320"/>
            <a:ext cx="9907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17920" y="4800600"/>
            <a:ext cx="129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95288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13560" y="480060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89320" y="556272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572000" y="5257800"/>
            <a:ext cx="4572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75120" y="5562720"/>
            <a:ext cx="91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14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26160" y="4800600"/>
            <a:ext cx="145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7315200" y="4419720"/>
            <a:ext cx="5335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74080" y="4800600"/>
            <a:ext cx="84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001000" y="4495680"/>
            <a:ext cx="45720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97560" y="5562720"/>
            <a:ext cx="68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7813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36000" y="5562720"/>
            <a:ext cx="917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238880" y="5334120"/>
            <a:ext cx="38124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1752120" y="2590920"/>
            <a:ext cx="25909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2590920"/>
            <a:ext cx="25905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294920" y="3505320"/>
            <a:ext cx="6858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3505320"/>
            <a:ext cx="91440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280" y="480060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, 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6212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4800600"/>
            <a:ext cx="1371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, 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3962520"/>
            <a:ext cx="213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, 6, 8, 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4419720"/>
            <a:ext cx="3049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55627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80520" y="52578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2120" y="5334120"/>
            <a:ext cx="22860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43000" y="556272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5235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5120" y="5562720"/>
            <a:ext cx="76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810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38280" y="480060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14600" y="39625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4920" y="3048120"/>
            <a:ext cx="365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3, 5, 6, 8, 13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971800" y="4419720"/>
            <a:ext cx="38088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57600" y="480060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81280" y="4419720"/>
            <a:ext cx="38124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4600" y="5562720"/>
            <a:ext cx="76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819520" y="52578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5562720"/>
            <a:ext cx="99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76720" y="5334120"/>
            <a:ext cx="30456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5562360" y="3505320"/>
            <a:ext cx="99036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781680" y="3505320"/>
            <a:ext cx="99072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17920" y="4800600"/>
            <a:ext cx="129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70560" y="3962520"/>
            <a:ext cx="167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9, 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52880" y="4419720"/>
            <a:ext cx="45720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3560" y="480060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89320" y="5562720"/>
            <a:ext cx="76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572000" y="5257800"/>
            <a:ext cx="45720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75120" y="5562720"/>
            <a:ext cx="916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81480" y="5334120"/>
            <a:ext cx="30492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6160" y="4800600"/>
            <a:ext cx="1451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07400" y="3962520"/>
            <a:ext cx="1755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, 7, 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3720" y="3048120"/>
            <a:ext cx="33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4, 7, 9, 10,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00200" y="21337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, 2, 3, 4, 5, 6, 7, 8, 9, 10, 12, 13,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315200" y="4419720"/>
            <a:ext cx="53352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074080" y="4800600"/>
            <a:ext cx="84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001000" y="4495680"/>
            <a:ext cx="457200" cy="38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97560" y="5562720"/>
            <a:ext cx="68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7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781320" y="52578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236000" y="5562720"/>
            <a:ext cx="917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5334120"/>
            <a:ext cx="38124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ime required to 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0) = t(1) =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t(ceil(n/2)) + t(floor(n/2)) + 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the recurrence, 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ower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 substit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(n) = 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ward pass over the recursio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large instances into small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 pass over the recursio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pairs of sorted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eaf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nonleaf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at each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tal time at all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merging at each level that has a nonleaf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levels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recursive Ver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 down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orted lists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pairwise merging of these sorted lists as in the upward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nrecursive 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77760" y="1676520"/>
            <a:ext cx="9064800" cy="579960"/>
            <a:chOff x="77760" y="1676520"/>
            <a:chExt cx="9064800" cy="579960"/>
          </a:xfrm>
        </p:grpSpPr>
        <p:sp>
          <p:nvSpPr>
            <p:cNvPr id="553" name=""/>
            <p:cNvSpPr/>
            <p:nvPr/>
          </p:nvSpPr>
          <p:spPr>
            <a:xfrm>
              <a:off x="77760" y="1676520"/>
              <a:ext cx="760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8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35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93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8744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324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06760" y="1676520"/>
              <a:ext cx="988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68880" y="1676520"/>
              <a:ext cx="760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9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641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26280" y="1676520"/>
              <a:ext cx="684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35760" y="1676520"/>
              <a:ext cx="68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21560" y="1676520"/>
              <a:ext cx="91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83680" y="167652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28600" y="2209680"/>
            <a:ext cx="1066680" cy="1448640"/>
            <a:chOff x="228600" y="2209680"/>
            <a:chExt cx="1066680" cy="1448640"/>
          </a:xfrm>
        </p:grpSpPr>
        <p:sp>
          <p:nvSpPr>
            <p:cNvPr id="567" name=""/>
            <p:cNvSpPr/>
            <p:nvPr/>
          </p:nvSpPr>
          <p:spPr>
            <a:xfrm>
              <a:off x="228600" y="2590920"/>
              <a:ext cx="1066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, 8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088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83772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600200" y="2209680"/>
            <a:ext cx="1447920" cy="961200"/>
            <a:chOff x="1600200" y="2209680"/>
            <a:chExt cx="1447920" cy="961200"/>
          </a:xfrm>
        </p:grpSpPr>
        <p:sp>
          <p:nvSpPr>
            <p:cNvPr id="571" name=""/>
            <p:cNvSpPr/>
            <p:nvPr/>
          </p:nvSpPr>
          <p:spPr>
            <a:xfrm>
              <a:off x="1600200" y="2590920"/>
              <a:ext cx="1447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6, 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05120" y="2209680"/>
              <a:ext cx="30456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3619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971800" y="2209680"/>
            <a:ext cx="1371600" cy="961200"/>
            <a:chOff x="2971800" y="2209680"/>
            <a:chExt cx="1371600" cy="961200"/>
          </a:xfrm>
        </p:grpSpPr>
        <p:sp>
          <p:nvSpPr>
            <p:cNvPr id="575" name=""/>
            <p:cNvSpPr/>
            <p:nvPr/>
          </p:nvSpPr>
          <p:spPr>
            <a:xfrm>
              <a:off x="2971800" y="2590920"/>
              <a:ext cx="1371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76720" y="2209680"/>
              <a:ext cx="30456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7335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343400" y="2286000"/>
            <a:ext cx="1066680" cy="1372320"/>
            <a:chOff x="4343400" y="2286000"/>
            <a:chExt cx="1066680" cy="1372320"/>
          </a:xfrm>
        </p:grpSpPr>
        <p:sp>
          <p:nvSpPr>
            <p:cNvPr id="579" name=""/>
            <p:cNvSpPr/>
            <p:nvPr/>
          </p:nvSpPr>
          <p:spPr>
            <a:xfrm>
              <a:off x="4343400" y="2590920"/>
              <a:ext cx="1066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5, 9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72000" y="228600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952520" y="228600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715000" y="2209680"/>
            <a:ext cx="1295280" cy="961200"/>
            <a:chOff x="5715000" y="2209680"/>
            <a:chExt cx="1295280" cy="961200"/>
          </a:xfrm>
        </p:grpSpPr>
        <p:sp>
          <p:nvSpPr>
            <p:cNvPr id="583" name=""/>
            <p:cNvSpPr/>
            <p:nvPr/>
          </p:nvSpPr>
          <p:spPr>
            <a:xfrm>
              <a:off x="5715000" y="25909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1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632412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7086600" y="2209680"/>
            <a:ext cx="1295280" cy="961200"/>
            <a:chOff x="7086600" y="2209680"/>
            <a:chExt cx="1295280" cy="961200"/>
          </a:xfrm>
        </p:grpSpPr>
        <p:sp>
          <p:nvSpPr>
            <p:cNvPr id="587" name=""/>
            <p:cNvSpPr/>
            <p:nvPr/>
          </p:nvSpPr>
          <p:spPr>
            <a:xfrm>
              <a:off x="7086600" y="2590920"/>
              <a:ext cx="1295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7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8880" y="2209680"/>
              <a:ext cx="30492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7848360" y="2209680"/>
              <a:ext cx="2286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8461440" y="2133720"/>
            <a:ext cx="758880" cy="1037160"/>
            <a:chOff x="8461440" y="2133720"/>
            <a:chExt cx="758880" cy="1037160"/>
          </a:xfrm>
        </p:grpSpPr>
        <p:sp>
          <p:nvSpPr>
            <p:cNvPr id="591" name=""/>
            <p:cNvSpPr/>
            <p:nvPr/>
          </p:nvSpPr>
          <p:spPr>
            <a:xfrm>
              <a:off x="8461440" y="259092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86800" y="2133720"/>
              <a:ext cx="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57200" y="3124080"/>
            <a:ext cx="2286000" cy="1113480"/>
            <a:chOff x="457200" y="3124080"/>
            <a:chExt cx="2286000" cy="1113480"/>
          </a:xfrm>
        </p:grpSpPr>
        <p:sp>
          <p:nvSpPr>
            <p:cNvPr id="594" name=""/>
            <p:cNvSpPr/>
            <p:nvPr/>
          </p:nvSpPr>
          <p:spPr>
            <a:xfrm>
              <a:off x="457200" y="36576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3, 6, 8, 13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2120" y="3124080"/>
              <a:ext cx="60948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159984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048120" y="3124080"/>
            <a:ext cx="2286000" cy="1113480"/>
            <a:chOff x="3048120" y="3124080"/>
            <a:chExt cx="2286000" cy="1113480"/>
          </a:xfrm>
        </p:grpSpPr>
        <p:sp>
          <p:nvSpPr>
            <p:cNvPr id="598" name=""/>
            <p:cNvSpPr/>
            <p:nvPr/>
          </p:nvSpPr>
          <p:spPr>
            <a:xfrm>
              <a:off x="3048120" y="3657600"/>
              <a:ext cx="2286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5, 9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52680" y="3124080"/>
              <a:ext cx="60984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419076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867280" y="3124080"/>
            <a:ext cx="2286000" cy="1600920"/>
            <a:chOff x="5867280" y="3124080"/>
            <a:chExt cx="2286000" cy="1600920"/>
          </a:xfrm>
        </p:grpSpPr>
        <p:sp>
          <p:nvSpPr>
            <p:cNvPr id="602" name=""/>
            <p:cNvSpPr/>
            <p:nvPr/>
          </p:nvSpPr>
          <p:spPr>
            <a:xfrm>
              <a:off x="5867280" y="3657600"/>
              <a:ext cx="228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7, 10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3124080"/>
              <a:ext cx="60948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7009920" y="3124080"/>
              <a:ext cx="68580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8462880" y="3124080"/>
            <a:ext cx="758880" cy="1037160"/>
            <a:chOff x="8462880" y="3124080"/>
            <a:chExt cx="758880" cy="1037160"/>
          </a:xfrm>
        </p:grpSpPr>
        <p:sp>
          <p:nvSpPr>
            <p:cNvPr id="606" name=""/>
            <p:cNvSpPr/>
            <p:nvPr/>
          </p:nvSpPr>
          <p:spPr>
            <a:xfrm>
              <a:off x="8462880" y="3581280"/>
              <a:ext cx="75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688240" y="312408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143000" y="4191120"/>
            <a:ext cx="4191120" cy="1341720"/>
            <a:chOff x="1143000" y="4191120"/>
            <a:chExt cx="4191120" cy="1341720"/>
          </a:xfrm>
        </p:grpSpPr>
        <p:sp>
          <p:nvSpPr>
            <p:cNvPr id="609" name=""/>
            <p:cNvSpPr/>
            <p:nvPr/>
          </p:nvSpPr>
          <p:spPr>
            <a:xfrm>
              <a:off x="1143000" y="4952880"/>
              <a:ext cx="4191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2, 3, 5, 6, 8, 9, 13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66800" y="4191120"/>
              <a:ext cx="113508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325680" y="4267080"/>
              <a:ext cx="78912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095880" y="4114800"/>
            <a:ext cx="2895840" cy="1342080"/>
            <a:chOff x="6095880" y="4114800"/>
            <a:chExt cx="2895840" cy="1342080"/>
          </a:xfrm>
        </p:grpSpPr>
        <p:sp>
          <p:nvSpPr>
            <p:cNvPr id="613" name=""/>
            <p:cNvSpPr/>
            <p:nvPr/>
          </p:nvSpPr>
          <p:spPr>
            <a:xfrm>
              <a:off x="6095880" y="4876920"/>
              <a:ext cx="2895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4, 7, 10, 12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58040" y="4114800"/>
              <a:ext cx="78264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603920" y="4114800"/>
              <a:ext cx="96516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0520" y="5334120"/>
            <a:ext cx="6782040" cy="1113120"/>
            <a:chOff x="2360520" y="5334120"/>
            <a:chExt cx="6782040" cy="1113120"/>
          </a:xfrm>
        </p:grpSpPr>
        <p:sp>
          <p:nvSpPr>
            <p:cNvPr id="617" name=""/>
            <p:cNvSpPr/>
            <p:nvPr/>
          </p:nvSpPr>
          <p:spPr>
            <a:xfrm>
              <a:off x="2360520" y="5867280"/>
              <a:ext cx="6782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[1, 2, 3, 4, 5, 6, 7, 8, 9, 10, 12, 13, 14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3505320" y="5334120"/>
              <a:ext cx="4190400" cy="533160"/>
              <a:chOff x="3505320" y="5334120"/>
              <a:chExt cx="4190400" cy="533160"/>
            </a:xfrm>
          </p:grpSpPr>
          <p:sp>
            <p:nvSpPr>
              <p:cNvPr id="619" name=""/>
              <p:cNvSpPr/>
              <p:nvPr/>
            </p:nvSpPr>
            <p:spPr>
              <a:xfrm>
                <a:off x="3505320" y="5410080"/>
                <a:ext cx="1828800" cy="457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095520" y="5334120"/>
                <a:ext cx="160020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segment siz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merge pass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eil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rge pass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space for the me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sort is slower than insertion sort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pproximately). So define 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mall insta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an instanc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&lt;= 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small instances using insertion s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segment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atural Merge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orted segments are the naturally ocurring sorted segments in the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8, 9, 10, 2, 5, 7, 9, 11, 13, 15, 6, 12, 14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egmen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8, 9, 10] [2, 5, 7, 9, 11, 13, 15] [6, 12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stea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erge passes su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 boundaries hav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i] &gt; a[i+1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ready sorted. So, assu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the largest element to the right end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 sort the remain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0:n-2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implemented non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1523880"/>
            <a:ext cx="8533800" cy="1143000"/>
            <a:chOff x="304920" y="1523880"/>
            <a:chExt cx="8533800" cy="1143000"/>
          </a:xfrm>
        </p:grpSpPr>
        <p:sp>
          <p:nvSpPr>
            <p:cNvPr id="63" name=""/>
            <p:cNvSpPr/>
            <p:nvPr/>
          </p:nvSpPr>
          <p:spPr>
            <a:xfrm>
              <a:off x="609480" y="2133360"/>
              <a:ext cx="7391160" cy="533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1523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48360" y="16761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09480" y="1600200"/>
            <a:ext cx="7162920" cy="1066680"/>
            <a:chOff x="609480" y="1600200"/>
            <a:chExt cx="7162920" cy="1066680"/>
          </a:xfrm>
        </p:grpSpPr>
        <p:sp>
          <p:nvSpPr>
            <p:cNvPr id="67" name=""/>
            <p:cNvSpPr/>
            <p:nvPr/>
          </p:nvSpPr>
          <p:spPr>
            <a:xfrm>
              <a:off x="609480" y="2133720"/>
              <a:ext cx="7010280" cy="533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816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a[n-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620120" y="2133720"/>
            <a:ext cx="380880" cy="5331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Quick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lt;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list is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&g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lec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from out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in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gment contains only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s i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gment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s in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le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gments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is sor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gment, followed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gment followed by sor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g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914400" y="1676520"/>
            <a:ext cx="5943600" cy="579240"/>
            <a:chOff x="914400" y="1676520"/>
            <a:chExt cx="5943600" cy="579240"/>
          </a:xfrm>
        </p:grpSpPr>
        <p:grpSp>
          <p:nvGrpSpPr>
            <p:cNvPr id="74" name=""/>
            <p:cNvGrpSpPr/>
            <p:nvPr/>
          </p:nvGrpSpPr>
          <p:grpSpPr>
            <a:xfrm>
              <a:off x="1758960" y="1676520"/>
              <a:ext cx="5099040" cy="519120"/>
              <a:chOff x="1758960" y="1676520"/>
              <a:chExt cx="5099040" cy="519120"/>
            </a:xfrm>
          </p:grpSpPr>
          <p:sp>
            <p:nvSpPr>
              <p:cNvPr id="75" name=""/>
              <p:cNvSpPr/>
              <p:nvPr/>
            </p:nvSpPr>
            <p:spPr>
              <a:xfrm>
                <a:off x="1758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12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216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0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73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27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130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84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87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65440" y="1676520"/>
                <a:ext cx="625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44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022640" y="167652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021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5561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9593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33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165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705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737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9277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30960" y="175896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84960" y="1676520"/>
                <a:ext cx="473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914400" y="1676520"/>
              <a:ext cx="457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990720" y="297180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4572000"/>
            <a:ext cx="5708520" cy="579600"/>
            <a:chOff x="990720" y="4572000"/>
            <a:chExt cx="5708520" cy="57960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4572000"/>
              <a:ext cx="5708520" cy="579600"/>
              <a:chOff x="990720" y="4572000"/>
              <a:chExt cx="5708520" cy="5796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82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398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970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542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114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68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258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830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402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974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254640" y="4654440"/>
                <a:ext cx="4446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90720" y="4572000"/>
                <a:ext cx="457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682640" y="4572000"/>
              <a:ext cx="444600" cy="519120"/>
              <a:chOff x="1682640" y="4572000"/>
              <a:chExt cx="444600" cy="519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6826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36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254640" y="4572000"/>
              <a:ext cx="444600" cy="519120"/>
              <a:chOff x="6254640" y="4572000"/>
              <a:chExt cx="444600" cy="519120"/>
            </a:xfrm>
          </p:grpSpPr>
          <p:sp>
            <p:nvSpPr>
              <p:cNvPr id="117" name=""/>
              <p:cNvSpPr/>
              <p:nvPr/>
            </p:nvSpPr>
            <p:spPr>
              <a:xfrm>
                <a:off x="62546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08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139840" y="4572000"/>
              <a:ext cx="444600" cy="519120"/>
              <a:chOff x="2139840" y="4572000"/>
              <a:chExt cx="444600" cy="51912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98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938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775480" y="4572000"/>
              <a:ext cx="701640" cy="519120"/>
              <a:chOff x="5775480" y="4572000"/>
              <a:chExt cx="701640" cy="519120"/>
            </a:xfrm>
          </p:grpSpPr>
          <p:sp>
            <p:nvSpPr>
              <p:cNvPr id="123" name=""/>
              <p:cNvSpPr/>
              <p:nvPr/>
            </p:nvSpPr>
            <p:spPr>
              <a:xfrm>
                <a:off x="57974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75480" y="4572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318280" y="4572000"/>
              <a:ext cx="701640" cy="519120"/>
              <a:chOff x="5318280" y="4572000"/>
              <a:chExt cx="701640" cy="519120"/>
            </a:xfrm>
          </p:grpSpPr>
          <p:sp>
            <p:nvSpPr>
              <p:cNvPr id="126" name=""/>
              <p:cNvSpPr/>
              <p:nvPr/>
            </p:nvSpPr>
            <p:spPr>
              <a:xfrm>
                <a:off x="53402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18280" y="4572000"/>
                <a:ext cx="701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597040" y="4572000"/>
              <a:ext cx="444600" cy="519120"/>
              <a:chOff x="2597040" y="4572000"/>
              <a:chExt cx="444600" cy="519120"/>
            </a:xfrm>
          </p:grpSpPr>
          <p:sp>
            <p:nvSpPr>
              <p:cNvPr id="129" name=""/>
              <p:cNvSpPr/>
              <p:nvPr/>
            </p:nvSpPr>
            <p:spPr>
              <a:xfrm>
                <a:off x="25970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510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054240" y="4572000"/>
              <a:ext cx="444600" cy="519120"/>
              <a:chOff x="3054240" y="4572000"/>
              <a:chExt cx="444600" cy="519120"/>
            </a:xfrm>
          </p:grpSpPr>
          <p:sp>
            <p:nvSpPr>
              <p:cNvPr id="132" name=""/>
              <p:cNvSpPr/>
              <p:nvPr/>
            </p:nvSpPr>
            <p:spPr>
              <a:xfrm>
                <a:off x="30542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082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883040" y="4572000"/>
              <a:ext cx="444600" cy="519120"/>
              <a:chOff x="4883040" y="4572000"/>
              <a:chExt cx="444600" cy="519120"/>
            </a:xfrm>
          </p:grpSpPr>
          <p:sp>
            <p:nvSpPr>
              <p:cNvPr id="135" name=""/>
              <p:cNvSpPr/>
              <p:nvPr/>
            </p:nvSpPr>
            <p:spPr>
              <a:xfrm>
                <a:off x="48830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370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425840" y="4572000"/>
              <a:ext cx="444600" cy="519120"/>
              <a:chOff x="4425840" y="4572000"/>
              <a:chExt cx="444600" cy="519120"/>
            </a:xfrm>
          </p:grpSpPr>
          <p:sp>
            <p:nvSpPr>
              <p:cNvPr id="138" name=""/>
              <p:cNvSpPr/>
              <p:nvPr/>
            </p:nvSpPr>
            <p:spPr>
              <a:xfrm>
                <a:off x="44258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798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511440" y="4572000"/>
              <a:ext cx="444600" cy="519120"/>
              <a:chOff x="3511440" y="4572000"/>
              <a:chExt cx="444600" cy="519120"/>
            </a:xfrm>
          </p:grpSpPr>
          <p:sp>
            <p:nvSpPr>
              <p:cNvPr id="141" name=""/>
              <p:cNvSpPr/>
              <p:nvPr/>
            </p:nvSpPr>
            <p:spPr>
              <a:xfrm>
                <a:off x="3511440" y="4654440"/>
                <a:ext cx="444600" cy="368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654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968640" y="4572000"/>
              <a:ext cx="444600" cy="519120"/>
              <a:chOff x="3968640" y="4572000"/>
              <a:chExt cx="444600" cy="519120"/>
            </a:xfrm>
          </p:grpSpPr>
          <p:sp>
            <p:nvSpPr>
              <p:cNvPr id="144" name=""/>
              <p:cNvSpPr/>
              <p:nvPr/>
            </p:nvSpPr>
            <p:spPr>
              <a:xfrm>
                <a:off x="3968640" y="4654440"/>
                <a:ext cx="444600" cy="368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022640" y="45720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990720" y="5867280"/>
            <a:ext cx="716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left and right segments recurs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vot is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eft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in list that is to be s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mplementation does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dom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one of the elements to be sorted 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generate a random numbe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ran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6, 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Us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r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dian-of-Three r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rom the leftmost, middle, and rightmost elements of the list to be sorted, select the one with median key as the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orting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: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xamin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 ((6+20)/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element with median (i.e., middle)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20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oice Of Pivo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6].key = 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13].key =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a[20].key 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[13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omes the piv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ivot is picked at random or when the median-of-three rule is used, we can use the quick sort code of the text provided we first swap the leftmost element and the chosen piv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96840" y="5546880"/>
            <a:ext cx="6845400" cy="549000"/>
            <a:chOff x="996840" y="5546880"/>
            <a:chExt cx="6845400" cy="549000"/>
          </a:xfrm>
        </p:grpSpPr>
        <p:sp>
          <p:nvSpPr>
            <p:cNvPr id="154" name=""/>
            <p:cNvSpPr/>
            <p:nvPr/>
          </p:nvSpPr>
          <p:spPr>
            <a:xfrm>
              <a:off x="996840" y="5568840"/>
              <a:ext cx="684540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05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767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33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27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99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771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91520" y="5562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27160" y="5546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92800" y="5568840"/>
            <a:ext cx="992160" cy="1122480"/>
            <a:chOff x="4492800" y="5568840"/>
            <a:chExt cx="992160" cy="1122480"/>
          </a:xfrm>
        </p:grpSpPr>
        <p:sp>
          <p:nvSpPr>
            <p:cNvPr id="171" name=""/>
            <p:cNvSpPr/>
            <p:nvPr/>
          </p:nvSpPr>
          <p:spPr>
            <a:xfrm>
              <a:off x="4654440" y="5568840"/>
              <a:ext cx="444600" cy="520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92800" y="6172200"/>
              <a:ext cx="992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996840" y="5568840"/>
            <a:ext cx="444600" cy="5209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19320" y="4724280"/>
            <a:ext cx="3733560" cy="945720"/>
            <a:chOff x="1219320" y="4724280"/>
            <a:chExt cx="3733560" cy="945720"/>
          </a:xfrm>
        </p:grpSpPr>
        <p:sp>
          <p:nvSpPr>
            <p:cNvPr id="175" name=""/>
            <p:cNvSpPr/>
            <p:nvPr/>
          </p:nvSpPr>
          <p:spPr>
            <a:xfrm>
              <a:off x="2590920" y="4724280"/>
              <a:ext cx="9144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wa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219320" y="5029200"/>
              <a:ext cx="3733560" cy="533520"/>
              <a:chOff x="1219320" y="5029200"/>
              <a:chExt cx="3733560" cy="53352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1219320" y="5029200"/>
                <a:ext cx="1218960" cy="5335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81280" y="5105520"/>
                <a:ext cx="1371600" cy="4572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titioning Into Three Segm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= [6, 2, 8, 5, 11, 10, 4, 1, 9, 7, 3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most element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other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left to right (omit the pivot in this scan), placing elemen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left end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remaining elements at the right end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vot is placed at the remaining position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7-09-12T19:45:15Z</dcterms:modified>
  <cp:revision>145</cp:revision>
  <dc:subject/>
  <dc:title>Data Representation Methods</dc:title>
</cp:coreProperties>
</file>