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-144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9360" y="701280"/>
            <a:ext cx="4626000" cy="346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FCD78-8425-4462-89F1-9B1A30C63AC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gonal entries of initial cost matrix are set to zero. Remaining non-edge entries need to have a suitable val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verify principle of optimality when setting up recurrence equ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A77C-9204-4BC1-96E3-8C8AF8DAA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BCBF-3ECB-4B3F-9E2D-2C6C80FC8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3D8E-7280-475D-AA1A-BC09622C0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7944-F76B-4D96-8D11-9F7431A99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B42B-10FE-4ED6-9731-DA3DD28FC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2D62-1F41-447C-BE36-C40B002D4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162D-06A9-48E2-A1A3-FE3E1E6DB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1A0A-074A-4B01-B2CE-93F65BB4C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C4A0-E3D5-42BC-9EFF-020B8FB39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C81B-ED84-4869-8F04-1F58DF129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91F4-EAFF-4D51-AC7A-9460B758E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BD4D-FB3F-44FE-8AC3-3433118B6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55967-810E-41B6-A922-4BACA2C38A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ll-Pairs Shortest Path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120" y="1980720"/>
            <a:ext cx="80773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tex directed weighted graph, find a shortest path from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of th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tex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ir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i,j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YELLOW-B" descr=""/>
          <p:cNvPicPr/>
          <p:nvPr/>
        </p:nvPicPr>
        <p:blipFill>
          <a:blip r:embed="rId1"/>
          <a:stretch/>
        </p:blipFill>
        <p:spPr>
          <a:xfrm>
            <a:off x="1447920" y="1066680"/>
            <a:ext cx="320400" cy="320760"/>
          </a:xfrm>
          <a:prstGeom prst="rect">
            <a:avLst/>
          </a:prstGeom>
          <a:ln w="0">
            <a:noFill/>
          </a:ln>
        </p:spPr>
      </p:pic>
      <p:pic>
        <p:nvPicPr>
          <p:cNvPr id="51" name="YELLOW-B" descr=""/>
          <p:cNvPicPr/>
          <p:nvPr/>
        </p:nvPicPr>
        <p:blipFill>
          <a:blip r:embed="rId2"/>
          <a:stretch/>
        </p:blipFill>
        <p:spPr>
          <a:xfrm>
            <a:off x="7467480" y="1066680"/>
            <a:ext cx="320760" cy="320760"/>
          </a:xfrm>
          <a:prstGeom prst="rect">
            <a:avLst/>
          </a:prstGeom>
          <a:ln w="0">
            <a:noFill/>
          </a:ln>
        </p:spPr>
      </p:pic>
      <p:grpSp>
        <p:nvGrpSpPr>
          <p:cNvPr id="52" name=""/>
          <p:cNvGrpSpPr/>
          <p:nvPr/>
        </p:nvGrpSpPr>
        <p:grpSpPr>
          <a:xfrm>
            <a:off x="1143000" y="3581280"/>
            <a:ext cx="7121520" cy="3033720"/>
            <a:chOff x="1143000" y="3581280"/>
            <a:chExt cx="7121520" cy="3033720"/>
          </a:xfrm>
        </p:grpSpPr>
        <p:sp>
          <p:nvSpPr>
            <p:cNvPr id="53" name=""/>
            <p:cNvSpPr/>
            <p:nvPr/>
          </p:nvSpPr>
          <p:spPr>
            <a:xfrm>
              <a:off x="1225440" y="434952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279080" y="432720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225440" y="594972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79080" y="592740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054240" y="434952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107880" y="432720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978280" y="594972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031920" y="592740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578480" y="503532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632120" y="501300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483240" y="404460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536880" y="40226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778880" y="594972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832520" y="592740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447920" y="480024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676520" y="617184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676520" y="4571640"/>
              <a:ext cx="137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00200" y="4800240"/>
              <a:ext cx="152388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1599840" y="4800240"/>
              <a:ext cx="1600200" cy="12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4724280"/>
              <a:ext cx="121932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1676520" y="5257080"/>
              <a:ext cx="289548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3352320" y="5486040"/>
              <a:ext cx="129564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429000" y="6171840"/>
              <a:ext cx="434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029200" y="5333760"/>
              <a:ext cx="7621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3505320" y="4266720"/>
              <a:ext cx="29718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58000" y="4419360"/>
              <a:ext cx="1143000" cy="152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057400" y="411444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143000" y="502884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05120" y="472428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819520" y="49528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572000" y="388584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257800" y="495288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962520" y="44956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657600" y="502884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343400" y="548604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981080" y="609588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181480" y="6095880"/>
              <a:ext cx="7621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58000" y="54100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378080" y="3657240"/>
              <a:ext cx="6886440" cy="2363760"/>
            </a:xfrm>
            <a:custGeom>
              <a:avLst/>
              <a:gdLst/>
              <a:ahLst/>
              <a:rect l="l" t="t" r="r" b="b"/>
              <a:pathLst>
                <a:path w="4338" h="1489">
                  <a:moveTo>
                    <a:pt x="4268" y="1488"/>
                  </a:moveTo>
                  <a:lnTo>
                    <a:pt x="4314" y="1449"/>
                  </a:lnTo>
                  <a:lnTo>
                    <a:pt x="4314" y="1403"/>
                  </a:lnTo>
                  <a:lnTo>
                    <a:pt x="4325" y="1347"/>
                  </a:lnTo>
                  <a:lnTo>
                    <a:pt x="4337" y="1301"/>
                  </a:lnTo>
                  <a:lnTo>
                    <a:pt x="4337" y="1256"/>
                  </a:lnTo>
                  <a:lnTo>
                    <a:pt x="4337" y="1200"/>
                  </a:lnTo>
                  <a:lnTo>
                    <a:pt x="4337" y="1154"/>
                  </a:lnTo>
                  <a:lnTo>
                    <a:pt x="4337" y="1086"/>
                  </a:lnTo>
                  <a:lnTo>
                    <a:pt x="4337" y="1018"/>
                  </a:lnTo>
                  <a:lnTo>
                    <a:pt x="4325" y="962"/>
                  </a:lnTo>
                  <a:lnTo>
                    <a:pt x="4303" y="905"/>
                  </a:lnTo>
                  <a:lnTo>
                    <a:pt x="4280" y="849"/>
                  </a:lnTo>
                  <a:lnTo>
                    <a:pt x="4246" y="792"/>
                  </a:lnTo>
                  <a:lnTo>
                    <a:pt x="4212" y="736"/>
                  </a:lnTo>
                  <a:lnTo>
                    <a:pt x="4178" y="690"/>
                  </a:lnTo>
                  <a:lnTo>
                    <a:pt x="4155" y="656"/>
                  </a:lnTo>
                  <a:lnTo>
                    <a:pt x="4121" y="622"/>
                  </a:lnTo>
                  <a:lnTo>
                    <a:pt x="4099" y="588"/>
                  </a:lnTo>
                  <a:lnTo>
                    <a:pt x="4065" y="554"/>
                  </a:lnTo>
                  <a:lnTo>
                    <a:pt x="4020" y="498"/>
                  </a:lnTo>
                  <a:lnTo>
                    <a:pt x="3986" y="475"/>
                  </a:lnTo>
                  <a:lnTo>
                    <a:pt x="3963" y="441"/>
                  </a:lnTo>
                  <a:lnTo>
                    <a:pt x="3929" y="407"/>
                  </a:lnTo>
                  <a:lnTo>
                    <a:pt x="3884" y="351"/>
                  </a:lnTo>
                  <a:lnTo>
                    <a:pt x="3861" y="317"/>
                  </a:lnTo>
                  <a:lnTo>
                    <a:pt x="3827" y="283"/>
                  </a:lnTo>
                  <a:lnTo>
                    <a:pt x="3793" y="249"/>
                  </a:lnTo>
                  <a:lnTo>
                    <a:pt x="3748" y="215"/>
                  </a:lnTo>
                  <a:lnTo>
                    <a:pt x="3714" y="181"/>
                  </a:lnTo>
                  <a:lnTo>
                    <a:pt x="3680" y="170"/>
                  </a:lnTo>
                  <a:lnTo>
                    <a:pt x="3623" y="124"/>
                  </a:lnTo>
                  <a:lnTo>
                    <a:pt x="3578" y="102"/>
                  </a:lnTo>
                  <a:lnTo>
                    <a:pt x="3544" y="90"/>
                  </a:lnTo>
                  <a:lnTo>
                    <a:pt x="3487" y="68"/>
                  </a:lnTo>
                  <a:lnTo>
                    <a:pt x="3442" y="68"/>
                  </a:lnTo>
                  <a:lnTo>
                    <a:pt x="3397" y="56"/>
                  </a:lnTo>
                  <a:lnTo>
                    <a:pt x="3340" y="45"/>
                  </a:lnTo>
                  <a:lnTo>
                    <a:pt x="3283" y="45"/>
                  </a:lnTo>
                  <a:lnTo>
                    <a:pt x="3249" y="45"/>
                  </a:lnTo>
                  <a:lnTo>
                    <a:pt x="3216" y="45"/>
                  </a:lnTo>
                  <a:lnTo>
                    <a:pt x="3148" y="34"/>
                  </a:lnTo>
                  <a:lnTo>
                    <a:pt x="3102" y="34"/>
                  </a:lnTo>
                  <a:lnTo>
                    <a:pt x="3068" y="34"/>
                  </a:lnTo>
                  <a:lnTo>
                    <a:pt x="3034" y="34"/>
                  </a:lnTo>
                  <a:lnTo>
                    <a:pt x="2989" y="34"/>
                  </a:lnTo>
                  <a:lnTo>
                    <a:pt x="2921" y="34"/>
                  </a:lnTo>
                  <a:lnTo>
                    <a:pt x="2887" y="34"/>
                  </a:lnTo>
                  <a:lnTo>
                    <a:pt x="2853" y="34"/>
                  </a:lnTo>
                  <a:lnTo>
                    <a:pt x="2808" y="34"/>
                  </a:lnTo>
                  <a:lnTo>
                    <a:pt x="2763" y="34"/>
                  </a:lnTo>
                  <a:lnTo>
                    <a:pt x="2729" y="34"/>
                  </a:lnTo>
                  <a:lnTo>
                    <a:pt x="2683" y="34"/>
                  </a:lnTo>
                  <a:lnTo>
                    <a:pt x="2638" y="34"/>
                  </a:lnTo>
                  <a:lnTo>
                    <a:pt x="2604" y="22"/>
                  </a:lnTo>
                  <a:lnTo>
                    <a:pt x="2559" y="22"/>
                  </a:lnTo>
                  <a:lnTo>
                    <a:pt x="2525" y="22"/>
                  </a:lnTo>
                  <a:lnTo>
                    <a:pt x="2491" y="22"/>
                  </a:lnTo>
                  <a:lnTo>
                    <a:pt x="2412" y="22"/>
                  </a:lnTo>
                  <a:lnTo>
                    <a:pt x="2344" y="22"/>
                  </a:lnTo>
                  <a:lnTo>
                    <a:pt x="2298" y="22"/>
                  </a:lnTo>
                  <a:lnTo>
                    <a:pt x="2253" y="22"/>
                  </a:lnTo>
                  <a:lnTo>
                    <a:pt x="2196" y="22"/>
                  </a:lnTo>
                  <a:lnTo>
                    <a:pt x="2151" y="22"/>
                  </a:lnTo>
                  <a:lnTo>
                    <a:pt x="2083" y="22"/>
                  </a:lnTo>
                  <a:lnTo>
                    <a:pt x="2015" y="22"/>
                  </a:lnTo>
                  <a:lnTo>
                    <a:pt x="1947" y="22"/>
                  </a:lnTo>
                  <a:lnTo>
                    <a:pt x="1891" y="22"/>
                  </a:lnTo>
                  <a:lnTo>
                    <a:pt x="1834" y="22"/>
                  </a:lnTo>
                  <a:lnTo>
                    <a:pt x="1766" y="22"/>
                  </a:lnTo>
                  <a:lnTo>
                    <a:pt x="1709" y="22"/>
                  </a:lnTo>
                  <a:lnTo>
                    <a:pt x="1653" y="22"/>
                  </a:lnTo>
                  <a:lnTo>
                    <a:pt x="1608" y="22"/>
                  </a:lnTo>
                  <a:lnTo>
                    <a:pt x="1540" y="22"/>
                  </a:lnTo>
                  <a:lnTo>
                    <a:pt x="1483" y="22"/>
                  </a:lnTo>
                  <a:lnTo>
                    <a:pt x="1415" y="22"/>
                  </a:lnTo>
                  <a:lnTo>
                    <a:pt x="1336" y="22"/>
                  </a:lnTo>
                  <a:lnTo>
                    <a:pt x="1257" y="22"/>
                  </a:lnTo>
                  <a:lnTo>
                    <a:pt x="1189" y="22"/>
                  </a:lnTo>
                  <a:lnTo>
                    <a:pt x="1132" y="22"/>
                  </a:lnTo>
                  <a:lnTo>
                    <a:pt x="1064" y="22"/>
                  </a:lnTo>
                  <a:lnTo>
                    <a:pt x="985" y="22"/>
                  </a:lnTo>
                  <a:lnTo>
                    <a:pt x="928" y="22"/>
                  </a:lnTo>
                  <a:lnTo>
                    <a:pt x="883" y="22"/>
                  </a:lnTo>
                  <a:lnTo>
                    <a:pt x="849" y="22"/>
                  </a:lnTo>
                  <a:lnTo>
                    <a:pt x="792" y="22"/>
                  </a:lnTo>
                  <a:lnTo>
                    <a:pt x="713" y="11"/>
                  </a:lnTo>
                  <a:lnTo>
                    <a:pt x="656" y="11"/>
                  </a:lnTo>
                  <a:lnTo>
                    <a:pt x="622" y="11"/>
                  </a:lnTo>
                  <a:lnTo>
                    <a:pt x="577" y="0"/>
                  </a:lnTo>
                  <a:lnTo>
                    <a:pt x="543" y="0"/>
                  </a:lnTo>
                  <a:lnTo>
                    <a:pt x="498" y="0"/>
                  </a:lnTo>
                  <a:lnTo>
                    <a:pt x="441" y="0"/>
                  </a:lnTo>
                  <a:lnTo>
                    <a:pt x="407" y="0"/>
                  </a:lnTo>
                  <a:lnTo>
                    <a:pt x="362" y="11"/>
                  </a:lnTo>
                  <a:lnTo>
                    <a:pt x="317" y="11"/>
                  </a:lnTo>
                  <a:lnTo>
                    <a:pt x="283" y="22"/>
                  </a:lnTo>
                  <a:lnTo>
                    <a:pt x="249" y="34"/>
                  </a:lnTo>
                  <a:lnTo>
                    <a:pt x="203" y="56"/>
                  </a:lnTo>
                  <a:lnTo>
                    <a:pt x="158" y="79"/>
                  </a:lnTo>
                  <a:lnTo>
                    <a:pt x="124" y="102"/>
                  </a:lnTo>
                  <a:lnTo>
                    <a:pt x="90" y="136"/>
                  </a:lnTo>
                  <a:lnTo>
                    <a:pt x="56" y="170"/>
                  </a:lnTo>
                  <a:lnTo>
                    <a:pt x="34" y="215"/>
                  </a:lnTo>
                  <a:lnTo>
                    <a:pt x="11" y="249"/>
                  </a:lnTo>
                  <a:lnTo>
                    <a:pt x="0" y="283"/>
                  </a:lnTo>
                  <a:lnTo>
                    <a:pt x="0" y="328"/>
                  </a:lnTo>
                  <a:lnTo>
                    <a:pt x="0" y="362"/>
                  </a:lnTo>
                  <a:lnTo>
                    <a:pt x="0" y="396"/>
                  </a:lnTo>
                  <a:lnTo>
                    <a:pt x="0" y="43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57400" y="35812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797440" y="541620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51080" y="53942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248520" y="5714640"/>
              <a:ext cx="160020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15200" y="464796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6095880" y="4419360"/>
              <a:ext cx="45720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248520" y="480024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currence For c(i,j,k), k &gt; 0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hortest path from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t has no intermediate vertex larger tha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or may not go through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is shortest path does not go through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tex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 largest permissible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mediate vertex is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k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So the path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ngth is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c(i,j,k-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1447920" y="4952880"/>
            <a:ext cx="5715000" cy="1342080"/>
            <a:chOff x="1447920" y="4952880"/>
            <a:chExt cx="5715000" cy="1342080"/>
          </a:xfrm>
        </p:grpSpPr>
        <p:sp>
          <p:nvSpPr>
            <p:cNvPr id="284" name=""/>
            <p:cNvSpPr/>
            <p:nvPr/>
          </p:nvSpPr>
          <p:spPr>
            <a:xfrm>
              <a:off x="6940440" y="5492880"/>
              <a:ext cx="216000" cy="2156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530360" y="5492880"/>
              <a:ext cx="216000" cy="2156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197240" y="5492880"/>
              <a:ext cx="216000" cy="2156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752480" y="5562720"/>
              <a:ext cx="2473560" cy="568080"/>
            </a:xfrm>
            <a:custGeom>
              <a:avLst/>
              <a:gdLst/>
              <a:ahLst/>
              <a:rect l="l" t="t" r="r" b="b"/>
              <a:pathLst>
                <a:path w="1558" h="358">
                  <a:moveTo>
                    <a:pt x="0" y="0"/>
                  </a:moveTo>
                  <a:lnTo>
                    <a:pt x="94" y="14"/>
                  </a:lnTo>
                  <a:lnTo>
                    <a:pt x="208" y="14"/>
                  </a:lnTo>
                  <a:lnTo>
                    <a:pt x="323" y="25"/>
                  </a:lnTo>
                  <a:lnTo>
                    <a:pt x="346" y="59"/>
                  </a:lnTo>
                  <a:lnTo>
                    <a:pt x="437" y="71"/>
                  </a:lnTo>
                  <a:lnTo>
                    <a:pt x="471" y="48"/>
                  </a:lnTo>
                  <a:lnTo>
                    <a:pt x="540" y="37"/>
                  </a:lnTo>
                  <a:lnTo>
                    <a:pt x="574" y="25"/>
                  </a:lnTo>
                  <a:lnTo>
                    <a:pt x="608" y="37"/>
                  </a:lnTo>
                  <a:lnTo>
                    <a:pt x="677" y="105"/>
                  </a:lnTo>
                  <a:lnTo>
                    <a:pt x="745" y="197"/>
                  </a:lnTo>
                  <a:lnTo>
                    <a:pt x="791" y="208"/>
                  </a:lnTo>
                  <a:lnTo>
                    <a:pt x="825" y="197"/>
                  </a:lnTo>
                  <a:lnTo>
                    <a:pt x="860" y="162"/>
                  </a:lnTo>
                  <a:lnTo>
                    <a:pt x="894" y="139"/>
                  </a:lnTo>
                  <a:lnTo>
                    <a:pt x="917" y="94"/>
                  </a:lnTo>
                  <a:lnTo>
                    <a:pt x="928" y="59"/>
                  </a:lnTo>
                  <a:lnTo>
                    <a:pt x="928" y="25"/>
                  </a:lnTo>
                  <a:lnTo>
                    <a:pt x="951" y="59"/>
                  </a:lnTo>
                  <a:lnTo>
                    <a:pt x="985" y="71"/>
                  </a:lnTo>
                  <a:lnTo>
                    <a:pt x="985" y="105"/>
                  </a:lnTo>
                  <a:lnTo>
                    <a:pt x="1020" y="82"/>
                  </a:lnTo>
                  <a:lnTo>
                    <a:pt x="1031" y="48"/>
                  </a:lnTo>
                  <a:lnTo>
                    <a:pt x="1065" y="48"/>
                  </a:lnTo>
                  <a:lnTo>
                    <a:pt x="1100" y="37"/>
                  </a:lnTo>
                  <a:lnTo>
                    <a:pt x="1134" y="71"/>
                  </a:lnTo>
                  <a:lnTo>
                    <a:pt x="1157" y="105"/>
                  </a:lnTo>
                  <a:lnTo>
                    <a:pt x="1157" y="139"/>
                  </a:lnTo>
                  <a:lnTo>
                    <a:pt x="1157" y="174"/>
                  </a:lnTo>
                  <a:lnTo>
                    <a:pt x="1157" y="208"/>
                  </a:lnTo>
                  <a:lnTo>
                    <a:pt x="1157" y="242"/>
                  </a:lnTo>
                  <a:lnTo>
                    <a:pt x="1157" y="277"/>
                  </a:lnTo>
                  <a:lnTo>
                    <a:pt x="1202" y="254"/>
                  </a:lnTo>
                  <a:lnTo>
                    <a:pt x="1248" y="242"/>
                  </a:lnTo>
                  <a:lnTo>
                    <a:pt x="1362" y="277"/>
                  </a:lnTo>
                  <a:lnTo>
                    <a:pt x="1431" y="345"/>
                  </a:lnTo>
                  <a:lnTo>
                    <a:pt x="1465" y="357"/>
                  </a:lnTo>
                  <a:lnTo>
                    <a:pt x="1488" y="322"/>
                  </a:lnTo>
                  <a:lnTo>
                    <a:pt x="1488" y="277"/>
                  </a:lnTo>
                  <a:lnTo>
                    <a:pt x="1488" y="231"/>
                  </a:lnTo>
                  <a:lnTo>
                    <a:pt x="1488" y="197"/>
                  </a:lnTo>
                  <a:lnTo>
                    <a:pt x="1477" y="162"/>
                  </a:lnTo>
                  <a:lnTo>
                    <a:pt x="1465" y="117"/>
                  </a:lnTo>
                  <a:lnTo>
                    <a:pt x="1442" y="48"/>
                  </a:lnTo>
                  <a:lnTo>
                    <a:pt x="1431" y="14"/>
                  </a:lnTo>
                  <a:lnTo>
                    <a:pt x="1477" y="2"/>
                  </a:lnTo>
                  <a:lnTo>
                    <a:pt x="1511" y="2"/>
                  </a:lnTo>
                  <a:lnTo>
                    <a:pt x="1557" y="2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419720" y="5203800"/>
              <a:ext cx="2525760" cy="581040"/>
            </a:xfrm>
            <a:custGeom>
              <a:avLst/>
              <a:gdLst/>
              <a:ahLst/>
              <a:rect l="l" t="t" r="r" b="b"/>
              <a:pathLst>
                <a:path w="1591" h="366">
                  <a:moveTo>
                    <a:pt x="0" y="274"/>
                  </a:moveTo>
                  <a:lnTo>
                    <a:pt x="48" y="251"/>
                  </a:lnTo>
                  <a:lnTo>
                    <a:pt x="82" y="240"/>
                  </a:lnTo>
                  <a:lnTo>
                    <a:pt x="105" y="205"/>
                  </a:lnTo>
                  <a:lnTo>
                    <a:pt x="139" y="194"/>
                  </a:lnTo>
                  <a:lnTo>
                    <a:pt x="174" y="194"/>
                  </a:lnTo>
                  <a:lnTo>
                    <a:pt x="185" y="228"/>
                  </a:lnTo>
                  <a:lnTo>
                    <a:pt x="219" y="251"/>
                  </a:lnTo>
                  <a:lnTo>
                    <a:pt x="242" y="285"/>
                  </a:lnTo>
                  <a:lnTo>
                    <a:pt x="265" y="320"/>
                  </a:lnTo>
                  <a:lnTo>
                    <a:pt x="299" y="320"/>
                  </a:lnTo>
                  <a:lnTo>
                    <a:pt x="334" y="297"/>
                  </a:lnTo>
                  <a:lnTo>
                    <a:pt x="368" y="285"/>
                  </a:lnTo>
                  <a:lnTo>
                    <a:pt x="436" y="274"/>
                  </a:lnTo>
                  <a:lnTo>
                    <a:pt x="528" y="251"/>
                  </a:lnTo>
                  <a:lnTo>
                    <a:pt x="551" y="217"/>
                  </a:lnTo>
                  <a:lnTo>
                    <a:pt x="551" y="251"/>
                  </a:lnTo>
                  <a:lnTo>
                    <a:pt x="562" y="217"/>
                  </a:lnTo>
                  <a:lnTo>
                    <a:pt x="585" y="171"/>
                  </a:lnTo>
                  <a:lnTo>
                    <a:pt x="596" y="125"/>
                  </a:lnTo>
                  <a:lnTo>
                    <a:pt x="596" y="80"/>
                  </a:lnTo>
                  <a:lnTo>
                    <a:pt x="619" y="34"/>
                  </a:lnTo>
                  <a:lnTo>
                    <a:pt x="642" y="68"/>
                  </a:lnTo>
                  <a:lnTo>
                    <a:pt x="653" y="137"/>
                  </a:lnTo>
                  <a:lnTo>
                    <a:pt x="676" y="228"/>
                  </a:lnTo>
                  <a:lnTo>
                    <a:pt x="688" y="263"/>
                  </a:lnTo>
                  <a:lnTo>
                    <a:pt x="722" y="274"/>
                  </a:lnTo>
                  <a:lnTo>
                    <a:pt x="791" y="274"/>
                  </a:lnTo>
                  <a:lnTo>
                    <a:pt x="859" y="251"/>
                  </a:lnTo>
                  <a:lnTo>
                    <a:pt x="950" y="217"/>
                  </a:lnTo>
                  <a:lnTo>
                    <a:pt x="973" y="263"/>
                  </a:lnTo>
                  <a:lnTo>
                    <a:pt x="985" y="354"/>
                  </a:lnTo>
                  <a:lnTo>
                    <a:pt x="1019" y="365"/>
                  </a:lnTo>
                  <a:lnTo>
                    <a:pt x="1065" y="331"/>
                  </a:lnTo>
                  <a:lnTo>
                    <a:pt x="1076" y="251"/>
                  </a:lnTo>
                  <a:lnTo>
                    <a:pt x="1076" y="183"/>
                  </a:lnTo>
                  <a:lnTo>
                    <a:pt x="1088" y="137"/>
                  </a:lnTo>
                  <a:lnTo>
                    <a:pt x="1088" y="171"/>
                  </a:lnTo>
                  <a:lnTo>
                    <a:pt x="1088" y="68"/>
                  </a:lnTo>
                  <a:lnTo>
                    <a:pt x="1088" y="0"/>
                  </a:lnTo>
                  <a:lnTo>
                    <a:pt x="1122" y="11"/>
                  </a:lnTo>
                  <a:lnTo>
                    <a:pt x="1145" y="80"/>
                  </a:lnTo>
                  <a:lnTo>
                    <a:pt x="1179" y="114"/>
                  </a:lnTo>
                  <a:lnTo>
                    <a:pt x="1202" y="148"/>
                  </a:lnTo>
                  <a:lnTo>
                    <a:pt x="1225" y="240"/>
                  </a:lnTo>
                  <a:lnTo>
                    <a:pt x="1270" y="240"/>
                  </a:lnTo>
                  <a:lnTo>
                    <a:pt x="1305" y="194"/>
                  </a:lnTo>
                  <a:lnTo>
                    <a:pt x="1305" y="160"/>
                  </a:lnTo>
                  <a:lnTo>
                    <a:pt x="1316" y="114"/>
                  </a:lnTo>
                  <a:lnTo>
                    <a:pt x="1327" y="148"/>
                  </a:lnTo>
                  <a:lnTo>
                    <a:pt x="1327" y="217"/>
                  </a:lnTo>
                  <a:lnTo>
                    <a:pt x="1350" y="285"/>
                  </a:lnTo>
                  <a:lnTo>
                    <a:pt x="1350" y="331"/>
                  </a:lnTo>
                  <a:lnTo>
                    <a:pt x="1385" y="320"/>
                  </a:lnTo>
                  <a:lnTo>
                    <a:pt x="1430" y="297"/>
                  </a:lnTo>
                  <a:lnTo>
                    <a:pt x="1442" y="263"/>
                  </a:lnTo>
                  <a:lnTo>
                    <a:pt x="1442" y="228"/>
                  </a:lnTo>
                  <a:lnTo>
                    <a:pt x="1476" y="217"/>
                  </a:lnTo>
                  <a:lnTo>
                    <a:pt x="1510" y="240"/>
                  </a:lnTo>
                  <a:lnTo>
                    <a:pt x="1545" y="240"/>
                  </a:lnTo>
                  <a:lnTo>
                    <a:pt x="1590" y="251"/>
                  </a:lnTo>
                </a:path>
              </a:pathLst>
            </a:custGeom>
            <a:noFill/>
            <a:ln cap="rnd" w="5076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447920" y="571500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934320" y="563868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j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962520" y="4952880"/>
              <a:ext cx="761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&lt; k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currence For c(i,j,k) ), k &gt; 0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380520" y="1217160"/>
            <a:ext cx="8458200" cy="76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rtest path goes through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1905120" y="1905120"/>
            <a:ext cx="5715000" cy="1341720"/>
            <a:chOff x="1905120" y="1905120"/>
            <a:chExt cx="5715000" cy="1341720"/>
          </a:xfrm>
        </p:grpSpPr>
        <p:sp>
          <p:nvSpPr>
            <p:cNvPr id="295" name=""/>
            <p:cNvSpPr/>
            <p:nvPr/>
          </p:nvSpPr>
          <p:spPr>
            <a:xfrm>
              <a:off x="7397640" y="2444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987560" y="2444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654440" y="2444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209680" y="2514600"/>
              <a:ext cx="2473560" cy="568440"/>
            </a:xfrm>
            <a:custGeom>
              <a:avLst/>
              <a:gdLst/>
              <a:ahLst/>
              <a:rect l="l" t="t" r="r" b="b"/>
              <a:pathLst>
                <a:path w="1558" h="358">
                  <a:moveTo>
                    <a:pt x="0" y="0"/>
                  </a:moveTo>
                  <a:lnTo>
                    <a:pt x="94" y="14"/>
                  </a:lnTo>
                  <a:lnTo>
                    <a:pt x="208" y="14"/>
                  </a:lnTo>
                  <a:lnTo>
                    <a:pt x="323" y="25"/>
                  </a:lnTo>
                  <a:lnTo>
                    <a:pt x="346" y="59"/>
                  </a:lnTo>
                  <a:lnTo>
                    <a:pt x="437" y="71"/>
                  </a:lnTo>
                  <a:lnTo>
                    <a:pt x="471" y="48"/>
                  </a:lnTo>
                  <a:lnTo>
                    <a:pt x="540" y="37"/>
                  </a:lnTo>
                  <a:lnTo>
                    <a:pt x="574" y="25"/>
                  </a:lnTo>
                  <a:lnTo>
                    <a:pt x="608" y="37"/>
                  </a:lnTo>
                  <a:lnTo>
                    <a:pt x="677" y="105"/>
                  </a:lnTo>
                  <a:lnTo>
                    <a:pt x="745" y="197"/>
                  </a:lnTo>
                  <a:lnTo>
                    <a:pt x="791" y="208"/>
                  </a:lnTo>
                  <a:lnTo>
                    <a:pt x="825" y="197"/>
                  </a:lnTo>
                  <a:lnTo>
                    <a:pt x="860" y="162"/>
                  </a:lnTo>
                  <a:lnTo>
                    <a:pt x="894" y="139"/>
                  </a:lnTo>
                  <a:lnTo>
                    <a:pt x="917" y="94"/>
                  </a:lnTo>
                  <a:lnTo>
                    <a:pt x="928" y="59"/>
                  </a:lnTo>
                  <a:lnTo>
                    <a:pt x="928" y="25"/>
                  </a:lnTo>
                  <a:lnTo>
                    <a:pt x="951" y="59"/>
                  </a:lnTo>
                  <a:lnTo>
                    <a:pt x="985" y="71"/>
                  </a:lnTo>
                  <a:lnTo>
                    <a:pt x="985" y="105"/>
                  </a:lnTo>
                  <a:lnTo>
                    <a:pt x="1020" y="82"/>
                  </a:lnTo>
                  <a:lnTo>
                    <a:pt x="1031" y="48"/>
                  </a:lnTo>
                  <a:lnTo>
                    <a:pt x="1065" y="48"/>
                  </a:lnTo>
                  <a:lnTo>
                    <a:pt x="1100" y="37"/>
                  </a:lnTo>
                  <a:lnTo>
                    <a:pt x="1134" y="71"/>
                  </a:lnTo>
                  <a:lnTo>
                    <a:pt x="1157" y="105"/>
                  </a:lnTo>
                  <a:lnTo>
                    <a:pt x="1157" y="139"/>
                  </a:lnTo>
                  <a:lnTo>
                    <a:pt x="1157" y="174"/>
                  </a:lnTo>
                  <a:lnTo>
                    <a:pt x="1157" y="208"/>
                  </a:lnTo>
                  <a:lnTo>
                    <a:pt x="1157" y="242"/>
                  </a:lnTo>
                  <a:lnTo>
                    <a:pt x="1157" y="277"/>
                  </a:lnTo>
                  <a:lnTo>
                    <a:pt x="1202" y="254"/>
                  </a:lnTo>
                  <a:lnTo>
                    <a:pt x="1248" y="242"/>
                  </a:lnTo>
                  <a:lnTo>
                    <a:pt x="1362" y="277"/>
                  </a:lnTo>
                  <a:lnTo>
                    <a:pt x="1431" y="345"/>
                  </a:lnTo>
                  <a:lnTo>
                    <a:pt x="1465" y="357"/>
                  </a:lnTo>
                  <a:lnTo>
                    <a:pt x="1488" y="322"/>
                  </a:lnTo>
                  <a:lnTo>
                    <a:pt x="1488" y="277"/>
                  </a:lnTo>
                  <a:lnTo>
                    <a:pt x="1488" y="231"/>
                  </a:lnTo>
                  <a:lnTo>
                    <a:pt x="1488" y="197"/>
                  </a:lnTo>
                  <a:lnTo>
                    <a:pt x="1477" y="162"/>
                  </a:lnTo>
                  <a:lnTo>
                    <a:pt x="1465" y="117"/>
                  </a:lnTo>
                  <a:lnTo>
                    <a:pt x="1442" y="48"/>
                  </a:lnTo>
                  <a:lnTo>
                    <a:pt x="1431" y="14"/>
                  </a:lnTo>
                  <a:lnTo>
                    <a:pt x="1477" y="2"/>
                  </a:lnTo>
                  <a:lnTo>
                    <a:pt x="1511" y="2"/>
                  </a:lnTo>
                  <a:lnTo>
                    <a:pt x="1557" y="2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876920" y="2155680"/>
              <a:ext cx="2525760" cy="581040"/>
            </a:xfrm>
            <a:custGeom>
              <a:avLst/>
              <a:gdLst/>
              <a:ahLst/>
              <a:rect l="l" t="t" r="r" b="b"/>
              <a:pathLst>
                <a:path w="1591" h="366">
                  <a:moveTo>
                    <a:pt x="0" y="274"/>
                  </a:moveTo>
                  <a:lnTo>
                    <a:pt x="48" y="251"/>
                  </a:lnTo>
                  <a:lnTo>
                    <a:pt x="82" y="240"/>
                  </a:lnTo>
                  <a:lnTo>
                    <a:pt x="105" y="205"/>
                  </a:lnTo>
                  <a:lnTo>
                    <a:pt x="139" y="194"/>
                  </a:lnTo>
                  <a:lnTo>
                    <a:pt x="174" y="194"/>
                  </a:lnTo>
                  <a:lnTo>
                    <a:pt x="185" y="228"/>
                  </a:lnTo>
                  <a:lnTo>
                    <a:pt x="219" y="251"/>
                  </a:lnTo>
                  <a:lnTo>
                    <a:pt x="242" y="285"/>
                  </a:lnTo>
                  <a:lnTo>
                    <a:pt x="265" y="320"/>
                  </a:lnTo>
                  <a:lnTo>
                    <a:pt x="299" y="320"/>
                  </a:lnTo>
                  <a:lnTo>
                    <a:pt x="334" y="297"/>
                  </a:lnTo>
                  <a:lnTo>
                    <a:pt x="368" y="285"/>
                  </a:lnTo>
                  <a:lnTo>
                    <a:pt x="436" y="274"/>
                  </a:lnTo>
                  <a:lnTo>
                    <a:pt x="528" y="251"/>
                  </a:lnTo>
                  <a:lnTo>
                    <a:pt x="551" y="217"/>
                  </a:lnTo>
                  <a:lnTo>
                    <a:pt x="551" y="251"/>
                  </a:lnTo>
                  <a:lnTo>
                    <a:pt x="562" y="217"/>
                  </a:lnTo>
                  <a:lnTo>
                    <a:pt x="585" y="171"/>
                  </a:lnTo>
                  <a:lnTo>
                    <a:pt x="596" y="125"/>
                  </a:lnTo>
                  <a:lnTo>
                    <a:pt x="596" y="80"/>
                  </a:lnTo>
                  <a:lnTo>
                    <a:pt x="619" y="34"/>
                  </a:lnTo>
                  <a:lnTo>
                    <a:pt x="642" y="68"/>
                  </a:lnTo>
                  <a:lnTo>
                    <a:pt x="653" y="137"/>
                  </a:lnTo>
                  <a:lnTo>
                    <a:pt x="676" y="228"/>
                  </a:lnTo>
                  <a:lnTo>
                    <a:pt x="688" y="263"/>
                  </a:lnTo>
                  <a:lnTo>
                    <a:pt x="722" y="274"/>
                  </a:lnTo>
                  <a:lnTo>
                    <a:pt x="791" y="274"/>
                  </a:lnTo>
                  <a:lnTo>
                    <a:pt x="859" y="251"/>
                  </a:lnTo>
                  <a:lnTo>
                    <a:pt x="950" y="217"/>
                  </a:lnTo>
                  <a:lnTo>
                    <a:pt x="973" y="263"/>
                  </a:lnTo>
                  <a:lnTo>
                    <a:pt x="985" y="354"/>
                  </a:lnTo>
                  <a:lnTo>
                    <a:pt x="1019" y="365"/>
                  </a:lnTo>
                  <a:lnTo>
                    <a:pt x="1065" y="331"/>
                  </a:lnTo>
                  <a:lnTo>
                    <a:pt x="1076" y="251"/>
                  </a:lnTo>
                  <a:lnTo>
                    <a:pt x="1076" y="183"/>
                  </a:lnTo>
                  <a:lnTo>
                    <a:pt x="1088" y="137"/>
                  </a:lnTo>
                  <a:lnTo>
                    <a:pt x="1088" y="171"/>
                  </a:lnTo>
                  <a:lnTo>
                    <a:pt x="1088" y="68"/>
                  </a:lnTo>
                  <a:lnTo>
                    <a:pt x="1088" y="0"/>
                  </a:lnTo>
                  <a:lnTo>
                    <a:pt x="1122" y="11"/>
                  </a:lnTo>
                  <a:lnTo>
                    <a:pt x="1145" y="80"/>
                  </a:lnTo>
                  <a:lnTo>
                    <a:pt x="1179" y="114"/>
                  </a:lnTo>
                  <a:lnTo>
                    <a:pt x="1202" y="148"/>
                  </a:lnTo>
                  <a:lnTo>
                    <a:pt x="1225" y="240"/>
                  </a:lnTo>
                  <a:lnTo>
                    <a:pt x="1270" y="240"/>
                  </a:lnTo>
                  <a:lnTo>
                    <a:pt x="1305" y="194"/>
                  </a:lnTo>
                  <a:lnTo>
                    <a:pt x="1305" y="160"/>
                  </a:lnTo>
                  <a:lnTo>
                    <a:pt x="1316" y="114"/>
                  </a:lnTo>
                  <a:lnTo>
                    <a:pt x="1327" y="148"/>
                  </a:lnTo>
                  <a:lnTo>
                    <a:pt x="1327" y="217"/>
                  </a:lnTo>
                  <a:lnTo>
                    <a:pt x="1350" y="285"/>
                  </a:lnTo>
                  <a:lnTo>
                    <a:pt x="1350" y="331"/>
                  </a:lnTo>
                  <a:lnTo>
                    <a:pt x="1385" y="320"/>
                  </a:lnTo>
                  <a:lnTo>
                    <a:pt x="1430" y="297"/>
                  </a:lnTo>
                  <a:lnTo>
                    <a:pt x="1442" y="263"/>
                  </a:lnTo>
                  <a:lnTo>
                    <a:pt x="1442" y="228"/>
                  </a:lnTo>
                  <a:lnTo>
                    <a:pt x="1476" y="217"/>
                  </a:lnTo>
                  <a:lnTo>
                    <a:pt x="1510" y="240"/>
                  </a:lnTo>
                  <a:lnTo>
                    <a:pt x="1545" y="240"/>
                  </a:lnTo>
                  <a:lnTo>
                    <a:pt x="1590" y="251"/>
                  </a:lnTo>
                </a:path>
              </a:pathLst>
            </a:custGeom>
            <a:noFill/>
            <a:ln cap="rnd" w="5076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905120" y="266688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391520" y="25909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j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648320" y="19051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304920" y="3427560"/>
            <a:ext cx="8458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may assume that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not repeated because no cycle has negative leng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st permissible intermediate vertex on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ths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-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currence For c(i,j,k) ), k &gt; 0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1905120" y="1447920"/>
            <a:ext cx="5715000" cy="1341720"/>
            <a:chOff x="1905120" y="1447920"/>
            <a:chExt cx="5715000" cy="1341720"/>
          </a:xfrm>
        </p:grpSpPr>
        <p:sp>
          <p:nvSpPr>
            <p:cNvPr id="306" name=""/>
            <p:cNvSpPr/>
            <p:nvPr/>
          </p:nvSpPr>
          <p:spPr>
            <a:xfrm>
              <a:off x="7397640" y="19875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987560" y="19875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654440" y="19875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209680" y="2057400"/>
              <a:ext cx="2473560" cy="568440"/>
            </a:xfrm>
            <a:custGeom>
              <a:avLst/>
              <a:gdLst/>
              <a:ahLst/>
              <a:rect l="l" t="t" r="r" b="b"/>
              <a:pathLst>
                <a:path w="1558" h="358">
                  <a:moveTo>
                    <a:pt x="0" y="0"/>
                  </a:moveTo>
                  <a:lnTo>
                    <a:pt x="94" y="14"/>
                  </a:lnTo>
                  <a:lnTo>
                    <a:pt x="208" y="14"/>
                  </a:lnTo>
                  <a:lnTo>
                    <a:pt x="323" y="25"/>
                  </a:lnTo>
                  <a:lnTo>
                    <a:pt x="346" y="59"/>
                  </a:lnTo>
                  <a:lnTo>
                    <a:pt x="437" y="71"/>
                  </a:lnTo>
                  <a:lnTo>
                    <a:pt x="471" y="48"/>
                  </a:lnTo>
                  <a:lnTo>
                    <a:pt x="540" y="37"/>
                  </a:lnTo>
                  <a:lnTo>
                    <a:pt x="574" y="25"/>
                  </a:lnTo>
                  <a:lnTo>
                    <a:pt x="608" y="37"/>
                  </a:lnTo>
                  <a:lnTo>
                    <a:pt x="677" y="105"/>
                  </a:lnTo>
                  <a:lnTo>
                    <a:pt x="745" y="197"/>
                  </a:lnTo>
                  <a:lnTo>
                    <a:pt x="791" y="208"/>
                  </a:lnTo>
                  <a:lnTo>
                    <a:pt x="825" y="197"/>
                  </a:lnTo>
                  <a:lnTo>
                    <a:pt x="860" y="162"/>
                  </a:lnTo>
                  <a:lnTo>
                    <a:pt x="894" y="139"/>
                  </a:lnTo>
                  <a:lnTo>
                    <a:pt x="917" y="94"/>
                  </a:lnTo>
                  <a:lnTo>
                    <a:pt x="928" y="59"/>
                  </a:lnTo>
                  <a:lnTo>
                    <a:pt x="928" y="25"/>
                  </a:lnTo>
                  <a:lnTo>
                    <a:pt x="951" y="59"/>
                  </a:lnTo>
                  <a:lnTo>
                    <a:pt x="985" y="71"/>
                  </a:lnTo>
                  <a:lnTo>
                    <a:pt x="985" y="105"/>
                  </a:lnTo>
                  <a:lnTo>
                    <a:pt x="1020" y="82"/>
                  </a:lnTo>
                  <a:lnTo>
                    <a:pt x="1031" y="48"/>
                  </a:lnTo>
                  <a:lnTo>
                    <a:pt x="1065" y="48"/>
                  </a:lnTo>
                  <a:lnTo>
                    <a:pt x="1100" y="37"/>
                  </a:lnTo>
                  <a:lnTo>
                    <a:pt x="1134" y="71"/>
                  </a:lnTo>
                  <a:lnTo>
                    <a:pt x="1157" y="105"/>
                  </a:lnTo>
                  <a:lnTo>
                    <a:pt x="1157" y="139"/>
                  </a:lnTo>
                  <a:lnTo>
                    <a:pt x="1157" y="174"/>
                  </a:lnTo>
                  <a:lnTo>
                    <a:pt x="1157" y="208"/>
                  </a:lnTo>
                  <a:lnTo>
                    <a:pt x="1157" y="242"/>
                  </a:lnTo>
                  <a:lnTo>
                    <a:pt x="1157" y="277"/>
                  </a:lnTo>
                  <a:lnTo>
                    <a:pt x="1202" y="254"/>
                  </a:lnTo>
                  <a:lnTo>
                    <a:pt x="1248" y="242"/>
                  </a:lnTo>
                  <a:lnTo>
                    <a:pt x="1362" y="277"/>
                  </a:lnTo>
                  <a:lnTo>
                    <a:pt x="1431" y="345"/>
                  </a:lnTo>
                  <a:lnTo>
                    <a:pt x="1465" y="357"/>
                  </a:lnTo>
                  <a:lnTo>
                    <a:pt x="1488" y="322"/>
                  </a:lnTo>
                  <a:lnTo>
                    <a:pt x="1488" y="277"/>
                  </a:lnTo>
                  <a:lnTo>
                    <a:pt x="1488" y="231"/>
                  </a:lnTo>
                  <a:lnTo>
                    <a:pt x="1488" y="197"/>
                  </a:lnTo>
                  <a:lnTo>
                    <a:pt x="1477" y="162"/>
                  </a:lnTo>
                  <a:lnTo>
                    <a:pt x="1465" y="117"/>
                  </a:lnTo>
                  <a:lnTo>
                    <a:pt x="1442" y="48"/>
                  </a:lnTo>
                  <a:lnTo>
                    <a:pt x="1431" y="14"/>
                  </a:lnTo>
                  <a:lnTo>
                    <a:pt x="1477" y="2"/>
                  </a:lnTo>
                  <a:lnTo>
                    <a:pt x="1511" y="2"/>
                  </a:lnTo>
                  <a:lnTo>
                    <a:pt x="1557" y="2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876920" y="1698480"/>
              <a:ext cx="2525760" cy="581040"/>
            </a:xfrm>
            <a:custGeom>
              <a:avLst/>
              <a:gdLst/>
              <a:ahLst/>
              <a:rect l="l" t="t" r="r" b="b"/>
              <a:pathLst>
                <a:path w="1591" h="366">
                  <a:moveTo>
                    <a:pt x="0" y="274"/>
                  </a:moveTo>
                  <a:lnTo>
                    <a:pt x="48" y="251"/>
                  </a:lnTo>
                  <a:lnTo>
                    <a:pt x="82" y="240"/>
                  </a:lnTo>
                  <a:lnTo>
                    <a:pt x="105" y="205"/>
                  </a:lnTo>
                  <a:lnTo>
                    <a:pt x="139" y="194"/>
                  </a:lnTo>
                  <a:lnTo>
                    <a:pt x="174" y="194"/>
                  </a:lnTo>
                  <a:lnTo>
                    <a:pt x="185" y="228"/>
                  </a:lnTo>
                  <a:lnTo>
                    <a:pt x="219" y="251"/>
                  </a:lnTo>
                  <a:lnTo>
                    <a:pt x="242" y="285"/>
                  </a:lnTo>
                  <a:lnTo>
                    <a:pt x="265" y="320"/>
                  </a:lnTo>
                  <a:lnTo>
                    <a:pt x="299" y="320"/>
                  </a:lnTo>
                  <a:lnTo>
                    <a:pt x="334" y="297"/>
                  </a:lnTo>
                  <a:lnTo>
                    <a:pt x="368" y="285"/>
                  </a:lnTo>
                  <a:lnTo>
                    <a:pt x="436" y="274"/>
                  </a:lnTo>
                  <a:lnTo>
                    <a:pt x="528" y="251"/>
                  </a:lnTo>
                  <a:lnTo>
                    <a:pt x="551" y="217"/>
                  </a:lnTo>
                  <a:lnTo>
                    <a:pt x="551" y="251"/>
                  </a:lnTo>
                  <a:lnTo>
                    <a:pt x="562" y="217"/>
                  </a:lnTo>
                  <a:lnTo>
                    <a:pt x="585" y="171"/>
                  </a:lnTo>
                  <a:lnTo>
                    <a:pt x="596" y="125"/>
                  </a:lnTo>
                  <a:lnTo>
                    <a:pt x="596" y="80"/>
                  </a:lnTo>
                  <a:lnTo>
                    <a:pt x="619" y="34"/>
                  </a:lnTo>
                  <a:lnTo>
                    <a:pt x="642" y="68"/>
                  </a:lnTo>
                  <a:lnTo>
                    <a:pt x="653" y="137"/>
                  </a:lnTo>
                  <a:lnTo>
                    <a:pt x="676" y="228"/>
                  </a:lnTo>
                  <a:lnTo>
                    <a:pt x="688" y="263"/>
                  </a:lnTo>
                  <a:lnTo>
                    <a:pt x="722" y="274"/>
                  </a:lnTo>
                  <a:lnTo>
                    <a:pt x="791" y="274"/>
                  </a:lnTo>
                  <a:lnTo>
                    <a:pt x="859" y="251"/>
                  </a:lnTo>
                  <a:lnTo>
                    <a:pt x="950" y="217"/>
                  </a:lnTo>
                  <a:lnTo>
                    <a:pt x="973" y="263"/>
                  </a:lnTo>
                  <a:lnTo>
                    <a:pt x="985" y="354"/>
                  </a:lnTo>
                  <a:lnTo>
                    <a:pt x="1019" y="365"/>
                  </a:lnTo>
                  <a:lnTo>
                    <a:pt x="1065" y="331"/>
                  </a:lnTo>
                  <a:lnTo>
                    <a:pt x="1076" y="251"/>
                  </a:lnTo>
                  <a:lnTo>
                    <a:pt x="1076" y="183"/>
                  </a:lnTo>
                  <a:lnTo>
                    <a:pt x="1088" y="137"/>
                  </a:lnTo>
                  <a:lnTo>
                    <a:pt x="1088" y="171"/>
                  </a:lnTo>
                  <a:lnTo>
                    <a:pt x="1088" y="68"/>
                  </a:lnTo>
                  <a:lnTo>
                    <a:pt x="1088" y="0"/>
                  </a:lnTo>
                  <a:lnTo>
                    <a:pt x="1122" y="11"/>
                  </a:lnTo>
                  <a:lnTo>
                    <a:pt x="1145" y="80"/>
                  </a:lnTo>
                  <a:lnTo>
                    <a:pt x="1179" y="114"/>
                  </a:lnTo>
                  <a:lnTo>
                    <a:pt x="1202" y="148"/>
                  </a:lnTo>
                  <a:lnTo>
                    <a:pt x="1225" y="240"/>
                  </a:lnTo>
                  <a:lnTo>
                    <a:pt x="1270" y="240"/>
                  </a:lnTo>
                  <a:lnTo>
                    <a:pt x="1305" y="194"/>
                  </a:lnTo>
                  <a:lnTo>
                    <a:pt x="1305" y="160"/>
                  </a:lnTo>
                  <a:lnTo>
                    <a:pt x="1316" y="114"/>
                  </a:lnTo>
                  <a:lnTo>
                    <a:pt x="1327" y="148"/>
                  </a:lnTo>
                  <a:lnTo>
                    <a:pt x="1327" y="217"/>
                  </a:lnTo>
                  <a:lnTo>
                    <a:pt x="1350" y="285"/>
                  </a:lnTo>
                  <a:lnTo>
                    <a:pt x="1350" y="331"/>
                  </a:lnTo>
                  <a:lnTo>
                    <a:pt x="1385" y="320"/>
                  </a:lnTo>
                  <a:lnTo>
                    <a:pt x="1430" y="297"/>
                  </a:lnTo>
                  <a:lnTo>
                    <a:pt x="1442" y="263"/>
                  </a:lnTo>
                  <a:lnTo>
                    <a:pt x="1442" y="228"/>
                  </a:lnTo>
                  <a:lnTo>
                    <a:pt x="1476" y="217"/>
                  </a:lnTo>
                  <a:lnTo>
                    <a:pt x="1510" y="240"/>
                  </a:lnTo>
                  <a:lnTo>
                    <a:pt x="1545" y="240"/>
                  </a:lnTo>
                  <a:lnTo>
                    <a:pt x="1590" y="251"/>
                  </a:lnTo>
                </a:path>
              </a:pathLst>
            </a:custGeom>
            <a:noFill/>
            <a:ln cap="rnd" w="5076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905120" y="220968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391520" y="21337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j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648320" y="14479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304920" y="3427560"/>
            <a:ext cx="845820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k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h must be a shortes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th that goes through no vertex larger tha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057400" y="1600200"/>
            <a:ext cx="2541600" cy="399960"/>
          </a:xfrm>
          <a:custGeom>
            <a:avLst/>
            <a:gdLst/>
            <a:ahLst/>
            <a:rect l="l" t="t" r="r" b="b"/>
            <a:pathLst>
              <a:path w="1601" h="252">
                <a:moveTo>
                  <a:pt x="18" y="210"/>
                </a:moveTo>
                <a:lnTo>
                  <a:pt x="0" y="160"/>
                </a:lnTo>
                <a:lnTo>
                  <a:pt x="12" y="125"/>
                </a:lnTo>
                <a:lnTo>
                  <a:pt x="57" y="114"/>
                </a:lnTo>
                <a:lnTo>
                  <a:pt x="92" y="114"/>
                </a:lnTo>
                <a:lnTo>
                  <a:pt x="183" y="125"/>
                </a:lnTo>
                <a:lnTo>
                  <a:pt x="217" y="125"/>
                </a:lnTo>
                <a:lnTo>
                  <a:pt x="252" y="102"/>
                </a:lnTo>
                <a:lnTo>
                  <a:pt x="343" y="91"/>
                </a:lnTo>
                <a:lnTo>
                  <a:pt x="412" y="114"/>
                </a:lnTo>
                <a:lnTo>
                  <a:pt x="446" y="102"/>
                </a:lnTo>
                <a:lnTo>
                  <a:pt x="514" y="91"/>
                </a:lnTo>
                <a:lnTo>
                  <a:pt x="560" y="57"/>
                </a:lnTo>
                <a:lnTo>
                  <a:pt x="594" y="68"/>
                </a:lnTo>
                <a:lnTo>
                  <a:pt x="629" y="91"/>
                </a:lnTo>
                <a:lnTo>
                  <a:pt x="697" y="114"/>
                </a:lnTo>
                <a:lnTo>
                  <a:pt x="789" y="125"/>
                </a:lnTo>
                <a:lnTo>
                  <a:pt x="823" y="114"/>
                </a:lnTo>
                <a:lnTo>
                  <a:pt x="846" y="80"/>
                </a:lnTo>
                <a:lnTo>
                  <a:pt x="926" y="80"/>
                </a:lnTo>
                <a:lnTo>
                  <a:pt x="1017" y="102"/>
                </a:lnTo>
                <a:lnTo>
                  <a:pt x="1063" y="102"/>
                </a:lnTo>
                <a:lnTo>
                  <a:pt x="1097" y="91"/>
                </a:lnTo>
                <a:lnTo>
                  <a:pt x="1120" y="57"/>
                </a:lnTo>
                <a:lnTo>
                  <a:pt x="1154" y="11"/>
                </a:lnTo>
                <a:lnTo>
                  <a:pt x="1188" y="0"/>
                </a:lnTo>
                <a:lnTo>
                  <a:pt x="1188" y="34"/>
                </a:lnTo>
                <a:lnTo>
                  <a:pt x="1188" y="68"/>
                </a:lnTo>
                <a:lnTo>
                  <a:pt x="1223" y="102"/>
                </a:lnTo>
                <a:lnTo>
                  <a:pt x="1257" y="137"/>
                </a:lnTo>
                <a:lnTo>
                  <a:pt x="1280" y="171"/>
                </a:lnTo>
                <a:lnTo>
                  <a:pt x="1303" y="217"/>
                </a:lnTo>
                <a:lnTo>
                  <a:pt x="1371" y="228"/>
                </a:lnTo>
                <a:lnTo>
                  <a:pt x="1463" y="240"/>
                </a:lnTo>
                <a:lnTo>
                  <a:pt x="1531" y="240"/>
                </a:lnTo>
                <a:lnTo>
                  <a:pt x="1565" y="251"/>
                </a:lnTo>
                <a:lnTo>
                  <a:pt x="1600" y="251"/>
                </a:lnTo>
              </a:path>
            </a:pathLst>
          </a:custGeom>
          <a:noFill/>
          <a:ln cap="rnd" w="507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8600" y="4724280"/>
            <a:ext cx="8458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not, replace curren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k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h with a shorte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th to get an even shorte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j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h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currence For c(i,j,k) ), k &gt; 0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1905120" y="1447920"/>
            <a:ext cx="5715000" cy="1341720"/>
            <a:chOff x="1905120" y="1447920"/>
            <a:chExt cx="5715000" cy="1341720"/>
          </a:xfrm>
        </p:grpSpPr>
        <p:sp>
          <p:nvSpPr>
            <p:cNvPr id="319" name=""/>
            <p:cNvSpPr/>
            <p:nvPr/>
          </p:nvSpPr>
          <p:spPr>
            <a:xfrm>
              <a:off x="7397640" y="19875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987560" y="19875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654440" y="19875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209680" y="2057400"/>
              <a:ext cx="2473560" cy="568440"/>
            </a:xfrm>
            <a:custGeom>
              <a:avLst/>
              <a:gdLst/>
              <a:ahLst/>
              <a:rect l="l" t="t" r="r" b="b"/>
              <a:pathLst>
                <a:path w="1558" h="358">
                  <a:moveTo>
                    <a:pt x="0" y="0"/>
                  </a:moveTo>
                  <a:lnTo>
                    <a:pt x="94" y="14"/>
                  </a:lnTo>
                  <a:lnTo>
                    <a:pt x="208" y="14"/>
                  </a:lnTo>
                  <a:lnTo>
                    <a:pt x="323" y="25"/>
                  </a:lnTo>
                  <a:lnTo>
                    <a:pt x="346" y="59"/>
                  </a:lnTo>
                  <a:lnTo>
                    <a:pt x="437" y="71"/>
                  </a:lnTo>
                  <a:lnTo>
                    <a:pt x="471" y="48"/>
                  </a:lnTo>
                  <a:lnTo>
                    <a:pt x="540" y="37"/>
                  </a:lnTo>
                  <a:lnTo>
                    <a:pt x="574" y="25"/>
                  </a:lnTo>
                  <a:lnTo>
                    <a:pt x="608" y="37"/>
                  </a:lnTo>
                  <a:lnTo>
                    <a:pt x="677" y="105"/>
                  </a:lnTo>
                  <a:lnTo>
                    <a:pt x="745" y="197"/>
                  </a:lnTo>
                  <a:lnTo>
                    <a:pt x="791" y="208"/>
                  </a:lnTo>
                  <a:lnTo>
                    <a:pt x="825" y="197"/>
                  </a:lnTo>
                  <a:lnTo>
                    <a:pt x="860" y="162"/>
                  </a:lnTo>
                  <a:lnTo>
                    <a:pt x="894" y="139"/>
                  </a:lnTo>
                  <a:lnTo>
                    <a:pt x="917" y="94"/>
                  </a:lnTo>
                  <a:lnTo>
                    <a:pt x="928" y="59"/>
                  </a:lnTo>
                  <a:lnTo>
                    <a:pt x="928" y="25"/>
                  </a:lnTo>
                  <a:lnTo>
                    <a:pt x="951" y="59"/>
                  </a:lnTo>
                  <a:lnTo>
                    <a:pt x="985" y="71"/>
                  </a:lnTo>
                  <a:lnTo>
                    <a:pt x="985" y="105"/>
                  </a:lnTo>
                  <a:lnTo>
                    <a:pt x="1020" y="82"/>
                  </a:lnTo>
                  <a:lnTo>
                    <a:pt x="1031" y="48"/>
                  </a:lnTo>
                  <a:lnTo>
                    <a:pt x="1065" y="48"/>
                  </a:lnTo>
                  <a:lnTo>
                    <a:pt x="1100" y="37"/>
                  </a:lnTo>
                  <a:lnTo>
                    <a:pt x="1134" y="71"/>
                  </a:lnTo>
                  <a:lnTo>
                    <a:pt x="1157" y="105"/>
                  </a:lnTo>
                  <a:lnTo>
                    <a:pt x="1157" y="139"/>
                  </a:lnTo>
                  <a:lnTo>
                    <a:pt x="1157" y="174"/>
                  </a:lnTo>
                  <a:lnTo>
                    <a:pt x="1157" y="208"/>
                  </a:lnTo>
                  <a:lnTo>
                    <a:pt x="1157" y="242"/>
                  </a:lnTo>
                  <a:lnTo>
                    <a:pt x="1157" y="277"/>
                  </a:lnTo>
                  <a:lnTo>
                    <a:pt x="1202" y="254"/>
                  </a:lnTo>
                  <a:lnTo>
                    <a:pt x="1248" y="242"/>
                  </a:lnTo>
                  <a:lnTo>
                    <a:pt x="1362" y="277"/>
                  </a:lnTo>
                  <a:lnTo>
                    <a:pt x="1431" y="345"/>
                  </a:lnTo>
                  <a:lnTo>
                    <a:pt x="1465" y="357"/>
                  </a:lnTo>
                  <a:lnTo>
                    <a:pt x="1488" y="322"/>
                  </a:lnTo>
                  <a:lnTo>
                    <a:pt x="1488" y="277"/>
                  </a:lnTo>
                  <a:lnTo>
                    <a:pt x="1488" y="231"/>
                  </a:lnTo>
                  <a:lnTo>
                    <a:pt x="1488" y="197"/>
                  </a:lnTo>
                  <a:lnTo>
                    <a:pt x="1477" y="162"/>
                  </a:lnTo>
                  <a:lnTo>
                    <a:pt x="1465" y="117"/>
                  </a:lnTo>
                  <a:lnTo>
                    <a:pt x="1442" y="48"/>
                  </a:lnTo>
                  <a:lnTo>
                    <a:pt x="1431" y="14"/>
                  </a:lnTo>
                  <a:lnTo>
                    <a:pt x="1477" y="2"/>
                  </a:lnTo>
                  <a:lnTo>
                    <a:pt x="1511" y="2"/>
                  </a:lnTo>
                  <a:lnTo>
                    <a:pt x="1557" y="2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876920" y="1698480"/>
              <a:ext cx="2525760" cy="581040"/>
            </a:xfrm>
            <a:custGeom>
              <a:avLst/>
              <a:gdLst/>
              <a:ahLst/>
              <a:rect l="l" t="t" r="r" b="b"/>
              <a:pathLst>
                <a:path w="1591" h="366">
                  <a:moveTo>
                    <a:pt x="0" y="274"/>
                  </a:moveTo>
                  <a:lnTo>
                    <a:pt x="48" y="251"/>
                  </a:lnTo>
                  <a:lnTo>
                    <a:pt x="82" y="240"/>
                  </a:lnTo>
                  <a:lnTo>
                    <a:pt x="105" y="205"/>
                  </a:lnTo>
                  <a:lnTo>
                    <a:pt x="139" y="194"/>
                  </a:lnTo>
                  <a:lnTo>
                    <a:pt x="174" y="194"/>
                  </a:lnTo>
                  <a:lnTo>
                    <a:pt x="185" y="228"/>
                  </a:lnTo>
                  <a:lnTo>
                    <a:pt x="219" y="251"/>
                  </a:lnTo>
                  <a:lnTo>
                    <a:pt x="242" y="285"/>
                  </a:lnTo>
                  <a:lnTo>
                    <a:pt x="265" y="320"/>
                  </a:lnTo>
                  <a:lnTo>
                    <a:pt x="299" y="320"/>
                  </a:lnTo>
                  <a:lnTo>
                    <a:pt x="334" y="297"/>
                  </a:lnTo>
                  <a:lnTo>
                    <a:pt x="368" y="285"/>
                  </a:lnTo>
                  <a:lnTo>
                    <a:pt x="436" y="274"/>
                  </a:lnTo>
                  <a:lnTo>
                    <a:pt x="528" y="251"/>
                  </a:lnTo>
                  <a:lnTo>
                    <a:pt x="551" y="217"/>
                  </a:lnTo>
                  <a:lnTo>
                    <a:pt x="551" y="251"/>
                  </a:lnTo>
                  <a:lnTo>
                    <a:pt x="562" y="217"/>
                  </a:lnTo>
                  <a:lnTo>
                    <a:pt x="585" y="171"/>
                  </a:lnTo>
                  <a:lnTo>
                    <a:pt x="596" y="125"/>
                  </a:lnTo>
                  <a:lnTo>
                    <a:pt x="596" y="80"/>
                  </a:lnTo>
                  <a:lnTo>
                    <a:pt x="619" y="34"/>
                  </a:lnTo>
                  <a:lnTo>
                    <a:pt x="642" y="68"/>
                  </a:lnTo>
                  <a:lnTo>
                    <a:pt x="653" y="137"/>
                  </a:lnTo>
                  <a:lnTo>
                    <a:pt x="676" y="228"/>
                  </a:lnTo>
                  <a:lnTo>
                    <a:pt x="688" y="263"/>
                  </a:lnTo>
                  <a:lnTo>
                    <a:pt x="722" y="274"/>
                  </a:lnTo>
                  <a:lnTo>
                    <a:pt x="791" y="274"/>
                  </a:lnTo>
                  <a:lnTo>
                    <a:pt x="859" y="251"/>
                  </a:lnTo>
                  <a:lnTo>
                    <a:pt x="950" y="217"/>
                  </a:lnTo>
                  <a:lnTo>
                    <a:pt x="973" y="263"/>
                  </a:lnTo>
                  <a:lnTo>
                    <a:pt x="985" y="354"/>
                  </a:lnTo>
                  <a:lnTo>
                    <a:pt x="1019" y="365"/>
                  </a:lnTo>
                  <a:lnTo>
                    <a:pt x="1065" y="331"/>
                  </a:lnTo>
                  <a:lnTo>
                    <a:pt x="1076" y="251"/>
                  </a:lnTo>
                  <a:lnTo>
                    <a:pt x="1076" y="183"/>
                  </a:lnTo>
                  <a:lnTo>
                    <a:pt x="1088" y="137"/>
                  </a:lnTo>
                  <a:lnTo>
                    <a:pt x="1088" y="171"/>
                  </a:lnTo>
                  <a:lnTo>
                    <a:pt x="1088" y="68"/>
                  </a:lnTo>
                  <a:lnTo>
                    <a:pt x="1088" y="0"/>
                  </a:lnTo>
                  <a:lnTo>
                    <a:pt x="1122" y="11"/>
                  </a:lnTo>
                  <a:lnTo>
                    <a:pt x="1145" y="80"/>
                  </a:lnTo>
                  <a:lnTo>
                    <a:pt x="1179" y="114"/>
                  </a:lnTo>
                  <a:lnTo>
                    <a:pt x="1202" y="148"/>
                  </a:lnTo>
                  <a:lnTo>
                    <a:pt x="1225" y="240"/>
                  </a:lnTo>
                  <a:lnTo>
                    <a:pt x="1270" y="240"/>
                  </a:lnTo>
                  <a:lnTo>
                    <a:pt x="1305" y="194"/>
                  </a:lnTo>
                  <a:lnTo>
                    <a:pt x="1305" y="160"/>
                  </a:lnTo>
                  <a:lnTo>
                    <a:pt x="1316" y="114"/>
                  </a:lnTo>
                  <a:lnTo>
                    <a:pt x="1327" y="148"/>
                  </a:lnTo>
                  <a:lnTo>
                    <a:pt x="1327" y="217"/>
                  </a:lnTo>
                  <a:lnTo>
                    <a:pt x="1350" y="285"/>
                  </a:lnTo>
                  <a:lnTo>
                    <a:pt x="1350" y="331"/>
                  </a:lnTo>
                  <a:lnTo>
                    <a:pt x="1385" y="320"/>
                  </a:lnTo>
                  <a:lnTo>
                    <a:pt x="1430" y="297"/>
                  </a:lnTo>
                  <a:lnTo>
                    <a:pt x="1442" y="263"/>
                  </a:lnTo>
                  <a:lnTo>
                    <a:pt x="1442" y="228"/>
                  </a:lnTo>
                  <a:lnTo>
                    <a:pt x="1476" y="217"/>
                  </a:lnTo>
                  <a:lnTo>
                    <a:pt x="1510" y="240"/>
                  </a:lnTo>
                  <a:lnTo>
                    <a:pt x="1545" y="240"/>
                  </a:lnTo>
                  <a:lnTo>
                    <a:pt x="1590" y="251"/>
                  </a:lnTo>
                </a:path>
              </a:pathLst>
            </a:custGeom>
            <a:noFill/>
            <a:ln cap="rnd" w="5076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905120" y="220968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391520" y="21337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j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648320" y="14479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304920" y="3427560"/>
            <a:ext cx="84582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ilarly,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j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h must be a shortes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th that goes through no vertex larger tha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fore, length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k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h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k,k-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 length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j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h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k,j,k-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j,k) = c(i,k,k-1) + c(k,j,k-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currence For c(i,j,k) ), k &gt; 0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304560" y="3124080"/>
            <a:ext cx="8458200" cy="282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the two equations fo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j,k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g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j,k) = min{c(i,j,k-1), c(i,k,k-1) + c(k,j,k-1)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may compute th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j,k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in the orde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 = 1, 2, 3, …,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1676520" y="1447920"/>
            <a:ext cx="5715000" cy="1090800"/>
            <a:chOff x="1676520" y="1447920"/>
            <a:chExt cx="5715000" cy="1090800"/>
          </a:xfrm>
        </p:grpSpPr>
        <p:sp>
          <p:nvSpPr>
            <p:cNvPr id="331" name=""/>
            <p:cNvSpPr/>
            <p:nvPr/>
          </p:nvSpPr>
          <p:spPr>
            <a:xfrm>
              <a:off x="7169040" y="1736640"/>
              <a:ext cx="216000" cy="2156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758960" y="1736640"/>
              <a:ext cx="216000" cy="2156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425840" y="1736640"/>
              <a:ext cx="216000" cy="2156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81080" y="1806480"/>
              <a:ext cx="2473560" cy="568080"/>
            </a:xfrm>
            <a:custGeom>
              <a:avLst/>
              <a:gdLst/>
              <a:ahLst/>
              <a:rect l="l" t="t" r="r" b="b"/>
              <a:pathLst>
                <a:path w="1558" h="358">
                  <a:moveTo>
                    <a:pt x="0" y="0"/>
                  </a:moveTo>
                  <a:lnTo>
                    <a:pt x="94" y="14"/>
                  </a:lnTo>
                  <a:lnTo>
                    <a:pt x="208" y="14"/>
                  </a:lnTo>
                  <a:lnTo>
                    <a:pt x="323" y="25"/>
                  </a:lnTo>
                  <a:lnTo>
                    <a:pt x="346" y="59"/>
                  </a:lnTo>
                  <a:lnTo>
                    <a:pt x="437" y="71"/>
                  </a:lnTo>
                  <a:lnTo>
                    <a:pt x="471" y="48"/>
                  </a:lnTo>
                  <a:lnTo>
                    <a:pt x="540" y="37"/>
                  </a:lnTo>
                  <a:lnTo>
                    <a:pt x="574" y="25"/>
                  </a:lnTo>
                  <a:lnTo>
                    <a:pt x="608" y="37"/>
                  </a:lnTo>
                  <a:lnTo>
                    <a:pt x="677" y="105"/>
                  </a:lnTo>
                  <a:lnTo>
                    <a:pt x="745" y="197"/>
                  </a:lnTo>
                  <a:lnTo>
                    <a:pt x="791" y="208"/>
                  </a:lnTo>
                  <a:lnTo>
                    <a:pt x="825" y="197"/>
                  </a:lnTo>
                  <a:lnTo>
                    <a:pt x="860" y="162"/>
                  </a:lnTo>
                  <a:lnTo>
                    <a:pt x="894" y="139"/>
                  </a:lnTo>
                  <a:lnTo>
                    <a:pt x="917" y="94"/>
                  </a:lnTo>
                  <a:lnTo>
                    <a:pt x="928" y="59"/>
                  </a:lnTo>
                  <a:lnTo>
                    <a:pt x="928" y="25"/>
                  </a:lnTo>
                  <a:lnTo>
                    <a:pt x="951" y="59"/>
                  </a:lnTo>
                  <a:lnTo>
                    <a:pt x="985" y="71"/>
                  </a:lnTo>
                  <a:lnTo>
                    <a:pt x="985" y="105"/>
                  </a:lnTo>
                  <a:lnTo>
                    <a:pt x="1020" y="82"/>
                  </a:lnTo>
                  <a:lnTo>
                    <a:pt x="1031" y="48"/>
                  </a:lnTo>
                  <a:lnTo>
                    <a:pt x="1065" y="48"/>
                  </a:lnTo>
                  <a:lnTo>
                    <a:pt x="1100" y="37"/>
                  </a:lnTo>
                  <a:lnTo>
                    <a:pt x="1134" y="71"/>
                  </a:lnTo>
                  <a:lnTo>
                    <a:pt x="1157" y="105"/>
                  </a:lnTo>
                  <a:lnTo>
                    <a:pt x="1157" y="139"/>
                  </a:lnTo>
                  <a:lnTo>
                    <a:pt x="1157" y="174"/>
                  </a:lnTo>
                  <a:lnTo>
                    <a:pt x="1157" y="208"/>
                  </a:lnTo>
                  <a:lnTo>
                    <a:pt x="1157" y="242"/>
                  </a:lnTo>
                  <a:lnTo>
                    <a:pt x="1157" y="277"/>
                  </a:lnTo>
                  <a:lnTo>
                    <a:pt x="1202" y="254"/>
                  </a:lnTo>
                  <a:lnTo>
                    <a:pt x="1248" y="242"/>
                  </a:lnTo>
                  <a:lnTo>
                    <a:pt x="1362" y="277"/>
                  </a:lnTo>
                  <a:lnTo>
                    <a:pt x="1431" y="345"/>
                  </a:lnTo>
                  <a:lnTo>
                    <a:pt x="1465" y="357"/>
                  </a:lnTo>
                  <a:lnTo>
                    <a:pt x="1488" y="322"/>
                  </a:lnTo>
                  <a:lnTo>
                    <a:pt x="1488" y="277"/>
                  </a:lnTo>
                  <a:lnTo>
                    <a:pt x="1488" y="231"/>
                  </a:lnTo>
                  <a:lnTo>
                    <a:pt x="1488" y="197"/>
                  </a:lnTo>
                  <a:lnTo>
                    <a:pt x="1477" y="162"/>
                  </a:lnTo>
                  <a:lnTo>
                    <a:pt x="1465" y="117"/>
                  </a:lnTo>
                  <a:lnTo>
                    <a:pt x="1442" y="48"/>
                  </a:lnTo>
                  <a:lnTo>
                    <a:pt x="1431" y="14"/>
                  </a:lnTo>
                  <a:lnTo>
                    <a:pt x="1477" y="2"/>
                  </a:lnTo>
                  <a:lnTo>
                    <a:pt x="1511" y="2"/>
                  </a:lnTo>
                  <a:lnTo>
                    <a:pt x="1557" y="2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648320" y="1447920"/>
              <a:ext cx="2525760" cy="580680"/>
            </a:xfrm>
            <a:custGeom>
              <a:avLst/>
              <a:gdLst/>
              <a:ahLst/>
              <a:rect l="l" t="t" r="r" b="b"/>
              <a:pathLst>
                <a:path w="1591" h="366">
                  <a:moveTo>
                    <a:pt x="0" y="274"/>
                  </a:moveTo>
                  <a:lnTo>
                    <a:pt x="48" y="251"/>
                  </a:lnTo>
                  <a:lnTo>
                    <a:pt x="82" y="240"/>
                  </a:lnTo>
                  <a:lnTo>
                    <a:pt x="105" y="205"/>
                  </a:lnTo>
                  <a:lnTo>
                    <a:pt x="139" y="194"/>
                  </a:lnTo>
                  <a:lnTo>
                    <a:pt x="174" y="194"/>
                  </a:lnTo>
                  <a:lnTo>
                    <a:pt x="185" y="228"/>
                  </a:lnTo>
                  <a:lnTo>
                    <a:pt x="219" y="251"/>
                  </a:lnTo>
                  <a:lnTo>
                    <a:pt x="242" y="285"/>
                  </a:lnTo>
                  <a:lnTo>
                    <a:pt x="265" y="320"/>
                  </a:lnTo>
                  <a:lnTo>
                    <a:pt x="299" y="320"/>
                  </a:lnTo>
                  <a:lnTo>
                    <a:pt x="334" y="297"/>
                  </a:lnTo>
                  <a:lnTo>
                    <a:pt x="368" y="285"/>
                  </a:lnTo>
                  <a:lnTo>
                    <a:pt x="436" y="274"/>
                  </a:lnTo>
                  <a:lnTo>
                    <a:pt x="528" y="251"/>
                  </a:lnTo>
                  <a:lnTo>
                    <a:pt x="551" y="217"/>
                  </a:lnTo>
                  <a:lnTo>
                    <a:pt x="551" y="251"/>
                  </a:lnTo>
                  <a:lnTo>
                    <a:pt x="562" y="217"/>
                  </a:lnTo>
                  <a:lnTo>
                    <a:pt x="585" y="171"/>
                  </a:lnTo>
                  <a:lnTo>
                    <a:pt x="596" y="125"/>
                  </a:lnTo>
                  <a:lnTo>
                    <a:pt x="596" y="80"/>
                  </a:lnTo>
                  <a:lnTo>
                    <a:pt x="619" y="34"/>
                  </a:lnTo>
                  <a:lnTo>
                    <a:pt x="642" y="68"/>
                  </a:lnTo>
                  <a:lnTo>
                    <a:pt x="653" y="137"/>
                  </a:lnTo>
                  <a:lnTo>
                    <a:pt x="676" y="228"/>
                  </a:lnTo>
                  <a:lnTo>
                    <a:pt x="688" y="263"/>
                  </a:lnTo>
                  <a:lnTo>
                    <a:pt x="722" y="274"/>
                  </a:lnTo>
                  <a:lnTo>
                    <a:pt x="791" y="274"/>
                  </a:lnTo>
                  <a:lnTo>
                    <a:pt x="859" y="251"/>
                  </a:lnTo>
                  <a:lnTo>
                    <a:pt x="950" y="217"/>
                  </a:lnTo>
                  <a:lnTo>
                    <a:pt x="973" y="263"/>
                  </a:lnTo>
                  <a:lnTo>
                    <a:pt x="985" y="354"/>
                  </a:lnTo>
                  <a:lnTo>
                    <a:pt x="1019" y="365"/>
                  </a:lnTo>
                  <a:lnTo>
                    <a:pt x="1065" y="331"/>
                  </a:lnTo>
                  <a:lnTo>
                    <a:pt x="1076" y="251"/>
                  </a:lnTo>
                  <a:lnTo>
                    <a:pt x="1076" y="183"/>
                  </a:lnTo>
                  <a:lnTo>
                    <a:pt x="1088" y="137"/>
                  </a:lnTo>
                  <a:lnTo>
                    <a:pt x="1088" y="171"/>
                  </a:lnTo>
                  <a:lnTo>
                    <a:pt x="1088" y="68"/>
                  </a:lnTo>
                  <a:lnTo>
                    <a:pt x="1088" y="0"/>
                  </a:lnTo>
                  <a:lnTo>
                    <a:pt x="1122" y="11"/>
                  </a:lnTo>
                  <a:lnTo>
                    <a:pt x="1145" y="80"/>
                  </a:lnTo>
                  <a:lnTo>
                    <a:pt x="1179" y="114"/>
                  </a:lnTo>
                  <a:lnTo>
                    <a:pt x="1202" y="148"/>
                  </a:lnTo>
                  <a:lnTo>
                    <a:pt x="1225" y="240"/>
                  </a:lnTo>
                  <a:lnTo>
                    <a:pt x="1270" y="240"/>
                  </a:lnTo>
                  <a:lnTo>
                    <a:pt x="1305" y="194"/>
                  </a:lnTo>
                  <a:lnTo>
                    <a:pt x="1305" y="160"/>
                  </a:lnTo>
                  <a:lnTo>
                    <a:pt x="1316" y="114"/>
                  </a:lnTo>
                  <a:lnTo>
                    <a:pt x="1327" y="148"/>
                  </a:lnTo>
                  <a:lnTo>
                    <a:pt x="1327" y="217"/>
                  </a:lnTo>
                  <a:lnTo>
                    <a:pt x="1350" y="285"/>
                  </a:lnTo>
                  <a:lnTo>
                    <a:pt x="1350" y="331"/>
                  </a:lnTo>
                  <a:lnTo>
                    <a:pt x="1385" y="320"/>
                  </a:lnTo>
                  <a:lnTo>
                    <a:pt x="1430" y="297"/>
                  </a:lnTo>
                  <a:lnTo>
                    <a:pt x="1442" y="263"/>
                  </a:lnTo>
                  <a:lnTo>
                    <a:pt x="1442" y="228"/>
                  </a:lnTo>
                  <a:lnTo>
                    <a:pt x="1476" y="217"/>
                  </a:lnTo>
                  <a:lnTo>
                    <a:pt x="1510" y="240"/>
                  </a:lnTo>
                  <a:lnTo>
                    <a:pt x="1545" y="240"/>
                  </a:lnTo>
                  <a:lnTo>
                    <a:pt x="1590" y="251"/>
                  </a:lnTo>
                </a:path>
              </a:pathLst>
            </a:custGeom>
            <a:noFill/>
            <a:ln cap="rnd" w="5076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676520" y="195876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162920" y="188280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j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Floyd’s Shortest Paths Algorithm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533520" y="13712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o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k = 1; k &lt;= n; k++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o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 = 1; i &lt;= n; i++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o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j = 1; j &lt;= n; j++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(i,j,k) = min{c(i,j,k-1)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(i,k,k-1) + c(k,j,k-1)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304920" y="4343400"/>
            <a:ext cx="8229600" cy="960480"/>
            <a:chOff x="304920" y="4343400"/>
            <a:chExt cx="8229600" cy="960480"/>
          </a:xfrm>
        </p:grpSpPr>
        <p:sp>
          <p:nvSpPr>
            <p:cNvPr id="341" name=""/>
            <p:cNvSpPr/>
            <p:nvPr/>
          </p:nvSpPr>
          <p:spPr>
            <a:xfrm>
              <a:off x="304920" y="4495680"/>
              <a:ext cx="82296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99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Time complexity is 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O(n</a:t>
              </a:r>
              <a:r>
                <a:rPr b="0" lang="en-US" sz="3200" spc="-1" strike="noStrike" baseline="30000">
                  <a:solidFill>
                    <a:srgbClr val="ff0033"/>
                  </a:solidFill>
                  <a:latin typeface="Times New Roman"/>
                </a:rPr>
                <a:t>3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)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2" name="" descr=""/>
            <p:cNvPicPr/>
            <p:nvPr/>
          </p:nvPicPr>
          <p:blipFill>
            <a:blip r:embed="rId1"/>
            <a:stretch/>
          </p:blipFill>
          <p:spPr>
            <a:xfrm>
              <a:off x="7924680" y="4343400"/>
              <a:ext cx="468360" cy="96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3" name=""/>
          <p:cNvSpPr/>
          <p:nvPr/>
        </p:nvSpPr>
        <p:spPr>
          <a:xfrm>
            <a:off x="304920" y="4495680"/>
            <a:ext cx="8229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precisely </a:t>
            </a:r>
            <a:r>
              <a:rPr b="0" lang="en-US" sz="3200" spc="-1" strike="noStrike">
                <a:solidFill>
                  <a:srgbClr val="ff0033"/>
                </a:solidFill>
                <a:latin typeface="Symbol"/>
                <a:ea typeface="Symbol"/>
              </a:rPr>
              <a:t>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n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Symbol"/>
                <a:ea typeface="Symbol"/>
              </a:rPr>
              <a:t>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n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ce is needed fo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*,*,*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pace Reduc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26000"/>
          </a:bodyPr>
          <a:p>
            <a:pPr marL="88920" indent="-8892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j,k) = min{c(i,j,k-1), c(i,k,k-1) + c(k,j,k-1)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neithe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o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qual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j,k-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used only in the computation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j,k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762120" y="2286000"/>
            <a:ext cx="6933960" cy="3733920"/>
            <a:chOff x="762120" y="2286000"/>
            <a:chExt cx="6933960" cy="3733920"/>
          </a:xfrm>
        </p:grpSpPr>
        <p:sp>
          <p:nvSpPr>
            <p:cNvPr id="347" name=""/>
            <p:cNvSpPr/>
            <p:nvPr/>
          </p:nvSpPr>
          <p:spPr>
            <a:xfrm>
              <a:off x="3054240" y="3359160"/>
              <a:ext cx="2273400" cy="22734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648320" y="2819520"/>
              <a:ext cx="0" cy="3200400"/>
            </a:xfrm>
            <a:prstGeom prst="line">
              <a:avLst/>
            </a:prstGeom>
            <a:ln w="507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438280" y="5029200"/>
              <a:ext cx="3505320" cy="0"/>
            </a:xfrm>
            <a:prstGeom prst="line">
              <a:avLst/>
            </a:prstGeom>
            <a:ln w="507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886200" y="2286000"/>
              <a:ext cx="1600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column 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095880" y="4724280"/>
              <a:ext cx="1600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row 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511440" y="3892680"/>
              <a:ext cx="139680" cy="13968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581280" y="4038480"/>
              <a:ext cx="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581280" y="3962520"/>
              <a:ext cx="106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447920" y="3962520"/>
              <a:ext cx="2057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62120" y="3733920"/>
              <a:ext cx="7617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(i,j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" name=""/>
          <p:cNvSpPr/>
          <p:nvPr/>
        </p:nvSpPr>
        <p:spPr>
          <a:xfrm>
            <a:off x="380880" y="6019920"/>
            <a:ext cx="7543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j,k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overwrit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j,k-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pace Reduc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j,k) = min{c(i,j,k-1), c(i,k,k-1) + c(k,j,k-1)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qual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j,k-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qual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j,k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c(k,j,k) = min{c(k,j,k-1), c(k,k,k-1) + c(k,j,k-1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              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 min{c(k,j,k-1), 0 + c(k,j,k-1)}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              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 c(k,j,k-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qual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j,k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overwrit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j,k-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ilarl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qual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j,k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overwrit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j,k-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ll cas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j,k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overwrit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j,k-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Floyd’s Shortest Paths Algorithm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53352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o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k = 1; k &lt;= n; k++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o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 = 1; i &lt;= n; i++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o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j = 1; j &lt;= n; j++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(i,j) = min{c(i,j), c(i,k) + c(k,j)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09480" y="4343400"/>
            <a:ext cx="76201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62120" y="4343400"/>
            <a:ext cx="792468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ly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j) = c(i,j,0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on termination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j) = c(i,j,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762120" y="5257800"/>
            <a:ext cx="7924680" cy="960480"/>
            <a:chOff x="762120" y="5257800"/>
            <a:chExt cx="7924680" cy="960480"/>
          </a:xfrm>
        </p:grpSpPr>
        <p:sp>
          <p:nvSpPr>
            <p:cNvPr id="365" name=""/>
            <p:cNvSpPr/>
            <p:nvPr/>
          </p:nvSpPr>
          <p:spPr>
            <a:xfrm>
              <a:off x="762120" y="5410080"/>
              <a:ext cx="79246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799"/>
                </a:spcBef>
                <a:buClr>
                  <a:srgbClr val="000099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Time complexity is </a:t>
              </a:r>
              <a:r>
                <a:rPr b="0" lang="en-US" sz="3200" spc="-1" strike="noStrike">
                  <a:solidFill>
                    <a:srgbClr val="ff0033"/>
                  </a:solidFill>
                  <a:latin typeface="Symbol"/>
                  <a:ea typeface="Symbol"/>
                </a:rPr>
                <a:t>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(n</a:t>
              </a:r>
              <a:r>
                <a:rPr b="0" lang="en-US" sz="3200" spc="-1" strike="noStrike" baseline="30000">
                  <a:solidFill>
                    <a:srgbClr val="ff0033"/>
                  </a:solidFill>
                  <a:latin typeface="Times New Roman"/>
                </a:rPr>
                <a:t>3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)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66" name="" descr=""/>
            <p:cNvPicPr/>
            <p:nvPr/>
          </p:nvPicPr>
          <p:blipFill>
            <a:blip r:embed="rId1"/>
            <a:stretch/>
          </p:blipFill>
          <p:spPr>
            <a:xfrm>
              <a:off x="7848720" y="5257800"/>
              <a:ext cx="468360" cy="96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7" name=""/>
          <p:cNvSpPr/>
          <p:nvPr/>
        </p:nvSpPr>
        <p:spPr>
          <a:xfrm>
            <a:off x="762120" y="6019920"/>
            <a:ext cx="7924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Symbol"/>
                <a:ea typeface="Symbol"/>
              </a:rPr>
              <a:t>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n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ce is needed fo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*,*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uilding The Shortest Path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380520" y="988560"/>
            <a:ext cx="8458200" cy="76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ay(i,j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he largest vertex on the shortest path fro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ly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ay(i,j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hortest path has no intermediate vertex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85800" y="3429000"/>
            <a:ext cx="777240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o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k = 1; k &lt;= n; k++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o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 = 1; i &lt;= n; i++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o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j = 1; j &lt;= n; j++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c(i,j) &gt; c(i,k) + c(k,j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kay(i,j) = k; c(i,j) = c(i,k) + c(k,j);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ijkstra’s Single Source Algorithm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1980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Dijkstra’s algorith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s, once with each of th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tices as the source verte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838080" y="3200400"/>
            <a:ext cx="7121520" cy="3033720"/>
            <a:chOff x="838080" y="3200400"/>
            <a:chExt cx="7121520" cy="3033720"/>
          </a:xfrm>
        </p:grpSpPr>
        <p:sp>
          <p:nvSpPr>
            <p:cNvPr id="102" name=""/>
            <p:cNvSpPr/>
            <p:nvPr/>
          </p:nvSpPr>
          <p:spPr>
            <a:xfrm>
              <a:off x="920520" y="39686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74160" y="394632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920520" y="5568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974160" y="554652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749320" y="39686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802960" y="394632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673360" y="5568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727000" y="554652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273560" y="46544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327200" y="463212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178320" y="366372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31960" y="36417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3960" y="5568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27600" y="554652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143000" y="441936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371600" y="579096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371600" y="4190760"/>
              <a:ext cx="137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295280" y="4419360"/>
              <a:ext cx="152388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1294920" y="4419360"/>
              <a:ext cx="1600200" cy="12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24080" y="4343400"/>
              <a:ext cx="121932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1371600" y="4876200"/>
              <a:ext cx="289548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3047400" y="5105160"/>
              <a:ext cx="129564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124080" y="5790960"/>
              <a:ext cx="434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724280" y="4952880"/>
              <a:ext cx="7621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3200400" y="3885840"/>
              <a:ext cx="29718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553080" y="4038480"/>
              <a:ext cx="1143000" cy="152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752480" y="373356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38080" y="464796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00200" y="434340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514600" y="457200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267080" y="350496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952880" y="457200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657600" y="411480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352680" y="464796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38480" y="510516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76160" y="571500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876560" y="5715000"/>
              <a:ext cx="7621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553080" y="502920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73160" y="3276360"/>
              <a:ext cx="6886440" cy="2363760"/>
            </a:xfrm>
            <a:custGeom>
              <a:avLst/>
              <a:gdLst/>
              <a:ahLst/>
              <a:rect l="l" t="t" r="r" b="b"/>
              <a:pathLst>
                <a:path w="4338" h="1489">
                  <a:moveTo>
                    <a:pt x="4268" y="1488"/>
                  </a:moveTo>
                  <a:lnTo>
                    <a:pt x="4314" y="1449"/>
                  </a:lnTo>
                  <a:lnTo>
                    <a:pt x="4314" y="1403"/>
                  </a:lnTo>
                  <a:lnTo>
                    <a:pt x="4325" y="1347"/>
                  </a:lnTo>
                  <a:lnTo>
                    <a:pt x="4337" y="1301"/>
                  </a:lnTo>
                  <a:lnTo>
                    <a:pt x="4337" y="1256"/>
                  </a:lnTo>
                  <a:lnTo>
                    <a:pt x="4337" y="1200"/>
                  </a:lnTo>
                  <a:lnTo>
                    <a:pt x="4337" y="1154"/>
                  </a:lnTo>
                  <a:lnTo>
                    <a:pt x="4337" y="1086"/>
                  </a:lnTo>
                  <a:lnTo>
                    <a:pt x="4337" y="1018"/>
                  </a:lnTo>
                  <a:lnTo>
                    <a:pt x="4325" y="962"/>
                  </a:lnTo>
                  <a:lnTo>
                    <a:pt x="4303" y="905"/>
                  </a:lnTo>
                  <a:lnTo>
                    <a:pt x="4280" y="849"/>
                  </a:lnTo>
                  <a:lnTo>
                    <a:pt x="4246" y="792"/>
                  </a:lnTo>
                  <a:lnTo>
                    <a:pt x="4212" y="736"/>
                  </a:lnTo>
                  <a:lnTo>
                    <a:pt x="4178" y="690"/>
                  </a:lnTo>
                  <a:lnTo>
                    <a:pt x="4155" y="656"/>
                  </a:lnTo>
                  <a:lnTo>
                    <a:pt x="4121" y="622"/>
                  </a:lnTo>
                  <a:lnTo>
                    <a:pt x="4099" y="588"/>
                  </a:lnTo>
                  <a:lnTo>
                    <a:pt x="4065" y="554"/>
                  </a:lnTo>
                  <a:lnTo>
                    <a:pt x="4020" y="498"/>
                  </a:lnTo>
                  <a:lnTo>
                    <a:pt x="3986" y="475"/>
                  </a:lnTo>
                  <a:lnTo>
                    <a:pt x="3963" y="441"/>
                  </a:lnTo>
                  <a:lnTo>
                    <a:pt x="3929" y="407"/>
                  </a:lnTo>
                  <a:lnTo>
                    <a:pt x="3884" y="351"/>
                  </a:lnTo>
                  <a:lnTo>
                    <a:pt x="3861" y="317"/>
                  </a:lnTo>
                  <a:lnTo>
                    <a:pt x="3827" y="283"/>
                  </a:lnTo>
                  <a:lnTo>
                    <a:pt x="3793" y="249"/>
                  </a:lnTo>
                  <a:lnTo>
                    <a:pt x="3748" y="215"/>
                  </a:lnTo>
                  <a:lnTo>
                    <a:pt x="3714" y="181"/>
                  </a:lnTo>
                  <a:lnTo>
                    <a:pt x="3680" y="170"/>
                  </a:lnTo>
                  <a:lnTo>
                    <a:pt x="3623" y="124"/>
                  </a:lnTo>
                  <a:lnTo>
                    <a:pt x="3578" y="102"/>
                  </a:lnTo>
                  <a:lnTo>
                    <a:pt x="3544" y="90"/>
                  </a:lnTo>
                  <a:lnTo>
                    <a:pt x="3487" y="68"/>
                  </a:lnTo>
                  <a:lnTo>
                    <a:pt x="3442" y="68"/>
                  </a:lnTo>
                  <a:lnTo>
                    <a:pt x="3397" y="56"/>
                  </a:lnTo>
                  <a:lnTo>
                    <a:pt x="3340" y="45"/>
                  </a:lnTo>
                  <a:lnTo>
                    <a:pt x="3283" y="45"/>
                  </a:lnTo>
                  <a:lnTo>
                    <a:pt x="3249" y="45"/>
                  </a:lnTo>
                  <a:lnTo>
                    <a:pt x="3216" y="45"/>
                  </a:lnTo>
                  <a:lnTo>
                    <a:pt x="3148" y="34"/>
                  </a:lnTo>
                  <a:lnTo>
                    <a:pt x="3102" y="34"/>
                  </a:lnTo>
                  <a:lnTo>
                    <a:pt x="3068" y="34"/>
                  </a:lnTo>
                  <a:lnTo>
                    <a:pt x="3034" y="34"/>
                  </a:lnTo>
                  <a:lnTo>
                    <a:pt x="2989" y="34"/>
                  </a:lnTo>
                  <a:lnTo>
                    <a:pt x="2921" y="34"/>
                  </a:lnTo>
                  <a:lnTo>
                    <a:pt x="2887" y="34"/>
                  </a:lnTo>
                  <a:lnTo>
                    <a:pt x="2853" y="34"/>
                  </a:lnTo>
                  <a:lnTo>
                    <a:pt x="2808" y="34"/>
                  </a:lnTo>
                  <a:lnTo>
                    <a:pt x="2763" y="34"/>
                  </a:lnTo>
                  <a:lnTo>
                    <a:pt x="2729" y="34"/>
                  </a:lnTo>
                  <a:lnTo>
                    <a:pt x="2683" y="34"/>
                  </a:lnTo>
                  <a:lnTo>
                    <a:pt x="2638" y="34"/>
                  </a:lnTo>
                  <a:lnTo>
                    <a:pt x="2604" y="22"/>
                  </a:lnTo>
                  <a:lnTo>
                    <a:pt x="2559" y="22"/>
                  </a:lnTo>
                  <a:lnTo>
                    <a:pt x="2525" y="22"/>
                  </a:lnTo>
                  <a:lnTo>
                    <a:pt x="2491" y="22"/>
                  </a:lnTo>
                  <a:lnTo>
                    <a:pt x="2412" y="22"/>
                  </a:lnTo>
                  <a:lnTo>
                    <a:pt x="2344" y="22"/>
                  </a:lnTo>
                  <a:lnTo>
                    <a:pt x="2298" y="22"/>
                  </a:lnTo>
                  <a:lnTo>
                    <a:pt x="2253" y="22"/>
                  </a:lnTo>
                  <a:lnTo>
                    <a:pt x="2196" y="22"/>
                  </a:lnTo>
                  <a:lnTo>
                    <a:pt x="2151" y="22"/>
                  </a:lnTo>
                  <a:lnTo>
                    <a:pt x="2083" y="22"/>
                  </a:lnTo>
                  <a:lnTo>
                    <a:pt x="2015" y="22"/>
                  </a:lnTo>
                  <a:lnTo>
                    <a:pt x="1947" y="22"/>
                  </a:lnTo>
                  <a:lnTo>
                    <a:pt x="1891" y="22"/>
                  </a:lnTo>
                  <a:lnTo>
                    <a:pt x="1834" y="22"/>
                  </a:lnTo>
                  <a:lnTo>
                    <a:pt x="1766" y="22"/>
                  </a:lnTo>
                  <a:lnTo>
                    <a:pt x="1709" y="22"/>
                  </a:lnTo>
                  <a:lnTo>
                    <a:pt x="1653" y="22"/>
                  </a:lnTo>
                  <a:lnTo>
                    <a:pt x="1608" y="22"/>
                  </a:lnTo>
                  <a:lnTo>
                    <a:pt x="1540" y="22"/>
                  </a:lnTo>
                  <a:lnTo>
                    <a:pt x="1483" y="22"/>
                  </a:lnTo>
                  <a:lnTo>
                    <a:pt x="1415" y="22"/>
                  </a:lnTo>
                  <a:lnTo>
                    <a:pt x="1336" y="22"/>
                  </a:lnTo>
                  <a:lnTo>
                    <a:pt x="1257" y="22"/>
                  </a:lnTo>
                  <a:lnTo>
                    <a:pt x="1189" y="22"/>
                  </a:lnTo>
                  <a:lnTo>
                    <a:pt x="1132" y="22"/>
                  </a:lnTo>
                  <a:lnTo>
                    <a:pt x="1064" y="22"/>
                  </a:lnTo>
                  <a:lnTo>
                    <a:pt x="985" y="22"/>
                  </a:lnTo>
                  <a:lnTo>
                    <a:pt x="928" y="22"/>
                  </a:lnTo>
                  <a:lnTo>
                    <a:pt x="883" y="22"/>
                  </a:lnTo>
                  <a:lnTo>
                    <a:pt x="849" y="22"/>
                  </a:lnTo>
                  <a:lnTo>
                    <a:pt x="792" y="22"/>
                  </a:lnTo>
                  <a:lnTo>
                    <a:pt x="713" y="11"/>
                  </a:lnTo>
                  <a:lnTo>
                    <a:pt x="656" y="11"/>
                  </a:lnTo>
                  <a:lnTo>
                    <a:pt x="622" y="11"/>
                  </a:lnTo>
                  <a:lnTo>
                    <a:pt x="577" y="0"/>
                  </a:lnTo>
                  <a:lnTo>
                    <a:pt x="543" y="0"/>
                  </a:lnTo>
                  <a:lnTo>
                    <a:pt x="498" y="0"/>
                  </a:lnTo>
                  <a:lnTo>
                    <a:pt x="441" y="0"/>
                  </a:lnTo>
                  <a:lnTo>
                    <a:pt x="407" y="0"/>
                  </a:lnTo>
                  <a:lnTo>
                    <a:pt x="362" y="11"/>
                  </a:lnTo>
                  <a:lnTo>
                    <a:pt x="317" y="11"/>
                  </a:lnTo>
                  <a:lnTo>
                    <a:pt x="283" y="22"/>
                  </a:lnTo>
                  <a:lnTo>
                    <a:pt x="249" y="34"/>
                  </a:lnTo>
                  <a:lnTo>
                    <a:pt x="203" y="56"/>
                  </a:lnTo>
                  <a:lnTo>
                    <a:pt x="158" y="79"/>
                  </a:lnTo>
                  <a:lnTo>
                    <a:pt x="124" y="102"/>
                  </a:lnTo>
                  <a:lnTo>
                    <a:pt x="90" y="136"/>
                  </a:lnTo>
                  <a:lnTo>
                    <a:pt x="56" y="170"/>
                  </a:lnTo>
                  <a:lnTo>
                    <a:pt x="34" y="215"/>
                  </a:lnTo>
                  <a:lnTo>
                    <a:pt x="11" y="249"/>
                  </a:lnTo>
                  <a:lnTo>
                    <a:pt x="0" y="283"/>
                  </a:lnTo>
                  <a:lnTo>
                    <a:pt x="0" y="328"/>
                  </a:lnTo>
                  <a:lnTo>
                    <a:pt x="0" y="362"/>
                  </a:lnTo>
                  <a:lnTo>
                    <a:pt x="0" y="396"/>
                  </a:lnTo>
                  <a:lnTo>
                    <a:pt x="0" y="43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752480" y="320040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492520" y="503532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46160" y="50133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943600" y="5333760"/>
              <a:ext cx="160020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010280" y="42670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5790960" y="4038480"/>
              <a:ext cx="45720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43600" y="441936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8095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-    7    5   1    -    -    -    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-    -     -    -    4    -    -    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-    7    -    -    9    9    -    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-    5    -    -    -    -   16    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-    -    -    4    -    -     -   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-    -    -    -    -     -    1    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2    -    -    -   -     -    -    4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-    -    -    -    -    2    4    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85800" y="609588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371600" y="762120"/>
            <a:ext cx="7121520" cy="3033720"/>
            <a:chOff x="1371600" y="762120"/>
            <a:chExt cx="7121520" cy="3033720"/>
          </a:xfrm>
        </p:grpSpPr>
        <p:sp>
          <p:nvSpPr>
            <p:cNvPr id="375" name=""/>
            <p:cNvSpPr/>
            <p:nvPr/>
          </p:nvSpPr>
          <p:spPr>
            <a:xfrm>
              <a:off x="1454040" y="15303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507680" y="15080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454040" y="31305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507680" y="31082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282840" y="15303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336480" y="15080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206880" y="31305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260520" y="31082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807080" y="22161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860720" y="21938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711840" y="12254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765480" y="12034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007480" y="31305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061120" y="31082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676520" y="198108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905120" y="335268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905120" y="1752480"/>
              <a:ext cx="137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828800" y="1981080"/>
              <a:ext cx="152388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1828440" y="1981080"/>
              <a:ext cx="1600200" cy="12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657600" y="1905120"/>
              <a:ext cx="121932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1905120" y="2437920"/>
              <a:ext cx="289548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3580920" y="2666880"/>
              <a:ext cx="129564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657600" y="3352680"/>
              <a:ext cx="434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257800" y="2514600"/>
              <a:ext cx="7621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3733920" y="1447560"/>
              <a:ext cx="29718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086600" y="1600200"/>
              <a:ext cx="1143000" cy="152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286000" y="12952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371600" y="22096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133720" y="190512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048120" y="213372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800600" y="10666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486400" y="213372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191120" y="167652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886200" y="22096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572000" y="26668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209680" y="327672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410080" y="3276720"/>
              <a:ext cx="7621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086600" y="259092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606680" y="838080"/>
              <a:ext cx="6886440" cy="2363760"/>
            </a:xfrm>
            <a:custGeom>
              <a:avLst/>
              <a:gdLst/>
              <a:ahLst/>
              <a:rect l="l" t="t" r="r" b="b"/>
              <a:pathLst>
                <a:path w="4338" h="1489">
                  <a:moveTo>
                    <a:pt x="4268" y="1488"/>
                  </a:moveTo>
                  <a:lnTo>
                    <a:pt x="4314" y="1449"/>
                  </a:lnTo>
                  <a:lnTo>
                    <a:pt x="4314" y="1403"/>
                  </a:lnTo>
                  <a:lnTo>
                    <a:pt x="4325" y="1347"/>
                  </a:lnTo>
                  <a:lnTo>
                    <a:pt x="4337" y="1301"/>
                  </a:lnTo>
                  <a:lnTo>
                    <a:pt x="4337" y="1256"/>
                  </a:lnTo>
                  <a:lnTo>
                    <a:pt x="4337" y="1200"/>
                  </a:lnTo>
                  <a:lnTo>
                    <a:pt x="4337" y="1154"/>
                  </a:lnTo>
                  <a:lnTo>
                    <a:pt x="4337" y="1086"/>
                  </a:lnTo>
                  <a:lnTo>
                    <a:pt x="4337" y="1018"/>
                  </a:lnTo>
                  <a:lnTo>
                    <a:pt x="4325" y="962"/>
                  </a:lnTo>
                  <a:lnTo>
                    <a:pt x="4303" y="905"/>
                  </a:lnTo>
                  <a:lnTo>
                    <a:pt x="4280" y="849"/>
                  </a:lnTo>
                  <a:lnTo>
                    <a:pt x="4246" y="792"/>
                  </a:lnTo>
                  <a:lnTo>
                    <a:pt x="4212" y="736"/>
                  </a:lnTo>
                  <a:lnTo>
                    <a:pt x="4178" y="690"/>
                  </a:lnTo>
                  <a:lnTo>
                    <a:pt x="4155" y="656"/>
                  </a:lnTo>
                  <a:lnTo>
                    <a:pt x="4121" y="622"/>
                  </a:lnTo>
                  <a:lnTo>
                    <a:pt x="4099" y="588"/>
                  </a:lnTo>
                  <a:lnTo>
                    <a:pt x="4065" y="554"/>
                  </a:lnTo>
                  <a:lnTo>
                    <a:pt x="4020" y="498"/>
                  </a:lnTo>
                  <a:lnTo>
                    <a:pt x="3986" y="475"/>
                  </a:lnTo>
                  <a:lnTo>
                    <a:pt x="3963" y="441"/>
                  </a:lnTo>
                  <a:lnTo>
                    <a:pt x="3929" y="407"/>
                  </a:lnTo>
                  <a:lnTo>
                    <a:pt x="3884" y="351"/>
                  </a:lnTo>
                  <a:lnTo>
                    <a:pt x="3861" y="317"/>
                  </a:lnTo>
                  <a:lnTo>
                    <a:pt x="3827" y="283"/>
                  </a:lnTo>
                  <a:lnTo>
                    <a:pt x="3793" y="249"/>
                  </a:lnTo>
                  <a:lnTo>
                    <a:pt x="3748" y="215"/>
                  </a:lnTo>
                  <a:lnTo>
                    <a:pt x="3714" y="181"/>
                  </a:lnTo>
                  <a:lnTo>
                    <a:pt x="3680" y="170"/>
                  </a:lnTo>
                  <a:lnTo>
                    <a:pt x="3623" y="124"/>
                  </a:lnTo>
                  <a:lnTo>
                    <a:pt x="3578" y="102"/>
                  </a:lnTo>
                  <a:lnTo>
                    <a:pt x="3544" y="90"/>
                  </a:lnTo>
                  <a:lnTo>
                    <a:pt x="3487" y="68"/>
                  </a:lnTo>
                  <a:lnTo>
                    <a:pt x="3442" y="68"/>
                  </a:lnTo>
                  <a:lnTo>
                    <a:pt x="3397" y="56"/>
                  </a:lnTo>
                  <a:lnTo>
                    <a:pt x="3340" y="45"/>
                  </a:lnTo>
                  <a:lnTo>
                    <a:pt x="3283" y="45"/>
                  </a:lnTo>
                  <a:lnTo>
                    <a:pt x="3249" y="45"/>
                  </a:lnTo>
                  <a:lnTo>
                    <a:pt x="3216" y="45"/>
                  </a:lnTo>
                  <a:lnTo>
                    <a:pt x="3148" y="34"/>
                  </a:lnTo>
                  <a:lnTo>
                    <a:pt x="3102" y="34"/>
                  </a:lnTo>
                  <a:lnTo>
                    <a:pt x="3068" y="34"/>
                  </a:lnTo>
                  <a:lnTo>
                    <a:pt x="3034" y="34"/>
                  </a:lnTo>
                  <a:lnTo>
                    <a:pt x="2989" y="34"/>
                  </a:lnTo>
                  <a:lnTo>
                    <a:pt x="2921" y="34"/>
                  </a:lnTo>
                  <a:lnTo>
                    <a:pt x="2887" y="34"/>
                  </a:lnTo>
                  <a:lnTo>
                    <a:pt x="2853" y="34"/>
                  </a:lnTo>
                  <a:lnTo>
                    <a:pt x="2808" y="34"/>
                  </a:lnTo>
                  <a:lnTo>
                    <a:pt x="2763" y="34"/>
                  </a:lnTo>
                  <a:lnTo>
                    <a:pt x="2729" y="34"/>
                  </a:lnTo>
                  <a:lnTo>
                    <a:pt x="2683" y="34"/>
                  </a:lnTo>
                  <a:lnTo>
                    <a:pt x="2638" y="34"/>
                  </a:lnTo>
                  <a:lnTo>
                    <a:pt x="2604" y="22"/>
                  </a:lnTo>
                  <a:lnTo>
                    <a:pt x="2559" y="22"/>
                  </a:lnTo>
                  <a:lnTo>
                    <a:pt x="2525" y="22"/>
                  </a:lnTo>
                  <a:lnTo>
                    <a:pt x="2491" y="22"/>
                  </a:lnTo>
                  <a:lnTo>
                    <a:pt x="2412" y="22"/>
                  </a:lnTo>
                  <a:lnTo>
                    <a:pt x="2344" y="22"/>
                  </a:lnTo>
                  <a:lnTo>
                    <a:pt x="2298" y="22"/>
                  </a:lnTo>
                  <a:lnTo>
                    <a:pt x="2253" y="22"/>
                  </a:lnTo>
                  <a:lnTo>
                    <a:pt x="2196" y="22"/>
                  </a:lnTo>
                  <a:lnTo>
                    <a:pt x="2151" y="22"/>
                  </a:lnTo>
                  <a:lnTo>
                    <a:pt x="2083" y="22"/>
                  </a:lnTo>
                  <a:lnTo>
                    <a:pt x="2015" y="22"/>
                  </a:lnTo>
                  <a:lnTo>
                    <a:pt x="1947" y="22"/>
                  </a:lnTo>
                  <a:lnTo>
                    <a:pt x="1891" y="22"/>
                  </a:lnTo>
                  <a:lnTo>
                    <a:pt x="1834" y="22"/>
                  </a:lnTo>
                  <a:lnTo>
                    <a:pt x="1766" y="22"/>
                  </a:lnTo>
                  <a:lnTo>
                    <a:pt x="1709" y="22"/>
                  </a:lnTo>
                  <a:lnTo>
                    <a:pt x="1653" y="22"/>
                  </a:lnTo>
                  <a:lnTo>
                    <a:pt x="1608" y="22"/>
                  </a:lnTo>
                  <a:lnTo>
                    <a:pt x="1540" y="22"/>
                  </a:lnTo>
                  <a:lnTo>
                    <a:pt x="1483" y="22"/>
                  </a:lnTo>
                  <a:lnTo>
                    <a:pt x="1415" y="22"/>
                  </a:lnTo>
                  <a:lnTo>
                    <a:pt x="1336" y="22"/>
                  </a:lnTo>
                  <a:lnTo>
                    <a:pt x="1257" y="22"/>
                  </a:lnTo>
                  <a:lnTo>
                    <a:pt x="1189" y="22"/>
                  </a:lnTo>
                  <a:lnTo>
                    <a:pt x="1132" y="22"/>
                  </a:lnTo>
                  <a:lnTo>
                    <a:pt x="1064" y="22"/>
                  </a:lnTo>
                  <a:lnTo>
                    <a:pt x="985" y="22"/>
                  </a:lnTo>
                  <a:lnTo>
                    <a:pt x="928" y="22"/>
                  </a:lnTo>
                  <a:lnTo>
                    <a:pt x="883" y="22"/>
                  </a:lnTo>
                  <a:lnTo>
                    <a:pt x="849" y="22"/>
                  </a:lnTo>
                  <a:lnTo>
                    <a:pt x="792" y="22"/>
                  </a:lnTo>
                  <a:lnTo>
                    <a:pt x="713" y="11"/>
                  </a:lnTo>
                  <a:lnTo>
                    <a:pt x="656" y="11"/>
                  </a:lnTo>
                  <a:lnTo>
                    <a:pt x="622" y="11"/>
                  </a:lnTo>
                  <a:lnTo>
                    <a:pt x="577" y="0"/>
                  </a:lnTo>
                  <a:lnTo>
                    <a:pt x="543" y="0"/>
                  </a:lnTo>
                  <a:lnTo>
                    <a:pt x="498" y="0"/>
                  </a:lnTo>
                  <a:lnTo>
                    <a:pt x="441" y="0"/>
                  </a:lnTo>
                  <a:lnTo>
                    <a:pt x="407" y="0"/>
                  </a:lnTo>
                  <a:lnTo>
                    <a:pt x="362" y="11"/>
                  </a:lnTo>
                  <a:lnTo>
                    <a:pt x="317" y="11"/>
                  </a:lnTo>
                  <a:lnTo>
                    <a:pt x="283" y="22"/>
                  </a:lnTo>
                  <a:lnTo>
                    <a:pt x="249" y="34"/>
                  </a:lnTo>
                  <a:lnTo>
                    <a:pt x="203" y="56"/>
                  </a:lnTo>
                  <a:lnTo>
                    <a:pt x="158" y="79"/>
                  </a:lnTo>
                  <a:lnTo>
                    <a:pt x="124" y="102"/>
                  </a:lnTo>
                  <a:lnTo>
                    <a:pt x="90" y="136"/>
                  </a:lnTo>
                  <a:lnTo>
                    <a:pt x="56" y="170"/>
                  </a:lnTo>
                  <a:lnTo>
                    <a:pt x="34" y="215"/>
                  </a:lnTo>
                  <a:lnTo>
                    <a:pt x="11" y="249"/>
                  </a:lnTo>
                  <a:lnTo>
                    <a:pt x="0" y="283"/>
                  </a:lnTo>
                  <a:lnTo>
                    <a:pt x="0" y="328"/>
                  </a:lnTo>
                  <a:lnTo>
                    <a:pt x="0" y="362"/>
                  </a:lnTo>
                  <a:lnTo>
                    <a:pt x="0" y="396"/>
                  </a:lnTo>
                  <a:lnTo>
                    <a:pt x="0" y="43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286000" y="76212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026040" y="2597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079680" y="25750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477120" y="2895480"/>
              <a:ext cx="160020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543800" y="182880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6324480" y="1600200"/>
              <a:ext cx="45720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477120" y="19810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4343400" y="4648320"/>
            <a:ext cx="3429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nitial Cost Matrix c(*,*) = c(*,*,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Final Cost Matrix c(*,*) = c(*,*,n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1980720" y="1447920"/>
            <a:ext cx="48006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0    6    5    1  10  13  14  11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10   0  15    8    4   7    8    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12   7    0  13    9   9  10  1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15   5  20    0    9 12  13  1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6   9  11    4    0   3    4    1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3   9   8     4  13   0    1    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2   8   7     3  12   6    0    4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5  11 10    6  15   2    3    0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kay Matrix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2971440" y="1523880"/>
            <a:ext cx="28954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0 4 0 0 4 8 8 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8 0 8 5 0 8 8 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7 0 0 5 0 0 6 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8 0 8 0 2 8 8 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8 4 8 0 0 8 8 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7 7 7 7 7 0 0 7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0 4 1 1 4 8 0 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7 7 7 7 7 0 6 0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hortest Path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55623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rtest path fro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454040" y="2368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507680" y="23464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454040" y="39686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507680" y="39466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282840" y="2368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336480" y="23464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206880" y="39686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260520" y="39466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807080" y="30542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860720" y="30322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711840" y="2063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765480" y="204156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007480" y="39686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061120" y="39466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676520" y="28195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905120" y="419112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905120" y="25909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828800" y="2819520"/>
            <a:ext cx="152388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1828440" y="2819520"/>
            <a:ext cx="1600200" cy="1218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657600" y="2743200"/>
            <a:ext cx="121932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905120" y="3276720"/>
            <a:ext cx="289548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3580920" y="3505320"/>
            <a:ext cx="129564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657600" y="419112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257800" y="335268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3733920" y="2285640"/>
            <a:ext cx="29718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086600" y="2438280"/>
            <a:ext cx="1143000" cy="1524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286000" y="21337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371600" y="30481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133720" y="274320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8120" y="297180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800600" y="19051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486400" y="297180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191120" y="251460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886200" y="30481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572000" y="35053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209680" y="4114800"/>
            <a:ext cx="38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410080" y="4114800"/>
            <a:ext cx="762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086600" y="342900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85800" y="6248520"/>
            <a:ext cx="7772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606680" y="1676520"/>
            <a:ext cx="6886440" cy="2363760"/>
          </a:xfrm>
          <a:custGeom>
            <a:avLst/>
            <a:gdLst/>
            <a:ahLst/>
            <a:rect l="l" t="t" r="r" b="b"/>
            <a:pathLst>
              <a:path w="4338" h="1489">
                <a:moveTo>
                  <a:pt x="4268" y="1488"/>
                </a:moveTo>
                <a:lnTo>
                  <a:pt x="4314" y="1449"/>
                </a:lnTo>
                <a:lnTo>
                  <a:pt x="4314" y="1403"/>
                </a:lnTo>
                <a:lnTo>
                  <a:pt x="4325" y="1347"/>
                </a:lnTo>
                <a:lnTo>
                  <a:pt x="4337" y="1301"/>
                </a:lnTo>
                <a:lnTo>
                  <a:pt x="4337" y="1256"/>
                </a:lnTo>
                <a:lnTo>
                  <a:pt x="4337" y="1200"/>
                </a:lnTo>
                <a:lnTo>
                  <a:pt x="4337" y="1154"/>
                </a:lnTo>
                <a:lnTo>
                  <a:pt x="4337" y="1086"/>
                </a:lnTo>
                <a:lnTo>
                  <a:pt x="4337" y="1018"/>
                </a:lnTo>
                <a:lnTo>
                  <a:pt x="4325" y="962"/>
                </a:lnTo>
                <a:lnTo>
                  <a:pt x="4303" y="905"/>
                </a:lnTo>
                <a:lnTo>
                  <a:pt x="4280" y="849"/>
                </a:lnTo>
                <a:lnTo>
                  <a:pt x="4246" y="792"/>
                </a:lnTo>
                <a:lnTo>
                  <a:pt x="4212" y="736"/>
                </a:lnTo>
                <a:lnTo>
                  <a:pt x="4178" y="690"/>
                </a:lnTo>
                <a:lnTo>
                  <a:pt x="4155" y="656"/>
                </a:lnTo>
                <a:lnTo>
                  <a:pt x="4121" y="622"/>
                </a:lnTo>
                <a:lnTo>
                  <a:pt x="4099" y="588"/>
                </a:lnTo>
                <a:lnTo>
                  <a:pt x="4065" y="554"/>
                </a:lnTo>
                <a:lnTo>
                  <a:pt x="4020" y="498"/>
                </a:lnTo>
                <a:lnTo>
                  <a:pt x="3986" y="475"/>
                </a:lnTo>
                <a:lnTo>
                  <a:pt x="3963" y="441"/>
                </a:lnTo>
                <a:lnTo>
                  <a:pt x="3929" y="407"/>
                </a:lnTo>
                <a:lnTo>
                  <a:pt x="3884" y="351"/>
                </a:lnTo>
                <a:lnTo>
                  <a:pt x="3861" y="317"/>
                </a:lnTo>
                <a:lnTo>
                  <a:pt x="3827" y="283"/>
                </a:lnTo>
                <a:lnTo>
                  <a:pt x="3793" y="249"/>
                </a:lnTo>
                <a:lnTo>
                  <a:pt x="3748" y="215"/>
                </a:lnTo>
                <a:lnTo>
                  <a:pt x="3714" y="181"/>
                </a:lnTo>
                <a:lnTo>
                  <a:pt x="3680" y="170"/>
                </a:lnTo>
                <a:lnTo>
                  <a:pt x="3623" y="124"/>
                </a:lnTo>
                <a:lnTo>
                  <a:pt x="3578" y="102"/>
                </a:lnTo>
                <a:lnTo>
                  <a:pt x="3544" y="90"/>
                </a:lnTo>
                <a:lnTo>
                  <a:pt x="3487" y="68"/>
                </a:lnTo>
                <a:lnTo>
                  <a:pt x="3442" y="68"/>
                </a:lnTo>
                <a:lnTo>
                  <a:pt x="3397" y="56"/>
                </a:lnTo>
                <a:lnTo>
                  <a:pt x="3340" y="45"/>
                </a:lnTo>
                <a:lnTo>
                  <a:pt x="3283" y="45"/>
                </a:lnTo>
                <a:lnTo>
                  <a:pt x="3249" y="45"/>
                </a:lnTo>
                <a:lnTo>
                  <a:pt x="3216" y="45"/>
                </a:lnTo>
                <a:lnTo>
                  <a:pt x="3148" y="34"/>
                </a:lnTo>
                <a:lnTo>
                  <a:pt x="3102" y="34"/>
                </a:lnTo>
                <a:lnTo>
                  <a:pt x="3068" y="34"/>
                </a:lnTo>
                <a:lnTo>
                  <a:pt x="3034" y="34"/>
                </a:lnTo>
                <a:lnTo>
                  <a:pt x="2989" y="34"/>
                </a:lnTo>
                <a:lnTo>
                  <a:pt x="2921" y="34"/>
                </a:lnTo>
                <a:lnTo>
                  <a:pt x="2887" y="34"/>
                </a:lnTo>
                <a:lnTo>
                  <a:pt x="2853" y="34"/>
                </a:lnTo>
                <a:lnTo>
                  <a:pt x="2808" y="34"/>
                </a:lnTo>
                <a:lnTo>
                  <a:pt x="2763" y="34"/>
                </a:lnTo>
                <a:lnTo>
                  <a:pt x="2729" y="34"/>
                </a:lnTo>
                <a:lnTo>
                  <a:pt x="2683" y="34"/>
                </a:lnTo>
                <a:lnTo>
                  <a:pt x="2638" y="34"/>
                </a:lnTo>
                <a:lnTo>
                  <a:pt x="2604" y="22"/>
                </a:lnTo>
                <a:lnTo>
                  <a:pt x="2559" y="22"/>
                </a:lnTo>
                <a:lnTo>
                  <a:pt x="2525" y="22"/>
                </a:lnTo>
                <a:lnTo>
                  <a:pt x="2491" y="22"/>
                </a:lnTo>
                <a:lnTo>
                  <a:pt x="2412" y="22"/>
                </a:lnTo>
                <a:lnTo>
                  <a:pt x="2344" y="22"/>
                </a:lnTo>
                <a:lnTo>
                  <a:pt x="2298" y="22"/>
                </a:lnTo>
                <a:lnTo>
                  <a:pt x="2253" y="22"/>
                </a:lnTo>
                <a:lnTo>
                  <a:pt x="2196" y="22"/>
                </a:lnTo>
                <a:lnTo>
                  <a:pt x="2151" y="22"/>
                </a:lnTo>
                <a:lnTo>
                  <a:pt x="2083" y="22"/>
                </a:lnTo>
                <a:lnTo>
                  <a:pt x="2015" y="22"/>
                </a:lnTo>
                <a:lnTo>
                  <a:pt x="1947" y="22"/>
                </a:lnTo>
                <a:lnTo>
                  <a:pt x="1891" y="22"/>
                </a:lnTo>
                <a:lnTo>
                  <a:pt x="1834" y="22"/>
                </a:lnTo>
                <a:lnTo>
                  <a:pt x="1766" y="22"/>
                </a:lnTo>
                <a:lnTo>
                  <a:pt x="1709" y="22"/>
                </a:lnTo>
                <a:lnTo>
                  <a:pt x="1653" y="22"/>
                </a:lnTo>
                <a:lnTo>
                  <a:pt x="1608" y="22"/>
                </a:lnTo>
                <a:lnTo>
                  <a:pt x="1540" y="22"/>
                </a:lnTo>
                <a:lnTo>
                  <a:pt x="1483" y="22"/>
                </a:lnTo>
                <a:lnTo>
                  <a:pt x="1415" y="22"/>
                </a:lnTo>
                <a:lnTo>
                  <a:pt x="1336" y="22"/>
                </a:lnTo>
                <a:lnTo>
                  <a:pt x="1257" y="22"/>
                </a:lnTo>
                <a:lnTo>
                  <a:pt x="1189" y="22"/>
                </a:lnTo>
                <a:lnTo>
                  <a:pt x="1132" y="22"/>
                </a:lnTo>
                <a:lnTo>
                  <a:pt x="1064" y="22"/>
                </a:lnTo>
                <a:lnTo>
                  <a:pt x="985" y="22"/>
                </a:lnTo>
                <a:lnTo>
                  <a:pt x="928" y="22"/>
                </a:lnTo>
                <a:lnTo>
                  <a:pt x="883" y="22"/>
                </a:lnTo>
                <a:lnTo>
                  <a:pt x="849" y="22"/>
                </a:lnTo>
                <a:lnTo>
                  <a:pt x="792" y="22"/>
                </a:lnTo>
                <a:lnTo>
                  <a:pt x="713" y="11"/>
                </a:lnTo>
                <a:lnTo>
                  <a:pt x="656" y="11"/>
                </a:lnTo>
                <a:lnTo>
                  <a:pt x="622" y="11"/>
                </a:lnTo>
                <a:lnTo>
                  <a:pt x="577" y="0"/>
                </a:lnTo>
                <a:lnTo>
                  <a:pt x="543" y="0"/>
                </a:lnTo>
                <a:lnTo>
                  <a:pt x="498" y="0"/>
                </a:lnTo>
                <a:lnTo>
                  <a:pt x="441" y="0"/>
                </a:lnTo>
                <a:lnTo>
                  <a:pt x="407" y="0"/>
                </a:lnTo>
                <a:lnTo>
                  <a:pt x="362" y="11"/>
                </a:lnTo>
                <a:lnTo>
                  <a:pt x="317" y="11"/>
                </a:lnTo>
                <a:lnTo>
                  <a:pt x="283" y="22"/>
                </a:lnTo>
                <a:lnTo>
                  <a:pt x="249" y="34"/>
                </a:lnTo>
                <a:lnTo>
                  <a:pt x="203" y="56"/>
                </a:lnTo>
                <a:lnTo>
                  <a:pt x="158" y="79"/>
                </a:lnTo>
                <a:lnTo>
                  <a:pt x="124" y="102"/>
                </a:lnTo>
                <a:lnTo>
                  <a:pt x="90" y="136"/>
                </a:lnTo>
                <a:lnTo>
                  <a:pt x="56" y="170"/>
                </a:lnTo>
                <a:lnTo>
                  <a:pt x="34" y="215"/>
                </a:lnTo>
                <a:lnTo>
                  <a:pt x="11" y="249"/>
                </a:lnTo>
                <a:lnTo>
                  <a:pt x="0" y="283"/>
                </a:lnTo>
                <a:lnTo>
                  <a:pt x="0" y="328"/>
                </a:lnTo>
                <a:lnTo>
                  <a:pt x="0" y="362"/>
                </a:lnTo>
                <a:lnTo>
                  <a:pt x="0" y="396"/>
                </a:lnTo>
                <a:lnTo>
                  <a:pt x="0" y="43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286000" y="160020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0260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79680" y="341316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477120" y="3733920"/>
            <a:ext cx="1600200" cy="304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543800" y="26668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6324480" y="2438280"/>
            <a:ext cx="45720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477120" y="28195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828800" y="2819520"/>
            <a:ext cx="1523880" cy="114300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905120" y="4191120"/>
            <a:ext cx="1295280" cy="0"/>
          </a:xfrm>
          <a:prstGeom prst="line">
            <a:avLst/>
          </a:prstGeom>
          <a:ln w="50760">
            <a:solidFill>
              <a:srgbClr val="ff00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1905120" y="3276720"/>
            <a:ext cx="2895480" cy="83808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257800" y="3352680"/>
            <a:ext cx="762120" cy="22860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6324480" y="2438280"/>
            <a:ext cx="457200" cy="99072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086600" y="2438280"/>
            <a:ext cx="1143000" cy="152424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85800" y="60958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h length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uild A Shortest Path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533160" y="1523880"/>
            <a:ext cx="28954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0 4 0 0 4 8 8 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8 0 8 5 0 8 8 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7 0 0 5 0 0 6 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8 0 8 0 2 8 8 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8 4 8 0 0 8 8 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7 7 7 7 7 0 0 7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0 4 1 1 4 8 0 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7 7 7 7 7 0 6 0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267080" y="1523880"/>
            <a:ext cx="464832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ath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 4 2 5 8 6 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ay(1,7) =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4572000" y="2971800"/>
            <a:ext cx="2971800" cy="519120"/>
            <a:chOff x="4572000" y="2971800"/>
            <a:chExt cx="2971800" cy="519120"/>
          </a:xfrm>
        </p:grpSpPr>
        <p:sp>
          <p:nvSpPr>
            <p:cNvPr id="486" name=""/>
            <p:cNvSpPr/>
            <p:nvPr/>
          </p:nvSpPr>
          <p:spPr>
            <a:xfrm>
              <a:off x="4572000" y="297180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867280" y="297180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62920" y="297180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876920" y="320040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248520" y="320040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4267080" y="3505320"/>
            <a:ext cx="4648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ay(1,8) =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4648320" y="4114800"/>
            <a:ext cx="4267080" cy="519120"/>
            <a:chOff x="4648320" y="4114800"/>
            <a:chExt cx="4267080" cy="519120"/>
          </a:xfrm>
        </p:grpSpPr>
        <p:sp>
          <p:nvSpPr>
            <p:cNvPr id="493" name=""/>
            <p:cNvSpPr/>
            <p:nvPr/>
          </p:nvSpPr>
          <p:spPr>
            <a:xfrm>
              <a:off x="4648320" y="411480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943600" y="411480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238880" y="411480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952880" y="4343400"/>
              <a:ext cx="99072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324480" y="4343400"/>
              <a:ext cx="99072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534520" y="411480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620120" y="434340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4267080" y="4648320"/>
            <a:ext cx="4648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ay(1,5) =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4495680" y="5410080"/>
            <a:ext cx="4267440" cy="519120"/>
            <a:chOff x="4495680" y="5410080"/>
            <a:chExt cx="4267440" cy="519120"/>
          </a:xfrm>
        </p:grpSpPr>
        <p:sp>
          <p:nvSpPr>
            <p:cNvPr id="502" name=""/>
            <p:cNvSpPr/>
            <p:nvPr/>
          </p:nvSpPr>
          <p:spPr>
            <a:xfrm>
              <a:off x="4495680" y="541008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553080" y="541008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543800" y="54100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800600" y="5638680"/>
              <a:ext cx="68580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934320" y="5638680"/>
              <a:ext cx="60948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8381880" y="541008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924680" y="5638680"/>
              <a:ext cx="53352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486400" y="54100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867280" y="5638680"/>
              <a:ext cx="60984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uild A Shortest Path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533160" y="1523880"/>
            <a:ext cx="28954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0 4 0 0 4 8 8 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8 0 8 5 0 8 8 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7 0 0 5 0 0 6 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8 0 8 0 2 8 8 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8 4 8 0 0 8 8 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7 7 7 7 7 0 0 7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0 4 1 1 4 8 0 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7 7 7 7 7 0 6 0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267080" y="1523880"/>
            <a:ext cx="4648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ath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 4 2 5 8 6 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4343400" y="2209680"/>
            <a:ext cx="4267080" cy="519120"/>
            <a:chOff x="4343400" y="2209680"/>
            <a:chExt cx="4267080" cy="519120"/>
          </a:xfrm>
        </p:grpSpPr>
        <p:sp>
          <p:nvSpPr>
            <p:cNvPr id="515" name=""/>
            <p:cNvSpPr/>
            <p:nvPr/>
          </p:nvSpPr>
          <p:spPr>
            <a:xfrm>
              <a:off x="4343400" y="22096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400800" y="22096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391520" y="22096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648320" y="2438280"/>
              <a:ext cx="68580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781680" y="2438280"/>
              <a:ext cx="60984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8229600" y="22096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772400" y="2438280"/>
              <a:ext cx="53352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334120" y="22096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715000" y="2438280"/>
              <a:ext cx="60948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4" name=""/>
          <p:cNvSpPr/>
          <p:nvPr/>
        </p:nvSpPr>
        <p:spPr>
          <a:xfrm>
            <a:off x="4343400" y="2819520"/>
            <a:ext cx="4648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ay(1,4)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4419720" y="3505320"/>
            <a:ext cx="3581280" cy="519120"/>
            <a:chOff x="4419720" y="3505320"/>
            <a:chExt cx="3581280" cy="519120"/>
          </a:xfrm>
        </p:grpSpPr>
        <p:sp>
          <p:nvSpPr>
            <p:cNvPr id="526" name=""/>
            <p:cNvSpPr/>
            <p:nvPr/>
          </p:nvSpPr>
          <p:spPr>
            <a:xfrm>
              <a:off x="4419720" y="350532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791320" y="350532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781680" y="350532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172200" y="3733920"/>
              <a:ext cx="60948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620120" y="350532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162920" y="3733920"/>
              <a:ext cx="5331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724280" y="350532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105520" y="3733920"/>
              <a:ext cx="60948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" name=""/>
          <p:cNvSpPr/>
          <p:nvPr/>
        </p:nvSpPr>
        <p:spPr>
          <a:xfrm>
            <a:off x="4344840" y="4038480"/>
            <a:ext cx="4648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ay(4,5) =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4419720" y="4648320"/>
            <a:ext cx="4572000" cy="519120"/>
            <a:chOff x="4419720" y="4648320"/>
            <a:chExt cx="4572000" cy="519120"/>
          </a:xfrm>
        </p:grpSpPr>
        <p:sp>
          <p:nvSpPr>
            <p:cNvPr id="536" name=""/>
            <p:cNvSpPr/>
            <p:nvPr/>
          </p:nvSpPr>
          <p:spPr>
            <a:xfrm>
              <a:off x="4419720" y="464832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781680" y="464832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772400" y="464832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029200" y="4876920"/>
              <a:ext cx="68580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162920" y="4876920"/>
              <a:ext cx="60948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8610480" y="464832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8153280" y="4876920"/>
              <a:ext cx="53352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715000" y="464832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095880" y="4876920"/>
              <a:ext cx="60984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724280" y="464832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6" name=""/>
          <p:cNvSpPr/>
          <p:nvPr/>
        </p:nvSpPr>
        <p:spPr>
          <a:xfrm>
            <a:off x="4422600" y="5181480"/>
            <a:ext cx="4648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ay(4,2)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421160" y="5791320"/>
            <a:ext cx="3962520" cy="519120"/>
            <a:chOff x="4421160" y="5791320"/>
            <a:chExt cx="3962520" cy="519120"/>
          </a:xfrm>
        </p:grpSpPr>
        <p:sp>
          <p:nvSpPr>
            <p:cNvPr id="548" name=""/>
            <p:cNvSpPr/>
            <p:nvPr/>
          </p:nvSpPr>
          <p:spPr>
            <a:xfrm>
              <a:off x="4421160" y="579132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173640" y="579132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164360" y="579132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554880" y="6019920"/>
              <a:ext cx="60948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8002440" y="579132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545240" y="6019920"/>
              <a:ext cx="53352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106960" y="579132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487840" y="6019920"/>
              <a:ext cx="60984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726080" y="579132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uild A Shortest Path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533160" y="1523880"/>
            <a:ext cx="28954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0 4 0 0 4 8 8 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8 0 8 5 0 8 8 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7 0 0 5 0 0 6 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8 0 8 0 2 8 8 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8 4 8 0 0 8 8 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7 7 7 7 7 0 0 7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0 4 1 1 4 8 0 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7 7 7 7 7 0 6 0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267080" y="1523880"/>
            <a:ext cx="4648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ath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 4 2 5 8 6 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421160" y="21337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173640" y="2133720"/>
            <a:ext cx="38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164360" y="21337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554880" y="2362320"/>
            <a:ext cx="609480" cy="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8002440" y="2133720"/>
            <a:ext cx="38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545240" y="2362320"/>
            <a:ext cx="533520" cy="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106960" y="21337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487840" y="2362320"/>
            <a:ext cx="609840" cy="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726080" y="21337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194000" y="2743200"/>
            <a:ext cx="4648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ay(2,5)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4497480" y="3352680"/>
            <a:ext cx="3200400" cy="519120"/>
            <a:chOff x="4497480" y="3352680"/>
            <a:chExt cx="3200400" cy="519120"/>
          </a:xfrm>
        </p:grpSpPr>
        <p:sp>
          <p:nvSpPr>
            <p:cNvPr id="571" name=""/>
            <p:cNvSpPr/>
            <p:nvPr/>
          </p:nvSpPr>
          <p:spPr>
            <a:xfrm>
              <a:off x="4497480" y="33526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487840" y="335268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478560" y="33526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869080" y="3581280"/>
              <a:ext cx="60948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316640" y="335268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859440" y="3581280"/>
              <a:ext cx="53352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183280" y="33526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802040" y="335268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9" name=""/>
          <p:cNvSpPr/>
          <p:nvPr/>
        </p:nvSpPr>
        <p:spPr>
          <a:xfrm>
            <a:off x="4194000" y="3809880"/>
            <a:ext cx="4648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ay(5,8)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4573440" y="4343400"/>
            <a:ext cx="2514600" cy="519120"/>
            <a:chOff x="4573440" y="4343400"/>
            <a:chExt cx="2514600" cy="519120"/>
          </a:xfrm>
        </p:grpSpPr>
        <p:sp>
          <p:nvSpPr>
            <p:cNvPr id="581" name=""/>
            <p:cNvSpPr/>
            <p:nvPr/>
          </p:nvSpPr>
          <p:spPr>
            <a:xfrm>
              <a:off x="4573440" y="434340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564160" y="434340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869080" y="434340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707160" y="434340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249960" y="4572000"/>
              <a:ext cx="53352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259240" y="434340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878360" y="434340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8" name=""/>
          <p:cNvSpPr/>
          <p:nvPr/>
        </p:nvSpPr>
        <p:spPr>
          <a:xfrm>
            <a:off x="4194000" y="4800600"/>
            <a:ext cx="4648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ay(8,7) =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4497480" y="5410080"/>
            <a:ext cx="3352680" cy="519120"/>
            <a:chOff x="4497480" y="5410080"/>
            <a:chExt cx="3352680" cy="519120"/>
          </a:xfrm>
        </p:grpSpPr>
        <p:sp>
          <p:nvSpPr>
            <p:cNvPr id="590" name=""/>
            <p:cNvSpPr/>
            <p:nvPr/>
          </p:nvSpPr>
          <p:spPr>
            <a:xfrm>
              <a:off x="4497480" y="54100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487840" y="541008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792760" y="54100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630840" y="541008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173640" y="5638680"/>
              <a:ext cx="53352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183280" y="54100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802040" y="541008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469280" y="54100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12080" y="5638680"/>
              <a:ext cx="5331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uild A Shortest Path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533160" y="1523880"/>
            <a:ext cx="28954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0 4 0 0 4 8 8 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8 0 8 5 0 8 8 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7 0 0 5 0 0 6 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8 0 8 0 2 8 8 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8 4 8 0 0 8 8 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7 7 7 7 7 0 0 7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0 4 1 1 4 8 0 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7 7 7 7 7 0 6 0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267080" y="1523880"/>
            <a:ext cx="4648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ath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 4 2 5 8 6 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4649760" y="2209680"/>
            <a:ext cx="3352680" cy="519120"/>
            <a:chOff x="4649760" y="2209680"/>
            <a:chExt cx="3352680" cy="519120"/>
          </a:xfrm>
        </p:grpSpPr>
        <p:sp>
          <p:nvSpPr>
            <p:cNvPr id="603" name=""/>
            <p:cNvSpPr/>
            <p:nvPr/>
          </p:nvSpPr>
          <p:spPr>
            <a:xfrm>
              <a:off x="4649760" y="22096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640480" y="22096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945040" y="220968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783480" y="22096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326280" y="2438280"/>
              <a:ext cx="5331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335560" y="22096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954680" y="22096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621560" y="22096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164360" y="2438280"/>
              <a:ext cx="53352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2" name=""/>
          <p:cNvSpPr/>
          <p:nvPr/>
        </p:nvSpPr>
        <p:spPr>
          <a:xfrm>
            <a:off x="4265640" y="2971800"/>
            <a:ext cx="4648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ay(8,6)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4573440" y="3581280"/>
            <a:ext cx="2819520" cy="519120"/>
            <a:chOff x="4573440" y="3581280"/>
            <a:chExt cx="2819520" cy="519120"/>
          </a:xfrm>
        </p:grpSpPr>
        <p:sp>
          <p:nvSpPr>
            <p:cNvPr id="614" name=""/>
            <p:cNvSpPr/>
            <p:nvPr/>
          </p:nvSpPr>
          <p:spPr>
            <a:xfrm>
              <a:off x="4573440" y="358128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564160" y="35812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869080" y="35812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173640" y="358128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259240" y="358128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878360" y="35812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012080" y="35812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554880" y="3809880"/>
              <a:ext cx="5331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2" name=""/>
          <p:cNvSpPr/>
          <p:nvPr/>
        </p:nvSpPr>
        <p:spPr>
          <a:xfrm>
            <a:off x="4265640" y="4114800"/>
            <a:ext cx="4648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ay(6,7)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4649760" y="4724280"/>
            <a:ext cx="2286000" cy="519120"/>
            <a:chOff x="4649760" y="4724280"/>
            <a:chExt cx="2286000" cy="519120"/>
          </a:xfrm>
        </p:grpSpPr>
        <p:sp>
          <p:nvSpPr>
            <p:cNvPr id="624" name=""/>
            <p:cNvSpPr/>
            <p:nvPr/>
          </p:nvSpPr>
          <p:spPr>
            <a:xfrm>
              <a:off x="4649760" y="47242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640480" y="47242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945040" y="472428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249960" y="47242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335560" y="47242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954680" y="47242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554880" y="47242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Output A Shortest Path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vo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utputPath(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,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j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// does not output first vertex (i) on pa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 == j)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retur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kay[i][j] == 0) 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// no intermediate vertices on pa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ntf("%d  ", j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e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// kay[i][j] is an intermediate vertex on the pa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Path(i, kay[i][j]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Path(kay[i][j], j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ime Complexity Of outputPath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533520" y="18284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umber of vertices on shortest pat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5" name="CLOCK43" descr=""/>
          <p:cNvPicPr/>
          <p:nvPr/>
        </p:nvPicPr>
        <p:blipFill>
          <a:blip r:embed="rId1"/>
          <a:stretch/>
        </p:blipFill>
        <p:spPr>
          <a:xfrm>
            <a:off x="8381880" y="533520"/>
            <a:ext cx="46836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erformanc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609120" y="1981080"/>
            <a:ext cx="807732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 complexity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s only when no edge has a cos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&lt;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ROBOT" descr=""/>
          <p:cNvPicPr/>
          <p:nvPr/>
        </p:nvPicPr>
        <p:blipFill>
          <a:blip r:embed="rId1"/>
          <a:stretch/>
        </p:blipFill>
        <p:spPr>
          <a:xfrm>
            <a:off x="7238880" y="685800"/>
            <a:ext cx="96048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Floyd’s Algorithm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304920" y="11426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 complexity is </a:t>
            </a:r>
            <a:r>
              <a:rPr b="0" lang="en-US" sz="3200" spc="-1" strike="noStrike">
                <a:solidFill>
                  <a:srgbClr val="ff0033"/>
                </a:solidFill>
                <a:latin typeface="Symbol"/>
                <a:ea typeface="Symbol"/>
              </a:rPr>
              <a:t>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n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s so long as there is no cycle whose length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&lt;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re is a cycle whose length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&lt;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some shortest paths aren’t fini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vertex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on a cycle whose length is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-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each time you go around this cycle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ce you get a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h that i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ts shorter than the previous 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er to code, smaller overhea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cision Sequenc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decide the highest intermediate vertex (i.e., largest vertex number) on the shortest path from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shortest path i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i, 2, 6, 3, 8, 5, 7, 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irst decision is that vertex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8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n intermediate vertex on the shortest path and no intermediate vertex is larger tha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decide the highest intermediate vertex on the path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so 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905120" y="1012680"/>
            <a:ext cx="5715000" cy="1091160"/>
            <a:chOff x="1905120" y="1012680"/>
            <a:chExt cx="5715000" cy="1091160"/>
          </a:xfrm>
        </p:grpSpPr>
        <p:sp>
          <p:nvSpPr>
            <p:cNvPr id="156" name=""/>
            <p:cNvSpPr/>
            <p:nvPr/>
          </p:nvSpPr>
          <p:spPr>
            <a:xfrm>
              <a:off x="7397640" y="1301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987560" y="1301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654440" y="1301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209680" y="1371600"/>
              <a:ext cx="2473560" cy="568440"/>
            </a:xfrm>
            <a:custGeom>
              <a:avLst/>
              <a:gdLst/>
              <a:ahLst/>
              <a:rect l="l" t="t" r="r" b="b"/>
              <a:pathLst>
                <a:path w="1558" h="358">
                  <a:moveTo>
                    <a:pt x="0" y="0"/>
                  </a:moveTo>
                  <a:lnTo>
                    <a:pt x="94" y="14"/>
                  </a:lnTo>
                  <a:lnTo>
                    <a:pt x="208" y="14"/>
                  </a:lnTo>
                  <a:lnTo>
                    <a:pt x="323" y="25"/>
                  </a:lnTo>
                  <a:lnTo>
                    <a:pt x="346" y="59"/>
                  </a:lnTo>
                  <a:lnTo>
                    <a:pt x="437" y="71"/>
                  </a:lnTo>
                  <a:lnTo>
                    <a:pt x="471" y="48"/>
                  </a:lnTo>
                  <a:lnTo>
                    <a:pt x="540" y="37"/>
                  </a:lnTo>
                  <a:lnTo>
                    <a:pt x="574" y="25"/>
                  </a:lnTo>
                  <a:lnTo>
                    <a:pt x="608" y="37"/>
                  </a:lnTo>
                  <a:lnTo>
                    <a:pt x="677" y="105"/>
                  </a:lnTo>
                  <a:lnTo>
                    <a:pt x="745" y="197"/>
                  </a:lnTo>
                  <a:lnTo>
                    <a:pt x="791" y="208"/>
                  </a:lnTo>
                  <a:lnTo>
                    <a:pt x="825" y="197"/>
                  </a:lnTo>
                  <a:lnTo>
                    <a:pt x="860" y="162"/>
                  </a:lnTo>
                  <a:lnTo>
                    <a:pt x="894" y="139"/>
                  </a:lnTo>
                  <a:lnTo>
                    <a:pt x="917" y="94"/>
                  </a:lnTo>
                  <a:lnTo>
                    <a:pt x="928" y="59"/>
                  </a:lnTo>
                  <a:lnTo>
                    <a:pt x="928" y="25"/>
                  </a:lnTo>
                  <a:lnTo>
                    <a:pt x="951" y="59"/>
                  </a:lnTo>
                  <a:lnTo>
                    <a:pt x="985" y="71"/>
                  </a:lnTo>
                  <a:lnTo>
                    <a:pt x="985" y="105"/>
                  </a:lnTo>
                  <a:lnTo>
                    <a:pt x="1020" y="82"/>
                  </a:lnTo>
                  <a:lnTo>
                    <a:pt x="1031" y="48"/>
                  </a:lnTo>
                  <a:lnTo>
                    <a:pt x="1065" y="48"/>
                  </a:lnTo>
                  <a:lnTo>
                    <a:pt x="1100" y="37"/>
                  </a:lnTo>
                  <a:lnTo>
                    <a:pt x="1134" y="71"/>
                  </a:lnTo>
                  <a:lnTo>
                    <a:pt x="1157" y="105"/>
                  </a:lnTo>
                  <a:lnTo>
                    <a:pt x="1157" y="139"/>
                  </a:lnTo>
                  <a:lnTo>
                    <a:pt x="1157" y="174"/>
                  </a:lnTo>
                  <a:lnTo>
                    <a:pt x="1157" y="208"/>
                  </a:lnTo>
                  <a:lnTo>
                    <a:pt x="1157" y="242"/>
                  </a:lnTo>
                  <a:lnTo>
                    <a:pt x="1157" y="277"/>
                  </a:lnTo>
                  <a:lnTo>
                    <a:pt x="1202" y="254"/>
                  </a:lnTo>
                  <a:lnTo>
                    <a:pt x="1248" y="242"/>
                  </a:lnTo>
                  <a:lnTo>
                    <a:pt x="1362" y="277"/>
                  </a:lnTo>
                  <a:lnTo>
                    <a:pt x="1431" y="345"/>
                  </a:lnTo>
                  <a:lnTo>
                    <a:pt x="1465" y="357"/>
                  </a:lnTo>
                  <a:lnTo>
                    <a:pt x="1488" y="322"/>
                  </a:lnTo>
                  <a:lnTo>
                    <a:pt x="1488" y="277"/>
                  </a:lnTo>
                  <a:lnTo>
                    <a:pt x="1488" y="231"/>
                  </a:lnTo>
                  <a:lnTo>
                    <a:pt x="1488" y="197"/>
                  </a:lnTo>
                  <a:lnTo>
                    <a:pt x="1477" y="162"/>
                  </a:lnTo>
                  <a:lnTo>
                    <a:pt x="1465" y="117"/>
                  </a:lnTo>
                  <a:lnTo>
                    <a:pt x="1442" y="48"/>
                  </a:lnTo>
                  <a:lnTo>
                    <a:pt x="1431" y="14"/>
                  </a:lnTo>
                  <a:lnTo>
                    <a:pt x="1477" y="2"/>
                  </a:lnTo>
                  <a:lnTo>
                    <a:pt x="1511" y="2"/>
                  </a:lnTo>
                  <a:lnTo>
                    <a:pt x="1557" y="2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876920" y="1012680"/>
              <a:ext cx="2525760" cy="581040"/>
            </a:xfrm>
            <a:custGeom>
              <a:avLst/>
              <a:gdLst/>
              <a:ahLst/>
              <a:rect l="l" t="t" r="r" b="b"/>
              <a:pathLst>
                <a:path w="1591" h="366">
                  <a:moveTo>
                    <a:pt x="0" y="274"/>
                  </a:moveTo>
                  <a:lnTo>
                    <a:pt x="48" y="251"/>
                  </a:lnTo>
                  <a:lnTo>
                    <a:pt x="82" y="240"/>
                  </a:lnTo>
                  <a:lnTo>
                    <a:pt x="105" y="205"/>
                  </a:lnTo>
                  <a:lnTo>
                    <a:pt x="139" y="194"/>
                  </a:lnTo>
                  <a:lnTo>
                    <a:pt x="174" y="194"/>
                  </a:lnTo>
                  <a:lnTo>
                    <a:pt x="185" y="228"/>
                  </a:lnTo>
                  <a:lnTo>
                    <a:pt x="219" y="251"/>
                  </a:lnTo>
                  <a:lnTo>
                    <a:pt x="242" y="285"/>
                  </a:lnTo>
                  <a:lnTo>
                    <a:pt x="265" y="320"/>
                  </a:lnTo>
                  <a:lnTo>
                    <a:pt x="299" y="320"/>
                  </a:lnTo>
                  <a:lnTo>
                    <a:pt x="334" y="297"/>
                  </a:lnTo>
                  <a:lnTo>
                    <a:pt x="368" y="285"/>
                  </a:lnTo>
                  <a:lnTo>
                    <a:pt x="436" y="274"/>
                  </a:lnTo>
                  <a:lnTo>
                    <a:pt x="528" y="251"/>
                  </a:lnTo>
                  <a:lnTo>
                    <a:pt x="551" y="217"/>
                  </a:lnTo>
                  <a:lnTo>
                    <a:pt x="551" y="251"/>
                  </a:lnTo>
                  <a:lnTo>
                    <a:pt x="562" y="217"/>
                  </a:lnTo>
                  <a:lnTo>
                    <a:pt x="585" y="171"/>
                  </a:lnTo>
                  <a:lnTo>
                    <a:pt x="596" y="125"/>
                  </a:lnTo>
                  <a:lnTo>
                    <a:pt x="596" y="80"/>
                  </a:lnTo>
                  <a:lnTo>
                    <a:pt x="619" y="34"/>
                  </a:lnTo>
                  <a:lnTo>
                    <a:pt x="642" y="68"/>
                  </a:lnTo>
                  <a:lnTo>
                    <a:pt x="653" y="137"/>
                  </a:lnTo>
                  <a:lnTo>
                    <a:pt x="676" y="228"/>
                  </a:lnTo>
                  <a:lnTo>
                    <a:pt x="688" y="263"/>
                  </a:lnTo>
                  <a:lnTo>
                    <a:pt x="722" y="274"/>
                  </a:lnTo>
                  <a:lnTo>
                    <a:pt x="791" y="274"/>
                  </a:lnTo>
                  <a:lnTo>
                    <a:pt x="859" y="251"/>
                  </a:lnTo>
                  <a:lnTo>
                    <a:pt x="950" y="217"/>
                  </a:lnTo>
                  <a:lnTo>
                    <a:pt x="973" y="263"/>
                  </a:lnTo>
                  <a:lnTo>
                    <a:pt x="985" y="354"/>
                  </a:lnTo>
                  <a:lnTo>
                    <a:pt x="1019" y="365"/>
                  </a:lnTo>
                  <a:lnTo>
                    <a:pt x="1065" y="331"/>
                  </a:lnTo>
                  <a:lnTo>
                    <a:pt x="1076" y="251"/>
                  </a:lnTo>
                  <a:lnTo>
                    <a:pt x="1076" y="183"/>
                  </a:lnTo>
                  <a:lnTo>
                    <a:pt x="1088" y="137"/>
                  </a:lnTo>
                  <a:lnTo>
                    <a:pt x="1088" y="171"/>
                  </a:lnTo>
                  <a:lnTo>
                    <a:pt x="1088" y="68"/>
                  </a:lnTo>
                  <a:lnTo>
                    <a:pt x="1088" y="0"/>
                  </a:lnTo>
                  <a:lnTo>
                    <a:pt x="1122" y="11"/>
                  </a:lnTo>
                  <a:lnTo>
                    <a:pt x="1145" y="80"/>
                  </a:lnTo>
                  <a:lnTo>
                    <a:pt x="1179" y="114"/>
                  </a:lnTo>
                  <a:lnTo>
                    <a:pt x="1202" y="148"/>
                  </a:lnTo>
                  <a:lnTo>
                    <a:pt x="1225" y="240"/>
                  </a:lnTo>
                  <a:lnTo>
                    <a:pt x="1270" y="240"/>
                  </a:lnTo>
                  <a:lnTo>
                    <a:pt x="1305" y="194"/>
                  </a:lnTo>
                  <a:lnTo>
                    <a:pt x="1305" y="160"/>
                  </a:lnTo>
                  <a:lnTo>
                    <a:pt x="1316" y="114"/>
                  </a:lnTo>
                  <a:lnTo>
                    <a:pt x="1327" y="148"/>
                  </a:lnTo>
                  <a:lnTo>
                    <a:pt x="1327" y="217"/>
                  </a:lnTo>
                  <a:lnTo>
                    <a:pt x="1350" y="285"/>
                  </a:lnTo>
                  <a:lnTo>
                    <a:pt x="1350" y="331"/>
                  </a:lnTo>
                  <a:lnTo>
                    <a:pt x="1385" y="320"/>
                  </a:lnTo>
                  <a:lnTo>
                    <a:pt x="1430" y="297"/>
                  </a:lnTo>
                  <a:lnTo>
                    <a:pt x="1442" y="263"/>
                  </a:lnTo>
                  <a:lnTo>
                    <a:pt x="1442" y="228"/>
                  </a:lnTo>
                  <a:lnTo>
                    <a:pt x="1476" y="217"/>
                  </a:lnTo>
                  <a:lnTo>
                    <a:pt x="1510" y="240"/>
                  </a:lnTo>
                  <a:lnTo>
                    <a:pt x="1545" y="240"/>
                  </a:lnTo>
                  <a:lnTo>
                    <a:pt x="1590" y="251"/>
                  </a:lnTo>
                </a:path>
              </a:pathLst>
            </a:custGeom>
            <a:noFill/>
            <a:ln cap="rnd" w="5076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905120" y="152388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391520" y="14479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j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 Tri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240" y="228600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i,j,k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the problem of finding the shortest path from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t has no intermediate vertex larger tha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i,j,n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the problem of finding the shortest path from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with no restrictions on intermediate vertice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1905120" y="1012680"/>
            <a:ext cx="5715000" cy="1091160"/>
            <a:chOff x="1905120" y="1012680"/>
            <a:chExt cx="5715000" cy="1091160"/>
          </a:xfrm>
        </p:grpSpPr>
        <p:sp>
          <p:nvSpPr>
            <p:cNvPr id="166" name=""/>
            <p:cNvSpPr/>
            <p:nvPr/>
          </p:nvSpPr>
          <p:spPr>
            <a:xfrm>
              <a:off x="7397640" y="1301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987560" y="1301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654440" y="1301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09680" y="1371600"/>
              <a:ext cx="2473560" cy="568440"/>
            </a:xfrm>
            <a:custGeom>
              <a:avLst/>
              <a:gdLst/>
              <a:ahLst/>
              <a:rect l="l" t="t" r="r" b="b"/>
              <a:pathLst>
                <a:path w="1558" h="358">
                  <a:moveTo>
                    <a:pt x="0" y="0"/>
                  </a:moveTo>
                  <a:lnTo>
                    <a:pt x="94" y="14"/>
                  </a:lnTo>
                  <a:lnTo>
                    <a:pt x="208" y="14"/>
                  </a:lnTo>
                  <a:lnTo>
                    <a:pt x="323" y="25"/>
                  </a:lnTo>
                  <a:lnTo>
                    <a:pt x="346" y="59"/>
                  </a:lnTo>
                  <a:lnTo>
                    <a:pt x="437" y="71"/>
                  </a:lnTo>
                  <a:lnTo>
                    <a:pt x="471" y="48"/>
                  </a:lnTo>
                  <a:lnTo>
                    <a:pt x="540" y="37"/>
                  </a:lnTo>
                  <a:lnTo>
                    <a:pt x="574" y="25"/>
                  </a:lnTo>
                  <a:lnTo>
                    <a:pt x="608" y="37"/>
                  </a:lnTo>
                  <a:lnTo>
                    <a:pt x="677" y="105"/>
                  </a:lnTo>
                  <a:lnTo>
                    <a:pt x="745" y="197"/>
                  </a:lnTo>
                  <a:lnTo>
                    <a:pt x="791" y="208"/>
                  </a:lnTo>
                  <a:lnTo>
                    <a:pt x="825" y="197"/>
                  </a:lnTo>
                  <a:lnTo>
                    <a:pt x="860" y="162"/>
                  </a:lnTo>
                  <a:lnTo>
                    <a:pt x="894" y="139"/>
                  </a:lnTo>
                  <a:lnTo>
                    <a:pt x="917" y="94"/>
                  </a:lnTo>
                  <a:lnTo>
                    <a:pt x="928" y="59"/>
                  </a:lnTo>
                  <a:lnTo>
                    <a:pt x="928" y="25"/>
                  </a:lnTo>
                  <a:lnTo>
                    <a:pt x="951" y="59"/>
                  </a:lnTo>
                  <a:lnTo>
                    <a:pt x="985" y="71"/>
                  </a:lnTo>
                  <a:lnTo>
                    <a:pt x="985" y="105"/>
                  </a:lnTo>
                  <a:lnTo>
                    <a:pt x="1020" y="82"/>
                  </a:lnTo>
                  <a:lnTo>
                    <a:pt x="1031" y="48"/>
                  </a:lnTo>
                  <a:lnTo>
                    <a:pt x="1065" y="48"/>
                  </a:lnTo>
                  <a:lnTo>
                    <a:pt x="1100" y="37"/>
                  </a:lnTo>
                  <a:lnTo>
                    <a:pt x="1134" y="71"/>
                  </a:lnTo>
                  <a:lnTo>
                    <a:pt x="1157" y="105"/>
                  </a:lnTo>
                  <a:lnTo>
                    <a:pt x="1157" y="139"/>
                  </a:lnTo>
                  <a:lnTo>
                    <a:pt x="1157" y="174"/>
                  </a:lnTo>
                  <a:lnTo>
                    <a:pt x="1157" y="208"/>
                  </a:lnTo>
                  <a:lnTo>
                    <a:pt x="1157" y="242"/>
                  </a:lnTo>
                  <a:lnTo>
                    <a:pt x="1157" y="277"/>
                  </a:lnTo>
                  <a:lnTo>
                    <a:pt x="1202" y="254"/>
                  </a:lnTo>
                  <a:lnTo>
                    <a:pt x="1248" y="242"/>
                  </a:lnTo>
                  <a:lnTo>
                    <a:pt x="1362" y="277"/>
                  </a:lnTo>
                  <a:lnTo>
                    <a:pt x="1431" y="345"/>
                  </a:lnTo>
                  <a:lnTo>
                    <a:pt x="1465" y="357"/>
                  </a:lnTo>
                  <a:lnTo>
                    <a:pt x="1488" y="322"/>
                  </a:lnTo>
                  <a:lnTo>
                    <a:pt x="1488" y="277"/>
                  </a:lnTo>
                  <a:lnTo>
                    <a:pt x="1488" y="231"/>
                  </a:lnTo>
                  <a:lnTo>
                    <a:pt x="1488" y="197"/>
                  </a:lnTo>
                  <a:lnTo>
                    <a:pt x="1477" y="162"/>
                  </a:lnTo>
                  <a:lnTo>
                    <a:pt x="1465" y="117"/>
                  </a:lnTo>
                  <a:lnTo>
                    <a:pt x="1442" y="48"/>
                  </a:lnTo>
                  <a:lnTo>
                    <a:pt x="1431" y="14"/>
                  </a:lnTo>
                  <a:lnTo>
                    <a:pt x="1477" y="2"/>
                  </a:lnTo>
                  <a:lnTo>
                    <a:pt x="1511" y="2"/>
                  </a:lnTo>
                  <a:lnTo>
                    <a:pt x="1557" y="2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76920" y="1012680"/>
              <a:ext cx="2525760" cy="581040"/>
            </a:xfrm>
            <a:custGeom>
              <a:avLst/>
              <a:gdLst/>
              <a:ahLst/>
              <a:rect l="l" t="t" r="r" b="b"/>
              <a:pathLst>
                <a:path w="1591" h="366">
                  <a:moveTo>
                    <a:pt x="0" y="274"/>
                  </a:moveTo>
                  <a:lnTo>
                    <a:pt x="48" y="251"/>
                  </a:lnTo>
                  <a:lnTo>
                    <a:pt x="82" y="240"/>
                  </a:lnTo>
                  <a:lnTo>
                    <a:pt x="105" y="205"/>
                  </a:lnTo>
                  <a:lnTo>
                    <a:pt x="139" y="194"/>
                  </a:lnTo>
                  <a:lnTo>
                    <a:pt x="174" y="194"/>
                  </a:lnTo>
                  <a:lnTo>
                    <a:pt x="185" y="228"/>
                  </a:lnTo>
                  <a:lnTo>
                    <a:pt x="219" y="251"/>
                  </a:lnTo>
                  <a:lnTo>
                    <a:pt x="242" y="285"/>
                  </a:lnTo>
                  <a:lnTo>
                    <a:pt x="265" y="320"/>
                  </a:lnTo>
                  <a:lnTo>
                    <a:pt x="299" y="320"/>
                  </a:lnTo>
                  <a:lnTo>
                    <a:pt x="334" y="297"/>
                  </a:lnTo>
                  <a:lnTo>
                    <a:pt x="368" y="285"/>
                  </a:lnTo>
                  <a:lnTo>
                    <a:pt x="436" y="274"/>
                  </a:lnTo>
                  <a:lnTo>
                    <a:pt x="528" y="251"/>
                  </a:lnTo>
                  <a:lnTo>
                    <a:pt x="551" y="217"/>
                  </a:lnTo>
                  <a:lnTo>
                    <a:pt x="551" y="251"/>
                  </a:lnTo>
                  <a:lnTo>
                    <a:pt x="562" y="217"/>
                  </a:lnTo>
                  <a:lnTo>
                    <a:pt x="585" y="171"/>
                  </a:lnTo>
                  <a:lnTo>
                    <a:pt x="596" y="125"/>
                  </a:lnTo>
                  <a:lnTo>
                    <a:pt x="596" y="80"/>
                  </a:lnTo>
                  <a:lnTo>
                    <a:pt x="619" y="34"/>
                  </a:lnTo>
                  <a:lnTo>
                    <a:pt x="642" y="68"/>
                  </a:lnTo>
                  <a:lnTo>
                    <a:pt x="653" y="137"/>
                  </a:lnTo>
                  <a:lnTo>
                    <a:pt x="676" y="228"/>
                  </a:lnTo>
                  <a:lnTo>
                    <a:pt x="688" y="263"/>
                  </a:lnTo>
                  <a:lnTo>
                    <a:pt x="722" y="274"/>
                  </a:lnTo>
                  <a:lnTo>
                    <a:pt x="791" y="274"/>
                  </a:lnTo>
                  <a:lnTo>
                    <a:pt x="859" y="251"/>
                  </a:lnTo>
                  <a:lnTo>
                    <a:pt x="950" y="217"/>
                  </a:lnTo>
                  <a:lnTo>
                    <a:pt x="973" y="263"/>
                  </a:lnTo>
                  <a:lnTo>
                    <a:pt x="985" y="354"/>
                  </a:lnTo>
                  <a:lnTo>
                    <a:pt x="1019" y="365"/>
                  </a:lnTo>
                  <a:lnTo>
                    <a:pt x="1065" y="331"/>
                  </a:lnTo>
                  <a:lnTo>
                    <a:pt x="1076" y="251"/>
                  </a:lnTo>
                  <a:lnTo>
                    <a:pt x="1076" y="183"/>
                  </a:lnTo>
                  <a:lnTo>
                    <a:pt x="1088" y="137"/>
                  </a:lnTo>
                  <a:lnTo>
                    <a:pt x="1088" y="171"/>
                  </a:lnTo>
                  <a:lnTo>
                    <a:pt x="1088" y="68"/>
                  </a:lnTo>
                  <a:lnTo>
                    <a:pt x="1088" y="0"/>
                  </a:lnTo>
                  <a:lnTo>
                    <a:pt x="1122" y="11"/>
                  </a:lnTo>
                  <a:lnTo>
                    <a:pt x="1145" y="80"/>
                  </a:lnTo>
                  <a:lnTo>
                    <a:pt x="1179" y="114"/>
                  </a:lnTo>
                  <a:lnTo>
                    <a:pt x="1202" y="148"/>
                  </a:lnTo>
                  <a:lnTo>
                    <a:pt x="1225" y="240"/>
                  </a:lnTo>
                  <a:lnTo>
                    <a:pt x="1270" y="240"/>
                  </a:lnTo>
                  <a:lnTo>
                    <a:pt x="1305" y="194"/>
                  </a:lnTo>
                  <a:lnTo>
                    <a:pt x="1305" y="160"/>
                  </a:lnTo>
                  <a:lnTo>
                    <a:pt x="1316" y="114"/>
                  </a:lnTo>
                  <a:lnTo>
                    <a:pt x="1327" y="148"/>
                  </a:lnTo>
                  <a:lnTo>
                    <a:pt x="1327" y="217"/>
                  </a:lnTo>
                  <a:lnTo>
                    <a:pt x="1350" y="285"/>
                  </a:lnTo>
                  <a:lnTo>
                    <a:pt x="1350" y="331"/>
                  </a:lnTo>
                  <a:lnTo>
                    <a:pt x="1385" y="320"/>
                  </a:lnTo>
                  <a:lnTo>
                    <a:pt x="1430" y="297"/>
                  </a:lnTo>
                  <a:lnTo>
                    <a:pt x="1442" y="263"/>
                  </a:lnTo>
                  <a:lnTo>
                    <a:pt x="1442" y="228"/>
                  </a:lnTo>
                  <a:lnTo>
                    <a:pt x="1476" y="217"/>
                  </a:lnTo>
                  <a:lnTo>
                    <a:pt x="1510" y="240"/>
                  </a:lnTo>
                  <a:lnTo>
                    <a:pt x="1545" y="240"/>
                  </a:lnTo>
                  <a:lnTo>
                    <a:pt x="1590" y="251"/>
                  </a:lnTo>
                </a:path>
              </a:pathLst>
            </a:custGeom>
            <a:noFill/>
            <a:ln cap="rnd" w="5076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905120" y="152388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391520" y="14479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j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st Func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240" y="3505320"/>
            <a:ext cx="8915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j,k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the length of a shortest path from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t has no intermediate vertex larger tha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1905120" y="1012680"/>
            <a:ext cx="5715000" cy="1091160"/>
            <a:chOff x="1905120" y="1012680"/>
            <a:chExt cx="5715000" cy="1091160"/>
          </a:xfrm>
        </p:grpSpPr>
        <p:sp>
          <p:nvSpPr>
            <p:cNvPr id="176" name=""/>
            <p:cNvSpPr/>
            <p:nvPr/>
          </p:nvSpPr>
          <p:spPr>
            <a:xfrm>
              <a:off x="7397640" y="1301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987560" y="1301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654440" y="1301760"/>
              <a:ext cx="21600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209680" y="1371600"/>
              <a:ext cx="2473560" cy="568440"/>
            </a:xfrm>
            <a:custGeom>
              <a:avLst/>
              <a:gdLst/>
              <a:ahLst/>
              <a:rect l="l" t="t" r="r" b="b"/>
              <a:pathLst>
                <a:path w="1558" h="358">
                  <a:moveTo>
                    <a:pt x="0" y="0"/>
                  </a:moveTo>
                  <a:lnTo>
                    <a:pt x="94" y="14"/>
                  </a:lnTo>
                  <a:lnTo>
                    <a:pt x="208" y="14"/>
                  </a:lnTo>
                  <a:lnTo>
                    <a:pt x="323" y="25"/>
                  </a:lnTo>
                  <a:lnTo>
                    <a:pt x="346" y="59"/>
                  </a:lnTo>
                  <a:lnTo>
                    <a:pt x="437" y="71"/>
                  </a:lnTo>
                  <a:lnTo>
                    <a:pt x="471" y="48"/>
                  </a:lnTo>
                  <a:lnTo>
                    <a:pt x="540" y="37"/>
                  </a:lnTo>
                  <a:lnTo>
                    <a:pt x="574" y="25"/>
                  </a:lnTo>
                  <a:lnTo>
                    <a:pt x="608" y="37"/>
                  </a:lnTo>
                  <a:lnTo>
                    <a:pt x="677" y="105"/>
                  </a:lnTo>
                  <a:lnTo>
                    <a:pt x="745" y="197"/>
                  </a:lnTo>
                  <a:lnTo>
                    <a:pt x="791" y="208"/>
                  </a:lnTo>
                  <a:lnTo>
                    <a:pt x="825" y="197"/>
                  </a:lnTo>
                  <a:lnTo>
                    <a:pt x="860" y="162"/>
                  </a:lnTo>
                  <a:lnTo>
                    <a:pt x="894" y="139"/>
                  </a:lnTo>
                  <a:lnTo>
                    <a:pt x="917" y="94"/>
                  </a:lnTo>
                  <a:lnTo>
                    <a:pt x="928" y="59"/>
                  </a:lnTo>
                  <a:lnTo>
                    <a:pt x="928" y="25"/>
                  </a:lnTo>
                  <a:lnTo>
                    <a:pt x="951" y="59"/>
                  </a:lnTo>
                  <a:lnTo>
                    <a:pt x="985" y="71"/>
                  </a:lnTo>
                  <a:lnTo>
                    <a:pt x="985" y="105"/>
                  </a:lnTo>
                  <a:lnTo>
                    <a:pt x="1020" y="82"/>
                  </a:lnTo>
                  <a:lnTo>
                    <a:pt x="1031" y="48"/>
                  </a:lnTo>
                  <a:lnTo>
                    <a:pt x="1065" y="48"/>
                  </a:lnTo>
                  <a:lnTo>
                    <a:pt x="1100" y="37"/>
                  </a:lnTo>
                  <a:lnTo>
                    <a:pt x="1134" y="71"/>
                  </a:lnTo>
                  <a:lnTo>
                    <a:pt x="1157" y="105"/>
                  </a:lnTo>
                  <a:lnTo>
                    <a:pt x="1157" y="139"/>
                  </a:lnTo>
                  <a:lnTo>
                    <a:pt x="1157" y="174"/>
                  </a:lnTo>
                  <a:lnTo>
                    <a:pt x="1157" y="208"/>
                  </a:lnTo>
                  <a:lnTo>
                    <a:pt x="1157" y="242"/>
                  </a:lnTo>
                  <a:lnTo>
                    <a:pt x="1157" y="277"/>
                  </a:lnTo>
                  <a:lnTo>
                    <a:pt x="1202" y="254"/>
                  </a:lnTo>
                  <a:lnTo>
                    <a:pt x="1248" y="242"/>
                  </a:lnTo>
                  <a:lnTo>
                    <a:pt x="1362" y="277"/>
                  </a:lnTo>
                  <a:lnTo>
                    <a:pt x="1431" y="345"/>
                  </a:lnTo>
                  <a:lnTo>
                    <a:pt x="1465" y="357"/>
                  </a:lnTo>
                  <a:lnTo>
                    <a:pt x="1488" y="322"/>
                  </a:lnTo>
                  <a:lnTo>
                    <a:pt x="1488" y="277"/>
                  </a:lnTo>
                  <a:lnTo>
                    <a:pt x="1488" y="231"/>
                  </a:lnTo>
                  <a:lnTo>
                    <a:pt x="1488" y="197"/>
                  </a:lnTo>
                  <a:lnTo>
                    <a:pt x="1477" y="162"/>
                  </a:lnTo>
                  <a:lnTo>
                    <a:pt x="1465" y="117"/>
                  </a:lnTo>
                  <a:lnTo>
                    <a:pt x="1442" y="48"/>
                  </a:lnTo>
                  <a:lnTo>
                    <a:pt x="1431" y="14"/>
                  </a:lnTo>
                  <a:lnTo>
                    <a:pt x="1477" y="2"/>
                  </a:lnTo>
                  <a:lnTo>
                    <a:pt x="1511" y="2"/>
                  </a:lnTo>
                  <a:lnTo>
                    <a:pt x="1557" y="2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876920" y="1012680"/>
              <a:ext cx="2525760" cy="581040"/>
            </a:xfrm>
            <a:custGeom>
              <a:avLst/>
              <a:gdLst/>
              <a:ahLst/>
              <a:rect l="l" t="t" r="r" b="b"/>
              <a:pathLst>
                <a:path w="1591" h="366">
                  <a:moveTo>
                    <a:pt x="0" y="274"/>
                  </a:moveTo>
                  <a:lnTo>
                    <a:pt x="48" y="251"/>
                  </a:lnTo>
                  <a:lnTo>
                    <a:pt x="82" y="240"/>
                  </a:lnTo>
                  <a:lnTo>
                    <a:pt x="105" y="205"/>
                  </a:lnTo>
                  <a:lnTo>
                    <a:pt x="139" y="194"/>
                  </a:lnTo>
                  <a:lnTo>
                    <a:pt x="174" y="194"/>
                  </a:lnTo>
                  <a:lnTo>
                    <a:pt x="185" y="228"/>
                  </a:lnTo>
                  <a:lnTo>
                    <a:pt x="219" y="251"/>
                  </a:lnTo>
                  <a:lnTo>
                    <a:pt x="242" y="285"/>
                  </a:lnTo>
                  <a:lnTo>
                    <a:pt x="265" y="320"/>
                  </a:lnTo>
                  <a:lnTo>
                    <a:pt x="299" y="320"/>
                  </a:lnTo>
                  <a:lnTo>
                    <a:pt x="334" y="297"/>
                  </a:lnTo>
                  <a:lnTo>
                    <a:pt x="368" y="285"/>
                  </a:lnTo>
                  <a:lnTo>
                    <a:pt x="436" y="274"/>
                  </a:lnTo>
                  <a:lnTo>
                    <a:pt x="528" y="251"/>
                  </a:lnTo>
                  <a:lnTo>
                    <a:pt x="551" y="217"/>
                  </a:lnTo>
                  <a:lnTo>
                    <a:pt x="551" y="251"/>
                  </a:lnTo>
                  <a:lnTo>
                    <a:pt x="562" y="217"/>
                  </a:lnTo>
                  <a:lnTo>
                    <a:pt x="585" y="171"/>
                  </a:lnTo>
                  <a:lnTo>
                    <a:pt x="596" y="125"/>
                  </a:lnTo>
                  <a:lnTo>
                    <a:pt x="596" y="80"/>
                  </a:lnTo>
                  <a:lnTo>
                    <a:pt x="619" y="34"/>
                  </a:lnTo>
                  <a:lnTo>
                    <a:pt x="642" y="68"/>
                  </a:lnTo>
                  <a:lnTo>
                    <a:pt x="653" y="137"/>
                  </a:lnTo>
                  <a:lnTo>
                    <a:pt x="676" y="228"/>
                  </a:lnTo>
                  <a:lnTo>
                    <a:pt x="688" y="263"/>
                  </a:lnTo>
                  <a:lnTo>
                    <a:pt x="722" y="274"/>
                  </a:lnTo>
                  <a:lnTo>
                    <a:pt x="791" y="274"/>
                  </a:lnTo>
                  <a:lnTo>
                    <a:pt x="859" y="251"/>
                  </a:lnTo>
                  <a:lnTo>
                    <a:pt x="950" y="217"/>
                  </a:lnTo>
                  <a:lnTo>
                    <a:pt x="973" y="263"/>
                  </a:lnTo>
                  <a:lnTo>
                    <a:pt x="985" y="354"/>
                  </a:lnTo>
                  <a:lnTo>
                    <a:pt x="1019" y="365"/>
                  </a:lnTo>
                  <a:lnTo>
                    <a:pt x="1065" y="331"/>
                  </a:lnTo>
                  <a:lnTo>
                    <a:pt x="1076" y="251"/>
                  </a:lnTo>
                  <a:lnTo>
                    <a:pt x="1076" y="183"/>
                  </a:lnTo>
                  <a:lnTo>
                    <a:pt x="1088" y="137"/>
                  </a:lnTo>
                  <a:lnTo>
                    <a:pt x="1088" y="171"/>
                  </a:lnTo>
                  <a:lnTo>
                    <a:pt x="1088" y="68"/>
                  </a:lnTo>
                  <a:lnTo>
                    <a:pt x="1088" y="0"/>
                  </a:lnTo>
                  <a:lnTo>
                    <a:pt x="1122" y="11"/>
                  </a:lnTo>
                  <a:lnTo>
                    <a:pt x="1145" y="80"/>
                  </a:lnTo>
                  <a:lnTo>
                    <a:pt x="1179" y="114"/>
                  </a:lnTo>
                  <a:lnTo>
                    <a:pt x="1202" y="148"/>
                  </a:lnTo>
                  <a:lnTo>
                    <a:pt x="1225" y="240"/>
                  </a:lnTo>
                  <a:lnTo>
                    <a:pt x="1270" y="240"/>
                  </a:lnTo>
                  <a:lnTo>
                    <a:pt x="1305" y="194"/>
                  </a:lnTo>
                  <a:lnTo>
                    <a:pt x="1305" y="160"/>
                  </a:lnTo>
                  <a:lnTo>
                    <a:pt x="1316" y="114"/>
                  </a:lnTo>
                  <a:lnTo>
                    <a:pt x="1327" y="148"/>
                  </a:lnTo>
                  <a:lnTo>
                    <a:pt x="1327" y="217"/>
                  </a:lnTo>
                  <a:lnTo>
                    <a:pt x="1350" y="285"/>
                  </a:lnTo>
                  <a:lnTo>
                    <a:pt x="1350" y="331"/>
                  </a:lnTo>
                  <a:lnTo>
                    <a:pt x="1385" y="320"/>
                  </a:lnTo>
                  <a:lnTo>
                    <a:pt x="1430" y="297"/>
                  </a:lnTo>
                  <a:lnTo>
                    <a:pt x="1442" y="263"/>
                  </a:lnTo>
                  <a:lnTo>
                    <a:pt x="1442" y="228"/>
                  </a:lnTo>
                  <a:lnTo>
                    <a:pt x="1476" y="217"/>
                  </a:lnTo>
                  <a:lnTo>
                    <a:pt x="1510" y="240"/>
                  </a:lnTo>
                  <a:lnTo>
                    <a:pt x="1545" y="240"/>
                  </a:lnTo>
                  <a:lnTo>
                    <a:pt x="1590" y="251"/>
                  </a:lnTo>
                </a:path>
              </a:pathLst>
            </a:custGeom>
            <a:noFill/>
            <a:ln cap="rnd" w="5076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905120" y="152388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391520" y="14479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j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(i,j,n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838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j,n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 length of a shortest path from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t has no intermediate vertex larger tha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vertex is larger tha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fore,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c(i,j,n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 length of a shortest path from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1143000" y="3824280"/>
            <a:ext cx="7121520" cy="3033720"/>
            <a:chOff x="1143000" y="3824280"/>
            <a:chExt cx="7121520" cy="3033720"/>
          </a:xfrm>
        </p:grpSpPr>
        <p:sp>
          <p:nvSpPr>
            <p:cNvPr id="186" name=""/>
            <p:cNvSpPr/>
            <p:nvPr/>
          </p:nvSpPr>
          <p:spPr>
            <a:xfrm>
              <a:off x="1225440" y="459252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279080" y="457020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25440" y="619272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79080" y="617040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54240" y="459252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107880" y="457020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978280" y="619272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031920" y="617040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578480" y="527832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632120" y="525600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483240" y="428760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536880" y="42656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778880" y="619272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832520" y="617040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447920" y="504324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676520" y="641484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676520" y="4814640"/>
              <a:ext cx="137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600200" y="5043240"/>
              <a:ext cx="152388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1599840" y="5043240"/>
              <a:ext cx="1600200" cy="12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429000" y="4967280"/>
              <a:ext cx="121932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1676520" y="5500080"/>
              <a:ext cx="289548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3352320" y="5729040"/>
              <a:ext cx="129564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429000" y="6414840"/>
              <a:ext cx="434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029200" y="5576760"/>
              <a:ext cx="7621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3505320" y="4509720"/>
              <a:ext cx="29718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858000" y="4662360"/>
              <a:ext cx="1143000" cy="152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057400" y="435744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43000" y="527184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05120" y="496728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819520" y="51958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572000" y="412884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257800" y="519588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962520" y="47386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657600" y="527184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343400" y="572904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981080" y="633888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181480" y="6338880"/>
              <a:ext cx="7621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858000" y="56530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378080" y="3900240"/>
              <a:ext cx="6886440" cy="2363760"/>
            </a:xfrm>
            <a:custGeom>
              <a:avLst/>
              <a:gdLst/>
              <a:ahLst/>
              <a:rect l="l" t="t" r="r" b="b"/>
              <a:pathLst>
                <a:path w="4338" h="1489">
                  <a:moveTo>
                    <a:pt x="4268" y="1488"/>
                  </a:moveTo>
                  <a:lnTo>
                    <a:pt x="4314" y="1449"/>
                  </a:lnTo>
                  <a:lnTo>
                    <a:pt x="4314" y="1403"/>
                  </a:lnTo>
                  <a:lnTo>
                    <a:pt x="4325" y="1347"/>
                  </a:lnTo>
                  <a:lnTo>
                    <a:pt x="4337" y="1301"/>
                  </a:lnTo>
                  <a:lnTo>
                    <a:pt x="4337" y="1256"/>
                  </a:lnTo>
                  <a:lnTo>
                    <a:pt x="4337" y="1200"/>
                  </a:lnTo>
                  <a:lnTo>
                    <a:pt x="4337" y="1154"/>
                  </a:lnTo>
                  <a:lnTo>
                    <a:pt x="4337" y="1086"/>
                  </a:lnTo>
                  <a:lnTo>
                    <a:pt x="4337" y="1018"/>
                  </a:lnTo>
                  <a:lnTo>
                    <a:pt x="4325" y="962"/>
                  </a:lnTo>
                  <a:lnTo>
                    <a:pt x="4303" y="905"/>
                  </a:lnTo>
                  <a:lnTo>
                    <a:pt x="4280" y="849"/>
                  </a:lnTo>
                  <a:lnTo>
                    <a:pt x="4246" y="792"/>
                  </a:lnTo>
                  <a:lnTo>
                    <a:pt x="4212" y="736"/>
                  </a:lnTo>
                  <a:lnTo>
                    <a:pt x="4178" y="690"/>
                  </a:lnTo>
                  <a:lnTo>
                    <a:pt x="4155" y="656"/>
                  </a:lnTo>
                  <a:lnTo>
                    <a:pt x="4121" y="622"/>
                  </a:lnTo>
                  <a:lnTo>
                    <a:pt x="4099" y="588"/>
                  </a:lnTo>
                  <a:lnTo>
                    <a:pt x="4065" y="554"/>
                  </a:lnTo>
                  <a:lnTo>
                    <a:pt x="4020" y="498"/>
                  </a:lnTo>
                  <a:lnTo>
                    <a:pt x="3986" y="475"/>
                  </a:lnTo>
                  <a:lnTo>
                    <a:pt x="3963" y="441"/>
                  </a:lnTo>
                  <a:lnTo>
                    <a:pt x="3929" y="407"/>
                  </a:lnTo>
                  <a:lnTo>
                    <a:pt x="3884" y="351"/>
                  </a:lnTo>
                  <a:lnTo>
                    <a:pt x="3861" y="317"/>
                  </a:lnTo>
                  <a:lnTo>
                    <a:pt x="3827" y="283"/>
                  </a:lnTo>
                  <a:lnTo>
                    <a:pt x="3793" y="249"/>
                  </a:lnTo>
                  <a:lnTo>
                    <a:pt x="3748" y="215"/>
                  </a:lnTo>
                  <a:lnTo>
                    <a:pt x="3714" y="181"/>
                  </a:lnTo>
                  <a:lnTo>
                    <a:pt x="3680" y="170"/>
                  </a:lnTo>
                  <a:lnTo>
                    <a:pt x="3623" y="124"/>
                  </a:lnTo>
                  <a:lnTo>
                    <a:pt x="3578" y="102"/>
                  </a:lnTo>
                  <a:lnTo>
                    <a:pt x="3544" y="90"/>
                  </a:lnTo>
                  <a:lnTo>
                    <a:pt x="3487" y="68"/>
                  </a:lnTo>
                  <a:lnTo>
                    <a:pt x="3442" y="68"/>
                  </a:lnTo>
                  <a:lnTo>
                    <a:pt x="3397" y="56"/>
                  </a:lnTo>
                  <a:lnTo>
                    <a:pt x="3340" y="45"/>
                  </a:lnTo>
                  <a:lnTo>
                    <a:pt x="3283" y="45"/>
                  </a:lnTo>
                  <a:lnTo>
                    <a:pt x="3249" y="45"/>
                  </a:lnTo>
                  <a:lnTo>
                    <a:pt x="3216" y="45"/>
                  </a:lnTo>
                  <a:lnTo>
                    <a:pt x="3148" y="34"/>
                  </a:lnTo>
                  <a:lnTo>
                    <a:pt x="3102" y="34"/>
                  </a:lnTo>
                  <a:lnTo>
                    <a:pt x="3068" y="34"/>
                  </a:lnTo>
                  <a:lnTo>
                    <a:pt x="3034" y="34"/>
                  </a:lnTo>
                  <a:lnTo>
                    <a:pt x="2989" y="34"/>
                  </a:lnTo>
                  <a:lnTo>
                    <a:pt x="2921" y="34"/>
                  </a:lnTo>
                  <a:lnTo>
                    <a:pt x="2887" y="34"/>
                  </a:lnTo>
                  <a:lnTo>
                    <a:pt x="2853" y="34"/>
                  </a:lnTo>
                  <a:lnTo>
                    <a:pt x="2808" y="34"/>
                  </a:lnTo>
                  <a:lnTo>
                    <a:pt x="2763" y="34"/>
                  </a:lnTo>
                  <a:lnTo>
                    <a:pt x="2729" y="34"/>
                  </a:lnTo>
                  <a:lnTo>
                    <a:pt x="2683" y="34"/>
                  </a:lnTo>
                  <a:lnTo>
                    <a:pt x="2638" y="34"/>
                  </a:lnTo>
                  <a:lnTo>
                    <a:pt x="2604" y="22"/>
                  </a:lnTo>
                  <a:lnTo>
                    <a:pt x="2559" y="22"/>
                  </a:lnTo>
                  <a:lnTo>
                    <a:pt x="2525" y="22"/>
                  </a:lnTo>
                  <a:lnTo>
                    <a:pt x="2491" y="22"/>
                  </a:lnTo>
                  <a:lnTo>
                    <a:pt x="2412" y="22"/>
                  </a:lnTo>
                  <a:lnTo>
                    <a:pt x="2344" y="22"/>
                  </a:lnTo>
                  <a:lnTo>
                    <a:pt x="2298" y="22"/>
                  </a:lnTo>
                  <a:lnTo>
                    <a:pt x="2253" y="22"/>
                  </a:lnTo>
                  <a:lnTo>
                    <a:pt x="2196" y="22"/>
                  </a:lnTo>
                  <a:lnTo>
                    <a:pt x="2151" y="22"/>
                  </a:lnTo>
                  <a:lnTo>
                    <a:pt x="2083" y="22"/>
                  </a:lnTo>
                  <a:lnTo>
                    <a:pt x="2015" y="22"/>
                  </a:lnTo>
                  <a:lnTo>
                    <a:pt x="1947" y="22"/>
                  </a:lnTo>
                  <a:lnTo>
                    <a:pt x="1891" y="22"/>
                  </a:lnTo>
                  <a:lnTo>
                    <a:pt x="1834" y="22"/>
                  </a:lnTo>
                  <a:lnTo>
                    <a:pt x="1766" y="22"/>
                  </a:lnTo>
                  <a:lnTo>
                    <a:pt x="1709" y="22"/>
                  </a:lnTo>
                  <a:lnTo>
                    <a:pt x="1653" y="22"/>
                  </a:lnTo>
                  <a:lnTo>
                    <a:pt x="1608" y="22"/>
                  </a:lnTo>
                  <a:lnTo>
                    <a:pt x="1540" y="22"/>
                  </a:lnTo>
                  <a:lnTo>
                    <a:pt x="1483" y="22"/>
                  </a:lnTo>
                  <a:lnTo>
                    <a:pt x="1415" y="22"/>
                  </a:lnTo>
                  <a:lnTo>
                    <a:pt x="1336" y="22"/>
                  </a:lnTo>
                  <a:lnTo>
                    <a:pt x="1257" y="22"/>
                  </a:lnTo>
                  <a:lnTo>
                    <a:pt x="1189" y="22"/>
                  </a:lnTo>
                  <a:lnTo>
                    <a:pt x="1132" y="22"/>
                  </a:lnTo>
                  <a:lnTo>
                    <a:pt x="1064" y="22"/>
                  </a:lnTo>
                  <a:lnTo>
                    <a:pt x="985" y="22"/>
                  </a:lnTo>
                  <a:lnTo>
                    <a:pt x="928" y="22"/>
                  </a:lnTo>
                  <a:lnTo>
                    <a:pt x="883" y="22"/>
                  </a:lnTo>
                  <a:lnTo>
                    <a:pt x="849" y="22"/>
                  </a:lnTo>
                  <a:lnTo>
                    <a:pt x="792" y="22"/>
                  </a:lnTo>
                  <a:lnTo>
                    <a:pt x="713" y="11"/>
                  </a:lnTo>
                  <a:lnTo>
                    <a:pt x="656" y="11"/>
                  </a:lnTo>
                  <a:lnTo>
                    <a:pt x="622" y="11"/>
                  </a:lnTo>
                  <a:lnTo>
                    <a:pt x="577" y="0"/>
                  </a:lnTo>
                  <a:lnTo>
                    <a:pt x="543" y="0"/>
                  </a:lnTo>
                  <a:lnTo>
                    <a:pt x="498" y="0"/>
                  </a:lnTo>
                  <a:lnTo>
                    <a:pt x="441" y="0"/>
                  </a:lnTo>
                  <a:lnTo>
                    <a:pt x="407" y="0"/>
                  </a:lnTo>
                  <a:lnTo>
                    <a:pt x="362" y="11"/>
                  </a:lnTo>
                  <a:lnTo>
                    <a:pt x="317" y="11"/>
                  </a:lnTo>
                  <a:lnTo>
                    <a:pt x="283" y="22"/>
                  </a:lnTo>
                  <a:lnTo>
                    <a:pt x="249" y="34"/>
                  </a:lnTo>
                  <a:lnTo>
                    <a:pt x="203" y="56"/>
                  </a:lnTo>
                  <a:lnTo>
                    <a:pt x="158" y="79"/>
                  </a:lnTo>
                  <a:lnTo>
                    <a:pt x="124" y="102"/>
                  </a:lnTo>
                  <a:lnTo>
                    <a:pt x="90" y="136"/>
                  </a:lnTo>
                  <a:lnTo>
                    <a:pt x="56" y="170"/>
                  </a:lnTo>
                  <a:lnTo>
                    <a:pt x="34" y="215"/>
                  </a:lnTo>
                  <a:lnTo>
                    <a:pt x="11" y="249"/>
                  </a:lnTo>
                  <a:lnTo>
                    <a:pt x="0" y="283"/>
                  </a:lnTo>
                  <a:lnTo>
                    <a:pt x="0" y="328"/>
                  </a:lnTo>
                  <a:lnTo>
                    <a:pt x="0" y="362"/>
                  </a:lnTo>
                  <a:lnTo>
                    <a:pt x="0" y="396"/>
                  </a:lnTo>
                  <a:lnTo>
                    <a:pt x="0" y="43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057400" y="38242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797440" y="565920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851080" y="56372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248520" y="5957640"/>
              <a:ext cx="160020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315200" y="489096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6095880" y="4662360"/>
              <a:ext cx="45720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248520" y="504324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(i,j,0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240" y="837720"/>
            <a:ext cx="89154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(i,j,0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 length of a shortest path from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t has no intermediate vertex larger tha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 vertex is larger tha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fore,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c(i,j,0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length of a single-edge path from vertex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vertex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143000" y="3824280"/>
            <a:ext cx="7121520" cy="3033720"/>
            <a:chOff x="1143000" y="3824280"/>
            <a:chExt cx="7121520" cy="3033720"/>
          </a:xfrm>
        </p:grpSpPr>
        <p:sp>
          <p:nvSpPr>
            <p:cNvPr id="235" name=""/>
            <p:cNvSpPr/>
            <p:nvPr/>
          </p:nvSpPr>
          <p:spPr>
            <a:xfrm>
              <a:off x="1225440" y="459252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279080" y="457020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225440" y="619272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279080" y="617040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054240" y="459252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107880" y="457020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978280" y="619272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031920" y="617040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578480" y="527832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632120" y="525600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483240" y="428760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536880" y="42656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778880" y="619272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832520" y="617040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447920" y="504324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676520" y="641484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676520" y="4814640"/>
              <a:ext cx="137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600200" y="5043240"/>
              <a:ext cx="152388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1599840" y="5043240"/>
              <a:ext cx="1600200" cy="12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29000" y="4967280"/>
              <a:ext cx="121932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1676520" y="5500080"/>
              <a:ext cx="289548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3352320" y="5729040"/>
              <a:ext cx="129564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429000" y="6414840"/>
              <a:ext cx="434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029200" y="5576760"/>
              <a:ext cx="7621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3505320" y="4509720"/>
              <a:ext cx="29718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858000" y="4662360"/>
              <a:ext cx="1143000" cy="152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057400" y="435744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143000" y="527184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05120" y="496728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819520" y="51958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572000" y="412884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257800" y="519588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962520" y="47386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657600" y="527184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343400" y="572904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981080" y="633888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181480" y="6338880"/>
              <a:ext cx="7621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858000" y="56530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378080" y="3900240"/>
              <a:ext cx="6886440" cy="2363760"/>
            </a:xfrm>
            <a:custGeom>
              <a:avLst/>
              <a:gdLst/>
              <a:ahLst/>
              <a:rect l="l" t="t" r="r" b="b"/>
              <a:pathLst>
                <a:path w="4338" h="1489">
                  <a:moveTo>
                    <a:pt x="4268" y="1488"/>
                  </a:moveTo>
                  <a:lnTo>
                    <a:pt x="4314" y="1449"/>
                  </a:lnTo>
                  <a:lnTo>
                    <a:pt x="4314" y="1403"/>
                  </a:lnTo>
                  <a:lnTo>
                    <a:pt x="4325" y="1347"/>
                  </a:lnTo>
                  <a:lnTo>
                    <a:pt x="4337" y="1301"/>
                  </a:lnTo>
                  <a:lnTo>
                    <a:pt x="4337" y="1256"/>
                  </a:lnTo>
                  <a:lnTo>
                    <a:pt x="4337" y="1200"/>
                  </a:lnTo>
                  <a:lnTo>
                    <a:pt x="4337" y="1154"/>
                  </a:lnTo>
                  <a:lnTo>
                    <a:pt x="4337" y="1086"/>
                  </a:lnTo>
                  <a:lnTo>
                    <a:pt x="4337" y="1018"/>
                  </a:lnTo>
                  <a:lnTo>
                    <a:pt x="4325" y="962"/>
                  </a:lnTo>
                  <a:lnTo>
                    <a:pt x="4303" y="905"/>
                  </a:lnTo>
                  <a:lnTo>
                    <a:pt x="4280" y="849"/>
                  </a:lnTo>
                  <a:lnTo>
                    <a:pt x="4246" y="792"/>
                  </a:lnTo>
                  <a:lnTo>
                    <a:pt x="4212" y="736"/>
                  </a:lnTo>
                  <a:lnTo>
                    <a:pt x="4178" y="690"/>
                  </a:lnTo>
                  <a:lnTo>
                    <a:pt x="4155" y="656"/>
                  </a:lnTo>
                  <a:lnTo>
                    <a:pt x="4121" y="622"/>
                  </a:lnTo>
                  <a:lnTo>
                    <a:pt x="4099" y="588"/>
                  </a:lnTo>
                  <a:lnTo>
                    <a:pt x="4065" y="554"/>
                  </a:lnTo>
                  <a:lnTo>
                    <a:pt x="4020" y="498"/>
                  </a:lnTo>
                  <a:lnTo>
                    <a:pt x="3986" y="475"/>
                  </a:lnTo>
                  <a:lnTo>
                    <a:pt x="3963" y="441"/>
                  </a:lnTo>
                  <a:lnTo>
                    <a:pt x="3929" y="407"/>
                  </a:lnTo>
                  <a:lnTo>
                    <a:pt x="3884" y="351"/>
                  </a:lnTo>
                  <a:lnTo>
                    <a:pt x="3861" y="317"/>
                  </a:lnTo>
                  <a:lnTo>
                    <a:pt x="3827" y="283"/>
                  </a:lnTo>
                  <a:lnTo>
                    <a:pt x="3793" y="249"/>
                  </a:lnTo>
                  <a:lnTo>
                    <a:pt x="3748" y="215"/>
                  </a:lnTo>
                  <a:lnTo>
                    <a:pt x="3714" y="181"/>
                  </a:lnTo>
                  <a:lnTo>
                    <a:pt x="3680" y="170"/>
                  </a:lnTo>
                  <a:lnTo>
                    <a:pt x="3623" y="124"/>
                  </a:lnTo>
                  <a:lnTo>
                    <a:pt x="3578" y="102"/>
                  </a:lnTo>
                  <a:lnTo>
                    <a:pt x="3544" y="90"/>
                  </a:lnTo>
                  <a:lnTo>
                    <a:pt x="3487" y="68"/>
                  </a:lnTo>
                  <a:lnTo>
                    <a:pt x="3442" y="68"/>
                  </a:lnTo>
                  <a:lnTo>
                    <a:pt x="3397" y="56"/>
                  </a:lnTo>
                  <a:lnTo>
                    <a:pt x="3340" y="45"/>
                  </a:lnTo>
                  <a:lnTo>
                    <a:pt x="3283" y="45"/>
                  </a:lnTo>
                  <a:lnTo>
                    <a:pt x="3249" y="45"/>
                  </a:lnTo>
                  <a:lnTo>
                    <a:pt x="3216" y="45"/>
                  </a:lnTo>
                  <a:lnTo>
                    <a:pt x="3148" y="34"/>
                  </a:lnTo>
                  <a:lnTo>
                    <a:pt x="3102" y="34"/>
                  </a:lnTo>
                  <a:lnTo>
                    <a:pt x="3068" y="34"/>
                  </a:lnTo>
                  <a:lnTo>
                    <a:pt x="3034" y="34"/>
                  </a:lnTo>
                  <a:lnTo>
                    <a:pt x="2989" y="34"/>
                  </a:lnTo>
                  <a:lnTo>
                    <a:pt x="2921" y="34"/>
                  </a:lnTo>
                  <a:lnTo>
                    <a:pt x="2887" y="34"/>
                  </a:lnTo>
                  <a:lnTo>
                    <a:pt x="2853" y="34"/>
                  </a:lnTo>
                  <a:lnTo>
                    <a:pt x="2808" y="34"/>
                  </a:lnTo>
                  <a:lnTo>
                    <a:pt x="2763" y="34"/>
                  </a:lnTo>
                  <a:lnTo>
                    <a:pt x="2729" y="34"/>
                  </a:lnTo>
                  <a:lnTo>
                    <a:pt x="2683" y="34"/>
                  </a:lnTo>
                  <a:lnTo>
                    <a:pt x="2638" y="34"/>
                  </a:lnTo>
                  <a:lnTo>
                    <a:pt x="2604" y="22"/>
                  </a:lnTo>
                  <a:lnTo>
                    <a:pt x="2559" y="22"/>
                  </a:lnTo>
                  <a:lnTo>
                    <a:pt x="2525" y="22"/>
                  </a:lnTo>
                  <a:lnTo>
                    <a:pt x="2491" y="22"/>
                  </a:lnTo>
                  <a:lnTo>
                    <a:pt x="2412" y="22"/>
                  </a:lnTo>
                  <a:lnTo>
                    <a:pt x="2344" y="22"/>
                  </a:lnTo>
                  <a:lnTo>
                    <a:pt x="2298" y="22"/>
                  </a:lnTo>
                  <a:lnTo>
                    <a:pt x="2253" y="22"/>
                  </a:lnTo>
                  <a:lnTo>
                    <a:pt x="2196" y="22"/>
                  </a:lnTo>
                  <a:lnTo>
                    <a:pt x="2151" y="22"/>
                  </a:lnTo>
                  <a:lnTo>
                    <a:pt x="2083" y="22"/>
                  </a:lnTo>
                  <a:lnTo>
                    <a:pt x="2015" y="22"/>
                  </a:lnTo>
                  <a:lnTo>
                    <a:pt x="1947" y="22"/>
                  </a:lnTo>
                  <a:lnTo>
                    <a:pt x="1891" y="22"/>
                  </a:lnTo>
                  <a:lnTo>
                    <a:pt x="1834" y="22"/>
                  </a:lnTo>
                  <a:lnTo>
                    <a:pt x="1766" y="22"/>
                  </a:lnTo>
                  <a:lnTo>
                    <a:pt x="1709" y="22"/>
                  </a:lnTo>
                  <a:lnTo>
                    <a:pt x="1653" y="22"/>
                  </a:lnTo>
                  <a:lnTo>
                    <a:pt x="1608" y="22"/>
                  </a:lnTo>
                  <a:lnTo>
                    <a:pt x="1540" y="22"/>
                  </a:lnTo>
                  <a:lnTo>
                    <a:pt x="1483" y="22"/>
                  </a:lnTo>
                  <a:lnTo>
                    <a:pt x="1415" y="22"/>
                  </a:lnTo>
                  <a:lnTo>
                    <a:pt x="1336" y="22"/>
                  </a:lnTo>
                  <a:lnTo>
                    <a:pt x="1257" y="22"/>
                  </a:lnTo>
                  <a:lnTo>
                    <a:pt x="1189" y="22"/>
                  </a:lnTo>
                  <a:lnTo>
                    <a:pt x="1132" y="22"/>
                  </a:lnTo>
                  <a:lnTo>
                    <a:pt x="1064" y="22"/>
                  </a:lnTo>
                  <a:lnTo>
                    <a:pt x="985" y="22"/>
                  </a:lnTo>
                  <a:lnTo>
                    <a:pt x="928" y="22"/>
                  </a:lnTo>
                  <a:lnTo>
                    <a:pt x="883" y="22"/>
                  </a:lnTo>
                  <a:lnTo>
                    <a:pt x="849" y="22"/>
                  </a:lnTo>
                  <a:lnTo>
                    <a:pt x="792" y="22"/>
                  </a:lnTo>
                  <a:lnTo>
                    <a:pt x="713" y="11"/>
                  </a:lnTo>
                  <a:lnTo>
                    <a:pt x="656" y="11"/>
                  </a:lnTo>
                  <a:lnTo>
                    <a:pt x="622" y="11"/>
                  </a:lnTo>
                  <a:lnTo>
                    <a:pt x="577" y="0"/>
                  </a:lnTo>
                  <a:lnTo>
                    <a:pt x="543" y="0"/>
                  </a:lnTo>
                  <a:lnTo>
                    <a:pt x="498" y="0"/>
                  </a:lnTo>
                  <a:lnTo>
                    <a:pt x="441" y="0"/>
                  </a:lnTo>
                  <a:lnTo>
                    <a:pt x="407" y="0"/>
                  </a:lnTo>
                  <a:lnTo>
                    <a:pt x="362" y="11"/>
                  </a:lnTo>
                  <a:lnTo>
                    <a:pt x="317" y="11"/>
                  </a:lnTo>
                  <a:lnTo>
                    <a:pt x="283" y="22"/>
                  </a:lnTo>
                  <a:lnTo>
                    <a:pt x="249" y="34"/>
                  </a:lnTo>
                  <a:lnTo>
                    <a:pt x="203" y="56"/>
                  </a:lnTo>
                  <a:lnTo>
                    <a:pt x="158" y="79"/>
                  </a:lnTo>
                  <a:lnTo>
                    <a:pt x="124" y="102"/>
                  </a:lnTo>
                  <a:lnTo>
                    <a:pt x="90" y="136"/>
                  </a:lnTo>
                  <a:lnTo>
                    <a:pt x="56" y="170"/>
                  </a:lnTo>
                  <a:lnTo>
                    <a:pt x="34" y="215"/>
                  </a:lnTo>
                  <a:lnTo>
                    <a:pt x="11" y="249"/>
                  </a:lnTo>
                  <a:lnTo>
                    <a:pt x="0" y="283"/>
                  </a:lnTo>
                  <a:lnTo>
                    <a:pt x="0" y="328"/>
                  </a:lnTo>
                  <a:lnTo>
                    <a:pt x="0" y="362"/>
                  </a:lnTo>
                  <a:lnTo>
                    <a:pt x="0" y="396"/>
                  </a:lnTo>
                  <a:lnTo>
                    <a:pt x="0" y="43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057400" y="38242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797440" y="565920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51080" y="56372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248520" y="5957640"/>
              <a:ext cx="160020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315200" y="489096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6095880" y="4662360"/>
              <a:ext cx="45720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248520" y="504324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sahni</cp:lastModifiedBy>
  <cp:lastPrinted>2000-03-30T20:56:41Z</cp:lastPrinted>
  <dcterms:modified xsi:type="dcterms:W3CDTF">2007-09-12T19:43:39Z</dcterms:modified>
  <cp:revision>191</cp:revision>
  <dc:subject/>
  <dc:title>Data Representation Methods</dc:title>
</cp:coreProperties>
</file>