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arbrake.wav" ContentType="audio/x-wav"/>
  <Override PartName="/ppt/media/explode.wav" ContentType="audio/x-wav"/>
  <Override PartName="/ppt/media/image2.gif" ContentType="image/gif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C903-2A56-4836-A2D8-75C78C875C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d(v,0) is infinity except when v = 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algorithm in text is slightly different. K=1 case is used to initialize d(v,1); for loop goes from 2 to n-1 then instead of 1 to n-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2053-710F-433E-A0EE-BF059F14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A7D-0ACD-4C0A-909A-5FE1817F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53A-5E45-4A4A-AD71-7D52D697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610-878E-4E3A-AB36-5EC51879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F02-C77A-4229-9F20-1038DEC7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AF75-6C82-482C-BB28-4801C42E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C6E-023A-46D6-B10D-382056E1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C64-FD94-4BD2-86FD-9C9352C7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D0B-CA99-47D6-BC53-93B92AD7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B92F-ACAD-4EB1-AC98-B4E5C127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5622-72ED-4F46-9637-3065E065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129-F417-46EF-B4CB-21914010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B792-0EF3-4D21-9440-DC64FE521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-Source All-Destinations Shortest Paths With General We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 weighted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may have negative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ycle whose cos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hortest path from a given source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ach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es of the di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20400" cy="320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1880" y="990720"/>
            <a:ext cx="3207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seudocode To Compute d(*,*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6108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/ initialize d(*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s,0) =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v,0) = infinity, v != 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/ compute d(*,k), 0 &lt; k &lt;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 = 1; k &lt; n; k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v,k) = d(v,k-1), 1 &lt;= v &lt;= 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ach edge (u,v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v,k) = min{d(v,k), d(u,k-1) + cost(u,v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itial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,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djacency matrix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e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djacency last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time is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djacency matrix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time is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e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djacency list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needed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,*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0120" y="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(*,*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v,k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vertex just before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shortest path f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(v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v,0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undef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onstruct shortest pa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800280" y="609480"/>
            <a:ext cx="7651440" cy="3110040"/>
            <a:chOff x="800280" y="609480"/>
            <a:chExt cx="7651440" cy="3110040"/>
          </a:xfrm>
        </p:grpSpPr>
        <p:sp>
          <p:nvSpPr>
            <p:cNvPr id="118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828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364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070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0720" y="2117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11840" y="1149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65480" y="1127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5120" y="16765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8800" y="190512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57600" y="182880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27672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57800" y="2438280"/>
              <a:ext cx="2819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733920" y="137124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6000" y="1219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18288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9907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72200" y="22860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91120" y="16002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181480" y="1523520"/>
              <a:ext cx="1676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48520" y="16765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05320" y="19051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05320" y="21337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0280" y="884160"/>
              <a:ext cx="6094080" cy="2470320"/>
            </a:xfrm>
            <a:custGeom>
              <a:avLst/>
              <a:gdLst/>
              <a:ahLst/>
              <a:rect l="l" t="t" r="r" b="b"/>
              <a:pathLst>
                <a:path w="3839" h="1556">
                  <a:moveTo>
                    <a:pt x="1512" y="1555"/>
                  </a:moveTo>
                  <a:lnTo>
                    <a:pt x="1462" y="1544"/>
                  </a:lnTo>
                  <a:lnTo>
                    <a:pt x="1371" y="1544"/>
                  </a:lnTo>
                  <a:lnTo>
                    <a:pt x="1302" y="1544"/>
                  </a:lnTo>
                  <a:lnTo>
                    <a:pt x="1165" y="1544"/>
                  </a:lnTo>
                  <a:lnTo>
                    <a:pt x="1074" y="1532"/>
                  </a:lnTo>
                  <a:lnTo>
                    <a:pt x="982" y="1521"/>
                  </a:lnTo>
                  <a:lnTo>
                    <a:pt x="914" y="1521"/>
                  </a:lnTo>
                  <a:lnTo>
                    <a:pt x="845" y="1521"/>
                  </a:lnTo>
                  <a:lnTo>
                    <a:pt x="754" y="1521"/>
                  </a:lnTo>
                  <a:lnTo>
                    <a:pt x="719" y="1521"/>
                  </a:lnTo>
                  <a:lnTo>
                    <a:pt x="685" y="1509"/>
                  </a:lnTo>
                  <a:lnTo>
                    <a:pt x="617" y="1486"/>
                  </a:lnTo>
                  <a:lnTo>
                    <a:pt x="525" y="1475"/>
                  </a:lnTo>
                  <a:lnTo>
                    <a:pt x="434" y="1464"/>
                  </a:lnTo>
                  <a:lnTo>
                    <a:pt x="365" y="1452"/>
                  </a:lnTo>
                  <a:lnTo>
                    <a:pt x="320" y="1429"/>
                  </a:lnTo>
                  <a:lnTo>
                    <a:pt x="274" y="1395"/>
                  </a:lnTo>
                  <a:lnTo>
                    <a:pt x="251" y="1326"/>
                  </a:lnTo>
                  <a:lnTo>
                    <a:pt x="217" y="1304"/>
                  </a:lnTo>
                  <a:lnTo>
                    <a:pt x="148" y="1212"/>
                  </a:lnTo>
                  <a:lnTo>
                    <a:pt x="34" y="1075"/>
                  </a:lnTo>
                  <a:lnTo>
                    <a:pt x="22" y="983"/>
                  </a:lnTo>
                  <a:lnTo>
                    <a:pt x="0" y="938"/>
                  </a:lnTo>
                  <a:lnTo>
                    <a:pt x="0" y="892"/>
                  </a:lnTo>
                  <a:lnTo>
                    <a:pt x="0" y="858"/>
                  </a:lnTo>
                  <a:lnTo>
                    <a:pt x="0" y="823"/>
                  </a:lnTo>
                  <a:lnTo>
                    <a:pt x="0" y="778"/>
                  </a:lnTo>
                  <a:lnTo>
                    <a:pt x="0" y="709"/>
                  </a:lnTo>
                  <a:lnTo>
                    <a:pt x="0" y="641"/>
                  </a:lnTo>
                  <a:lnTo>
                    <a:pt x="0" y="595"/>
                  </a:lnTo>
                  <a:lnTo>
                    <a:pt x="0" y="561"/>
                  </a:lnTo>
                  <a:lnTo>
                    <a:pt x="0" y="526"/>
                  </a:lnTo>
                  <a:lnTo>
                    <a:pt x="22" y="458"/>
                  </a:lnTo>
                  <a:lnTo>
                    <a:pt x="34" y="366"/>
                  </a:lnTo>
                  <a:lnTo>
                    <a:pt x="45" y="298"/>
                  </a:lnTo>
                  <a:lnTo>
                    <a:pt x="68" y="252"/>
                  </a:lnTo>
                  <a:lnTo>
                    <a:pt x="102" y="218"/>
                  </a:lnTo>
                  <a:lnTo>
                    <a:pt x="137" y="206"/>
                  </a:lnTo>
                  <a:lnTo>
                    <a:pt x="171" y="195"/>
                  </a:lnTo>
                  <a:lnTo>
                    <a:pt x="205" y="183"/>
                  </a:lnTo>
                  <a:lnTo>
                    <a:pt x="240" y="172"/>
                  </a:lnTo>
                  <a:lnTo>
                    <a:pt x="308" y="172"/>
                  </a:lnTo>
                  <a:lnTo>
                    <a:pt x="400" y="172"/>
                  </a:lnTo>
                  <a:lnTo>
                    <a:pt x="468" y="172"/>
                  </a:lnTo>
                  <a:lnTo>
                    <a:pt x="514" y="160"/>
                  </a:lnTo>
                  <a:lnTo>
                    <a:pt x="548" y="160"/>
                  </a:lnTo>
                  <a:lnTo>
                    <a:pt x="582" y="138"/>
                  </a:lnTo>
                  <a:lnTo>
                    <a:pt x="617" y="115"/>
                  </a:lnTo>
                  <a:lnTo>
                    <a:pt x="651" y="115"/>
                  </a:lnTo>
                  <a:lnTo>
                    <a:pt x="674" y="80"/>
                  </a:lnTo>
                  <a:lnTo>
                    <a:pt x="857" y="103"/>
                  </a:lnTo>
                  <a:lnTo>
                    <a:pt x="994" y="103"/>
                  </a:lnTo>
                  <a:lnTo>
                    <a:pt x="1085" y="103"/>
                  </a:lnTo>
                  <a:lnTo>
                    <a:pt x="1119" y="103"/>
                  </a:lnTo>
                  <a:lnTo>
                    <a:pt x="1199" y="103"/>
                  </a:lnTo>
                  <a:lnTo>
                    <a:pt x="1291" y="103"/>
                  </a:lnTo>
                  <a:lnTo>
                    <a:pt x="1451" y="115"/>
                  </a:lnTo>
                  <a:lnTo>
                    <a:pt x="1485" y="115"/>
                  </a:lnTo>
                  <a:lnTo>
                    <a:pt x="1519" y="115"/>
                  </a:lnTo>
                  <a:lnTo>
                    <a:pt x="1553" y="115"/>
                  </a:lnTo>
                  <a:lnTo>
                    <a:pt x="1588" y="115"/>
                  </a:lnTo>
                  <a:lnTo>
                    <a:pt x="1622" y="115"/>
                  </a:lnTo>
                  <a:lnTo>
                    <a:pt x="1691" y="92"/>
                  </a:lnTo>
                  <a:lnTo>
                    <a:pt x="1759" y="92"/>
                  </a:lnTo>
                  <a:lnTo>
                    <a:pt x="1850" y="92"/>
                  </a:lnTo>
                  <a:lnTo>
                    <a:pt x="1965" y="92"/>
                  </a:lnTo>
                  <a:lnTo>
                    <a:pt x="2102" y="92"/>
                  </a:lnTo>
                  <a:lnTo>
                    <a:pt x="2136" y="92"/>
                  </a:lnTo>
                  <a:lnTo>
                    <a:pt x="2170" y="92"/>
                  </a:lnTo>
                  <a:lnTo>
                    <a:pt x="2205" y="92"/>
                  </a:lnTo>
                  <a:lnTo>
                    <a:pt x="2319" y="80"/>
                  </a:lnTo>
                  <a:lnTo>
                    <a:pt x="2433" y="58"/>
                  </a:lnTo>
                  <a:lnTo>
                    <a:pt x="2502" y="46"/>
                  </a:lnTo>
                  <a:lnTo>
                    <a:pt x="2570" y="35"/>
                  </a:lnTo>
                  <a:lnTo>
                    <a:pt x="2639" y="23"/>
                  </a:lnTo>
                  <a:lnTo>
                    <a:pt x="2684" y="12"/>
                  </a:lnTo>
                  <a:lnTo>
                    <a:pt x="2730" y="0"/>
                  </a:lnTo>
                  <a:lnTo>
                    <a:pt x="2776" y="0"/>
                  </a:lnTo>
                  <a:lnTo>
                    <a:pt x="2867" y="0"/>
                  </a:lnTo>
                  <a:lnTo>
                    <a:pt x="2936" y="0"/>
                  </a:lnTo>
                  <a:lnTo>
                    <a:pt x="2970" y="0"/>
                  </a:lnTo>
                  <a:lnTo>
                    <a:pt x="3016" y="0"/>
                  </a:lnTo>
                  <a:lnTo>
                    <a:pt x="3061" y="0"/>
                  </a:lnTo>
                  <a:lnTo>
                    <a:pt x="3096" y="0"/>
                  </a:lnTo>
                  <a:lnTo>
                    <a:pt x="3164" y="0"/>
                  </a:lnTo>
                  <a:lnTo>
                    <a:pt x="3233" y="0"/>
                  </a:lnTo>
                  <a:lnTo>
                    <a:pt x="3267" y="0"/>
                  </a:lnTo>
                  <a:lnTo>
                    <a:pt x="3301" y="0"/>
                  </a:lnTo>
                  <a:lnTo>
                    <a:pt x="3336" y="0"/>
                  </a:lnTo>
                  <a:lnTo>
                    <a:pt x="3450" y="0"/>
                  </a:lnTo>
                  <a:lnTo>
                    <a:pt x="3484" y="0"/>
                  </a:lnTo>
                  <a:lnTo>
                    <a:pt x="3553" y="12"/>
                  </a:lnTo>
                  <a:lnTo>
                    <a:pt x="3644" y="12"/>
                  </a:lnTo>
                  <a:lnTo>
                    <a:pt x="3736" y="23"/>
                  </a:lnTo>
                  <a:lnTo>
                    <a:pt x="3770" y="35"/>
                  </a:lnTo>
                  <a:lnTo>
                    <a:pt x="3804" y="69"/>
                  </a:lnTo>
                  <a:lnTo>
                    <a:pt x="3816" y="103"/>
                  </a:lnTo>
                  <a:lnTo>
                    <a:pt x="3838" y="1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62320" y="6094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10080" y="3200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vertex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454040" y="1432080"/>
            <a:ext cx="444600" cy="466560"/>
            <a:chOff x="1454040" y="1432080"/>
            <a:chExt cx="444600" cy="466560"/>
          </a:xfrm>
        </p:grpSpPr>
        <p:sp>
          <p:nvSpPr>
            <p:cNvPr id="150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00280" y="609480"/>
            <a:ext cx="7651440" cy="3110040"/>
            <a:chOff x="800280" y="609480"/>
            <a:chExt cx="7651440" cy="3110040"/>
          </a:xfrm>
        </p:grpSpPr>
        <p:sp>
          <p:nvSpPr>
            <p:cNvPr id="154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828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364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070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60720" y="2117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11840" y="1149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65480" y="1127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05120" y="16765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28800" y="190512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57600" y="182880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327672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57800" y="2438280"/>
              <a:ext cx="2819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733920" y="137124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6000" y="1219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33720" y="18288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00600" y="9907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72200" y="22860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91120" y="16002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5181480" y="1523520"/>
              <a:ext cx="1676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16765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05320" y="19051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05320" y="21337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0280" y="884160"/>
              <a:ext cx="6094080" cy="2470320"/>
            </a:xfrm>
            <a:custGeom>
              <a:avLst/>
              <a:gdLst/>
              <a:ahLst/>
              <a:rect l="l" t="t" r="r" b="b"/>
              <a:pathLst>
                <a:path w="3839" h="1556">
                  <a:moveTo>
                    <a:pt x="1512" y="1555"/>
                  </a:moveTo>
                  <a:lnTo>
                    <a:pt x="1462" y="1544"/>
                  </a:lnTo>
                  <a:lnTo>
                    <a:pt x="1371" y="1544"/>
                  </a:lnTo>
                  <a:lnTo>
                    <a:pt x="1302" y="1544"/>
                  </a:lnTo>
                  <a:lnTo>
                    <a:pt x="1165" y="1544"/>
                  </a:lnTo>
                  <a:lnTo>
                    <a:pt x="1074" y="1532"/>
                  </a:lnTo>
                  <a:lnTo>
                    <a:pt x="982" y="1521"/>
                  </a:lnTo>
                  <a:lnTo>
                    <a:pt x="914" y="1521"/>
                  </a:lnTo>
                  <a:lnTo>
                    <a:pt x="845" y="1521"/>
                  </a:lnTo>
                  <a:lnTo>
                    <a:pt x="754" y="1521"/>
                  </a:lnTo>
                  <a:lnTo>
                    <a:pt x="719" y="1521"/>
                  </a:lnTo>
                  <a:lnTo>
                    <a:pt x="685" y="1509"/>
                  </a:lnTo>
                  <a:lnTo>
                    <a:pt x="617" y="1486"/>
                  </a:lnTo>
                  <a:lnTo>
                    <a:pt x="525" y="1475"/>
                  </a:lnTo>
                  <a:lnTo>
                    <a:pt x="434" y="1464"/>
                  </a:lnTo>
                  <a:lnTo>
                    <a:pt x="365" y="1452"/>
                  </a:lnTo>
                  <a:lnTo>
                    <a:pt x="320" y="1429"/>
                  </a:lnTo>
                  <a:lnTo>
                    <a:pt x="274" y="1395"/>
                  </a:lnTo>
                  <a:lnTo>
                    <a:pt x="251" y="1326"/>
                  </a:lnTo>
                  <a:lnTo>
                    <a:pt x="217" y="1304"/>
                  </a:lnTo>
                  <a:lnTo>
                    <a:pt x="148" y="1212"/>
                  </a:lnTo>
                  <a:lnTo>
                    <a:pt x="34" y="1075"/>
                  </a:lnTo>
                  <a:lnTo>
                    <a:pt x="22" y="983"/>
                  </a:lnTo>
                  <a:lnTo>
                    <a:pt x="0" y="938"/>
                  </a:lnTo>
                  <a:lnTo>
                    <a:pt x="0" y="892"/>
                  </a:lnTo>
                  <a:lnTo>
                    <a:pt x="0" y="858"/>
                  </a:lnTo>
                  <a:lnTo>
                    <a:pt x="0" y="823"/>
                  </a:lnTo>
                  <a:lnTo>
                    <a:pt x="0" y="778"/>
                  </a:lnTo>
                  <a:lnTo>
                    <a:pt x="0" y="709"/>
                  </a:lnTo>
                  <a:lnTo>
                    <a:pt x="0" y="641"/>
                  </a:lnTo>
                  <a:lnTo>
                    <a:pt x="0" y="595"/>
                  </a:lnTo>
                  <a:lnTo>
                    <a:pt x="0" y="561"/>
                  </a:lnTo>
                  <a:lnTo>
                    <a:pt x="0" y="526"/>
                  </a:lnTo>
                  <a:lnTo>
                    <a:pt x="22" y="458"/>
                  </a:lnTo>
                  <a:lnTo>
                    <a:pt x="34" y="366"/>
                  </a:lnTo>
                  <a:lnTo>
                    <a:pt x="45" y="298"/>
                  </a:lnTo>
                  <a:lnTo>
                    <a:pt x="68" y="252"/>
                  </a:lnTo>
                  <a:lnTo>
                    <a:pt x="102" y="218"/>
                  </a:lnTo>
                  <a:lnTo>
                    <a:pt x="137" y="206"/>
                  </a:lnTo>
                  <a:lnTo>
                    <a:pt x="171" y="195"/>
                  </a:lnTo>
                  <a:lnTo>
                    <a:pt x="205" y="183"/>
                  </a:lnTo>
                  <a:lnTo>
                    <a:pt x="240" y="172"/>
                  </a:lnTo>
                  <a:lnTo>
                    <a:pt x="308" y="172"/>
                  </a:lnTo>
                  <a:lnTo>
                    <a:pt x="400" y="172"/>
                  </a:lnTo>
                  <a:lnTo>
                    <a:pt x="468" y="172"/>
                  </a:lnTo>
                  <a:lnTo>
                    <a:pt x="514" y="160"/>
                  </a:lnTo>
                  <a:lnTo>
                    <a:pt x="548" y="160"/>
                  </a:lnTo>
                  <a:lnTo>
                    <a:pt x="582" y="138"/>
                  </a:lnTo>
                  <a:lnTo>
                    <a:pt x="617" y="115"/>
                  </a:lnTo>
                  <a:lnTo>
                    <a:pt x="651" y="115"/>
                  </a:lnTo>
                  <a:lnTo>
                    <a:pt x="674" y="80"/>
                  </a:lnTo>
                  <a:lnTo>
                    <a:pt x="857" y="103"/>
                  </a:lnTo>
                  <a:lnTo>
                    <a:pt x="994" y="103"/>
                  </a:lnTo>
                  <a:lnTo>
                    <a:pt x="1085" y="103"/>
                  </a:lnTo>
                  <a:lnTo>
                    <a:pt x="1119" y="103"/>
                  </a:lnTo>
                  <a:lnTo>
                    <a:pt x="1199" y="103"/>
                  </a:lnTo>
                  <a:lnTo>
                    <a:pt x="1291" y="103"/>
                  </a:lnTo>
                  <a:lnTo>
                    <a:pt x="1451" y="115"/>
                  </a:lnTo>
                  <a:lnTo>
                    <a:pt x="1485" y="115"/>
                  </a:lnTo>
                  <a:lnTo>
                    <a:pt x="1519" y="115"/>
                  </a:lnTo>
                  <a:lnTo>
                    <a:pt x="1553" y="115"/>
                  </a:lnTo>
                  <a:lnTo>
                    <a:pt x="1588" y="115"/>
                  </a:lnTo>
                  <a:lnTo>
                    <a:pt x="1622" y="115"/>
                  </a:lnTo>
                  <a:lnTo>
                    <a:pt x="1691" y="92"/>
                  </a:lnTo>
                  <a:lnTo>
                    <a:pt x="1759" y="92"/>
                  </a:lnTo>
                  <a:lnTo>
                    <a:pt x="1850" y="92"/>
                  </a:lnTo>
                  <a:lnTo>
                    <a:pt x="1965" y="92"/>
                  </a:lnTo>
                  <a:lnTo>
                    <a:pt x="2102" y="92"/>
                  </a:lnTo>
                  <a:lnTo>
                    <a:pt x="2136" y="92"/>
                  </a:lnTo>
                  <a:lnTo>
                    <a:pt x="2170" y="92"/>
                  </a:lnTo>
                  <a:lnTo>
                    <a:pt x="2205" y="92"/>
                  </a:lnTo>
                  <a:lnTo>
                    <a:pt x="2319" y="80"/>
                  </a:lnTo>
                  <a:lnTo>
                    <a:pt x="2433" y="58"/>
                  </a:lnTo>
                  <a:lnTo>
                    <a:pt x="2502" y="46"/>
                  </a:lnTo>
                  <a:lnTo>
                    <a:pt x="2570" y="35"/>
                  </a:lnTo>
                  <a:lnTo>
                    <a:pt x="2639" y="23"/>
                  </a:lnTo>
                  <a:lnTo>
                    <a:pt x="2684" y="12"/>
                  </a:lnTo>
                  <a:lnTo>
                    <a:pt x="2730" y="0"/>
                  </a:lnTo>
                  <a:lnTo>
                    <a:pt x="2776" y="0"/>
                  </a:lnTo>
                  <a:lnTo>
                    <a:pt x="2867" y="0"/>
                  </a:lnTo>
                  <a:lnTo>
                    <a:pt x="2936" y="0"/>
                  </a:lnTo>
                  <a:lnTo>
                    <a:pt x="2970" y="0"/>
                  </a:lnTo>
                  <a:lnTo>
                    <a:pt x="3016" y="0"/>
                  </a:lnTo>
                  <a:lnTo>
                    <a:pt x="3061" y="0"/>
                  </a:lnTo>
                  <a:lnTo>
                    <a:pt x="3096" y="0"/>
                  </a:lnTo>
                  <a:lnTo>
                    <a:pt x="3164" y="0"/>
                  </a:lnTo>
                  <a:lnTo>
                    <a:pt x="3233" y="0"/>
                  </a:lnTo>
                  <a:lnTo>
                    <a:pt x="3267" y="0"/>
                  </a:lnTo>
                  <a:lnTo>
                    <a:pt x="3301" y="0"/>
                  </a:lnTo>
                  <a:lnTo>
                    <a:pt x="3336" y="0"/>
                  </a:lnTo>
                  <a:lnTo>
                    <a:pt x="3450" y="0"/>
                  </a:lnTo>
                  <a:lnTo>
                    <a:pt x="3484" y="0"/>
                  </a:lnTo>
                  <a:lnTo>
                    <a:pt x="3553" y="12"/>
                  </a:lnTo>
                  <a:lnTo>
                    <a:pt x="3644" y="12"/>
                  </a:lnTo>
                  <a:lnTo>
                    <a:pt x="3736" y="23"/>
                  </a:lnTo>
                  <a:lnTo>
                    <a:pt x="3770" y="35"/>
                  </a:lnTo>
                  <a:lnTo>
                    <a:pt x="3804" y="69"/>
                  </a:lnTo>
                  <a:lnTo>
                    <a:pt x="3816" y="103"/>
                  </a:lnTo>
                  <a:lnTo>
                    <a:pt x="3838" y="1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6094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3200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454040" y="1432080"/>
            <a:ext cx="444600" cy="466560"/>
            <a:chOff x="1454040" y="1432080"/>
            <a:chExt cx="444600" cy="466560"/>
          </a:xfrm>
        </p:grpSpPr>
        <p:sp>
          <p:nvSpPr>
            <p:cNvPr id="185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2254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826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398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970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627696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6276960"/>
            <a:ext cx="281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v.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39146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49816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53625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542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11440" y="39974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254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826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398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70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542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114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54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826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98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70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542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1144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254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826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98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70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542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11440" y="53690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356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928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00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72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644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21680" y="39974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356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928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500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72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644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216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356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928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500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72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644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21680" y="49118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356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928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500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72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644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21680" y="53690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3505320"/>
            <a:ext cx="53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67280" y="3809880"/>
            <a:ext cx="99072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848720" y="3962520"/>
            <a:ext cx="53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4495680"/>
            <a:ext cx="0" cy="8384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219320" y="3962520"/>
            <a:ext cx="450720" cy="579960"/>
            <a:chOff x="1219320" y="3962520"/>
            <a:chExt cx="450720" cy="579960"/>
          </a:xfrm>
        </p:grpSpPr>
        <p:sp>
          <p:nvSpPr>
            <p:cNvPr id="252" name=""/>
            <p:cNvSpPr/>
            <p:nvPr/>
          </p:nvSpPr>
          <p:spPr>
            <a:xfrm>
              <a:off x="12254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93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682640" y="3886200"/>
            <a:ext cx="444600" cy="579960"/>
            <a:chOff x="1682640" y="3886200"/>
            <a:chExt cx="444600" cy="579960"/>
          </a:xfrm>
        </p:grpSpPr>
        <p:sp>
          <p:nvSpPr>
            <p:cNvPr id="255" name=""/>
            <p:cNvSpPr/>
            <p:nvPr/>
          </p:nvSpPr>
          <p:spPr>
            <a:xfrm>
              <a:off x="16826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52480" y="38862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139840" y="3886200"/>
            <a:ext cx="444600" cy="579960"/>
            <a:chOff x="2139840" y="3886200"/>
            <a:chExt cx="444600" cy="579960"/>
          </a:xfrm>
        </p:grpSpPr>
        <p:sp>
          <p:nvSpPr>
            <p:cNvPr id="258" name=""/>
            <p:cNvSpPr/>
            <p:nvPr/>
          </p:nvSpPr>
          <p:spPr>
            <a:xfrm>
              <a:off x="21398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09680" y="38862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597040" y="3886200"/>
            <a:ext cx="444600" cy="579960"/>
            <a:chOff x="2597040" y="3886200"/>
            <a:chExt cx="444600" cy="579960"/>
          </a:xfrm>
        </p:grpSpPr>
        <p:sp>
          <p:nvSpPr>
            <p:cNvPr id="261" name=""/>
            <p:cNvSpPr/>
            <p:nvPr/>
          </p:nvSpPr>
          <p:spPr>
            <a:xfrm>
              <a:off x="25970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66880" y="38862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054240" y="3886200"/>
            <a:ext cx="444600" cy="579960"/>
            <a:chOff x="3054240" y="3886200"/>
            <a:chExt cx="444600" cy="579960"/>
          </a:xfrm>
        </p:grpSpPr>
        <p:sp>
          <p:nvSpPr>
            <p:cNvPr id="264" name=""/>
            <p:cNvSpPr/>
            <p:nvPr/>
          </p:nvSpPr>
          <p:spPr>
            <a:xfrm>
              <a:off x="30542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24080" y="38862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511440" y="3886200"/>
            <a:ext cx="444600" cy="579960"/>
            <a:chOff x="3511440" y="3886200"/>
            <a:chExt cx="444600" cy="579960"/>
          </a:xfrm>
        </p:grpSpPr>
        <p:sp>
          <p:nvSpPr>
            <p:cNvPr id="267" name=""/>
            <p:cNvSpPr/>
            <p:nvPr/>
          </p:nvSpPr>
          <p:spPr>
            <a:xfrm>
              <a:off x="35114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81280" y="38862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035680" y="3886200"/>
            <a:ext cx="444240" cy="579960"/>
            <a:chOff x="5035680" y="3886200"/>
            <a:chExt cx="444240" cy="579960"/>
          </a:xfrm>
        </p:grpSpPr>
        <p:sp>
          <p:nvSpPr>
            <p:cNvPr id="270" name=""/>
            <p:cNvSpPr/>
            <p:nvPr/>
          </p:nvSpPr>
          <p:spPr>
            <a:xfrm>
              <a:off x="50356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055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492880" y="3886200"/>
            <a:ext cx="444240" cy="579960"/>
            <a:chOff x="5492880" y="3886200"/>
            <a:chExt cx="444240" cy="579960"/>
          </a:xfrm>
        </p:grpSpPr>
        <p:sp>
          <p:nvSpPr>
            <p:cNvPr id="273" name=""/>
            <p:cNvSpPr/>
            <p:nvPr/>
          </p:nvSpPr>
          <p:spPr>
            <a:xfrm>
              <a:off x="54928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627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950080" y="3886200"/>
            <a:ext cx="444240" cy="579960"/>
            <a:chOff x="5950080" y="3886200"/>
            <a:chExt cx="444240" cy="579960"/>
          </a:xfrm>
        </p:grpSpPr>
        <p:sp>
          <p:nvSpPr>
            <p:cNvPr id="276" name=""/>
            <p:cNvSpPr/>
            <p:nvPr/>
          </p:nvSpPr>
          <p:spPr>
            <a:xfrm>
              <a:off x="59500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407280" y="3886200"/>
            <a:ext cx="444240" cy="579960"/>
            <a:chOff x="6407280" y="3886200"/>
            <a:chExt cx="444240" cy="579960"/>
          </a:xfrm>
        </p:grpSpPr>
        <p:sp>
          <p:nvSpPr>
            <p:cNvPr id="279" name=""/>
            <p:cNvSpPr/>
            <p:nvPr/>
          </p:nvSpPr>
          <p:spPr>
            <a:xfrm>
              <a:off x="64072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771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864480" y="3886200"/>
            <a:ext cx="444240" cy="579960"/>
            <a:chOff x="6864480" y="3886200"/>
            <a:chExt cx="444240" cy="579960"/>
          </a:xfrm>
        </p:grpSpPr>
        <p:sp>
          <p:nvSpPr>
            <p:cNvPr id="282" name=""/>
            <p:cNvSpPr/>
            <p:nvPr/>
          </p:nvSpPr>
          <p:spPr>
            <a:xfrm>
              <a:off x="68644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343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321680" y="3886200"/>
            <a:ext cx="444240" cy="579960"/>
            <a:chOff x="7321680" y="3886200"/>
            <a:chExt cx="444240" cy="579960"/>
          </a:xfrm>
        </p:grpSpPr>
        <p:sp>
          <p:nvSpPr>
            <p:cNvPr id="285" name=""/>
            <p:cNvSpPr/>
            <p:nvPr/>
          </p:nvSpPr>
          <p:spPr>
            <a:xfrm>
              <a:off x="73216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915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219320" y="4419720"/>
            <a:ext cx="450720" cy="579960"/>
            <a:chOff x="1219320" y="4419720"/>
            <a:chExt cx="450720" cy="579960"/>
          </a:xfrm>
        </p:grpSpPr>
        <p:sp>
          <p:nvSpPr>
            <p:cNvPr id="288" name=""/>
            <p:cNvSpPr/>
            <p:nvPr/>
          </p:nvSpPr>
          <p:spPr>
            <a:xfrm>
              <a:off x="12254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193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035680" y="4343400"/>
            <a:ext cx="444240" cy="579960"/>
            <a:chOff x="5035680" y="4343400"/>
            <a:chExt cx="444240" cy="579960"/>
          </a:xfrm>
        </p:grpSpPr>
        <p:sp>
          <p:nvSpPr>
            <p:cNvPr id="291" name=""/>
            <p:cNvSpPr/>
            <p:nvPr/>
          </p:nvSpPr>
          <p:spPr>
            <a:xfrm>
              <a:off x="50356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05520" y="43434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676520" y="4419720"/>
            <a:ext cx="450720" cy="579960"/>
            <a:chOff x="1676520" y="4419720"/>
            <a:chExt cx="450720" cy="579960"/>
          </a:xfrm>
        </p:grpSpPr>
        <p:sp>
          <p:nvSpPr>
            <p:cNvPr id="294" name=""/>
            <p:cNvSpPr/>
            <p:nvPr/>
          </p:nvSpPr>
          <p:spPr>
            <a:xfrm>
              <a:off x="16826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765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486400" y="4419720"/>
            <a:ext cx="450720" cy="579960"/>
            <a:chOff x="5486400" y="4419720"/>
            <a:chExt cx="450720" cy="579960"/>
          </a:xfrm>
        </p:grpSpPr>
        <p:sp>
          <p:nvSpPr>
            <p:cNvPr id="297" name=""/>
            <p:cNvSpPr/>
            <p:nvPr/>
          </p:nvSpPr>
          <p:spPr>
            <a:xfrm>
              <a:off x="54928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4864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139840" y="4343400"/>
            <a:ext cx="444600" cy="579960"/>
            <a:chOff x="2139840" y="4343400"/>
            <a:chExt cx="444600" cy="579960"/>
          </a:xfrm>
        </p:grpSpPr>
        <p:sp>
          <p:nvSpPr>
            <p:cNvPr id="300" name=""/>
            <p:cNvSpPr/>
            <p:nvPr/>
          </p:nvSpPr>
          <p:spPr>
            <a:xfrm>
              <a:off x="21398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09680" y="43434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950080" y="4343400"/>
            <a:ext cx="444240" cy="579960"/>
            <a:chOff x="5950080" y="4343400"/>
            <a:chExt cx="444240" cy="579960"/>
          </a:xfrm>
        </p:grpSpPr>
        <p:sp>
          <p:nvSpPr>
            <p:cNvPr id="303" name=""/>
            <p:cNvSpPr/>
            <p:nvPr/>
          </p:nvSpPr>
          <p:spPr>
            <a:xfrm>
              <a:off x="59500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9920" y="43434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590920" y="4419720"/>
            <a:ext cx="450720" cy="579960"/>
            <a:chOff x="2590920" y="4419720"/>
            <a:chExt cx="450720" cy="579960"/>
          </a:xfrm>
        </p:grpSpPr>
        <p:sp>
          <p:nvSpPr>
            <p:cNvPr id="306" name=""/>
            <p:cNvSpPr/>
            <p:nvPr/>
          </p:nvSpPr>
          <p:spPr>
            <a:xfrm>
              <a:off x="25970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909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400800" y="4419720"/>
            <a:ext cx="450720" cy="579960"/>
            <a:chOff x="6400800" y="4419720"/>
            <a:chExt cx="450720" cy="579960"/>
          </a:xfrm>
        </p:grpSpPr>
        <p:sp>
          <p:nvSpPr>
            <p:cNvPr id="309" name=""/>
            <p:cNvSpPr/>
            <p:nvPr/>
          </p:nvSpPr>
          <p:spPr>
            <a:xfrm>
              <a:off x="64072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054240" y="4343400"/>
            <a:ext cx="444600" cy="579960"/>
            <a:chOff x="3054240" y="4343400"/>
            <a:chExt cx="444600" cy="579960"/>
          </a:xfrm>
        </p:grpSpPr>
        <p:sp>
          <p:nvSpPr>
            <p:cNvPr id="312" name=""/>
            <p:cNvSpPr/>
            <p:nvPr/>
          </p:nvSpPr>
          <p:spPr>
            <a:xfrm>
              <a:off x="30542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24080" y="43434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64480" y="4343400"/>
            <a:ext cx="444240" cy="579960"/>
            <a:chOff x="6864480" y="4343400"/>
            <a:chExt cx="444240" cy="579960"/>
          </a:xfrm>
        </p:grpSpPr>
        <p:sp>
          <p:nvSpPr>
            <p:cNvPr id="315" name=""/>
            <p:cNvSpPr/>
            <p:nvPr/>
          </p:nvSpPr>
          <p:spPr>
            <a:xfrm>
              <a:off x="68644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34320" y="43434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11440" y="4343400"/>
            <a:ext cx="444600" cy="579960"/>
            <a:chOff x="3511440" y="4343400"/>
            <a:chExt cx="444600" cy="579960"/>
          </a:xfrm>
        </p:grpSpPr>
        <p:sp>
          <p:nvSpPr>
            <p:cNvPr id="318" name=""/>
            <p:cNvSpPr/>
            <p:nvPr/>
          </p:nvSpPr>
          <p:spPr>
            <a:xfrm>
              <a:off x="35114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81280" y="4343400"/>
              <a:ext cx="3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321680" y="4343400"/>
            <a:ext cx="444240" cy="579960"/>
            <a:chOff x="7321680" y="4343400"/>
            <a:chExt cx="444240" cy="579960"/>
          </a:xfrm>
        </p:grpSpPr>
        <p:sp>
          <p:nvSpPr>
            <p:cNvPr id="321" name=""/>
            <p:cNvSpPr/>
            <p:nvPr/>
          </p:nvSpPr>
          <p:spPr>
            <a:xfrm>
              <a:off x="73216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91520" y="43434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838080" y="5819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254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826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398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970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542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11440" y="58262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356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928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500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72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644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21680" y="58262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219320" y="4876920"/>
            <a:ext cx="450720" cy="579960"/>
            <a:chOff x="1219320" y="4876920"/>
            <a:chExt cx="450720" cy="579960"/>
          </a:xfrm>
        </p:grpSpPr>
        <p:sp>
          <p:nvSpPr>
            <p:cNvPr id="337" name=""/>
            <p:cNvSpPr/>
            <p:nvPr/>
          </p:nvSpPr>
          <p:spPr>
            <a:xfrm>
              <a:off x="122544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1932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035680" y="4800600"/>
            <a:ext cx="444240" cy="579960"/>
            <a:chOff x="5035680" y="4800600"/>
            <a:chExt cx="444240" cy="579960"/>
          </a:xfrm>
        </p:grpSpPr>
        <p:sp>
          <p:nvSpPr>
            <p:cNvPr id="340" name=""/>
            <p:cNvSpPr/>
            <p:nvPr/>
          </p:nvSpPr>
          <p:spPr>
            <a:xfrm>
              <a:off x="50356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05520" y="48006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676520" y="4876920"/>
            <a:ext cx="450720" cy="579960"/>
            <a:chOff x="1676520" y="4876920"/>
            <a:chExt cx="450720" cy="579960"/>
          </a:xfrm>
        </p:grpSpPr>
        <p:sp>
          <p:nvSpPr>
            <p:cNvPr id="343" name=""/>
            <p:cNvSpPr/>
            <p:nvPr/>
          </p:nvSpPr>
          <p:spPr>
            <a:xfrm>
              <a:off x="168264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7652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486400" y="4876920"/>
            <a:ext cx="450720" cy="579960"/>
            <a:chOff x="5486400" y="4876920"/>
            <a:chExt cx="450720" cy="579960"/>
          </a:xfrm>
        </p:grpSpPr>
        <p:sp>
          <p:nvSpPr>
            <p:cNvPr id="346" name=""/>
            <p:cNvSpPr/>
            <p:nvPr/>
          </p:nvSpPr>
          <p:spPr>
            <a:xfrm>
              <a:off x="54928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864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133720" y="4876920"/>
            <a:ext cx="450720" cy="579960"/>
            <a:chOff x="2133720" y="4876920"/>
            <a:chExt cx="450720" cy="579960"/>
          </a:xfrm>
        </p:grpSpPr>
        <p:sp>
          <p:nvSpPr>
            <p:cNvPr id="349" name=""/>
            <p:cNvSpPr/>
            <p:nvPr/>
          </p:nvSpPr>
          <p:spPr>
            <a:xfrm>
              <a:off x="213984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3372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943600" y="4876920"/>
            <a:ext cx="450720" cy="579960"/>
            <a:chOff x="5943600" y="4876920"/>
            <a:chExt cx="450720" cy="579960"/>
          </a:xfrm>
        </p:grpSpPr>
        <p:sp>
          <p:nvSpPr>
            <p:cNvPr id="352" name=""/>
            <p:cNvSpPr/>
            <p:nvPr/>
          </p:nvSpPr>
          <p:spPr>
            <a:xfrm>
              <a:off x="59500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436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590920" y="4876920"/>
            <a:ext cx="450720" cy="579960"/>
            <a:chOff x="2590920" y="4876920"/>
            <a:chExt cx="450720" cy="579960"/>
          </a:xfrm>
        </p:grpSpPr>
        <p:sp>
          <p:nvSpPr>
            <p:cNvPr id="355" name=""/>
            <p:cNvSpPr/>
            <p:nvPr/>
          </p:nvSpPr>
          <p:spPr>
            <a:xfrm>
              <a:off x="259704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9092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400800" y="4876920"/>
            <a:ext cx="450720" cy="579960"/>
            <a:chOff x="6400800" y="4876920"/>
            <a:chExt cx="450720" cy="579960"/>
          </a:xfrm>
        </p:grpSpPr>
        <p:sp>
          <p:nvSpPr>
            <p:cNvPr id="358" name=""/>
            <p:cNvSpPr/>
            <p:nvPr/>
          </p:nvSpPr>
          <p:spPr>
            <a:xfrm>
              <a:off x="64072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008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971800" y="4876920"/>
            <a:ext cx="685800" cy="579960"/>
            <a:chOff x="2971800" y="4876920"/>
            <a:chExt cx="685800" cy="579960"/>
          </a:xfrm>
        </p:grpSpPr>
        <p:sp>
          <p:nvSpPr>
            <p:cNvPr id="361" name=""/>
            <p:cNvSpPr/>
            <p:nvPr/>
          </p:nvSpPr>
          <p:spPr>
            <a:xfrm>
              <a:off x="305280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71800" y="487692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858000" y="4876920"/>
            <a:ext cx="450720" cy="579960"/>
            <a:chOff x="6858000" y="4876920"/>
            <a:chExt cx="450720" cy="579960"/>
          </a:xfrm>
        </p:grpSpPr>
        <p:sp>
          <p:nvSpPr>
            <p:cNvPr id="364" name=""/>
            <p:cNvSpPr/>
            <p:nvPr/>
          </p:nvSpPr>
          <p:spPr>
            <a:xfrm>
              <a:off x="68644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580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505320" y="4876920"/>
            <a:ext cx="450720" cy="579960"/>
            <a:chOff x="3505320" y="4876920"/>
            <a:chExt cx="450720" cy="579960"/>
          </a:xfrm>
        </p:grpSpPr>
        <p:sp>
          <p:nvSpPr>
            <p:cNvPr id="367" name=""/>
            <p:cNvSpPr/>
            <p:nvPr/>
          </p:nvSpPr>
          <p:spPr>
            <a:xfrm>
              <a:off x="351144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0532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7315200" y="4876920"/>
            <a:ext cx="450720" cy="579960"/>
            <a:chOff x="7315200" y="4876920"/>
            <a:chExt cx="450720" cy="579960"/>
          </a:xfrm>
        </p:grpSpPr>
        <p:sp>
          <p:nvSpPr>
            <p:cNvPr id="370" name=""/>
            <p:cNvSpPr/>
            <p:nvPr/>
          </p:nvSpPr>
          <p:spPr>
            <a:xfrm>
              <a:off x="73216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152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219320" y="5334120"/>
            <a:ext cx="450720" cy="579960"/>
            <a:chOff x="1219320" y="5334120"/>
            <a:chExt cx="450720" cy="579960"/>
          </a:xfrm>
        </p:grpSpPr>
        <p:sp>
          <p:nvSpPr>
            <p:cNvPr id="373" name=""/>
            <p:cNvSpPr/>
            <p:nvPr/>
          </p:nvSpPr>
          <p:spPr>
            <a:xfrm>
              <a:off x="122544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1932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035680" y="5257800"/>
            <a:ext cx="444240" cy="579960"/>
            <a:chOff x="5035680" y="5257800"/>
            <a:chExt cx="444240" cy="579960"/>
          </a:xfrm>
        </p:grpSpPr>
        <p:sp>
          <p:nvSpPr>
            <p:cNvPr id="376" name=""/>
            <p:cNvSpPr/>
            <p:nvPr/>
          </p:nvSpPr>
          <p:spPr>
            <a:xfrm>
              <a:off x="50356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05520" y="52578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676520" y="5334120"/>
            <a:ext cx="450720" cy="579960"/>
            <a:chOff x="1676520" y="5334120"/>
            <a:chExt cx="450720" cy="579960"/>
          </a:xfrm>
        </p:grpSpPr>
        <p:sp>
          <p:nvSpPr>
            <p:cNvPr id="379" name=""/>
            <p:cNvSpPr/>
            <p:nvPr/>
          </p:nvSpPr>
          <p:spPr>
            <a:xfrm>
              <a:off x="168264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7652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486400" y="5334120"/>
            <a:ext cx="450720" cy="579960"/>
            <a:chOff x="5486400" y="5334120"/>
            <a:chExt cx="450720" cy="579960"/>
          </a:xfrm>
        </p:grpSpPr>
        <p:sp>
          <p:nvSpPr>
            <p:cNvPr id="382" name=""/>
            <p:cNvSpPr/>
            <p:nvPr/>
          </p:nvSpPr>
          <p:spPr>
            <a:xfrm>
              <a:off x="54928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133720" y="5334120"/>
            <a:ext cx="450720" cy="579960"/>
            <a:chOff x="2133720" y="5334120"/>
            <a:chExt cx="450720" cy="579960"/>
          </a:xfrm>
        </p:grpSpPr>
        <p:sp>
          <p:nvSpPr>
            <p:cNvPr id="385" name=""/>
            <p:cNvSpPr/>
            <p:nvPr/>
          </p:nvSpPr>
          <p:spPr>
            <a:xfrm>
              <a:off x="213984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3372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943600" y="5334120"/>
            <a:ext cx="450720" cy="579960"/>
            <a:chOff x="5943600" y="5334120"/>
            <a:chExt cx="450720" cy="579960"/>
          </a:xfrm>
        </p:grpSpPr>
        <p:sp>
          <p:nvSpPr>
            <p:cNvPr id="388" name=""/>
            <p:cNvSpPr/>
            <p:nvPr/>
          </p:nvSpPr>
          <p:spPr>
            <a:xfrm>
              <a:off x="59500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590920" y="5334120"/>
            <a:ext cx="450720" cy="579960"/>
            <a:chOff x="2590920" y="5334120"/>
            <a:chExt cx="450720" cy="579960"/>
          </a:xfrm>
        </p:grpSpPr>
        <p:sp>
          <p:nvSpPr>
            <p:cNvPr id="391" name=""/>
            <p:cNvSpPr/>
            <p:nvPr/>
          </p:nvSpPr>
          <p:spPr>
            <a:xfrm>
              <a:off x="259704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9092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400800" y="5334120"/>
            <a:ext cx="450720" cy="579960"/>
            <a:chOff x="6400800" y="5334120"/>
            <a:chExt cx="450720" cy="579960"/>
          </a:xfrm>
        </p:grpSpPr>
        <p:sp>
          <p:nvSpPr>
            <p:cNvPr id="394" name=""/>
            <p:cNvSpPr/>
            <p:nvPr/>
          </p:nvSpPr>
          <p:spPr>
            <a:xfrm>
              <a:off x="64072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0080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971800" y="5334120"/>
            <a:ext cx="685800" cy="579960"/>
            <a:chOff x="2971800" y="5334120"/>
            <a:chExt cx="685800" cy="579960"/>
          </a:xfrm>
        </p:grpSpPr>
        <p:sp>
          <p:nvSpPr>
            <p:cNvPr id="397" name=""/>
            <p:cNvSpPr/>
            <p:nvPr/>
          </p:nvSpPr>
          <p:spPr>
            <a:xfrm>
              <a:off x="305280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71800" y="533412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858000" y="5334120"/>
            <a:ext cx="450720" cy="579960"/>
            <a:chOff x="6858000" y="5334120"/>
            <a:chExt cx="450720" cy="579960"/>
          </a:xfrm>
        </p:grpSpPr>
        <p:sp>
          <p:nvSpPr>
            <p:cNvPr id="400" name=""/>
            <p:cNvSpPr/>
            <p:nvPr/>
          </p:nvSpPr>
          <p:spPr>
            <a:xfrm>
              <a:off x="68644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5800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3505320" y="5334120"/>
            <a:ext cx="450720" cy="579960"/>
            <a:chOff x="3505320" y="5334120"/>
            <a:chExt cx="450720" cy="579960"/>
          </a:xfrm>
        </p:grpSpPr>
        <p:sp>
          <p:nvSpPr>
            <p:cNvPr id="403" name=""/>
            <p:cNvSpPr/>
            <p:nvPr/>
          </p:nvSpPr>
          <p:spPr>
            <a:xfrm>
              <a:off x="3511440" y="53690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0532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7315200" y="5334120"/>
            <a:ext cx="450720" cy="579960"/>
            <a:chOff x="7315200" y="5334120"/>
            <a:chExt cx="450720" cy="579960"/>
          </a:xfrm>
        </p:grpSpPr>
        <p:sp>
          <p:nvSpPr>
            <p:cNvPr id="406" name=""/>
            <p:cNvSpPr/>
            <p:nvPr/>
          </p:nvSpPr>
          <p:spPr>
            <a:xfrm>
              <a:off x="7321680" y="53690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15200" y="53341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219320" y="5791320"/>
            <a:ext cx="450720" cy="579960"/>
            <a:chOff x="1219320" y="5791320"/>
            <a:chExt cx="450720" cy="579960"/>
          </a:xfrm>
        </p:grpSpPr>
        <p:sp>
          <p:nvSpPr>
            <p:cNvPr id="409" name=""/>
            <p:cNvSpPr/>
            <p:nvPr/>
          </p:nvSpPr>
          <p:spPr>
            <a:xfrm>
              <a:off x="122544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1932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035680" y="5715000"/>
            <a:ext cx="444240" cy="579960"/>
            <a:chOff x="5035680" y="5715000"/>
            <a:chExt cx="444240" cy="579960"/>
          </a:xfrm>
        </p:grpSpPr>
        <p:sp>
          <p:nvSpPr>
            <p:cNvPr id="412" name=""/>
            <p:cNvSpPr/>
            <p:nvPr/>
          </p:nvSpPr>
          <p:spPr>
            <a:xfrm>
              <a:off x="50356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05520" y="57150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676520" y="5791320"/>
            <a:ext cx="450720" cy="579960"/>
            <a:chOff x="1676520" y="5791320"/>
            <a:chExt cx="450720" cy="579960"/>
          </a:xfrm>
        </p:grpSpPr>
        <p:sp>
          <p:nvSpPr>
            <p:cNvPr id="415" name=""/>
            <p:cNvSpPr/>
            <p:nvPr/>
          </p:nvSpPr>
          <p:spPr>
            <a:xfrm>
              <a:off x="168264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86400" y="5791320"/>
            <a:ext cx="450720" cy="579960"/>
            <a:chOff x="5486400" y="5791320"/>
            <a:chExt cx="450720" cy="579960"/>
          </a:xfrm>
        </p:grpSpPr>
        <p:sp>
          <p:nvSpPr>
            <p:cNvPr id="418" name=""/>
            <p:cNvSpPr/>
            <p:nvPr/>
          </p:nvSpPr>
          <p:spPr>
            <a:xfrm>
              <a:off x="54928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133720" y="5791320"/>
            <a:ext cx="450720" cy="579960"/>
            <a:chOff x="2133720" y="5791320"/>
            <a:chExt cx="450720" cy="579960"/>
          </a:xfrm>
        </p:grpSpPr>
        <p:sp>
          <p:nvSpPr>
            <p:cNvPr id="421" name=""/>
            <p:cNvSpPr/>
            <p:nvPr/>
          </p:nvSpPr>
          <p:spPr>
            <a:xfrm>
              <a:off x="213984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3372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943600" y="5791320"/>
            <a:ext cx="450720" cy="579960"/>
            <a:chOff x="5943600" y="5791320"/>
            <a:chExt cx="450720" cy="579960"/>
          </a:xfrm>
        </p:grpSpPr>
        <p:sp>
          <p:nvSpPr>
            <p:cNvPr id="424" name=""/>
            <p:cNvSpPr/>
            <p:nvPr/>
          </p:nvSpPr>
          <p:spPr>
            <a:xfrm>
              <a:off x="59500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94360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590920" y="5791320"/>
            <a:ext cx="450720" cy="579960"/>
            <a:chOff x="2590920" y="5791320"/>
            <a:chExt cx="450720" cy="579960"/>
          </a:xfrm>
        </p:grpSpPr>
        <p:sp>
          <p:nvSpPr>
            <p:cNvPr id="427" name=""/>
            <p:cNvSpPr/>
            <p:nvPr/>
          </p:nvSpPr>
          <p:spPr>
            <a:xfrm>
              <a:off x="259704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9092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400800" y="5791320"/>
            <a:ext cx="450720" cy="579960"/>
            <a:chOff x="6400800" y="5791320"/>
            <a:chExt cx="450720" cy="579960"/>
          </a:xfrm>
        </p:grpSpPr>
        <p:sp>
          <p:nvSpPr>
            <p:cNvPr id="430" name=""/>
            <p:cNvSpPr/>
            <p:nvPr/>
          </p:nvSpPr>
          <p:spPr>
            <a:xfrm>
              <a:off x="64072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971800" y="5791320"/>
            <a:ext cx="685800" cy="579960"/>
            <a:chOff x="2971800" y="5791320"/>
            <a:chExt cx="685800" cy="579960"/>
          </a:xfrm>
        </p:grpSpPr>
        <p:sp>
          <p:nvSpPr>
            <p:cNvPr id="433" name=""/>
            <p:cNvSpPr/>
            <p:nvPr/>
          </p:nvSpPr>
          <p:spPr>
            <a:xfrm>
              <a:off x="305280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71800" y="5791320"/>
              <a:ext cx="685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858000" y="5791320"/>
            <a:ext cx="450720" cy="579960"/>
            <a:chOff x="6858000" y="5791320"/>
            <a:chExt cx="450720" cy="579960"/>
          </a:xfrm>
        </p:grpSpPr>
        <p:sp>
          <p:nvSpPr>
            <p:cNvPr id="436" name=""/>
            <p:cNvSpPr/>
            <p:nvPr/>
          </p:nvSpPr>
          <p:spPr>
            <a:xfrm>
              <a:off x="68644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5800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505320" y="5791320"/>
            <a:ext cx="450720" cy="579960"/>
            <a:chOff x="3505320" y="5791320"/>
            <a:chExt cx="450720" cy="579960"/>
          </a:xfrm>
        </p:grpSpPr>
        <p:sp>
          <p:nvSpPr>
            <p:cNvPr id="439" name=""/>
            <p:cNvSpPr/>
            <p:nvPr/>
          </p:nvSpPr>
          <p:spPr>
            <a:xfrm>
              <a:off x="3511440" y="58262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0532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315200" y="5791320"/>
            <a:ext cx="450720" cy="579960"/>
            <a:chOff x="7315200" y="5791320"/>
            <a:chExt cx="450720" cy="579960"/>
          </a:xfrm>
        </p:grpSpPr>
        <p:sp>
          <p:nvSpPr>
            <p:cNvPr id="442" name=""/>
            <p:cNvSpPr/>
            <p:nvPr/>
          </p:nvSpPr>
          <p:spPr>
            <a:xfrm>
              <a:off x="7321680" y="58262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913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00280" y="609480"/>
            <a:ext cx="7651440" cy="3110040"/>
            <a:chOff x="800280" y="609480"/>
            <a:chExt cx="7651440" cy="3110040"/>
          </a:xfrm>
        </p:grpSpPr>
        <p:sp>
          <p:nvSpPr>
            <p:cNvPr id="446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8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364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070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60720" y="2117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11840" y="1149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765480" y="1127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05120" y="16765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1523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57600" y="1828800"/>
              <a:ext cx="12193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57600" y="327672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57800" y="2438280"/>
              <a:ext cx="2819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3733920" y="1371240"/>
              <a:ext cx="297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86000" y="12193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33720" y="18288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00600" y="9907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172200" y="22860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91120" y="16002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5181480" y="1523520"/>
              <a:ext cx="1676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48520" y="16765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05320" y="19051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05320" y="21337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0280" y="884160"/>
              <a:ext cx="6094080" cy="2470320"/>
            </a:xfrm>
            <a:custGeom>
              <a:avLst/>
              <a:gdLst/>
              <a:ahLst/>
              <a:rect l="l" t="t" r="r" b="b"/>
              <a:pathLst>
                <a:path w="3839" h="1556">
                  <a:moveTo>
                    <a:pt x="1512" y="1555"/>
                  </a:moveTo>
                  <a:lnTo>
                    <a:pt x="1462" y="1544"/>
                  </a:lnTo>
                  <a:lnTo>
                    <a:pt x="1371" y="1544"/>
                  </a:lnTo>
                  <a:lnTo>
                    <a:pt x="1302" y="1544"/>
                  </a:lnTo>
                  <a:lnTo>
                    <a:pt x="1165" y="1544"/>
                  </a:lnTo>
                  <a:lnTo>
                    <a:pt x="1074" y="1532"/>
                  </a:lnTo>
                  <a:lnTo>
                    <a:pt x="982" y="1521"/>
                  </a:lnTo>
                  <a:lnTo>
                    <a:pt x="914" y="1521"/>
                  </a:lnTo>
                  <a:lnTo>
                    <a:pt x="845" y="1521"/>
                  </a:lnTo>
                  <a:lnTo>
                    <a:pt x="754" y="1521"/>
                  </a:lnTo>
                  <a:lnTo>
                    <a:pt x="719" y="1521"/>
                  </a:lnTo>
                  <a:lnTo>
                    <a:pt x="685" y="1509"/>
                  </a:lnTo>
                  <a:lnTo>
                    <a:pt x="617" y="1486"/>
                  </a:lnTo>
                  <a:lnTo>
                    <a:pt x="525" y="1475"/>
                  </a:lnTo>
                  <a:lnTo>
                    <a:pt x="434" y="1464"/>
                  </a:lnTo>
                  <a:lnTo>
                    <a:pt x="365" y="1452"/>
                  </a:lnTo>
                  <a:lnTo>
                    <a:pt x="320" y="1429"/>
                  </a:lnTo>
                  <a:lnTo>
                    <a:pt x="274" y="1395"/>
                  </a:lnTo>
                  <a:lnTo>
                    <a:pt x="251" y="1326"/>
                  </a:lnTo>
                  <a:lnTo>
                    <a:pt x="217" y="1304"/>
                  </a:lnTo>
                  <a:lnTo>
                    <a:pt x="148" y="1212"/>
                  </a:lnTo>
                  <a:lnTo>
                    <a:pt x="34" y="1075"/>
                  </a:lnTo>
                  <a:lnTo>
                    <a:pt x="22" y="983"/>
                  </a:lnTo>
                  <a:lnTo>
                    <a:pt x="0" y="938"/>
                  </a:lnTo>
                  <a:lnTo>
                    <a:pt x="0" y="892"/>
                  </a:lnTo>
                  <a:lnTo>
                    <a:pt x="0" y="858"/>
                  </a:lnTo>
                  <a:lnTo>
                    <a:pt x="0" y="823"/>
                  </a:lnTo>
                  <a:lnTo>
                    <a:pt x="0" y="778"/>
                  </a:lnTo>
                  <a:lnTo>
                    <a:pt x="0" y="709"/>
                  </a:lnTo>
                  <a:lnTo>
                    <a:pt x="0" y="641"/>
                  </a:lnTo>
                  <a:lnTo>
                    <a:pt x="0" y="595"/>
                  </a:lnTo>
                  <a:lnTo>
                    <a:pt x="0" y="561"/>
                  </a:lnTo>
                  <a:lnTo>
                    <a:pt x="0" y="526"/>
                  </a:lnTo>
                  <a:lnTo>
                    <a:pt x="22" y="458"/>
                  </a:lnTo>
                  <a:lnTo>
                    <a:pt x="34" y="366"/>
                  </a:lnTo>
                  <a:lnTo>
                    <a:pt x="45" y="298"/>
                  </a:lnTo>
                  <a:lnTo>
                    <a:pt x="68" y="252"/>
                  </a:lnTo>
                  <a:lnTo>
                    <a:pt x="102" y="218"/>
                  </a:lnTo>
                  <a:lnTo>
                    <a:pt x="137" y="206"/>
                  </a:lnTo>
                  <a:lnTo>
                    <a:pt x="171" y="195"/>
                  </a:lnTo>
                  <a:lnTo>
                    <a:pt x="205" y="183"/>
                  </a:lnTo>
                  <a:lnTo>
                    <a:pt x="240" y="172"/>
                  </a:lnTo>
                  <a:lnTo>
                    <a:pt x="308" y="172"/>
                  </a:lnTo>
                  <a:lnTo>
                    <a:pt x="400" y="172"/>
                  </a:lnTo>
                  <a:lnTo>
                    <a:pt x="468" y="172"/>
                  </a:lnTo>
                  <a:lnTo>
                    <a:pt x="514" y="160"/>
                  </a:lnTo>
                  <a:lnTo>
                    <a:pt x="548" y="160"/>
                  </a:lnTo>
                  <a:lnTo>
                    <a:pt x="582" y="138"/>
                  </a:lnTo>
                  <a:lnTo>
                    <a:pt x="617" y="115"/>
                  </a:lnTo>
                  <a:lnTo>
                    <a:pt x="651" y="115"/>
                  </a:lnTo>
                  <a:lnTo>
                    <a:pt x="674" y="80"/>
                  </a:lnTo>
                  <a:lnTo>
                    <a:pt x="857" y="103"/>
                  </a:lnTo>
                  <a:lnTo>
                    <a:pt x="994" y="103"/>
                  </a:lnTo>
                  <a:lnTo>
                    <a:pt x="1085" y="103"/>
                  </a:lnTo>
                  <a:lnTo>
                    <a:pt x="1119" y="103"/>
                  </a:lnTo>
                  <a:lnTo>
                    <a:pt x="1199" y="103"/>
                  </a:lnTo>
                  <a:lnTo>
                    <a:pt x="1291" y="103"/>
                  </a:lnTo>
                  <a:lnTo>
                    <a:pt x="1451" y="115"/>
                  </a:lnTo>
                  <a:lnTo>
                    <a:pt x="1485" y="115"/>
                  </a:lnTo>
                  <a:lnTo>
                    <a:pt x="1519" y="115"/>
                  </a:lnTo>
                  <a:lnTo>
                    <a:pt x="1553" y="115"/>
                  </a:lnTo>
                  <a:lnTo>
                    <a:pt x="1588" y="115"/>
                  </a:lnTo>
                  <a:lnTo>
                    <a:pt x="1622" y="115"/>
                  </a:lnTo>
                  <a:lnTo>
                    <a:pt x="1691" y="92"/>
                  </a:lnTo>
                  <a:lnTo>
                    <a:pt x="1759" y="92"/>
                  </a:lnTo>
                  <a:lnTo>
                    <a:pt x="1850" y="92"/>
                  </a:lnTo>
                  <a:lnTo>
                    <a:pt x="1965" y="92"/>
                  </a:lnTo>
                  <a:lnTo>
                    <a:pt x="2102" y="92"/>
                  </a:lnTo>
                  <a:lnTo>
                    <a:pt x="2136" y="92"/>
                  </a:lnTo>
                  <a:lnTo>
                    <a:pt x="2170" y="92"/>
                  </a:lnTo>
                  <a:lnTo>
                    <a:pt x="2205" y="92"/>
                  </a:lnTo>
                  <a:lnTo>
                    <a:pt x="2319" y="80"/>
                  </a:lnTo>
                  <a:lnTo>
                    <a:pt x="2433" y="58"/>
                  </a:lnTo>
                  <a:lnTo>
                    <a:pt x="2502" y="46"/>
                  </a:lnTo>
                  <a:lnTo>
                    <a:pt x="2570" y="35"/>
                  </a:lnTo>
                  <a:lnTo>
                    <a:pt x="2639" y="23"/>
                  </a:lnTo>
                  <a:lnTo>
                    <a:pt x="2684" y="12"/>
                  </a:lnTo>
                  <a:lnTo>
                    <a:pt x="2730" y="0"/>
                  </a:lnTo>
                  <a:lnTo>
                    <a:pt x="2776" y="0"/>
                  </a:lnTo>
                  <a:lnTo>
                    <a:pt x="2867" y="0"/>
                  </a:lnTo>
                  <a:lnTo>
                    <a:pt x="2936" y="0"/>
                  </a:lnTo>
                  <a:lnTo>
                    <a:pt x="2970" y="0"/>
                  </a:lnTo>
                  <a:lnTo>
                    <a:pt x="3016" y="0"/>
                  </a:lnTo>
                  <a:lnTo>
                    <a:pt x="3061" y="0"/>
                  </a:lnTo>
                  <a:lnTo>
                    <a:pt x="3096" y="0"/>
                  </a:lnTo>
                  <a:lnTo>
                    <a:pt x="3164" y="0"/>
                  </a:lnTo>
                  <a:lnTo>
                    <a:pt x="3233" y="0"/>
                  </a:lnTo>
                  <a:lnTo>
                    <a:pt x="3267" y="0"/>
                  </a:lnTo>
                  <a:lnTo>
                    <a:pt x="3301" y="0"/>
                  </a:lnTo>
                  <a:lnTo>
                    <a:pt x="3336" y="0"/>
                  </a:lnTo>
                  <a:lnTo>
                    <a:pt x="3450" y="0"/>
                  </a:lnTo>
                  <a:lnTo>
                    <a:pt x="3484" y="0"/>
                  </a:lnTo>
                  <a:lnTo>
                    <a:pt x="3553" y="12"/>
                  </a:lnTo>
                  <a:lnTo>
                    <a:pt x="3644" y="12"/>
                  </a:lnTo>
                  <a:lnTo>
                    <a:pt x="3736" y="23"/>
                  </a:lnTo>
                  <a:lnTo>
                    <a:pt x="3770" y="35"/>
                  </a:lnTo>
                  <a:lnTo>
                    <a:pt x="3804" y="69"/>
                  </a:lnTo>
                  <a:lnTo>
                    <a:pt x="3816" y="103"/>
                  </a:lnTo>
                  <a:lnTo>
                    <a:pt x="3838" y="1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362320" y="6094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410080" y="320040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454040" y="1432080"/>
            <a:ext cx="444600" cy="466560"/>
            <a:chOff x="1454040" y="1432080"/>
            <a:chExt cx="444600" cy="466560"/>
          </a:xfrm>
        </p:grpSpPr>
        <p:sp>
          <p:nvSpPr>
            <p:cNvPr id="477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1981080" y="627696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91320" y="6276960"/>
            <a:ext cx="281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v.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952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524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096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668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38080" y="39146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380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40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81280" y="35337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254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826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398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970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542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11440" y="44546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0356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928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500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4072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644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321680" y="4454640"/>
            <a:ext cx="44424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0080" y="3505320"/>
            <a:ext cx="53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67280" y="3809880"/>
            <a:ext cx="99072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848720" y="3962520"/>
            <a:ext cx="533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001000" y="4495680"/>
            <a:ext cx="0" cy="8384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19320" y="3962520"/>
            <a:ext cx="450720" cy="579960"/>
            <a:chOff x="1219320" y="3962520"/>
            <a:chExt cx="450720" cy="579960"/>
          </a:xfrm>
        </p:grpSpPr>
        <p:sp>
          <p:nvSpPr>
            <p:cNvPr id="506" name=""/>
            <p:cNvSpPr/>
            <p:nvPr/>
          </p:nvSpPr>
          <p:spPr>
            <a:xfrm>
              <a:off x="12254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193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5035680" y="3886200"/>
            <a:ext cx="444240" cy="579960"/>
            <a:chOff x="5035680" y="3886200"/>
            <a:chExt cx="444240" cy="579960"/>
          </a:xfrm>
        </p:grpSpPr>
        <p:sp>
          <p:nvSpPr>
            <p:cNvPr id="509" name=""/>
            <p:cNvSpPr/>
            <p:nvPr/>
          </p:nvSpPr>
          <p:spPr>
            <a:xfrm>
              <a:off x="50356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05520" y="38862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1676520" y="3962520"/>
            <a:ext cx="450720" cy="579960"/>
            <a:chOff x="1676520" y="3962520"/>
            <a:chExt cx="450720" cy="579960"/>
          </a:xfrm>
        </p:grpSpPr>
        <p:sp>
          <p:nvSpPr>
            <p:cNvPr id="512" name=""/>
            <p:cNvSpPr/>
            <p:nvPr/>
          </p:nvSpPr>
          <p:spPr>
            <a:xfrm>
              <a:off x="16826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486400" y="3962520"/>
            <a:ext cx="450720" cy="579960"/>
            <a:chOff x="5486400" y="3962520"/>
            <a:chExt cx="450720" cy="579960"/>
          </a:xfrm>
        </p:grpSpPr>
        <p:sp>
          <p:nvSpPr>
            <p:cNvPr id="515" name=""/>
            <p:cNvSpPr/>
            <p:nvPr/>
          </p:nvSpPr>
          <p:spPr>
            <a:xfrm>
              <a:off x="54928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8640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133720" y="3962520"/>
            <a:ext cx="450720" cy="579960"/>
            <a:chOff x="2133720" y="3962520"/>
            <a:chExt cx="450720" cy="579960"/>
          </a:xfrm>
        </p:grpSpPr>
        <p:sp>
          <p:nvSpPr>
            <p:cNvPr id="518" name=""/>
            <p:cNvSpPr/>
            <p:nvPr/>
          </p:nvSpPr>
          <p:spPr>
            <a:xfrm>
              <a:off x="21398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337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943600" y="3962520"/>
            <a:ext cx="450720" cy="579960"/>
            <a:chOff x="5943600" y="3962520"/>
            <a:chExt cx="450720" cy="579960"/>
          </a:xfrm>
        </p:grpSpPr>
        <p:sp>
          <p:nvSpPr>
            <p:cNvPr id="521" name=""/>
            <p:cNvSpPr/>
            <p:nvPr/>
          </p:nvSpPr>
          <p:spPr>
            <a:xfrm>
              <a:off x="59500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4360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590920" y="3962520"/>
            <a:ext cx="450720" cy="579960"/>
            <a:chOff x="2590920" y="3962520"/>
            <a:chExt cx="450720" cy="579960"/>
          </a:xfrm>
        </p:grpSpPr>
        <p:sp>
          <p:nvSpPr>
            <p:cNvPr id="524" name=""/>
            <p:cNvSpPr/>
            <p:nvPr/>
          </p:nvSpPr>
          <p:spPr>
            <a:xfrm>
              <a:off x="25970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5909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6400800" y="3962520"/>
            <a:ext cx="450720" cy="579960"/>
            <a:chOff x="6400800" y="3962520"/>
            <a:chExt cx="450720" cy="579960"/>
          </a:xfrm>
        </p:grpSpPr>
        <p:sp>
          <p:nvSpPr>
            <p:cNvPr id="527" name=""/>
            <p:cNvSpPr/>
            <p:nvPr/>
          </p:nvSpPr>
          <p:spPr>
            <a:xfrm>
              <a:off x="64072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0080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052800" y="3997440"/>
            <a:ext cx="444600" cy="444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971800" y="3962520"/>
            <a:ext cx="68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858000" y="3962520"/>
            <a:ext cx="450720" cy="579960"/>
            <a:chOff x="6858000" y="3962520"/>
            <a:chExt cx="450720" cy="579960"/>
          </a:xfrm>
        </p:grpSpPr>
        <p:sp>
          <p:nvSpPr>
            <p:cNvPr id="532" name=""/>
            <p:cNvSpPr/>
            <p:nvPr/>
          </p:nvSpPr>
          <p:spPr>
            <a:xfrm>
              <a:off x="68644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5800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505320" y="3962520"/>
            <a:ext cx="450720" cy="579960"/>
            <a:chOff x="3505320" y="3962520"/>
            <a:chExt cx="450720" cy="579960"/>
          </a:xfrm>
        </p:grpSpPr>
        <p:sp>
          <p:nvSpPr>
            <p:cNvPr id="535" name=""/>
            <p:cNvSpPr/>
            <p:nvPr/>
          </p:nvSpPr>
          <p:spPr>
            <a:xfrm>
              <a:off x="3511440" y="39974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0532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7315200" y="3962520"/>
            <a:ext cx="450720" cy="579960"/>
            <a:chOff x="7315200" y="3962520"/>
            <a:chExt cx="450720" cy="579960"/>
          </a:xfrm>
        </p:grpSpPr>
        <p:sp>
          <p:nvSpPr>
            <p:cNvPr id="538" name=""/>
            <p:cNvSpPr/>
            <p:nvPr/>
          </p:nvSpPr>
          <p:spPr>
            <a:xfrm>
              <a:off x="7321680" y="39974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5200" y="39625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1219320" y="4419720"/>
            <a:ext cx="450720" cy="579960"/>
            <a:chOff x="1219320" y="4419720"/>
            <a:chExt cx="450720" cy="579960"/>
          </a:xfrm>
        </p:grpSpPr>
        <p:sp>
          <p:nvSpPr>
            <p:cNvPr id="541" name=""/>
            <p:cNvSpPr/>
            <p:nvPr/>
          </p:nvSpPr>
          <p:spPr>
            <a:xfrm>
              <a:off x="12254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5035680" y="4343400"/>
            <a:ext cx="444240" cy="579960"/>
            <a:chOff x="5035680" y="4343400"/>
            <a:chExt cx="444240" cy="579960"/>
          </a:xfrm>
        </p:grpSpPr>
        <p:sp>
          <p:nvSpPr>
            <p:cNvPr id="544" name=""/>
            <p:cNvSpPr/>
            <p:nvPr/>
          </p:nvSpPr>
          <p:spPr>
            <a:xfrm>
              <a:off x="50356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05520" y="43434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676520" y="4419720"/>
            <a:ext cx="450720" cy="579960"/>
            <a:chOff x="1676520" y="4419720"/>
            <a:chExt cx="450720" cy="579960"/>
          </a:xfrm>
        </p:grpSpPr>
        <p:sp>
          <p:nvSpPr>
            <p:cNvPr id="547" name=""/>
            <p:cNvSpPr/>
            <p:nvPr/>
          </p:nvSpPr>
          <p:spPr>
            <a:xfrm>
              <a:off x="16826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6765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486400" y="4419720"/>
            <a:ext cx="450720" cy="579960"/>
            <a:chOff x="5486400" y="4419720"/>
            <a:chExt cx="450720" cy="579960"/>
          </a:xfrm>
        </p:grpSpPr>
        <p:sp>
          <p:nvSpPr>
            <p:cNvPr id="550" name=""/>
            <p:cNvSpPr/>
            <p:nvPr/>
          </p:nvSpPr>
          <p:spPr>
            <a:xfrm>
              <a:off x="54928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864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133720" y="4419720"/>
            <a:ext cx="450720" cy="579960"/>
            <a:chOff x="2133720" y="4419720"/>
            <a:chExt cx="450720" cy="579960"/>
          </a:xfrm>
        </p:grpSpPr>
        <p:sp>
          <p:nvSpPr>
            <p:cNvPr id="553" name=""/>
            <p:cNvSpPr/>
            <p:nvPr/>
          </p:nvSpPr>
          <p:spPr>
            <a:xfrm>
              <a:off x="21398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337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5943600" y="4419720"/>
            <a:ext cx="450720" cy="579960"/>
            <a:chOff x="5943600" y="4419720"/>
            <a:chExt cx="450720" cy="579960"/>
          </a:xfrm>
        </p:grpSpPr>
        <p:sp>
          <p:nvSpPr>
            <p:cNvPr id="556" name=""/>
            <p:cNvSpPr/>
            <p:nvPr/>
          </p:nvSpPr>
          <p:spPr>
            <a:xfrm>
              <a:off x="59500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2590920" y="4419720"/>
            <a:ext cx="450720" cy="579960"/>
            <a:chOff x="2590920" y="4419720"/>
            <a:chExt cx="450720" cy="579960"/>
          </a:xfrm>
        </p:grpSpPr>
        <p:sp>
          <p:nvSpPr>
            <p:cNvPr id="559" name=""/>
            <p:cNvSpPr/>
            <p:nvPr/>
          </p:nvSpPr>
          <p:spPr>
            <a:xfrm>
              <a:off x="25970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5909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6400800" y="4419720"/>
            <a:ext cx="450720" cy="579960"/>
            <a:chOff x="6400800" y="4419720"/>
            <a:chExt cx="450720" cy="579960"/>
          </a:xfrm>
        </p:grpSpPr>
        <p:sp>
          <p:nvSpPr>
            <p:cNvPr id="562" name=""/>
            <p:cNvSpPr/>
            <p:nvPr/>
          </p:nvSpPr>
          <p:spPr>
            <a:xfrm>
              <a:off x="64072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008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3048120" y="4419720"/>
            <a:ext cx="450720" cy="579960"/>
            <a:chOff x="3048120" y="4419720"/>
            <a:chExt cx="450720" cy="579960"/>
          </a:xfrm>
        </p:grpSpPr>
        <p:sp>
          <p:nvSpPr>
            <p:cNvPr id="565" name=""/>
            <p:cNvSpPr/>
            <p:nvPr/>
          </p:nvSpPr>
          <p:spPr>
            <a:xfrm>
              <a:off x="30542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481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6858000" y="4419720"/>
            <a:ext cx="450720" cy="579960"/>
            <a:chOff x="6858000" y="4419720"/>
            <a:chExt cx="450720" cy="579960"/>
          </a:xfrm>
        </p:grpSpPr>
        <p:sp>
          <p:nvSpPr>
            <p:cNvPr id="568" name=""/>
            <p:cNvSpPr/>
            <p:nvPr/>
          </p:nvSpPr>
          <p:spPr>
            <a:xfrm>
              <a:off x="68644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580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3505320" y="4419720"/>
            <a:ext cx="450720" cy="579960"/>
            <a:chOff x="3505320" y="4419720"/>
            <a:chExt cx="450720" cy="579960"/>
          </a:xfrm>
        </p:grpSpPr>
        <p:sp>
          <p:nvSpPr>
            <p:cNvPr id="571" name=""/>
            <p:cNvSpPr/>
            <p:nvPr/>
          </p:nvSpPr>
          <p:spPr>
            <a:xfrm>
              <a:off x="3511440" y="44546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0532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315200" y="4419720"/>
            <a:ext cx="450720" cy="579960"/>
            <a:chOff x="7315200" y="4419720"/>
            <a:chExt cx="450720" cy="579960"/>
          </a:xfrm>
        </p:grpSpPr>
        <p:sp>
          <p:nvSpPr>
            <p:cNvPr id="574" name=""/>
            <p:cNvSpPr/>
            <p:nvPr/>
          </p:nvSpPr>
          <p:spPr>
            <a:xfrm>
              <a:off x="7321680" y="44546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5200" y="44197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hortest Path From 1 To 5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00600" y="990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172200" y="22860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5181480" y="15235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248520" y="16765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5053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0532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00280" y="884160"/>
            <a:ext cx="6094080" cy="2470320"/>
          </a:xfrm>
          <a:custGeom>
            <a:avLst/>
            <a:gdLst/>
            <a:ahLst/>
            <a:rect l="l" t="t" r="r" b="b"/>
            <a:pathLst>
              <a:path w="3839" h="1556">
                <a:moveTo>
                  <a:pt x="1512" y="1555"/>
                </a:moveTo>
                <a:lnTo>
                  <a:pt x="1462" y="1544"/>
                </a:lnTo>
                <a:lnTo>
                  <a:pt x="1371" y="1544"/>
                </a:lnTo>
                <a:lnTo>
                  <a:pt x="1302" y="1544"/>
                </a:lnTo>
                <a:lnTo>
                  <a:pt x="1165" y="1544"/>
                </a:lnTo>
                <a:lnTo>
                  <a:pt x="1074" y="1532"/>
                </a:lnTo>
                <a:lnTo>
                  <a:pt x="982" y="1521"/>
                </a:lnTo>
                <a:lnTo>
                  <a:pt x="914" y="1521"/>
                </a:lnTo>
                <a:lnTo>
                  <a:pt x="845" y="1521"/>
                </a:lnTo>
                <a:lnTo>
                  <a:pt x="754" y="1521"/>
                </a:lnTo>
                <a:lnTo>
                  <a:pt x="719" y="1521"/>
                </a:lnTo>
                <a:lnTo>
                  <a:pt x="685" y="1509"/>
                </a:lnTo>
                <a:lnTo>
                  <a:pt x="617" y="1486"/>
                </a:lnTo>
                <a:lnTo>
                  <a:pt x="525" y="1475"/>
                </a:lnTo>
                <a:lnTo>
                  <a:pt x="434" y="1464"/>
                </a:lnTo>
                <a:lnTo>
                  <a:pt x="365" y="1452"/>
                </a:lnTo>
                <a:lnTo>
                  <a:pt x="320" y="1429"/>
                </a:lnTo>
                <a:lnTo>
                  <a:pt x="274" y="1395"/>
                </a:lnTo>
                <a:lnTo>
                  <a:pt x="251" y="1326"/>
                </a:lnTo>
                <a:lnTo>
                  <a:pt x="217" y="1304"/>
                </a:lnTo>
                <a:lnTo>
                  <a:pt x="148" y="1212"/>
                </a:lnTo>
                <a:lnTo>
                  <a:pt x="34" y="1075"/>
                </a:lnTo>
                <a:lnTo>
                  <a:pt x="22" y="983"/>
                </a:lnTo>
                <a:lnTo>
                  <a:pt x="0" y="938"/>
                </a:lnTo>
                <a:lnTo>
                  <a:pt x="0" y="892"/>
                </a:lnTo>
                <a:lnTo>
                  <a:pt x="0" y="858"/>
                </a:lnTo>
                <a:lnTo>
                  <a:pt x="0" y="823"/>
                </a:lnTo>
                <a:lnTo>
                  <a:pt x="0" y="778"/>
                </a:lnTo>
                <a:lnTo>
                  <a:pt x="0" y="709"/>
                </a:lnTo>
                <a:lnTo>
                  <a:pt x="0" y="641"/>
                </a:lnTo>
                <a:lnTo>
                  <a:pt x="0" y="595"/>
                </a:lnTo>
                <a:lnTo>
                  <a:pt x="0" y="561"/>
                </a:lnTo>
                <a:lnTo>
                  <a:pt x="0" y="526"/>
                </a:lnTo>
                <a:lnTo>
                  <a:pt x="22" y="458"/>
                </a:lnTo>
                <a:lnTo>
                  <a:pt x="34" y="366"/>
                </a:lnTo>
                <a:lnTo>
                  <a:pt x="45" y="298"/>
                </a:lnTo>
                <a:lnTo>
                  <a:pt x="68" y="252"/>
                </a:lnTo>
                <a:lnTo>
                  <a:pt x="102" y="218"/>
                </a:lnTo>
                <a:lnTo>
                  <a:pt x="137" y="206"/>
                </a:lnTo>
                <a:lnTo>
                  <a:pt x="171" y="195"/>
                </a:lnTo>
                <a:lnTo>
                  <a:pt x="205" y="183"/>
                </a:lnTo>
                <a:lnTo>
                  <a:pt x="240" y="172"/>
                </a:lnTo>
                <a:lnTo>
                  <a:pt x="308" y="172"/>
                </a:lnTo>
                <a:lnTo>
                  <a:pt x="400" y="172"/>
                </a:lnTo>
                <a:lnTo>
                  <a:pt x="468" y="172"/>
                </a:lnTo>
                <a:lnTo>
                  <a:pt x="514" y="160"/>
                </a:lnTo>
                <a:lnTo>
                  <a:pt x="548" y="160"/>
                </a:lnTo>
                <a:lnTo>
                  <a:pt x="582" y="138"/>
                </a:lnTo>
                <a:lnTo>
                  <a:pt x="617" y="115"/>
                </a:lnTo>
                <a:lnTo>
                  <a:pt x="651" y="115"/>
                </a:lnTo>
                <a:lnTo>
                  <a:pt x="674" y="80"/>
                </a:lnTo>
                <a:lnTo>
                  <a:pt x="857" y="103"/>
                </a:lnTo>
                <a:lnTo>
                  <a:pt x="994" y="103"/>
                </a:lnTo>
                <a:lnTo>
                  <a:pt x="1085" y="103"/>
                </a:lnTo>
                <a:lnTo>
                  <a:pt x="1119" y="103"/>
                </a:lnTo>
                <a:lnTo>
                  <a:pt x="1199" y="103"/>
                </a:lnTo>
                <a:lnTo>
                  <a:pt x="1291" y="103"/>
                </a:lnTo>
                <a:lnTo>
                  <a:pt x="1451" y="115"/>
                </a:lnTo>
                <a:lnTo>
                  <a:pt x="1485" y="115"/>
                </a:lnTo>
                <a:lnTo>
                  <a:pt x="1519" y="115"/>
                </a:lnTo>
                <a:lnTo>
                  <a:pt x="1553" y="115"/>
                </a:lnTo>
                <a:lnTo>
                  <a:pt x="1588" y="115"/>
                </a:lnTo>
                <a:lnTo>
                  <a:pt x="1622" y="115"/>
                </a:lnTo>
                <a:lnTo>
                  <a:pt x="1691" y="92"/>
                </a:lnTo>
                <a:lnTo>
                  <a:pt x="1759" y="92"/>
                </a:lnTo>
                <a:lnTo>
                  <a:pt x="1850" y="92"/>
                </a:lnTo>
                <a:lnTo>
                  <a:pt x="1965" y="92"/>
                </a:lnTo>
                <a:lnTo>
                  <a:pt x="2102" y="92"/>
                </a:lnTo>
                <a:lnTo>
                  <a:pt x="2136" y="92"/>
                </a:lnTo>
                <a:lnTo>
                  <a:pt x="2170" y="92"/>
                </a:lnTo>
                <a:lnTo>
                  <a:pt x="2205" y="92"/>
                </a:lnTo>
                <a:lnTo>
                  <a:pt x="2319" y="80"/>
                </a:lnTo>
                <a:lnTo>
                  <a:pt x="2433" y="58"/>
                </a:lnTo>
                <a:lnTo>
                  <a:pt x="2502" y="46"/>
                </a:lnTo>
                <a:lnTo>
                  <a:pt x="2570" y="35"/>
                </a:lnTo>
                <a:lnTo>
                  <a:pt x="2639" y="23"/>
                </a:lnTo>
                <a:lnTo>
                  <a:pt x="2684" y="12"/>
                </a:lnTo>
                <a:lnTo>
                  <a:pt x="2730" y="0"/>
                </a:lnTo>
                <a:lnTo>
                  <a:pt x="2776" y="0"/>
                </a:lnTo>
                <a:lnTo>
                  <a:pt x="2867" y="0"/>
                </a:lnTo>
                <a:lnTo>
                  <a:pt x="2936" y="0"/>
                </a:lnTo>
                <a:lnTo>
                  <a:pt x="2970" y="0"/>
                </a:lnTo>
                <a:lnTo>
                  <a:pt x="3016" y="0"/>
                </a:lnTo>
                <a:lnTo>
                  <a:pt x="3061" y="0"/>
                </a:lnTo>
                <a:lnTo>
                  <a:pt x="3096" y="0"/>
                </a:lnTo>
                <a:lnTo>
                  <a:pt x="3164" y="0"/>
                </a:lnTo>
                <a:lnTo>
                  <a:pt x="3233" y="0"/>
                </a:lnTo>
                <a:lnTo>
                  <a:pt x="3267" y="0"/>
                </a:lnTo>
                <a:lnTo>
                  <a:pt x="3301" y="0"/>
                </a:lnTo>
                <a:lnTo>
                  <a:pt x="3336" y="0"/>
                </a:lnTo>
                <a:lnTo>
                  <a:pt x="3450" y="0"/>
                </a:lnTo>
                <a:lnTo>
                  <a:pt x="3484" y="0"/>
                </a:lnTo>
                <a:lnTo>
                  <a:pt x="3553" y="12"/>
                </a:lnTo>
                <a:lnTo>
                  <a:pt x="3644" y="12"/>
                </a:lnTo>
                <a:lnTo>
                  <a:pt x="3736" y="23"/>
                </a:lnTo>
                <a:lnTo>
                  <a:pt x="3770" y="35"/>
                </a:lnTo>
                <a:lnTo>
                  <a:pt x="3804" y="69"/>
                </a:lnTo>
                <a:lnTo>
                  <a:pt x="3816" y="103"/>
                </a:lnTo>
                <a:lnTo>
                  <a:pt x="3838" y="1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362320" y="6094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454040" y="1432080"/>
            <a:ext cx="444600" cy="466560"/>
            <a:chOff x="1454040" y="1432080"/>
            <a:chExt cx="444600" cy="466560"/>
          </a:xfrm>
        </p:grpSpPr>
        <p:sp>
          <p:nvSpPr>
            <p:cNvPr id="608" name=""/>
            <p:cNvSpPr/>
            <p:nvPr/>
          </p:nvSpPr>
          <p:spPr>
            <a:xfrm>
              <a:off x="1454040" y="1454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5076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981080" y="551484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562720" y="543888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v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524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096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668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14400" y="49053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240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581280" y="444816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017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7589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161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733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305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7760" y="4911840"/>
            <a:ext cx="444600" cy="4442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035680" y="4800600"/>
            <a:ext cx="444240" cy="579960"/>
            <a:chOff x="5035680" y="4800600"/>
            <a:chExt cx="444240" cy="579960"/>
          </a:xfrm>
        </p:grpSpPr>
        <p:sp>
          <p:nvSpPr>
            <p:cNvPr id="626" name=""/>
            <p:cNvSpPr/>
            <p:nvPr/>
          </p:nvSpPr>
          <p:spPr>
            <a:xfrm>
              <a:off x="50356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05520" y="4800600"/>
              <a:ext cx="304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5486400" y="4876920"/>
            <a:ext cx="450720" cy="579960"/>
            <a:chOff x="5486400" y="4876920"/>
            <a:chExt cx="450720" cy="579960"/>
          </a:xfrm>
        </p:grpSpPr>
        <p:sp>
          <p:nvSpPr>
            <p:cNvPr id="629" name=""/>
            <p:cNvSpPr/>
            <p:nvPr/>
          </p:nvSpPr>
          <p:spPr>
            <a:xfrm>
              <a:off x="54928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4864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5943600" y="4876920"/>
            <a:ext cx="450720" cy="579960"/>
            <a:chOff x="5943600" y="4876920"/>
            <a:chExt cx="450720" cy="579960"/>
          </a:xfrm>
        </p:grpSpPr>
        <p:sp>
          <p:nvSpPr>
            <p:cNvPr id="632" name=""/>
            <p:cNvSpPr/>
            <p:nvPr/>
          </p:nvSpPr>
          <p:spPr>
            <a:xfrm>
              <a:off x="59500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436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400800" y="4876920"/>
            <a:ext cx="450720" cy="579960"/>
            <a:chOff x="6400800" y="4876920"/>
            <a:chExt cx="450720" cy="579960"/>
          </a:xfrm>
        </p:grpSpPr>
        <p:sp>
          <p:nvSpPr>
            <p:cNvPr id="635" name=""/>
            <p:cNvSpPr/>
            <p:nvPr/>
          </p:nvSpPr>
          <p:spPr>
            <a:xfrm>
              <a:off x="64072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008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6858000" y="4876920"/>
            <a:ext cx="450720" cy="579960"/>
            <a:chOff x="6858000" y="4876920"/>
            <a:chExt cx="450720" cy="579960"/>
          </a:xfrm>
        </p:grpSpPr>
        <p:sp>
          <p:nvSpPr>
            <p:cNvPr id="638" name=""/>
            <p:cNvSpPr/>
            <p:nvPr/>
          </p:nvSpPr>
          <p:spPr>
            <a:xfrm>
              <a:off x="68644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8580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7315200" y="4876920"/>
            <a:ext cx="450720" cy="579960"/>
            <a:chOff x="7315200" y="4876920"/>
            <a:chExt cx="450720" cy="579960"/>
          </a:xfrm>
        </p:grpSpPr>
        <p:sp>
          <p:nvSpPr>
            <p:cNvPr id="641" name=""/>
            <p:cNvSpPr/>
            <p:nvPr/>
          </p:nvSpPr>
          <p:spPr>
            <a:xfrm>
              <a:off x="7321680" y="4911840"/>
              <a:ext cx="4442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1520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295280" y="4876920"/>
            <a:ext cx="451080" cy="579960"/>
            <a:chOff x="1295280" y="4876920"/>
            <a:chExt cx="451080" cy="579960"/>
          </a:xfrm>
        </p:grpSpPr>
        <p:sp>
          <p:nvSpPr>
            <p:cNvPr id="644" name=""/>
            <p:cNvSpPr/>
            <p:nvPr/>
          </p:nvSpPr>
          <p:spPr>
            <a:xfrm>
              <a:off x="13017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952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1752480" y="4876920"/>
            <a:ext cx="451080" cy="579960"/>
            <a:chOff x="1752480" y="4876920"/>
            <a:chExt cx="451080" cy="579960"/>
          </a:xfrm>
        </p:grpSpPr>
        <p:sp>
          <p:nvSpPr>
            <p:cNvPr id="647" name=""/>
            <p:cNvSpPr/>
            <p:nvPr/>
          </p:nvSpPr>
          <p:spPr>
            <a:xfrm>
              <a:off x="17589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524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209680" y="4876920"/>
            <a:ext cx="451080" cy="579960"/>
            <a:chOff x="2209680" y="4876920"/>
            <a:chExt cx="451080" cy="579960"/>
          </a:xfrm>
        </p:grpSpPr>
        <p:sp>
          <p:nvSpPr>
            <p:cNvPr id="650" name=""/>
            <p:cNvSpPr/>
            <p:nvPr/>
          </p:nvSpPr>
          <p:spPr>
            <a:xfrm>
              <a:off x="22161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096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2666880" y="4876920"/>
            <a:ext cx="451080" cy="579960"/>
            <a:chOff x="2666880" y="4876920"/>
            <a:chExt cx="451080" cy="579960"/>
          </a:xfrm>
        </p:grpSpPr>
        <p:sp>
          <p:nvSpPr>
            <p:cNvPr id="653" name=""/>
            <p:cNvSpPr/>
            <p:nvPr/>
          </p:nvSpPr>
          <p:spPr>
            <a:xfrm>
              <a:off x="26733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6668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3124080" y="4876920"/>
            <a:ext cx="451080" cy="579960"/>
            <a:chOff x="3124080" y="4876920"/>
            <a:chExt cx="451080" cy="579960"/>
          </a:xfrm>
        </p:grpSpPr>
        <p:sp>
          <p:nvSpPr>
            <p:cNvPr id="656" name=""/>
            <p:cNvSpPr/>
            <p:nvPr/>
          </p:nvSpPr>
          <p:spPr>
            <a:xfrm>
              <a:off x="31305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1240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3581280" y="4876920"/>
            <a:ext cx="451080" cy="579960"/>
            <a:chOff x="3581280" y="4876920"/>
            <a:chExt cx="451080" cy="579960"/>
          </a:xfrm>
        </p:grpSpPr>
        <p:sp>
          <p:nvSpPr>
            <p:cNvPr id="659" name=""/>
            <p:cNvSpPr/>
            <p:nvPr/>
          </p:nvSpPr>
          <p:spPr>
            <a:xfrm>
              <a:off x="3587760" y="4911840"/>
              <a:ext cx="44460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81280" y="4876920"/>
              <a:ext cx="2286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51055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5627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199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771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9343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91520" y="437184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00280" y="884160"/>
            <a:ext cx="6094080" cy="2470320"/>
          </a:xfrm>
          <a:custGeom>
            <a:avLst/>
            <a:gdLst/>
            <a:ahLst/>
            <a:rect l="l" t="t" r="r" b="b"/>
            <a:pathLst>
              <a:path w="3839" h="1556">
                <a:moveTo>
                  <a:pt x="1512" y="1555"/>
                </a:moveTo>
                <a:lnTo>
                  <a:pt x="1462" y="1544"/>
                </a:lnTo>
                <a:lnTo>
                  <a:pt x="1371" y="1544"/>
                </a:lnTo>
                <a:lnTo>
                  <a:pt x="1302" y="1544"/>
                </a:lnTo>
                <a:lnTo>
                  <a:pt x="1165" y="1544"/>
                </a:lnTo>
                <a:lnTo>
                  <a:pt x="1074" y="1532"/>
                </a:lnTo>
                <a:lnTo>
                  <a:pt x="982" y="1521"/>
                </a:lnTo>
                <a:lnTo>
                  <a:pt x="914" y="1521"/>
                </a:lnTo>
                <a:lnTo>
                  <a:pt x="845" y="1521"/>
                </a:lnTo>
                <a:lnTo>
                  <a:pt x="754" y="1521"/>
                </a:lnTo>
                <a:lnTo>
                  <a:pt x="719" y="1521"/>
                </a:lnTo>
                <a:lnTo>
                  <a:pt x="685" y="1509"/>
                </a:lnTo>
                <a:lnTo>
                  <a:pt x="617" y="1486"/>
                </a:lnTo>
                <a:lnTo>
                  <a:pt x="525" y="1475"/>
                </a:lnTo>
                <a:lnTo>
                  <a:pt x="434" y="1464"/>
                </a:lnTo>
                <a:lnTo>
                  <a:pt x="365" y="1452"/>
                </a:lnTo>
                <a:lnTo>
                  <a:pt x="320" y="1429"/>
                </a:lnTo>
                <a:lnTo>
                  <a:pt x="274" y="1395"/>
                </a:lnTo>
                <a:lnTo>
                  <a:pt x="251" y="1326"/>
                </a:lnTo>
                <a:lnTo>
                  <a:pt x="217" y="1304"/>
                </a:lnTo>
                <a:lnTo>
                  <a:pt x="148" y="1212"/>
                </a:lnTo>
                <a:lnTo>
                  <a:pt x="34" y="1075"/>
                </a:lnTo>
                <a:lnTo>
                  <a:pt x="22" y="983"/>
                </a:lnTo>
                <a:lnTo>
                  <a:pt x="0" y="938"/>
                </a:lnTo>
                <a:lnTo>
                  <a:pt x="0" y="892"/>
                </a:lnTo>
                <a:lnTo>
                  <a:pt x="0" y="858"/>
                </a:lnTo>
                <a:lnTo>
                  <a:pt x="0" y="823"/>
                </a:lnTo>
                <a:lnTo>
                  <a:pt x="0" y="778"/>
                </a:lnTo>
                <a:lnTo>
                  <a:pt x="0" y="709"/>
                </a:lnTo>
                <a:lnTo>
                  <a:pt x="0" y="641"/>
                </a:lnTo>
                <a:lnTo>
                  <a:pt x="0" y="595"/>
                </a:lnTo>
                <a:lnTo>
                  <a:pt x="0" y="561"/>
                </a:lnTo>
                <a:lnTo>
                  <a:pt x="0" y="526"/>
                </a:lnTo>
                <a:lnTo>
                  <a:pt x="22" y="458"/>
                </a:lnTo>
                <a:lnTo>
                  <a:pt x="34" y="366"/>
                </a:lnTo>
                <a:lnTo>
                  <a:pt x="45" y="298"/>
                </a:lnTo>
                <a:lnTo>
                  <a:pt x="68" y="252"/>
                </a:lnTo>
                <a:lnTo>
                  <a:pt x="102" y="218"/>
                </a:lnTo>
                <a:lnTo>
                  <a:pt x="137" y="206"/>
                </a:lnTo>
                <a:lnTo>
                  <a:pt x="171" y="195"/>
                </a:lnTo>
                <a:lnTo>
                  <a:pt x="205" y="183"/>
                </a:lnTo>
                <a:lnTo>
                  <a:pt x="240" y="172"/>
                </a:lnTo>
                <a:lnTo>
                  <a:pt x="308" y="172"/>
                </a:lnTo>
                <a:lnTo>
                  <a:pt x="400" y="172"/>
                </a:lnTo>
                <a:lnTo>
                  <a:pt x="468" y="172"/>
                </a:lnTo>
                <a:lnTo>
                  <a:pt x="514" y="160"/>
                </a:lnTo>
                <a:lnTo>
                  <a:pt x="548" y="160"/>
                </a:lnTo>
                <a:lnTo>
                  <a:pt x="582" y="138"/>
                </a:lnTo>
                <a:lnTo>
                  <a:pt x="617" y="115"/>
                </a:lnTo>
                <a:lnTo>
                  <a:pt x="651" y="115"/>
                </a:lnTo>
                <a:lnTo>
                  <a:pt x="674" y="80"/>
                </a:lnTo>
                <a:lnTo>
                  <a:pt x="857" y="103"/>
                </a:lnTo>
                <a:lnTo>
                  <a:pt x="994" y="103"/>
                </a:lnTo>
                <a:lnTo>
                  <a:pt x="1085" y="103"/>
                </a:lnTo>
                <a:lnTo>
                  <a:pt x="1119" y="103"/>
                </a:lnTo>
                <a:lnTo>
                  <a:pt x="1199" y="103"/>
                </a:lnTo>
                <a:lnTo>
                  <a:pt x="1291" y="103"/>
                </a:lnTo>
                <a:lnTo>
                  <a:pt x="1451" y="115"/>
                </a:lnTo>
                <a:lnTo>
                  <a:pt x="1485" y="115"/>
                </a:lnTo>
                <a:lnTo>
                  <a:pt x="1519" y="115"/>
                </a:lnTo>
                <a:lnTo>
                  <a:pt x="1553" y="115"/>
                </a:lnTo>
                <a:lnTo>
                  <a:pt x="1588" y="115"/>
                </a:lnTo>
                <a:lnTo>
                  <a:pt x="1622" y="115"/>
                </a:lnTo>
                <a:lnTo>
                  <a:pt x="1691" y="92"/>
                </a:lnTo>
                <a:lnTo>
                  <a:pt x="1759" y="92"/>
                </a:lnTo>
                <a:lnTo>
                  <a:pt x="1850" y="92"/>
                </a:lnTo>
                <a:lnTo>
                  <a:pt x="1965" y="92"/>
                </a:lnTo>
                <a:lnTo>
                  <a:pt x="2102" y="92"/>
                </a:lnTo>
                <a:lnTo>
                  <a:pt x="2136" y="92"/>
                </a:lnTo>
                <a:lnTo>
                  <a:pt x="2170" y="92"/>
                </a:lnTo>
                <a:lnTo>
                  <a:pt x="2205" y="92"/>
                </a:lnTo>
                <a:lnTo>
                  <a:pt x="2319" y="80"/>
                </a:lnTo>
                <a:lnTo>
                  <a:pt x="2433" y="58"/>
                </a:lnTo>
                <a:lnTo>
                  <a:pt x="2502" y="46"/>
                </a:lnTo>
                <a:lnTo>
                  <a:pt x="2570" y="35"/>
                </a:lnTo>
                <a:lnTo>
                  <a:pt x="2639" y="23"/>
                </a:lnTo>
                <a:lnTo>
                  <a:pt x="2684" y="12"/>
                </a:lnTo>
                <a:lnTo>
                  <a:pt x="2730" y="0"/>
                </a:lnTo>
                <a:lnTo>
                  <a:pt x="2776" y="0"/>
                </a:lnTo>
                <a:lnTo>
                  <a:pt x="2867" y="0"/>
                </a:lnTo>
                <a:lnTo>
                  <a:pt x="2936" y="0"/>
                </a:lnTo>
                <a:lnTo>
                  <a:pt x="2970" y="0"/>
                </a:lnTo>
                <a:lnTo>
                  <a:pt x="3016" y="0"/>
                </a:lnTo>
                <a:lnTo>
                  <a:pt x="3061" y="0"/>
                </a:lnTo>
                <a:lnTo>
                  <a:pt x="3096" y="0"/>
                </a:lnTo>
                <a:lnTo>
                  <a:pt x="3164" y="0"/>
                </a:lnTo>
                <a:lnTo>
                  <a:pt x="3233" y="0"/>
                </a:lnTo>
                <a:lnTo>
                  <a:pt x="3267" y="0"/>
                </a:lnTo>
                <a:lnTo>
                  <a:pt x="3301" y="0"/>
                </a:lnTo>
                <a:lnTo>
                  <a:pt x="3336" y="0"/>
                </a:lnTo>
                <a:lnTo>
                  <a:pt x="3450" y="0"/>
                </a:lnTo>
                <a:lnTo>
                  <a:pt x="3484" y="0"/>
                </a:lnTo>
                <a:lnTo>
                  <a:pt x="3553" y="12"/>
                </a:lnTo>
                <a:lnTo>
                  <a:pt x="3644" y="12"/>
                </a:lnTo>
                <a:lnTo>
                  <a:pt x="3736" y="23"/>
                </a:lnTo>
                <a:lnTo>
                  <a:pt x="3770" y="35"/>
                </a:lnTo>
                <a:lnTo>
                  <a:pt x="3804" y="69"/>
                </a:lnTo>
                <a:lnTo>
                  <a:pt x="3816" y="103"/>
                </a:lnTo>
                <a:lnTo>
                  <a:pt x="3838" y="138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bserv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 = min{d(v,k-1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n{d(w,k-1) + length of edge (w,v)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s,k) 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 = d(v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j) = d(v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 &gt;= k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stop computing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soon as we hav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(*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is identical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,k-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un time be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djacency matrix i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djacency lists ar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bserv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utation may be done in-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(v) = min{d(v), min{d(w) + length of edge (w,v)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(v,k) = min{d(v,k-1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{d(w,k-1) + length of edge (w,v)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itera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+1) &lt;= d(v) &lt;= d(v,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erminatio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(v) = d(v,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requirement becom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*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(*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-Source All-Destinations Shortest Paths With General We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jkstra’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ngle-source greedy algorithm doesn’t work when there are negative-cost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ellman-Ford Algorith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source all-destinations shortest paths in digraphs with negative-cost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dynamic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 when adjacency matrice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 when adjacency list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ateg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struct a shortest path from the source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cide on the max number of edges on the path and on the vertex that comes just befo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267080"/>
            <a:ext cx="8991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digraph has no cycle whose leng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may limit ourselves to the discovery of cycle-free (acyclic) shortest pa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th that has no cycle has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43200" y="1143000"/>
            <a:ext cx="3657600" cy="579960"/>
            <a:chOff x="2743200" y="1143000"/>
            <a:chExt cx="3657600" cy="579960"/>
          </a:xfrm>
        </p:grpSpPr>
        <p:sp>
          <p:nvSpPr>
            <p:cNvPr id="60" name=""/>
            <p:cNvSpPr/>
            <p:nvPr/>
          </p:nvSpPr>
          <p:spPr>
            <a:xfrm>
              <a:off x="2749680" y="130176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43200" y="114300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83040" y="130176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114300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97440" y="130176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91320" y="114300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7800" y="1523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24080" y="1523880"/>
              <a:ext cx="17528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st Function 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2437920"/>
            <a:ext cx="899172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ist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v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length of a shortest path from the source vertex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 that the path has at mo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ength of a shortest unconstrained path from the source vertex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nt to determi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n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every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0196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99072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3568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99072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50080" y="114948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99072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137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1371600"/>
            <a:ext cx="175248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Value Of d(*,0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ength of a shortest path from the source vertex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 that the path has at mo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048120" y="3505320"/>
            <a:ext cx="609480" cy="579960"/>
            <a:chOff x="3048120" y="3505320"/>
            <a:chExt cx="609480" cy="579960"/>
          </a:xfrm>
        </p:grpSpPr>
        <p:sp>
          <p:nvSpPr>
            <p:cNvPr id="81" name=""/>
            <p:cNvSpPr/>
            <p:nvPr/>
          </p:nvSpPr>
          <p:spPr>
            <a:xfrm>
              <a:off x="3054240" y="3657600"/>
              <a:ext cx="368280" cy="338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8120" y="350532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50840" y="4799160"/>
            <a:ext cx="8991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s,0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0) = infin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v != 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d(*,k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160" y="1523880"/>
            <a:ext cx="89917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ength of a shortest path from the source vertex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 that the path has at mo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constrained shortest path goes through no more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dges, t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 = d(v,k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d(*,k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0480" y="1371240"/>
            <a:ext cx="89917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constrained shortest path goes throug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dges, then 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vertex just befo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is shortest path (note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3048120"/>
            <a:ext cx="3657600" cy="579960"/>
            <a:chOff x="1905120" y="3048120"/>
            <a:chExt cx="3657600" cy="579960"/>
          </a:xfrm>
        </p:grpSpPr>
        <p:sp>
          <p:nvSpPr>
            <p:cNvPr id="89" name=""/>
            <p:cNvSpPr/>
            <p:nvPr/>
          </p:nvSpPr>
          <p:spPr>
            <a:xfrm>
              <a:off x="1911240" y="320688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05120" y="3048120"/>
              <a:ext cx="60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44960" y="320688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38480" y="304812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59360" y="3206880"/>
              <a:ext cx="368280" cy="3682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048120"/>
              <a:ext cx="60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19720" y="34290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86000" y="3429000"/>
              <a:ext cx="17524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52280" y="3962520"/>
            <a:ext cx="8686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ee that the path from the source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a shortest path from the source vertex to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th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 that this path has at mo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k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 = d(w,k-1) + length of edge (w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currence For d(*,k), k &gt; 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know w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ass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(v,k) = min{d(w,k-1) + length of edge (w,v)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aken over al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w,v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edge of the di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the two cases considered yiel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(v,k) = min{d(v,k-1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{d(w,k-1) + length of edge (w,v)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49680" y="168264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52388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83040" y="168264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152388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7440" y="1682640"/>
            <a:ext cx="368280" cy="3682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1523880"/>
            <a:ext cx="6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1905120"/>
            <a:ext cx="175284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91440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(v,k) = d(w,k-1) + length of edge (w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6-07-18T17:31:24Z</dcterms:modified>
  <cp:revision>204</cp:revision>
  <dc:subject/>
  <dc:title>Data Representation Methods</dc:title>
</cp:coreProperties>
</file>