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2B11-D168-405B-8487-116A894791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struct shortest paths from the computed p[]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to the problem consists of up to n paths. The greedy method suggests building these n paths in order of increasing length. First build the shortest of the up to n paths (I.e., the path to the nearest destination). Then build the second shortest path,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D8B-F183-45A9-AA46-EC1C6D39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92F-719E-4B42-8CFE-F751A9E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E4D-D414-43E1-B027-3DAE0357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9E5-101C-479B-AE3C-3A7BAA54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CFC-10A6-4060-BCBD-C774FC0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2F6-FFA3-48D3-B436-DD408D3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2B-99FF-4201-84A6-1F0A229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ED7-217C-4D29-8A30-1F173C28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2C7-8B2B-4659-8D1E-AD34BAEC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1A4-4507-4454-8B66-DBFB58E2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E7F-A5A4-43F6-9B3A-A55C948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49A-378F-4A36-B414-550B743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E9F-4B05-4CC3-81B3-CD2D88FC8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weigh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sum of weights of edges on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begin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ur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at which the path ends is th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stin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one edge extension of an already generated shortest path, the one edge extension ends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hortest path is to an as yet unreached vertex for which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s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[i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vertex just before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the shortest one edge extensio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413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42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426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430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82840" y="1432080"/>
            <a:ext cx="444600" cy="466560"/>
            <a:chOff x="3282840" y="1432080"/>
            <a:chExt cx="444600" cy="466560"/>
          </a:xfrm>
        </p:grpSpPr>
        <p:sp>
          <p:nvSpPr>
            <p:cNvPr id="434" name=""/>
            <p:cNvSpPr/>
            <p:nvPr/>
          </p:nvSpPr>
          <p:spPr>
            <a:xfrm>
              <a:off x="3282840" y="14540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3648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438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442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45160" y="4883040"/>
            <a:ext cx="527040" cy="527040"/>
            <a:chOff x="5645160" y="4883040"/>
            <a:chExt cx="527040" cy="527040"/>
          </a:xfrm>
        </p:grpSpPr>
        <p:sp>
          <p:nvSpPr>
            <p:cNvPr id="457" name=""/>
            <p:cNvSpPr/>
            <p:nvPr/>
          </p:nvSpPr>
          <p:spPr>
            <a:xfrm>
              <a:off x="5645160" y="4883040"/>
              <a:ext cx="444600" cy="444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9916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5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5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5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5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454040" y="3032280"/>
            <a:ext cx="444600" cy="466560"/>
            <a:chOff x="1454040" y="3032280"/>
            <a:chExt cx="444600" cy="466560"/>
          </a:xfrm>
        </p:grpSpPr>
        <p:sp>
          <p:nvSpPr>
            <p:cNvPr id="536" name=""/>
            <p:cNvSpPr/>
            <p:nvPr/>
          </p:nvSpPr>
          <p:spPr>
            <a:xfrm>
              <a:off x="1454040" y="3054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768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07080" y="2117880"/>
            <a:ext cx="444240" cy="466560"/>
            <a:chOff x="4807080" y="2117880"/>
            <a:chExt cx="444240" cy="466560"/>
          </a:xfrm>
        </p:grpSpPr>
        <p:sp>
          <p:nvSpPr>
            <p:cNvPr id="540" name=""/>
            <p:cNvSpPr/>
            <p:nvPr/>
          </p:nvSpPr>
          <p:spPr>
            <a:xfrm>
              <a:off x="4807080" y="21398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0720" y="2117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711840" y="1127160"/>
            <a:ext cx="444600" cy="466560"/>
            <a:chOff x="6711840" y="1127160"/>
            <a:chExt cx="444600" cy="466560"/>
          </a:xfrm>
        </p:grpSpPr>
        <p:sp>
          <p:nvSpPr>
            <p:cNvPr id="544" name=""/>
            <p:cNvSpPr/>
            <p:nvPr/>
          </p:nvSpPr>
          <p:spPr>
            <a:xfrm>
              <a:off x="6711840" y="1149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65480" y="1127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547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550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553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556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934320" y="4881600"/>
            <a:ext cx="473040" cy="519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601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609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612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629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635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638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641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644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647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657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66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178680" y="4883040"/>
            <a:ext cx="755640" cy="527040"/>
            <a:chOff x="6178680" y="4883040"/>
            <a:chExt cx="755640" cy="527040"/>
          </a:xfrm>
        </p:grpSpPr>
        <p:sp>
          <p:nvSpPr>
            <p:cNvPr id="664" name=""/>
            <p:cNvSpPr/>
            <p:nvPr/>
          </p:nvSpPr>
          <p:spPr>
            <a:xfrm>
              <a:off x="61786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578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254640" y="5340240"/>
            <a:ext cx="755640" cy="527040"/>
            <a:chOff x="6254640" y="5340240"/>
            <a:chExt cx="755640" cy="527040"/>
          </a:xfrm>
        </p:grpSpPr>
        <p:sp>
          <p:nvSpPr>
            <p:cNvPr id="667" name=""/>
            <p:cNvSpPr/>
            <p:nvPr/>
          </p:nvSpPr>
          <p:spPr>
            <a:xfrm>
              <a:off x="6254640" y="5340240"/>
              <a:ext cx="7495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34200" y="5348160"/>
              <a:ext cx="6760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9528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71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720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723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740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746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749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752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755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758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767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206880" y="3032280"/>
            <a:ext cx="444240" cy="466560"/>
            <a:chOff x="3206880" y="3032280"/>
            <a:chExt cx="444240" cy="466560"/>
          </a:xfrm>
        </p:grpSpPr>
        <p:sp>
          <p:nvSpPr>
            <p:cNvPr id="774" name=""/>
            <p:cNvSpPr/>
            <p:nvPr/>
          </p:nvSpPr>
          <p:spPr>
            <a:xfrm>
              <a:off x="32068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05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6324480" y="4952880"/>
            <a:ext cx="47304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819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828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58760" y="3946680"/>
            <a:ext cx="444600" cy="466560"/>
            <a:chOff x="158760" y="3946680"/>
            <a:chExt cx="444600" cy="466560"/>
          </a:xfrm>
        </p:grpSpPr>
        <p:sp>
          <p:nvSpPr>
            <p:cNvPr id="831" name=""/>
            <p:cNvSpPr/>
            <p:nvPr/>
          </p:nvSpPr>
          <p:spPr>
            <a:xfrm>
              <a:off x="158760" y="3968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2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58760" y="4479840"/>
            <a:ext cx="1434960" cy="466920"/>
            <a:chOff x="158760" y="4479840"/>
            <a:chExt cx="1434960" cy="466920"/>
          </a:xfrm>
        </p:grpSpPr>
        <p:sp>
          <p:nvSpPr>
            <p:cNvPr id="848" name=""/>
            <p:cNvSpPr/>
            <p:nvPr/>
          </p:nvSpPr>
          <p:spPr>
            <a:xfrm>
              <a:off x="1587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24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94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31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94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854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857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860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58760" y="5013360"/>
            <a:ext cx="2425680" cy="466560"/>
            <a:chOff x="158760" y="5013360"/>
            <a:chExt cx="2425680" cy="466560"/>
          </a:xfrm>
        </p:grpSpPr>
        <p:sp>
          <p:nvSpPr>
            <p:cNvPr id="863" name=""/>
            <p:cNvSpPr/>
            <p:nvPr/>
          </p:nvSpPr>
          <p:spPr>
            <a:xfrm>
              <a:off x="15876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240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49480" y="5035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0312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8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139840" y="5035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3480" y="5013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0200" y="525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158760" y="5622840"/>
            <a:ext cx="1434960" cy="466920"/>
            <a:chOff x="158760" y="5622840"/>
            <a:chExt cx="1434960" cy="466920"/>
          </a:xfrm>
        </p:grpSpPr>
        <p:sp>
          <p:nvSpPr>
            <p:cNvPr id="872" name=""/>
            <p:cNvSpPr/>
            <p:nvPr/>
          </p:nvSpPr>
          <p:spPr>
            <a:xfrm>
              <a:off x="158760" y="5645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240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49480" y="5645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03120" y="5622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9480" y="5867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58760" y="6232680"/>
            <a:ext cx="3416400" cy="466560"/>
            <a:chOff x="158760" y="6232680"/>
            <a:chExt cx="3416400" cy="466560"/>
          </a:xfrm>
        </p:grpSpPr>
        <p:sp>
          <p:nvSpPr>
            <p:cNvPr id="878" name=""/>
            <p:cNvSpPr/>
            <p:nvPr/>
          </p:nvSpPr>
          <p:spPr>
            <a:xfrm>
              <a:off x="1587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24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49480" y="62546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0312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984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348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00200" y="6477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30560" y="6254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84200" y="6232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90920" y="6477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891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894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897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7620120" y="4876920"/>
            <a:ext cx="541080" cy="94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175280" y="4433760"/>
            <a:ext cx="4816440" cy="519120"/>
            <a:chOff x="4175280" y="4433760"/>
            <a:chExt cx="4816440" cy="519120"/>
          </a:xfrm>
        </p:grpSpPr>
        <p:sp>
          <p:nvSpPr>
            <p:cNvPr id="942" name=""/>
            <p:cNvSpPr/>
            <p:nvPr/>
          </p:nvSpPr>
          <p:spPr>
            <a:xfrm>
              <a:off x="4175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1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61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2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468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3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326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4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184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5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042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6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0080" y="4433760"/>
              <a:ext cx="70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[7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18080" y="4890960"/>
            <a:ext cx="473040" cy="976320"/>
            <a:chOff x="3718080" y="4890960"/>
            <a:chExt cx="473040" cy="976320"/>
          </a:xfrm>
        </p:grpSpPr>
        <p:sp>
          <p:nvSpPr>
            <p:cNvPr id="951" name=""/>
            <p:cNvSpPr/>
            <p:nvPr/>
          </p:nvSpPr>
          <p:spPr>
            <a:xfrm>
              <a:off x="3718080" y="48909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18080" y="5348160"/>
              <a:ext cx="473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5124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5124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133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133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99160" y="48909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991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489096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84960" y="534816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707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707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48909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05920" y="4890960"/>
            <a:ext cx="60948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42360" y="5348160"/>
            <a:ext cx="47304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6940440" y="4883040"/>
            <a:ext cx="527040" cy="527040"/>
            <a:chOff x="6940440" y="4883040"/>
            <a:chExt cx="527040" cy="527040"/>
          </a:xfrm>
        </p:grpSpPr>
        <p:sp>
          <p:nvSpPr>
            <p:cNvPr id="968" name=""/>
            <p:cNvSpPr/>
            <p:nvPr/>
          </p:nvSpPr>
          <p:spPr>
            <a:xfrm>
              <a:off x="6940440" y="48830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994440" y="48909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6940440" y="5340240"/>
            <a:ext cx="527040" cy="527040"/>
            <a:chOff x="6940440" y="5340240"/>
            <a:chExt cx="527040" cy="527040"/>
          </a:xfrm>
        </p:grpSpPr>
        <p:sp>
          <p:nvSpPr>
            <p:cNvPr id="971" name=""/>
            <p:cNvSpPr/>
            <p:nvPr/>
          </p:nvSpPr>
          <p:spPr>
            <a:xfrm>
              <a:off x="6940440" y="5340240"/>
              <a:ext cx="52092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9444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550280" y="4883040"/>
            <a:ext cx="755640" cy="527040"/>
            <a:chOff x="7550280" y="4883040"/>
            <a:chExt cx="755640" cy="527040"/>
          </a:xfrm>
        </p:grpSpPr>
        <p:sp>
          <p:nvSpPr>
            <p:cNvPr id="974" name=""/>
            <p:cNvSpPr/>
            <p:nvPr/>
          </p:nvSpPr>
          <p:spPr>
            <a:xfrm>
              <a:off x="75502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294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702560" y="5340240"/>
            <a:ext cx="527040" cy="527040"/>
            <a:chOff x="7702560" y="5340240"/>
            <a:chExt cx="527040" cy="527040"/>
          </a:xfrm>
        </p:grpSpPr>
        <p:sp>
          <p:nvSpPr>
            <p:cNvPr id="977" name=""/>
            <p:cNvSpPr/>
            <p:nvPr/>
          </p:nvSpPr>
          <p:spPr>
            <a:xfrm>
              <a:off x="7702560" y="5340240"/>
              <a:ext cx="520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56560" y="5348160"/>
              <a:ext cx="473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80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313840" y="5340240"/>
            <a:ext cx="755640" cy="527040"/>
            <a:chOff x="8313840" y="5340240"/>
            <a:chExt cx="755640" cy="527040"/>
          </a:xfrm>
        </p:grpSpPr>
        <p:sp>
          <p:nvSpPr>
            <p:cNvPr id="983" name=""/>
            <p:cNvSpPr/>
            <p:nvPr/>
          </p:nvSpPr>
          <p:spPr>
            <a:xfrm>
              <a:off x="8313840" y="53402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393040" y="53481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82440" y="4403880"/>
            <a:ext cx="2425680" cy="466560"/>
            <a:chOff x="82440" y="4403880"/>
            <a:chExt cx="2425680" cy="466560"/>
          </a:xfrm>
        </p:grpSpPr>
        <p:sp>
          <p:nvSpPr>
            <p:cNvPr id="986" name=""/>
            <p:cNvSpPr/>
            <p:nvPr/>
          </p:nvSpPr>
          <p:spPr>
            <a:xfrm>
              <a:off x="82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608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73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2680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3520" y="4648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638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17520" y="4403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23880" y="46483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007480" y="3032280"/>
            <a:ext cx="444240" cy="466560"/>
            <a:chOff x="8007480" y="3032280"/>
            <a:chExt cx="444240" cy="466560"/>
          </a:xfrm>
        </p:grpSpPr>
        <p:sp>
          <p:nvSpPr>
            <p:cNvPr id="996" name=""/>
            <p:cNvSpPr/>
            <p:nvPr/>
          </p:nvSpPr>
          <p:spPr>
            <a:xfrm>
              <a:off x="8007480" y="305424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61120" y="303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8236080" y="4883040"/>
            <a:ext cx="755640" cy="527040"/>
            <a:chOff x="8236080" y="4883040"/>
            <a:chExt cx="755640" cy="527040"/>
          </a:xfrm>
        </p:grpSpPr>
        <p:sp>
          <p:nvSpPr>
            <p:cNvPr id="999" name=""/>
            <p:cNvSpPr/>
            <p:nvPr/>
          </p:nvSpPr>
          <p:spPr>
            <a:xfrm>
              <a:off x="8236080" y="4883040"/>
              <a:ext cx="7491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15280" y="4890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386920" y="5342040"/>
            <a:ext cx="755640" cy="527040"/>
            <a:chOff x="8386920" y="5342040"/>
            <a:chExt cx="755640" cy="527040"/>
          </a:xfrm>
        </p:grpSpPr>
        <p:sp>
          <p:nvSpPr>
            <p:cNvPr id="1002" name=""/>
            <p:cNvSpPr/>
            <p:nvPr/>
          </p:nvSpPr>
          <p:spPr>
            <a:xfrm>
              <a:off x="8386920" y="5342040"/>
              <a:ext cx="749160" cy="44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466120" y="5349960"/>
              <a:ext cx="676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6320" y="990720"/>
            <a:ext cx="4572000" cy="5632200"/>
            <a:chOff x="76320" y="990720"/>
            <a:chExt cx="4572000" cy="5632200"/>
          </a:xfrm>
        </p:grpSpPr>
        <p:sp>
          <p:nvSpPr>
            <p:cNvPr id="1006" name=""/>
            <p:cNvSpPr/>
            <p:nvPr/>
          </p:nvSpPr>
          <p:spPr>
            <a:xfrm>
              <a:off x="763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Pa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5080" y="14540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720" y="1432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09880" y="14479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5080" y="2216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872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54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7908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5800" y="2438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09880" y="213372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50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7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2544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7908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" y="3124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28954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16160" y="2901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698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76520" y="3124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50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87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790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58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09880" y="35812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50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7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54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790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58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09880" y="4267080"/>
              <a:ext cx="381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161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698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765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068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05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668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50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87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254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0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58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5760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161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698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65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50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87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254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90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858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65760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161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698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765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06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05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668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52680" y="990720"/>
              <a:ext cx="1295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324320" y="4052880"/>
            <a:ext cx="4818240" cy="1434960"/>
            <a:chOff x="4324320" y="4052880"/>
            <a:chExt cx="4818240" cy="1434960"/>
          </a:xfrm>
        </p:grpSpPr>
        <p:grpSp>
          <p:nvGrpSpPr>
            <p:cNvPr id="1066" name=""/>
            <p:cNvGrpSpPr/>
            <p:nvPr/>
          </p:nvGrpSpPr>
          <p:grpSpPr>
            <a:xfrm>
              <a:off x="4730760" y="4052880"/>
              <a:ext cx="4278240" cy="519120"/>
              <a:chOff x="4730760" y="4052880"/>
              <a:chExt cx="4278240" cy="519120"/>
            </a:xfrm>
          </p:grpSpPr>
          <p:sp>
            <p:nvSpPr>
              <p:cNvPr id="1067" name=""/>
              <p:cNvSpPr/>
              <p:nvPr/>
            </p:nvSpPr>
            <p:spPr>
              <a:xfrm>
                <a:off x="473076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1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40240" y="4052880"/>
                <a:ext cx="6224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2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50080" y="4052880"/>
                <a:ext cx="6220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3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5632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4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4052880"/>
                <a:ext cx="6256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5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77564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6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85120" y="4052880"/>
                <a:ext cx="62388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[7]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4324320" y="4510080"/>
              <a:ext cx="420840" cy="976320"/>
              <a:chOff x="4324320" y="4510080"/>
              <a:chExt cx="420840" cy="976320"/>
            </a:xfrm>
          </p:grpSpPr>
          <p:sp>
            <p:nvSpPr>
              <p:cNvPr id="1075" name=""/>
              <p:cNvSpPr/>
              <p:nvPr/>
            </p:nvSpPr>
            <p:spPr>
              <a:xfrm>
                <a:off x="4324320" y="45100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324320" y="4967280"/>
                <a:ext cx="4208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479916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79916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7380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7380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83280" y="45100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3280" y="4967280"/>
              <a:ext cx="42228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38760" y="4510080"/>
              <a:ext cx="609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92760" y="4967280"/>
              <a:ext cx="41940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0260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0260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12080" y="45100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2080" y="4967280"/>
              <a:ext cx="4190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99520" y="4510080"/>
              <a:ext cx="5414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520120" y="4967280"/>
              <a:ext cx="42084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188120" y="4502160"/>
              <a:ext cx="466920" cy="527040"/>
              <a:chOff x="7188120" y="4502160"/>
              <a:chExt cx="466920" cy="5270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188120" y="45021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236000" y="45100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188120" y="4959360"/>
              <a:ext cx="466920" cy="527040"/>
              <a:chOff x="7188120" y="4959360"/>
              <a:chExt cx="466920" cy="527040"/>
            </a:xfrm>
          </p:grpSpPr>
          <p:sp>
            <p:nvSpPr>
              <p:cNvPr id="1095" name=""/>
              <p:cNvSpPr/>
              <p:nvPr/>
            </p:nvSpPr>
            <p:spPr>
              <a:xfrm>
                <a:off x="718812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3600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728120" y="4502160"/>
              <a:ext cx="671400" cy="527040"/>
              <a:chOff x="7728120" y="4502160"/>
              <a:chExt cx="671400" cy="527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7728120" y="4502160"/>
                <a:ext cx="66492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9796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864560" y="4959360"/>
              <a:ext cx="466560" cy="527040"/>
              <a:chOff x="7864560" y="4959360"/>
              <a:chExt cx="466560" cy="527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7864560" y="4959360"/>
                <a:ext cx="46044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12080" y="4967280"/>
                <a:ext cx="41904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407440" y="4959360"/>
              <a:ext cx="669960" cy="527040"/>
              <a:chOff x="8407440" y="4959360"/>
              <a:chExt cx="669960" cy="527040"/>
            </a:xfrm>
          </p:grpSpPr>
          <p:sp>
            <p:nvSpPr>
              <p:cNvPr id="1107" name=""/>
              <p:cNvSpPr/>
              <p:nvPr/>
            </p:nvSpPr>
            <p:spPr>
              <a:xfrm>
                <a:off x="8407440" y="4959360"/>
                <a:ext cx="6634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75840" y="49672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37600" y="4502160"/>
              <a:ext cx="671400" cy="527040"/>
              <a:chOff x="8337600" y="4502160"/>
              <a:chExt cx="671400" cy="527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37600" y="450216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07440" y="4510080"/>
                <a:ext cx="60156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8470800" y="4960800"/>
              <a:ext cx="671760" cy="527040"/>
              <a:chOff x="8470800" y="4960800"/>
              <a:chExt cx="671760" cy="527040"/>
            </a:xfrm>
          </p:grpSpPr>
          <p:sp>
            <p:nvSpPr>
              <p:cNvPr id="1113" name=""/>
              <p:cNvSpPr/>
              <p:nvPr/>
            </p:nvSpPr>
            <p:spPr>
              <a:xfrm>
                <a:off x="8470800" y="4960800"/>
                <a:ext cx="665280" cy="44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542440" y="4968720"/>
                <a:ext cx="60012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single source all destinations algorithm as soon as shortest path to desired vertex has been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ata Structures For Dijkstra’s Algorith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cribed single source all destinations algorithm is known as Dijkstra’s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1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 to which shortest path is yet to be gen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nd remove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small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of vertices adjacent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54040" y="1889280"/>
            <a:ext cx="444600" cy="466560"/>
            <a:chOff x="1454040" y="1889280"/>
            <a:chExt cx="444600" cy="466560"/>
          </a:xfrm>
        </p:grpSpPr>
        <p:sp>
          <p:nvSpPr>
            <p:cNvPr id="93" name=""/>
            <p:cNvSpPr/>
            <p:nvPr/>
          </p:nvSpPr>
          <p:spPr>
            <a:xfrm>
              <a:off x="1454040" y="19112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07680" y="1889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007480" y="3489480"/>
            <a:ext cx="444240" cy="466560"/>
            <a:chOff x="8007480" y="3489480"/>
            <a:chExt cx="444240" cy="466560"/>
          </a:xfrm>
        </p:grpSpPr>
        <p:sp>
          <p:nvSpPr>
            <p:cNvPr id="96" name=""/>
            <p:cNvSpPr/>
            <p:nvPr/>
          </p:nvSpPr>
          <p:spPr>
            <a:xfrm>
              <a:off x="8007480" y="35114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next destination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out-degre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list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when adjacency matrix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and update done once for each vertex to which a shortest path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+ e) = 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min heap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in place of the linear li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reachable vertices,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(n+e)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ecau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operation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key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[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) operations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a min heap is worse than using a linear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Fibonacci heap is used, the 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CLOCK43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5638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58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est Path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singl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ource all dest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airs (every vertex is a source and destin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Single Destin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source vertex using cheapest/shorte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new vertex using cheapest edge subject to the constraint that a new vertex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until destination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086600" y="19810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33920" y="18284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structed 1 To 7 Pat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13372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54040" y="1911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76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4040" y="3511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768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2840" y="1911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480" y="1889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6880" y="35114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605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7080" y="2597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0720" y="2575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1606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5480" y="15843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7480" y="351144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61120" y="34894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733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3623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28440" y="23623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28195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954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7040" y="2209680"/>
            <a:ext cx="7281720" cy="3017880"/>
          </a:xfrm>
          <a:custGeom>
            <a:avLst/>
            <a:gdLst/>
            <a:ahLst/>
            <a:rect l="l" t="t" r="r" b="b"/>
            <a:pathLst>
              <a:path w="4587" h="1901">
                <a:moveTo>
                  <a:pt x="410" y="0"/>
                </a:moveTo>
                <a:lnTo>
                  <a:pt x="362" y="32"/>
                </a:lnTo>
                <a:lnTo>
                  <a:pt x="306" y="66"/>
                </a:lnTo>
                <a:lnTo>
                  <a:pt x="272" y="89"/>
                </a:lnTo>
                <a:lnTo>
                  <a:pt x="249" y="123"/>
                </a:lnTo>
                <a:lnTo>
                  <a:pt x="226" y="168"/>
                </a:lnTo>
                <a:lnTo>
                  <a:pt x="215" y="202"/>
                </a:lnTo>
                <a:lnTo>
                  <a:pt x="193" y="236"/>
                </a:lnTo>
                <a:lnTo>
                  <a:pt x="170" y="270"/>
                </a:lnTo>
                <a:lnTo>
                  <a:pt x="159" y="304"/>
                </a:lnTo>
                <a:lnTo>
                  <a:pt x="136" y="338"/>
                </a:lnTo>
                <a:lnTo>
                  <a:pt x="125" y="372"/>
                </a:lnTo>
                <a:lnTo>
                  <a:pt x="91" y="428"/>
                </a:lnTo>
                <a:lnTo>
                  <a:pt x="79" y="474"/>
                </a:lnTo>
                <a:lnTo>
                  <a:pt x="57" y="530"/>
                </a:lnTo>
                <a:lnTo>
                  <a:pt x="45" y="564"/>
                </a:lnTo>
                <a:lnTo>
                  <a:pt x="34" y="610"/>
                </a:lnTo>
                <a:lnTo>
                  <a:pt x="23" y="666"/>
                </a:lnTo>
                <a:lnTo>
                  <a:pt x="23" y="711"/>
                </a:lnTo>
                <a:lnTo>
                  <a:pt x="11" y="757"/>
                </a:lnTo>
                <a:lnTo>
                  <a:pt x="11" y="791"/>
                </a:lnTo>
                <a:lnTo>
                  <a:pt x="0" y="825"/>
                </a:lnTo>
                <a:lnTo>
                  <a:pt x="0" y="859"/>
                </a:lnTo>
                <a:lnTo>
                  <a:pt x="0" y="893"/>
                </a:lnTo>
                <a:lnTo>
                  <a:pt x="0" y="926"/>
                </a:lnTo>
                <a:lnTo>
                  <a:pt x="0" y="983"/>
                </a:lnTo>
                <a:lnTo>
                  <a:pt x="0" y="1017"/>
                </a:lnTo>
                <a:lnTo>
                  <a:pt x="23" y="1062"/>
                </a:lnTo>
                <a:lnTo>
                  <a:pt x="34" y="1096"/>
                </a:lnTo>
                <a:lnTo>
                  <a:pt x="68" y="1164"/>
                </a:lnTo>
                <a:lnTo>
                  <a:pt x="79" y="1198"/>
                </a:lnTo>
                <a:lnTo>
                  <a:pt x="125" y="1255"/>
                </a:lnTo>
                <a:lnTo>
                  <a:pt x="159" y="1300"/>
                </a:lnTo>
                <a:lnTo>
                  <a:pt x="215" y="1334"/>
                </a:lnTo>
                <a:lnTo>
                  <a:pt x="283" y="1368"/>
                </a:lnTo>
                <a:lnTo>
                  <a:pt x="328" y="1391"/>
                </a:lnTo>
                <a:lnTo>
                  <a:pt x="385" y="1424"/>
                </a:lnTo>
                <a:lnTo>
                  <a:pt x="442" y="1447"/>
                </a:lnTo>
                <a:lnTo>
                  <a:pt x="532" y="1481"/>
                </a:lnTo>
                <a:lnTo>
                  <a:pt x="645" y="1515"/>
                </a:lnTo>
                <a:lnTo>
                  <a:pt x="747" y="1549"/>
                </a:lnTo>
                <a:lnTo>
                  <a:pt x="872" y="1583"/>
                </a:lnTo>
                <a:lnTo>
                  <a:pt x="974" y="1594"/>
                </a:lnTo>
                <a:lnTo>
                  <a:pt x="1076" y="1617"/>
                </a:lnTo>
                <a:lnTo>
                  <a:pt x="1200" y="1640"/>
                </a:lnTo>
                <a:lnTo>
                  <a:pt x="1348" y="1674"/>
                </a:lnTo>
                <a:lnTo>
                  <a:pt x="1517" y="1730"/>
                </a:lnTo>
                <a:lnTo>
                  <a:pt x="1676" y="1775"/>
                </a:lnTo>
                <a:lnTo>
                  <a:pt x="1789" y="1809"/>
                </a:lnTo>
                <a:lnTo>
                  <a:pt x="1914" y="1832"/>
                </a:lnTo>
                <a:lnTo>
                  <a:pt x="2061" y="1855"/>
                </a:lnTo>
                <a:lnTo>
                  <a:pt x="2231" y="1877"/>
                </a:lnTo>
                <a:lnTo>
                  <a:pt x="2401" y="1889"/>
                </a:lnTo>
                <a:lnTo>
                  <a:pt x="2548" y="1900"/>
                </a:lnTo>
                <a:lnTo>
                  <a:pt x="2638" y="1900"/>
                </a:lnTo>
                <a:lnTo>
                  <a:pt x="2706" y="1900"/>
                </a:lnTo>
                <a:lnTo>
                  <a:pt x="2797" y="1877"/>
                </a:lnTo>
                <a:lnTo>
                  <a:pt x="2910" y="1866"/>
                </a:lnTo>
                <a:lnTo>
                  <a:pt x="3035" y="1843"/>
                </a:lnTo>
                <a:lnTo>
                  <a:pt x="3159" y="1843"/>
                </a:lnTo>
                <a:lnTo>
                  <a:pt x="3250" y="1832"/>
                </a:lnTo>
                <a:lnTo>
                  <a:pt x="3295" y="1821"/>
                </a:lnTo>
                <a:lnTo>
                  <a:pt x="3329" y="1798"/>
                </a:lnTo>
                <a:lnTo>
                  <a:pt x="3374" y="1775"/>
                </a:lnTo>
                <a:lnTo>
                  <a:pt x="3408" y="1753"/>
                </a:lnTo>
                <a:lnTo>
                  <a:pt x="3454" y="1719"/>
                </a:lnTo>
                <a:lnTo>
                  <a:pt x="3499" y="1707"/>
                </a:lnTo>
                <a:lnTo>
                  <a:pt x="3556" y="1696"/>
                </a:lnTo>
                <a:lnTo>
                  <a:pt x="3601" y="1685"/>
                </a:lnTo>
                <a:lnTo>
                  <a:pt x="3646" y="1662"/>
                </a:lnTo>
                <a:lnTo>
                  <a:pt x="3726" y="1640"/>
                </a:lnTo>
                <a:lnTo>
                  <a:pt x="3793" y="1617"/>
                </a:lnTo>
                <a:lnTo>
                  <a:pt x="3827" y="1606"/>
                </a:lnTo>
                <a:lnTo>
                  <a:pt x="3873" y="1583"/>
                </a:lnTo>
                <a:lnTo>
                  <a:pt x="3907" y="1549"/>
                </a:lnTo>
                <a:lnTo>
                  <a:pt x="3952" y="1515"/>
                </a:lnTo>
                <a:lnTo>
                  <a:pt x="3986" y="1504"/>
                </a:lnTo>
                <a:lnTo>
                  <a:pt x="4020" y="1481"/>
                </a:lnTo>
                <a:lnTo>
                  <a:pt x="4054" y="1481"/>
                </a:lnTo>
                <a:lnTo>
                  <a:pt x="4099" y="1458"/>
                </a:lnTo>
                <a:lnTo>
                  <a:pt x="4145" y="1436"/>
                </a:lnTo>
                <a:lnTo>
                  <a:pt x="4178" y="1424"/>
                </a:lnTo>
                <a:lnTo>
                  <a:pt x="4224" y="1402"/>
                </a:lnTo>
                <a:lnTo>
                  <a:pt x="4269" y="1368"/>
                </a:lnTo>
                <a:lnTo>
                  <a:pt x="4314" y="1345"/>
                </a:lnTo>
                <a:lnTo>
                  <a:pt x="4360" y="1323"/>
                </a:lnTo>
                <a:lnTo>
                  <a:pt x="4405" y="1289"/>
                </a:lnTo>
                <a:lnTo>
                  <a:pt x="4450" y="1255"/>
                </a:lnTo>
                <a:lnTo>
                  <a:pt x="4484" y="1221"/>
                </a:lnTo>
                <a:lnTo>
                  <a:pt x="4518" y="1187"/>
                </a:lnTo>
                <a:lnTo>
                  <a:pt x="4552" y="1164"/>
                </a:lnTo>
                <a:lnTo>
                  <a:pt x="4575" y="1130"/>
                </a:lnTo>
                <a:lnTo>
                  <a:pt x="4586" y="10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16765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25146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5909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7242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0481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36576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209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286000"/>
            <a:ext cx="121932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80920" y="3048120"/>
            <a:ext cx="1295640" cy="609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733920"/>
            <a:ext cx="4343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length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hortest path. Algorithm doesn’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generate up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umber of vertices) paths (including path from source to itsel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kstra’s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these up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s in order of increasing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edge costs (lengths) a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gt;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no path has leng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hortest path is from the source vertex to itself. The length of this path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086600" y="1523880"/>
            <a:ext cx="1143000" cy="152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33920" y="1371240"/>
            <a:ext cx="297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54040" y="14540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76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540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0768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648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05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139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60720" y="21178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1149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65480" y="1127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7480" y="3054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1120" y="30322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1905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05120"/>
            <a:ext cx="1523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440" y="1905120"/>
            <a:ext cx="1600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1828800"/>
            <a:ext cx="1219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5120" y="2362320"/>
            <a:ext cx="2895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80920" y="2590920"/>
            <a:ext cx="12956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2767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438280"/>
            <a:ext cx="2819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52480"/>
            <a:ext cx="7281720" cy="2668680"/>
          </a:xfrm>
          <a:custGeom>
            <a:avLst/>
            <a:gdLst/>
            <a:ahLst/>
            <a:rect l="l" t="t" r="r" b="b"/>
            <a:pathLst>
              <a:path w="4587" h="1681">
                <a:moveTo>
                  <a:pt x="410" y="0"/>
                </a:moveTo>
                <a:lnTo>
                  <a:pt x="362" y="28"/>
                </a:lnTo>
                <a:lnTo>
                  <a:pt x="306" y="58"/>
                </a:lnTo>
                <a:lnTo>
                  <a:pt x="272" y="78"/>
                </a:lnTo>
                <a:lnTo>
                  <a:pt x="249" y="108"/>
                </a:lnTo>
                <a:lnTo>
                  <a:pt x="226" y="148"/>
                </a:lnTo>
                <a:lnTo>
                  <a:pt x="215" y="178"/>
                </a:lnTo>
                <a:lnTo>
                  <a:pt x="193" y="208"/>
                </a:lnTo>
                <a:lnTo>
                  <a:pt x="170" y="238"/>
                </a:lnTo>
                <a:lnTo>
                  <a:pt x="159" y="268"/>
                </a:lnTo>
                <a:lnTo>
                  <a:pt x="136" y="298"/>
                </a:lnTo>
                <a:lnTo>
                  <a:pt x="125" y="328"/>
                </a:lnTo>
                <a:lnTo>
                  <a:pt x="91" y="378"/>
                </a:lnTo>
                <a:lnTo>
                  <a:pt x="79" y="419"/>
                </a:lnTo>
                <a:lnTo>
                  <a:pt x="57" y="468"/>
                </a:lnTo>
                <a:lnTo>
                  <a:pt x="45" y="498"/>
                </a:lnTo>
                <a:lnTo>
                  <a:pt x="34" y="539"/>
                </a:lnTo>
                <a:lnTo>
                  <a:pt x="23" y="588"/>
                </a:lnTo>
                <a:lnTo>
                  <a:pt x="23" y="628"/>
                </a:lnTo>
                <a:lnTo>
                  <a:pt x="11" y="669"/>
                </a:lnTo>
                <a:lnTo>
                  <a:pt x="11" y="699"/>
                </a:lnTo>
                <a:lnTo>
                  <a:pt x="0" y="729"/>
                </a:lnTo>
                <a:lnTo>
                  <a:pt x="0" y="759"/>
                </a:lnTo>
                <a:lnTo>
                  <a:pt x="0" y="789"/>
                </a:lnTo>
                <a:lnTo>
                  <a:pt x="0" y="818"/>
                </a:lnTo>
                <a:lnTo>
                  <a:pt x="0" y="869"/>
                </a:lnTo>
                <a:lnTo>
                  <a:pt x="0" y="899"/>
                </a:lnTo>
                <a:lnTo>
                  <a:pt x="23" y="939"/>
                </a:lnTo>
                <a:lnTo>
                  <a:pt x="34" y="969"/>
                </a:lnTo>
                <a:lnTo>
                  <a:pt x="68" y="1029"/>
                </a:lnTo>
                <a:lnTo>
                  <a:pt x="79" y="1059"/>
                </a:lnTo>
                <a:lnTo>
                  <a:pt x="125" y="1109"/>
                </a:lnTo>
                <a:lnTo>
                  <a:pt x="159" y="1149"/>
                </a:lnTo>
                <a:lnTo>
                  <a:pt x="215" y="1179"/>
                </a:lnTo>
                <a:lnTo>
                  <a:pt x="283" y="1209"/>
                </a:lnTo>
                <a:lnTo>
                  <a:pt x="328" y="1229"/>
                </a:lnTo>
                <a:lnTo>
                  <a:pt x="385" y="1259"/>
                </a:lnTo>
                <a:lnTo>
                  <a:pt x="442" y="1279"/>
                </a:lnTo>
                <a:lnTo>
                  <a:pt x="532" y="1309"/>
                </a:lnTo>
                <a:lnTo>
                  <a:pt x="645" y="1339"/>
                </a:lnTo>
                <a:lnTo>
                  <a:pt x="747" y="1369"/>
                </a:lnTo>
                <a:lnTo>
                  <a:pt x="872" y="1399"/>
                </a:lnTo>
                <a:lnTo>
                  <a:pt x="974" y="1409"/>
                </a:lnTo>
                <a:lnTo>
                  <a:pt x="1076" y="1429"/>
                </a:lnTo>
                <a:lnTo>
                  <a:pt x="1200" y="1450"/>
                </a:lnTo>
                <a:lnTo>
                  <a:pt x="1348" y="1480"/>
                </a:lnTo>
                <a:lnTo>
                  <a:pt x="1517" y="1529"/>
                </a:lnTo>
                <a:lnTo>
                  <a:pt x="1676" y="1569"/>
                </a:lnTo>
                <a:lnTo>
                  <a:pt x="1789" y="1599"/>
                </a:lnTo>
                <a:lnTo>
                  <a:pt x="1914" y="1619"/>
                </a:lnTo>
                <a:lnTo>
                  <a:pt x="2061" y="1640"/>
                </a:lnTo>
                <a:lnTo>
                  <a:pt x="2231" y="1659"/>
                </a:lnTo>
                <a:lnTo>
                  <a:pt x="2401" y="1670"/>
                </a:lnTo>
                <a:lnTo>
                  <a:pt x="2548" y="1680"/>
                </a:lnTo>
                <a:lnTo>
                  <a:pt x="2638" y="1680"/>
                </a:lnTo>
                <a:lnTo>
                  <a:pt x="2706" y="1680"/>
                </a:lnTo>
                <a:lnTo>
                  <a:pt x="2797" y="1659"/>
                </a:lnTo>
                <a:lnTo>
                  <a:pt x="2910" y="1649"/>
                </a:lnTo>
                <a:lnTo>
                  <a:pt x="3035" y="1629"/>
                </a:lnTo>
                <a:lnTo>
                  <a:pt x="3159" y="1629"/>
                </a:lnTo>
                <a:lnTo>
                  <a:pt x="3250" y="1619"/>
                </a:lnTo>
                <a:lnTo>
                  <a:pt x="3295" y="1610"/>
                </a:lnTo>
                <a:lnTo>
                  <a:pt x="3329" y="1589"/>
                </a:lnTo>
                <a:lnTo>
                  <a:pt x="3374" y="1569"/>
                </a:lnTo>
                <a:lnTo>
                  <a:pt x="3408" y="1550"/>
                </a:lnTo>
                <a:lnTo>
                  <a:pt x="3454" y="1519"/>
                </a:lnTo>
                <a:lnTo>
                  <a:pt x="3499" y="1509"/>
                </a:lnTo>
                <a:lnTo>
                  <a:pt x="3556" y="1499"/>
                </a:lnTo>
                <a:lnTo>
                  <a:pt x="3601" y="1489"/>
                </a:lnTo>
                <a:lnTo>
                  <a:pt x="3646" y="1469"/>
                </a:lnTo>
                <a:lnTo>
                  <a:pt x="3726" y="1450"/>
                </a:lnTo>
                <a:lnTo>
                  <a:pt x="3793" y="1429"/>
                </a:lnTo>
                <a:lnTo>
                  <a:pt x="3827" y="1420"/>
                </a:lnTo>
                <a:lnTo>
                  <a:pt x="3873" y="1399"/>
                </a:lnTo>
                <a:lnTo>
                  <a:pt x="3907" y="1369"/>
                </a:lnTo>
                <a:lnTo>
                  <a:pt x="3952" y="1339"/>
                </a:lnTo>
                <a:lnTo>
                  <a:pt x="3986" y="1329"/>
                </a:lnTo>
                <a:lnTo>
                  <a:pt x="4020" y="1309"/>
                </a:lnTo>
                <a:lnTo>
                  <a:pt x="4054" y="1309"/>
                </a:lnTo>
                <a:lnTo>
                  <a:pt x="4099" y="1289"/>
                </a:lnTo>
                <a:lnTo>
                  <a:pt x="4145" y="1269"/>
                </a:lnTo>
                <a:lnTo>
                  <a:pt x="4178" y="1259"/>
                </a:lnTo>
                <a:lnTo>
                  <a:pt x="4224" y="1239"/>
                </a:lnTo>
                <a:lnTo>
                  <a:pt x="4269" y="1209"/>
                </a:lnTo>
                <a:lnTo>
                  <a:pt x="4314" y="1189"/>
                </a:lnTo>
                <a:lnTo>
                  <a:pt x="4360" y="1169"/>
                </a:lnTo>
                <a:lnTo>
                  <a:pt x="4405" y="1139"/>
                </a:lnTo>
                <a:lnTo>
                  <a:pt x="4450" y="1109"/>
                </a:lnTo>
                <a:lnTo>
                  <a:pt x="4484" y="1079"/>
                </a:lnTo>
                <a:lnTo>
                  <a:pt x="4518" y="1049"/>
                </a:lnTo>
                <a:lnTo>
                  <a:pt x="4552" y="1029"/>
                </a:lnTo>
                <a:lnTo>
                  <a:pt x="4575" y="999"/>
                </a:lnTo>
                <a:lnTo>
                  <a:pt x="4586" y="9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12193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18288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20574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990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133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160020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862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2590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1752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26708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4343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1040" y="4861080"/>
            <a:ext cx="2889360" cy="534960"/>
            <a:chOff x="311040" y="4861080"/>
            <a:chExt cx="2889360" cy="534960"/>
          </a:xfrm>
        </p:grpSpPr>
        <p:sp>
          <p:nvSpPr>
            <p:cNvPr id="240" name=""/>
            <p:cNvSpPr/>
            <p:nvPr/>
          </p:nvSpPr>
          <p:spPr>
            <a:xfrm>
              <a:off x="311040" y="4883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80" y="486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9520" y="48769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1040" y="5410080"/>
            <a:ext cx="2889360" cy="527040"/>
            <a:chOff x="311040" y="5410080"/>
            <a:chExt cx="2889360" cy="527040"/>
          </a:xfrm>
        </p:grpSpPr>
        <p:sp>
          <p:nvSpPr>
            <p:cNvPr id="244" name=""/>
            <p:cNvSpPr/>
            <p:nvPr/>
          </p:nvSpPr>
          <p:spPr>
            <a:xfrm>
              <a:off x="31104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68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01760" y="5492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55400" y="5470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9520" y="5410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1040" y="6095880"/>
            <a:ext cx="2889360" cy="527040"/>
            <a:chOff x="311040" y="6095880"/>
            <a:chExt cx="2889360" cy="527040"/>
          </a:xfrm>
        </p:grpSpPr>
        <p:sp>
          <p:nvSpPr>
            <p:cNvPr id="251" name=""/>
            <p:cNvSpPr/>
            <p:nvPr/>
          </p:nvSpPr>
          <p:spPr>
            <a:xfrm>
              <a:off x="311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01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55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9520" y="60958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2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6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2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02160" y="4343400"/>
            <a:ext cx="4336920" cy="603360"/>
            <a:chOff x="4502160" y="4343400"/>
            <a:chExt cx="4336920" cy="603360"/>
          </a:xfrm>
        </p:grpSpPr>
        <p:sp>
          <p:nvSpPr>
            <p:cNvPr id="261" name=""/>
            <p:cNvSpPr/>
            <p:nvPr/>
          </p:nvSpPr>
          <p:spPr>
            <a:xfrm>
              <a:off x="4502160" y="4502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580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92880" y="45021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6520" y="4479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288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58200" y="43434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502160" y="5105520"/>
            <a:ext cx="4336920" cy="527040"/>
            <a:chOff x="4502160" y="5105520"/>
            <a:chExt cx="4336920" cy="527040"/>
          </a:xfrm>
        </p:grpSpPr>
        <p:sp>
          <p:nvSpPr>
            <p:cNvPr id="268" name=""/>
            <p:cNvSpPr/>
            <p:nvPr/>
          </p:nvSpPr>
          <p:spPr>
            <a:xfrm>
              <a:off x="4502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558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2880" y="5187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4652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510552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324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688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5410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9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7600" y="5165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410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02160" y="5715000"/>
            <a:ext cx="4336920" cy="527040"/>
            <a:chOff x="4502160" y="5715000"/>
            <a:chExt cx="4336920" cy="527040"/>
          </a:xfrm>
        </p:grpSpPr>
        <p:sp>
          <p:nvSpPr>
            <p:cNvPr id="281" name=""/>
            <p:cNvSpPr/>
            <p:nvPr/>
          </p:nvSpPr>
          <p:spPr>
            <a:xfrm>
              <a:off x="450216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580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2880" y="57974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652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571500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3240" y="5797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36880" y="5775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3600" y="60199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02160" y="6248520"/>
            <a:ext cx="4336920" cy="527040"/>
            <a:chOff x="4502160" y="6248520"/>
            <a:chExt cx="4336920" cy="527040"/>
          </a:xfrm>
        </p:grpSpPr>
        <p:sp>
          <p:nvSpPr>
            <p:cNvPr id="291" name=""/>
            <p:cNvSpPr/>
            <p:nvPr/>
          </p:nvSpPr>
          <p:spPr>
            <a:xfrm>
              <a:off x="45021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558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2880" y="6330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652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29600" y="624852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324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3688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600" y="6553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3960" y="6330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7600" y="6308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6553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ngle Source All Destination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0160" y="3403440"/>
            <a:ext cx="777240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91440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680" y="1454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320" y="1432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14479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6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732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4040" y="2216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07680" y="2193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243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13372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36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73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404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768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8954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4760" y="2901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98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124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63680" y="3429000"/>
            <a:ext cx="4336920" cy="603360"/>
            <a:chOff x="463680" y="3429000"/>
            <a:chExt cx="4336920" cy="603360"/>
          </a:xfrm>
        </p:grpSpPr>
        <p:sp>
          <p:nvSpPr>
            <p:cNvPr id="326" name=""/>
            <p:cNvSpPr/>
            <p:nvPr/>
          </p:nvSpPr>
          <p:spPr>
            <a:xfrm>
              <a:off x="463680" y="3587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732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540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07680" y="3565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14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342900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63680" y="4267080"/>
            <a:ext cx="4336920" cy="527040"/>
            <a:chOff x="463680" y="4267080"/>
            <a:chExt cx="4336920" cy="527040"/>
          </a:xfrm>
        </p:grpSpPr>
        <p:sp>
          <p:nvSpPr>
            <p:cNvPr id="33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73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404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768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1440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19720" y="4267080"/>
              <a:ext cx="38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9840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4572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89120" y="43275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4572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63680" y="5181480"/>
            <a:ext cx="4336920" cy="527040"/>
            <a:chOff x="463680" y="5181480"/>
            <a:chExt cx="4336920" cy="527040"/>
          </a:xfrm>
        </p:grpSpPr>
        <p:sp>
          <p:nvSpPr>
            <p:cNvPr id="346" name=""/>
            <p:cNvSpPr/>
            <p:nvPr/>
          </p:nvSpPr>
          <p:spPr>
            <a:xfrm>
              <a:off x="463680" y="52642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32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404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768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4400" y="54864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1120" y="51814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4760" y="52642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52419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5120" y="5486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3680" y="6095880"/>
            <a:ext cx="4336920" cy="527040"/>
            <a:chOff x="463680" y="6095880"/>
            <a:chExt cx="4336920" cy="527040"/>
          </a:xfrm>
        </p:grpSpPr>
        <p:sp>
          <p:nvSpPr>
            <p:cNvPr id="356" name=""/>
            <p:cNvSpPr/>
            <p:nvPr/>
          </p:nvSpPr>
          <p:spPr>
            <a:xfrm>
              <a:off x="4636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73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404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0768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440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91120" y="6095880"/>
              <a:ext cx="60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4760" y="6178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840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6400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54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89120" y="615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6400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334120" y="1371600"/>
            <a:ext cx="37335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th (other than first) is a one edge extension of a previous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hortest path is the shortest one edge extension of an already generated shortest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6-07-18T17:18:01Z</dcterms:modified>
  <cp:revision>86</cp:revision>
  <dc:subject/>
  <dc:title>Data Representation Methods</dc:title>
</cp:coreProperties>
</file>