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4F58B0-F0D7-4630-B34A-5ABC465F52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, mark, and label used as synony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rack of edges used to reach new vertices. These edges form a spanning tree if the graph is 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vertices adjacent from v are examined one at a time. As soon as an unreached adjacent vertex u is found, a dfs(u) is done. Remaining vertices adjacent from v are examined after dfs(u) compl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29B-C69A-474D-A7AD-8F3D626E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693-F24A-4BD4-B17B-AEDE258E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E4D-5AB6-4EFB-867A-C9801609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53F-38F8-4795-8A74-A1FDF932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287-B331-4A17-9588-95138D75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96E-1D16-4243-A3B8-5474F0FB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6E9-1F98-456D-9E0D-F6E062FD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A4C-296A-4D49-A9FF-72DED21B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78C-8A4C-4426-823E-5A500D6F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6D4-D049-4BF9-B790-B371854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FE6-62AF-4635-A1E4-653F8BB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9E4-4588-4FA2-B89A-8D7255B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F5EA-F744-489C-BA92-CB0C48337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ach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there is a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51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456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45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46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46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47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47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47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48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48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880" y="5029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488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492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495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536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539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543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546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550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553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557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560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56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568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572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575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57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2720" y="6033960"/>
            <a:ext cx="4467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7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58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624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62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63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63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63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64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64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648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65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656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660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663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667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670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67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 flipH="1">
            <a:off x="1150920" y="4302000"/>
            <a:ext cx="1736640" cy="648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715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718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72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725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72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732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73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739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74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746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750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753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757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760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76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 flipV="1">
            <a:off x="5819760" y="2307960"/>
            <a:ext cx="154296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7000" y="5958000"/>
            <a:ext cx="212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805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808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81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815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81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822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82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829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83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836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840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843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847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850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85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6640" y="5958000"/>
            <a:ext cx="2144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(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85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899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90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90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909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91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916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92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923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92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930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934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937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941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944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948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382680" y="4890960"/>
            <a:ext cx="40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952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95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 flipV="1">
            <a:off x="4143240" y="2003040"/>
            <a:ext cx="1543320" cy="793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99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00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00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00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01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01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01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02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025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028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032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035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039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042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046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1049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1053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 flipH="1" flipV="1">
            <a:off x="926640" y="436320"/>
            <a:ext cx="1575000" cy="72684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1094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09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110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10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1108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111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1115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118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1122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125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1129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132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216160" y="2590920"/>
            <a:ext cx="444600" cy="450720"/>
            <a:chOff x="2216160" y="2590920"/>
            <a:chExt cx="444600" cy="450720"/>
          </a:xfrm>
        </p:grpSpPr>
        <p:sp>
          <p:nvSpPr>
            <p:cNvPr id="113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139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4959360" y="4273560"/>
            <a:ext cx="444600" cy="467280"/>
            <a:chOff x="4959360" y="4273560"/>
            <a:chExt cx="444600" cy="467280"/>
          </a:xfrm>
        </p:grpSpPr>
        <p:sp>
          <p:nvSpPr>
            <p:cNvPr id="1143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1146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4197240" y="1371600"/>
            <a:ext cx="444600" cy="450720"/>
            <a:chOff x="4197240" y="1371600"/>
            <a:chExt cx="444600" cy="450720"/>
          </a:xfrm>
        </p:grpSpPr>
        <p:sp>
          <p:nvSpPr>
            <p:cNvPr id="1150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 flipV="1">
            <a:off x="151920" y="1294920"/>
            <a:ext cx="1435320" cy="63036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80880" y="56383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o invoking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Proper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ertices reachable from the start vertex (including the start vertex)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From Vertex v To Vertex u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depth-firs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 wh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visited or w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f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hichever occurs fir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arch method starts at a given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visits/labels/marks every vertex that is reachable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00200" y="2895480"/>
            <a:ext cx="5403960" cy="3667680"/>
            <a:chOff x="1600200" y="2895480"/>
            <a:chExt cx="5403960" cy="3667680"/>
          </a:xfrm>
        </p:grpSpPr>
        <p:sp>
          <p:nvSpPr>
            <p:cNvPr id="84" name=""/>
            <p:cNvSpPr/>
            <p:nvPr/>
          </p:nvSpPr>
          <p:spPr>
            <a:xfrm>
              <a:off x="1600200" y="37339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289548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32004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350532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53080" y="502920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441972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33920" y="457200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4724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58672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609588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974600" y="3270240"/>
              <a:ext cx="609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89360" y="3346560"/>
              <a:ext cx="99036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4960" y="418464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32000" y="357516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479920" y="3956040"/>
              <a:ext cx="4572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242040" y="547992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0760" y="296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60960" y="3193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1160" y="35751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46960" y="50990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0040" y="380376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9520" y="4413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3760" y="46418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794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7120" y="61657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1640" y="59371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22720" y="6165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1640" y="3117960"/>
              <a:ext cx="11430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422520" y="509904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s The Graph Connected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dep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is connected iff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es get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depth-first search at any as yet unvisited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visited vertices (plus edges between them) define a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until all vertices are vis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nected Compon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447920" y="1828800"/>
            <a:ext cx="5403240" cy="3667320"/>
            <a:chOff x="1447920" y="1828800"/>
            <a:chExt cx="5403240" cy="3667320"/>
          </a:xfrm>
        </p:grpSpPr>
        <p:sp>
          <p:nvSpPr>
            <p:cNvPr id="1164" name=""/>
            <p:cNvSpPr/>
            <p:nvPr/>
          </p:nvSpPr>
          <p:spPr>
            <a:xfrm>
              <a:off x="1447920" y="26668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438280" y="182880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38480" y="21333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638680" y="2438280"/>
              <a:ext cx="44388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00440" y="396216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57040" y="3352680"/>
              <a:ext cx="444240" cy="443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81280" y="3504960"/>
              <a:ext cx="44388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105160" y="3657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9096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19160" y="48002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00240" y="502884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1822320" y="2203200"/>
              <a:ext cx="609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736720" y="2279520"/>
              <a:ext cx="990000" cy="12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22320" y="3117600"/>
              <a:ext cx="304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879720" y="2508120"/>
              <a:ext cx="532800" cy="9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326920" y="2889000"/>
              <a:ext cx="45684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6089400" y="441252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08120" y="18982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08320" y="21268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08520" y="25081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94320" y="4032000"/>
              <a:ext cx="456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17400" y="27367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26880" y="33462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51120" y="357480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75000" y="3727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784480" y="50986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889000" y="48700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870080" y="509868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889000" y="2050920"/>
              <a:ext cx="114264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3269880" y="4031640"/>
              <a:ext cx="1904760" cy="83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371520" y="1530360"/>
            <a:ext cx="4405320" cy="2946240"/>
          </a:xfrm>
          <a:custGeom>
            <a:avLst/>
            <a:gdLst/>
            <a:ahLst/>
            <a:rect l="l" t="t" r="r" b="b"/>
            <a:pathLst>
              <a:path w="2775" h="1856">
                <a:moveTo>
                  <a:pt x="192" y="1803"/>
                </a:moveTo>
                <a:cubicBezTo>
                  <a:pt x="326" y="1811"/>
                  <a:pt x="458" y="1852"/>
                  <a:pt x="592" y="1853"/>
                </a:cubicBezTo>
                <a:cubicBezTo>
                  <a:pt x="909" y="1856"/>
                  <a:pt x="1227" y="1836"/>
                  <a:pt x="1544" y="1828"/>
                </a:cubicBezTo>
                <a:cubicBezTo>
                  <a:pt x="1758" y="1738"/>
                  <a:pt x="1524" y="1825"/>
                  <a:pt x="1970" y="1766"/>
                </a:cubicBezTo>
                <a:cubicBezTo>
                  <a:pt x="1989" y="1764"/>
                  <a:pt x="2076" y="1712"/>
                  <a:pt x="2120" y="1703"/>
                </a:cubicBezTo>
                <a:cubicBezTo>
                  <a:pt x="2196" y="1647"/>
                  <a:pt x="2282" y="1609"/>
                  <a:pt x="2358" y="1553"/>
                </a:cubicBezTo>
                <a:cubicBezTo>
                  <a:pt x="2427" y="1448"/>
                  <a:pt x="2375" y="1304"/>
                  <a:pt x="2433" y="1190"/>
                </a:cubicBezTo>
                <a:cubicBezTo>
                  <a:pt x="2465" y="1127"/>
                  <a:pt x="2507" y="1116"/>
                  <a:pt x="2546" y="1065"/>
                </a:cubicBezTo>
                <a:cubicBezTo>
                  <a:pt x="2641" y="942"/>
                  <a:pt x="2519" y="1062"/>
                  <a:pt x="2633" y="939"/>
                </a:cubicBezTo>
                <a:cubicBezTo>
                  <a:pt x="2665" y="904"/>
                  <a:pt x="2734" y="839"/>
                  <a:pt x="2734" y="839"/>
                </a:cubicBezTo>
                <a:cubicBezTo>
                  <a:pt x="2756" y="770"/>
                  <a:pt x="2757" y="697"/>
                  <a:pt x="2771" y="626"/>
                </a:cubicBezTo>
                <a:cubicBezTo>
                  <a:pt x="2767" y="522"/>
                  <a:pt x="2775" y="416"/>
                  <a:pt x="2759" y="313"/>
                </a:cubicBezTo>
                <a:cubicBezTo>
                  <a:pt x="2738" y="179"/>
                  <a:pt x="2470" y="193"/>
                  <a:pt x="2396" y="188"/>
                </a:cubicBezTo>
                <a:cubicBezTo>
                  <a:pt x="2358" y="171"/>
                  <a:pt x="2320" y="156"/>
                  <a:pt x="2283" y="138"/>
                </a:cubicBezTo>
                <a:cubicBezTo>
                  <a:pt x="2249" y="122"/>
                  <a:pt x="2220" y="91"/>
                  <a:pt x="2183" y="88"/>
                </a:cubicBezTo>
                <a:cubicBezTo>
                  <a:pt x="2124" y="84"/>
                  <a:pt x="2066" y="79"/>
                  <a:pt x="2007" y="75"/>
                </a:cubicBezTo>
                <a:cubicBezTo>
                  <a:pt x="1797" y="37"/>
                  <a:pt x="1593" y="20"/>
                  <a:pt x="1381" y="0"/>
                </a:cubicBezTo>
                <a:cubicBezTo>
                  <a:pt x="1373" y="13"/>
                  <a:pt x="1371" y="36"/>
                  <a:pt x="1356" y="38"/>
                </a:cubicBezTo>
                <a:cubicBezTo>
                  <a:pt x="1182" y="64"/>
                  <a:pt x="1005" y="52"/>
                  <a:pt x="830" y="63"/>
                </a:cubicBezTo>
                <a:cubicBezTo>
                  <a:pt x="736" y="94"/>
                  <a:pt x="542" y="138"/>
                  <a:pt x="542" y="138"/>
                </a:cubicBezTo>
                <a:cubicBezTo>
                  <a:pt x="471" y="191"/>
                  <a:pt x="445" y="266"/>
                  <a:pt x="380" y="326"/>
                </a:cubicBezTo>
                <a:cubicBezTo>
                  <a:pt x="345" y="358"/>
                  <a:pt x="303" y="382"/>
                  <a:pt x="267" y="413"/>
                </a:cubicBezTo>
                <a:cubicBezTo>
                  <a:pt x="220" y="454"/>
                  <a:pt x="188" y="490"/>
                  <a:pt x="154" y="539"/>
                </a:cubicBezTo>
                <a:cubicBezTo>
                  <a:pt x="137" y="564"/>
                  <a:pt x="104" y="614"/>
                  <a:pt x="104" y="614"/>
                </a:cubicBezTo>
                <a:cubicBezTo>
                  <a:pt x="79" y="693"/>
                  <a:pt x="60" y="771"/>
                  <a:pt x="41" y="852"/>
                </a:cubicBezTo>
                <a:cubicBezTo>
                  <a:pt x="53" y="1092"/>
                  <a:pt x="0" y="1120"/>
                  <a:pt x="179" y="1227"/>
                </a:cubicBezTo>
                <a:cubicBezTo>
                  <a:pt x="232" y="1431"/>
                  <a:pt x="199" y="1532"/>
                  <a:pt x="192" y="1803"/>
                </a:cubicBezTo>
                <a:close/>
              </a:path>
            </a:pathLst>
          </a:custGeom>
          <a:noFill/>
          <a:ln w="5724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265480" y="2346480"/>
            <a:ext cx="4219560" cy="3008160"/>
          </a:xfrm>
          <a:custGeom>
            <a:avLst/>
            <a:gdLst/>
            <a:ahLst/>
            <a:rect l="l" t="t" r="r" b="b"/>
            <a:pathLst>
              <a:path w="2658" h="1895">
                <a:moveTo>
                  <a:pt x="126" y="1890"/>
                </a:moveTo>
                <a:cubicBezTo>
                  <a:pt x="130" y="1848"/>
                  <a:pt x="126" y="1805"/>
                  <a:pt x="138" y="1765"/>
                </a:cubicBezTo>
                <a:cubicBezTo>
                  <a:pt x="143" y="1748"/>
                  <a:pt x="166" y="1743"/>
                  <a:pt x="176" y="1728"/>
                </a:cubicBezTo>
                <a:cubicBezTo>
                  <a:pt x="183" y="1717"/>
                  <a:pt x="185" y="1703"/>
                  <a:pt x="188" y="1690"/>
                </a:cubicBezTo>
                <a:cubicBezTo>
                  <a:pt x="196" y="1657"/>
                  <a:pt x="189" y="1614"/>
                  <a:pt x="213" y="1590"/>
                </a:cubicBezTo>
                <a:cubicBezTo>
                  <a:pt x="222" y="1581"/>
                  <a:pt x="238" y="1579"/>
                  <a:pt x="251" y="1577"/>
                </a:cubicBezTo>
                <a:cubicBezTo>
                  <a:pt x="305" y="1570"/>
                  <a:pt x="360" y="1569"/>
                  <a:pt x="414" y="1565"/>
                </a:cubicBezTo>
                <a:cubicBezTo>
                  <a:pt x="473" y="1550"/>
                  <a:pt x="526" y="1536"/>
                  <a:pt x="576" y="1502"/>
                </a:cubicBezTo>
                <a:cubicBezTo>
                  <a:pt x="652" y="1393"/>
                  <a:pt x="797" y="1445"/>
                  <a:pt x="927" y="1440"/>
                </a:cubicBezTo>
                <a:cubicBezTo>
                  <a:pt x="948" y="1409"/>
                  <a:pt x="963" y="1388"/>
                  <a:pt x="977" y="1352"/>
                </a:cubicBezTo>
                <a:cubicBezTo>
                  <a:pt x="983" y="1336"/>
                  <a:pt x="979" y="1315"/>
                  <a:pt x="990" y="1302"/>
                </a:cubicBezTo>
                <a:cubicBezTo>
                  <a:pt x="1003" y="1286"/>
                  <a:pt x="1124" y="1277"/>
                  <a:pt x="1127" y="1277"/>
                </a:cubicBezTo>
                <a:cubicBezTo>
                  <a:pt x="1191" y="1259"/>
                  <a:pt x="1250" y="1240"/>
                  <a:pt x="1315" y="1227"/>
                </a:cubicBezTo>
                <a:cubicBezTo>
                  <a:pt x="1416" y="1176"/>
                  <a:pt x="1481" y="1104"/>
                  <a:pt x="1516" y="1001"/>
                </a:cubicBezTo>
                <a:cubicBezTo>
                  <a:pt x="1519" y="977"/>
                  <a:pt x="1520" y="888"/>
                  <a:pt x="1541" y="851"/>
                </a:cubicBezTo>
                <a:cubicBezTo>
                  <a:pt x="1589" y="767"/>
                  <a:pt x="1556" y="823"/>
                  <a:pt x="1616" y="788"/>
                </a:cubicBezTo>
                <a:cubicBezTo>
                  <a:pt x="1777" y="694"/>
                  <a:pt x="1674" y="730"/>
                  <a:pt x="1766" y="701"/>
                </a:cubicBezTo>
                <a:cubicBezTo>
                  <a:pt x="1783" y="688"/>
                  <a:pt x="1802" y="679"/>
                  <a:pt x="1816" y="663"/>
                </a:cubicBezTo>
                <a:cubicBezTo>
                  <a:pt x="1866" y="606"/>
                  <a:pt x="1859" y="565"/>
                  <a:pt x="1916" y="525"/>
                </a:cubicBezTo>
                <a:cubicBezTo>
                  <a:pt x="1972" y="441"/>
                  <a:pt x="1962" y="442"/>
                  <a:pt x="1991" y="350"/>
                </a:cubicBezTo>
                <a:cubicBezTo>
                  <a:pt x="1996" y="296"/>
                  <a:pt x="2005" y="84"/>
                  <a:pt x="2029" y="25"/>
                </a:cubicBezTo>
                <a:cubicBezTo>
                  <a:pt x="2035" y="11"/>
                  <a:pt x="2054" y="8"/>
                  <a:pt x="2067" y="0"/>
                </a:cubicBezTo>
                <a:cubicBezTo>
                  <a:pt x="2171" y="4"/>
                  <a:pt x="2276" y="1"/>
                  <a:pt x="2380" y="12"/>
                </a:cubicBezTo>
                <a:cubicBezTo>
                  <a:pt x="2399" y="14"/>
                  <a:pt x="2413" y="30"/>
                  <a:pt x="2430" y="37"/>
                </a:cubicBezTo>
                <a:cubicBezTo>
                  <a:pt x="2471" y="52"/>
                  <a:pt x="2514" y="61"/>
                  <a:pt x="2555" y="75"/>
                </a:cubicBezTo>
                <a:cubicBezTo>
                  <a:pt x="2567" y="79"/>
                  <a:pt x="2592" y="87"/>
                  <a:pt x="2592" y="87"/>
                </a:cubicBezTo>
                <a:cubicBezTo>
                  <a:pt x="2609" y="137"/>
                  <a:pt x="2620" y="185"/>
                  <a:pt x="2630" y="237"/>
                </a:cubicBezTo>
                <a:cubicBezTo>
                  <a:pt x="2576" y="504"/>
                  <a:pt x="2658" y="410"/>
                  <a:pt x="2380" y="438"/>
                </a:cubicBezTo>
                <a:cubicBezTo>
                  <a:pt x="2367" y="439"/>
                  <a:pt x="2355" y="446"/>
                  <a:pt x="2342" y="450"/>
                </a:cubicBezTo>
                <a:cubicBezTo>
                  <a:pt x="2350" y="475"/>
                  <a:pt x="2359" y="500"/>
                  <a:pt x="2367" y="525"/>
                </a:cubicBezTo>
                <a:cubicBezTo>
                  <a:pt x="2371" y="538"/>
                  <a:pt x="2380" y="563"/>
                  <a:pt x="2380" y="563"/>
                </a:cubicBezTo>
                <a:cubicBezTo>
                  <a:pt x="2374" y="613"/>
                  <a:pt x="2382" y="670"/>
                  <a:pt x="2355" y="713"/>
                </a:cubicBezTo>
                <a:cubicBezTo>
                  <a:pt x="2232" y="909"/>
                  <a:pt x="2373" y="637"/>
                  <a:pt x="2267" y="851"/>
                </a:cubicBezTo>
                <a:cubicBezTo>
                  <a:pt x="2251" y="929"/>
                  <a:pt x="2263" y="1012"/>
                  <a:pt x="2242" y="1089"/>
                </a:cubicBezTo>
                <a:cubicBezTo>
                  <a:pt x="2239" y="1102"/>
                  <a:pt x="2217" y="1097"/>
                  <a:pt x="2204" y="1101"/>
                </a:cubicBezTo>
                <a:cubicBezTo>
                  <a:pt x="2080" y="1135"/>
                  <a:pt x="2125" y="1125"/>
                  <a:pt x="1991" y="1139"/>
                </a:cubicBezTo>
                <a:cubicBezTo>
                  <a:pt x="1937" y="1166"/>
                  <a:pt x="1873" y="1183"/>
                  <a:pt x="1829" y="1227"/>
                </a:cubicBezTo>
                <a:cubicBezTo>
                  <a:pt x="1804" y="1252"/>
                  <a:pt x="1779" y="1277"/>
                  <a:pt x="1754" y="1302"/>
                </a:cubicBezTo>
                <a:cubicBezTo>
                  <a:pt x="1743" y="1313"/>
                  <a:pt x="1740" y="1330"/>
                  <a:pt x="1728" y="1339"/>
                </a:cubicBezTo>
                <a:cubicBezTo>
                  <a:pt x="1637" y="1411"/>
                  <a:pt x="1523" y="1453"/>
                  <a:pt x="1415" y="1490"/>
                </a:cubicBezTo>
                <a:cubicBezTo>
                  <a:pt x="1398" y="1502"/>
                  <a:pt x="1378" y="1511"/>
                  <a:pt x="1365" y="1527"/>
                </a:cubicBezTo>
                <a:cubicBezTo>
                  <a:pt x="1357" y="1537"/>
                  <a:pt x="1360" y="1553"/>
                  <a:pt x="1353" y="1565"/>
                </a:cubicBezTo>
                <a:cubicBezTo>
                  <a:pt x="1335" y="1596"/>
                  <a:pt x="1309" y="1622"/>
                  <a:pt x="1290" y="1652"/>
                </a:cubicBezTo>
                <a:cubicBezTo>
                  <a:pt x="1250" y="1716"/>
                  <a:pt x="1227" y="1777"/>
                  <a:pt x="1152" y="1803"/>
                </a:cubicBezTo>
                <a:cubicBezTo>
                  <a:pt x="1090" y="1799"/>
                  <a:pt x="1027" y="1787"/>
                  <a:pt x="965" y="1790"/>
                </a:cubicBezTo>
                <a:cubicBezTo>
                  <a:pt x="885" y="1794"/>
                  <a:pt x="944" y="1827"/>
                  <a:pt x="877" y="1840"/>
                </a:cubicBezTo>
                <a:cubicBezTo>
                  <a:pt x="767" y="1861"/>
                  <a:pt x="650" y="1859"/>
                  <a:pt x="539" y="1878"/>
                </a:cubicBezTo>
                <a:cubicBezTo>
                  <a:pt x="514" y="1874"/>
                  <a:pt x="484" y="1881"/>
                  <a:pt x="464" y="1865"/>
                </a:cubicBezTo>
                <a:cubicBezTo>
                  <a:pt x="454" y="1857"/>
                  <a:pt x="488" y="1834"/>
                  <a:pt x="476" y="1828"/>
                </a:cubicBezTo>
                <a:cubicBezTo>
                  <a:pt x="463" y="1822"/>
                  <a:pt x="454" y="1852"/>
                  <a:pt x="439" y="1853"/>
                </a:cubicBezTo>
                <a:cubicBezTo>
                  <a:pt x="293" y="1864"/>
                  <a:pt x="146" y="1861"/>
                  <a:pt x="0" y="1865"/>
                </a:cubicBezTo>
                <a:cubicBezTo>
                  <a:pt x="92" y="1895"/>
                  <a:pt x="49" y="1890"/>
                  <a:pt x="126" y="1890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532400" y="4809960"/>
            <a:ext cx="873000" cy="1082880"/>
          </a:xfrm>
          <a:custGeom>
            <a:avLst/>
            <a:gdLst/>
            <a:ahLst/>
            <a:rect l="l" t="t" r="r" b="b"/>
            <a:pathLst>
              <a:path w="550" h="682">
                <a:moveTo>
                  <a:pt x="288" y="614"/>
                </a:moveTo>
                <a:cubicBezTo>
                  <a:pt x="321" y="610"/>
                  <a:pt x="357" y="613"/>
                  <a:pt x="388" y="601"/>
                </a:cubicBezTo>
                <a:cubicBezTo>
                  <a:pt x="402" y="595"/>
                  <a:pt x="402" y="574"/>
                  <a:pt x="413" y="564"/>
                </a:cubicBezTo>
                <a:cubicBezTo>
                  <a:pt x="424" y="553"/>
                  <a:pt x="438" y="547"/>
                  <a:pt x="451" y="539"/>
                </a:cubicBezTo>
                <a:cubicBezTo>
                  <a:pt x="471" y="505"/>
                  <a:pt x="497" y="475"/>
                  <a:pt x="513" y="439"/>
                </a:cubicBezTo>
                <a:cubicBezTo>
                  <a:pt x="525" y="411"/>
                  <a:pt x="529" y="380"/>
                  <a:pt x="538" y="351"/>
                </a:cubicBezTo>
                <a:cubicBezTo>
                  <a:pt x="528" y="263"/>
                  <a:pt x="550" y="162"/>
                  <a:pt x="501" y="88"/>
                </a:cubicBezTo>
                <a:cubicBezTo>
                  <a:pt x="471" y="43"/>
                  <a:pt x="363" y="0"/>
                  <a:pt x="363" y="0"/>
                </a:cubicBezTo>
                <a:cubicBezTo>
                  <a:pt x="265" y="8"/>
                  <a:pt x="170" y="13"/>
                  <a:pt x="75" y="38"/>
                </a:cubicBezTo>
                <a:cubicBezTo>
                  <a:pt x="58" y="90"/>
                  <a:pt x="30" y="143"/>
                  <a:pt x="0" y="188"/>
                </a:cubicBezTo>
                <a:cubicBezTo>
                  <a:pt x="4" y="276"/>
                  <a:pt x="6" y="363"/>
                  <a:pt x="12" y="451"/>
                </a:cubicBezTo>
                <a:cubicBezTo>
                  <a:pt x="19" y="560"/>
                  <a:pt x="25" y="604"/>
                  <a:pt x="125" y="639"/>
                </a:cubicBezTo>
                <a:cubicBezTo>
                  <a:pt x="375" y="625"/>
                  <a:pt x="307" y="682"/>
                  <a:pt x="388" y="601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3200" y="3773520"/>
            <a:ext cx="1803240" cy="2090880"/>
          </a:xfrm>
          <a:custGeom>
            <a:avLst/>
            <a:gdLst/>
            <a:ahLst/>
            <a:rect l="l" t="t" r="r" b="b"/>
            <a:pathLst>
              <a:path w="1136" h="1317">
                <a:moveTo>
                  <a:pt x="510" y="1242"/>
                </a:moveTo>
                <a:cubicBezTo>
                  <a:pt x="522" y="1238"/>
                  <a:pt x="539" y="1239"/>
                  <a:pt x="547" y="1229"/>
                </a:cubicBezTo>
                <a:cubicBezTo>
                  <a:pt x="583" y="1184"/>
                  <a:pt x="563" y="1075"/>
                  <a:pt x="597" y="1029"/>
                </a:cubicBezTo>
                <a:cubicBezTo>
                  <a:pt x="672" y="928"/>
                  <a:pt x="634" y="995"/>
                  <a:pt x="710" y="941"/>
                </a:cubicBezTo>
                <a:cubicBezTo>
                  <a:pt x="753" y="911"/>
                  <a:pt x="738" y="899"/>
                  <a:pt x="785" y="879"/>
                </a:cubicBezTo>
                <a:cubicBezTo>
                  <a:pt x="813" y="867"/>
                  <a:pt x="844" y="863"/>
                  <a:pt x="873" y="854"/>
                </a:cubicBezTo>
                <a:cubicBezTo>
                  <a:pt x="932" y="764"/>
                  <a:pt x="926" y="653"/>
                  <a:pt x="961" y="553"/>
                </a:cubicBezTo>
                <a:cubicBezTo>
                  <a:pt x="967" y="537"/>
                  <a:pt x="965" y="518"/>
                  <a:pt x="973" y="503"/>
                </a:cubicBezTo>
                <a:cubicBezTo>
                  <a:pt x="1067" y="315"/>
                  <a:pt x="997" y="471"/>
                  <a:pt x="1086" y="353"/>
                </a:cubicBezTo>
                <a:cubicBezTo>
                  <a:pt x="1106" y="326"/>
                  <a:pt x="1117" y="293"/>
                  <a:pt x="1136" y="265"/>
                </a:cubicBezTo>
                <a:cubicBezTo>
                  <a:pt x="1132" y="227"/>
                  <a:pt x="1135" y="188"/>
                  <a:pt x="1123" y="152"/>
                </a:cubicBezTo>
                <a:cubicBezTo>
                  <a:pt x="1112" y="120"/>
                  <a:pt x="1028" y="83"/>
                  <a:pt x="1011" y="77"/>
                </a:cubicBezTo>
                <a:cubicBezTo>
                  <a:pt x="812" y="0"/>
                  <a:pt x="913" y="63"/>
                  <a:pt x="823" y="2"/>
                </a:cubicBezTo>
                <a:cubicBezTo>
                  <a:pt x="810" y="6"/>
                  <a:pt x="797" y="9"/>
                  <a:pt x="785" y="15"/>
                </a:cubicBezTo>
                <a:cubicBezTo>
                  <a:pt x="772" y="22"/>
                  <a:pt x="762" y="35"/>
                  <a:pt x="748" y="40"/>
                </a:cubicBezTo>
                <a:cubicBezTo>
                  <a:pt x="715" y="52"/>
                  <a:pt x="681" y="57"/>
                  <a:pt x="647" y="65"/>
                </a:cubicBezTo>
                <a:cubicBezTo>
                  <a:pt x="589" y="108"/>
                  <a:pt x="548" y="109"/>
                  <a:pt x="485" y="140"/>
                </a:cubicBezTo>
                <a:cubicBezTo>
                  <a:pt x="443" y="265"/>
                  <a:pt x="451" y="299"/>
                  <a:pt x="347" y="378"/>
                </a:cubicBezTo>
                <a:cubicBezTo>
                  <a:pt x="311" y="479"/>
                  <a:pt x="343" y="377"/>
                  <a:pt x="322" y="603"/>
                </a:cubicBezTo>
                <a:cubicBezTo>
                  <a:pt x="310" y="734"/>
                  <a:pt x="226" y="835"/>
                  <a:pt x="97" y="866"/>
                </a:cubicBezTo>
                <a:cubicBezTo>
                  <a:pt x="0" y="959"/>
                  <a:pt x="150" y="980"/>
                  <a:pt x="209" y="1004"/>
                </a:cubicBezTo>
                <a:cubicBezTo>
                  <a:pt x="243" y="1037"/>
                  <a:pt x="276" y="1062"/>
                  <a:pt x="297" y="1104"/>
                </a:cubicBezTo>
                <a:cubicBezTo>
                  <a:pt x="321" y="1152"/>
                  <a:pt x="316" y="1224"/>
                  <a:pt x="347" y="1267"/>
                </a:cubicBezTo>
                <a:cubicBezTo>
                  <a:pt x="361" y="1286"/>
                  <a:pt x="380" y="1300"/>
                  <a:pt x="397" y="1317"/>
                </a:cubicBezTo>
                <a:cubicBezTo>
                  <a:pt x="450" y="1308"/>
                  <a:pt x="510" y="1309"/>
                  <a:pt x="510" y="1242"/>
                </a:cubicBez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6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51920" y="5689080"/>
            <a:ext cx="8990280" cy="5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-first search from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52280" y="62485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-first spanning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94040" y="220032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84400" y="136224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584600" y="16668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84800" y="19717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03520" y="288612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27400" y="303840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651640" y="319104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365640" y="433404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346720" y="456264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368440" y="1736640"/>
            <a:ext cx="6098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82840" y="1812960"/>
            <a:ext cx="9907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8440" y="26510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78280" y="3336840"/>
            <a:ext cx="53316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16360" y="4632480"/>
            <a:ext cx="1600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425840" y="204156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25840" y="348948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5873760" y="242244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054240" y="1432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54440" y="1660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254640" y="204156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63880" y="227016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73360" y="287964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97240" y="310824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21480" y="3260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435480" y="4403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416560" y="463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78480" y="3260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435480" y="158436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130560" y="181296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3816360" y="3565080"/>
            <a:ext cx="19051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1994040" y="2200320"/>
            <a:ext cx="444240" cy="466920"/>
            <a:chOff x="1994040" y="2200320"/>
            <a:chExt cx="444240" cy="466920"/>
          </a:xfrm>
        </p:grpSpPr>
        <p:sp>
          <p:nvSpPr>
            <p:cNvPr id="1235" name=""/>
            <p:cNvSpPr/>
            <p:nvPr/>
          </p:nvSpPr>
          <p:spPr>
            <a:xfrm>
              <a:off x="1994040" y="220032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063880" y="2269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984400" y="1362240"/>
            <a:ext cx="444600" cy="467280"/>
            <a:chOff x="2984400" y="1362240"/>
            <a:chExt cx="444600" cy="467280"/>
          </a:xfrm>
        </p:grpSpPr>
        <p:sp>
          <p:nvSpPr>
            <p:cNvPr id="1238" name=""/>
            <p:cNvSpPr/>
            <p:nvPr/>
          </p:nvSpPr>
          <p:spPr>
            <a:xfrm>
              <a:off x="2984400" y="13622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054240" y="1432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 flipH="1">
            <a:off x="2368440" y="1736640"/>
            <a:ext cx="60984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2984400" y="1362240"/>
            <a:ext cx="444600" cy="467280"/>
            <a:chOff x="2984400" y="1362240"/>
            <a:chExt cx="444600" cy="467280"/>
          </a:xfrm>
        </p:grpSpPr>
        <p:sp>
          <p:nvSpPr>
            <p:cNvPr id="1242" name=""/>
            <p:cNvSpPr/>
            <p:nvPr/>
          </p:nvSpPr>
          <p:spPr>
            <a:xfrm>
              <a:off x="2984400" y="13622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54240" y="1432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4127400" y="3038400"/>
            <a:ext cx="444600" cy="467280"/>
            <a:chOff x="4127400" y="3038400"/>
            <a:chExt cx="444600" cy="467280"/>
          </a:xfrm>
        </p:grpSpPr>
        <p:sp>
          <p:nvSpPr>
            <p:cNvPr id="1245" name=""/>
            <p:cNvSpPr/>
            <p:nvPr/>
          </p:nvSpPr>
          <p:spPr>
            <a:xfrm>
              <a:off x="4127400" y="303840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197240" y="3108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3282840" y="1812960"/>
            <a:ext cx="990720" cy="129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4127400" y="3038400"/>
            <a:ext cx="444600" cy="467280"/>
            <a:chOff x="4127400" y="3038400"/>
            <a:chExt cx="444600" cy="467280"/>
          </a:xfrm>
        </p:grpSpPr>
        <p:sp>
          <p:nvSpPr>
            <p:cNvPr id="1249" name=""/>
            <p:cNvSpPr/>
            <p:nvPr/>
          </p:nvSpPr>
          <p:spPr>
            <a:xfrm>
              <a:off x="4127400" y="303840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197240" y="31082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5651640" y="3191040"/>
            <a:ext cx="444240" cy="467280"/>
            <a:chOff x="5651640" y="3191040"/>
            <a:chExt cx="444240" cy="467280"/>
          </a:xfrm>
        </p:grpSpPr>
        <p:sp>
          <p:nvSpPr>
            <p:cNvPr id="1252" name=""/>
            <p:cNvSpPr/>
            <p:nvPr/>
          </p:nvSpPr>
          <p:spPr>
            <a:xfrm>
              <a:off x="5651640" y="31910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21480" y="3260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4578480" y="326088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5651640" y="3191040"/>
            <a:ext cx="444240" cy="467280"/>
            <a:chOff x="5651640" y="3191040"/>
            <a:chExt cx="444240" cy="467280"/>
          </a:xfrm>
        </p:grpSpPr>
        <p:sp>
          <p:nvSpPr>
            <p:cNvPr id="1256" name=""/>
            <p:cNvSpPr/>
            <p:nvPr/>
          </p:nvSpPr>
          <p:spPr>
            <a:xfrm>
              <a:off x="5651640" y="31910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21480" y="3260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184800" y="1971720"/>
            <a:ext cx="444600" cy="466920"/>
            <a:chOff x="6184800" y="1971720"/>
            <a:chExt cx="444600" cy="466920"/>
          </a:xfrm>
        </p:grpSpPr>
        <p:sp>
          <p:nvSpPr>
            <p:cNvPr id="1259" name=""/>
            <p:cNvSpPr/>
            <p:nvPr/>
          </p:nvSpPr>
          <p:spPr>
            <a:xfrm>
              <a:off x="6184800" y="197172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54640" y="2041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 flipH="1">
            <a:off x="5873760" y="2422440"/>
            <a:ext cx="457200" cy="7621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6184800" y="1971720"/>
            <a:ext cx="444600" cy="466920"/>
            <a:chOff x="6184800" y="1971720"/>
            <a:chExt cx="444600" cy="466920"/>
          </a:xfrm>
        </p:grpSpPr>
        <p:sp>
          <p:nvSpPr>
            <p:cNvPr id="1263" name=""/>
            <p:cNvSpPr/>
            <p:nvPr/>
          </p:nvSpPr>
          <p:spPr>
            <a:xfrm>
              <a:off x="6184800" y="197172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54640" y="2041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3365640" y="4334040"/>
            <a:ext cx="444240" cy="467280"/>
            <a:chOff x="3365640" y="4334040"/>
            <a:chExt cx="444240" cy="467280"/>
          </a:xfrm>
        </p:grpSpPr>
        <p:sp>
          <p:nvSpPr>
            <p:cNvPr id="1266" name=""/>
            <p:cNvSpPr/>
            <p:nvPr/>
          </p:nvSpPr>
          <p:spPr>
            <a:xfrm>
              <a:off x="3365640" y="433404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435480" y="4403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 flipV="1">
            <a:off x="3816360" y="3565080"/>
            <a:ext cx="190512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365640" y="4334040"/>
            <a:ext cx="444240" cy="467280"/>
            <a:chOff x="3365640" y="4334040"/>
            <a:chExt cx="444240" cy="467280"/>
          </a:xfrm>
        </p:grpSpPr>
        <p:sp>
          <p:nvSpPr>
            <p:cNvPr id="1270" name=""/>
            <p:cNvSpPr/>
            <p:nvPr/>
          </p:nvSpPr>
          <p:spPr>
            <a:xfrm>
              <a:off x="3365640" y="43340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35480" y="4403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2603520" y="2879640"/>
            <a:ext cx="444600" cy="450720"/>
            <a:chOff x="2603520" y="2879640"/>
            <a:chExt cx="444600" cy="450720"/>
          </a:xfrm>
        </p:grpSpPr>
        <p:sp>
          <p:nvSpPr>
            <p:cNvPr id="1273" name=""/>
            <p:cNvSpPr/>
            <p:nvPr/>
          </p:nvSpPr>
          <p:spPr>
            <a:xfrm>
              <a:off x="2603520" y="28857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73360" y="28796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2978280" y="3336840"/>
            <a:ext cx="53316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2603520" y="2879640"/>
            <a:ext cx="444600" cy="450720"/>
            <a:chOff x="2603520" y="2879640"/>
            <a:chExt cx="444600" cy="450720"/>
          </a:xfrm>
        </p:grpSpPr>
        <p:sp>
          <p:nvSpPr>
            <p:cNvPr id="1277" name=""/>
            <p:cNvSpPr/>
            <p:nvPr/>
          </p:nvSpPr>
          <p:spPr>
            <a:xfrm>
              <a:off x="2603520" y="2885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73360" y="287964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5346720" y="4562640"/>
            <a:ext cx="444600" cy="467280"/>
            <a:chOff x="5346720" y="4562640"/>
            <a:chExt cx="444600" cy="467280"/>
          </a:xfrm>
        </p:grpSpPr>
        <p:sp>
          <p:nvSpPr>
            <p:cNvPr id="1280" name=""/>
            <p:cNvSpPr/>
            <p:nvPr/>
          </p:nvSpPr>
          <p:spPr>
            <a:xfrm>
              <a:off x="5346720" y="456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416560" y="463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3816360" y="4632480"/>
            <a:ext cx="1600200" cy="304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5346720" y="4562640"/>
            <a:ext cx="444600" cy="467280"/>
            <a:chOff x="5346720" y="4562640"/>
            <a:chExt cx="444600" cy="467280"/>
          </a:xfrm>
        </p:grpSpPr>
        <p:sp>
          <p:nvSpPr>
            <p:cNvPr id="1284" name=""/>
            <p:cNvSpPr/>
            <p:nvPr/>
          </p:nvSpPr>
          <p:spPr>
            <a:xfrm>
              <a:off x="5346720" y="456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16560" y="463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584600" y="1660680"/>
            <a:ext cx="444600" cy="450720"/>
            <a:chOff x="4584600" y="1660680"/>
            <a:chExt cx="444600" cy="450720"/>
          </a:xfrm>
        </p:grpSpPr>
        <p:sp>
          <p:nvSpPr>
            <p:cNvPr id="1287" name=""/>
            <p:cNvSpPr/>
            <p:nvPr/>
          </p:nvSpPr>
          <p:spPr>
            <a:xfrm>
              <a:off x="4584600" y="166716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54440" y="16606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 flipH="1">
            <a:off x="4425840" y="2041560"/>
            <a:ext cx="533520" cy="9907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4584600" y="1660680"/>
            <a:ext cx="444600" cy="450720"/>
            <a:chOff x="4584600" y="1660680"/>
            <a:chExt cx="444600" cy="450720"/>
          </a:xfrm>
        </p:grpSpPr>
        <p:sp>
          <p:nvSpPr>
            <p:cNvPr id="1291" name=""/>
            <p:cNvSpPr/>
            <p:nvPr/>
          </p:nvSpPr>
          <p:spPr>
            <a:xfrm>
              <a:off x="4584600" y="166716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54440" y="16606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 depth-first search at any vertex of the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raph is connected,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used to get to unvisited vertices define a spanning tree (depth-first spanning 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+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djacency lists used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ed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start vertex  and put into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a vertex from the queue, visit its unvisited adjacent vertices, put newly visited vertices into the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2280" y="5994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311040" y="1758960"/>
            <a:ext cx="5403960" cy="3667680"/>
            <a:chOff x="311040" y="1758960"/>
            <a:chExt cx="5403960" cy="3667680"/>
          </a:xfrm>
        </p:grpSpPr>
        <p:sp>
          <p:nvSpPr>
            <p:cNvPr id="130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64280" y="3892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654440" y="49593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685440" y="2133720"/>
              <a:ext cx="6094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00200" y="22096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5800" y="3048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295280" y="3733920"/>
              <a:ext cx="5335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33720" y="50292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2743200" y="24382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43200" y="388620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4191120" y="28195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4952880" y="434304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57800" y="39625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48320" y="50292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895480" y="36576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52480" y="19810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47920" y="2209680"/>
              <a:ext cx="53316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2133720" y="3962520"/>
              <a:ext cx="19047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1920" y="599436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/mark/label start vertex and put in a FIFO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373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1376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416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5478480" y="1143000"/>
            <a:ext cx="3513240" cy="2363760"/>
            <a:chOff x="5478480" y="1143000"/>
            <a:chExt cx="3513240" cy="2363760"/>
          </a:xfrm>
        </p:grpSpPr>
        <p:sp>
          <p:nvSpPr>
            <p:cNvPr id="1419" name=""/>
            <p:cNvSpPr/>
            <p:nvPr/>
          </p:nvSpPr>
          <p:spPr>
            <a:xfrm>
              <a:off x="6172200" y="1752480"/>
              <a:ext cx="281952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FO Que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78480" y="1143000"/>
              <a:ext cx="3502080" cy="2363760"/>
            </a:xfrm>
            <a:custGeom>
              <a:avLst/>
              <a:gdLst/>
              <a:ahLst/>
              <a:rect l="l" t="t" r="r" b="b"/>
              <a:pathLst>
                <a:path w="2206" h="1489">
                  <a:moveTo>
                    <a:pt x="2069" y="0"/>
                  </a:moveTo>
                  <a:lnTo>
                    <a:pt x="2022" y="22"/>
                  </a:lnTo>
                  <a:lnTo>
                    <a:pt x="1988" y="22"/>
                  </a:lnTo>
                  <a:lnTo>
                    <a:pt x="1897" y="29"/>
                  </a:lnTo>
                  <a:lnTo>
                    <a:pt x="1805" y="29"/>
                  </a:lnTo>
                  <a:lnTo>
                    <a:pt x="1714" y="29"/>
                  </a:lnTo>
                  <a:lnTo>
                    <a:pt x="1668" y="29"/>
                  </a:lnTo>
                  <a:lnTo>
                    <a:pt x="1600" y="37"/>
                  </a:lnTo>
                  <a:lnTo>
                    <a:pt x="1463" y="37"/>
                  </a:lnTo>
                  <a:lnTo>
                    <a:pt x="1326" y="37"/>
                  </a:lnTo>
                  <a:lnTo>
                    <a:pt x="1234" y="37"/>
                  </a:lnTo>
                  <a:lnTo>
                    <a:pt x="1166" y="37"/>
                  </a:lnTo>
                  <a:lnTo>
                    <a:pt x="1051" y="45"/>
                  </a:lnTo>
                  <a:lnTo>
                    <a:pt x="937" y="45"/>
                  </a:lnTo>
                  <a:lnTo>
                    <a:pt x="846" y="45"/>
                  </a:lnTo>
                  <a:lnTo>
                    <a:pt x="754" y="53"/>
                  </a:lnTo>
                  <a:lnTo>
                    <a:pt x="686" y="53"/>
                  </a:lnTo>
                  <a:lnTo>
                    <a:pt x="571" y="53"/>
                  </a:lnTo>
                  <a:lnTo>
                    <a:pt x="457" y="53"/>
                  </a:lnTo>
                  <a:lnTo>
                    <a:pt x="366" y="53"/>
                  </a:lnTo>
                  <a:lnTo>
                    <a:pt x="297" y="53"/>
                  </a:lnTo>
                  <a:lnTo>
                    <a:pt x="206" y="68"/>
                  </a:lnTo>
                  <a:lnTo>
                    <a:pt x="160" y="68"/>
                  </a:lnTo>
                  <a:lnTo>
                    <a:pt x="126" y="75"/>
                  </a:lnTo>
                  <a:lnTo>
                    <a:pt x="114" y="98"/>
                  </a:lnTo>
                  <a:lnTo>
                    <a:pt x="92" y="121"/>
                  </a:lnTo>
                  <a:lnTo>
                    <a:pt x="69" y="151"/>
                  </a:lnTo>
                  <a:lnTo>
                    <a:pt x="57" y="182"/>
                  </a:lnTo>
                  <a:lnTo>
                    <a:pt x="35" y="204"/>
                  </a:lnTo>
                  <a:lnTo>
                    <a:pt x="23" y="235"/>
                  </a:lnTo>
                  <a:lnTo>
                    <a:pt x="23" y="280"/>
                  </a:lnTo>
                  <a:lnTo>
                    <a:pt x="0" y="334"/>
                  </a:lnTo>
                  <a:lnTo>
                    <a:pt x="0" y="364"/>
                  </a:lnTo>
                  <a:lnTo>
                    <a:pt x="0" y="409"/>
                  </a:lnTo>
                  <a:lnTo>
                    <a:pt x="0" y="485"/>
                  </a:lnTo>
                  <a:lnTo>
                    <a:pt x="0" y="531"/>
                  </a:lnTo>
                  <a:lnTo>
                    <a:pt x="12" y="561"/>
                  </a:lnTo>
                  <a:lnTo>
                    <a:pt x="12" y="607"/>
                  </a:lnTo>
                  <a:lnTo>
                    <a:pt x="12" y="668"/>
                  </a:lnTo>
                  <a:lnTo>
                    <a:pt x="12" y="713"/>
                  </a:lnTo>
                  <a:lnTo>
                    <a:pt x="12" y="759"/>
                  </a:lnTo>
                  <a:lnTo>
                    <a:pt x="23" y="819"/>
                  </a:lnTo>
                  <a:lnTo>
                    <a:pt x="46" y="865"/>
                  </a:lnTo>
                  <a:lnTo>
                    <a:pt x="80" y="926"/>
                  </a:lnTo>
                  <a:lnTo>
                    <a:pt x="92" y="949"/>
                  </a:lnTo>
                  <a:lnTo>
                    <a:pt x="103" y="971"/>
                  </a:lnTo>
                  <a:lnTo>
                    <a:pt x="126" y="994"/>
                  </a:lnTo>
                  <a:lnTo>
                    <a:pt x="160" y="1024"/>
                  </a:lnTo>
                  <a:lnTo>
                    <a:pt x="183" y="1070"/>
                  </a:lnTo>
                  <a:lnTo>
                    <a:pt x="183" y="1093"/>
                  </a:lnTo>
                  <a:lnTo>
                    <a:pt x="194" y="1123"/>
                  </a:lnTo>
                  <a:lnTo>
                    <a:pt x="194" y="1177"/>
                  </a:lnTo>
                  <a:lnTo>
                    <a:pt x="194" y="1237"/>
                  </a:lnTo>
                  <a:lnTo>
                    <a:pt x="263" y="1313"/>
                  </a:lnTo>
                  <a:lnTo>
                    <a:pt x="332" y="1374"/>
                  </a:lnTo>
                  <a:lnTo>
                    <a:pt x="423" y="1427"/>
                  </a:lnTo>
                  <a:lnTo>
                    <a:pt x="526" y="1450"/>
                  </a:lnTo>
                  <a:lnTo>
                    <a:pt x="640" y="1457"/>
                  </a:lnTo>
                  <a:lnTo>
                    <a:pt x="731" y="1465"/>
                  </a:lnTo>
                  <a:lnTo>
                    <a:pt x="800" y="1465"/>
                  </a:lnTo>
                  <a:lnTo>
                    <a:pt x="914" y="1480"/>
                  </a:lnTo>
                  <a:lnTo>
                    <a:pt x="1120" y="1488"/>
                  </a:lnTo>
                  <a:lnTo>
                    <a:pt x="1234" y="1488"/>
                  </a:lnTo>
                  <a:lnTo>
                    <a:pt x="1303" y="1488"/>
                  </a:lnTo>
                  <a:lnTo>
                    <a:pt x="1394" y="1472"/>
                  </a:lnTo>
                  <a:lnTo>
                    <a:pt x="1531" y="1465"/>
                  </a:lnTo>
                  <a:lnTo>
                    <a:pt x="1645" y="1419"/>
                  </a:lnTo>
                  <a:lnTo>
                    <a:pt x="1737" y="1404"/>
                  </a:lnTo>
                  <a:lnTo>
                    <a:pt x="1851" y="1374"/>
                  </a:lnTo>
                  <a:lnTo>
                    <a:pt x="1920" y="1366"/>
                  </a:lnTo>
                  <a:lnTo>
                    <a:pt x="1988" y="1351"/>
                  </a:lnTo>
                  <a:lnTo>
                    <a:pt x="2080" y="1290"/>
                  </a:lnTo>
                  <a:lnTo>
                    <a:pt x="2091" y="1244"/>
                  </a:lnTo>
                  <a:lnTo>
                    <a:pt x="2114" y="1199"/>
                  </a:lnTo>
                  <a:lnTo>
                    <a:pt x="2137" y="1153"/>
                  </a:lnTo>
                  <a:lnTo>
                    <a:pt x="2171" y="1093"/>
                  </a:lnTo>
                  <a:lnTo>
                    <a:pt x="2194" y="1032"/>
                  </a:lnTo>
                  <a:lnTo>
                    <a:pt x="2205" y="987"/>
                  </a:lnTo>
                  <a:lnTo>
                    <a:pt x="2205" y="941"/>
                  </a:lnTo>
                  <a:lnTo>
                    <a:pt x="2205" y="896"/>
                  </a:lnTo>
                  <a:lnTo>
                    <a:pt x="2205" y="850"/>
                  </a:lnTo>
                  <a:lnTo>
                    <a:pt x="2205" y="804"/>
                  </a:lnTo>
                  <a:lnTo>
                    <a:pt x="2205" y="744"/>
                  </a:lnTo>
                  <a:lnTo>
                    <a:pt x="2205" y="698"/>
                  </a:lnTo>
                  <a:lnTo>
                    <a:pt x="2205" y="668"/>
                  </a:lnTo>
                  <a:lnTo>
                    <a:pt x="2205" y="607"/>
                  </a:lnTo>
                  <a:lnTo>
                    <a:pt x="2205" y="546"/>
                  </a:lnTo>
                  <a:lnTo>
                    <a:pt x="2205" y="485"/>
                  </a:lnTo>
                  <a:lnTo>
                    <a:pt x="2205" y="440"/>
                  </a:lnTo>
                  <a:lnTo>
                    <a:pt x="2205" y="409"/>
                  </a:lnTo>
                  <a:lnTo>
                    <a:pt x="2205" y="379"/>
                  </a:lnTo>
                  <a:lnTo>
                    <a:pt x="2205" y="318"/>
                  </a:lnTo>
                  <a:lnTo>
                    <a:pt x="2205" y="273"/>
                  </a:lnTo>
                  <a:lnTo>
                    <a:pt x="2205" y="212"/>
                  </a:lnTo>
                  <a:lnTo>
                    <a:pt x="2205" y="166"/>
                  </a:lnTo>
                  <a:lnTo>
                    <a:pt x="2205" y="136"/>
                  </a:lnTo>
                  <a:lnTo>
                    <a:pt x="2205" y="106"/>
                  </a:lnTo>
                  <a:lnTo>
                    <a:pt x="2171" y="75"/>
                  </a:lnTo>
                  <a:lnTo>
                    <a:pt x="2125" y="53"/>
                  </a:lnTo>
                  <a:lnTo>
                    <a:pt x="2069" y="0"/>
                  </a:lnTo>
                  <a:lnTo>
                    <a:pt x="2069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Search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raph problems solved using a search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from one vertex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graph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spanning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search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dth-first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459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464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468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509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514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518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559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564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567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571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575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579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62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62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628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65530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63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69343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63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7315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64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7772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68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68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68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69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69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70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74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74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74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75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4" name=""/>
          <p:cNvSpPr/>
          <p:nvPr/>
        </p:nvSpPr>
        <p:spPr>
          <a:xfrm>
            <a:off x="61722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75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8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76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80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80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80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81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815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819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82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827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868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873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876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879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882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886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8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890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2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894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1935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7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1940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1943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1946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1949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1952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1956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1960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2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001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006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8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009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012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015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018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70102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022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4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026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8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s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ach unreached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ct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s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6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067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9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072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075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078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0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081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084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087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9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0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091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132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137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140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143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146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149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152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7467480" y="228600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5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156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784872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197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9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202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205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208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211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214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217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220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3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2224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265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7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9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270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273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276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279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282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285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288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0" name=""/>
          <p:cNvSpPr/>
          <p:nvPr/>
        </p:nvSpPr>
        <p:spPr>
          <a:xfrm>
            <a:off x="66294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2292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4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2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333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5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7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338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341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344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347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350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353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356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2359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visit adjacent unvisited verti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400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4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405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408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0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411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414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6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417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420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423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2426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7086600" y="2286000"/>
            <a:ext cx="380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51920" y="5689440"/>
            <a:ext cx="89902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 is empty. Search termin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1104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301760" y="1758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901960" y="2063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5021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9208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4447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968640" y="3587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65444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68264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664080" y="4959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685440" y="213372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600200" y="22096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85800" y="30481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295280" y="373392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133720" y="5029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H="1">
            <a:off x="2743200" y="24382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743200" y="3886200"/>
            <a:ext cx="1066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>
            <a:off x="4191120" y="28195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4952880" y="43430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1371600" y="1828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971800" y="2057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572000" y="24382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257800" y="3962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80880" y="26668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990720" y="3276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514600" y="35053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038480" y="3657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648320" y="50292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752480" y="4800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733920" y="50292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28954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7524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447920" y="2209680"/>
            <a:ext cx="53316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2133720" y="3962520"/>
            <a:ext cx="19047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"/>
          <p:cNvGrpSpPr/>
          <p:nvPr/>
        </p:nvGrpSpPr>
        <p:grpSpPr>
          <a:xfrm>
            <a:off x="311040" y="2597040"/>
            <a:ext cx="444600" cy="467280"/>
            <a:chOff x="311040" y="2597040"/>
            <a:chExt cx="444600" cy="467280"/>
          </a:xfrm>
        </p:grpSpPr>
        <p:sp>
          <p:nvSpPr>
            <p:cNvPr id="2467" name=""/>
            <p:cNvSpPr/>
            <p:nvPr/>
          </p:nvSpPr>
          <p:spPr>
            <a:xfrm>
              <a:off x="311040" y="25970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80880" y="26668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9" name=""/>
          <p:cNvSpPr/>
          <p:nvPr/>
        </p:nvSpPr>
        <p:spPr>
          <a:xfrm>
            <a:off x="6172200" y="1752480"/>
            <a:ext cx="2819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478480" y="1143000"/>
            <a:ext cx="3502080" cy="2363760"/>
          </a:xfrm>
          <a:custGeom>
            <a:avLst/>
            <a:gdLst/>
            <a:ahLst/>
            <a:rect l="l" t="t" r="r" b="b"/>
            <a:pathLst>
              <a:path w="2206" h="1489">
                <a:moveTo>
                  <a:pt x="2069" y="0"/>
                </a:moveTo>
                <a:lnTo>
                  <a:pt x="2022" y="22"/>
                </a:lnTo>
                <a:lnTo>
                  <a:pt x="1988" y="22"/>
                </a:lnTo>
                <a:lnTo>
                  <a:pt x="1897" y="29"/>
                </a:lnTo>
                <a:lnTo>
                  <a:pt x="1805" y="29"/>
                </a:lnTo>
                <a:lnTo>
                  <a:pt x="1714" y="29"/>
                </a:lnTo>
                <a:lnTo>
                  <a:pt x="1668" y="29"/>
                </a:lnTo>
                <a:lnTo>
                  <a:pt x="1600" y="37"/>
                </a:lnTo>
                <a:lnTo>
                  <a:pt x="1463" y="37"/>
                </a:lnTo>
                <a:lnTo>
                  <a:pt x="1326" y="37"/>
                </a:lnTo>
                <a:lnTo>
                  <a:pt x="1234" y="37"/>
                </a:lnTo>
                <a:lnTo>
                  <a:pt x="1166" y="37"/>
                </a:lnTo>
                <a:lnTo>
                  <a:pt x="1051" y="45"/>
                </a:lnTo>
                <a:lnTo>
                  <a:pt x="937" y="45"/>
                </a:lnTo>
                <a:lnTo>
                  <a:pt x="846" y="45"/>
                </a:lnTo>
                <a:lnTo>
                  <a:pt x="754" y="53"/>
                </a:lnTo>
                <a:lnTo>
                  <a:pt x="686" y="53"/>
                </a:lnTo>
                <a:lnTo>
                  <a:pt x="571" y="53"/>
                </a:lnTo>
                <a:lnTo>
                  <a:pt x="457" y="53"/>
                </a:lnTo>
                <a:lnTo>
                  <a:pt x="366" y="53"/>
                </a:lnTo>
                <a:lnTo>
                  <a:pt x="297" y="53"/>
                </a:lnTo>
                <a:lnTo>
                  <a:pt x="206" y="68"/>
                </a:lnTo>
                <a:lnTo>
                  <a:pt x="160" y="68"/>
                </a:lnTo>
                <a:lnTo>
                  <a:pt x="126" y="75"/>
                </a:lnTo>
                <a:lnTo>
                  <a:pt x="114" y="98"/>
                </a:lnTo>
                <a:lnTo>
                  <a:pt x="92" y="121"/>
                </a:lnTo>
                <a:lnTo>
                  <a:pt x="69" y="151"/>
                </a:lnTo>
                <a:lnTo>
                  <a:pt x="57" y="182"/>
                </a:lnTo>
                <a:lnTo>
                  <a:pt x="35" y="204"/>
                </a:lnTo>
                <a:lnTo>
                  <a:pt x="23" y="235"/>
                </a:lnTo>
                <a:lnTo>
                  <a:pt x="23" y="280"/>
                </a:lnTo>
                <a:lnTo>
                  <a:pt x="0" y="334"/>
                </a:lnTo>
                <a:lnTo>
                  <a:pt x="0" y="364"/>
                </a:lnTo>
                <a:lnTo>
                  <a:pt x="0" y="409"/>
                </a:lnTo>
                <a:lnTo>
                  <a:pt x="0" y="485"/>
                </a:lnTo>
                <a:lnTo>
                  <a:pt x="0" y="531"/>
                </a:lnTo>
                <a:lnTo>
                  <a:pt x="12" y="561"/>
                </a:lnTo>
                <a:lnTo>
                  <a:pt x="12" y="607"/>
                </a:lnTo>
                <a:lnTo>
                  <a:pt x="12" y="668"/>
                </a:lnTo>
                <a:lnTo>
                  <a:pt x="12" y="713"/>
                </a:lnTo>
                <a:lnTo>
                  <a:pt x="12" y="759"/>
                </a:lnTo>
                <a:lnTo>
                  <a:pt x="23" y="819"/>
                </a:lnTo>
                <a:lnTo>
                  <a:pt x="46" y="865"/>
                </a:lnTo>
                <a:lnTo>
                  <a:pt x="80" y="926"/>
                </a:lnTo>
                <a:lnTo>
                  <a:pt x="92" y="949"/>
                </a:lnTo>
                <a:lnTo>
                  <a:pt x="103" y="971"/>
                </a:lnTo>
                <a:lnTo>
                  <a:pt x="126" y="994"/>
                </a:lnTo>
                <a:lnTo>
                  <a:pt x="160" y="1024"/>
                </a:lnTo>
                <a:lnTo>
                  <a:pt x="183" y="1070"/>
                </a:lnTo>
                <a:lnTo>
                  <a:pt x="183" y="1093"/>
                </a:lnTo>
                <a:lnTo>
                  <a:pt x="194" y="1123"/>
                </a:lnTo>
                <a:lnTo>
                  <a:pt x="194" y="1177"/>
                </a:lnTo>
                <a:lnTo>
                  <a:pt x="194" y="1237"/>
                </a:lnTo>
                <a:lnTo>
                  <a:pt x="263" y="1313"/>
                </a:lnTo>
                <a:lnTo>
                  <a:pt x="332" y="1374"/>
                </a:lnTo>
                <a:lnTo>
                  <a:pt x="423" y="1427"/>
                </a:lnTo>
                <a:lnTo>
                  <a:pt x="526" y="1450"/>
                </a:lnTo>
                <a:lnTo>
                  <a:pt x="640" y="1457"/>
                </a:lnTo>
                <a:lnTo>
                  <a:pt x="731" y="1465"/>
                </a:lnTo>
                <a:lnTo>
                  <a:pt x="800" y="1465"/>
                </a:lnTo>
                <a:lnTo>
                  <a:pt x="914" y="1480"/>
                </a:lnTo>
                <a:lnTo>
                  <a:pt x="1120" y="1488"/>
                </a:lnTo>
                <a:lnTo>
                  <a:pt x="1234" y="1488"/>
                </a:lnTo>
                <a:lnTo>
                  <a:pt x="1303" y="1488"/>
                </a:lnTo>
                <a:lnTo>
                  <a:pt x="1394" y="1472"/>
                </a:lnTo>
                <a:lnTo>
                  <a:pt x="1531" y="1465"/>
                </a:lnTo>
                <a:lnTo>
                  <a:pt x="1645" y="1419"/>
                </a:lnTo>
                <a:lnTo>
                  <a:pt x="1737" y="1404"/>
                </a:lnTo>
                <a:lnTo>
                  <a:pt x="1851" y="1374"/>
                </a:lnTo>
                <a:lnTo>
                  <a:pt x="1920" y="1366"/>
                </a:lnTo>
                <a:lnTo>
                  <a:pt x="1988" y="1351"/>
                </a:lnTo>
                <a:lnTo>
                  <a:pt x="2080" y="1290"/>
                </a:lnTo>
                <a:lnTo>
                  <a:pt x="2091" y="1244"/>
                </a:lnTo>
                <a:lnTo>
                  <a:pt x="2114" y="1199"/>
                </a:lnTo>
                <a:lnTo>
                  <a:pt x="2137" y="1153"/>
                </a:lnTo>
                <a:lnTo>
                  <a:pt x="2171" y="1093"/>
                </a:lnTo>
                <a:lnTo>
                  <a:pt x="2194" y="1032"/>
                </a:lnTo>
                <a:lnTo>
                  <a:pt x="2205" y="987"/>
                </a:lnTo>
                <a:lnTo>
                  <a:pt x="2205" y="941"/>
                </a:lnTo>
                <a:lnTo>
                  <a:pt x="2205" y="896"/>
                </a:lnTo>
                <a:lnTo>
                  <a:pt x="2205" y="850"/>
                </a:lnTo>
                <a:lnTo>
                  <a:pt x="2205" y="804"/>
                </a:lnTo>
                <a:lnTo>
                  <a:pt x="2205" y="744"/>
                </a:lnTo>
                <a:lnTo>
                  <a:pt x="2205" y="698"/>
                </a:lnTo>
                <a:lnTo>
                  <a:pt x="2205" y="668"/>
                </a:lnTo>
                <a:lnTo>
                  <a:pt x="2205" y="607"/>
                </a:lnTo>
                <a:lnTo>
                  <a:pt x="2205" y="546"/>
                </a:lnTo>
                <a:lnTo>
                  <a:pt x="2205" y="485"/>
                </a:lnTo>
                <a:lnTo>
                  <a:pt x="2205" y="440"/>
                </a:lnTo>
                <a:lnTo>
                  <a:pt x="2205" y="409"/>
                </a:lnTo>
                <a:lnTo>
                  <a:pt x="2205" y="379"/>
                </a:lnTo>
                <a:lnTo>
                  <a:pt x="2205" y="318"/>
                </a:lnTo>
                <a:lnTo>
                  <a:pt x="2205" y="273"/>
                </a:lnTo>
                <a:lnTo>
                  <a:pt x="2205" y="212"/>
                </a:lnTo>
                <a:lnTo>
                  <a:pt x="2205" y="166"/>
                </a:lnTo>
                <a:lnTo>
                  <a:pt x="2205" y="136"/>
                </a:lnTo>
                <a:lnTo>
                  <a:pt x="2205" y="106"/>
                </a:lnTo>
                <a:lnTo>
                  <a:pt x="2171" y="75"/>
                </a:lnTo>
                <a:lnTo>
                  <a:pt x="2125" y="53"/>
                </a:lnTo>
                <a:lnTo>
                  <a:pt x="2069" y="0"/>
                </a:lnTo>
                <a:lnTo>
                  <a:pt x="2069" y="0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1301760" y="1758960"/>
            <a:ext cx="444600" cy="467280"/>
            <a:chOff x="1301760" y="1758960"/>
            <a:chExt cx="444600" cy="467280"/>
          </a:xfrm>
        </p:grpSpPr>
        <p:sp>
          <p:nvSpPr>
            <p:cNvPr id="2472" name=""/>
            <p:cNvSpPr/>
            <p:nvPr/>
          </p:nvSpPr>
          <p:spPr>
            <a:xfrm>
              <a:off x="1301760" y="17589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371600" y="1828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920880" y="3276720"/>
            <a:ext cx="444240" cy="450720"/>
            <a:chOff x="920880" y="3276720"/>
            <a:chExt cx="444240" cy="450720"/>
          </a:xfrm>
        </p:grpSpPr>
        <p:sp>
          <p:nvSpPr>
            <p:cNvPr id="2475" name=""/>
            <p:cNvSpPr/>
            <p:nvPr/>
          </p:nvSpPr>
          <p:spPr>
            <a:xfrm>
              <a:off x="920880" y="32828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990720" y="3276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2444760" y="3435480"/>
            <a:ext cx="444600" cy="467280"/>
            <a:chOff x="2444760" y="3435480"/>
            <a:chExt cx="444600" cy="467280"/>
          </a:xfrm>
        </p:grpSpPr>
        <p:sp>
          <p:nvSpPr>
            <p:cNvPr id="2478" name=""/>
            <p:cNvSpPr/>
            <p:nvPr/>
          </p:nvSpPr>
          <p:spPr>
            <a:xfrm>
              <a:off x="2444760" y="34354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514600" y="35053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0" name=""/>
          <p:cNvGrpSpPr/>
          <p:nvPr/>
        </p:nvGrpSpPr>
        <p:grpSpPr>
          <a:xfrm>
            <a:off x="2901960" y="2057400"/>
            <a:ext cx="444600" cy="450720"/>
            <a:chOff x="2901960" y="2057400"/>
            <a:chExt cx="444600" cy="450720"/>
          </a:xfrm>
        </p:grpSpPr>
        <p:sp>
          <p:nvSpPr>
            <p:cNvPr id="2481" name=""/>
            <p:cNvSpPr/>
            <p:nvPr/>
          </p:nvSpPr>
          <p:spPr>
            <a:xfrm>
              <a:off x="2901960" y="20638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971800" y="2057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1682640" y="4730760"/>
            <a:ext cx="444600" cy="467280"/>
            <a:chOff x="1682640" y="4730760"/>
            <a:chExt cx="444600" cy="467280"/>
          </a:xfrm>
        </p:grpSpPr>
        <p:sp>
          <p:nvSpPr>
            <p:cNvPr id="2484" name=""/>
            <p:cNvSpPr/>
            <p:nvPr/>
          </p:nvSpPr>
          <p:spPr>
            <a:xfrm>
              <a:off x="1682640" y="4730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752480" y="4800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6" name=""/>
          <p:cNvGrpSpPr/>
          <p:nvPr/>
        </p:nvGrpSpPr>
        <p:grpSpPr>
          <a:xfrm>
            <a:off x="3968640" y="3587760"/>
            <a:ext cx="444600" cy="467280"/>
            <a:chOff x="3968640" y="3587760"/>
            <a:chExt cx="444600" cy="467280"/>
          </a:xfrm>
        </p:grpSpPr>
        <p:sp>
          <p:nvSpPr>
            <p:cNvPr id="2487" name=""/>
            <p:cNvSpPr/>
            <p:nvPr/>
          </p:nvSpPr>
          <p:spPr>
            <a:xfrm>
              <a:off x="3968640" y="35877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038480" y="3657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3664080" y="4959360"/>
            <a:ext cx="444240" cy="467280"/>
            <a:chOff x="3664080" y="4959360"/>
            <a:chExt cx="444240" cy="467280"/>
          </a:xfrm>
        </p:grpSpPr>
        <p:sp>
          <p:nvSpPr>
            <p:cNvPr id="2490" name=""/>
            <p:cNvSpPr/>
            <p:nvPr/>
          </p:nvSpPr>
          <p:spPr>
            <a:xfrm>
              <a:off x="3664080" y="49593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733920" y="50292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2" name=""/>
          <p:cNvGrpSpPr/>
          <p:nvPr/>
        </p:nvGrpSpPr>
        <p:grpSpPr>
          <a:xfrm>
            <a:off x="4502160" y="2368440"/>
            <a:ext cx="444600" cy="467280"/>
            <a:chOff x="4502160" y="2368440"/>
            <a:chExt cx="444600" cy="467280"/>
          </a:xfrm>
        </p:grpSpPr>
        <p:sp>
          <p:nvSpPr>
            <p:cNvPr id="2493" name=""/>
            <p:cNvSpPr/>
            <p:nvPr/>
          </p:nvSpPr>
          <p:spPr>
            <a:xfrm>
              <a:off x="4502160" y="23684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572000" y="24382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visited vertex is put on (and so removed from) the queue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vertex is removed from the queue, we examine its adjacent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matrix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vertex degre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djacency list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vertices in the component that is searched (adjacency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+ sum of component vertex degree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j. li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O(n + number of edges in compon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0" name="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readth-First Search Proper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complexity as d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properties with respect to path finding, connected components, and spanning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used to reach unlabeled vertices define a depth-first spanning tree when the graph is conn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oblems for which bfs is better than dfs and vice 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search 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6680" y="1073160"/>
            <a:ext cx="5403600" cy="3667680"/>
            <a:chOff x="1606680" y="1073160"/>
            <a:chExt cx="5403600" cy="3667680"/>
          </a:xfrm>
        </p:grpSpPr>
        <p:sp>
          <p:nvSpPr>
            <p:cNvPr id="121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724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3206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16160" y="2597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50080" y="42735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5936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81080" y="1447920"/>
              <a:ext cx="6098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480" y="1523880"/>
              <a:ext cx="9907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23623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3048120"/>
              <a:ext cx="53316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434340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038480" y="1752480"/>
              <a:ext cx="53352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8480" y="3200400"/>
              <a:ext cx="106704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486400" y="2133720"/>
              <a:ext cx="4572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520" y="3657240"/>
              <a:ext cx="53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1371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53080" y="32767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0" y="25909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43434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43434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1120" y="2971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1295280"/>
              <a:ext cx="11430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1523880"/>
              <a:ext cx="53352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429000" y="3276720"/>
              <a:ext cx="19051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51814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600200" y="1905120"/>
            <a:ext cx="444240" cy="466920"/>
            <a:chOff x="1600200" y="1905120"/>
            <a:chExt cx="444240" cy="466920"/>
          </a:xfrm>
        </p:grpSpPr>
        <p:sp>
          <p:nvSpPr>
            <p:cNvPr id="158" name=""/>
            <p:cNvSpPr/>
            <p:nvPr/>
          </p:nvSpPr>
          <p:spPr>
            <a:xfrm>
              <a:off x="1600200" y="1905120"/>
              <a:ext cx="44424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0040" y="19746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90920" y="1066680"/>
            <a:ext cx="444240" cy="467280"/>
            <a:chOff x="2590920" y="1066680"/>
            <a:chExt cx="444240" cy="467280"/>
          </a:xfrm>
        </p:grpSpPr>
        <p:sp>
          <p:nvSpPr>
            <p:cNvPr id="161" name=""/>
            <p:cNvSpPr/>
            <p:nvPr/>
          </p:nvSpPr>
          <p:spPr>
            <a:xfrm>
              <a:off x="2590920" y="106668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0400" y="1136520"/>
              <a:ext cx="22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17220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487692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04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07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11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14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495288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25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6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26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6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27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27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6019560"/>
            <a:ext cx="79246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5029200"/>
            <a:ext cx="708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a depth first searc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eith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317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32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324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32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331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33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338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34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601992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pth-First Search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6680" y="19112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7040" y="1073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724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7440" y="1682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9560" y="3206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16160" y="2597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40040" y="2749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64280" y="2901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50080" y="42735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8280" y="40449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936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23623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3048120"/>
            <a:ext cx="533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43434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038480" y="1752480"/>
            <a:ext cx="5335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3200400"/>
            <a:ext cx="1067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248520" y="365724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143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13716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1752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76520" y="19810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25909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8195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120" y="2971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3434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1148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43434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12952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1523880"/>
            <a:ext cx="53352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5259240"/>
            <a:ext cx="708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vertex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return to vertex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606680" y="1911240"/>
            <a:ext cx="444240" cy="467280"/>
            <a:chOff x="1606680" y="1911240"/>
            <a:chExt cx="444240" cy="467280"/>
          </a:xfrm>
        </p:grpSpPr>
        <p:sp>
          <p:nvSpPr>
            <p:cNvPr id="383" name=""/>
            <p:cNvSpPr/>
            <p:nvPr/>
          </p:nvSpPr>
          <p:spPr>
            <a:xfrm>
              <a:off x="1606680" y="191124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6520" y="19810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386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 flipH="1">
            <a:off x="1981080" y="1447920"/>
            <a:ext cx="60984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97040" y="1073160"/>
            <a:ext cx="444600" cy="467280"/>
            <a:chOff x="2597040" y="1073160"/>
            <a:chExt cx="444600" cy="467280"/>
          </a:xfrm>
        </p:grpSpPr>
        <p:sp>
          <p:nvSpPr>
            <p:cNvPr id="390" name=""/>
            <p:cNvSpPr/>
            <p:nvPr/>
          </p:nvSpPr>
          <p:spPr>
            <a:xfrm>
              <a:off x="2597040" y="107316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66880" y="11430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393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895480" y="1523880"/>
            <a:ext cx="990720" cy="1295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740040" y="2749680"/>
            <a:ext cx="444600" cy="467280"/>
            <a:chOff x="3740040" y="2749680"/>
            <a:chExt cx="444600" cy="467280"/>
          </a:xfrm>
        </p:grpSpPr>
        <p:sp>
          <p:nvSpPr>
            <p:cNvPr id="397" name=""/>
            <p:cNvSpPr/>
            <p:nvPr/>
          </p:nvSpPr>
          <p:spPr>
            <a:xfrm>
              <a:off x="37400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8195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400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4191120" y="2971800"/>
            <a:ext cx="11430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264280" y="2901960"/>
            <a:ext cx="444240" cy="467280"/>
            <a:chOff x="5264280" y="2901960"/>
            <a:chExt cx="444240" cy="467280"/>
          </a:xfrm>
        </p:grpSpPr>
        <p:sp>
          <p:nvSpPr>
            <p:cNvPr id="404" name=""/>
            <p:cNvSpPr/>
            <p:nvPr/>
          </p:nvSpPr>
          <p:spPr>
            <a:xfrm>
              <a:off x="5264280" y="29019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34120" y="2971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407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 flipH="1">
            <a:off x="5486400" y="2133720"/>
            <a:ext cx="457200" cy="761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797440" y="1682640"/>
            <a:ext cx="444600" cy="467280"/>
            <a:chOff x="5797440" y="1682640"/>
            <a:chExt cx="444600" cy="467280"/>
          </a:xfrm>
        </p:grpSpPr>
        <p:sp>
          <p:nvSpPr>
            <p:cNvPr id="411" name=""/>
            <p:cNvSpPr/>
            <p:nvPr/>
          </p:nvSpPr>
          <p:spPr>
            <a:xfrm>
              <a:off x="579744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67280" y="175248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5867280" y="2361960"/>
            <a:ext cx="1600200" cy="685800"/>
          </a:xfrm>
          <a:prstGeom prst="line">
            <a:avLst/>
          </a:prstGeom>
          <a:ln w="7632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560" y="59436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vertex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FS(6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978280" y="4044960"/>
            <a:ext cx="444240" cy="467280"/>
            <a:chOff x="2978280" y="4044960"/>
            <a:chExt cx="444240" cy="467280"/>
          </a:xfrm>
        </p:grpSpPr>
        <p:sp>
          <p:nvSpPr>
            <p:cNvPr id="416" name=""/>
            <p:cNvSpPr/>
            <p:nvPr/>
          </p:nvSpPr>
          <p:spPr>
            <a:xfrm>
              <a:off x="2978280" y="4044960"/>
              <a:ext cx="444240" cy="444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411480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3429000" y="3276720"/>
            <a:ext cx="1905120" cy="8380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9-12T18:53:37Z</dcterms:modified>
  <cp:revision>79</cp:revision>
  <dc:subject/>
  <dc:title>Data Representation Methods</dc:title>
</cp:coreProperties>
</file>