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866410-2CFD-4955-9A4F-D115985B5B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7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nis lad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ext for case when number of players is not a powe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8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center in Jacksonville sends packages to distribution center in Miami. Use the fewest number of tru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FD4-B167-4FF0-A769-AEED99B1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C94-A713-42BD-9184-2A44A4EA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281-9F73-48DE-B371-9A11875A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ADA-B400-4DE1-B3CD-712C4AB8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E69-A2DA-4892-AF68-58F69996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5AE-08AD-4DFE-A420-FD841677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845-21A4-469D-A148-7F9E18E8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5F5-7CCF-471F-B5AE-507BA924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05E-A2C8-4A81-B45E-60E7D3EF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D89-BE25-47B4-B363-68E55014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CB1-FD0F-4DB6-8DB2-0A4FCC5D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D5D-AF79-446E-90AA-630338B6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17FA-AD8C-4514-B605-8B145FF4E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lection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ner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er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05720" y="129528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05320" y="38862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42900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505320" y="3809880"/>
            <a:ext cx="3045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rnal node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nodes represent tournament play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ternal node represents a match played between its two children; the winner of the match is stored at the internal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overall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50532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11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92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073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454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835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216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597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978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359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740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121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502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4883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264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64516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02604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407280" y="5873760"/>
            <a:ext cx="368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80880" y="6326280"/>
            <a:ext cx="6324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64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74520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12608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5073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To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winner and re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winner and repl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sort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ta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1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/replace winner and re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log 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precisely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heta(log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88000" y="1301760"/>
            <a:ext cx="8317800" cy="4307400"/>
            <a:chOff x="288000" y="1301760"/>
            <a:chExt cx="8317800" cy="4307400"/>
          </a:xfrm>
        </p:grpSpPr>
        <p:sp>
          <p:nvSpPr>
            <p:cNvPr id="2326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581280" y="3733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88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215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3546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8882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4217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9548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4884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0219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55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886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6221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1552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6888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2223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7554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289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66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5832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6503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7170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7836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8507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9174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9840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0508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18456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31828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4516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19312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3838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326480" y="1325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609480" y="6019920"/>
            <a:ext cx="7239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nner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914400" y="601992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y matches on path to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12840" y="1301760"/>
            <a:ext cx="8292960" cy="5389560"/>
            <a:chOff x="312840" y="1301760"/>
            <a:chExt cx="8292960" cy="5389560"/>
          </a:xfrm>
        </p:grpSpPr>
        <p:sp>
          <p:nvSpPr>
            <p:cNvPr id="56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92880" y="61786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81280" y="380988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08120" y="62546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6172200"/>
              <a:ext cx="205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l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5880" y="6172200"/>
              <a:ext cx="236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atch 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914400" y="601992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y matches on path to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lace Winner And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914400" y="6019920"/>
            <a:ext cx="76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nent is player who lost last match played at this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ser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atch node stores the match loser rather than the match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327560" y="1325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6384960" y="2468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Los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388620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6019920"/>
            <a:ext cx="845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r element win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min winner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4273560" y="4636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4326480" y="487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4495680" y="914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5943600" y="304920"/>
            <a:ext cx="289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4876560" y="60948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Loser Tree Initializ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atch at each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ore of a left child w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heta(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2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"/>
          <p:cNvSpPr/>
          <p:nvPr/>
        </p:nvSpPr>
        <p:spPr>
          <a:xfrm>
            <a:off x="5943600" y="304920"/>
            <a:ext cx="289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4" name=""/>
          <p:cNvGrpSpPr/>
          <p:nvPr/>
        </p:nvGrpSpPr>
        <p:grpSpPr>
          <a:xfrm>
            <a:off x="288000" y="463680"/>
            <a:ext cx="8317800" cy="5145480"/>
            <a:chOff x="288000" y="463680"/>
            <a:chExt cx="8317800" cy="5145480"/>
          </a:xfrm>
        </p:grpSpPr>
        <p:sp>
          <p:nvSpPr>
            <p:cNvPr id="3435" name=""/>
            <p:cNvSpPr/>
            <p:nvPr/>
          </p:nvSpPr>
          <p:spPr>
            <a:xfrm>
              <a:off x="312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460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3795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9130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446200" y="5264280"/>
              <a:ext cx="292320" cy="291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9797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5132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0464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5799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51134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56466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1801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7136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246800" y="52642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78032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31384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4636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5970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6640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7307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579744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864480" y="4425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9311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9968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13056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264280" y="34354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397640" y="3435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139840" y="22924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6330960" y="2444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273560" y="13017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H="1">
              <a:off x="2514600" y="1600200"/>
              <a:ext cx="17524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724280" y="1600200"/>
              <a:ext cx="17528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H="1">
              <a:off x="1218960" y="2666880"/>
              <a:ext cx="990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90920" y="2666880"/>
              <a:ext cx="6858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H="1">
              <a:off x="5638320" y="28195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78168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>
              <a:off x="6858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371600" y="3809880"/>
              <a:ext cx="304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H="1">
              <a:off x="2971440" y="38862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581280" y="3733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H="1">
              <a:off x="502884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5638680" y="388620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>
              <a:off x="7010280" y="3809880"/>
              <a:ext cx="4572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772400" y="3809880"/>
              <a:ext cx="380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>
              <a:off x="380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H="1">
              <a:off x="14475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H="1">
              <a:off x="25142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H="1">
              <a:off x="3580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H="1">
              <a:off x="46479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H="1">
              <a:off x="571464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67813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621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828800" y="48006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895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0384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1055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17220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3888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0592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H="1">
              <a:off x="7848360" y="48769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1530360" y="4425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88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215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13546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18882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4217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9548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4884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0219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555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0886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6221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1552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6888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22232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7554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28900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166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0508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15832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19312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6503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318456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37170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3838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91740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451640" y="342900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9840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326480" y="1325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78368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318280" y="3429000"/>
              <a:ext cx="18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5850720" y="4449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273560" y="4636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326480" y="487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95680" y="9144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H="1">
              <a:off x="4876560" y="6094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990720" y="5943600"/>
            <a:ext cx="7238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nner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replay mat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2" name=""/>
          <p:cNvGrpSpPr/>
          <p:nvPr/>
        </p:nvGrpSpPr>
        <p:grpSpPr>
          <a:xfrm>
            <a:off x="2590920" y="4432320"/>
            <a:ext cx="458640" cy="444600"/>
            <a:chOff x="2590920" y="4432320"/>
            <a:chExt cx="458640" cy="444600"/>
          </a:xfrm>
        </p:grpSpPr>
        <p:sp>
          <p:nvSpPr>
            <p:cNvPr id="3533" name=""/>
            <p:cNvSpPr/>
            <p:nvPr/>
          </p:nvSpPr>
          <p:spPr>
            <a:xfrm>
              <a:off x="2590920" y="443232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643840" y="44560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3124080" y="3429000"/>
            <a:ext cx="458640" cy="444600"/>
            <a:chOff x="3124080" y="3429000"/>
            <a:chExt cx="458640" cy="444600"/>
          </a:xfrm>
        </p:grpSpPr>
        <p:sp>
          <p:nvSpPr>
            <p:cNvPr id="3536" name=""/>
            <p:cNvSpPr/>
            <p:nvPr/>
          </p:nvSpPr>
          <p:spPr>
            <a:xfrm>
              <a:off x="3124080" y="34290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177000" y="3452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2361240" y="5181480"/>
            <a:ext cx="405360" cy="397440"/>
            <a:chOff x="2361240" y="5181480"/>
            <a:chExt cx="405360" cy="397440"/>
          </a:xfrm>
        </p:grpSpPr>
        <p:sp>
          <p:nvSpPr>
            <p:cNvPr id="3539" name=""/>
            <p:cNvSpPr/>
            <p:nvPr/>
          </p:nvSpPr>
          <p:spPr>
            <a:xfrm>
              <a:off x="2392560" y="5241600"/>
              <a:ext cx="374040" cy="3366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361240" y="51814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2133720" y="2286000"/>
            <a:ext cx="458640" cy="444600"/>
            <a:chOff x="2133720" y="2286000"/>
            <a:chExt cx="458640" cy="444600"/>
          </a:xfrm>
        </p:grpSpPr>
        <p:sp>
          <p:nvSpPr>
            <p:cNvPr id="3542" name=""/>
            <p:cNvSpPr/>
            <p:nvPr/>
          </p:nvSpPr>
          <p:spPr>
            <a:xfrm>
              <a:off x="2133720" y="22860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186640" y="23097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4267080" y="1308240"/>
            <a:ext cx="458640" cy="444240"/>
            <a:chOff x="4267080" y="1308240"/>
            <a:chExt cx="458640" cy="444240"/>
          </a:xfrm>
        </p:grpSpPr>
        <p:sp>
          <p:nvSpPr>
            <p:cNvPr id="3545" name=""/>
            <p:cNvSpPr/>
            <p:nvPr/>
          </p:nvSpPr>
          <p:spPr>
            <a:xfrm>
              <a:off x="4267080" y="1308240"/>
              <a:ext cx="458640" cy="444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320000" y="1331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4267080" y="469800"/>
            <a:ext cx="458640" cy="444600"/>
            <a:chOff x="4267080" y="469800"/>
            <a:chExt cx="458640" cy="444600"/>
          </a:xfrm>
        </p:grpSpPr>
        <p:sp>
          <p:nvSpPr>
            <p:cNvPr id="3548" name=""/>
            <p:cNvSpPr/>
            <p:nvPr/>
          </p:nvSpPr>
          <p:spPr>
            <a:xfrm>
              <a:off x="4267080" y="469800"/>
              <a:ext cx="458640" cy="444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320000" y="49356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Repl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atch at each level that has a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heta(log 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2" name="" descr=""/>
          <p:cNvPicPr/>
          <p:nvPr/>
        </p:nvPicPr>
        <p:blipFill>
          <a:blip r:embed="rId1"/>
          <a:stretch/>
        </p:blipFill>
        <p:spPr>
          <a:xfrm>
            <a:off x="815328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re Selection Tree 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ay merging of runs during an external merge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to be loaded into tru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ckage has a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uck has a capacity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number of tru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7" name=""/>
          <p:cNvGrpSpPr/>
          <p:nvPr/>
        </p:nvGrpSpPr>
        <p:grpSpPr>
          <a:xfrm>
            <a:off x="533520" y="1828800"/>
            <a:ext cx="7864200" cy="822240"/>
            <a:chOff x="533520" y="1828800"/>
            <a:chExt cx="7864200" cy="822240"/>
          </a:xfrm>
        </p:grpSpPr>
        <p:pic>
          <p:nvPicPr>
            <p:cNvPr id="3558" name="" descr=""/>
            <p:cNvPicPr/>
            <p:nvPr/>
          </p:nvPicPr>
          <p:blipFill>
            <a:blip r:embed="rId1"/>
            <a:stretch/>
          </p:blipFill>
          <p:spPr>
            <a:xfrm>
              <a:off x="533520" y="1828800"/>
              <a:ext cx="146340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9" name="" descr=""/>
            <p:cNvPicPr/>
            <p:nvPr/>
          </p:nvPicPr>
          <p:blipFill>
            <a:blip r:embed="rId2"/>
            <a:stretch/>
          </p:blipFill>
          <p:spPr>
            <a:xfrm>
              <a:off x="2666880" y="1828800"/>
              <a:ext cx="146376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0" name="" descr=""/>
            <p:cNvPicPr/>
            <p:nvPr/>
          </p:nvPicPr>
          <p:blipFill>
            <a:blip r:embed="rId3"/>
            <a:stretch/>
          </p:blipFill>
          <p:spPr>
            <a:xfrm>
              <a:off x="4800600" y="1828800"/>
              <a:ext cx="146376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1" name="" descr=""/>
            <p:cNvPicPr/>
            <p:nvPr/>
          </p:nvPicPr>
          <p:blipFill>
            <a:blip r:embed="rId4"/>
            <a:stretch/>
          </p:blipFill>
          <p:spPr>
            <a:xfrm>
              <a:off x="6934320" y="1828800"/>
              <a:ext cx="1463400" cy="82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2" name=""/>
          <p:cNvGrpSpPr/>
          <p:nvPr/>
        </p:nvGrpSpPr>
        <p:grpSpPr>
          <a:xfrm>
            <a:off x="1523880" y="3124080"/>
            <a:ext cx="5638320" cy="299520"/>
            <a:chOff x="1523880" y="3124080"/>
            <a:chExt cx="5638320" cy="299520"/>
          </a:xfrm>
        </p:grpSpPr>
        <p:grpSp>
          <p:nvGrpSpPr>
            <p:cNvPr id="3563" name=""/>
            <p:cNvGrpSpPr/>
            <p:nvPr/>
          </p:nvGrpSpPr>
          <p:grpSpPr>
            <a:xfrm>
              <a:off x="1523880" y="3124080"/>
              <a:ext cx="2742840" cy="299520"/>
              <a:chOff x="1523880" y="3124080"/>
              <a:chExt cx="2742840" cy="299520"/>
            </a:xfrm>
          </p:grpSpPr>
          <p:sp>
            <p:nvSpPr>
              <p:cNvPr id="3564" name=""/>
              <p:cNvSpPr/>
              <p:nvPr/>
            </p:nvSpPr>
            <p:spPr>
              <a:xfrm>
                <a:off x="15631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17982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20332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22683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25034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27385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29739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32090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4441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36792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39142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1493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15238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7589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19940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22291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24642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26992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29347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31698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34048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36399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38750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1101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8" name=""/>
            <p:cNvGrpSpPr/>
            <p:nvPr/>
          </p:nvGrpSpPr>
          <p:grpSpPr>
            <a:xfrm>
              <a:off x="4419360" y="3124080"/>
              <a:ext cx="2742840" cy="299520"/>
              <a:chOff x="4419360" y="3124080"/>
              <a:chExt cx="2742840" cy="299520"/>
            </a:xfrm>
          </p:grpSpPr>
          <p:sp>
            <p:nvSpPr>
              <p:cNvPr id="3589" name=""/>
              <p:cNvSpPr/>
              <p:nvPr/>
            </p:nvSpPr>
            <p:spPr>
              <a:xfrm>
                <a:off x="44586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46936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49287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1638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989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6340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8694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10452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3960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57468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80976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044840" y="312408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4193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6544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48895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1246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33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53596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55947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8302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0000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606528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30036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653544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677052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005600" y="3312720"/>
                <a:ext cx="117360" cy="110880"/>
              </a:xfrm>
              <a:prstGeom prst="cube">
                <a:avLst>
                  <a:gd name="adj" fmla="val 25000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ad packages from left to right. If a package doesn’t fit into current truck, start loading a new tr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685800" y="4038480"/>
            <a:ext cx="80773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2, 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6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3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ses 3 trucks when 2 trucks su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uck Load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 5, 6, 3, 4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 capacity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c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685800" y="4038480"/>
            <a:ext cx="80773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1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2, 5, 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ck2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6, 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to be packed into 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tem has a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in has a capacity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number of 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inner Tree For 16 Play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6019920"/>
            <a:ext cx="8458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cludes player le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ck loading is same as bin pa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ck is a bin that is to be packed (load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ackage is an item/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 packing to minimize number of bins is NP-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fast heuristics have been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are arranged in left to right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packed one at a time in given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item is packed into leftmost bin into which it 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no bin into which current item fits, start a new b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2514600" y="510552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ack red item into first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996840" y="5340240"/>
            <a:ext cx="673200" cy="7495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2743200" y="4724280"/>
            <a:ext cx="6172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ack blue item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oesn’t fit, so start a new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3657600" y="5181480"/>
            <a:ext cx="5181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ack yellow item into first bin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996840" y="4883040"/>
            <a:ext cx="673200" cy="520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4038480" y="5105520"/>
            <a:ext cx="4953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Pack green i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eed a new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[4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9968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996840" y="5416560"/>
            <a:ext cx="67320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259704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2597040" y="4883040"/>
            <a:ext cx="673200" cy="1206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996840" y="4883040"/>
            <a:ext cx="673200" cy="520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4044960" y="4349880"/>
            <a:ext cx="673200" cy="1739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4044960" y="5111640"/>
            <a:ext cx="673200" cy="978120"/>
          </a:xfrm>
          <a:prstGeom prst="rect">
            <a:avLst/>
          </a:prstGeom>
          <a:solidFill>
            <a:srgbClr val="33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4952880" y="4572000"/>
            <a:ext cx="3962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bins su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t Decrea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sorted into de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first fit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F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packed one at a time in given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the bin for an item, first determine se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s into which the item 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 is 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start a new bin and put item into this new b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pack into bin of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has least available capa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Initializ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play match at each match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-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initial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 Packing Heurist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Fit Decrea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s are sorted into de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best fit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irst fit and best f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euristic Bins &lt;= (17/10)(Minimum Bins) +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irst fit decreasing and best fit decrea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euristic Bins &lt;= (11/9)(Minimum Bins)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4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851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First Fi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max tournament tree in which the players ar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s and the value of a player is the available capacity in the b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7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elements to be sorted into a winn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extract the winner and replace by a larg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38862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 16 Number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460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95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30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46200" y="5264280"/>
            <a:ext cx="29232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797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132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464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99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134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466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801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136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46800" y="52642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8032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1384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36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70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640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307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744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64480" y="4425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9311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68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3056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4280" y="34354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7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39840" y="2292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309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73560" y="1301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514600" y="1600200"/>
            <a:ext cx="1752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24280" y="1600200"/>
            <a:ext cx="1752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218960" y="266688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6668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638320" y="28195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7432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858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71600" y="3809880"/>
            <a:ext cx="3049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971440" y="388620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3733920"/>
            <a:ext cx="3049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02884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38680" y="388620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010280" y="38098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772400" y="380988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80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14475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5142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580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71464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7813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21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95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3888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30592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7848360" y="4876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30360" y="4425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8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21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882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217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548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884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219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55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886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221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552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888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23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55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28900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66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832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503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170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836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5072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91740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984080" y="4449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508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8456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18280" y="34290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451640" y="3429000"/>
            <a:ext cx="18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93120" y="2316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838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2648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7-09-12T18:40:33Z</dcterms:modified>
  <cp:revision>62</cp:revision>
  <dc:subject/>
  <dc:title>Data Representation Methods</dc:title>
</cp:coreProperties>
</file>