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image2.gif" ContentType="image/gi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E9446D-9BA0-4215-9CB7-BE7EFB7FFE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 1, either do nothing or report an err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Empty operation takes O(1) time in all 3 cases, provided we maintain a size counter in the case of a hash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(index) returns the element with the specified ind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-fit bin packing is described in next le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elements are placed in a binary tree so that an inorder traversal of the binary tree visits the elements in list order from left to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() and erase() work as they do in an indexed binary search t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m so it becomes the list element whose index is 5. First element has index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end is not a standard dictionary operation. It outputs in sorted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253-54F9-4EF1-83C3-B562F886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C04-460E-4A57-B680-627DF29A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AA5-B67F-471B-8EE0-7A677A42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2F9-F337-4DAF-9A2B-3FDBD1D2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BB6-019D-47BE-A706-DC878C9B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25C-3CB2-409D-AD49-E68DFF94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CE9-1BD7-4AE9-9F14-974F8489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BC7-5AA2-4AAE-9C68-C6060EA9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3C7-6AE8-4DB2-99DE-3440B956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1DC-CFDC-4B80-AF57-5887A293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D37-7E63-4111-AC7F-F71A4319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774-CBCC-433A-BEC8-C88DDB8A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BB16-325E-4D89-839B-093FED486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Search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ctionary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sEmpt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earch(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nsert(key, va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(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485720" cy="1028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162920" y="838080"/>
            <a:ext cx="14857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Inser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of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ert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Delete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1905120"/>
            <a:ext cx="8534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lement with delete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is in a lea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is in a degree 1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is in a degree 2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Leaf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a leaf element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294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371600" y="4724280"/>
            <a:ext cx="304920" cy="5335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Leaf (contd.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a leaf element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333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 flipH="1">
            <a:off x="5486400" y="3733920"/>
            <a:ext cx="533520" cy="5331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Degree 1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from a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372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72000" y="1828800"/>
            <a:ext cx="838080" cy="1447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486040" y="1752480"/>
            <a:ext cx="304920" cy="8384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lete From A Degree 1 Node (contd.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from a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412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1143720" y="2819520"/>
            <a:ext cx="25920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7" y="0"/>
                </a:moveTo>
                <a:arcTo wR="10800" hR="10800" stAng="-5404213" swAng="5204167"/>
                <a:lnTo>
                  <a:pt x="10800" y="10800"/>
                </a:lnTo>
                <a:close/>
              </a:path>
              <a:path fill="none" w="21600" h="21600">
                <a:moveTo>
                  <a:pt x="10787" y="0"/>
                </a:moveTo>
                <a:arcTo wR="10800" hR="10800" stAng="-5404213" swAng="5204167"/>
              </a:path>
            </a:pathLst>
          </a:custGeom>
          <a:noFill/>
          <a:ln cap="rnd"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514240" y="2971800"/>
            <a:ext cx="304920" cy="1522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from a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452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8600" y="579276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key in left subtree (or smallest in right sub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" y="579276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key in left subtree (or smallest in right sub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579276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key in left subtree (or smallest in right subtre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lexity Of Dictionary Operations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Search(), Insert() and Delete(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52480" y="1973160"/>
            <a:ext cx="7377120" cy="4702680"/>
            <a:chOff x="852480" y="1973160"/>
            <a:chExt cx="7377120" cy="4702680"/>
          </a:xfrm>
        </p:grpSpPr>
        <p:graphicFrame>
          <p:nvGraphicFramePr>
            <p:cNvPr id="54" name=""/>
            <p:cNvGraphicFramePr/>
            <p:nvPr/>
          </p:nvGraphicFramePr>
          <p:xfrm>
            <a:off x="852480" y="1973160"/>
            <a:ext cx="7313760" cy="4043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2480" y="1973160"/>
                      <a:ext cx="7313760" cy="40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3276720" y="205740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0720" y="2666880"/>
              <a:ext cx="670536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6400" y="2057400"/>
              <a:ext cx="0" cy="39625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90720" y="6095880"/>
              <a:ext cx="7238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is number of elements in dictiona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" y="579276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key must be in a leaf or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371600" y="3733920"/>
            <a:ext cx="0" cy="1447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1447920" y="3962520"/>
            <a:ext cx="380880" cy="2286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nother Delete From A Degree 2 Nod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from a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. ke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63680" y="1454040"/>
            <a:ext cx="6387840" cy="4178520"/>
            <a:chOff x="463680" y="1454040"/>
            <a:chExt cx="6387840" cy="4178520"/>
          </a:xfrm>
        </p:grpSpPr>
        <p:sp>
          <p:nvSpPr>
            <p:cNvPr id="64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26080" y="52117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88040" y="42210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in lef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in lef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largest in lef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047760" y="3657600"/>
            <a:ext cx="609480" cy="6094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From A Degree 2 No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dexed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search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an additional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eftSize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umber of nodes in its left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Indexed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4400" y="4876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04920" y="38862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828800" y="3962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14400" y="2895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905120" y="19810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73392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048120" y="2895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11430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495680" y="3809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9920" y="38862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876920" y="30481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29400" y="19810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09480" y="6019920"/>
            <a:ext cx="7543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ft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s are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Size And Ran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" y="1676520"/>
            <a:ext cx="853452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k of an element is its position in inorder (inorder = ascending key ord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2,6,7,8,10,15,18,20,25,30,35,4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2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15)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nk(20)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eftSize(x) = rank(x)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respect to elements in subtree rooted 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Size And Ran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914400" y="4876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04920" y="38862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828800" y="3962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914400" y="2895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05120" y="19810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73392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048120" y="2895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962520" y="11430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495680" y="3809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019920" y="38862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876920" y="30481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629400" y="19810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33520" y="5867280"/>
            <a:ext cx="8305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ed li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[2,6,7,8,10,15,18,20,25,30,35,4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finition Of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has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key, valu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keys in the lef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smaller than tha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keys in the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greater than tha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arch(index) And Delete(index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304920" y="1143000"/>
            <a:ext cx="8534160" cy="5304240"/>
            <a:chOff x="304920" y="1143000"/>
            <a:chExt cx="8534160" cy="5304240"/>
          </a:xfrm>
        </p:grpSpPr>
        <p:grpSp>
          <p:nvGrpSpPr>
            <p:cNvPr id="925" name=""/>
            <p:cNvGrpSpPr/>
            <p:nvPr/>
          </p:nvGrpSpPr>
          <p:grpSpPr>
            <a:xfrm>
              <a:off x="304920" y="1143000"/>
              <a:ext cx="6553080" cy="4489560"/>
              <a:chOff x="304920" y="1143000"/>
              <a:chExt cx="6553080" cy="4489560"/>
            </a:xfrm>
          </p:grpSpPr>
          <p:sp>
            <p:nvSpPr>
              <p:cNvPr id="926" name=""/>
              <p:cNvSpPr/>
              <p:nvPr/>
            </p:nvSpPr>
            <p:spPr>
              <a:xfrm>
                <a:off x="3962520" y="1143000"/>
                <a:ext cx="228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33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7" name=""/>
              <p:cNvGrpSpPr/>
              <p:nvPr/>
            </p:nvGrpSpPr>
            <p:grpSpPr>
              <a:xfrm>
                <a:off x="304920" y="1454040"/>
                <a:ext cx="6553080" cy="4178520"/>
                <a:chOff x="304920" y="1454040"/>
                <a:chExt cx="6553080" cy="417852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4197240" y="14540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2063880" y="2444760"/>
                  <a:ext cx="44424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407280" y="2444760"/>
                  <a:ext cx="44424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1073160" y="32828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2825640" y="32828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187960" y="32828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63680" y="4349880"/>
                  <a:ext cx="444240" cy="444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1606680" y="4349880"/>
                  <a:ext cx="444240" cy="444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>
                  <a:off x="2514240" y="1752480"/>
                  <a:ext cx="1676520" cy="83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48320" y="1752480"/>
                  <a:ext cx="1828800" cy="83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>
                  <a:off x="1371240" y="2819520"/>
                  <a:ext cx="762120" cy="53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2438280" y="2819520"/>
                  <a:ext cx="533520" cy="53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>
                  <a:off x="5562720" y="2895480"/>
                  <a:ext cx="914400" cy="381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>
                  <a:off x="762120" y="3657600"/>
                  <a:ext cx="38088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1447920" y="3657600"/>
                  <a:ext cx="30456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654440" y="427356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>
                  <a:off x="4952520" y="3733920"/>
                  <a:ext cx="381240" cy="533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173840" y="147780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2040120" y="246852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1126080" y="330660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16600" y="437364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1659600" y="437364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2802240" y="330660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383520" y="246852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5164200" y="330660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707000" y="429732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5797440" y="427356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850000" y="429732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562720" y="3657600"/>
                  <a:ext cx="380880" cy="609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073160" y="518796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126080" y="5211720"/>
                  <a:ext cx="313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>
                  <a:off x="1371240" y="4724280"/>
                  <a:ext cx="30492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3511440" y="4197240"/>
                  <a:ext cx="444600" cy="444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3488040" y="4221000"/>
                  <a:ext cx="4410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3124080" y="3733920"/>
                  <a:ext cx="60984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914400" y="48769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304920" y="388620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828800" y="39625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914400" y="28954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905120" y="19810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733920" y="37339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048120" y="28954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4495680" y="38098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019920" y="388620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4876920" y="304812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629400" y="1981080"/>
                  <a:ext cx="228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33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4" name=""/>
            <p:cNvSpPr/>
            <p:nvPr/>
          </p:nvSpPr>
          <p:spPr>
            <a:xfrm>
              <a:off x="533520" y="5867280"/>
              <a:ext cx="8305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rted list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= [2,6,7,8,10,15,18,20,25,30,35,40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earch(index) And Delete(index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x = x.left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red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.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x &lt; x.left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red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th element in lef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dex &gt; x.left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red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ndex - x.leftSize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th element in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(Complexities Are For Balanced Trees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-fit bin packing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a linear list so th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earch(inde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sert(index, elemen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lete(inde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(list size)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uses an indexed binary tree, not indexed binary search tre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use hash tables for either of these applicatio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inear List As Indexed Binary Tre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04920" y="1143000"/>
            <a:ext cx="8305560" cy="5380560"/>
            <a:chOff x="304920" y="1143000"/>
            <a:chExt cx="8305560" cy="5380560"/>
          </a:xfrm>
        </p:grpSpPr>
        <p:sp>
          <p:nvSpPr>
            <p:cNvPr id="981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17520" y="24685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17320" y="43736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560" y="330660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536880" y="246852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175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784040" y="429732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850720" y="4297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3160" y="51879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126800" y="52117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371240" y="472428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511440" y="41972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56472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124080" y="37339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914400" y="48769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04920" y="38862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28800" y="39625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914400" y="28954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905120" y="19810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733920" y="37339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048120" y="28954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62520" y="11430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95680" y="38098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019920" y="388620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876920" y="304812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629400" y="1981080"/>
              <a:ext cx="228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09480" y="5943600"/>
              <a:ext cx="8001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ist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 = [a,b,c,d,e,f,g,h,i,j,k,l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sert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09480" y="556272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[a,b,c,d,e,f,g,h,i,j,k,l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sert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09480" y="556272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[a,b,c,d,e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,g,h,i,j,k,l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09480" y="60958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node with eleme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sert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09480" y="5562720"/>
            <a:ext cx="8001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[a,b,c,d,e,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,g,h,i,j,k,l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09480" y="60958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node with element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sert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0880" y="5715000"/>
            <a:ext cx="66294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right child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former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omes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521080" y="267336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574000" y="26971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sert(5,’m’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97240" y="1225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063880" y="22161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07280" y="22161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0731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82564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187960" y="30542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63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606680" y="4121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2514240" y="15238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648320" y="15238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137124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438280" y="25909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5562720" y="26668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762120" y="34290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447920" y="34290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654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4952520" y="35053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250520" y="1249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117520" y="2239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126080" y="30780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17320" y="414504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59600" y="4145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878560" y="30780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536880" y="22399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317560" y="30780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784040" y="406872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797440" y="4044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85072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562720" y="34290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073160" y="4959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126800" y="49831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1371240" y="44956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11440" y="39686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564720" y="39924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24080" y="35053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914400" y="4648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4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828800" y="37339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91440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512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733920" y="35053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48120" y="26668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962520" y="9144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495680" y="35812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019920" y="365760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876920" y="281952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629400" y="1752480"/>
            <a:ext cx="22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80880" y="5715000"/>
            <a:ext cx="662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leftmost node in right subtree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444760" y="404496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666520" y="3429000"/>
            <a:ext cx="228600" cy="6094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497680" y="40687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(5,’m’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ossibilities ex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update som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left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s on path from root to new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heigh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 Binary Search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579132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nly keys are sh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Ascend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63680" y="1454040"/>
            <a:ext cx="6387840" cy="3340080"/>
            <a:chOff x="463680" y="1454040"/>
            <a:chExt cx="6387840" cy="3340080"/>
          </a:xfrm>
        </p:grpSpPr>
        <p:sp>
          <p:nvSpPr>
            <p:cNvPr id="92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04920" y="579132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an inorder traversal.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Search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63680" y="1454040"/>
            <a:ext cx="6387840" cy="3340080"/>
            <a:chOff x="463680" y="1454040"/>
            <a:chExt cx="6387840" cy="3340080"/>
          </a:xfrm>
        </p:grpSpPr>
        <p:sp>
          <p:nvSpPr>
            <p:cNvPr id="121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04920" y="548784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O(height) = 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nodes/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Inser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63680" y="1454040"/>
            <a:ext cx="6387840" cy="3340080"/>
            <a:chOff x="463680" y="1454040"/>
            <a:chExt cx="6387840" cy="3340080"/>
          </a:xfrm>
        </p:grpSpPr>
        <p:sp>
          <p:nvSpPr>
            <p:cNvPr id="15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a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21480" y="435600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74040" y="43434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3733920"/>
            <a:ext cx="380880" cy="6094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Inser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a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3680" y="1454040"/>
            <a:ext cx="6387840" cy="3340080"/>
            <a:chOff x="463680" y="1454040"/>
            <a:chExt cx="6387840" cy="3340080"/>
          </a:xfrm>
        </p:grpSpPr>
        <p:sp>
          <p:nvSpPr>
            <p:cNvPr id="183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73840" y="14778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401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0224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83520" y="24685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64200" y="330660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07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97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50000" y="429732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62720" y="365760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Operation Insert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73840" y="14778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835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4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7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6095880"/>
            <a:ext cx="8229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a pair whose ke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7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50000" y="4297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365760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73160" y="51879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260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371240" y="4724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11440" y="41972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88040" y="42210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3733920"/>
            <a:ext cx="609840" cy="4572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7-09-12T18:37:59Z</dcterms:modified>
  <cp:revision>68</cp:revision>
  <dc:subject/>
  <dc:title>Data Representation Methods</dc:title>
</cp:coreProperties>
</file>