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95CEF0-4C2C-4C69-97A7-2E4BE9CA85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ist trees are covered in Chapter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() is shortest() in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() values may be computed easily using a postorder traver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170-4A7D-4309-91AE-169E0A9E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C6D-C366-4B50-A6CC-E2B1AFF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1B2-51EE-466C-B676-F75D1B93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BC0-3141-4C87-85E5-567AA9ED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C32-ED40-4596-8D6F-28A179C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5C4-FBE0-47F8-8876-AEE076E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A1E-AED1-48D5-A044-F6D05CD6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FFE-2831-4F7C-98B7-16A81C11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7E2-08C6-4BD9-B96B-697FD43F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213-ADC2-401E-BF4C-11CEFE9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7AC-31AA-483E-8867-AC8081A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9F6-F0E9-41EF-9E14-9E8C655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B43-7241-4C40-9514-2480E61BC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array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-, 1, 2, 3, 4, 5, 6, 7, 8, 9, 10, 1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419720"/>
              <a:ext cx="533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1523880"/>
              <a:ext cx="83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251460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740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44197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210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56386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, 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0224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14600" y="43434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40120" y="24685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6386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ime 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17880" y="2514600"/>
            <a:ext cx="1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487836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heap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trees with root at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 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each subtree is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O(h-j+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1523880"/>
            <a:ext cx="84582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leve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trees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&lt;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h-j+1) = t(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(1) + t(2) + … + t(h-1) = 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CLOCK4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468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everything a heap can do and in the same asymptotic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eld two leftist tree priority queues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53337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rightmost array position that has a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943600"/>
            <a:ext cx="7696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ended Binary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ny binary tree and add an external node wherever there is an empty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tend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 Extend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6095880"/>
            <a:ext cx="601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xternal nodes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Function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extended binary tree, 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length of a shortest path from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external node in the subtree rooted a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35080" y="1454040"/>
            <a:ext cx="8140680" cy="4102200"/>
            <a:chOff x="235080" y="1454040"/>
            <a:chExt cx="8140680" cy="4102200"/>
          </a:xfrm>
        </p:grpSpPr>
        <p:sp>
          <p:nvSpPr>
            <p:cNvPr id="72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10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82840" y="4425840"/>
              <a:ext cx="29232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21480" y="4425840"/>
              <a:ext cx="29196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83440" y="3435480"/>
              <a:ext cx="29232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5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208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808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987560" y="526428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59092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00400" y="365760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04560" y="47242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8080" y="4800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523880" y="472428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81080" y="480060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3733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81680" y="2819520"/>
              <a:ext cx="1447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2128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87960" y="5187960"/>
              <a:ext cx="29196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190760" y="4648320"/>
              <a:ext cx="5331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29200" y="4648320"/>
              <a:ext cx="304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Values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perties Of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(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ternal node, th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x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x) = min {s(leftChild(x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rightChild(x))}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ight Biased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(height biased) leftist tree iff for every internal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leftChild(x)) &gt;= s(rightChild(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--Property 1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eftist tree, the rightmost path is a shortest root to external node path and the length of this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next lower array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14400" y="6172200"/>
            <a:ext cx="632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2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ternal nodes is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(root) &lt;= log(n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210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2840" y="4425840"/>
            <a:ext cx="29232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721480" y="4425840"/>
            <a:ext cx="291960" cy="2923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83440" y="3435480"/>
            <a:ext cx="29232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5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208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7808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87560" y="526428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59092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00400" y="365760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04560" y="4724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800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523880" y="4724280"/>
            <a:ext cx="152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48006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6400" y="37339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81680" y="281952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2128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87960" y="5187960"/>
            <a:ext cx="2919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190760" y="4648320"/>
            <a:ext cx="5331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6483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1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974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5468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64520" y="5211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598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1480" y="51814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150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594360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external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—Property 3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rightmost path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 in a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from Properties 1 and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ftist Trees As 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2362320"/>
            <a:ext cx="845820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leftist tree … leftist tree that is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leftist tree … leftist tree that is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s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 Min Leftist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Min Leftist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04920" y="115560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Mi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eld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itializ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deleteMin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meld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5715000"/>
            <a:ext cx="7620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sert Oper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sert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25840" y="1987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924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35880" y="29782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017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5424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16560" y="38163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2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35280" y="48830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742840" y="2286000"/>
            <a:ext cx="1676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2286000"/>
            <a:ext cx="1828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1599840" y="335268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668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5791320" y="34290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990720" y="419112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4191120"/>
            <a:ext cx="3045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883040" y="4807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181120" y="42670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45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88200" y="4906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36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546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0752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69480" y="3840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45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651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79120" y="2011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5487840"/>
            <a:ext cx="76201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ingle node min leftist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min leftist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397640" y="5721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6880" y="5745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Min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" y="5181480"/>
            <a:ext cx="7238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lete Mi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4440" y="4273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952520" y="3733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707720" y="4297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53652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7200" y="5181480"/>
            <a:ext cx="7238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the two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63680" y="2444760"/>
            <a:ext cx="7607160" cy="2349360"/>
            <a:chOff x="463680" y="2444760"/>
            <a:chExt cx="7607160" cy="2349360"/>
          </a:xfrm>
        </p:grpSpPr>
        <p:sp>
          <p:nvSpPr>
            <p:cNvPr id="120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42735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952520" y="3733920"/>
              <a:ext cx="381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707720" y="4297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365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262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795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281952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52280" y="541008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e only the rightmost paths so as to get logarithmic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7280" y="1301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731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256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879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3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6680" y="3206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1371240" y="1676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38280" y="1676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562720" y="1752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62120" y="2514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7920" y="2514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654440" y="31305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4952520" y="25909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16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59600" y="3230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07720" y="31543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0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789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408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1680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536520" y="1325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624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7952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81680" y="1676520"/>
            <a:ext cx="9907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0880" y="4191120"/>
            <a:ext cx="800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407280" y="15303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87960" y="23684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438280" y="19051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5562720" y="19810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54440" y="33591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4952520" y="281952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07720" y="33829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2408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53652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62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795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07316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25640" y="23684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3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06680" y="34354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1371240" y="19051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62120" y="27432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7432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6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65960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2608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78920" y="2392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28600" y="4343400"/>
            <a:ext cx="800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438280" y="19051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63880" y="15303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116800" y="15541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64080" y="145404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1700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" y="4343400"/>
            <a:ext cx="8001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d right subtree of tree with smaller root and all of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of 6 is empty. So, result of melding right subtree of tree with smaller root and other tree is the other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4876920"/>
            <a:ext cx="74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3623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2063880" y="1454040"/>
            <a:ext cx="2044440" cy="520920"/>
            <a:chOff x="2063880" y="1454040"/>
            <a:chExt cx="2044440" cy="520920"/>
          </a:xfrm>
        </p:grpSpPr>
        <p:sp>
          <p:nvSpPr>
            <p:cNvPr id="1315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64080" y="14540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700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054240" y="3130560"/>
            <a:ext cx="1047960" cy="1504800"/>
            <a:chOff x="3054240" y="3130560"/>
            <a:chExt cx="1047960" cy="1504800"/>
          </a:xfrm>
        </p:grpSpPr>
        <p:sp>
          <p:nvSpPr>
            <p:cNvPr id="1320" name=""/>
            <p:cNvSpPr/>
            <p:nvPr/>
          </p:nvSpPr>
          <p:spPr>
            <a:xfrm>
              <a:off x="3054240" y="31305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1075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57600" y="419112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32840" y="4191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76720" y="3581280"/>
              <a:ext cx="6094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7245360" y="5111640"/>
            <a:ext cx="749160" cy="1511280"/>
            <a:chOff x="7245360" y="5111640"/>
            <a:chExt cx="749160" cy="1511280"/>
          </a:xfrm>
        </p:grpSpPr>
        <p:sp>
          <p:nvSpPr>
            <p:cNvPr id="1326" name=""/>
            <p:cNvSpPr/>
            <p:nvPr/>
          </p:nvSpPr>
          <p:spPr>
            <a:xfrm>
              <a:off x="7550280" y="511164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03200" y="5135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5360" y="61786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98280" y="6202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467120" y="5562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6560" y="1378080"/>
            <a:ext cx="2806560" cy="2349360"/>
            <a:chOff x="5416560" y="1378080"/>
            <a:chExt cx="2806560" cy="2349360"/>
          </a:xfrm>
        </p:grpSpPr>
        <p:sp>
          <p:nvSpPr>
            <p:cNvPr id="1333" name=""/>
            <p:cNvSpPr/>
            <p:nvPr/>
          </p:nvSpPr>
          <p:spPr>
            <a:xfrm>
              <a:off x="7016760" y="13780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26040" y="221616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78880" y="2216160"/>
              <a:ext cx="44424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16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59560" y="32828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324120" y="17524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91520" y="17524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715000" y="25909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00800" y="25909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69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2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79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180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6968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73960" y="32828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26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695720" y="26668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63680" y="1530360"/>
            <a:ext cx="3568680" cy="2349360"/>
            <a:chOff x="463680" y="1530360"/>
            <a:chExt cx="3568680" cy="2349360"/>
          </a:xfrm>
        </p:grpSpPr>
        <p:sp>
          <p:nvSpPr>
            <p:cNvPr id="1351" name=""/>
            <p:cNvSpPr/>
            <p:nvPr/>
          </p:nvSpPr>
          <p:spPr>
            <a:xfrm>
              <a:off x="2063880" y="1530360"/>
              <a:ext cx="44424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73160" y="2368440"/>
              <a:ext cx="444600" cy="44460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3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606680" y="3435480"/>
              <a:ext cx="44424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1371240" y="19051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2120" y="27432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47920" y="27432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6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59600" y="3459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26080" y="23922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16800" y="15541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87760" y="1682640"/>
              <a:ext cx="444600" cy="444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0680" y="1706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82840" y="2749680"/>
              <a:ext cx="444600" cy="444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36120" y="27734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3504960" y="21337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0" y="45720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5867280"/>
            <a:ext cx="67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63880" y="1378080"/>
            <a:ext cx="2197080" cy="2273040"/>
            <a:chOff x="2063880" y="1378080"/>
            <a:chExt cx="2197080" cy="2273040"/>
          </a:xfrm>
        </p:grpSpPr>
        <p:sp>
          <p:nvSpPr>
            <p:cNvPr id="1371" name=""/>
            <p:cNvSpPr/>
            <p:nvPr/>
          </p:nvSpPr>
          <p:spPr>
            <a:xfrm>
              <a:off x="3816360" y="13780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97040" y="221616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2971800" y="182880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63880" y="3206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362320" y="266688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16800" y="3230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50320" y="22399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945600" y="14018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152280" y="617220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left and right subtree i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(left) &lt; s(righ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280" y="52578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lded subtree right subtree of smaller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4273560" y="2292480"/>
            <a:ext cx="2806560" cy="2349360"/>
            <a:chOff x="4273560" y="2292480"/>
            <a:chExt cx="2806560" cy="2349360"/>
          </a:xfrm>
        </p:grpSpPr>
        <p:sp>
          <p:nvSpPr>
            <p:cNvPr id="1382" name=""/>
            <p:cNvSpPr/>
            <p:nvPr/>
          </p:nvSpPr>
          <p:spPr>
            <a:xfrm>
              <a:off x="5873760" y="2292480"/>
              <a:ext cx="444600" cy="4442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83040" y="313056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5880" y="3130560"/>
              <a:ext cx="44424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73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165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5181120" y="2666880"/>
              <a:ext cx="762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248520" y="266688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4572000" y="350532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57800" y="3505320"/>
              <a:ext cx="3049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26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694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93632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88800" y="31543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26680" y="23162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30960" y="4197240"/>
              <a:ext cx="444600" cy="444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83880" y="42210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552720" y="35812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ld Two Min Leftist Tre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16360" y="13780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645160" y="2444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2971800" y="18288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11640" y="34354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409720" y="289548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64920" y="3459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9808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945600" y="1401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673360" y="213984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82640" y="2978280"/>
            <a:ext cx="44460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435480" y="2978280"/>
            <a:ext cx="444240" cy="4442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73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2161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980720" y="25146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48120" y="25146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371600" y="335268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57400" y="335268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126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690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3592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488400" y="3002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726280" y="2163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130560" y="4044960"/>
            <a:ext cx="444600" cy="444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183480" y="4068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352320" y="3429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191120" y="175248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In O(n) Ti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node min leftist trees and place them in a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edly remove two min leftist trees from the FIFO queue, meld them, and put the resulting min leftist tree into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terminates when on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 leftist tree remains in the FIFO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is the same as for heap initialization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79640" y="3306600"/>
            <a:ext cx="62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514600"/>
            <a:ext cx="76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itializing A Max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4197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15238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5638680"/>
            <a:ext cx="5790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home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8:11:00Z</dcterms:modified>
  <cp:revision>59</cp:revision>
  <dc:subject/>
  <dc:title>Data Representation Methods</dc:title>
</cp:coreProperties>
</file>