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A71CAF-4349-49AE-8D19-04E65DDE5F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chedule is constructed by scheduling the jobs in the order they appear in the given job list (left to right); each job is scheduled on the machine on which it will complete earli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eight must be an integer, the precise expression for height is ceiling(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log</a:t>
            </a:r>
            <a:r>
              <a:rPr b="0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 (n+1)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ABF-C385-4273-8F07-518BD87D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10A-1875-4DC4-B9AF-EC556C9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DA6-D7DF-4D41-9ABD-88FCAD07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DA1-A65B-42B6-89EF-9C3630A4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1F4-E31C-4411-9637-978C1EA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59D-58FD-4D1B-A595-64E13E14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33E-1A3B-4142-9D78-8959724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262-F85C-48EC-A6A2-87B7DCE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8BB-914D-4BF9-B98D-8D403B4C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047-7E8E-42F5-A084-1892164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779-2E42-4619-8C06-2C55DA0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163-172B-44A7-BBA0-D000A4A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19D-72A9-4FAC-ADAE-6A76AB95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ority Queu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priority que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48572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485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Thir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our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fth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Sor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ove max opera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tim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insertion sort of Lectur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So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a max priority queue that is implemented as a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insert operations are replaced by a heap initialization step that tak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(drill press, cutter, sand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/tasks to be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 to machines so that the time at which the last job completes is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time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6, 2, 3, 5, 10, 7, 1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18148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601992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4520" y="41450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4983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4880" y="582120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400800"/>
            <a:ext cx="312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2640" y="4121280"/>
            <a:ext cx="97812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8116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6483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2640" y="5797440"/>
            <a:ext cx="44460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41008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2640" y="4959360"/>
            <a:ext cx="29232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7560" y="4959360"/>
            <a:ext cx="9018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5797440"/>
            <a:ext cx="212112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4100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73360" y="4121280"/>
            <a:ext cx="1587600" cy="2156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8116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01960" y="4959360"/>
            <a:ext cx="2959200" cy="216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64832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chine Schedul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=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bjectiv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schedules with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362320"/>
            <a:ext cx="70102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200400"/>
            <a:ext cx="70102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038480"/>
            <a:ext cx="701028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8200" y="21636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98560" y="30020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856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19112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--------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6680" y="2139840"/>
            <a:ext cx="97776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83024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6668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6680" y="3816360"/>
            <a:ext cx="44424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34290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6680" y="2978280"/>
            <a:ext cx="29196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1240" y="2978280"/>
            <a:ext cx="9018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63880" y="3816360"/>
            <a:ext cx="2120760" cy="2160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42900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7040" y="2139840"/>
            <a:ext cx="1587600" cy="216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83024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5640" y="2978280"/>
            <a:ext cx="2959200" cy="215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66688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sing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scheduled in th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4, 10, 7, 6, 5, 3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is scheduled on the machine on which it finishes earli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[14, 10, 7, 6, 5, 3, 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657600"/>
            <a:ext cx="67820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42900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419720"/>
            <a:ext cx="67820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418464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5257800"/>
            <a:ext cx="67820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760" y="5022720"/>
            <a:ext cx="393480" cy="39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560" y="3359160"/>
            <a:ext cx="318780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97180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4121280"/>
            <a:ext cx="21970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380988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45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4760" y="4959360"/>
            <a:ext cx="158760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64832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54240" y="4121280"/>
            <a:ext cx="1511280" cy="291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3809880"/>
            <a:ext cx="53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4960" y="4959360"/>
            <a:ext cx="120636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4960" y="3359160"/>
            <a:ext cx="1282680" cy="2919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97180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time is 16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n element into the priority queue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T Schedu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does not guarantee minimum finish time sche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LPT Finish Time)/(Minimum Finish Time) &lt;= 4/3 - 1/(3m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LPT finish time is much closer to minimum finis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inish time scheduling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mous class of problems for which no one has developed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no algorithm whose 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consta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known for any NP-hard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includes thousands of real-worl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unlikely that any NP-hard problem can be solved by a polynomial 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P-hard Problem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even polynomial time algorithms with degre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k &gt;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ay) are not practical for larg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ust change our expectations of the algorithm that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develop fast heuristics for NP-har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hat gives a solution close to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in acceptable amount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 is good heuristic for minimum finish time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LPT Schedu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jobs into decreasing order of task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umber of jo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job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 to machine that becomes availabl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find minimum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machines) finish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using simpl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ne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m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schedule all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priority queue has the finish times of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finish times are all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chedule a job remove machine with minimum finish time from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finish time of the selected machine and insert the machine back into the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sing A Min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operations to initializ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 min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ert to schedule eac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sert and remove min operation take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m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o schedul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time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n log n + n log m) = O(n log (m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uffman C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ed in Chapter 7 of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ee node has a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 any node is the minimum value in the subtree for which that node is the r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no descendent has a smaller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in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Tree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6360" y="2139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73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1636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11640" y="29782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756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6880" y="38926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243828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590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243828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209680" y="33526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1640" y="38926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5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2160" y="473076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43434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209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048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38862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9625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9625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48006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has maximum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lement has a priority o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following ope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n element into the priority queue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element wit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lement wit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ority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Defini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0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in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22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 Heap With 9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 that is also a max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351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eap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heap is a complete binary tree, the height of 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heap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(n+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5280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2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9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6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21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82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354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98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7080" y="5416560"/>
            <a:ext cx="444240" cy="444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64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21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86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358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502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5416560"/>
            <a:ext cx="444240" cy="4446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81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548640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197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6019920"/>
            <a:ext cx="53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6019920"/>
            <a:ext cx="3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Heap Is Efficiently Represented As An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19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ving Up And Down A Heap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57200" y="1066680"/>
            <a:ext cx="7848720" cy="4207680"/>
            <a:chOff x="457200" y="1066680"/>
            <a:chExt cx="7848720" cy="4207680"/>
          </a:xfrm>
        </p:grpSpPr>
        <p:sp>
          <p:nvSpPr>
            <p:cNvPr id="4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5680" y="10666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19810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53080" y="19810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2819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2895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24680" y="28195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6520" y="4876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63680" y="1454040"/>
            <a:ext cx="7530840" cy="3340080"/>
            <a:chOff x="463680" y="1454040"/>
            <a:chExt cx="7530840" cy="3340080"/>
          </a:xfrm>
        </p:grpSpPr>
        <p:sp>
          <p:nvSpPr>
            <p:cNvPr id="485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168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438280" y="3733920"/>
            <a:ext cx="526680" cy="1060200"/>
            <a:chOff x="2438280" y="3733920"/>
            <a:chExt cx="526680" cy="1060200"/>
          </a:xfrm>
        </p:grpSpPr>
        <p:sp>
          <p:nvSpPr>
            <p:cNvPr id="512" name=""/>
            <p:cNvSpPr/>
            <p:nvPr/>
          </p:nvSpPr>
          <p:spPr>
            <a:xfrm>
              <a:off x="24912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38280" y="434988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73636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371240" y="281952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335268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heap or a leftist tree (both are defined la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, size, and top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(push) and remove (pop)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O(log 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ize of the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serting An Element Into A Max Heap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15238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Inser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heap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2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24280" y="3733920"/>
            <a:ext cx="603000" cy="1136520"/>
            <a:chOff x="4724280" y="3733920"/>
            <a:chExt cx="603000" cy="1136520"/>
          </a:xfrm>
        </p:grpSpPr>
        <p:sp>
          <p:nvSpPr>
            <p:cNvPr id="855" name=""/>
            <p:cNvSpPr/>
            <p:nvPr/>
          </p:nvSpPr>
          <p:spPr>
            <a:xfrm>
              <a:off x="4724280" y="4426200"/>
              <a:ext cx="444600" cy="444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5022360" y="3733920"/>
              <a:ext cx="304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in the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63680" y="1454040"/>
            <a:ext cx="7530840" cy="3363120"/>
            <a:chOff x="463680" y="1454040"/>
            <a:chExt cx="7530840" cy="3363120"/>
          </a:xfrm>
        </p:grpSpPr>
        <p:sp>
          <p:nvSpPr>
            <p:cNvPr id="860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884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768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44760" y="4349880"/>
              <a:ext cx="44460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742840" y="373392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4419720"/>
              <a:ext cx="22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91120" y="1523880"/>
              <a:ext cx="838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354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00400" y="365760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89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7400" y="25146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36576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lement key as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elements to be sorted into a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/pop elements in priority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in priority queue is used, elements are extracted in a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ax priority queue is used, elements are extracted in descending order of priority (or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884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35480" y="4349880"/>
            <a:ext cx="44424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47920" y="6019920"/>
            <a:ext cx="640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251460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7892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elemen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91120" y="144792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x element is rem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742840" y="3733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p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9768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44760" y="4349880"/>
            <a:ext cx="444600" cy="444240"/>
          </a:xfrm>
          <a:prstGeom prst="ellipse">
            <a:avLst/>
          </a:prstGeom>
          <a:solidFill>
            <a:srgbClr val="f0f36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441972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1168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91120" y="14479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95480" y="3352680"/>
            <a:ext cx="38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moving Th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ser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7240" y="14540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0638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407280" y="244476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731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25640" y="3282840"/>
            <a:ext cx="444600" cy="44460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7960" y="3282840"/>
            <a:ext cx="44460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3282840"/>
            <a:ext cx="444240" cy="4446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3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6680" y="4349880"/>
            <a:ext cx="444240" cy="444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514240" y="1752480"/>
            <a:ext cx="16765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1752480"/>
            <a:ext cx="18288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371240" y="28195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38280" y="2819520"/>
            <a:ext cx="5335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5562720" y="28954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28195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762120" y="36576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47920" y="3657600"/>
            <a:ext cx="3045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260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240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60320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6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659600" y="43736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0200" y="24685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250520" y="14778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191120" y="1447920"/>
            <a:ext cx="304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33720" y="243828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954880" y="33066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rting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five elements whose keys a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, 8, 2, 4,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max priority que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five elements into a max priority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five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max operations placing removed elements into the sorted array from right to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xity Of Remove Max Ele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(log 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63680" y="1447920"/>
            <a:ext cx="7530840" cy="3346200"/>
            <a:chOff x="463680" y="1447920"/>
            <a:chExt cx="7530840" cy="3346200"/>
          </a:xfrm>
        </p:grpSpPr>
        <p:sp>
          <p:nvSpPr>
            <p:cNvPr id="1247" name=""/>
            <p:cNvSpPr/>
            <p:nvPr/>
          </p:nvSpPr>
          <p:spPr>
            <a:xfrm>
              <a:off x="4197240" y="14540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638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07280" y="244476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731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2564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87960" y="3282840"/>
              <a:ext cx="44460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50280" y="3282840"/>
              <a:ext cx="444240" cy="444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4349880"/>
              <a:ext cx="444240" cy="444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514240" y="17524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1752480"/>
              <a:ext cx="182880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1371240" y="2819520"/>
              <a:ext cx="76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38280" y="28195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562720" y="2895480"/>
              <a:ext cx="9144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81680" y="2819520"/>
              <a:ext cx="8384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762120" y="365760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47920" y="3657600"/>
              <a:ext cx="3045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1260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40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032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6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659600" y="43736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602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50520" y="1477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91120" y="1447920"/>
              <a:ext cx="304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33720" y="24382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548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Inserting Into Max Priority Queu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2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First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528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fter Second Remove Max Oper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orted Arr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3880" y="1606680"/>
            <a:ext cx="4330440" cy="15872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56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54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496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444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4280" y="3892680"/>
            <a:ext cx="596880" cy="6728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4560" y="252900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6840" y="19191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6480" y="2376360"/>
            <a:ext cx="36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03848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03848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13372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x Priority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6:43:54Z</dcterms:modified>
  <cp:revision>48</cp:revision>
  <dc:subject/>
  <dc:title>Data Representation Methods</dc:title>
</cp:coreProperties>
</file>