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DEDE-109A-4913-B47B-34DDD7D47A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clone using postorder traversal … clone the left subtree, clone the right subtree, clone the root in the visit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height using postorder traversal … determine the height of the left subtree, determine the height of the right subtree, in the visit step add 1 to the max of the already determined heights of the left and right sub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number of nodes using preorder, inorder, or postorder traversal … initialize a counter to 0, add 1 to the counter in the visit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r points to the root of the subtree being traver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traversal, t starts at the root, moves to the left child b of the root, then to the left child d of b. When the traversal of the left subtree of b is complete, t, once again, points to the node b. The t moves into the right subtree of b. When the traversal of this right subtree is complete, t again points to b. Following this, t points to a. We see that t points to every node in the binary tree three times – once when you get to the node from its parent (or in the case of the root, t is initially at the root), once when you return from the left subtree of the node, and once when you return from the node’s right subtree. Of these three times that t points to a node, the node is visited the fir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39E-9246-430D-8AAA-410820BF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FF7-24D9-47E7-A8FF-05B4BEF9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0C7-D651-4409-8C70-F6E9554F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2B4-29A0-4D65-91A0-9300213D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CF7-9A7F-40C4-AB18-B14F73A7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5CA-A8D0-4D27-AFAE-4FC95888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507-4151-442D-B01C-2FE79F64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375-97DD-47F9-A0E0-F94607CA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026-483B-4C5A-82ED-84097650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FB3-1B80-4990-AB0E-C4B4DEDC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92E-75BD-4B35-A872-F5DC1EB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FFC-D8C3-49DE-8DA4-F7ABD2A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957-5B9D-4F66-B1C5-7130F37FD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008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1189080" cy="1096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123720"/>
            <a:ext cx="83055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raversal of a binary tree, each element of th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, all action (make a clone, display, evaluate the operator, etc.) with respect to this element is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By Projection (Squishin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266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270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273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278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285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288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292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297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311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066680" y="5486400"/>
            <a:ext cx="5486400" cy="657720"/>
            <a:chOff x="1066680" y="5486400"/>
            <a:chExt cx="5486400" cy="657720"/>
          </a:xfrm>
        </p:grpSpPr>
        <p:sp>
          <p:nvSpPr>
            <p:cNvPr id="316" name=""/>
            <p:cNvSpPr/>
            <p:nvPr/>
          </p:nvSpPr>
          <p:spPr>
            <a:xfrm>
              <a:off x="10666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33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954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053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148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4864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86400" y="5562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7220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295280" y="1828800"/>
            <a:ext cx="5029200" cy="3581280"/>
            <a:chOff x="1295280" y="1828800"/>
            <a:chExt cx="5029200" cy="3581280"/>
          </a:xfrm>
        </p:grpSpPr>
        <p:sp>
          <p:nvSpPr>
            <p:cNvPr id="327" name=""/>
            <p:cNvSpPr/>
            <p:nvPr/>
          </p:nvSpPr>
          <p:spPr>
            <a:xfrm>
              <a:off x="6324480" y="2819520"/>
              <a:ext cx="0" cy="2590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4419720"/>
              <a:ext cx="0" cy="990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38680" y="35812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48320" y="1828800"/>
              <a:ext cx="0" cy="3505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33920" y="3809880"/>
              <a:ext cx="0" cy="1524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71800" y="2895480"/>
              <a:ext cx="0" cy="2438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28800" y="3886200"/>
              <a:ext cx="0" cy="1447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45720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339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28600" y="5943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infix form of expression (sans parentheses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600200" y="1600200"/>
            <a:ext cx="5410080" cy="3581280"/>
            <a:chOff x="1600200" y="1600200"/>
            <a:chExt cx="5410080" cy="3581280"/>
          </a:xfrm>
        </p:grpSpPr>
        <p:sp>
          <p:nvSpPr>
            <p:cNvPr id="373" name=""/>
            <p:cNvSpPr/>
            <p:nvPr/>
          </p:nvSpPr>
          <p:spPr>
            <a:xfrm>
              <a:off x="6477120" y="2666880"/>
              <a:ext cx="0" cy="2514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3600" y="33526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52880" y="1600200"/>
              <a:ext cx="0" cy="3505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24280" y="4419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1120" y="3809880"/>
              <a:ext cx="0" cy="1371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2666880"/>
              <a:ext cx="0" cy="2438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90920" y="43434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33720" y="3657600"/>
              <a:ext cx="0" cy="1447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0200" y="434340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33920" y="4419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10280" y="3352680"/>
              <a:ext cx="0" cy="1828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371600" y="5105520"/>
            <a:ext cx="5867280" cy="581400"/>
            <a:chOff x="1371600" y="5105520"/>
            <a:chExt cx="5867280" cy="581400"/>
          </a:xfrm>
        </p:grpSpPr>
        <p:sp>
          <p:nvSpPr>
            <p:cNvPr id="385" name=""/>
            <p:cNvSpPr/>
            <p:nvPr/>
          </p:nvSpPr>
          <p:spPr>
            <a:xfrm>
              <a:off x="5791320" y="5105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1371600" y="5105520"/>
              <a:ext cx="5867280" cy="581400"/>
              <a:chOff x="1371600" y="5105520"/>
              <a:chExt cx="5867280" cy="581400"/>
            </a:xfrm>
          </p:grpSpPr>
          <p:sp>
            <p:nvSpPr>
              <p:cNvPr id="387" name=""/>
              <p:cNvSpPr/>
              <p:nvPr/>
            </p:nvSpPr>
            <p:spPr>
              <a:xfrm>
                <a:off x="13716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051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4382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812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956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006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/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8000" y="5105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38480" y="510552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postOrder(treePointer p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(ptr != </a:t>
            </a: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stOrder(ptr-&gt;leftChild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stOrder(ptr-&gt;rightChil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ff0033"/>
                </a:solidFill>
                <a:latin typeface="Courier New"/>
              </a:rPr>
              <a:t>visit(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401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402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408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420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421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424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427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435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439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442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446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451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465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ost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481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523880" y="5943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postfix form of expr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54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098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14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raversal Applic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143000" y="990720"/>
            <a:ext cx="5562720" cy="3322080"/>
            <a:chOff x="1143000" y="990720"/>
            <a:chExt cx="5562720" cy="3322080"/>
          </a:xfrm>
        </p:grpSpPr>
        <p:grpSp>
          <p:nvGrpSpPr>
            <p:cNvPr id="527" name=""/>
            <p:cNvGrpSpPr/>
            <p:nvPr/>
          </p:nvGrpSpPr>
          <p:grpSpPr>
            <a:xfrm>
              <a:off x="1600200" y="3047760"/>
              <a:ext cx="380880" cy="579240"/>
              <a:chOff x="1600200" y="3047760"/>
              <a:chExt cx="380880" cy="579240"/>
            </a:xfrm>
          </p:grpSpPr>
          <p:sp>
            <p:nvSpPr>
              <p:cNvPr id="528" name=""/>
              <p:cNvSpPr/>
              <p:nvPr/>
            </p:nvSpPr>
            <p:spPr>
              <a:xfrm>
                <a:off x="1600200" y="31237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00200" y="30477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1143000" y="3733560"/>
              <a:ext cx="380880" cy="579240"/>
              <a:chOff x="1143000" y="3733560"/>
              <a:chExt cx="380880" cy="579240"/>
            </a:xfrm>
          </p:grpSpPr>
          <p:sp>
            <p:nvSpPr>
              <p:cNvPr id="531" name=""/>
              <p:cNvSpPr/>
              <p:nvPr/>
            </p:nvSpPr>
            <p:spPr>
              <a:xfrm>
                <a:off x="114300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2133720" y="3733560"/>
              <a:ext cx="380880" cy="579240"/>
              <a:chOff x="2133720" y="3733560"/>
              <a:chExt cx="380880" cy="579240"/>
            </a:xfrm>
          </p:grpSpPr>
          <p:sp>
            <p:nvSpPr>
              <p:cNvPr id="534" name=""/>
              <p:cNvSpPr/>
              <p:nvPr/>
            </p:nvSpPr>
            <p:spPr>
              <a:xfrm>
                <a:off x="213372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3372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 flipH="1">
              <a:off x="1447560" y="342864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35268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581280" y="2971440"/>
              <a:ext cx="380880" cy="579240"/>
              <a:chOff x="3581280" y="2971440"/>
              <a:chExt cx="380880" cy="579240"/>
            </a:xfrm>
          </p:grpSpPr>
          <p:sp>
            <p:nvSpPr>
              <p:cNvPr id="539" name=""/>
              <p:cNvSpPr/>
              <p:nvPr/>
            </p:nvSpPr>
            <p:spPr>
              <a:xfrm>
                <a:off x="3581280" y="30474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1280" y="29714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038480" y="3733560"/>
              <a:ext cx="380880" cy="579240"/>
              <a:chOff x="4038480" y="3733560"/>
              <a:chExt cx="380880" cy="579240"/>
            </a:xfrm>
          </p:grpSpPr>
          <p:sp>
            <p:nvSpPr>
              <p:cNvPr id="542" name=""/>
              <p:cNvSpPr/>
              <p:nvPr/>
            </p:nvSpPr>
            <p:spPr>
              <a:xfrm>
                <a:off x="4038480" y="38095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38480" y="37335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3886200" y="335268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5943600" y="2057040"/>
              <a:ext cx="380880" cy="579240"/>
              <a:chOff x="5943600" y="2057040"/>
              <a:chExt cx="380880" cy="579240"/>
            </a:xfrm>
          </p:grpSpPr>
          <p:sp>
            <p:nvSpPr>
              <p:cNvPr id="546" name=""/>
              <p:cNvSpPr/>
              <p:nvPr/>
            </p:nvSpPr>
            <p:spPr>
              <a:xfrm>
                <a:off x="5943600" y="21330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943600" y="20570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486400" y="2742840"/>
              <a:ext cx="380880" cy="579240"/>
              <a:chOff x="5486400" y="2742840"/>
              <a:chExt cx="380880" cy="579240"/>
            </a:xfrm>
          </p:grpSpPr>
          <p:sp>
            <p:nvSpPr>
              <p:cNvPr id="549" name=""/>
              <p:cNvSpPr/>
              <p:nvPr/>
            </p:nvSpPr>
            <p:spPr>
              <a:xfrm>
                <a:off x="5486400" y="2818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6400" y="2742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 flipH="1">
              <a:off x="5790960" y="2438280"/>
              <a:ext cx="2286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743200" y="2057040"/>
              <a:ext cx="380880" cy="579240"/>
              <a:chOff x="2743200" y="2057040"/>
              <a:chExt cx="380880" cy="579240"/>
            </a:xfrm>
          </p:grpSpPr>
          <p:sp>
            <p:nvSpPr>
              <p:cNvPr id="553" name=""/>
              <p:cNvSpPr/>
              <p:nvPr/>
            </p:nvSpPr>
            <p:spPr>
              <a:xfrm>
                <a:off x="2743200" y="21330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43200" y="20570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 flipH="1">
              <a:off x="1905120" y="2361960"/>
              <a:ext cx="8380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24080" y="2361960"/>
              <a:ext cx="5335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4419720" y="990720"/>
              <a:ext cx="380880" cy="579240"/>
              <a:chOff x="4419720" y="990720"/>
              <a:chExt cx="380880" cy="579240"/>
            </a:xfrm>
          </p:grpSpPr>
          <p:sp>
            <p:nvSpPr>
              <p:cNvPr id="558" name=""/>
              <p:cNvSpPr/>
              <p:nvPr/>
            </p:nvSpPr>
            <p:spPr>
              <a:xfrm>
                <a:off x="4419720" y="1066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19720" y="990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flipH="1">
              <a:off x="3048120" y="1295280"/>
              <a:ext cx="137160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1371240"/>
              <a:ext cx="12956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990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43200" y="205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43600" y="205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00200" y="30477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81280" y="29714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86400" y="2742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3657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33720" y="37335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3733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5867280" y="3581280"/>
              <a:ext cx="380880" cy="578880"/>
              <a:chOff x="5867280" y="3581280"/>
              <a:chExt cx="380880" cy="578880"/>
            </a:xfrm>
          </p:grpSpPr>
          <p:sp>
            <p:nvSpPr>
              <p:cNvPr id="572" name=""/>
              <p:cNvSpPr/>
              <p:nvPr/>
            </p:nvSpPr>
            <p:spPr>
              <a:xfrm>
                <a:off x="5867280" y="3657240"/>
                <a:ext cx="380880" cy="3801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7280" y="3581280"/>
                <a:ext cx="38088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5715000" y="3200040"/>
              <a:ext cx="30492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3600" y="3581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57200" y="4495680"/>
            <a:ext cx="6477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c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h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vel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pointer to the tree 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tr !=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t node pointed at by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pt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ut its children on a FIFO que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FO queue is empty, se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tr =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delete a node from the FIFO queue and call i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vel-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581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585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588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593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596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600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603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607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612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626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Constr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the elements in a binary tree are dist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construct the binary tree from which a given traversal sequence c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versal sequence has more than one element, the binary tree is not uniquely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 tree from which the sequence was obtained cannot be reconstructed uniqu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Exampl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1676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886200" y="838080"/>
            <a:ext cx="1295280" cy="1189080"/>
            <a:chOff x="3886200" y="838080"/>
            <a:chExt cx="1295280" cy="1189080"/>
          </a:xfrm>
        </p:grpSpPr>
        <p:grpSp>
          <p:nvGrpSpPr>
            <p:cNvPr id="645" name=""/>
            <p:cNvGrpSpPr/>
            <p:nvPr/>
          </p:nvGrpSpPr>
          <p:grpSpPr>
            <a:xfrm>
              <a:off x="3886200" y="1447560"/>
              <a:ext cx="380880" cy="579600"/>
              <a:chOff x="3886200" y="1447560"/>
              <a:chExt cx="380880" cy="579600"/>
            </a:xfrm>
          </p:grpSpPr>
          <p:sp>
            <p:nvSpPr>
              <p:cNvPr id="646" name=""/>
              <p:cNvSpPr/>
              <p:nvPr/>
            </p:nvSpPr>
            <p:spPr>
              <a:xfrm>
                <a:off x="3886200" y="15238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86200" y="14475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4419720" y="838080"/>
              <a:ext cx="380880" cy="579600"/>
              <a:chOff x="4419720" y="838080"/>
              <a:chExt cx="380880" cy="579600"/>
            </a:xfrm>
          </p:grpSpPr>
          <p:sp>
            <p:nvSpPr>
              <p:cNvPr id="649" name=""/>
              <p:cNvSpPr/>
              <p:nvPr/>
            </p:nvSpPr>
            <p:spPr>
              <a:xfrm>
                <a:off x="441972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1972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419720" y="8380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86200" y="14475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191120" y="121896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629400" y="838080"/>
            <a:ext cx="1295280" cy="1189080"/>
            <a:chOff x="6629400" y="838080"/>
            <a:chExt cx="1295280" cy="1189080"/>
          </a:xfrm>
        </p:grpSpPr>
        <p:grpSp>
          <p:nvGrpSpPr>
            <p:cNvPr id="655" name=""/>
            <p:cNvGrpSpPr/>
            <p:nvPr/>
          </p:nvGrpSpPr>
          <p:grpSpPr>
            <a:xfrm>
              <a:off x="7162920" y="1447920"/>
              <a:ext cx="380880" cy="579240"/>
              <a:chOff x="7162920" y="1447920"/>
              <a:chExt cx="380880" cy="579240"/>
            </a:xfrm>
          </p:grpSpPr>
          <p:sp>
            <p:nvSpPr>
              <p:cNvPr id="656" name=""/>
              <p:cNvSpPr/>
              <p:nvPr/>
            </p:nvSpPr>
            <p:spPr>
              <a:xfrm>
                <a:off x="7162920" y="1523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62920" y="1447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629400" y="838080"/>
              <a:ext cx="380880" cy="579600"/>
              <a:chOff x="6629400" y="838080"/>
              <a:chExt cx="380880" cy="579600"/>
            </a:xfrm>
          </p:grpSpPr>
          <p:sp>
            <p:nvSpPr>
              <p:cNvPr id="659" name=""/>
              <p:cNvSpPr/>
              <p:nvPr/>
            </p:nvSpPr>
            <p:spPr>
              <a:xfrm>
                <a:off x="662940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62940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6629400" y="838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62920" y="1447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34320" y="12193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838080" y="2286000"/>
            <a:ext cx="1676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962520" y="2286000"/>
            <a:ext cx="1295280" cy="1189080"/>
            <a:chOff x="3962520" y="2286000"/>
            <a:chExt cx="1295280" cy="1189080"/>
          </a:xfrm>
        </p:grpSpPr>
        <p:grpSp>
          <p:nvGrpSpPr>
            <p:cNvPr id="666" name=""/>
            <p:cNvGrpSpPr/>
            <p:nvPr/>
          </p:nvGrpSpPr>
          <p:grpSpPr>
            <a:xfrm>
              <a:off x="3962520" y="2895480"/>
              <a:ext cx="380880" cy="579600"/>
              <a:chOff x="3962520" y="2895480"/>
              <a:chExt cx="380880" cy="579600"/>
            </a:xfrm>
          </p:grpSpPr>
          <p:sp>
            <p:nvSpPr>
              <p:cNvPr id="667" name=""/>
              <p:cNvSpPr/>
              <p:nvPr/>
            </p:nvSpPr>
            <p:spPr>
              <a:xfrm>
                <a:off x="3962520" y="2971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62520" y="2895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496040" y="2286000"/>
              <a:ext cx="380880" cy="579600"/>
              <a:chOff x="4496040" y="2286000"/>
              <a:chExt cx="380880" cy="579600"/>
            </a:xfrm>
          </p:grpSpPr>
          <p:sp>
            <p:nvSpPr>
              <p:cNvPr id="670" name=""/>
              <p:cNvSpPr/>
              <p:nvPr/>
            </p:nvSpPr>
            <p:spPr>
              <a:xfrm>
                <a:off x="4496040" y="2362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96040" y="2286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4496040" y="22860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62520" y="2895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267440" y="266688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705720" y="2286000"/>
            <a:ext cx="1295280" cy="1189080"/>
            <a:chOff x="6705720" y="2286000"/>
            <a:chExt cx="1295280" cy="1189080"/>
          </a:xfrm>
        </p:grpSpPr>
        <p:grpSp>
          <p:nvGrpSpPr>
            <p:cNvPr id="676" name=""/>
            <p:cNvGrpSpPr/>
            <p:nvPr/>
          </p:nvGrpSpPr>
          <p:grpSpPr>
            <a:xfrm>
              <a:off x="7239240" y="2895840"/>
              <a:ext cx="380880" cy="579240"/>
              <a:chOff x="7239240" y="2895840"/>
              <a:chExt cx="380880" cy="579240"/>
            </a:xfrm>
          </p:grpSpPr>
          <p:sp>
            <p:nvSpPr>
              <p:cNvPr id="677" name=""/>
              <p:cNvSpPr/>
              <p:nvPr/>
            </p:nvSpPr>
            <p:spPr>
              <a:xfrm>
                <a:off x="7239240" y="2971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239240" y="2895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705720" y="2286000"/>
              <a:ext cx="380880" cy="579600"/>
              <a:chOff x="6705720" y="2286000"/>
              <a:chExt cx="380880" cy="579600"/>
            </a:xfrm>
          </p:grpSpPr>
          <p:sp>
            <p:nvSpPr>
              <p:cNvPr id="680" name=""/>
              <p:cNvSpPr/>
              <p:nvPr/>
            </p:nvSpPr>
            <p:spPr>
              <a:xfrm>
                <a:off x="6705720" y="2362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705720" y="2286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6705720" y="2286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39240" y="28958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10640" y="266724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762120" y="3733920"/>
            <a:ext cx="1828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886200" y="3733920"/>
            <a:ext cx="1295280" cy="1189080"/>
            <a:chOff x="3886200" y="3733920"/>
            <a:chExt cx="1295280" cy="1189080"/>
          </a:xfrm>
        </p:grpSpPr>
        <p:grpSp>
          <p:nvGrpSpPr>
            <p:cNvPr id="687" name=""/>
            <p:cNvGrpSpPr/>
            <p:nvPr/>
          </p:nvGrpSpPr>
          <p:grpSpPr>
            <a:xfrm>
              <a:off x="3886200" y="4343400"/>
              <a:ext cx="380880" cy="579600"/>
              <a:chOff x="3886200" y="4343400"/>
              <a:chExt cx="380880" cy="579600"/>
            </a:xfrm>
          </p:grpSpPr>
          <p:sp>
            <p:nvSpPr>
              <p:cNvPr id="688" name=""/>
              <p:cNvSpPr/>
              <p:nvPr/>
            </p:nvSpPr>
            <p:spPr>
              <a:xfrm>
                <a:off x="388620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86200" y="4343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419720" y="3733920"/>
              <a:ext cx="380880" cy="579600"/>
              <a:chOff x="4419720" y="3733920"/>
              <a:chExt cx="380880" cy="579600"/>
            </a:xfrm>
          </p:grpSpPr>
          <p:sp>
            <p:nvSpPr>
              <p:cNvPr id="691" name=""/>
              <p:cNvSpPr/>
              <p:nvPr/>
            </p:nvSpPr>
            <p:spPr>
              <a:xfrm>
                <a:off x="4419720" y="38102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19720" y="37339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4419720" y="3733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86200" y="4343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191120" y="411480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629400" y="3733920"/>
            <a:ext cx="1295280" cy="1189080"/>
            <a:chOff x="6629400" y="3733920"/>
            <a:chExt cx="1295280" cy="1189080"/>
          </a:xfrm>
        </p:grpSpPr>
        <p:grpSp>
          <p:nvGrpSpPr>
            <p:cNvPr id="697" name=""/>
            <p:cNvGrpSpPr/>
            <p:nvPr/>
          </p:nvGrpSpPr>
          <p:grpSpPr>
            <a:xfrm>
              <a:off x="7162920" y="4343760"/>
              <a:ext cx="380880" cy="579240"/>
              <a:chOff x="7162920" y="4343760"/>
              <a:chExt cx="380880" cy="579240"/>
            </a:xfrm>
          </p:grpSpPr>
          <p:sp>
            <p:nvSpPr>
              <p:cNvPr id="698" name=""/>
              <p:cNvSpPr/>
              <p:nvPr/>
            </p:nvSpPr>
            <p:spPr>
              <a:xfrm>
                <a:off x="7162920" y="44197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162920" y="43437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629400" y="3733920"/>
              <a:ext cx="380880" cy="579600"/>
              <a:chOff x="6629400" y="3733920"/>
              <a:chExt cx="380880" cy="579600"/>
            </a:xfrm>
          </p:grpSpPr>
          <p:sp>
            <p:nvSpPr>
              <p:cNvPr id="701" name=""/>
              <p:cNvSpPr/>
              <p:nvPr/>
            </p:nvSpPr>
            <p:spPr>
              <a:xfrm>
                <a:off x="6629400" y="381024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29400" y="373392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6629400" y="3733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43437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34320" y="411516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838080" y="5181480"/>
            <a:ext cx="2210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962520" y="5181480"/>
            <a:ext cx="1295280" cy="1189080"/>
            <a:chOff x="3962520" y="5181480"/>
            <a:chExt cx="1295280" cy="1189080"/>
          </a:xfrm>
        </p:grpSpPr>
        <p:grpSp>
          <p:nvGrpSpPr>
            <p:cNvPr id="708" name=""/>
            <p:cNvGrpSpPr/>
            <p:nvPr/>
          </p:nvGrpSpPr>
          <p:grpSpPr>
            <a:xfrm>
              <a:off x="3962520" y="5790960"/>
              <a:ext cx="380880" cy="579600"/>
              <a:chOff x="3962520" y="5790960"/>
              <a:chExt cx="380880" cy="579600"/>
            </a:xfrm>
          </p:grpSpPr>
          <p:sp>
            <p:nvSpPr>
              <p:cNvPr id="709" name=""/>
              <p:cNvSpPr/>
              <p:nvPr/>
            </p:nvSpPr>
            <p:spPr>
              <a:xfrm>
                <a:off x="3962520" y="58672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62520" y="579096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4496040" y="5181480"/>
              <a:ext cx="380880" cy="579600"/>
              <a:chOff x="4496040" y="5181480"/>
              <a:chExt cx="380880" cy="579600"/>
            </a:xfrm>
          </p:grpSpPr>
          <p:sp>
            <p:nvSpPr>
              <p:cNvPr id="712" name=""/>
              <p:cNvSpPr/>
              <p:nvPr/>
            </p:nvSpPr>
            <p:spPr>
              <a:xfrm>
                <a:off x="449604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49604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496040" y="51814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62520" y="57909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267440" y="556236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705720" y="5181480"/>
            <a:ext cx="1295280" cy="1189080"/>
            <a:chOff x="6705720" y="5181480"/>
            <a:chExt cx="1295280" cy="1189080"/>
          </a:xfrm>
        </p:grpSpPr>
        <p:grpSp>
          <p:nvGrpSpPr>
            <p:cNvPr id="718" name=""/>
            <p:cNvGrpSpPr/>
            <p:nvPr/>
          </p:nvGrpSpPr>
          <p:grpSpPr>
            <a:xfrm>
              <a:off x="7239240" y="5791320"/>
              <a:ext cx="380880" cy="579240"/>
              <a:chOff x="7239240" y="5791320"/>
              <a:chExt cx="380880" cy="579240"/>
            </a:xfrm>
          </p:grpSpPr>
          <p:sp>
            <p:nvSpPr>
              <p:cNvPr id="719" name=""/>
              <p:cNvSpPr/>
              <p:nvPr/>
            </p:nvSpPr>
            <p:spPr>
              <a:xfrm>
                <a:off x="7239240" y="58672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239240" y="57913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6705720" y="5181480"/>
              <a:ext cx="380880" cy="579600"/>
              <a:chOff x="6705720" y="5181480"/>
              <a:chExt cx="380880" cy="579600"/>
            </a:xfrm>
          </p:grpSpPr>
          <p:sp>
            <p:nvSpPr>
              <p:cNvPr id="722" name=""/>
              <p:cNvSpPr/>
              <p:nvPr/>
            </p:nvSpPr>
            <p:spPr>
              <a:xfrm>
                <a:off x="670572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0572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705720" y="5181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39240" y="57913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10640" y="55627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Construc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construct the binary tree, given two traversal sequen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s on which two sequences are gi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And Post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3886200" y="1371600"/>
            <a:ext cx="1295280" cy="1189080"/>
            <a:chOff x="3886200" y="1371600"/>
            <a:chExt cx="1295280" cy="1189080"/>
          </a:xfrm>
        </p:grpSpPr>
        <p:grpSp>
          <p:nvGrpSpPr>
            <p:cNvPr id="732" name=""/>
            <p:cNvGrpSpPr/>
            <p:nvPr/>
          </p:nvGrpSpPr>
          <p:grpSpPr>
            <a:xfrm>
              <a:off x="3886200" y="1981080"/>
              <a:ext cx="380880" cy="579600"/>
              <a:chOff x="3886200" y="1981080"/>
              <a:chExt cx="380880" cy="579600"/>
            </a:xfrm>
          </p:grpSpPr>
          <p:sp>
            <p:nvSpPr>
              <p:cNvPr id="733" name=""/>
              <p:cNvSpPr/>
              <p:nvPr/>
            </p:nvSpPr>
            <p:spPr>
              <a:xfrm>
                <a:off x="3886200" y="2057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886200" y="1981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736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6200" y="1981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191120" y="1752480"/>
              <a:ext cx="3045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629400" y="1371600"/>
            <a:ext cx="1295280" cy="1189080"/>
            <a:chOff x="6629400" y="1371600"/>
            <a:chExt cx="1295280" cy="1189080"/>
          </a:xfrm>
        </p:grpSpPr>
        <p:grpSp>
          <p:nvGrpSpPr>
            <p:cNvPr id="742" name=""/>
            <p:cNvGrpSpPr/>
            <p:nvPr/>
          </p:nvGrpSpPr>
          <p:grpSpPr>
            <a:xfrm>
              <a:off x="7162920" y="1981440"/>
              <a:ext cx="380880" cy="579240"/>
              <a:chOff x="7162920" y="1981440"/>
              <a:chExt cx="380880" cy="579240"/>
            </a:xfrm>
          </p:grpSpPr>
          <p:sp>
            <p:nvSpPr>
              <p:cNvPr id="743" name=""/>
              <p:cNvSpPr/>
              <p:nvPr/>
            </p:nvSpPr>
            <p:spPr>
              <a:xfrm>
                <a:off x="7162920" y="20574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162920" y="19814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6629400" y="1371600"/>
              <a:ext cx="380880" cy="579600"/>
              <a:chOff x="6629400" y="1371600"/>
              <a:chExt cx="380880" cy="579600"/>
            </a:xfrm>
          </p:grpSpPr>
          <p:sp>
            <p:nvSpPr>
              <p:cNvPr id="746" name=""/>
              <p:cNvSpPr/>
              <p:nvPr/>
            </p:nvSpPr>
            <p:spPr>
              <a:xfrm>
                <a:off x="662940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62940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6629400" y="1371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2920" y="19814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34320" y="175284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62120" y="19810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920" y="3200400"/>
            <a:ext cx="85341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 and postorder do not uniquely define 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 do preorder and level order (same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 do postorder and level order (same examp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= a b d g h e i c f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the preorder left to right using the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 of the 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the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86000" y="4495680"/>
            <a:ext cx="4572000" cy="1663560"/>
            <a:chOff x="2286000" y="4495680"/>
            <a:chExt cx="4572000" cy="1663560"/>
          </a:xfrm>
        </p:grpSpPr>
        <p:grpSp>
          <p:nvGrpSpPr>
            <p:cNvPr id="756" name=""/>
            <p:cNvGrpSpPr/>
            <p:nvPr/>
          </p:nvGrpSpPr>
          <p:grpSpPr>
            <a:xfrm>
              <a:off x="4267080" y="4495680"/>
              <a:ext cx="380880" cy="579600"/>
              <a:chOff x="4267080" y="4495680"/>
              <a:chExt cx="380880" cy="5796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67080" y="4572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67080" y="4495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H="1">
              <a:off x="2895480" y="48006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0" y="48769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67080" y="4495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0" y="5638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b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62720" y="5638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b d g h e i c f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xt root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d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in the left subtree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e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in the right sub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905120" y="838080"/>
            <a:ext cx="4572000" cy="1663560"/>
            <a:chOff x="1905120" y="838080"/>
            <a:chExt cx="4572000" cy="1663560"/>
          </a:xfrm>
        </p:grpSpPr>
        <p:grpSp>
          <p:nvGrpSpPr>
            <p:cNvPr id="767" name=""/>
            <p:cNvGrpSpPr/>
            <p:nvPr/>
          </p:nvGrpSpPr>
          <p:grpSpPr>
            <a:xfrm>
              <a:off x="3886200" y="838080"/>
              <a:ext cx="380880" cy="579600"/>
              <a:chOff x="3886200" y="838080"/>
              <a:chExt cx="380880" cy="579600"/>
            </a:xfrm>
          </p:grpSpPr>
          <p:sp>
            <p:nvSpPr>
              <p:cNvPr id="768" name=""/>
              <p:cNvSpPr/>
              <p:nvPr/>
            </p:nvSpPr>
            <p:spPr>
              <a:xfrm>
                <a:off x="3886200" y="914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886200" y="838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2514600" y="1143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91120" y="12193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86200" y="838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05120" y="1981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b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81840" y="1981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447920" y="4267080"/>
            <a:ext cx="4724280" cy="2273400"/>
            <a:chOff x="1447920" y="4267080"/>
            <a:chExt cx="4724280" cy="2273400"/>
          </a:xfrm>
        </p:grpSpPr>
        <p:grpSp>
          <p:nvGrpSpPr>
            <p:cNvPr id="776" name=""/>
            <p:cNvGrpSpPr/>
            <p:nvPr/>
          </p:nvGrpSpPr>
          <p:grpSpPr>
            <a:xfrm>
              <a:off x="3581280" y="4267080"/>
              <a:ext cx="380880" cy="579600"/>
              <a:chOff x="3581280" y="4267080"/>
              <a:chExt cx="380880" cy="579600"/>
            </a:xfrm>
          </p:grpSpPr>
          <p:sp>
            <p:nvSpPr>
              <p:cNvPr id="777" name=""/>
              <p:cNvSpPr/>
              <p:nvPr/>
            </p:nvSpPr>
            <p:spPr>
              <a:xfrm>
                <a:off x="3581280" y="4343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1280" y="4267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 flipH="1">
              <a:off x="2209680" y="4572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86200" y="46483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81280" y="4267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47920" y="60199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76920" y="5410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1981080" y="5334120"/>
              <a:ext cx="380880" cy="579240"/>
              <a:chOff x="1981080" y="5334120"/>
              <a:chExt cx="380880" cy="579240"/>
            </a:xfrm>
          </p:grpSpPr>
          <p:sp>
            <p:nvSpPr>
              <p:cNvPr id="785" name=""/>
              <p:cNvSpPr/>
              <p:nvPr/>
            </p:nvSpPr>
            <p:spPr>
              <a:xfrm>
                <a:off x="1981080" y="54100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81080" y="53341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1981080" y="53341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38280" y="60199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752120" y="57913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86000" y="57913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re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d g h e i c f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xt root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n the left subtree;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n the right sub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828800" y="685800"/>
            <a:ext cx="4724280" cy="2273040"/>
            <a:chOff x="1828800" y="685800"/>
            <a:chExt cx="4724280" cy="2273040"/>
          </a:xfrm>
        </p:grpSpPr>
        <p:grpSp>
          <p:nvGrpSpPr>
            <p:cNvPr id="794" name=""/>
            <p:cNvGrpSpPr/>
            <p:nvPr/>
          </p:nvGrpSpPr>
          <p:grpSpPr>
            <a:xfrm>
              <a:off x="3962160" y="685800"/>
              <a:ext cx="380880" cy="579240"/>
              <a:chOff x="3962160" y="685800"/>
              <a:chExt cx="380880" cy="579240"/>
            </a:xfrm>
          </p:grpSpPr>
          <p:sp>
            <p:nvSpPr>
              <p:cNvPr id="795" name=""/>
              <p:cNvSpPr/>
              <p:nvPr/>
            </p:nvSpPr>
            <p:spPr>
              <a:xfrm>
                <a:off x="3962160" y="7617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62160" y="6858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 flipH="1">
              <a:off x="2590560" y="990360"/>
              <a:ext cx="137160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67080" y="1066680"/>
              <a:ext cx="12952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62160" y="685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28800" y="24382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d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57800" y="18284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2361960" y="1752480"/>
              <a:ext cx="380880" cy="578880"/>
              <a:chOff x="2361960" y="1752480"/>
              <a:chExt cx="380880" cy="578880"/>
            </a:xfrm>
          </p:grpSpPr>
          <p:sp>
            <p:nvSpPr>
              <p:cNvPr id="803" name=""/>
              <p:cNvSpPr/>
              <p:nvPr/>
            </p:nvSpPr>
            <p:spPr>
              <a:xfrm>
                <a:off x="2361960" y="1828440"/>
                <a:ext cx="380880" cy="3801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361960" y="1752480"/>
                <a:ext cx="38088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2361960" y="1752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19160" y="2438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2133000" y="2209680"/>
              <a:ext cx="30492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2209680"/>
              <a:ext cx="30492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1981080" y="4357800"/>
            <a:ext cx="4572000" cy="2349360"/>
            <a:chOff x="1981080" y="4357800"/>
            <a:chExt cx="4572000" cy="2349360"/>
          </a:xfrm>
        </p:grpSpPr>
        <p:grpSp>
          <p:nvGrpSpPr>
            <p:cNvPr id="810" name=""/>
            <p:cNvGrpSpPr/>
            <p:nvPr/>
          </p:nvGrpSpPr>
          <p:grpSpPr>
            <a:xfrm>
              <a:off x="4038480" y="4357800"/>
              <a:ext cx="380880" cy="579240"/>
              <a:chOff x="4038480" y="4357800"/>
              <a:chExt cx="380880" cy="579240"/>
            </a:xfrm>
          </p:grpSpPr>
          <p:sp>
            <p:nvSpPr>
              <p:cNvPr id="811" name=""/>
              <p:cNvSpPr/>
              <p:nvPr/>
            </p:nvSpPr>
            <p:spPr>
              <a:xfrm>
                <a:off x="4038480" y="443376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038480" y="435780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4038480" y="4357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81080" y="6095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57800" y="48769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fj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2895480" y="4876920"/>
              <a:ext cx="380880" cy="579240"/>
              <a:chOff x="2895480" y="4876920"/>
              <a:chExt cx="380880" cy="579240"/>
            </a:xfrm>
          </p:grpSpPr>
          <p:sp>
            <p:nvSpPr>
              <p:cNvPr id="817" name=""/>
              <p:cNvSpPr/>
              <p:nvPr/>
            </p:nvSpPr>
            <p:spPr>
              <a:xfrm>
                <a:off x="2895480" y="4952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895480" y="4876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2895480" y="4876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52680" y="55627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e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666520" y="53341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0400" y="533412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124080" y="4648320"/>
              <a:ext cx="9144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464832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2438280" y="5562720"/>
              <a:ext cx="380880" cy="579240"/>
              <a:chOff x="2438280" y="5562720"/>
              <a:chExt cx="380880" cy="579240"/>
            </a:xfrm>
          </p:grpSpPr>
          <p:sp>
            <p:nvSpPr>
              <p:cNvPr id="826" name=""/>
              <p:cNvSpPr/>
              <p:nvPr/>
            </p:nvSpPr>
            <p:spPr>
              <a:xfrm>
                <a:off x="2438280" y="5638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38280" y="5562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438280" y="5562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209320" y="60199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43200" y="6019920"/>
              <a:ext cx="3049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971800" y="6186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Post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postorder from right to left using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g h d i e b j f c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And Level Or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level order from left to right using inorder to separate left and right sub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order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= g d h b e i a f j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 = a b c d e f g h i 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roo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dhbe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left subtree;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j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in right sub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preOrder(treePointer pt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(ptr != </a:t>
            </a:r>
            <a:r>
              <a:rPr b="0" lang="en-US" sz="3200" spc="-1" strike="noStrike">
                <a:solidFill>
                  <a:srgbClr val="0000ff"/>
                </a:solidFill>
                <a:latin typeface="Courier New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ff0033"/>
                </a:solidFill>
                <a:latin typeface="Courier New"/>
              </a:rPr>
              <a:t>visit(t)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eOrder(ptr-&gt;leftChild)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eOrder(ptr-&gt;rightChil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58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59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62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65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77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78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81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84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89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92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96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99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103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108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122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order Of Expression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447920" y="1143000"/>
            <a:ext cx="5715000" cy="3400920"/>
            <a:chOff x="1447920" y="1143000"/>
            <a:chExt cx="5715000" cy="3400920"/>
          </a:xfrm>
        </p:grpSpPr>
        <p:sp>
          <p:nvSpPr>
            <p:cNvPr id="138" name=""/>
            <p:cNvSpPr/>
            <p:nvPr/>
          </p:nvSpPr>
          <p:spPr>
            <a:xfrm>
              <a:off x="1905120" y="32767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5120" y="3200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3962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792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39625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3886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752120" y="35812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0" y="35053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2520" y="33526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2767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403848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4038480"/>
              <a:ext cx="38124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809520" y="36576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85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9718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8195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29718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1680" y="2895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095520" y="2590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2514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48120" y="22860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8120" y="2209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09320" y="251460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251460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121932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1430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352680" y="14479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1523880"/>
              <a:ext cx="12952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523880" y="5943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prefix form of express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5105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inOrder(treePointer p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(ptr != </a:t>
            </a:r>
            <a:r>
              <a:rPr b="0" lang="en-US" sz="2800" spc="-1" strike="noStrike">
                <a:solidFill>
                  <a:srgbClr val="0000ff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Order(ptr-&gt;leftChild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ff0033"/>
                </a:solidFill>
                <a:latin typeface="Courier New"/>
              </a:rPr>
              <a:t>visit(ptr)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Order(ptr-&gt;rightChil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43200" y="1371600"/>
            <a:ext cx="3962520" cy="1646280"/>
            <a:chOff x="2743200" y="1371600"/>
            <a:chExt cx="3962520" cy="1646280"/>
          </a:xfrm>
        </p:grpSpPr>
        <p:grpSp>
          <p:nvGrpSpPr>
            <p:cNvPr id="186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187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190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193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038480" y="3505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505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order Example (Visit = print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1371600"/>
            <a:ext cx="5562720" cy="3322800"/>
            <a:chOff x="1143000" y="1371600"/>
            <a:chExt cx="5562720" cy="3322800"/>
          </a:xfrm>
        </p:grpSpPr>
        <p:grpSp>
          <p:nvGrpSpPr>
            <p:cNvPr id="205" name=""/>
            <p:cNvGrpSpPr/>
            <p:nvPr/>
          </p:nvGrpSpPr>
          <p:grpSpPr>
            <a:xfrm>
              <a:off x="1600200" y="3429000"/>
              <a:ext cx="380880" cy="579600"/>
              <a:chOff x="1600200" y="3429000"/>
              <a:chExt cx="380880" cy="57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1600200" y="35053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00200" y="34290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143000" y="4114800"/>
              <a:ext cx="380880" cy="579600"/>
              <a:chOff x="1143000" y="4114800"/>
              <a:chExt cx="380880" cy="579600"/>
            </a:xfrm>
          </p:grpSpPr>
          <p:sp>
            <p:nvSpPr>
              <p:cNvPr id="209" name=""/>
              <p:cNvSpPr/>
              <p:nvPr/>
            </p:nvSpPr>
            <p:spPr>
              <a:xfrm>
                <a:off x="114300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4300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133720" y="4114800"/>
              <a:ext cx="380880" cy="579600"/>
              <a:chOff x="2133720" y="4114800"/>
              <a:chExt cx="380880" cy="579600"/>
            </a:xfrm>
          </p:grpSpPr>
          <p:sp>
            <p:nvSpPr>
              <p:cNvPr id="212" name=""/>
              <p:cNvSpPr/>
              <p:nvPr/>
            </p:nvSpPr>
            <p:spPr>
              <a:xfrm>
                <a:off x="2133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33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>
              <a:off x="1447560" y="3809880"/>
              <a:ext cx="2286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581280" y="3352680"/>
              <a:ext cx="380880" cy="579600"/>
              <a:chOff x="3581280" y="3352680"/>
              <a:chExt cx="380880" cy="579600"/>
            </a:xfrm>
          </p:grpSpPr>
          <p:sp>
            <p:nvSpPr>
              <p:cNvPr id="217" name=""/>
              <p:cNvSpPr/>
              <p:nvPr/>
            </p:nvSpPr>
            <p:spPr>
              <a:xfrm>
                <a:off x="3581280" y="34290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81280" y="33526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038480" y="4114800"/>
              <a:ext cx="380880" cy="579600"/>
              <a:chOff x="4038480" y="4114800"/>
              <a:chExt cx="380880" cy="579600"/>
            </a:xfrm>
          </p:grpSpPr>
          <p:sp>
            <p:nvSpPr>
              <p:cNvPr id="220" name=""/>
              <p:cNvSpPr/>
              <p:nvPr/>
            </p:nvSpPr>
            <p:spPr>
              <a:xfrm>
                <a:off x="40384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384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8862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943600" y="2438280"/>
              <a:ext cx="380880" cy="579600"/>
              <a:chOff x="5943600" y="2438280"/>
              <a:chExt cx="380880" cy="579600"/>
            </a:xfrm>
          </p:grpSpPr>
          <p:sp>
            <p:nvSpPr>
              <p:cNvPr id="224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436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486400" y="3124080"/>
              <a:ext cx="380880" cy="579600"/>
              <a:chOff x="5486400" y="3124080"/>
              <a:chExt cx="380880" cy="579600"/>
            </a:xfrm>
          </p:grpSpPr>
          <p:sp>
            <p:nvSpPr>
              <p:cNvPr id="227" name=""/>
              <p:cNvSpPr/>
              <p:nvPr/>
            </p:nvSpPr>
            <p:spPr>
              <a:xfrm>
                <a:off x="548640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8640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 flipH="1">
              <a:off x="5790960" y="28195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743200" y="2438280"/>
              <a:ext cx="380880" cy="579600"/>
              <a:chOff x="2743200" y="2438280"/>
              <a:chExt cx="380880" cy="579600"/>
            </a:xfrm>
          </p:grpSpPr>
          <p:sp>
            <p:nvSpPr>
              <p:cNvPr id="231" name=""/>
              <p:cNvSpPr/>
              <p:nvPr/>
            </p:nvSpPr>
            <p:spPr>
              <a:xfrm>
                <a:off x="2743200" y="2514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43200" y="2438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H="1">
              <a:off x="1905120" y="274320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4080" y="2743200"/>
              <a:ext cx="5335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419720" y="1371600"/>
              <a:ext cx="380880" cy="579600"/>
              <a:chOff x="4419720" y="1371600"/>
              <a:chExt cx="380880" cy="579600"/>
            </a:xfrm>
          </p:grpSpPr>
          <p:sp>
            <p:nvSpPr>
              <p:cNvPr id="236" name=""/>
              <p:cNvSpPr/>
              <p:nvPr/>
            </p:nvSpPr>
            <p:spPr>
              <a:xfrm>
                <a:off x="4419720" y="1447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19720" y="1371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flipH="1">
              <a:off x="3048120" y="167652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24280" y="1752480"/>
              <a:ext cx="129564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9720" y="13716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32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24382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002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86400" y="3124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4038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114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41148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867280" y="3962520"/>
              <a:ext cx="380880" cy="579240"/>
              <a:chOff x="5867280" y="3962520"/>
              <a:chExt cx="380880" cy="579240"/>
            </a:xfrm>
          </p:grpSpPr>
          <p:sp>
            <p:nvSpPr>
              <p:cNvPr id="250" name=""/>
              <p:cNvSpPr/>
              <p:nvPr/>
            </p:nvSpPr>
            <p:spPr>
              <a:xfrm>
                <a:off x="5867280" y="40384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7280" y="39625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715000" y="35812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60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858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7-09-12T16:37:57Z</dcterms:modified>
  <cp:revision>359</cp:revision>
  <dc:subject/>
  <dc:title>Data Representation Methods</dc:title>
</cp:coreProperties>
</file>