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6920" y="70344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532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1532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0CD26A-C860-4DCE-8EC9-6686C90BD4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an exception now as NULL-&gt;data is illeg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node 0 may not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do a checkInd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nsert/erase at left end (I.e., index = 0) are no different from any other insert/delete. So insert/delete code is simpl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gures show computer memory. An array uses a contiguous chunk of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, for example, when each node represents a supplier and you want each supplier to be called on in round-robin order. Other applications seen later. A variant of this has a header node—circular list with header node. When you don’t have a header node, it is often useful to have a last node pointer rather than a first node pointer. By doing this, additions to the front and end become O(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to reduce worst-case run time of a linear list add/remove/get by half. Start at left end if index &lt;= listSize/2; otherwise, start at right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o desired node. Note that desired node may not exist. Once you are at the desired node, you can return the element in that node 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desiredNode.ele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irstNode = null, there is no element whose index is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 that desiredNode may not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desiredNode may not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AB9-B42D-41F3-A834-22FBD4BD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16A-30FD-430B-B2CA-86A9D81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A38-7F06-4856-8CEF-EBD2256D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675-BE37-49D9-B1B9-2E8210FC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C1F-22BA-4232-A021-F1F0BA8F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CA8-65C2-447A-BAB8-F4057EDE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23B-3D51-4345-8A8C-2ECB0365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7F6-61E9-43FD-950A-F211B857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D4A-DB30-4C50-B474-469C76F9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D95-7B0B-4CE2-BD2D-FBBA011A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A46-35C8-4338-ABF5-419C264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BE9-6873-40EB-A2C6-F1CD057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DC57-7943-4A4C-BC39-37BA0DBA7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Lis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elements are stored, in memory, in an arbitrary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information 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alled a link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used to go from one element to the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LINKS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914400" cy="789120"/>
          </a:xfrm>
          <a:prstGeom prst="rect">
            <a:avLst/>
          </a:prstGeom>
          <a:ln w="0">
            <a:noFill/>
          </a:ln>
        </p:spPr>
      </p:pic>
      <p:pic>
        <p:nvPicPr>
          <p:cNvPr id="51" name="LLINKS" descr=""/>
          <p:cNvPicPr/>
          <p:nvPr/>
        </p:nvPicPr>
        <p:blipFill>
          <a:blip r:embed="rId2"/>
          <a:stretch/>
        </p:blipFill>
        <p:spPr>
          <a:xfrm>
            <a:off x="7543800" y="914400"/>
            <a:ext cx="9144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et(5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09480" y="4038120"/>
            <a:ext cx="79250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edNode = firs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desiredNode =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desiredNod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;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NULL.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143000" y="1371600"/>
            <a:ext cx="6477120" cy="2050920"/>
            <a:chOff x="1143000" y="1371600"/>
            <a:chExt cx="6477120" cy="2050920"/>
          </a:xfrm>
        </p:grpSpPr>
        <p:sp>
          <p:nvSpPr>
            <p:cNvPr id="281" name=""/>
            <p:cNvSpPr/>
            <p:nvPr/>
          </p:nvSpPr>
          <p:spPr>
            <a:xfrm>
              <a:off x="183528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3528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6452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305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305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605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021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021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317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9744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744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274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692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29000" y="26668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67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167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463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10280" y="251460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3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28800" y="19051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lete An Ele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lete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143000" y="1371600"/>
            <a:ext cx="6477120" cy="2050920"/>
            <a:chOff x="1143000" y="1371600"/>
            <a:chExt cx="6477120" cy="2050920"/>
          </a:xfrm>
        </p:grpSpPr>
        <p:sp>
          <p:nvSpPr>
            <p:cNvPr id="306" name=""/>
            <p:cNvSpPr/>
            <p:nvPr/>
          </p:nvSpPr>
          <p:spPr>
            <a:xfrm>
              <a:off x="1835280" y="2825640"/>
              <a:ext cx="596880" cy="5968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5280" y="2521080"/>
              <a:ext cx="596880" cy="2919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6452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05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305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605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096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021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021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317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744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9744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274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7692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9000" y="26668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167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167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63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958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0280" y="251460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43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8800" y="19051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133720" y="1828800"/>
            <a:ext cx="1447560" cy="68580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752120" y="1981080"/>
            <a:ext cx="304920" cy="38124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4952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leteNode = fir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rst = fir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in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ee(deleteNod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143000" y="1371600"/>
            <a:ext cx="6477120" cy="2050920"/>
            <a:chOff x="1143000" y="1371600"/>
            <a:chExt cx="6477120" cy="2050920"/>
          </a:xfrm>
        </p:grpSpPr>
        <p:sp>
          <p:nvSpPr>
            <p:cNvPr id="332" name=""/>
            <p:cNvSpPr/>
            <p:nvPr/>
          </p:nvSpPr>
          <p:spPr>
            <a:xfrm>
              <a:off x="183528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3528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6452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305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305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605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096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02160" y="2825640"/>
              <a:ext cx="596880" cy="5968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021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744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9744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274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26668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167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167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463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58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10280" y="251460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3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28800" y="19051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47600" y="2895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lete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80520" y="40384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et to node just before node to be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494960" y="2514600"/>
            <a:ext cx="619920" cy="901800"/>
            <a:chOff x="4494960" y="2514600"/>
            <a:chExt cx="619920" cy="901800"/>
          </a:xfrm>
        </p:grpSpPr>
        <p:sp>
          <p:nvSpPr>
            <p:cNvPr id="357" name=""/>
            <p:cNvSpPr/>
            <p:nvPr/>
          </p:nvSpPr>
          <p:spPr>
            <a:xfrm>
              <a:off x="4494960" y="27212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18000" y="2819520"/>
              <a:ext cx="596880" cy="5968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18000" y="2514600"/>
              <a:ext cx="596880" cy="2923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47240" y="28735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447920" y="4952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eforeNode = first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ink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895480" y="2514600"/>
            <a:ext cx="1828800" cy="1753560"/>
            <a:chOff x="2895480" y="2514600"/>
            <a:chExt cx="1828800" cy="1753560"/>
          </a:xfrm>
        </p:grpSpPr>
        <p:grpSp>
          <p:nvGrpSpPr>
            <p:cNvPr id="363" name=""/>
            <p:cNvGrpSpPr/>
            <p:nvPr/>
          </p:nvGrpSpPr>
          <p:grpSpPr>
            <a:xfrm>
              <a:off x="3124080" y="2514600"/>
              <a:ext cx="596880" cy="901080"/>
              <a:chOff x="3124080" y="2514600"/>
              <a:chExt cx="596880" cy="901080"/>
            </a:xfrm>
          </p:grpSpPr>
          <p:sp>
            <p:nvSpPr>
              <p:cNvPr id="364" name=""/>
              <p:cNvSpPr/>
              <p:nvPr/>
            </p:nvSpPr>
            <p:spPr>
              <a:xfrm>
                <a:off x="3124080" y="2819160"/>
                <a:ext cx="596880" cy="59652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24080" y="2514600"/>
                <a:ext cx="596880" cy="29196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254040" y="287316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895480" y="380988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before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429000" y="3428280"/>
              <a:ext cx="0" cy="456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lete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838080" y="434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pointer to node that will be de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50292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leteNode = beforeNode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ink;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95480" y="38098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efore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6452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0560" y="2825640"/>
            <a:ext cx="59688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30560" y="2521080"/>
            <a:ext cx="59688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6052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02160" y="2825640"/>
            <a:ext cx="596880" cy="596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02160" y="2521080"/>
            <a:ext cx="596880" cy="291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3176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744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9744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2740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692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2666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676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1676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4636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10280" y="251460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137160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9051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352680" y="2133360"/>
            <a:ext cx="2667240" cy="533160"/>
            <a:chOff x="3352680" y="2133360"/>
            <a:chExt cx="2667240" cy="533160"/>
          </a:xfrm>
        </p:grpSpPr>
        <p:sp>
          <p:nvSpPr>
            <p:cNvPr id="396" name=""/>
            <p:cNvSpPr/>
            <p:nvPr/>
          </p:nvSpPr>
          <p:spPr>
            <a:xfrm flipV="1">
              <a:off x="3352680" y="2133360"/>
              <a:ext cx="0" cy="5331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52680" y="2133720"/>
              <a:ext cx="266724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19920" y="2133720"/>
              <a:ext cx="0" cy="3808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3962520" y="2438280"/>
            <a:ext cx="304560" cy="45720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429000" y="3429000"/>
            <a:ext cx="0" cy="4572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lete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38080" y="4343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change pointer i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efore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50292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eforeNode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ink = beforeNode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ink</a:t>
            </a:r>
            <a:r>
              <a:rPr b="0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ink;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ee(deleteNod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38098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efore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3528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3528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6452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30560" y="2825640"/>
            <a:ext cx="59688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30560" y="2521080"/>
            <a:ext cx="59688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6052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0968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02160" y="2825640"/>
            <a:ext cx="596880" cy="5968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02160" y="2521080"/>
            <a:ext cx="596880" cy="291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3176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744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744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2740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29000" y="2666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1676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676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4636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2514600"/>
            <a:ext cx="60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137160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19051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352680" y="2133360"/>
            <a:ext cx="2667240" cy="533160"/>
            <a:chOff x="3352680" y="2133360"/>
            <a:chExt cx="2667240" cy="533160"/>
          </a:xfrm>
        </p:grpSpPr>
        <p:sp>
          <p:nvSpPr>
            <p:cNvPr id="428" name=""/>
            <p:cNvSpPr/>
            <p:nvPr/>
          </p:nvSpPr>
          <p:spPr>
            <a:xfrm flipV="1">
              <a:off x="3352680" y="2133360"/>
              <a:ext cx="0" cy="5331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52680" y="2133720"/>
              <a:ext cx="266724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19920" y="2133720"/>
              <a:ext cx="0" cy="3808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H="1">
            <a:off x="3962520" y="2438280"/>
            <a:ext cx="304560" cy="45720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429000" y="3429000"/>
            <a:ext cx="0" cy="4572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insert(0,’f’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143000" y="762120"/>
            <a:ext cx="6477120" cy="2050920"/>
            <a:chOff x="1143000" y="762120"/>
            <a:chExt cx="6477120" cy="2050920"/>
          </a:xfrm>
        </p:grpSpPr>
        <p:sp>
          <p:nvSpPr>
            <p:cNvPr id="435" name=""/>
            <p:cNvSpPr/>
            <p:nvPr/>
          </p:nvSpPr>
          <p:spPr>
            <a:xfrm>
              <a:off x="183528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3528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64520" y="227016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3056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3056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60520" y="2270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09680" y="2057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0216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0216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31760" y="227016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9744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9744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27400" y="2270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76920" y="2057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9000" y="20574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1676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1676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46360" y="227016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95880" y="2057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10280" y="190512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3000" y="762120"/>
              <a:ext cx="182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8800" y="129564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80880" y="1911240"/>
            <a:ext cx="1828800" cy="1793160"/>
            <a:chOff x="380880" y="1911240"/>
            <a:chExt cx="1828800" cy="1793160"/>
          </a:xfrm>
        </p:grpSpPr>
        <p:grpSp>
          <p:nvGrpSpPr>
            <p:cNvPr id="458" name=""/>
            <p:cNvGrpSpPr/>
            <p:nvPr/>
          </p:nvGrpSpPr>
          <p:grpSpPr>
            <a:xfrm>
              <a:off x="539640" y="1911240"/>
              <a:ext cx="596880" cy="901440"/>
              <a:chOff x="539640" y="1911240"/>
              <a:chExt cx="596880" cy="901440"/>
            </a:xfrm>
          </p:grpSpPr>
          <p:sp>
            <p:nvSpPr>
              <p:cNvPr id="459" name=""/>
              <p:cNvSpPr/>
              <p:nvPr/>
            </p:nvSpPr>
            <p:spPr>
              <a:xfrm>
                <a:off x="539640" y="2215800"/>
                <a:ext cx="596880" cy="596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9640" y="1911240"/>
                <a:ext cx="596880" cy="291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69240" y="2269800"/>
                <a:ext cx="287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838080" y="2057400"/>
              <a:ext cx="99072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80880" y="2819520"/>
              <a:ext cx="1828800" cy="884880"/>
              <a:chOff x="380880" y="2819520"/>
              <a:chExt cx="1828800" cy="884880"/>
            </a:xfrm>
          </p:grpSpPr>
          <p:sp>
            <p:nvSpPr>
              <p:cNvPr id="464" name=""/>
              <p:cNvSpPr/>
              <p:nvPr/>
            </p:nvSpPr>
            <p:spPr>
              <a:xfrm>
                <a:off x="380880" y="3124440"/>
                <a:ext cx="18288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newNod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914400" y="2819520"/>
                <a:ext cx="0" cy="45720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>
            <a:off x="228600" y="41148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ep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t a node, set its data and link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4952880"/>
            <a:ext cx="861048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MS Mincho"/>
              </a:rPr>
              <a:t>MALLOC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ewNode, sizeof(*newNode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ewNode-&gt;data = ‘f’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ewNode-&gt;link = NU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insert(0,’f’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143000" y="762120"/>
            <a:ext cx="6477120" cy="2050920"/>
            <a:chOff x="1143000" y="762120"/>
            <a:chExt cx="6477120" cy="2050920"/>
          </a:xfrm>
        </p:grpSpPr>
        <p:sp>
          <p:nvSpPr>
            <p:cNvPr id="470" name=""/>
            <p:cNvSpPr/>
            <p:nvPr/>
          </p:nvSpPr>
          <p:spPr>
            <a:xfrm>
              <a:off x="183528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3528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4520" y="227016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3056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3056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60520" y="2270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09680" y="2057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0216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0216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31760" y="227016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9744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9744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27400" y="2270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76920" y="2057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9000" y="20574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16760" y="221616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16760" y="19116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6360" y="227016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95880" y="2057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10280" y="190512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43000" y="762120"/>
              <a:ext cx="182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28800" y="129564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80880" y="1911240"/>
            <a:ext cx="1828800" cy="1793160"/>
            <a:chOff x="380880" y="1911240"/>
            <a:chExt cx="1828800" cy="1793160"/>
          </a:xfrm>
        </p:grpSpPr>
        <p:grpSp>
          <p:nvGrpSpPr>
            <p:cNvPr id="493" name=""/>
            <p:cNvGrpSpPr/>
            <p:nvPr/>
          </p:nvGrpSpPr>
          <p:grpSpPr>
            <a:xfrm>
              <a:off x="539640" y="1911240"/>
              <a:ext cx="596880" cy="901440"/>
              <a:chOff x="539640" y="1911240"/>
              <a:chExt cx="596880" cy="901440"/>
            </a:xfrm>
          </p:grpSpPr>
          <p:sp>
            <p:nvSpPr>
              <p:cNvPr id="494" name=""/>
              <p:cNvSpPr/>
              <p:nvPr/>
            </p:nvSpPr>
            <p:spPr>
              <a:xfrm>
                <a:off x="539640" y="2215800"/>
                <a:ext cx="596880" cy="596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39640" y="1911240"/>
                <a:ext cx="596880" cy="291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69240" y="2269800"/>
                <a:ext cx="287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838080" y="2057400"/>
              <a:ext cx="99072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80880" y="2819520"/>
              <a:ext cx="1828800" cy="884880"/>
              <a:chOff x="380880" y="2819520"/>
              <a:chExt cx="1828800" cy="884880"/>
            </a:xfrm>
          </p:grpSpPr>
          <p:sp>
            <p:nvSpPr>
              <p:cNvPr id="499" name=""/>
              <p:cNvSpPr/>
              <p:nvPr/>
            </p:nvSpPr>
            <p:spPr>
              <a:xfrm>
                <a:off x="380880" y="3124440"/>
                <a:ext cx="18288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</a:rPr>
                  <a:t>newNod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914400" y="2819520"/>
                <a:ext cx="0" cy="45720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"/>
          <p:cNvSpPr/>
          <p:nvPr/>
        </p:nvSpPr>
        <p:spPr>
          <a:xfrm>
            <a:off x="228600" y="41148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54100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rst = newNod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1828440" y="1371600"/>
            <a:ext cx="304920" cy="2286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914400" y="1219320"/>
            <a:ext cx="838080" cy="68580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insert(3,’f’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4560" y="3657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find node whose index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295280" y="685800"/>
            <a:ext cx="6400800" cy="2050920"/>
            <a:chOff x="1295280" y="685800"/>
            <a:chExt cx="6400800" cy="2050920"/>
          </a:xfrm>
        </p:grpSpPr>
        <p:sp>
          <p:nvSpPr>
            <p:cNvPr id="508" name=""/>
            <p:cNvSpPr/>
            <p:nvPr/>
          </p:nvSpPr>
          <p:spPr>
            <a:xfrm>
              <a:off x="1911240" y="21398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11240" y="18352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0480" y="21938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6520" y="21398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06520" y="18352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3648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85640" y="1981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8120" y="2139840"/>
              <a:ext cx="596880" cy="59688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78120" y="1835280"/>
              <a:ext cx="596880" cy="2919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07720" y="21938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73400" y="21398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73400" y="18352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03360" y="219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52880" y="1981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04960" y="19810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92720" y="21398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92720" y="18352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22320" y="21938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1840" y="1981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86240" y="182880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95280" y="685800"/>
              <a:ext cx="16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4760" y="12193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505320" y="762120"/>
            <a:ext cx="2666880" cy="1066680"/>
            <a:chOff x="3505320" y="762120"/>
            <a:chExt cx="2666880" cy="1066680"/>
          </a:xfrm>
        </p:grpSpPr>
        <p:sp>
          <p:nvSpPr>
            <p:cNvPr id="531" name=""/>
            <p:cNvSpPr/>
            <p:nvPr/>
          </p:nvSpPr>
          <p:spPr>
            <a:xfrm>
              <a:off x="5264280" y="1073160"/>
              <a:ext cx="596880" cy="5968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64280" y="7682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93520" y="112716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62720" y="914400"/>
              <a:ext cx="60948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72200" y="914400"/>
              <a:ext cx="0" cy="91440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05320" y="762120"/>
              <a:ext cx="1523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new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76920" y="990720"/>
              <a:ext cx="38088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 flipH="1">
            <a:off x="5333760" y="1752480"/>
            <a:ext cx="228600" cy="45720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343400" y="1828800"/>
            <a:ext cx="1828800" cy="1753560"/>
            <a:chOff x="4343400" y="1828800"/>
            <a:chExt cx="1828800" cy="1753560"/>
          </a:xfrm>
        </p:grpSpPr>
        <p:sp>
          <p:nvSpPr>
            <p:cNvPr id="540" name=""/>
            <p:cNvSpPr/>
            <p:nvPr/>
          </p:nvSpPr>
          <p:spPr>
            <a:xfrm>
              <a:off x="4343400" y="312408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before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876920" y="2742480"/>
              <a:ext cx="0" cy="45684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572000" y="1828800"/>
              <a:ext cx="596880" cy="901080"/>
              <a:chOff x="4572000" y="1828800"/>
              <a:chExt cx="596880" cy="901080"/>
            </a:xfrm>
          </p:grpSpPr>
          <p:sp>
            <p:nvSpPr>
              <p:cNvPr id="543" name=""/>
              <p:cNvSpPr/>
              <p:nvPr/>
            </p:nvSpPr>
            <p:spPr>
              <a:xfrm>
                <a:off x="4572000" y="2133360"/>
                <a:ext cx="596880" cy="5965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72000" y="1828800"/>
                <a:ext cx="596880" cy="291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01240" y="218736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6" name=""/>
          <p:cNvSpPr/>
          <p:nvPr/>
        </p:nvSpPr>
        <p:spPr>
          <a:xfrm>
            <a:off x="304920" y="4191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create a new node and set its data and link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952880" y="1143000"/>
            <a:ext cx="320760" cy="914400"/>
            <a:chOff x="4952880" y="1143000"/>
            <a:chExt cx="320760" cy="914400"/>
          </a:xfrm>
        </p:grpSpPr>
        <p:sp>
          <p:nvSpPr>
            <p:cNvPr id="548" name=""/>
            <p:cNvSpPr/>
            <p:nvPr/>
          </p:nvSpPr>
          <p:spPr>
            <a:xfrm flipV="1">
              <a:off x="4952880" y="1143000"/>
              <a:ext cx="0" cy="9144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68720" y="1158840"/>
              <a:ext cx="30492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04920" y="47242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link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beforeN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ew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insert(3,’f’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8098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eforeNode = first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ink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in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MS Mincho"/>
              </a:rPr>
              <a:t>MALLOC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newNode, sizeof(*newNode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ewNode-&gt;data = ‘f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ewNode-&gt;link = beforeNode-&gt;lin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eforeNode</a:t>
            </a: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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ink = newNo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295280" y="685800"/>
            <a:ext cx="6400800" cy="2896560"/>
            <a:chOff x="1295280" y="685800"/>
            <a:chExt cx="6400800" cy="2896560"/>
          </a:xfrm>
        </p:grpSpPr>
        <p:grpSp>
          <p:nvGrpSpPr>
            <p:cNvPr id="554" name=""/>
            <p:cNvGrpSpPr/>
            <p:nvPr/>
          </p:nvGrpSpPr>
          <p:grpSpPr>
            <a:xfrm>
              <a:off x="1295280" y="685800"/>
              <a:ext cx="6400800" cy="2050920"/>
              <a:chOff x="1295280" y="685800"/>
              <a:chExt cx="6400800" cy="2050920"/>
            </a:xfrm>
          </p:grpSpPr>
          <p:sp>
            <p:nvSpPr>
              <p:cNvPr id="555" name=""/>
              <p:cNvSpPr/>
              <p:nvPr/>
            </p:nvSpPr>
            <p:spPr>
              <a:xfrm>
                <a:off x="1911240" y="2139840"/>
                <a:ext cx="596880" cy="59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11240" y="1835280"/>
                <a:ext cx="596880" cy="2919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040480" y="219384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06520" y="2139840"/>
                <a:ext cx="596880" cy="59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06520" y="1835280"/>
                <a:ext cx="596880" cy="2919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336480" y="21938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85640" y="1981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578120" y="2139840"/>
                <a:ext cx="596880" cy="5968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578120" y="1835280"/>
                <a:ext cx="596880" cy="29196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07720" y="219384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73400" y="2139840"/>
                <a:ext cx="596880" cy="59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73400" y="1835280"/>
                <a:ext cx="596880" cy="2919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03360" y="21938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52880" y="1981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04960" y="198108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092720" y="2139840"/>
                <a:ext cx="596880" cy="596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92720" y="1835280"/>
                <a:ext cx="596880" cy="2919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22320" y="219384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171840" y="1981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86240" y="1828800"/>
                <a:ext cx="609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Times New Roman"/>
                  </a:rPr>
                  <a:t>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5280" y="685800"/>
                <a:ext cx="1676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ir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904760" y="1219320"/>
                <a:ext cx="30492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05320" y="762120"/>
              <a:ext cx="2666880" cy="1066680"/>
              <a:chOff x="3505320" y="762120"/>
              <a:chExt cx="2666880" cy="1066680"/>
            </a:xfrm>
          </p:grpSpPr>
          <p:sp>
            <p:nvSpPr>
              <p:cNvPr id="578" name=""/>
              <p:cNvSpPr/>
              <p:nvPr/>
            </p:nvSpPr>
            <p:spPr>
              <a:xfrm>
                <a:off x="5264280" y="1073160"/>
                <a:ext cx="596880" cy="5968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64280" y="768240"/>
                <a:ext cx="596880" cy="29232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93520" y="1127160"/>
                <a:ext cx="287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62720" y="914400"/>
                <a:ext cx="609480" cy="0"/>
              </a:xfrm>
              <a:prstGeom prst="line">
                <a:avLst/>
              </a:prstGeom>
              <a:ln w="1260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72200" y="914400"/>
                <a:ext cx="0" cy="914400"/>
              </a:xfrm>
              <a:prstGeom prst="line">
                <a:avLst/>
              </a:prstGeom>
              <a:ln w="12600">
                <a:solidFill>
                  <a:srgbClr val="33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05320" y="762120"/>
                <a:ext cx="1523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newNo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76920" y="990720"/>
                <a:ext cx="380880" cy="0"/>
              </a:xfrm>
              <a:prstGeom prst="line">
                <a:avLst/>
              </a:prstGeom>
              <a:ln w="12600">
                <a:solidFill>
                  <a:srgbClr val="33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 flipH="1">
              <a:off x="5333760" y="1752480"/>
              <a:ext cx="228600" cy="4572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3400" y="3124080"/>
              <a:ext cx="1828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before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876920" y="2743200"/>
              <a:ext cx="0" cy="45720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572000" y="1828800"/>
              <a:ext cx="596880" cy="901800"/>
              <a:chOff x="4572000" y="1828800"/>
              <a:chExt cx="596880" cy="901800"/>
            </a:xfrm>
          </p:grpSpPr>
          <p:sp>
            <p:nvSpPr>
              <p:cNvPr id="589" name=""/>
              <p:cNvSpPr/>
              <p:nvPr/>
            </p:nvSpPr>
            <p:spPr>
              <a:xfrm>
                <a:off x="4572000" y="2133720"/>
                <a:ext cx="596880" cy="5968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72000" y="1828800"/>
                <a:ext cx="596880" cy="291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01240" y="2187720"/>
                <a:ext cx="320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952880" y="1143000"/>
              <a:ext cx="320760" cy="914400"/>
              <a:chOff x="4952880" y="1143000"/>
              <a:chExt cx="320760" cy="91440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4952880" y="1143000"/>
                <a:ext cx="0" cy="91440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968720" y="1158840"/>
                <a:ext cx="30492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in With Header Nod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28600" y="2438280"/>
            <a:ext cx="7391520" cy="2051280"/>
            <a:chOff x="228600" y="2438280"/>
            <a:chExt cx="7391520" cy="2051280"/>
          </a:xfrm>
        </p:grpSpPr>
        <p:sp>
          <p:nvSpPr>
            <p:cNvPr id="597" name=""/>
            <p:cNvSpPr/>
            <p:nvPr/>
          </p:nvSpPr>
          <p:spPr>
            <a:xfrm>
              <a:off x="183528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83528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64520" y="39466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13056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3056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6052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09680" y="3733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0216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0216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31760" y="39466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9744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9744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27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920" y="3733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9000" y="37339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1676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1676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46360" y="39466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95880" y="3733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10280" y="358128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28600" y="243828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header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297180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3680" y="3892680"/>
              <a:ext cx="596880" cy="5968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3680" y="3587760"/>
              <a:ext cx="596880" cy="2919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3733920"/>
              <a:ext cx="106668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chain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23" name="chain" descr=""/>
          <p:cNvPicPr/>
          <p:nvPr/>
        </p:nvPicPr>
        <p:blipFill>
          <a:blip r:embed="rId2"/>
          <a:stretch/>
        </p:blipFill>
        <p:spPr>
          <a:xfrm>
            <a:off x="7391520" y="7621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emory Layou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95280" y="2644920"/>
            <a:ext cx="6845400" cy="549000"/>
            <a:chOff x="1295280" y="2644920"/>
            <a:chExt cx="6845400" cy="549000"/>
          </a:xfrm>
        </p:grpSpPr>
        <p:sp>
          <p:nvSpPr>
            <p:cNvPr id="54" name=""/>
            <p:cNvSpPr/>
            <p:nvPr/>
          </p:nvSpPr>
          <p:spPr>
            <a:xfrm>
              <a:off x="1295280" y="2666880"/>
              <a:ext cx="684540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463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35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07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179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751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323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895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467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39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11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183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755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327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89960" y="2660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25600" y="2644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24880" y="27208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06120" y="2720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39280" y="27208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6840" y="2720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53680" y="27208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143000" y="5388120"/>
            <a:ext cx="6868080" cy="549000"/>
            <a:chOff x="1143000" y="5388120"/>
            <a:chExt cx="6868080" cy="549000"/>
          </a:xfrm>
        </p:grpSpPr>
        <p:sp>
          <p:nvSpPr>
            <p:cNvPr id="76" name=""/>
            <p:cNvSpPr/>
            <p:nvPr/>
          </p:nvSpPr>
          <p:spPr>
            <a:xfrm>
              <a:off x="1143000" y="5410080"/>
              <a:ext cx="6845400" cy="520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937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509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81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653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25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797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369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941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513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085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657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29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01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37320" y="5403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73320" y="5388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72600" y="54640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01400" y="54640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30200" y="54640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02160" y="5464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73760" y="5464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28600" y="4572000"/>
            <a:ext cx="8458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nked representation uses an arbitrary lay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ou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 = (a,b,c,d,e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n array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Empty Chain With Header Nod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29000" y="266688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header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33920" y="3200400"/>
            <a:ext cx="3045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64080" y="4121280"/>
            <a:ext cx="596880" cy="5968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64080" y="3816360"/>
            <a:ext cx="59688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57600" y="380988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chain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31" name="chain" descr=""/>
          <p:cNvPicPr/>
          <p:nvPr/>
        </p:nvPicPr>
        <p:blipFill>
          <a:blip r:embed="rId2"/>
          <a:stretch/>
        </p:blipFill>
        <p:spPr>
          <a:xfrm>
            <a:off x="8229600" y="68580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ircular Lis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143000" y="2590920"/>
            <a:ext cx="6470640" cy="1898640"/>
            <a:chOff x="1143000" y="2590920"/>
            <a:chExt cx="6470640" cy="1898640"/>
          </a:xfrm>
        </p:grpSpPr>
        <p:sp>
          <p:nvSpPr>
            <p:cNvPr id="634" name=""/>
            <p:cNvSpPr/>
            <p:nvPr/>
          </p:nvSpPr>
          <p:spPr>
            <a:xfrm>
              <a:off x="183528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3528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64520" y="39466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3056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3056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6052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09680" y="3733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216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0216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31760" y="39466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9744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9744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27400" y="39466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76920" y="3733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29000" y="37339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16760" y="38926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16760" y="35877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46360" y="39466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5880" y="3733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43000" y="259092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28800" y="29718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7315200" y="3124080"/>
              <a:ext cx="0" cy="60984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286000" y="3124080"/>
              <a:ext cx="50292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6000" y="3124080"/>
              <a:ext cx="0" cy="45720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8" name="CHAIN9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1417680" cy="571320"/>
          </a:xfrm>
          <a:prstGeom prst="rect">
            <a:avLst/>
          </a:prstGeom>
          <a:ln w="0">
            <a:noFill/>
          </a:ln>
        </p:spPr>
      </p:pic>
      <p:pic>
        <p:nvPicPr>
          <p:cNvPr id="659" name="CHAIN9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1417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oubly Linked Lis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1371600"/>
            <a:ext cx="7391520" cy="2660760"/>
            <a:chOff x="1143000" y="1371600"/>
            <a:chExt cx="7391520" cy="2660760"/>
          </a:xfrm>
        </p:grpSpPr>
        <p:sp>
          <p:nvSpPr>
            <p:cNvPr id="662" name=""/>
            <p:cNvSpPr/>
            <p:nvPr/>
          </p:nvSpPr>
          <p:spPr>
            <a:xfrm>
              <a:off x="183528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528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6452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3056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3056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6052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0216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216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3176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744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9744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2740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9000" y="32767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1676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1676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4636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9588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10280" y="312408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43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81080" y="1905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3528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3056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0216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9744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01676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400800" y="2971800"/>
              <a:ext cx="9144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105520" y="2971800"/>
              <a:ext cx="9144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920" y="2971800"/>
              <a:ext cx="9144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438280" y="2971800"/>
              <a:ext cx="9144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828800" y="2819520"/>
              <a:ext cx="609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58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last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91520" y="1905120"/>
              <a:ext cx="0" cy="91440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6" name="CHAIN9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417680" cy="571320"/>
          </a:xfrm>
          <a:prstGeom prst="rect">
            <a:avLst/>
          </a:prstGeom>
          <a:ln w="0">
            <a:noFill/>
          </a:ln>
        </p:spPr>
      </p:pic>
      <p:pic>
        <p:nvPicPr>
          <p:cNvPr id="697" name="CHAIN9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417680" cy="571680"/>
          </a:xfrm>
          <a:prstGeom prst="rect">
            <a:avLst/>
          </a:prstGeom>
          <a:ln w="0">
            <a:noFill/>
          </a:ln>
        </p:spPr>
      </p:pic>
      <p:pic>
        <p:nvPicPr>
          <p:cNvPr id="698" name="LOGO_L~1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3429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oubly Linked Circular Lis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143000" y="1371600"/>
            <a:ext cx="6934320" cy="3352680"/>
            <a:chOff x="1143000" y="1371600"/>
            <a:chExt cx="6934320" cy="3352680"/>
          </a:xfrm>
        </p:grpSpPr>
        <p:sp>
          <p:nvSpPr>
            <p:cNvPr id="701" name=""/>
            <p:cNvSpPr/>
            <p:nvPr/>
          </p:nvSpPr>
          <p:spPr>
            <a:xfrm>
              <a:off x="183528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3528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6452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3056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3056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052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0968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0216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0216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3176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9744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9744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92740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7692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9000" y="32767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1676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1676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4636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588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05120" y="1905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83528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3056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0216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9744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676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40080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10552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73392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43828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91520" y="3276720"/>
              <a:ext cx="6858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77320" y="3276720"/>
              <a:ext cx="0" cy="144756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2133720" y="4724280"/>
              <a:ext cx="59436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133720" y="4038120"/>
              <a:ext cx="0" cy="68580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133720" y="2590920"/>
              <a:ext cx="0" cy="38088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33720" y="2590920"/>
              <a:ext cx="50292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62920" y="2590920"/>
              <a:ext cx="0" cy="22860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8" name="CHAIN9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417680" cy="571320"/>
          </a:xfrm>
          <a:prstGeom prst="rect">
            <a:avLst/>
          </a:prstGeom>
          <a:ln w="0">
            <a:noFill/>
          </a:ln>
        </p:spPr>
      </p:pic>
      <p:pic>
        <p:nvPicPr>
          <p:cNvPr id="739" name="CHAIN9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417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oubly Linked Circular List With Header Nod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76320" y="1371600"/>
            <a:ext cx="8001000" cy="3352680"/>
            <a:chOff x="76320" y="1371600"/>
            <a:chExt cx="8001000" cy="3352680"/>
          </a:xfrm>
        </p:grpSpPr>
        <p:sp>
          <p:nvSpPr>
            <p:cNvPr id="742" name=""/>
            <p:cNvSpPr/>
            <p:nvPr/>
          </p:nvSpPr>
          <p:spPr>
            <a:xfrm>
              <a:off x="768240" y="3435480"/>
              <a:ext cx="596880" cy="59688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824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6388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6388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9312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4300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3548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3548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6508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73076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73076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036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988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62320" y="327672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1676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1676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46360" y="348948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29200" y="3276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320" y="1371600"/>
              <a:ext cx="16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header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8080" y="1905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6824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6388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3548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3076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1676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533412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403848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66688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137160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91520" y="3276720"/>
              <a:ext cx="68580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077320" y="3276720"/>
              <a:ext cx="0" cy="144756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066680" y="4724280"/>
              <a:ext cx="7010640" cy="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066680" y="4038120"/>
              <a:ext cx="0" cy="685800"/>
            </a:xfrm>
            <a:prstGeom prst="line">
              <a:avLst/>
            </a:prstGeom>
            <a:ln w="12600">
              <a:solidFill>
                <a:srgbClr val="33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1066680" y="2590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66680" y="25909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38880" y="25909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50080" y="343548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950080" y="313056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79680" y="3489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50080" y="2825640"/>
              <a:ext cx="596880" cy="2923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5943240" y="2971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552720" y="2971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327672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5" name="LLINKS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914400" cy="789120"/>
          </a:xfrm>
          <a:prstGeom prst="rect">
            <a:avLst/>
          </a:prstGeom>
          <a:ln w="0">
            <a:noFill/>
          </a:ln>
        </p:spPr>
      </p:pic>
      <p:pic>
        <p:nvPicPr>
          <p:cNvPr id="786" name="LLINKS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9144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mpty Doubly Linked Circular List With Header Nod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64080" y="495936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64080" y="4654440"/>
            <a:ext cx="596880" cy="292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header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33920" y="3429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64080" y="4349880"/>
            <a:ext cx="596880" cy="29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96252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62520" y="4114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006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267080" y="449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62520" y="480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0060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26708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LLINKS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914400" cy="788760"/>
          </a:xfrm>
          <a:prstGeom prst="rect">
            <a:avLst/>
          </a:prstGeom>
          <a:ln w="0">
            <a:noFill/>
          </a:ln>
        </p:spPr>
      </p:pic>
      <p:pic>
        <p:nvPicPr>
          <p:cNvPr id="801" name="LLINKS" descr=""/>
          <p:cNvPicPr/>
          <p:nvPr/>
        </p:nvPicPr>
        <p:blipFill>
          <a:blip r:embed="rId2"/>
          <a:stretch/>
        </p:blipFill>
        <p:spPr>
          <a:xfrm>
            <a:off x="8001000" y="1295280"/>
            <a:ext cx="9144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nked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er (or link)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209680"/>
            <a:ext cx="6845040" cy="52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2209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3480" y="21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02760" y="227016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31560" y="227016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60360" y="227016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32320" y="2270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03920" y="2270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24080" y="1828800"/>
            <a:ext cx="4648320" cy="380880"/>
            <a:chOff x="3124080" y="1828800"/>
            <a:chExt cx="4648320" cy="380880"/>
          </a:xfrm>
        </p:grpSpPr>
        <p:sp>
          <p:nvSpPr>
            <p:cNvPr id="123" name=""/>
            <p:cNvSpPr/>
            <p:nvPr/>
          </p:nvSpPr>
          <p:spPr>
            <a:xfrm flipV="1">
              <a:off x="3124080" y="1828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2400" y="1828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24080" y="1828800"/>
              <a:ext cx="464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71600" y="2742840"/>
            <a:ext cx="6400800" cy="305280"/>
            <a:chOff x="1371600" y="2742840"/>
            <a:chExt cx="6400800" cy="305280"/>
          </a:xfrm>
        </p:grpSpPr>
        <p:sp>
          <p:nvSpPr>
            <p:cNvPr id="127" name=""/>
            <p:cNvSpPr/>
            <p:nvPr/>
          </p:nvSpPr>
          <p:spPr>
            <a:xfrm>
              <a:off x="7772400" y="2743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371600" y="3048120"/>
              <a:ext cx="640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371600" y="27428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371600" y="1599840"/>
            <a:ext cx="4952880" cy="609840"/>
            <a:chOff x="1371600" y="1599840"/>
            <a:chExt cx="4952880" cy="609840"/>
          </a:xfrm>
        </p:grpSpPr>
        <p:sp>
          <p:nvSpPr>
            <p:cNvPr id="131" name=""/>
            <p:cNvSpPr/>
            <p:nvPr/>
          </p:nvSpPr>
          <p:spPr>
            <a:xfrm flipV="1">
              <a:off x="1371600" y="15998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1600200"/>
              <a:ext cx="49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1600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876560" y="2742840"/>
            <a:ext cx="1447920" cy="152640"/>
            <a:chOff x="4876560" y="2742840"/>
            <a:chExt cx="1447920" cy="152640"/>
          </a:xfrm>
        </p:grpSpPr>
        <p:sp>
          <p:nvSpPr>
            <p:cNvPr id="135" name=""/>
            <p:cNvSpPr/>
            <p:nvPr/>
          </p:nvSpPr>
          <p:spPr>
            <a:xfrm>
              <a:off x="6324480" y="2743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876560" y="289548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76920" y="2742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LINKS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39" name="LINKS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4267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variabl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ir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to the first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057400" y="2743200"/>
            <a:ext cx="1676520" cy="1220400"/>
            <a:chOff x="2057400" y="2743200"/>
            <a:chExt cx="1676520" cy="1220400"/>
          </a:xfrm>
        </p:grpSpPr>
        <p:sp>
          <p:nvSpPr>
            <p:cNvPr id="142" name=""/>
            <p:cNvSpPr/>
            <p:nvPr/>
          </p:nvSpPr>
          <p:spPr>
            <a:xfrm flipH="1">
              <a:off x="2437920" y="2743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350532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rmal Way To Draw A Linked Lis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63960" y="4664160"/>
            <a:ext cx="348912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or pointer field of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27080" y="474660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27080" y="528012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9920" y="5425920"/>
            <a:ext cx="502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ield of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58840" y="1920960"/>
            <a:ext cx="6477120" cy="1898640"/>
            <a:chOff x="1158840" y="1920960"/>
            <a:chExt cx="6477120" cy="1898640"/>
          </a:xfrm>
        </p:grpSpPr>
        <p:sp>
          <p:nvSpPr>
            <p:cNvPr id="150" name=""/>
            <p:cNvSpPr/>
            <p:nvPr/>
          </p:nvSpPr>
          <p:spPr>
            <a:xfrm>
              <a:off x="1851120" y="322272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51120" y="29178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0360" y="3276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46400" y="322272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46400" y="29178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360" y="3276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25520" y="306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8000" y="322272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18000" y="29178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7600" y="3276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13280" y="322272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13280" y="29178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240" y="3276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92760" y="306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44840" y="30639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32600" y="322272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32600" y="291780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200" y="327672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11720" y="306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6120" y="291132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58840" y="192096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44640" y="230184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i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3160" y="3839760"/>
            <a:ext cx="8381880" cy="30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ain is a linked list in which each node represents one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link or pointer from one element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node has a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U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oi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1124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1124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4084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688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688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3648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848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848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0772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376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7376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03720" y="28796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666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825640"/>
            <a:ext cx="596880" cy="596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93080" y="2521080"/>
            <a:ext cx="596880" cy="291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22320" y="28796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251460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1523880"/>
            <a:ext cx="167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1905120"/>
            <a:ext cx="3045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NKS" descr=""/>
          <p:cNvPicPr/>
          <p:nvPr/>
        </p:nvPicPr>
        <p:blipFill>
          <a:blip r:embed="rId1"/>
          <a:stretch/>
        </p:blipFill>
        <p:spPr>
          <a:xfrm>
            <a:off x="3581280" y="7621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97" name="LINKS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Node Represent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typedef struc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istNode *listPoi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typedef stru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istPointer lin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} list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162920" y="3809880"/>
            <a:ext cx="990360" cy="914400"/>
            <a:chOff x="7162920" y="3809880"/>
            <a:chExt cx="990360" cy="914400"/>
          </a:xfrm>
        </p:grpSpPr>
        <p:sp>
          <p:nvSpPr>
            <p:cNvPr id="201" name=""/>
            <p:cNvSpPr/>
            <p:nvPr/>
          </p:nvSpPr>
          <p:spPr>
            <a:xfrm>
              <a:off x="7162920" y="3809880"/>
              <a:ext cx="990360" cy="292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920" y="4114800"/>
              <a:ext cx="990360" cy="6094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et(0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edNode = first;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gets you to firs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desiredNod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43000" y="1371600"/>
            <a:ext cx="6477120" cy="2050920"/>
            <a:chOff x="1143000" y="1371600"/>
            <a:chExt cx="6477120" cy="2050920"/>
          </a:xfrm>
        </p:grpSpPr>
        <p:sp>
          <p:nvSpPr>
            <p:cNvPr id="206" name=""/>
            <p:cNvSpPr/>
            <p:nvPr/>
          </p:nvSpPr>
          <p:spPr>
            <a:xfrm>
              <a:off x="183528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528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6452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305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305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605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096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021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021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317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744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744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274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7692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26668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167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167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463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58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0280" y="251460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800" y="19051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et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4038120"/>
            <a:ext cx="79250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edNode = firs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;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gets you to second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desiredNod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43000" y="1371600"/>
            <a:ext cx="6477120" cy="2050920"/>
            <a:chOff x="1143000" y="1371600"/>
            <a:chExt cx="6477120" cy="2050920"/>
          </a:xfrm>
        </p:grpSpPr>
        <p:sp>
          <p:nvSpPr>
            <p:cNvPr id="231" name=""/>
            <p:cNvSpPr/>
            <p:nvPr/>
          </p:nvSpPr>
          <p:spPr>
            <a:xfrm>
              <a:off x="183528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3528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6452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305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05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605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96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021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317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9744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744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274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692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6668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167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167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463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58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251460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3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19051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et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440" y="4038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edNode = firs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;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/ gets you to third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desiredNod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43000" y="1371600"/>
            <a:ext cx="6477120" cy="2050920"/>
            <a:chOff x="1143000" y="1371600"/>
            <a:chExt cx="6477120" cy="2050920"/>
          </a:xfrm>
        </p:grpSpPr>
        <p:sp>
          <p:nvSpPr>
            <p:cNvPr id="256" name=""/>
            <p:cNvSpPr/>
            <p:nvPr/>
          </p:nvSpPr>
          <p:spPr>
            <a:xfrm>
              <a:off x="183528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3528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6452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305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05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6052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096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021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021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17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744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9744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27400" y="2879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7692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26668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16760" y="2825640"/>
              <a:ext cx="596880" cy="596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16760" y="2521080"/>
              <a:ext cx="596880" cy="291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46360" y="287964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5880" y="2666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10280" y="2514600"/>
              <a:ext cx="60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Times New Roman"/>
                </a:rPr>
                <a:t>NU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3000" y="13716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19051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9-12T16:26:06Z</dcterms:modified>
  <cp:revision>47</cp:revision>
  <dc:subject/>
  <dc:title>Data Representation Methods</dc:title>
</cp:coreProperties>
</file>