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9E50E43-D57D-4555-BC65-F779B0294D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in Pascal and Fortran for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, for our example the difference in space overhead between the two representation methods is small, 8 bytes, the space overhead for the row-major scheme is 8 bytes regardless of the number of rows in the array. In the array of arrays scheme, the space overhead is 4 * (r+1) bytes. So the overhead for an array with 10000 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40004 bytes when the array of array scheme is used and only 8 bytes when the row-major scheme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xt exercises consider several kinds of special matrices—diagonal, tridiagonal, lower triangular, upper triangular, and symmetric. Applications are given in the text and exerc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char is 2 bytes (16 bi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D array that is used to store the lower triangle is y, then following the above mapping y[i] = i +1 . y[] = {1, 2, 3, 4, …, 10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using the irregular array mapping of a lower triangular matrix we are able to use conventional C++ syntax to access elements, but for large n, the space overhead is quite a bit more than when the row-major mapping into a 1D array is used. The row-major mapping requires you to develop a formula to access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bout #bytes/element of array? Excluded in above 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eparate arrays are x, x[0], x[1], and x[2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putation ignores the space required to store the start point of x and any length information that may be stored for the individual 1D ar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5F7-AD3D-4671-929F-AC2D2662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E265-13C0-4ACD-8348-FB8B9416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670-6C6A-4F6D-8B16-0C362BBD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B52-9B4C-4127-831E-AEE6B219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B48-DE78-42AD-A995-F1E31D7D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E74-2200-41FF-9430-CF956DC5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CF6-4DE2-428A-BFC2-27FE5930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8997-1C44-4B7C-8AC1-942EFA4E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D517-A32E-4762-B941-E4137493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92D8-69F0-4B8D-A78D-E9FEBD80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7920-AF39-430D-9534-C12B81D7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6B6-7884-4136-9D26-84BE7E31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CA93-1C26-4BC5-AECB-C45D1F64A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LEFTSPOT" descr=""/>
          <p:cNvPicPr/>
          <p:nvPr/>
        </p:nvPicPr>
        <p:blipFill>
          <a:blip r:embed="rId1"/>
          <a:stretch/>
        </p:blipFill>
        <p:spPr>
          <a:xfrm>
            <a:off x="5638680" y="11430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SPOTLIGH" descr=""/>
          <p:cNvPicPr/>
          <p:nvPr/>
        </p:nvPicPr>
        <p:blipFill>
          <a:blip r:embed="rId2"/>
          <a:stretch/>
        </p:blipFill>
        <p:spPr>
          <a:xfrm>
            <a:off x="2438280" y="12193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rray Representation In C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38858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presentation is called the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rray-of-arr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contiguous memory of size 3, 4, 4, and 4 for the 4 1D arr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memory block of siz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umber of row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umber of row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s of siz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umber of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301760" y="1295280"/>
            <a:ext cx="2959200" cy="2508480"/>
            <a:chOff x="1301760" y="1295280"/>
            <a:chExt cx="2959200" cy="2508480"/>
          </a:xfrm>
        </p:grpSpPr>
        <p:sp>
          <p:nvSpPr>
            <p:cNvPr id="195" name=""/>
            <p:cNvSpPr/>
            <p:nvPr/>
          </p:nvSpPr>
          <p:spPr>
            <a:xfrm>
              <a:off x="1301760" y="17589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01760" y="24447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01760" y="31305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49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3056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1144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92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9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3056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144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92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9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3056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1144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92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76520" y="21337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76520" y="266688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76520" y="3429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0332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8348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6508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03320" y="24685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3480" y="2468520"/>
              <a:ext cx="27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6472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56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02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8384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647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7920" y="129528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x[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ow-Major Mapp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3 x 4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 b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 f g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 j k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into 1D arra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collecting elements by 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a row elements are collected from left to r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ws are collected from top to bot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get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[]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{a, b, c, d, e, f, g, h, i, j, k, l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62120" y="5943600"/>
            <a:ext cx="7385040" cy="403560"/>
            <a:chOff x="762120" y="5943600"/>
            <a:chExt cx="7385040" cy="403560"/>
          </a:xfrm>
        </p:grpSpPr>
        <p:sp>
          <p:nvSpPr>
            <p:cNvPr id="229" name=""/>
            <p:cNvSpPr/>
            <p:nvPr/>
          </p:nvSpPr>
          <p:spPr>
            <a:xfrm>
              <a:off x="762120" y="594972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1960" y="594360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5932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5120" y="594972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2600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72160" y="5949720"/>
              <a:ext cx="99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9268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91120" y="594972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5972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05520" y="594972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2640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93080" y="595620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Locating Element</a:t>
            </a: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 x[i][j]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s 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row h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s to the left of row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to the left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[i][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x[i][j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mapped to positio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c +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1D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33520" y="1447920"/>
            <a:ext cx="7461000" cy="930600"/>
            <a:chOff x="533520" y="1447920"/>
            <a:chExt cx="7461000" cy="930600"/>
          </a:xfrm>
        </p:grpSpPr>
        <p:grpSp>
          <p:nvGrpSpPr>
            <p:cNvPr id="244" name=""/>
            <p:cNvGrpSpPr/>
            <p:nvPr/>
          </p:nvGrpSpPr>
          <p:grpSpPr>
            <a:xfrm>
              <a:off x="609480" y="1974960"/>
              <a:ext cx="7385040" cy="403560"/>
              <a:chOff x="609480" y="1974960"/>
              <a:chExt cx="7385040" cy="403560"/>
            </a:xfrm>
          </p:grpSpPr>
          <p:sp>
            <p:nvSpPr>
              <p:cNvPr id="245" name=""/>
              <p:cNvSpPr/>
              <p:nvPr/>
            </p:nvSpPr>
            <p:spPr>
              <a:xfrm>
                <a:off x="609480" y="198108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9320" y="1974960"/>
                <a:ext cx="990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w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60668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752480" y="1981080"/>
                <a:ext cx="990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w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7336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819520" y="1981080"/>
                <a:ext cx="990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w 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74004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038480" y="1981080"/>
                <a:ext cx="990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0708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952880" y="1981080"/>
                <a:ext cx="990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w 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87376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940440" y="198756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533520" y="14479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23880" y="14479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14600" y="1447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2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57600" y="14479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3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00600" y="1447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pace Overhe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bytes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1D array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bytes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umber of column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8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39640" y="1981080"/>
            <a:ext cx="7454880" cy="397440"/>
            <a:chOff x="539640" y="1981080"/>
            <a:chExt cx="7454880" cy="397440"/>
          </a:xfrm>
        </p:grpSpPr>
        <p:sp>
          <p:nvSpPr>
            <p:cNvPr id="265" name=""/>
            <p:cNvSpPr/>
            <p:nvPr/>
          </p:nvSpPr>
          <p:spPr>
            <a:xfrm>
              <a:off x="53964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198108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0668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52480" y="198108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7336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19520" y="1981080"/>
              <a:ext cx="99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4004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38480" y="198108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0708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1981080"/>
              <a:ext cx="990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w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7376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40440" y="1987560"/>
              <a:ext cx="10540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sadvantag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contiguous memory of siz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lumn-Major Mapp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560" y="990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b c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 f g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 j k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into 1D array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collecting elements by colum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a column elements are collected from top to bot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umns are collected from left to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get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y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{a, e, i, b, f, j, c, g, k, d, h, l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 of values. Has rows and columns, but numbering begins at 1 rather than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b c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row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 f g h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 j k l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otatio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ther th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[i][j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use a 2D array to represent a matri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hortcomings Of Using A 2D Array For A 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30456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s are off by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arrays do not support matrix operations such a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transp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ulti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 so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2D arrays. Can’t do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 +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 –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x *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 in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agonal 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14400" y="30477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x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x in which all nonzero terms are on the diag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iagonal 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219320" y="5335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0 0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2 0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3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0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9880" y="1143000"/>
            <a:ext cx="1295640" cy="2438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(i,j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on diagonal if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=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diagonal elements in a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 x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diagonal elements are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diagonal only vs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n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1D Array Representation In C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4038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dimensional arr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 = [a, b, c, d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 into contiguous memory lo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844560" y="1219320"/>
            <a:ext cx="7302600" cy="1365120"/>
            <a:chOff x="844560" y="1219320"/>
            <a:chExt cx="7302600" cy="1365120"/>
          </a:xfrm>
        </p:grpSpPr>
        <p:sp>
          <p:nvSpPr>
            <p:cNvPr id="54" name=""/>
            <p:cNvSpPr/>
            <p:nvPr/>
          </p:nvSpPr>
          <p:spPr>
            <a:xfrm>
              <a:off x="844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01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8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16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73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30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87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4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02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59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16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73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330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88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45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02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43200" y="1219320"/>
              <a:ext cx="2438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2" marL="2286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742840" y="21337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99320" y="2133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240" y="21337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3720" y="213372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514600" y="2590560"/>
            <a:ext cx="1066680" cy="1052640"/>
            <a:chOff x="2514600" y="2590560"/>
            <a:chExt cx="1066680" cy="1052640"/>
          </a:xfrm>
        </p:grpSpPr>
        <p:sp>
          <p:nvSpPr>
            <p:cNvPr id="76" name=""/>
            <p:cNvSpPr/>
            <p:nvPr/>
          </p:nvSpPr>
          <p:spPr>
            <a:xfrm flipV="1">
              <a:off x="2895480" y="2590560"/>
              <a:ext cx="0" cy="6858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14600" y="3124080"/>
              <a:ext cx="1066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st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85800" y="556272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ocation(x[i]) = start +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ower Triangular 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x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rix in which all nonzero terms are either on or below the diag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4343400"/>
            <a:ext cx="8534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(i,j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part of lower triangle iff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&gt;=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lements in lower triangle is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+ 2 + … + n = n(n+1)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only the lower 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1981080"/>
            <a:ext cx="586764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0 0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3 0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5 6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 8 9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rray Of Arrays Re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2280" y="4495680"/>
            <a:ext cx="88394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 irregular 2-D array … length of rows is not required to be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01760" y="1295280"/>
            <a:ext cx="3026880" cy="3194280"/>
            <a:chOff x="1301760" y="1295280"/>
            <a:chExt cx="3026880" cy="3194280"/>
          </a:xfrm>
        </p:grpSpPr>
        <p:sp>
          <p:nvSpPr>
            <p:cNvPr id="298" name=""/>
            <p:cNvSpPr/>
            <p:nvPr/>
          </p:nvSpPr>
          <p:spPr>
            <a:xfrm>
              <a:off x="1301760" y="17589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01760" y="24447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01760" y="31305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49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49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3056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49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3056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1144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76520" y="21337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76520" y="266688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76520" y="3429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0260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026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348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0260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8348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647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47920" y="129528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x[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01760" y="38163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49680" y="39686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30560" y="39686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11440" y="39686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92680" y="39686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76520" y="41148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02600" y="3992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83480" y="3992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64720" y="39924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45600" y="3992400"/>
              <a:ext cx="383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reating And Using An Irregular Arra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52280" y="1143000"/>
            <a:ext cx="88394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/* declare a two-dimensional array variabl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/* and allocate the desired number of row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* iArra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LOC(iArray, numberOfRows*sizeof(*iArra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/* now allocate space for the elements in each row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0; i &lt; numberOfRows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LOC(iArray[i], length[i]*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/* use the array like any regular array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rray[2][3] = 5; iArray[4][6] = iArray[2][3]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rray[1][1] +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p Lower Triangular Array Into A 1D Arra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33160" y="914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ow-major order, but omit terms that are not part of the lower triang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0 0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3 0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5 6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7 8 9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, 2, 3, 4, 5, 6, 7, 8, 9,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Index Of Element [i][j]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09120" y="2743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is: row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row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row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preceded by row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row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elements that precede row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 + 2 + 3 + … + i-1 = i(i-1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element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i,j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t position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i(i-1)/2 + j 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1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447920" y="1676520"/>
            <a:ext cx="5854680" cy="784800"/>
            <a:chOff x="1447920" y="1676520"/>
            <a:chExt cx="5854680" cy="784800"/>
          </a:xfrm>
        </p:grpSpPr>
        <p:grpSp>
          <p:nvGrpSpPr>
            <p:cNvPr id="334" name=""/>
            <p:cNvGrpSpPr/>
            <p:nvPr/>
          </p:nvGrpSpPr>
          <p:grpSpPr>
            <a:xfrm>
              <a:off x="1523880" y="2057400"/>
              <a:ext cx="5778720" cy="403920"/>
              <a:chOff x="1523880" y="2057400"/>
              <a:chExt cx="5778720" cy="403920"/>
            </a:xfrm>
          </p:grpSpPr>
          <p:sp>
            <p:nvSpPr>
              <p:cNvPr id="335" name=""/>
              <p:cNvSpPr/>
              <p:nvPr/>
            </p:nvSpPr>
            <p:spPr>
              <a:xfrm>
                <a:off x="1523880" y="2070000"/>
                <a:ext cx="444600" cy="3747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523880" y="2063880"/>
                <a:ext cx="46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81080" y="2063880"/>
                <a:ext cx="45720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81080" y="2063880"/>
                <a:ext cx="46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438280" y="2063880"/>
                <a:ext cx="60984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514600" y="2063880"/>
                <a:ext cx="46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048120" y="206388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46560" y="2057400"/>
                <a:ext cx="990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14800" y="206388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60960" y="2057400"/>
                <a:ext cx="990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w 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181480" y="206388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248520" y="2063880"/>
                <a:ext cx="1054080" cy="368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447920" y="167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05120" y="167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62320" y="167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71800" y="167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pace Overhea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4038480"/>
            <a:ext cx="7772400" cy="28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overhead = 4 bytes for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xcludes space needed for the elements of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844560" y="1219320"/>
            <a:ext cx="7302600" cy="2423880"/>
            <a:chOff x="844560" y="1219320"/>
            <a:chExt cx="7302600" cy="2423880"/>
          </a:xfrm>
        </p:grpSpPr>
        <p:sp>
          <p:nvSpPr>
            <p:cNvPr id="82" name=""/>
            <p:cNvSpPr/>
            <p:nvPr/>
          </p:nvSpPr>
          <p:spPr>
            <a:xfrm>
              <a:off x="844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01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58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16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73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30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87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44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02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59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16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737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309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881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53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02560" y="2139840"/>
              <a:ext cx="444600" cy="444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43200" y="1219320"/>
              <a:ext cx="2438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2" marL="2286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27000" y="216360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83480" y="2163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41400" y="216360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97880" y="2163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895480" y="2590560"/>
              <a:ext cx="0" cy="6858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14600" y="3124080"/>
              <a:ext cx="1066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33"/>
                  </a:solidFill>
                  <a:latin typeface="Times New Roman"/>
                </a:rPr>
                <a:t>st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2D Array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80520" y="22860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lements of a 2-dimensional arr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nt [][]a = new int[3][4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shown as a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][0]     a[0][1]    a[0][2]    a[0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1][0]     a[1][1]    a[1][2]    a[1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2][0]     a[2][1]    a[2][2]    a[2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ows Of A 2D Arr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5960" y="22860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][0]     a[0][1]    a[0][2]    a[0][3]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1][0]     a[1][1]    a[1][2]    a[1][3]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2][0]     a[2][1]    a[2][2]    a[2][3]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590920"/>
            <a:ext cx="6629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124080"/>
            <a:ext cx="6629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733920"/>
            <a:ext cx="6629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lumns Of A 2D Arra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80520" y="22860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0][0]     a[0][1]    a[0][2]    a[0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1][0]     a[1][1]    a[1][2]    a[1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[2][0]     a[2][1]    a[2][2]    a[2]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905120"/>
            <a:ext cx="0" cy="243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1905120"/>
            <a:ext cx="0" cy="243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1828800"/>
            <a:ext cx="0" cy="243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1828800"/>
            <a:ext cx="0" cy="243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472428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umn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72428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um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472428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um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72428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um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2D Array Representation In C++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3733560"/>
            <a:ext cx="7772400" cy="281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2D array as a 1D array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x = [row0, row1, row 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ow 0 = [a,b, c, d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ow 1 = [e, f, g, h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ow 2 = [i, j, k, l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ore a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D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219320"/>
            <a:ext cx="777240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dimensional arra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, b, c,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, f, g,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, j, k,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2D Array Representation In C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01760" y="1295280"/>
            <a:ext cx="2959200" cy="2508480"/>
            <a:chOff x="1301760" y="1295280"/>
            <a:chExt cx="2959200" cy="2508480"/>
          </a:xfrm>
        </p:grpSpPr>
        <p:sp>
          <p:nvSpPr>
            <p:cNvPr id="127" name=""/>
            <p:cNvSpPr/>
            <p:nvPr/>
          </p:nvSpPr>
          <p:spPr>
            <a:xfrm>
              <a:off x="1301760" y="17589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01760" y="24447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01760" y="31305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9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3056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1144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92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49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3056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144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92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49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3056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1144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92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21337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266688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6520" y="3429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0332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8348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6508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4560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03320" y="24685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83480" y="2468520"/>
              <a:ext cx="27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472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456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02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8384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647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45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47920" y="129528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x[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pace Overhea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38858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 overhead = space required by the array x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 * 4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2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number of rows x 4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301760" y="1295280"/>
            <a:ext cx="2959200" cy="2508480"/>
            <a:chOff x="1301760" y="1295280"/>
            <a:chExt cx="2959200" cy="2508480"/>
          </a:xfrm>
        </p:grpSpPr>
        <p:sp>
          <p:nvSpPr>
            <p:cNvPr id="161" name=""/>
            <p:cNvSpPr/>
            <p:nvPr/>
          </p:nvSpPr>
          <p:spPr>
            <a:xfrm>
              <a:off x="1301760" y="17589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01760" y="24447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01760" y="3130560"/>
              <a:ext cx="673200" cy="673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49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3056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1144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92680" y="19112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49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3056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1144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92680" y="252108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49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056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1144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92680" y="3282840"/>
              <a:ext cx="368280" cy="368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76520" y="21337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76520" y="266688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3429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0332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8348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65080" y="185904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45600" y="1859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03320" y="24685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83480" y="2468520"/>
              <a:ext cx="27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6472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45600" y="246852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02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8384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64720" y="3306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45960" y="33066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47920" y="1295280"/>
              <a:ext cx="761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x[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7-08-30T16:24:48Z</dcterms:modified>
  <cp:revision>41</cp:revision>
  <dc:subject/>
  <dc:title>Data Representation Methods</dc:title>
</cp:coreProperties>
</file>