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B6764B-2BDC-45D8-852B-79F8CDE64C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gle linear list has 6 elements. Each list element is a triple (row, column, valu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linear list per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initialize array rowSize to 0,  n values then stream through nonzero list of original matrix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O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O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flight(i,j) = null if there is no flight from i to j. Of the 1 million entries in the flight matrix at most 20,000 can be nonnull as each nonnull entry represents at least 1 different flight. So we need to store at most 20,000 nonnull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page analyses are done using a matrix such as web(*,*). See IEEE Computer, August 1999, p 60, for a paper that describes Web analysis based on such a matrix. Operations such as matrix transpose and multiply ar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verage, 10 entries in each row are non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4E9-2DA4-40D9-A549-574CEBBB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355-64F8-42CC-81DA-4990BB1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54D-4184-496E-BC58-4AD841AA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2D5-415C-4445-BA7E-57C1D6D8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2F3-ECBC-400D-85D6-233E9A90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AC4-126B-478E-819D-054F41DB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0C6-A303-4C62-9C8D-4FC9978E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8E7-ADDF-4F0C-ACA9-6F706A71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B02-FE6D-4BBF-8E52-A76F06EE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C5D-73BB-4763-A30E-27EE922E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4BB-770F-477B-A6CD-F3A730D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E3C-EEE5-4EDF-A4BC-23E3CF6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A81-ED6A-4958-8067-805C2A2DF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OT-L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SPOT-R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14860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Linear List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31244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 4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5 7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6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95680" y="2895480"/>
            <a:ext cx="4343400" cy="2819520"/>
            <a:chOff x="4495680" y="2895480"/>
            <a:chExt cx="4343400" cy="2819520"/>
          </a:xfrm>
        </p:grpSpPr>
        <p:sp>
          <p:nvSpPr>
            <p:cNvPr id="80" name=""/>
            <p:cNvSpPr/>
            <p:nvPr/>
          </p:nvSpPr>
          <p:spPr>
            <a:xfrm>
              <a:off x="4495680" y="2895480"/>
              <a:ext cx="43434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list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row        1  1  2  2  4 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column  3  5  3  4  2 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value     3  4  5  7  2  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866920" y="358128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7280" y="3581280"/>
              <a:ext cx="1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5181480"/>
              <a:ext cx="30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77320" y="3581280"/>
              <a:ext cx="304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05920" y="3581280"/>
              <a:ext cx="152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58200" y="3581280"/>
              <a:ext cx="144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152920" y="5257800"/>
              <a:ext cx="30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ne Linear List Per Row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828440"/>
            <a:ext cx="1752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 4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5 7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 0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6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1752480"/>
            <a:ext cx="38102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w1 = [(3, 3), (5,4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w2 = [(3,5), (4,7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w3 = [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w4 = [(2,2), (3,6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ingle Linear Lis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D Array of triples of typ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, col,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D arr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lly not predictable at time of initi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some default capacity/size (say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capacity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ALL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ximate Memory Requirement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00 x 5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zero elements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 p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array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00 x 500 x 4 = 1mil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D array of triples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x 1994 x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  23,928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Transpo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676520"/>
            <a:ext cx="2133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 4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5 7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6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295280"/>
            <a:ext cx="14479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5 0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7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0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96252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Transpo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419720"/>
            <a:ext cx="2438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 3  3  3  4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 1  2  4  2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  3  5  6  7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ow        1  1  2  2  4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umn  3  5  3  4  2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alue     3  4  5  7  2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33412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380880"/>
            <a:ext cx="2133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 4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5 7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6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0"/>
            <a:ext cx="1447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5 0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7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0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Transpo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8620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ow        1  1  2  2  4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lumn  3  5  3  4  2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alue     3  4  5  7  2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80880"/>
            <a:ext cx="2133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3 0 4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5 7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2 6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0"/>
            <a:ext cx="1447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0 0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5 0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0 7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 0 0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26668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432080"/>
            <a:ext cx="4800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#nonzero in each row of trans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#nonzero in each colum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[0, 1, 3, 1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2: Start of each row of trans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m of size of preceding row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[0, 0, 1, 4, 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Move elements, left to right, 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list to transpos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trix Transpos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371600"/>
            <a:ext cx="4800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#nonzero in each row of trans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#nonzero in each colum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[0, 1, 3, 1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2: Start of each row of trans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m of size of preceding row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[0, 0, 1, 4, 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Move elements, left to right, 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list to transpose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28800"/>
            <a:ext cx="3048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plex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 x n original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 nonzero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ep 1: O(n+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ep 2: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ep 3: O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verall O(n+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untime Performanc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Trans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00 x 5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zero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measured on a 300MHz Pentium II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array 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10 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Matrix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6 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3skel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8511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500 x 5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ces with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99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9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zero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array     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880 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Matrix      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8 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3skel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851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 of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POT-L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SPOT-R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14860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590920" y="2895480"/>
            <a:ext cx="3581280" cy="3657600"/>
            <a:chOff x="2590920" y="2895480"/>
            <a:chExt cx="3581280" cy="3657600"/>
          </a:xfrm>
        </p:grpSpPr>
        <p:sp>
          <p:nvSpPr>
            <p:cNvPr id="57" name=""/>
            <p:cNvSpPr/>
            <p:nvPr/>
          </p:nvSpPr>
          <p:spPr>
            <a:xfrm>
              <a:off x="2971800" y="2895480"/>
              <a:ext cx="18288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 0 3 0 4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 0 5 7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 0 0 0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</a:rPr>
                <a:t>0 2 6 0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90920" y="4343400"/>
              <a:ext cx="23619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52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Row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8480" y="3352680"/>
              <a:ext cx="0" cy="25909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5867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umn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629400" y="4495680"/>
            <a:ext cx="2514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x 5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nonzero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matri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#nonzero elements/#elements is sm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lements along diagonal may be non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x n matri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 is n/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lements on 3 central diagonals may be non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 is (3n-2)/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/n – 2/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riangular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lements on or below diagonal may be non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 is n(n+1)(2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~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These are structured sparse matrices. Nonzero elements are in a well-defined portion of the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n x n matrix may be stored as an n x n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ake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ample structured sparse matrices may be mapped into a 1D array so that a mapping function can be used to locate an element quickly; the space required by the 1D array is less than that required by an n x n array (next lectu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tructured 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line flight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ports are number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light(i,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of nonstop flights from airpor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irpor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= 1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list pointer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4 million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nonempty flight list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 2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t most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2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pointer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80,000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structured 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are number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eb(i,j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of links from pa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g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uthority p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page that has many links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ub p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links to many authority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eb Page Matrix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= 2 bill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nd growing b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 mill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n x 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of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=&gt; 16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bytes (16 * 10</a:t>
            </a:r>
            <a:r>
              <a:rPr b="0" lang="en-US" sz="3200" spc="-1" strike="noStrike" baseline="30000">
                <a:solidFill>
                  <a:srgbClr val="ff0033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ge links to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ay) other pages on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average there are 10 nonzero entries per 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needed for nonzero elements is approximately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20 billion x 4 bytes = 80 billion bytes (80 G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presentation Of Unstructured Sparse Matri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inear list in row-majo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the nonzero elements of the sparse matrix in row-major order (i.e., scan the rows left to right beginning with row 1 and picking up the nonzero el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nzero element is represented by a tr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row, column, val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st of triples is stored in a 1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8-30T16:06:26Z</dcterms:modified>
  <cp:revision>55</cp:revision>
  <dc:subject/>
  <dc:title>Data Representation Methods</dc:title>
</cp:coreProperties>
</file>