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98400" y="4408200"/>
            <a:ext cx="558684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t or collection is a data object. Order in which you list the instances doesn’t matter. {1,2,3} and {3,2,1} are the same data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a nonexistent element is defined to be –1. When theElement is in the list an index between 0 and Size()-1 is the result. So –1 would be an invalid index and is used to represent the case when theElement is not in th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stances of integer and daysOfWeek are related. In the former, all in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hole numbers, whereas in the latter all instances name days of the week. The instances of myDataObject don’t seem to be re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have ordering relationships –2 before –1 before 0 before 1 etc (relational operators such as &lt;, &gt;, =, etc). Elements could be related by operations such as add, subtract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ata object is a set of instances; an instance of a linear list is an ordered set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Students in our class is 240, Exams is 3, DOW is 7, and Months is 12. Notice that Days of Week is used as an example of both a data object and of a linear list. As a data object, {S, M, T, …} and {M, W, S, …} describe the same data object with 7 allowable instances S, M, T, … As a linear list (S, M, T, …) and (M, W, S, …) are two different instances of a linear list. Linear List itself may be viewed as data object, which is simply the set of all possible linear list in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608-1C22-47D6-A730-AE14E3C6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AF0-310B-47DD-8BC9-3543037E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48B-12E9-4A05-BBA3-31813DEC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8B9-BAE8-4073-BEEB-F4814D03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4E8-438A-4C3E-B903-EA375547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28B-4911-4531-AC8E-7E214DE5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F75-D87D-45A6-A8D5-FC386F89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AC5-EC1F-4374-AB07-0755098B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03F-A34F-455C-94F0-B826DB68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784-8385-4D0A-97EB-0F60BB45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612-36DA-47CF-94DC-0AA42EF9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979-82F4-4CE0-A6F1-84585799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A92F-A7DB-4D8C-92FF-3A176A7A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bstract Data Typ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r collection of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ger = {0, +1, -1, +2, -2, +3, -3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ysOfWeek = {S,M,T,W,Th,F,Sa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POT-L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47" name="SPOT-R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14857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 Operations—Retrieve(theIndex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1430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e element with give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=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a,b,c,d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trieve(0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trieve(2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trieve(4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trieve(-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Retrieve(9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 Operations—IndexOf(theEleme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index of a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=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a,b,d,b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dexOf(d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dexOf(a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dexOf(z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 Operations—Delete(theIndex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nd return element with give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= (a,b,c,d,e,f,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elete(2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a,b,d,e,f,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,e,f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b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 Operations—Delete(theIndex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7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nd return element with give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= (a,b,c,d,e,f,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858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Delete(-1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Delete(2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 Operations—Insert(theIndex, theEleme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n element so that the new element has a specified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= (a,b,c,d,e,f,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sert(0,h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= (h,a,b,c,d,e,f,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,b,c,d,e,f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b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 Operations—Insert(theIndex, theElement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= (a,b,c,d,e,f,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nsert(2,h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= (a,b,h,c,d,e,f,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,d,e,f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b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87692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Insert(10,h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Insert(-6,h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 Structure Specific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 Abstract Data Typ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30481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bstractData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Linear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ed finite collections of zero or more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sEmpty(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turn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f the list is empty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ength()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return the list size (i.e., number of elements in the l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Retrieve(index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turn th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lement of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dexO f(x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turn the index of the first occurrence of 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ist, 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not i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Delete(index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remove and return 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 eleme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s with higher index  have their index reduced b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sert(theIndex, x)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sert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the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 element,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eInd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=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de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their index increased by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 Objec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21337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s may or may not b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yDataObject = {apple, chair, 2, 5.2,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red, green, Jack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 Structur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object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 that exist among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lements that comprise an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instances of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69  &lt; 3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80 + 4 = 2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V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53" name="BV" descr=""/>
          <p:cNvPicPr/>
          <p:nvPr/>
        </p:nvPicPr>
        <p:blipFill>
          <a:blip r:embed="rId2"/>
          <a:stretch/>
        </p:blipFill>
        <p:spPr>
          <a:xfrm>
            <a:off x="6629400" y="685800"/>
            <a:ext cx="4572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ata Structur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elements that comprise an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is more significant than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is immediately to the left of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is immediately to the right of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V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57" name="BV" descr=""/>
          <p:cNvPicPr/>
          <p:nvPr/>
        </p:nvPicPr>
        <p:blipFill>
          <a:blip r:embed="rId2"/>
          <a:stretch/>
        </p:blipFill>
        <p:spPr>
          <a:xfrm>
            <a:off x="6629400" y="685800"/>
            <a:ext cx="4572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93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s are usually specified by specifying operations on one or more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dd, subtract, predecessor, 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33520"/>
            <a:ext cx="342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V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61" name="BV" descr=""/>
          <p:cNvPicPr/>
          <p:nvPr/>
        </p:nvPicPr>
        <p:blipFill>
          <a:blip r:embed="rId2"/>
          <a:stretch/>
        </p:blipFill>
        <p:spPr>
          <a:xfrm>
            <a:off x="6629400" y="685800"/>
            <a:ext cx="4572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(or Ordered) Lis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s are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…,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s a lis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 &gt;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i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size is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ED-BLIN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65" name="RED-BLIN" descr=""/>
          <p:cNvPicPr/>
          <p:nvPr/>
        </p:nvPicPr>
        <p:blipFill>
          <a:blip r:embed="rId2"/>
          <a:stretch/>
        </p:blipFill>
        <p:spPr>
          <a:xfrm>
            <a:off x="7772400" y="1143000"/>
            <a:ext cx="3207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 = (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…, 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zero’th (or front)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as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ediately precede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RED-BLIN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69" name="RED-BLIN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3204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 Examples/Instanc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in MyClas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Jack, Jill, Abe, Henry, Mary, …, Ju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s in MyClas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exam1, exam2, exam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s of Week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, M, T, W, Th, F, 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hs =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Jan, Feb, Mar, Apr, …, Nov, D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List Operations—Length(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430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number of elements i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L = (a,b,c,d,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sahni</cp:lastModifiedBy>
  <dcterms:modified xsi:type="dcterms:W3CDTF">2007-08-30T13:48:13Z</dcterms:modified>
  <cp:revision>40</cp:revision>
  <dc:subject/>
  <dc:title>Data Structures</dc:title>
</cp:coreProperties>
</file>