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move the slide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2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"/>
              </a:rPr>
              <a:t>21/07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440"/>
            <a:ext cx="2965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B5FE-9530-4F12-BDC3-C7191761AA4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9944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3080" y="160020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89944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113080" y="3874680"/>
            <a:ext cx="210780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94760"/>
            <a:ext cx="776592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40640" y="387468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40640" y="1600200"/>
            <a:ext cx="319464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74680"/>
            <a:ext cx="6546960" cy="20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00200"/>
            <a:ext cx="65469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659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65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Click to edit the title text format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5000"/>
              </a:lnSpc>
              <a:spcBef>
                <a:spcPts val="601"/>
              </a:spcBef>
              <a:buClr>
                <a:srgbClr val="fdad23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5486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r los tokens no deseado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ificar las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r/simplificar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3880" y="3809880"/>
            <a:ext cx="4953240" cy="2286000"/>
            <a:chOff x="1523880" y="3809880"/>
            <a:chExt cx="4953240" cy="2286000"/>
          </a:xfrm>
        </p:grpSpPr>
        <p:sp>
          <p:nvSpPr>
            <p:cNvPr id="147" name=""/>
            <p:cNvSpPr/>
            <p:nvPr/>
          </p:nvSpPr>
          <p:spPr>
            <a:xfrm>
              <a:off x="3657600" y="4486320"/>
              <a:ext cx="20574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Screener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724280"/>
              <a:ext cx="21337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029200"/>
              <a:ext cx="18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51055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380988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Verdana"/>
                </a:rPr>
                <a:t>Secuencia de Toke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Filtraje (Screening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6444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conoce (y reclasifica) palabras reservada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carta espacios en blanco (y comentarios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ctua como una interfaz entre el “scanner”  y la siguiente fase, el  “parser” (analizador sintáct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00200" y="219240"/>
            <a:ext cx="59436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actico (Parsing)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5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terminar si la secuencia de tokens es sintácticamente correc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grupar los tokens, en una estructura sintáctica correcta (árbol), de ser posib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sintáctico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84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structura sintáctica de programa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xpres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clara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ódulo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sar “reglas de reescritura” (a.k.a. BNF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hilera-a-árbol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9185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ivo: Construir un “</a:t>
            </a: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bol de sintaxis” a partir de una secuencia de reglas BNF. El árbol será la representación funcional del programa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étodo: Construir el árbol de abajo hacia arriba (“bottom-up”), conforme se utilizan las reglas de re-reescritura. Se hace uso de una pila de árbol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71600" y="239760"/>
            <a:ext cx="640080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alizar la semántica estática, ej.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variables declaradas antes de ser usadas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asignación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:=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ompatibilidad de tipos en la operación 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,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+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inciden los tipos de par</a:t>
            </a: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tros formales y actual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plicación de las reglas de visibilida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Análisis de Restricciones Contextuales </a:t>
            </a:r>
            <a:br>
              <a:rPr sz="3000"/>
            </a:br>
            <a:r>
              <a:rPr b="1" lang="en-GB" sz="3000" spc="-1" strike="noStrike">
                <a:solidFill>
                  <a:srgbClr val="fdad23"/>
                </a:solidFill>
                <a:latin typeface="Century Gothic"/>
              </a:rPr>
              <a:t>(cont.)</a:t>
            </a:r>
            <a:endParaRPr b="1" lang="en-US" sz="30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818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 recorre el árbol recursivamente, deduciendo el tipo de cada (sub)expresión, y regresando ee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r uso de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ABLA DE DECLARACION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para grabar informacion acerca de los nomb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“decora” el árbol con información de referenc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3040" y="1618920"/>
            <a:ext cx="7267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traductor es un algoritmo que convierte un código fuente en un programa objeto equival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compilador es un traductor donde el lenguaje objeto está un nivel “más bajo” que el lenguaje del código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60360" y="3060720"/>
            <a:ext cx="5757480" cy="833040"/>
            <a:chOff x="1260360" y="3060720"/>
            <a:chExt cx="5757480" cy="833040"/>
          </a:xfrm>
        </p:grpSpPr>
        <p:sp>
          <p:nvSpPr>
            <p:cNvPr id="93" name=""/>
            <p:cNvSpPr/>
            <p:nvPr/>
          </p:nvSpPr>
          <p:spPr>
            <a:xfrm>
              <a:off x="2950560" y="3288600"/>
              <a:ext cx="20455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Tradu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96080" y="3524760"/>
              <a:ext cx="1512000" cy="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48920" y="3068280"/>
              <a:ext cx="151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Codigo Fu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96080" y="3060720"/>
              <a:ext cx="202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</a:rPr>
                <a:t>Programa Ob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3524760"/>
              <a:ext cx="169020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0" r="0" b="47168"/>
          <a:stretch/>
        </p:blipFill>
        <p:spPr>
          <a:xfrm>
            <a:off x="685800" y="798480"/>
            <a:ext cx="784872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Ejempl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5327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onológicament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ingresa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la tabla DCLN, con su tip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 =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Courier New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no esta declarado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verifica que el tipo de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s boolea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para 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‘+’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–"/>
              <a:tabLst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02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revisa la compatibilidad de tipo entre Id: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 y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t:1 (nodo ‘+’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38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Convertir el árbol de sintaxis a código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l código objeto podria ser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de máquin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enguaje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ádruples para una máquina fictici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Century Gothic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tique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ógo de opera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dad23"/>
              </a:buClr>
              <a:buSzPct val="75000"/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erandos (1 o 2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3500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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dad23"/>
                </a:solidFill>
                <a:latin typeface="Wingdings"/>
                <a:ea typeface="Wingdings"/>
              </a:rPr>
              <a:t></a:t>
            </a:r>
            <a:r>
              <a:rPr b="0" lang="en-US" sz="3000" spc="-1" strike="noStrike">
                <a:solidFill>
                  <a:srgbClr val="fdad2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Generación de Có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600200"/>
            <a:ext cx="8280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” en UNIX genera código ensambl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” en UNIX genera código para la máquina “p”, que es interpretado por… un interpretado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c: Cómpilación lenta, ejecución rápid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i: Compilacion rápida, ejecución lent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étod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Recorrer el árbol otra vez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255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Código (para una máquina de pila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523880"/>
            <a:ext cx="655308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  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OAD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OR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OTO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ón de Códig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75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ducir el tamaño del programa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isminuir el tiempo de ejecución del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Not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“Optimización” es un nombre incorrecto. “Mejoramiento”, sería màs adecu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os tipos de optimiza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 “Peephole” (local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ptimización Global (Mejorar iteraciones, etc.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Optimizacion de Codigo (cont.)</a:t>
            </a: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55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 (de la diapositiva anterior)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 puede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ORE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emplazar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TND X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LOAD 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29264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lmacenamiento no-destructivo,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i.e.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almacena en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, pero n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struye  el valor superior de la p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fdad23"/>
                </a:solidFill>
                <a:latin typeface="Century Gothic"/>
              </a:rPr>
              <a:t>Resume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852640"/>
            <a:ext cx="1942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in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457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4196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8005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tr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14920"/>
            <a:ext cx="36799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5229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s-AR" sz="2400" spc="-1" strike="noStrike">
                <a:solidFill>
                  <a:srgbClr val="ffffff"/>
                </a:solidFill>
                <a:latin typeface="Century Gothic"/>
              </a:rPr>
              <a:t>ó</a:t>
            </a: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1814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805360"/>
            <a:ext cx="2232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1989000"/>
            <a:ext cx="17524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1066680"/>
            <a:ext cx="1752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L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43340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505240"/>
            <a:ext cx="144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80880"/>
            <a:ext cx="1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602136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435640" y="6021360"/>
            <a:ext cx="12240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6093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6165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5238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673360"/>
            <a:ext cx="15242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Manejo de  Tab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597040"/>
            <a:ext cx="1698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Rutinas de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4267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r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288800"/>
            <a:ext cx="1447560" cy="138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905120" y="2203560"/>
            <a:ext cx="1447560" cy="698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1240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352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3505320"/>
            <a:ext cx="434880" cy="1436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013440" y="3429000"/>
            <a:ext cx="3938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50960" y="3276720"/>
            <a:ext cx="115596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3068640"/>
            <a:ext cx="1181160" cy="5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219280" y="2205000"/>
            <a:ext cx="1187640" cy="62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099040" y="1288800"/>
            <a:ext cx="1308240" cy="130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dad23"/>
                </a:solidFill>
                <a:latin typeface="Century Gothic"/>
              </a:rPr>
              <a:t>Resumen de Compilación</a:t>
            </a:r>
            <a:endParaRPr b="1" lang="en-US" sz="38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Preparado p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Manuel E. Bermúdez, Ph.D.</a:t>
            </a:r>
            <a:endParaRPr b="0" i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Associate Professor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University of Florida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entury Gothic"/>
              </a:rPr>
              <a:t>Traducido por Chrisitan Torres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Century Gothic"/>
              </a:rPr>
              <a:t>Universidad Ricardo Palma, Perú</a:t>
            </a: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2800440" y="256536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Curso de Compil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594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¿ Cuándo es el nivel de un lenguaje menor que otro 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ción:  Un interpretador es un algoritmo que simula la ejecución de programas escritos en un determinado lenguaje fu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544500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5157720"/>
            <a:ext cx="2376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9021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36572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5661000"/>
            <a:ext cx="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3657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9680" y="581652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6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Resumen de 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Definición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 La implementación de un lenguaje de programacion consiste de un traductor (o compilador) para ese lenguaje, y un interpretador para el correspondiente lenguaje obje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486320"/>
            <a:ext cx="232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terpre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3657600"/>
            <a:ext cx="14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952880"/>
            <a:ext cx="14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181480"/>
            <a:ext cx="13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4486320"/>
            <a:ext cx="20638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22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24280"/>
            <a:ext cx="144792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079280"/>
            <a:ext cx="76312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 programa fuente puede ser traducido un número arbitrario de veces antes que el programa objeto sea generad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2952720"/>
            <a:ext cx="190512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733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191040"/>
            <a:ext cx="14475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419640"/>
            <a:ext cx="1800" cy="390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7684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867200"/>
            <a:ext cx="198108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raducto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5562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334120"/>
            <a:ext cx="1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ada una de estas traducciones es llamada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fas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no se debe confundir con una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asada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, i.e. una escritura al disc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debiera ser divido en fases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e manera que cada fase pueda ser descrita por un modelo formal  de computación, y realizar la fase eficientemen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1789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Traducción (cont.)</a:t>
            </a: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‏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846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P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¿ Cómo se divide usualmente un compilado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En 2 fases principales, con varias posibilidades de subdivisió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nálisis (determina correctitud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íntesis (produce código objet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Otros criterio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1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intaxis (forma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Fase 2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Semántica (significad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360" y="196920"/>
            <a:ext cx="84596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División tipica de un compilador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460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ing (Análisis lexic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Objetivo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Agrupar secuencia de caracteres que ocurren en la fuente, en unidades lógicas atómicas llamadas </a:t>
            </a:r>
            <a:r>
              <a:rPr b="0" lang="en-GB" sz="2400" spc="-1" strike="noStrike">
                <a:solidFill>
                  <a:srgbClr val="fdad23"/>
                </a:solidFill>
                <a:latin typeface="Verdana"/>
              </a:rPr>
              <a:t>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Ejemplos de token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Identificadores, palabras reservadas, enteros, hileras, signos de puntuación, “espacios en blanco”, caracteres de fin de línea, comentarios, etc., 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876920"/>
            <a:ext cx="3529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canner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(Analizador Léxico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952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410080"/>
            <a:ext cx="144756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5791320"/>
            <a:ext cx="1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579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enica de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fdad23"/>
                </a:solidFill>
                <a:latin typeface="Century Gothic"/>
              </a:rPr>
              <a:t>Análisis Léxico</a:t>
            </a:r>
            <a:endParaRPr b="1" lang="en-US" sz="3400" spc="-1" strike="noStrike">
              <a:solidFill>
                <a:srgbClr val="fdad23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debe tratar</a:t>
            </a:r>
            <a:r>
              <a:rPr b="1" lang="en-GB" sz="2400" spc="-1" strike="noStrike">
                <a:solidFill>
                  <a:srgbClr val="e6ff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n carateres fin de línea y fin de documento (end-of-file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hace una clasificación preliminar de tokens. Por ejemplo,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ogram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y ‘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Ex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’ son clasificados como identificado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 tiene que dar reglas no-ambiguas para la formación de toke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dad23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3T22:11:55Z</dcterms:modified>
  <cp:revision>12</cp:revision>
  <dc:subject/>
  <dc:title>Paradigmas y Perspectivas Futuras en Computación</dc:title>
</cp:coreProperties>
</file>