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1DC8-0042-4820-B07E-4736255EE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CBA7-685B-423B-9380-E1C75F660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31E6-805B-4AED-BE82-5050CA093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EB3B-6E8E-41F7-A0DA-10A0DDF16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5447-D7E4-42D4-8D92-A81F2D59E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06AC-0489-45FF-9938-F1C1FBAA3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8CB7-A66D-49FF-956D-9829886E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D954-F4B7-408D-956E-BB4EEE91B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7C11-6EE4-451F-B9B9-3A262D372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F245-EB3B-4229-AC1A-CF643724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E9F4-3B26-47AB-ACBA-CBF34EA7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AC2B-82E4-456B-A5E6-85624C3C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045E-B183-42E5-9059-B7A1E7DA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E37C-5D73-4154-BB44-E83D5F7C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67D8-ADD7-4809-B4C0-8EA84432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686B-660A-4690-AFE5-C5926ED2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0072-F3FF-468E-BA3A-1E85AEF2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66ED-A06B-4A45-B0B0-1A061355C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yecto 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egar los siguientes operadores a Tiny, con la precedencia y asociatividad indi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33520" y="2438280"/>
          <a:ext cx="7772400" cy="3656160"/>
        </p:xfrm>
        <a:graphic>
          <a:graphicData uri="http://schemas.openxmlformats.org/drawingml/2006/table">
            <a:tbl>
              <a:tblPr/>
              <a:tblGrid>
                <a:gridCol w="3429000"/>
                <a:gridCol w="1218960"/>
                <a:gridCol w="914400"/>
                <a:gridCol w="2210040"/>
              </a:tblGrid>
              <a:tr h="4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ociativ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a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ech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, +, no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ech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*, /, and, m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a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quier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+, -, o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a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quier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=, =, &lt;&gt;, &gt;=, &lt;, 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a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gu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000000"/>
                </a:solidFill>
                <a:latin typeface="Arial"/>
              </a:rPr>
              <a:t>Proyecto 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Agregar las siguientes constantes a Tin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Courier New"/>
              </a:rPr>
              <a:t>true, 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Agregar la siguiente función intrínseca a Tin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Courier New"/>
              </a:rPr>
              <a:t>e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Hacer que la cláusula</a:t>
            </a:r>
            <a:r>
              <a:rPr b="1" lang="es-CR" sz="2800" spc="-1" strike="noStrike">
                <a:solidFill>
                  <a:srgbClr val="000000"/>
                </a:solidFill>
                <a:latin typeface="Courier New"/>
              </a:rPr>
              <a:t> else</a:t>
            </a:r>
            <a:r>
              <a:rPr b="0" lang="es-CR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sea op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Permitir expresiones múltiples en la instrucción </a:t>
            </a:r>
            <a:r>
              <a:rPr b="1" lang="es-CR" sz="2800" spc="-1" strike="noStrike">
                <a:solidFill>
                  <a:srgbClr val="000000"/>
                </a:solidFill>
                <a:latin typeface="Courier New"/>
              </a:rPr>
              <a:t>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Proyecto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8088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gar la instrucci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ón de intercambio:</a:t>
            </a:r>
            <a:r>
              <a:rPr b="1" lang="es-C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CR" sz="2400" spc="-1" strike="noStrike">
                <a:solidFill>
                  <a:srgbClr val="000000"/>
                </a:solidFill>
                <a:latin typeface="Courier New"/>
              </a:rPr>
              <a:t>x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s-CR" sz="2400" spc="-1" strike="noStrike">
                <a:solidFill>
                  <a:srgbClr val="000000"/>
                </a:solidFill>
                <a:latin typeface="Courier New"/>
              </a:rPr>
              <a:t>: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gregar la instrucción “repeat” a Tin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Constrainer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E debe ser booleano; processar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, …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Generador de Código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Hacer cascada con CurrLabel,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, …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4"/>
          <p:cNvGrpSpPr/>
          <p:nvPr/>
        </p:nvGrpSpPr>
        <p:grpSpPr>
          <a:xfrm>
            <a:off x="685800" y="2438280"/>
            <a:ext cx="3655800" cy="1979280"/>
            <a:chOff x="685800" y="2438280"/>
            <a:chExt cx="3655800" cy="1979280"/>
          </a:xfrm>
        </p:grpSpPr>
        <p:sp>
          <p:nvSpPr>
            <p:cNvPr id="55" name="Oval 5"/>
            <p:cNvSpPr/>
            <p:nvPr/>
          </p:nvSpPr>
          <p:spPr>
            <a:xfrm>
              <a:off x="1218960" y="2438280"/>
              <a:ext cx="1370880" cy="609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repe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AutoShape 6"/>
            <p:cNvSpPr/>
            <p:nvPr/>
          </p:nvSpPr>
          <p:spPr>
            <a:xfrm>
              <a:off x="685800" y="3580200"/>
              <a:ext cx="837720" cy="8373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S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AutoShape 7"/>
            <p:cNvSpPr/>
            <p:nvPr/>
          </p:nvSpPr>
          <p:spPr>
            <a:xfrm>
              <a:off x="3503880" y="3580200"/>
              <a:ext cx="837720" cy="8373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AutoShape 8"/>
            <p:cNvSpPr/>
            <p:nvPr/>
          </p:nvSpPr>
          <p:spPr>
            <a:xfrm>
              <a:off x="2133000" y="3580200"/>
              <a:ext cx="837720" cy="8373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S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9"/>
            <p:cNvSpPr/>
            <p:nvPr/>
          </p:nvSpPr>
          <p:spPr>
            <a:xfrm flipH="1">
              <a:off x="1141200" y="2971080"/>
              <a:ext cx="383760" cy="60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10"/>
            <p:cNvSpPr/>
            <p:nvPr/>
          </p:nvSpPr>
          <p:spPr>
            <a:xfrm>
              <a:off x="2133000" y="3047400"/>
              <a:ext cx="380520" cy="53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Text Box 11"/>
            <p:cNvSpPr/>
            <p:nvPr/>
          </p:nvSpPr>
          <p:spPr>
            <a:xfrm>
              <a:off x="1523520" y="39610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. 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2"/>
            <p:cNvSpPr/>
            <p:nvPr/>
          </p:nvSpPr>
          <p:spPr>
            <a:xfrm>
              <a:off x="2589840" y="2819160"/>
              <a:ext cx="1294560" cy="76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Rectangle 13"/>
          <p:cNvSpPr/>
          <p:nvPr/>
        </p:nvSpPr>
        <p:spPr>
          <a:xfrm>
            <a:off x="5181480" y="2209680"/>
            <a:ext cx="25146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2(CL?)  S1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ND L1 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6172200" y="2362320"/>
            <a:ext cx="144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6172200" y="4038480"/>
            <a:ext cx="1523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6"/>
          <p:cNvSpPr/>
          <p:nvPr/>
        </p:nvSpPr>
        <p:spPr>
          <a:xfrm flipV="1">
            <a:off x="7696080" y="2360520"/>
            <a:ext cx="1800" cy="167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7"/>
          <p:cNvSpPr/>
          <p:nvPr/>
        </p:nvSpPr>
        <p:spPr>
          <a:xfrm>
            <a:off x="6172200" y="2362320"/>
            <a:ext cx="152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Proyecto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80880" y="1219320"/>
            <a:ext cx="8305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gregar la instrucción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Arial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a Tiny. Seguir la sintaxis y semántica del lenguaje 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Arial"/>
              </a:rPr>
              <a:t>for (I;   E;    In)  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Constrainer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E debe ser booleano; processar I, In, 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ota: I, E, In so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pci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5486400" y="2743200"/>
            <a:ext cx="281952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L   I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3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ND L1 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1  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OTO L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4"/>
          <p:cNvSpPr/>
          <p:nvPr/>
        </p:nvSpPr>
        <p:spPr>
          <a:xfrm>
            <a:off x="5943600" y="2895480"/>
            <a:ext cx="144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5"/>
          <p:cNvSpPr/>
          <p:nvPr/>
        </p:nvSpPr>
        <p:spPr>
          <a:xfrm>
            <a:off x="5943600" y="4572000"/>
            <a:ext cx="152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6"/>
          <p:cNvSpPr/>
          <p:nvPr/>
        </p:nvSpPr>
        <p:spPr>
          <a:xfrm flipV="1">
            <a:off x="7467480" y="2895480"/>
            <a:ext cx="1800" cy="167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7"/>
          <p:cNvSpPr/>
          <p:nvPr/>
        </p:nvSpPr>
        <p:spPr>
          <a:xfrm>
            <a:off x="5943600" y="2895480"/>
            <a:ext cx="1523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oup 21"/>
          <p:cNvGrpSpPr/>
          <p:nvPr/>
        </p:nvGrpSpPr>
        <p:grpSpPr>
          <a:xfrm>
            <a:off x="1066680" y="2895480"/>
            <a:ext cx="3962520" cy="1905120"/>
            <a:chOff x="1066680" y="2895480"/>
            <a:chExt cx="3962520" cy="1905120"/>
          </a:xfrm>
        </p:grpSpPr>
        <p:sp>
          <p:nvSpPr>
            <p:cNvPr id="76" name="Oval 5"/>
            <p:cNvSpPr/>
            <p:nvPr/>
          </p:nvSpPr>
          <p:spPr>
            <a:xfrm>
              <a:off x="2438280" y="2895480"/>
              <a:ext cx="137160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f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AutoShape 6"/>
            <p:cNvSpPr/>
            <p:nvPr/>
          </p:nvSpPr>
          <p:spPr>
            <a:xfrm>
              <a:off x="1066680" y="3962520"/>
              <a:ext cx="838440" cy="8380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AutoShape 7"/>
            <p:cNvSpPr/>
            <p:nvPr/>
          </p:nvSpPr>
          <p:spPr>
            <a:xfrm>
              <a:off x="4191120" y="3962520"/>
              <a:ext cx="838080" cy="8380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AutoShape 8"/>
            <p:cNvSpPr/>
            <p:nvPr/>
          </p:nvSpPr>
          <p:spPr>
            <a:xfrm>
              <a:off x="2057400" y="3962520"/>
              <a:ext cx="838080" cy="8380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9"/>
            <p:cNvSpPr/>
            <p:nvPr/>
          </p:nvSpPr>
          <p:spPr>
            <a:xfrm flipH="1">
              <a:off x="1523880" y="3352680"/>
              <a:ext cx="9907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10"/>
            <p:cNvSpPr/>
            <p:nvPr/>
          </p:nvSpPr>
          <p:spPr>
            <a:xfrm flipH="1">
              <a:off x="2438280" y="35053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12"/>
            <p:cNvSpPr/>
            <p:nvPr/>
          </p:nvSpPr>
          <p:spPr>
            <a:xfrm>
              <a:off x="3733920" y="3352680"/>
              <a:ext cx="8380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AutoShape 19"/>
            <p:cNvSpPr/>
            <p:nvPr/>
          </p:nvSpPr>
          <p:spPr>
            <a:xfrm>
              <a:off x="3124080" y="3962520"/>
              <a:ext cx="838440" cy="8380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3200400" y="3505320"/>
              <a:ext cx="380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3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yecto 3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rucci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ón</a:t>
            </a:r>
            <a:r>
              <a:rPr b="0" lang="es-C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loop-poo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x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1295280" y="1600200"/>
            <a:ext cx="28195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n=rea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if (n=0)then ex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else output(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p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685800" y="3313080"/>
            <a:ext cx="7772400" cy="36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Constrain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 nodo ’program’: DTEnter(LOOP_CTXT,T,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 nodo ‘loop’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- Open_Sco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- DTEnter(LOOP_CTXT,T,T);   // LOOP_CTXT es ‘&lt;loop_ctxt&gt;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- Procesar hij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- Close_sco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- if (Decoration(T)=0) print (‘Warning: no ‘exit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 nodo ‘exit’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- Temp = Lookup(LOOP_CTX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- if NodeName(Temp) &lt;&gt; LoopNode then Err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- Decorate(T,Temp); Decorate(Temp,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2"/>
          <p:cNvSpPr/>
          <p:nvPr/>
        </p:nvSpPr>
        <p:spPr>
          <a:xfrm flipV="1">
            <a:off x="8077320" y="1674360"/>
            <a:ext cx="1440" cy="1374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3"/>
          <p:cNvSpPr/>
          <p:nvPr/>
        </p:nvSpPr>
        <p:spPr>
          <a:xfrm flipV="1">
            <a:off x="8077320" y="1674360"/>
            <a:ext cx="1440" cy="1374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20"/>
          <p:cNvGrpSpPr/>
          <p:nvPr/>
        </p:nvGrpSpPr>
        <p:grpSpPr>
          <a:xfrm>
            <a:off x="4648320" y="1523880"/>
            <a:ext cx="3429000" cy="1827000"/>
            <a:chOff x="4648320" y="1523880"/>
            <a:chExt cx="3429000" cy="1827000"/>
          </a:xfrm>
        </p:grpSpPr>
        <p:grpSp>
          <p:nvGrpSpPr>
            <p:cNvPr id="91" name="Group 3"/>
            <p:cNvGrpSpPr/>
            <p:nvPr/>
          </p:nvGrpSpPr>
          <p:grpSpPr>
            <a:xfrm>
              <a:off x="4648320" y="1523880"/>
              <a:ext cx="1598040" cy="1827000"/>
              <a:chOff x="4648320" y="1523880"/>
              <a:chExt cx="1598040" cy="1827000"/>
            </a:xfrm>
          </p:grpSpPr>
          <p:sp>
            <p:nvSpPr>
              <p:cNvPr id="92" name="Oval 4"/>
              <p:cNvSpPr/>
              <p:nvPr/>
            </p:nvSpPr>
            <p:spPr>
              <a:xfrm>
                <a:off x="4800240" y="1523880"/>
                <a:ext cx="1293480" cy="5328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loo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AutoShape 5"/>
              <p:cNvSpPr/>
              <p:nvPr/>
            </p:nvSpPr>
            <p:spPr>
              <a:xfrm>
                <a:off x="4648320" y="2513520"/>
                <a:ext cx="608760" cy="83736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S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AutoShape 6"/>
              <p:cNvSpPr/>
              <p:nvPr/>
            </p:nvSpPr>
            <p:spPr>
              <a:xfrm>
                <a:off x="5637240" y="2513520"/>
                <a:ext cx="609120" cy="83736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S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Line 7"/>
              <p:cNvSpPr/>
              <p:nvPr/>
            </p:nvSpPr>
            <p:spPr>
              <a:xfrm flipH="1">
                <a:off x="4951080" y="2056680"/>
                <a:ext cx="30744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Line 8"/>
              <p:cNvSpPr/>
              <p:nvPr/>
            </p:nvSpPr>
            <p:spPr>
              <a:xfrm>
                <a:off x="5713560" y="2056680"/>
                <a:ext cx="22824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Text Box 10"/>
            <p:cNvSpPr/>
            <p:nvPr/>
          </p:nvSpPr>
          <p:spPr>
            <a:xfrm>
              <a:off x="5105520" y="2971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Oval 14"/>
            <p:cNvSpPr/>
            <p:nvPr/>
          </p:nvSpPr>
          <p:spPr>
            <a:xfrm>
              <a:off x="6934320" y="1752480"/>
              <a:ext cx="1143000" cy="533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15"/>
            <p:cNvSpPr/>
            <p:nvPr/>
          </p:nvSpPr>
          <p:spPr>
            <a:xfrm>
              <a:off x="6858000" y="1828800"/>
              <a:ext cx="121932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Oval 16"/>
            <p:cNvSpPr/>
            <p:nvPr/>
          </p:nvSpPr>
          <p:spPr>
            <a:xfrm>
              <a:off x="6705720" y="1904760"/>
              <a:ext cx="121896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Oval 17"/>
            <p:cNvSpPr/>
            <p:nvPr/>
          </p:nvSpPr>
          <p:spPr>
            <a:xfrm>
              <a:off x="6516720" y="2785320"/>
              <a:ext cx="1295280" cy="520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ex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2" name="AutoShape 18"/>
            <p:cNvCxnSpPr>
              <a:stCxn id="101" idx="1"/>
              <a:endCxn id="92" idx="6"/>
            </p:cNvCxnSpPr>
            <p:nvPr/>
          </p:nvCxnSpPr>
          <p:spPr>
            <a:xfrm flipV="1" rot="16200000">
              <a:off x="5859720" y="2025360"/>
              <a:ext cx="1081800" cy="6105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" name="AutoShape 19"/>
            <p:cNvCxnSpPr>
              <a:endCxn id="101" idx="7"/>
            </p:cNvCxnSpPr>
            <p:nvPr/>
          </p:nvCxnSpPr>
          <p:spPr>
            <a:xfrm>
              <a:off x="6019560" y="1675800"/>
              <a:ext cx="1603800" cy="11962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3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yecto 3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rucci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ón</a:t>
            </a:r>
            <a:r>
              <a:rPr b="0" lang="es-C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loop-poo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x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09480" y="1600200"/>
            <a:ext cx="2819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n=rea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if (n=0)then ex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else output(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p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685800" y="3429000"/>
            <a:ext cx="73152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Generador de Códi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 nodo ’loop’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- Decorate (T, L1=Makelabe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- Generar código (ver diagram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 nodo ‘exit’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- L1=Decoration(Decoration(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- CodeGen1(GOTOOP, L1, Currlabel)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4"/>
          <p:cNvSpPr/>
          <p:nvPr/>
        </p:nvSpPr>
        <p:spPr>
          <a:xfrm>
            <a:off x="6934320" y="2895480"/>
            <a:ext cx="11430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6"/>
          <p:cNvSpPr/>
          <p:nvPr/>
        </p:nvSpPr>
        <p:spPr>
          <a:xfrm flipV="1">
            <a:off x="8077320" y="1674360"/>
            <a:ext cx="1440" cy="1374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8"/>
          <p:cNvSpPr/>
          <p:nvPr/>
        </p:nvSpPr>
        <p:spPr>
          <a:xfrm flipV="1">
            <a:off x="8077320" y="1445760"/>
            <a:ext cx="1440" cy="1374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26"/>
          <p:cNvGrpSpPr/>
          <p:nvPr/>
        </p:nvGrpSpPr>
        <p:grpSpPr>
          <a:xfrm>
            <a:off x="6095880" y="1905120"/>
            <a:ext cx="2209680" cy="2286000"/>
            <a:chOff x="6095880" y="1905120"/>
            <a:chExt cx="2209680" cy="2286000"/>
          </a:xfrm>
        </p:grpSpPr>
        <p:sp>
          <p:nvSpPr>
            <p:cNvPr id="111" name="Rectangle 9"/>
            <p:cNvSpPr/>
            <p:nvPr/>
          </p:nvSpPr>
          <p:spPr>
            <a:xfrm>
              <a:off x="6095880" y="1905120"/>
              <a:ext cx="2209680" cy="22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2(CL?)  S1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OTO L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13"/>
            <p:cNvSpPr/>
            <p:nvPr/>
          </p:nvSpPr>
          <p:spPr>
            <a:xfrm>
              <a:off x="7086600" y="2210040"/>
              <a:ext cx="144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15"/>
            <p:cNvSpPr/>
            <p:nvPr/>
          </p:nvSpPr>
          <p:spPr>
            <a:xfrm>
              <a:off x="7086600" y="3581640"/>
              <a:ext cx="1143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17"/>
            <p:cNvSpPr/>
            <p:nvPr/>
          </p:nvSpPr>
          <p:spPr>
            <a:xfrm>
              <a:off x="7086600" y="2210040"/>
              <a:ext cx="1143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 flipV="1">
              <a:off x="8229600" y="2207880"/>
              <a:ext cx="1440" cy="137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Text Box 21"/>
          <p:cNvSpPr/>
          <p:nvPr/>
        </p:nvSpPr>
        <p:spPr>
          <a:xfrm>
            <a:off x="6858000" y="4495680"/>
            <a:ext cx="1366920" cy="34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T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Group 25"/>
          <p:cNvGrpSpPr/>
          <p:nvPr/>
        </p:nvGrpSpPr>
        <p:grpSpPr>
          <a:xfrm>
            <a:off x="2895480" y="1523880"/>
            <a:ext cx="3600360" cy="3362040"/>
            <a:chOff x="2895480" y="1523880"/>
            <a:chExt cx="3600360" cy="3362040"/>
          </a:xfrm>
        </p:grpSpPr>
        <p:grpSp>
          <p:nvGrpSpPr>
            <p:cNvPr id="118" name="Group 3"/>
            <p:cNvGrpSpPr/>
            <p:nvPr/>
          </p:nvGrpSpPr>
          <p:grpSpPr>
            <a:xfrm>
              <a:off x="3862080" y="1523880"/>
              <a:ext cx="1598400" cy="1826640"/>
              <a:chOff x="3862080" y="1523880"/>
              <a:chExt cx="1598400" cy="1826640"/>
            </a:xfrm>
          </p:grpSpPr>
          <p:sp>
            <p:nvSpPr>
              <p:cNvPr id="119" name="Oval 4"/>
              <p:cNvSpPr/>
              <p:nvPr/>
            </p:nvSpPr>
            <p:spPr>
              <a:xfrm>
                <a:off x="4014360" y="1523880"/>
                <a:ext cx="1293840" cy="532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loo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AutoShape 5"/>
              <p:cNvSpPr/>
              <p:nvPr/>
            </p:nvSpPr>
            <p:spPr>
              <a:xfrm>
                <a:off x="3862080" y="2513160"/>
                <a:ext cx="609120" cy="83736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r>
                  <a:rPr b="1" lang="en-GB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AutoShape 6"/>
              <p:cNvSpPr/>
              <p:nvPr/>
            </p:nvSpPr>
            <p:spPr>
              <a:xfrm>
                <a:off x="4851720" y="2513160"/>
                <a:ext cx="608760" cy="83736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r>
                  <a:rPr b="0" lang="en-GB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7"/>
              <p:cNvSpPr/>
              <p:nvPr/>
            </p:nvSpPr>
            <p:spPr>
              <a:xfrm flipH="1">
                <a:off x="4165200" y="2056320"/>
                <a:ext cx="307440" cy="4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8"/>
              <p:cNvSpPr/>
              <p:nvPr/>
            </p:nvSpPr>
            <p:spPr>
              <a:xfrm>
                <a:off x="4928040" y="2056320"/>
                <a:ext cx="228240" cy="4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Text Box 11"/>
            <p:cNvSpPr/>
            <p:nvPr/>
          </p:nvSpPr>
          <p:spPr>
            <a:xfrm>
              <a:off x="4336920" y="27968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20"/>
            <p:cNvSpPr/>
            <p:nvPr/>
          </p:nvSpPr>
          <p:spPr>
            <a:xfrm>
              <a:off x="5271840" y="4381200"/>
              <a:ext cx="1224000" cy="50472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  <a:ea typeface="Arial"/>
                </a:rPr>
                <a:t>ex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22"/>
            <p:cNvSpPr/>
            <p:nvPr/>
          </p:nvSpPr>
          <p:spPr>
            <a:xfrm flipH="1">
              <a:off x="3255840" y="178884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23"/>
            <p:cNvSpPr/>
            <p:nvPr/>
          </p:nvSpPr>
          <p:spPr>
            <a:xfrm>
              <a:off x="2895480" y="1645920"/>
              <a:ext cx="5763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AutoShape 24"/>
            <p:cNvCxnSpPr>
              <a:stCxn id="125" idx="7"/>
              <a:endCxn id="119" idx="6"/>
            </p:cNvCxnSpPr>
            <p:nvPr/>
          </p:nvCxnSpPr>
          <p:spPr>
            <a:xfrm flipV="1" rot="16200000">
              <a:off x="4480200" y="2619000"/>
              <a:ext cx="2665800" cy="10072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nuel E. Bermudez</cp:lastModifiedBy>
  <dcterms:modified xsi:type="dcterms:W3CDTF">2009-05-25T08:13:03Z</dcterms:modified>
  <cp:revision>10</cp:revision>
  <dc:subject/>
  <dc:title>PowerPoint Presentation</dc:title>
</cp:coreProperties>
</file>