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A53-AAF3-4E22-B902-75CEABFB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2B5-D297-41A5-AAF6-0039F5B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6D8-5E49-4436-B68F-7DCC40F7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0E4-87DD-49E9-B3C3-E6F4BCB4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B46-D591-459E-AE9F-EDC6AB0E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9BB-FC92-4268-B23C-FB53D42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5A7-1862-4CAB-A5EE-2C20D156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7FD-7362-44A0-A19A-8F7001A3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F93-C8D3-449E-9034-D71CEA12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D30-B16E-48A1-8DD4-48CA171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A35-AF33-40E8-9D9D-751FD21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FC2-B0F6-4D5F-BDE3-251E4D2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4349B-AF36-4A42-8C95-A5B971238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808200" y="1736640"/>
            <a:ext cx="7364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539640" y="1413000"/>
            <a:ext cx="828036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rainer.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or contex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eGenerator.c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lex.tiny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ación léx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parser/parse.tiny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pecifición sint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ests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s de pru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tc: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mpilador de 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manual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 Compilador de 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ws"/>
          <p:cNvPicPr/>
          <p:nvPr/>
        </p:nvPicPr>
        <p:blipFill>
          <a:blip r:embed="rId1"/>
          <a:stretch/>
        </p:blipFill>
        <p:spPr>
          <a:xfrm>
            <a:off x="1476360" y="911160"/>
            <a:ext cx="676764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uel</dc:creator>
  <dc:description/>
  <dc:language>en-US</dc:language>
  <cp:lastModifiedBy>Manuel E. Bermudez</cp:lastModifiedBy>
  <dcterms:modified xsi:type="dcterms:W3CDTF">2011-04-08T15:49:39Z</dcterms:modified>
  <cp:revision>16</cp:revision>
  <dc:subject/>
  <dc:title>Slide 1</dc:title>
</cp:coreProperties>
</file>