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84F5-D0EE-4BEA-869B-6CABD58A4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C174-749F-43D5-B6B6-03D02856B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449B-5FF4-4D70-84B3-F74996163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7B19-AF89-441E-9D78-473C528D4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825E-E751-4379-8387-474DD69CB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05F6-8C6B-44B3-BB5B-9B6FD1021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D0BC-3519-4212-8C30-54D43128F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3D06-B3D0-4EC8-946E-6203BA917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698F-B0DD-43BA-9707-09B3178FB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DBB7-A4E4-48F2-BDD0-A92BFE0B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CC2C-9CF1-4950-92B6-33663FF3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23E9-851F-449E-8D3D-A087C136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D91BB-EA54-4548-88CD-1F3AB81A04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001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UNIVERSIDAD RICARDO PALMA</a:t>
            </a:r>
            <a:br>
              <a:rPr sz="2800"/>
            </a:br>
            <a:r>
              <a:rPr b="1" lang="es-ES" sz="8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FACULTAD DE INGENIERIA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ESCUELA DE INGENIERIA INFORMATICA</a:t>
            </a:r>
            <a:br>
              <a:rPr sz="2800"/>
            </a:br>
            <a:r>
              <a:rPr b="0" lang="es-ES" sz="8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CURSO DE TITULACIÓN</a:t>
            </a:r>
            <a:br>
              <a:rPr sz="2800"/>
            </a:br>
            <a:r>
              <a:rPr b="0" lang="es-ES" sz="8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COMPILADORES</a:t>
            </a:r>
            <a:br>
              <a:rPr sz="3200"/>
            </a:br>
            <a:r>
              <a:rPr b="1" lang="es-ES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600"/>
            </a:b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Manuel E. Berm</a:t>
            </a:r>
            <a:r>
              <a:rPr b="1" lang="es-CR" sz="2800" spc="-1" strike="noStrike">
                <a:solidFill>
                  <a:srgbClr val="000000"/>
                </a:solidFill>
                <a:latin typeface="Calibri"/>
              </a:rPr>
              <a:t>údez,  Ph.D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University of Florida </a:t>
            </a:r>
            <a:br>
              <a:rPr sz="3600"/>
            </a:b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Fechas:  13-18 de agosto, 2012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upo A: lunes, miércoles, viernes: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19:00-22:00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Grupo B: martes, jueves: 19:00-22:00, sábado 09:00-12:00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762120" y="5791320"/>
            <a:ext cx="685800" cy="7142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6858000" y="5867280"/>
            <a:ext cx="185724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Conteni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3352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écnicas más recientes de compilació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álisis léxico y análisis sintáctic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álisis de semántica estátic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ción de códig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alidad de Trabaj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udiantes trabajarán con un traductor muy sencillo dado por el expositor, bajo Linux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eremos el compilador y el  lenguaje, en forma progresiv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tividades Específic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mbios meramente sintácticos, como por ejemplo traducir las palabras clave del lenguaje del inglés al españo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dores, incluyendo operadores artitméticos y lógico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cciones imperativas, incluyendo instrucciones de iteración y de selecció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evos tipos de datos, como por ejemplo el tipo de dato ‘caracter’, o el tipo de dato enumerad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ones y procedimientos recursivo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Manuel</cp:lastModifiedBy>
  <dcterms:modified xsi:type="dcterms:W3CDTF">2012-08-06T17:09:00Z</dcterms:modified>
  <cp:revision>3</cp:revision>
  <dc:subject/>
  <dc:title>       UNIVERSIDAD RICARDO PALMA   FACULTAD DE INGENIERIA ESCUELA DE INGENIERIA INFORMATICA   CURSO DE TITULACIÓN   COMPILADORES    Manuel E. Bermúdez,  Ph.D  University of Florida   Fechas:  18-22 de julio, 2011. Horario: 19:00-22:00 horas         </dc:title>
</cp:coreProperties>
</file>