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569-A517-4F6C-8B37-DCE0B92A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6BB-B177-4874-9878-BCCA1CF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D4F-7132-4780-854B-F617424D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3A0-CBA0-4C41-AA1F-9B94D93B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8905-5F37-485B-92D7-EFB28E5F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F2C6-4BB7-40D9-B36E-758814ED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CA63-D3DF-4B36-9D33-5B3B91B5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D0C2-635C-47BD-A438-35A4C979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D9ED-8DA5-4290-97E3-59A39626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C4D8-1459-4D12-BAFD-671F642D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8FE4-436A-4271-9A1E-5C83808E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154-3E5B-4DEB-9D6B-66D0BB1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A137-6575-47F6-ACB7-7E5E54D6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8248-8556-472B-8AA1-E8D2280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93D2-87D4-4BC5-9518-C13AACFA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0804-8E1A-41E5-BBB8-F6D0283B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C76D-8D7E-4EF0-9DBD-59CB4F1F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CFE-1879-4CB1-9A44-D42D42CC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A81-D338-40A5-9598-AB150ED1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458-C1B0-4C1D-A306-7E2135B5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B37-1FB6-46DC-BCCE-B5F451C3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F84-766F-4F5C-BE5E-0ABF063B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F84-4303-43BA-9920-60DCCA1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704-9E5E-4072-8558-B82276A9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b6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E132-3184-4D8F-AC67-DCBF711F36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2120"/>
            <a:chOff x="0" y="533520"/>
            <a:chExt cx="9177480" cy="65221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0" y="6624720"/>
              <a:ext cx="9132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eb6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E4F3-1A64-45D8-870A-6D637192C6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se.ufl.edu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Modernizaci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n de la Ens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anza de la Tra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00200" y="2971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nuel E. Bermúde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niversity of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Gainesville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nuel@cise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cise.ufl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o Sabático en ULA, Mérida,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or qu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 reformar el curso de compiladore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curso agoniza, pero no mu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Tiene contenido importante que TRANSCIENDE el tema de compilado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econocimento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o (lenguajes regulares, libres de contexto, lex, yacc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raduc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lenguajes artifici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Un proyecto de software de tama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 signifi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8A5-E675-4C23-AEA3-BD740D6B85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or que reformar el curso de compiladore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curso necesita la transi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filos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fica de “artefacto” (compilador) a “mecanismo” (traducto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HAY QUE HACER ALGO CON EL CURSO, y abolirlo no es una op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4FC-C9E2-40FB-B884-E28E0F836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Nuevo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Se llamar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 TRADUC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LENGUAJ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rientado hacia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o el material te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ico relev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O se implementa un compilador desde c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Se EXTIENDE un compilador dado, para un lenguaje imperativo m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imo: variables enteras, ‘+’, ‘-’ unario, ‘&lt;=‘, asign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, secuencia, ‘if’, ‘while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C8F-4AE3-4134-A52D-875B6E0F45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ica de “Tiny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ny       -&gt; 'program' Name ':' Dclns Block '.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Dclns     -&gt; 'var' (Dcln ';')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&gt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cln       -&gt; Name list ',' ':' T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      -&gt; 'integer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&gt; 'boolean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ock    -&gt; '{' Statement list ';' '}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tement  -&gt; Name '=' Expr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output' '(' Expression ')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if' '(' Expression ')' Stat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'else' Stat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while' '(' Expression ')' Stat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B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ion -&gt; Ter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Term '&lt;='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m           -&gt; Term '+' Prima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       -&gt; '-' Prim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read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&lt;integer&gt;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&gt; '(' Expression ')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        -&gt; '&lt;identifier&gt;'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A53-537B-4946-85E9-6C97BC944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Nuevo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O VIEJO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O N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Intro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.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 Intro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Descrip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l lenguaje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 Descrip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l tradu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l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xico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oper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tic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instruc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de s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tipos de da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subruti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Optimiz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estructuras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s (vecto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 Estructuras de ejecu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,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 Tra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estru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 final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di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micas (punteros)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230-6928-4B61-B478-82B68C9B60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 Tradi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914400"/>
          <a:ext cx="8763120" cy="4170240"/>
        </p:xfrm>
        <a:graphic>
          <a:graphicData uri="http://schemas.openxmlformats.org/drawingml/2006/table">
            <a:tbl>
              <a:tblPr/>
              <a:tblGrid>
                <a:gridCol w="1935000"/>
                <a:gridCol w="1708200"/>
                <a:gridCol w="1704960"/>
                <a:gridCol w="1814760"/>
                <a:gridCol w="1600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sin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ica e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c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de c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c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da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ruti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e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di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36640" y="529740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1560" y="522144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52578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TRADICIONAL: POR COLUMNA , en el orden dictado por el compilador (??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19051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B4A-A3DE-4076-8529-4FEF0E7F88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 Nue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914400"/>
          <a:ext cx="8763120" cy="4170240"/>
        </p:xfrm>
        <a:graphic>
          <a:graphicData uri="http://schemas.openxmlformats.org/drawingml/2006/table">
            <a:tbl>
              <a:tblPr/>
              <a:tblGrid>
                <a:gridCol w="1935000"/>
                <a:gridCol w="1708200"/>
                <a:gridCol w="1704960"/>
                <a:gridCol w="1814760"/>
                <a:gridCol w="1600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is sin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ntica 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c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de c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c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da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ruti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es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ructuras di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736640" y="529740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41560" y="522144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52578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NUEVO: POR FILA, en espiral, en orden ascendente de complej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190512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236232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9548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342900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4038480"/>
            <a:ext cx="5334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472428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CA9-4FEB-458C-B58B-C8F98238C2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o Nue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fil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cos fundament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n de eventos peda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co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Orden de eventos en el compil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r los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ópicos fundamentales en el tema de traducción, que TRANSCIENDEN el te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álisis sintáctico (regular y libre de contex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eriencia con un programa GRANDE: abstracción, manten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 objetivo NO es enseñar diseño de compiladores de produ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484-5D7F-467A-8E73-B5B5F0F896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Dise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 Nue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 gener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digo f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 optimiz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di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 el problema de asign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de regis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liminan valores de punto flot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utiliza una m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quina virtual (JVM 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AE3-96CF-4B83-9CF0-04B181762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o viejo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Dise</a:t>
            </a:r>
            <a:r>
              <a:rPr b="0" lang="es-CR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ño n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Fases del compilador.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Modelos mat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os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(simplificados, luego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. Herramientas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l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xico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tic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 S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(s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o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 intermed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 Optimiz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s-CR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9. Implementar un compilador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(extend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dol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10. Compilador de produc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.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es-CR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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EED-82F8-4506-97D7-EF2552D1D6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La declina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n del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urso tradicional de compi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or qu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reformar el curs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nuevo dise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o del curs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eorganiz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l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ontraste con el d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ño antigu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Aplic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F31-E460-46F0-9DDF-3A2143682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El Sistema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scrito en C, traducido de Pascal  </a:t>
            </a:r>
            <a:r>
              <a:rPr b="0" lang="es-C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orre bajo UNIX y Linu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tiliza lex y yacc (con un pre-procesado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estudiante trabaja con 4 arch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Especific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l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xica (1 p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gina)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Especific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a (1 p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gina)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Analizador de sem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ica (400 l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ne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Generador de c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digo (400 l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neas)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E44-5264-4913-95C2-D9D05457F1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 Sistema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6069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E75-8557-4862-81C6-48EECD5D40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Investigac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 Prev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Resultados de investig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1982-199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Vers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sencilla y did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a de an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o LL(1) y descenso recurs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Vers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sencilla y did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a de an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tico LR(0), SLR(1), y LALR(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Publicaciones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Un juego de apuntes para el curso de compiladores en UF (ofrecido anualm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os misteriosos algoritmos LR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6BC-F06C-480E-8D44-C291BF362A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Investigac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 Previa</a:t>
            </a: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Resultados de investig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1996-199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Intento de reforma al curso de compilad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Reforma hacia C++ y el paradigma de la orienta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a obje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icencia sab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ica y Fulbright, Universidad de Costa 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Per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odo Fulbright corto (6 meses), programa de Master joven en la UC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Una tesis de M.Sc. en UFL, Youli Kanev, 1997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972-E183-4698-AFAB-6A24415B22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dades Reci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a retomado en 2001: curso de compiladores en peligro de extin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ón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yecto financiado por SUCCEED en verano 2001: nuevas ideas en torno a recomendaciones ACM 200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002-2003: Estudiantes (2 M.Sc., 1 Ph.D.) implementando el sistema 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va, C++, C#.  (Windows,  .N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bright, para ULA,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rida, Venezuela, 2003-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061-99EF-44F1-B756-000D2F579F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es para 2003-200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ir implementaciones en Java, C++, C#.   Apoyo financiero de Microso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o presentado 1/2003: SSGR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ribir propuesta de libro de texto, y c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tulos muest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eñar contenido del libro en deta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gociar con casa editorial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3575-254F-45C2-987A-FA914783A3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lanes para 2003-04 en la U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imer semestre: un seminario de pos-grado: buscar y describir aplicaciones fuera del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área de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compilac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n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gundo semestre: impartir el nuevo curso, para estudiantes de pre-gr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A traves del a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o, escribir el libro de tex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Hora de cerra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0 años de estudio de compiladores. </a:t>
            </a:r>
            <a:r>
              <a:rPr b="0" lang="es-C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D18-9CA7-48A0-9864-B51A9652D6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¿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guntas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3BA-F03A-4DB9-8215-2AD5D42C22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Objetivos del curso tradicional de compilad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Discutir las fases de un compilador, los modelos matem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icos relevantes,y los paquetes disponi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l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xico (lenguajes regulares, l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lisis sin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tico (lenguajes libres de contexto, yac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lisis de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sem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tica est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Gener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Optimizaci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 de 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Implementar (parte de) un compil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003-EA62-4E48-B714-A1D1657B8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l curso tradicional de Compilado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ta hace algunos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ñ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e consideraba “indispensabl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declina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ón hoy día, en muchos progra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 ofrece menos a menu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y menos instruct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y menos estudi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B04-D811-435F-BAB2-12BF643EE2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zones para la declinac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urez d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á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liferación de lenguajes y paradigmas, cursos en estos temas son más frecu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urriculum ACM 2001: Profesora Mary Shaw (CMU): termodinámica vs. diseño de calderas, principios vs. artefactos.  Compiladores y Sistemas Operativos son artefactos dinosau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Muy pocos graduados dise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n o mantienen compil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Cada d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 hay menos profesores en el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rea (fuga a Microsoft </a:t>
            </a:r>
            <a:r>
              <a:rPr b="0" lang="es-C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599-A0F0-41F0-8823-1C93B26A14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curso se considera obsoleto.  El material ya no se considera indispens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material se considera “especializado”, “opcional” en el curricul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objetivo de construir un compilador “de verdad” se considera obsol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793-17C5-4EBF-AA64-25F29650DB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38188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l proyecto no compagina con el material del cu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Trabajo en equipo en el proyecto es frustrante: para implementar una fase, se necesita saber de las dem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 f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urso “novela de misteri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n curso “esot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rico” y “dif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il”.  Poco popu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B38-9371-42A8-BC20-915A6F07DE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El libro de texto: Construc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     Compiladores: Principios, 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cnicas                       y Herramientas, Addison-Wesley,                     1986, segunda (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ú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ltima) edici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,                       Aho, Sethi, Ullm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Todos est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n de acuerdo (incluyendo los tres autores): el libro es demasiado grande, y carece de pedagog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2800" spc="-1" strike="noStrike">
                <a:solidFill>
                  <a:srgbClr val="ffffff"/>
                </a:solidFill>
                <a:latin typeface="Arial"/>
              </a:rPr>
              <a:t>a.  No ha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á tercera edi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781680" y="2133720"/>
            <a:ext cx="199872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D11-0A47-4F95-80A8-6EDC8B9AC5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00"/>
                </a:solidFill>
                <a:latin typeface="Times New Roman"/>
              </a:rPr>
              <a:t>Problemas con el curso tradicional de compilador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Todos los demas libros (S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, TODOS) son la versi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resumida favorita del autor, del material en el Drag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  <a:ea typeface="Arial"/>
              </a:rPr>
              <a:t>ó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n Ro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Los mismos temas, en el mismo or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ofesores (des)enfatizan sus temas favoritos (o los que conoce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la pedago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ESC, La Paz, 30 de setiembre, 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824-1E7D-42D7-99F1-9E31A21EB1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gam</dc:creator>
  <dc:description/>
  <dc:language>en-US</dc:language>
  <cp:lastModifiedBy>Manuel E. Bermudez</cp:lastModifiedBy>
  <dcterms:modified xsi:type="dcterms:W3CDTF">2003-09-30T06:10:30Z</dcterms:modified>
  <cp:revision>54</cp:revision>
  <dc:subject/>
  <dc:title>Training</dc:title>
</cp:coreProperties>
</file>