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3BEC-090A-4E9F-934E-75D226513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3580-A514-4E93-81F6-823032D91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8013-4472-445F-B261-E3908ED41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2263-2A5E-4C0D-9674-AF1463DF2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D70C-2D19-43B4-9E43-807A27C24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458-93F3-41F7-944A-4FDA2007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2EA-DE65-4808-967C-D74B11E1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F5C-CA11-41D6-98A0-E6D0F107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A7E-15A8-410F-B02F-4659BDCA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358-0D9B-4FFC-A070-F37FF2B8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7C4-A614-45ED-80FF-6BBB737D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70F-EC38-4A7B-AF04-F9BC1434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BAA-6B3B-4228-9C51-DA7886F1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DA6-BAD5-4184-9701-50ACBC3A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054-BD2F-4011-A755-54A1CBA6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2C4-D57C-4837-B68C-531D086E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51B-20DB-44DE-A11A-951624B3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6B48-0FF6-4353-AF1E-319424FA1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yecto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gar los siguientes operadores a Tiny, con la precedencia y asociatividad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2438280"/>
          <a:ext cx="7772400" cy="3656160"/>
        </p:xfrm>
        <a:graphic>
          <a:graphicData uri="http://schemas.openxmlformats.org/drawingml/2006/table">
            <a:tbl>
              <a:tblPr/>
              <a:tblGrid>
                <a:gridCol w="3429000"/>
                <a:gridCol w="1218960"/>
                <a:gridCol w="914400"/>
                <a:gridCol w="2210040"/>
              </a:tblGrid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, +, 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, /, and, m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quie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, -, o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quie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, =, &lt;&gt;, &gt;=, &lt;, 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Proyecto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Agregar las siguientes constantes a Tin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Courier New"/>
              </a:rPr>
              <a:t>true,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Agregar la siguiente función intrínseca a Tin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Hacer que la cláusula</a:t>
            </a:r>
            <a:r>
              <a:rPr b="1" lang="es-CR" sz="2800" spc="-1" strike="noStrike">
                <a:solidFill>
                  <a:srgbClr val="000000"/>
                </a:solidFill>
                <a:latin typeface="Courier New"/>
              </a:rPr>
              <a:t> else</a:t>
            </a:r>
            <a:r>
              <a:rPr b="0" lang="es-C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ea op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Permitir expresiones múltiples en la instrucción </a:t>
            </a:r>
            <a:r>
              <a:rPr b="1" lang="es-CR" sz="2800" spc="-1" strike="noStrike">
                <a:solidFill>
                  <a:srgbClr val="000000"/>
                </a:solidFill>
                <a:latin typeface="Courier New"/>
              </a:rPr>
              <a:t>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royec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808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gar la instrucci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ón de intercambio:</a:t>
            </a: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x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: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gregar la instrucción “repeat” a Ti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onstrainer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E debe ser booleano; processar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, …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Generador de Códig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acer cascada con CurrLabel,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…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685800" y="2438280"/>
            <a:ext cx="3655800" cy="1979280"/>
            <a:chOff x="685800" y="2438280"/>
            <a:chExt cx="3655800" cy="1979280"/>
          </a:xfrm>
        </p:grpSpPr>
        <p:sp>
          <p:nvSpPr>
            <p:cNvPr id="55" name="Oval 5"/>
            <p:cNvSpPr/>
            <p:nvPr/>
          </p:nvSpPr>
          <p:spPr>
            <a:xfrm>
              <a:off x="1218960" y="2438280"/>
              <a:ext cx="1370880" cy="60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rep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AutoShape 6"/>
            <p:cNvSpPr/>
            <p:nvPr/>
          </p:nvSpPr>
          <p:spPr>
            <a:xfrm>
              <a:off x="685800" y="3580200"/>
              <a:ext cx="837720" cy="837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7"/>
            <p:cNvSpPr/>
            <p:nvPr/>
          </p:nvSpPr>
          <p:spPr>
            <a:xfrm>
              <a:off x="3503880" y="3580200"/>
              <a:ext cx="837720" cy="837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>
              <a:off x="2133000" y="3580200"/>
              <a:ext cx="837720" cy="837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9"/>
            <p:cNvSpPr/>
            <p:nvPr/>
          </p:nvSpPr>
          <p:spPr>
            <a:xfrm flipH="1">
              <a:off x="1141200" y="2971080"/>
              <a:ext cx="38376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"/>
            <p:cNvSpPr/>
            <p:nvPr/>
          </p:nvSpPr>
          <p:spPr>
            <a:xfrm>
              <a:off x="2133000" y="3047400"/>
              <a:ext cx="380520" cy="53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11"/>
            <p:cNvSpPr/>
            <p:nvPr/>
          </p:nvSpPr>
          <p:spPr>
            <a:xfrm>
              <a:off x="1523520" y="39610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2"/>
            <p:cNvSpPr/>
            <p:nvPr/>
          </p:nvSpPr>
          <p:spPr>
            <a:xfrm>
              <a:off x="2589840" y="2819160"/>
              <a:ext cx="1294560" cy="76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13"/>
          <p:cNvSpPr/>
          <p:nvPr/>
        </p:nvSpPr>
        <p:spPr>
          <a:xfrm>
            <a:off x="5181480" y="2209680"/>
            <a:ext cx="2514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2(CL?)  S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D L1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6172200" y="2362320"/>
            <a:ext cx="1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6172200" y="4038480"/>
            <a:ext cx="152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 flipV="1">
            <a:off x="7696080" y="236052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6172200" y="236232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royec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1219320"/>
            <a:ext cx="8305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gregar la instrucción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Arial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a Tiny. Seguir la sintaxis y semántica del lenguaje 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for (I;   E;    In)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onstrainer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E debe ser booleano; processar I, In, 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ta: I, E, In s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p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5486400" y="2743200"/>
            <a:ext cx="28195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L   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3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D L1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1  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TO L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5943600" y="2895480"/>
            <a:ext cx="144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5"/>
          <p:cNvSpPr/>
          <p:nvPr/>
        </p:nvSpPr>
        <p:spPr>
          <a:xfrm>
            <a:off x="5943600" y="45720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7467480" y="289548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7"/>
          <p:cNvSpPr/>
          <p:nvPr/>
        </p:nvSpPr>
        <p:spPr>
          <a:xfrm>
            <a:off x="5943600" y="2895480"/>
            <a:ext cx="152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1"/>
          <p:cNvGrpSpPr/>
          <p:nvPr/>
        </p:nvGrpSpPr>
        <p:grpSpPr>
          <a:xfrm>
            <a:off x="1066680" y="2895480"/>
            <a:ext cx="3962520" cy="1905120"/>
            <a:chOff x="1066680" y="2895480"/>
            <a:chExt cx="3962520" cy="1905120"/>
          </a:xfrm>
        </p:grpSpPr>
        <p:sp>
          <p:nvSpPr>
            <p:cNvPr id="76" name="Oval 5"/>
            <p:cNvSpPr/>
            <p:nvPr/>
          </p:nvSpPr>
          <p:spPr>
            <a:xfrm>
              <a:off x="2438280" y="2895480"/>
              <a:ext cx="137160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6"/>
            <p:cNvSpPr/>
            <p:nvPr/>
          </p:nvSpPr>
          <p:spPr>
            <a:xfrm>
              <a:off x="1066680" y="3962520"/>
              <a:ext cx="838440" cy="838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7"/>
            <p:cNvSpPr/>
            <p:nvPr/>
          </p:nvSpPr>
          <p:spPr>
            <a:xfrm>
              <a:off x="4191120" y="3962520"/>
              <a:ext cx="838080" cy="838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utoShape 8"/>
            <p:cNvSpPr/>
            <p:nvPr/>
          </p:nvSpPr>
          <p:spPr>
            <a:xfrm>
              <a:off x="2057400" y="3962520"/>
              <a:ext cx="838080" cy="838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 flipH="1">
              <a:off x="1523880" y="3352680"/>
              <a:ext cx="9907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 flipH="1">
              <a:off x="2438280" y="35053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3733920" y="3352680"/>
              <a:ext cx="838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19"/>
            <p:cNvSpPr/>
            <p:nvPr/>
          </p:nvSpPr>
          <p:spPr>
            <a:xfrm>
              <a:off x="3124080" y="3962520"/>
              <a:ext cx="838440" cy="838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3200400" y="3505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3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yecto 3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rucci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loop-poo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295280" y="1600200"/>
            <a:ext cx="2819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n=re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if (n=0)then ex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else output(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p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85800" y="3313080"/>
            <a:ext cx="777240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onstrai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’program’: DTEnter(LOOP_CTXT,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‘loop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Open_Sco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DTEnter(LOOP_CTXT,T,T);   // LOOP_CTXT es ‘&lt;loop_ctxt&gt;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Procesar hij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Close_sco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if (Decoration(T)=0) print (‘Warning: no ‘exit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‘exit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Temp = Lookup(LOOP_CT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if NodeName(Temp) &lt;&gt; LoopNode then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Decorate(T,Temp); Decorate(Temp,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8077320" y="1674360"/>
            <a:ext cx="1440" cy="13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3"/>
          <p:cNvSpPr/>
          <p:nvPr/>
        </p:nvSpPr>
        <p:spPr>
          <a:xfrm flipV="1">
            <a:off x="8077320" y="1674360"/>
            <a:ext cx="1440" cy="13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20"/>
          <p:cNvGrpSpPr/>
          <p:nvPr/>
        </p:nvGrpSpPr>
        <p:grpSpPr>
          <a:xfrm>
            <a:off x="4648320" y="1523880"/>
            <a:ext cx="3429000" cy="1827000"/>
            <a:chOff x="4648320" y="1523880"/>
            <a:chExt cx="3429000" cy="1827000"/>
          </a:xfrm>
        </p:grpSpPr>
        <p:grpSp>
          <p:nvGrpSpPr>
            <p:cNvPr id="91" name="Group 3"/>
            <p:cNvGrpSpPr/>
            <p:nvPr/>
          </p:nvGrpSpPr>
          <p:grpSpPr>
            <a:xfrm>
              <a:off x="4648320" y="1523880"/>
              <a:ext cx="1598040" cy="1827000"/>
              <a:chOff x="4648320" y="1523880"/>
              <a:chExt cx="1598040" cy="1827000"/>
            </a:xfrm>
          </p:grpSpPr>
          <p:sp>
            <p:nvSpPr>
              <p:cNvPr id="92" name="Oval 4"/>
              <p:cNvSpPr/>
              <p:nvPr/>
            </p:nvSpPr>
            <p:spPr>
              <a:xfrm>
                <a:off x="4800240" y="1523880"/>
                <a:ext cx="1293480" cy="532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lo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5"/>
              <p:cNvSpPr/>
              <p:nvPr/>
            </p:nvSpPr>
            <p:spPr>
              <a:xfrm>
                <a:off x="4648320" y="2513520"/>
                <a:ext cx="608760" cy="837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S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6"/>
              <p:cNvSpPr/>
              <p:nvPr/>
            </p:nvSpPr>
            <p:spPr>
              <a:xfrm>
                <a:off x="5637240" y="2513520"/>
                <a:ext cx="609120" cy="837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S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 flipH="1">
                <a:off x="4951080" y="2056680"/>
                <a:ext cx="30744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8"/>
              <p:cNvSpPr/>
              <p:nvPr/>
            </p:nvSpPr>
            <p:spPr>
              <a:xfrm>
                <a:off x="5713560" y="2056680"/>
                <a:ext cx="22824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Text Box 10"/>
            <p:cNvSpPr/>
            <p:nvPr/>
          </p:nvSpPr>
          <p:spPr>
            <a:xfrm>
              <a:off x="5105520" y="2971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14"/>
            <p:cNvSpPr/>
            <p:nvPr/>
          </p:nvSpPr>
          <p:spPr>
            <a:xfrm>
              <a:off x="6934320" y="1752480"/>
              <a:ext cx="1143000" cy="533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5"/>
            <p:cNvSpPr/>
            <p:nvPr/>
          </p:nvSpPr>
          <p:spPr>
            <a:xfrm>
              <a:off x="6858000" y="1828800"/>
              <a:ext cx="121932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16"/>
            <p:cNvSpPr/>
            <p:nvPr/>
          </p:nvSpPr>
          <p:spPr>
            <a:xfrm>
              <a:off x="6705720" y="1904760"/>
              <a:ext cx="121896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17"/>
            <p:cNvSpPr/>
            <p:nvPr/>
          </p:nvSpPr>
          <p:spPr>
            <a:xfrm>
              <a:off x="6516720" y="2785320"/>
              <a:ext cx="1295280" cy="520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AutoShape 18"/>
            <p:cNvCxnSpPr>
              <a:stCxn id="101" idx="1"/>
              <a:endCxn id="92" idx="6"/>
            </p:cNvCxnSpPr>
            <p:nvPr/>
          </p:nvCxnSpPr>
          <p:spPr>
            <a:xfrm flipV="1" rot="16200000">
              <a:off x="5859720" y="2025360"/>
              <a:ext cx="1081800" cy="610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AutoShape 19"/>
            <p:cNvCxnSpPr>
              <a:endCxn id="101" idx="7"/>
            </p:cNvCxnSpPr>
            <p:nvPr/>
          </p:nvCxnSpPr>
          <p:spPr>
            <a:xfrm>
              <a:off x="6019560" y="1675800"/>
              <a:ext cx="1603800" cy="1196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yecto 3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rucci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loop-poo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09480" y="1600200"/>
            <a:ext cx="2819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n=re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if (n=0)then ex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else output(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p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85800" y="3429000"/>
            <a:ext cx="73152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Generador de Códi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’loop’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Decorate (T, L1=Makelab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Generar código (ver diagram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‘exit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L1=Decoration(Decoration(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CodeGen1(GOTOOP, L1, Currlabel)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6934320" y="2895480"/>
            <a:ext cx="1143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8077320" y="1674360"/>
            <a:ext cx="1440" cy="13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 flipV="1">
            <a:off x="8077320" y="1445760"/>
            <a:ext cx="1440" cy="13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26"/>
          <p:cNvGrpSpPr/>
          <p:nvPr/>
        </p:nvGrpSpPr>
        <p:grpSpPr>
          <a:xfrm>
            <a:off x="6095880" y="1905120"/>
            <a:ext cx="2209680" cy="2286000"/>
            <a:chOff x="6095880" y="1905120"/>
            <a:chExt cx="2209680" cy="2286000"/>
          </a:xfrm>
        </p:grpSpPr>
        <p:sp>
          <p:nvSpPr>
            <p:cNvPr id="111" name="Rectangle 9"/>
            <p:cNvSpPr/>
            <p:nvPr/>
          </p:nvSpPr>
          <p:spPr>
            <a:xfrm>
              <a:off x="6095880" y="1905120"/>
              <a:ext cx="22096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2(CL?)  S1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TO L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7086600" y="2210040"/>
              <a:ext cx="14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7086600" y="3581640"/>
              <a:ext cx="114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7086600" y="2210040"/>
              <a:ext cx="114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V="1">
              <a:off x="8229600" y="2207880"/>
              <a:ext cx="1440" cy="13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Text Box 21"/>
          <p:cNvSpPr/>
          <p:nvPr/>
        </p:nvSpPr>
        <p:spPr>
          <a:xfrm>
            <a:off x="6858000" y="4495680"/>
            <a:ext cx="136692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5"/>
          <p:cNvGrpSpPr/>
          <p:nvPr/>
        </p:nvGrpSpPr>
        <p:grpSpPr>
          <a:xfrm>
            <a:off x="2895480" y="1523880"/>
            <a:ext cx="3600360" cy="3362040"/>
            <a:chOff x="2895480" y="1523880"/>
            <a:chExt cx="3600360" cy="3362040"/>
          </a:xfrm>
        </p:grpSpPr>
        <p:grpSp>
          <p:nvGrpSpPr>
            <p:cNvPr id="118" name="Group 3"/>
            <p:cNvGrpSpPr/>
            <p:nvPr/>
          </p:nvGrpSpPr>
          <p:grpSpPr>
            <a:xfrm>
              <a:off x="3862080" y="1523880"/>
              <a:ext cx="1598400" cy="1826640"/>
              <a:chOff x="3862080" y="1523880"/>
              <a:chExt cx="1598400" cy="1826640"/>
            </a:xfrm>
          </p:grpSpPr>
          <p:sp>
            <p:nvSpPr>
              <p:cNvPr id="119" name="Oval 4"/>
              <p:cNvSpPr/>
              <p:nvPr/>
            </p:nvSpPr>
            <p:spPr>
              <a:xfrm>
                <a:off x="4014360" y="1523880"/>
                <a:ext cx="1293840" cy="53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lo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5"/>
              <p:cNvSpPr/>
              <p:nvPr/>
            </p:nvSpPr>
            <p:spPr>
              <a:xfrm>
                <a:off x="3862080" y="2513160"/>
                <a:ext cx="609120" cy="837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utoShape 6"/>
              <p:cNvSpPr/>
              <p:nvPr/>
            </p:nvSpPr>
            <p:spPr>
              <a:xfrm>
                <a:off x="4851720" y="2513160"/>
                <a:ext cx="608760" cy="837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7"/>
              <p:cNvSpPr/>
              <p:nvPr/>
            </p:nvSpPr>
            <p:spPr>
              <a:xfrm flipH="1">
                <a:off x="4165200" y="2056320"/>
                <a:ext cx="30744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4928040" y="2056320"/>
                <a:ext cx="22824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11"/>
            <p:cNvSpPr/>
            <p:nvPr/>
          </p:nvSpPr>
          <p:spPr>
            <a:xfrm>
              <a:off x="4336920" y="2796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0"/>
            <p:cNvSpPr/>
            <p:nvPr/>
          </p:nvSpPr>
          <p:spPr>
            <a:xfrm>
              <a:off x="5271840" y="4381200"/>
              <a:ext cx="1224000" cy="5047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2"/>
            <p:cNvSpPr/>
            <p:nvPr/>
          </p:nvSpPr>
          <p:spPr>
            <a:xfrm flipH="1">
              <a:off x="3255840" y="17888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3"/>
            <p:cNvSpPr/>
            <p:nvPr/>
          </p:nvSpPr>
          <p:spPr>
            <a:xfrm>
              <a:off x="2895480" y="1645920"/>
              <a:ext cx="5763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AutoShape 24"/>
            <p:cNvCxnSpPr>
              <a:stCxn id="125" idx="7"/>
              <a:endCxn id="119" idx="6"/>
            </p:cNvCxnSpPr>
            <p:nvPr/>
          </p:nvCxnSpPr>
          <p:spPr>
            <a:xfrm flipV="1" rot="16200000">
              <a:off x="4480200" y="2619000"/>
              <a:ext cx="2665800" cy="1007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nuel E. Bermudez</cp:lastModifiedBy>
  <dcterms:modified xsi:type="dcterms:W3CDTF">2009-05-25T08:13:03Z</dcterms:modified>
  <cp:revision>10</cp:revision>
  <dc:subject/>
  <dc:title>PowerPoint Presentation</dc:title>
</cp:coreProperties>
</file>