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5516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876480"/>
            <a:ext cx="65516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2800" y="159984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7648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42800" y="387648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1092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00520" y="1599840"/>
            <a:ext cx="21092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5600" y="1599840"/>
            <a:ext cx="21092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876480"/>
            <a:ext cx="21092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00520" y="3876480"/>
            <a:ext cx="21092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15600" y="3876480"/>
            <a:ext cx="21092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65516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5516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197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42800" y="1599840"/>
            <a:ext cx="3197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96560"/>
            <a:ext cx="77709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42800" y="1599840"/>
            <a:ext cx="3197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87648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197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42800" y="159984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42800" y="387648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42800" y="1599840"/>
            <a:ext cx="31971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76480"/>
            <a:ext cx="65516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65516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1240" indent="-284040">
              <a:lnSpc>
                <a:spcPct val="97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7000"/>
              </a:lnSpc>
              <a:spcBef>
                <a:spcPts val="601"/>
              </a:spcBef>
              <a:buClr>
                <a:srgbClr val="fdad23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7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09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09480" y="426960"/>
            <a:ext cx="77724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Precedencia y asociatividad de operado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80880" y="1828800"/>
            <a:ext cx="81536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nstruyamos una GLC (gram</a:t>
            </a:r>
            <a:r>
              <a:rPr b="0" lang="es-CR" sz="2400" spc="-1" strike="noStrike">
                <a:solidFill>
                  <a:srgbClr val="ffffff"/>
                </a:solidFill>
                <a:latin typeface="Verdana"/>
              </a:rPr>
              <a:t>ática libre de contexto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para expresiones, que consista de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l identificador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(operadores binarios) con  baja precedencia y asociativos por la izquier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(operadores binarios) con precedencia media, y asociativos por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(operadores unarios) con la más alta precedencia, y asociativos por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98360"/>
            <a:ext cx="77724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Gramática  para expresio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4920" y="1219320"/>
            <a:ext cx="2971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E +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 -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F * T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 / 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-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+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( 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→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1295280"/>
            <a:ext cx="5334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E consiste de T's,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separados por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DejaVu Sans"/>
              </a:rPr>
              <a:t>–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’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s y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DejaVu Sans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'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asociativos a la izquier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con precedencia b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T consiste de F'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separados por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DejaVu Sans"/>
              </a:rPr>
              <a:t>*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's y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DejaVu Sans"/>
              </a:rPr>
              <a:t>/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'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asociativos a la derech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con precedencia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F consiste de un solo 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precedido por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DejaVu Sans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's y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DejaVu Sans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'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asociativos a la derech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con precedencia al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P consiste de una E entre paréntes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o una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DejaVu Sans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Century Gothic"/>
                <a:ea typeface="DejaVu San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26960"/>
            <a:ext cx="77724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Precedencia y Asociatividad de Operado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95280"/>
            <a:ext cx="708660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75"/>
              </a:spcBef>
              <a:buClr>
                <a:srgbClr val="fdad23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recedencia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75"/>
              </a:spcBef>
              <a:buClr>
                <a:srgbClr val="fdad23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Cuanto más abajo en la gramática, más alta la precedenci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75"/>
              </a:spcBef>
              <a:buClr>
                <a:srgbClr val="fdad23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Asociativida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75"/>
              </a:spcBef>
              <a:buClr>
                <a:srgbClr val="fdad23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Recursividad izquierda en la gramática, causa asociatividad izquierda del operador, y causa ramificación izquierda en el árbol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75"/>
              </a:spcBef>
              <a:buClr>
                <a:srgbClr val="fdad23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Recursividad derecha en la gramática cause asociatividad derecha del operador, y causa ramificación derecha en el árbol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7240" y="-2232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Gramática de Transduc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 </a:t>
            </a: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(hilera a árbo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600200"/>
            <a:ext cx="6553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→ E + 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=&gt; +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→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 – 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=&gt; -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→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→ F * 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=&gt;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→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 / 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=&gt;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→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 → - F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=&gt; n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→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+ F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=&gt;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→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 → ( 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→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=&gt;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5884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33720" y="152280"/>
            <a:ext cx="43131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6019920"/>
            <a:ext cx="8458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Ejemplo de entrada: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300" spc="-1" strike="noStrike">
                <a:solidFill>
                  <a:srgbClr val="ffffff"/>
                </a:solidFill>
                <a:latin typeface="Courier New"/>
              </a:rPr>
              <a:t>- + i - i * ( i + i ) / i + 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nuel Bermudez</dc:creator>
  <dc:description/>
  <dc:language>en-US</dc:language>
  <cp:lastModifiedBy>Manuel E. Bermudez</cp:lastModifiedBy>
  <dcterms:modified xsi:type="dcterms:W3CDTF">2009-05-23T22:05:08Z</dcterms:modified>
  <cp:revision>2</cp:revision>
  <dc:subject/>
  <dc:title>Paradigmas y Perspectivas Futuras en Computación</dc:title>
</cp:coreProperties>
</file>