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6327-A1FD-4A2A-AF38-0230E7FA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F509-F02F-4CC5-A132-5828488D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35A8-B6A7-4027-9786-9F4EA77DF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F87B-3E38-4DD7-9DDF-544D36746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DCD5-9272-461B-812F-6D3238CF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8B06-2288-432C-B423-283192D7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933C-DC52-4E8F-8C5E-89465759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15D1-7D63-436C-B559-D5D77A49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A5DD-E034-460F-9442-EBC3E521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808D-5B8D-4A34-B51D-5842792B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0618-FD11-485D-B8D6-01C14E7E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C43E-BA51-4C63-82EE-AE62AF19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42E3EE-3A9F-4A3F-81AC-477DD561E2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l Compilador de Ti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0"/>
          <p:cNvSpPr/>
          <p:nvPr/>
        </p:nvSpPr>
        <p:spPr>
          <a:xfrm>
            <a:off x="808200" y="1736640"/>
            <a:ext cx="7364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539640" y="1413000"/>
            <a:ext cx="8280360" cy="36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trainer.c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or contex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CR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deGenerator.c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dor de cód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CR" sz="2400" spc="-1" strike="noStrike">
                <a:solidFill>
                  <a:srgbClr val="000000"/>
                </a:solidFill>
                <a:latin typeface="Courier New"/>
              </a:rPr>
              <a:t>parser/lex.tiny: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especificación léx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CR" sz="2400" spc="-1" strike="noStrike">
                <a:solidFill>
                  <a:srgbClr val="000000"/>
                </a:solidFill>
                <a:latin typeface="Courier New"/>
              </a:rPr>
              <a:t>parser/parse.tiny:</a:t>
            </a:r>
            <a:r>
              <a:rPr b="1" lang="es-C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especifición sintác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CR" sz="2400" spc="-1" strike="noStrike">
                <a:solidFill>
                  <a:srgbClr val="000000"/>
                </a:solidFill>
                <a:latin typeface="Courier New"/>
              </a:rPr>
              <a:t>tests: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programas de prue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CR" sz="2400" spc="-1" strike="noStrike">
                <a:solidFill>
                  <a:srgbClr val="000000"/>
                </a:solidFill>
                <a:latin typeface="Courier New"/>
              </a:rPr>
              <a:t>tc:</a:t>
            </a:r>
            <a:r>
              <a:rPr b="1" lang="es-C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compilador de T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CR" sz="2400" spc="-1" strike="noStrike">
                <a:solidFill>
                  <a:srgbClr val="000000"/>
                </a:solidFill>
                <a:latin typeface="Courier New"/>
              </a:rPr>
              <a:t>manual</a:t>
            </a:r>
            <a:r>
              <a:rPr b="1" lang="es-C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R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docu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8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Arial"/>
              </a:rPr>
              <a:t>El Compilador de T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tws"/>
          <p:cNvPicPr/>
          <p:nvPr/>
        </p:nvPicPr>
        <p:blipFill>
          <a:blip r:embed="rId1"/>
          <a:stretch/>
        </p:blipFill>
        <p:spPr>
          <a:xfrm>
            <a:off x="1476360" y="911160"/>
            <a:ext cx="6767640" cy="57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nuel</dc:creator>
  <dc:description/>
  <dc:language>en-US</dc:language>
  <cp:lastModifiedBy>Manuel E. Bermudez</cp:lastModifiedBy>
  <dcterms:modified xsi:type="dcterms:W3CDTF">2011-04-08T15:49:39Z</dcterms:modified>
  <cp:revision>16</cp:revision>
  <dc:subject/>
  <dc:title>Slide 1</dc:title>
</cp:coreProperties>
</file>