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DA1-0927-48E5-9F54-1CF1890F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75C-7113-4854-9177-894E129F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478-0A74-4602-AAFB-E9872470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3B0-7697-4F00-A882-508E59E7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765-736E-4CC7-8F9A-47812A00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301-E5D6-4389-89C7-7316C6C6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45E-B543-406F-916C-401C2528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888-CE59-4AB3-9853-3F1641CA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D49-B550-449E-A357-0D2CB35C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E32-272A-4406-9E06-5389A1FB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970-9163-4D04-ACD5-F07EDD18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3E3-986F-4CFC-AE78-C874272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0C8C-8770-444E-AC41-CDE3F32C9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IVERSIDAD RICARDO PALMA</a:t>
            </a:r>
            <a:br>
              <a:rPr sz="2800"/>
            </a:br>
            <a:r>
              <a:rPr b="1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CULTAD DE INGENIERIA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SCUELA DE INGENIERIA INFORMATICA</a:t>
            </a:r>
            <a:br>
              <a:rPr sz="2800"/>
            </a:b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RSO DE TITULACIÓN</a:t>
            </a:r>
            <a:br>
              <a:rPr sz="2800"/>
            </a:b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PILADORES</a:t>
            </a:r>
            <a:br>
              <a:rPr sz="3200"/>
            </a:br>
            <a:r>
              <a:rPr b="1" lang="es-E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anuel E. Berm</a:t>
            </a:r>
            <a:r>
              <a:rPr b="1" lang="es-CR" sz="2800" spc="-1" strike="noStrike">
                <a:solidFill>
                  <a:srgbClr val="000000"/>
                </a:solidFill>
                <a:latin typeface="Calibri"/>
              </a:rPr>
              <a:t>údez,  Ph.D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University of Florida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echas:  13-18 de agosto, 201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upo A: lunes, miércoles, viernes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9:00-22:00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rupo B: martes, jueves: 19:00-22:00, sábado 09:00-12:00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62120" y="5791320"/>
            <a:ext cx="68580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858000" y="5867280"/>
            <a:ext cx="1857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cnicas más recientes de compi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léxico y análisis sintác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de semántica está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ción de códi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idad de Trabaj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antes trabajarán con un traductor muy sencillo dado por el expositor, bajo Linu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remos el compilador y el  lenguaje, en forma progresi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dades Específ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s meramente sintácticos, como por ejemplo traducir las palabras clave del lenguaje del inglés al españo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dores, incluyendo operadores artitméticos y lógic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ciones imperativas, incluyendo instrucciones de iteración y de selecció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 tipos de datos, como por ejemplo el tipo de dato ‘caracter’, o el tipo de dato enumer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y procedimientos recursivo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anuel</cp:lastModifiedBy>
  <dcterms:modified xsi:type="dcterms:W3CDTF">2012-08-06T17:09:00Z</dcterms:modified>
  <cp:revision>3</cp:revision>
  <dc:subject/>
  <dc:title>       UNIVERSIDAD RICARDO PALMA   FACULTAD DE INGENIERIA ESCUELA DE INGENIERIA INFORMATICA   CURSO DE TITULACIÓN   COMPILADORES    Manuel E. Bermúdez,  Ph.D  University of Florida   Fechas:  18-22 de julio, 2011. Horario: 19:00-22:00 horas         </dc:title>
</cp:coreProperties>
</file>