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613-6EBB-4C8B-A2E2-D9B7D11C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F85-2F03-4066-A9E7-CF439A5F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D8E-43B7-4F86-AD62-21A7F9E8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468-F07E-4B78-8845-B0968248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168D-EB8B-41B3-84B9-AEE738CE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1FE7-AA70-444A-BE56-6AA38FD2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B55D-7D06-41A5-8425-CC394EBE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9143-BB3E-428B-86B5-A0FEC103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2EE1-A860-4F5B-9D9D-A85C9105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A5E9-9189-4636-95F8-FB976ADF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57E7-57E8-4FD1-9423-ED91D84B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9DE-EEEE-4A48-A2AC-04A6781F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9217-B17D-49F6-8B15-6E355FE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EBC0-3973-4D56-861C-98F490CB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7C26-F98C-48CD-9CAD-AF7920B3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22D1-DBA8-4CA4-AB58-FD53E190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A3F9-590E-4177-B5DB-D62AB7FF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EAD-99FB-4063-85FB-7871C8F7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B7F-DF83-42A7-8DAD-1C1890E0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823-7FE2-4639-AE62-F477A429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F09-F772-4166-BB2D-F0176A33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E3D-4A7C-4DDD-A1CE-B36ED90E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467-105F-4E5E-AB3C-0310D861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644-67B2-4863-B907-FC8B23B2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840"/>
            <a:chOff x="0" y="4206960"/>
            <a:chExt cx="9166320" cy="285084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6FC6-580C-408C-A601-23EE5C56CA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2120"/>
            <a:chOff x="0" y="533520"/>
            <a:chExt cx="9177480" cy="65221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8798-7CA9-4603-9AAB-B4CD4C21C2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se.ufl.edu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Modernizaci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n de la Ens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anza de la Tra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00200" y="2971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Manuel E. Bermúdez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University of Flo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Gainesville, F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manuel@cise.ufl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cise.ufl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o Sabático en ULA, Mérida, 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¿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or qu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 reformar el curso de compiladores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curso agoniza, pero no mu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Tiene contenido importante que TRANSCIENDE el tema de compilado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Reconocimento sin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o (lenguajes regulares, libres de contexto, lex, yac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raduc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 lenguajes artifici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Un proyecto de software de tama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o signifi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6DC-F3A9-4943-89D1-E59167AEEF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or que reformar el curso de compiladores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curso necesita la transi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filos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fica de “artefacto” (compilador) a “mecanismo” (traducto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HAY QUE HACER ALGO CON EL CURSO, y abolirlo no es una op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A9A-1869-4AE2-9672-3142A988EB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Nuevo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Se llamar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 TRADUC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 LENGUAJ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Orientado hacia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o el material te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rico relev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O se implementa un compilador desde ce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Se EXTIENDE un compilador dado, para un lenguaje imperativo m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imo: variables enteras, ‘+’, ‘-’ unario, ‘&lt;=‘, asign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, secuencia, ‘if’, ‘while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A8E-3B82-4366-A72F-DE5AC22195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tica de “Tiny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ny       -&gt; 'program' Name ':' Dclns Block '.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Dclns     -&gt; 'var' (Dcln ';')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&gt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cln       -&gt; Name list ',' ':' Ty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     -&gt; 'integer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&gt; 'boolean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ock    -&gt; '{' Statement list ';' '}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tement  -&gt; Name '=' Expr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output' '(' Expression ')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if' '(' Expression ')' Stat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'else' Stat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while' '(' Expression ')' Stat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B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ion -&gt; Ter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Term '&lt;='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rm           -&gt; Term '+' Primar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y       -&gt; '-' Prim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read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&lt;integer&gt;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(' Expression ')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         -&gt; '&lt;identifier&gt;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0C7-6EB8-46C0-B38A-282740F667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Nuevo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DISE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Ñ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O VIEJO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DISE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Ñ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O NUE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.Intro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.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. Intro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2.Descrip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l lenguaje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2. Descrip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l tradu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3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l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xico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oper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4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tic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4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instruc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5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de sem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tica es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a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5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tipos de da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6. Gener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6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subruti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7. Optimiz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7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estructuras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  es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as (vecto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 Estructuras de ejecu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,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estruc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gener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 final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  di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micas (punteros)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1F1-4999-442F-8857-646E81DEDF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 Tradi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914400"/>
          <a:ext cx="8763120" cy="4170240"/>
        </p:xfrm>
        <a:graphic>
          <a:graphicData uri="http://schemas.openxmlformats.org/drawingml/2006/table">
            <a:tbl>
              <a:tblPr/>
              <a:tblGrid>
                <a:gridCol w="1935000"/>
                <a:gridCol w="1708200"/>
                <a:gridCol w="1704960"/>
                <a:gridCol w="1814760"/>
                <a:gridCol w="1600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is 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is sin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tica e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c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de c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rucc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de da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rutin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s e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s di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736640" y="529740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41560" y="522144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52578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TRADICIONAL: POR COLUMNA , en el orden dictado por el compilador (??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19051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9051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19051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9600" y="19051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99A-E521-41C4-87B9-BB974DDCA0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 Nuev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914400"/>
          <a:ext cx="8763120" cy="4170240"/>
        </p:xfrm>
        <a:graphic>
          <a:graphicData uri="http://schemas.openxmlformats.org/drawingml/2006/table">
            <a:tbl>
              <a:tblPr/>
              <a:tblGrid>
                <a:gridCol w="1935000"/>
                <a:gridCol w="1708200"/>
                <a:gridCol w="1704960"/>
                <a:gridCol w="1814760"/>
                <a:gridCol w="1600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is 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is sin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ntica e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c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de c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rucc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de da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rutin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s e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s di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736640" y="529740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41560" y="522144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52578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NUEVO: POR FILA, en espiral, en orden ascendente de complej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190512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236232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289548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342900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403848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472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52D-35DB-42E7-B2ED-C862298BA8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 Dis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o Nuev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fil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cos fundament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n de eventos peda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co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Orden de eventos en el compila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r los 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ópicos fundamentales en el tema de traducción, que TRANSCIENDEN el te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álisis sintáctico (regular y libre de contex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eriencia con un programa GRANDE: abstracción, manten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 objetivo NO es enseñar diseño de compiladores de produ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123-B9F9-4F02-AF3F-EEA887CD8E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 Nuev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elimina gener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digo fi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elimina optimiz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di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elimina el problema de asign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de regis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eliminan valores de punto flot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utiliza una m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quina virtual (JVM 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362-073E-4503-9B92-B68ADCEE0A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Dise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ño viejo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Dise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ño nue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.Fases del compilador.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2.Modelos matem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os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(simplificados, luego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3. Herramientas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4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l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xico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5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tic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6.  Sem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tica es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a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7. Gener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(s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o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 intermed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 Optimiz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s-CR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9. Implementar un compilador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(extend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dol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0. Compilador de pro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s-CR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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DA2-8052-4DF8-A874-8FD1F56B80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La declina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ón del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urso tradicional de compi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or qu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reformar el curs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nuevo dise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o del curs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Reorganiz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l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ontraste con el d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ño antigu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Aplic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FE2-8222-423B-9E11-CD869B0445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Sistema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scrito en C, traducido de Pascal  </a:t>
            </a:r>
            <a:r>
              <a:rPr b="0" lang="es-C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orre bajo UNIX y Linu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Utiliza lex y yacc (con un pre-procesado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estudiante trabaja con 4 arch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Especific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l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xica (1 p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gina)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Especific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sin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a (1 p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gina)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Analizador de sem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tica es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ica (400 l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ne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Generador de c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digo (400 l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neas)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C19-7C0C-404F-B4A1-F374B96D5C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 Sistema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6069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3C4-48A4-4340-95B7-D5D4552053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Investigaci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n Prev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Resultados de investig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1982-199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Vers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sencilla y did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a de an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o LL(1) y descenso recurs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Vers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sencilla y did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a de an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o LR(0), SLR(1), y LALR(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Publicaciones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Un juego de apuntes para el curso de compiladores en UF (ofrecido anualm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os misteriosos algoritmos LR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740-7B6E-4478-9B47-8D20D10437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Investigaci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n Previa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Resultados de investig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1996-199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Intento de reforma al curso de compilad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Reforma hacia C++ y el paradigma de la orient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a obje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icencia sab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ica y Fulbright, Universidad de Costa 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Per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odo Fulbright corto (6 meses), programa de Master joven en la UC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Una tesis de M.Sc. en UFL, Youli Kanev, 1997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80B-61F0-474E-8B50-C9B9AB4BB4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dades Reci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a retomado en 2001: curso de compiladores en peligro de extin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ón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yecto financiado por SUCCEED en verano 2001: nuevas ideas en torno a recomendaciones ACM 200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002-2003: Estudiantes (2 M.Sc., 1 Ph.D.) implementando el sistema 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, C++, C#.  (Windows,  .N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bright, para ULA,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rida, Venezuela, 2003-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F98-4415-4F6A-B8A2-12207D990D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es para 2003-200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ir implementaciones en Java, C++, C#.   Apoyo financiero de Microso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o presentado 1/2003: SSGR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ribir propuesta de libro de texto, y c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tulos mues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eñar contenido del libro en deta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gociar con casa editorial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0EE-D843-4B10-8B37-BE0AA2B5C6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lanes para 2003-04 en la U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rimer semestre: un seminario de pos-grado: buscar y describir aplicaciones fuera del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área de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compil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n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gundo semestre: impartir el nuevo curso, para estudiantes de pre-gr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A traves del a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o, escribir el libro de tex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Hora de cerra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0 años de estudio de compiladores. </a:t>
            </a:r>
            <a:r>
              <a:rPr b="0" lang="es-C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6C3-20D3-4A68-B71B-D8179FCDFC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¿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guntas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6AB-BF01-4063-9B72-8148361C16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bjetivos del curso tradicional de compilad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Discutir las fases de un compilador, los modelos matem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icos relevantes,y los paquetes disponi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l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xico (lenguajes regulares, l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tico (lenguajes libres de contexto, yac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lisis de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sem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tica es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Gener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Optimiz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Implementar (parte de) un compila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8E8-A16D-4706-8EC7-27A9915024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l curso tradicional de Compilado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ta hace algunos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e consideraba “indispensabl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declina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ón hoy día, en muchos progra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 ofrece menos a menu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y menos instruct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y menos estudi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6AF-D237-49B6-8BCA-2098768538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zones para la declinaci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urez d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á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liferación de lenguajes y paradigmas, cursos en estos temas son más frecu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rriculum ACM 2001: Profesora Mary Shaw (CMU): termodinámica vs. diseño de calderas, principios vs. artefactos.  Compiladores y Sistemas Operativos son artefactos dinosau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Muy pocos graduados dise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n o mantienen compil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ada d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 hay menos profesores en el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rea (fuga a Microsoft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6BD-A533-42A4-8E11-DE6832996C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roblemas con el curso tradicional de compilad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curso se considera obsoleto.  El material ya no se considera indispens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material se considera “especializado”, “opcional” en el curricul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objetivo de construir un compilador “de verdad” se considera obsol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899-B285-4AE3-9DCD-0C65D518D9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roblemas con el curso tradicional de compilador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38188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proyecto no compagina con el material del cu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Trabajo en equipo en el proyecto es frustrante: para implementar una fase, se necesita saber de las dem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 f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urso “novela de misteri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Un curso “esot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rico” y “dif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il”.  Poco popu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EBF-C215-41D1-B82E-51952C611A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roblemas con el curso tradicional de compilador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38224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El libro de texto: Construc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      Compiladores: Principios, 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nicas                       y Herramientas, Addison-Wesley,                     1986, segunda (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ú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tima) edi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,                       Aho, Sethi, Ull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odos es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 acuerdo (incluyendo los tres autores): el libro es demasiado grande, y carece de pedagog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a.  No ha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á tercera edi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781680" y="2133720"/>
            <a:ext cx="199872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ED9-C661-4391-AC44-9E89203CC7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roblemas con el curso tradicional de compilador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38224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Todos los demas libros (S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, TODOS) son la vers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resumida favorita del autor, del material en el Drag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Ro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Los mismos temas, en el mismo o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rofesores (des)enfatizan sus temas favoritos (o los que conoce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Mala pedag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74E-1A52-427F-9FE2-F02786BB07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gam</dc:creator>
  <dc:description/>
  <dc:language>en-US</dc:language>
  <cp:lastModifiedBy>Manuel E. Bermudez</cp:lastModifiedBy>
  <dcterms:modified xsi:type="dcterms:W3CDTF">2003-09-30T06:10:30Z</dcterms:modified>
  <cp:revision>54</cp:revision>
  <dc:subject/>
  <dc:title>Training</dc:title>
</cp:coreProperties>
</file>