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55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Click to move the slide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2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ejaVu Sans"/>
              </a:rPr>
              <a:t>21/07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44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A4AE8-249A-43BF-B09E-DF861374AD3C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65469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874680"/>
            <a:ext cx="65469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7468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40640" y="387468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99440" y="160020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13080" y="160020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87468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899440" y="387468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113080" y="387468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654696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654696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94760"/>
            <a:ext cx="776592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387468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654696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040640" y="387468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74680"/>
            <a:ext cx="65469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65469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3874680"/>
            <a:ext cx="65469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7468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040640" y="387468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99440" y="160020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3080" y="160020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387468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899440" y="387468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113080" y="387468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654696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94760"/>
            <a:ext cx="776592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87468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40640" y="387468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74680"/>
            <a:ext cx="65469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654696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Font typeface="Century Gothic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Font typeface="Century Gothic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SzPct val="75000"/>
              <a:buFont typeface="Century Gothic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Font typeface="Century Gothic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Click to edit the title text format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659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Click to edit the title text format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31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Font typeface="Century Gothic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Font typeface="Century Gothic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SzPct val="75000"/>
              <a:buFont typeface="Century Gothic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Font typeface="Century Gothic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fdad23"/>
                </a:solidFill>
                <a:latin typeface="Century Gothic"/>
              </a:rPr>
              <a:t>Resumen de Compilación</a:t>
            </a:r>
            <a:endParaRPr b="1" lang="en-US" sz="38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entury Gothic"/>
              </a:rPr>
              <a:t>Preparado por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Manuel E. Bermúdez, Ph.D.</a:t>
            </a:r>
            <a:endParaRPr b="0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entury Gothic"/>
              </a:rPr>
              <a:t>Associate Professor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entury Gothic"/>
              </a:rPr>
              <a:t>University of Florida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entury Gothic"/>
              </a:rPr>
              <a:t>Traducido por Chrisitan Torres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Century Gothic"/>
              </a:rPr>
              <a:t>Universidad Ricardo Palma, Perú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"/>
          <p:cNvSpPr/>
          <p:nvPr/>
        </p:nvSpPr>
        <p:spPr>
          <a:xfrm>
            <a:off x="2800440" y="256536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Curso de Compil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548640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Filtraje (Screening)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Objetivo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mover los tokens no deseado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asificar las palabras reservada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ir/simplificar token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3880" y="3809880"/>
            <a:ext cx="4953240" cy="2286000"/>
            <a:chOff x="1523880" y="3809880"/>
            <a:chExt cx="4953240" cy="2286000"/>
          </a:xfrm>
        </p:grpSpPr>
        <p:sp>
          <p:nvSpPr>
            <p:cNvPr id="147" name=""/>
            <p:cNvSpPr/>
            <p:nvPr/>
          </p:nvSpPr>
          <p:spPr>
            <a:xfrm>
              <a:off x="3657600" y="4486320"/>
              <a:ext cx="205740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Screener</a:t>
              </a: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3880" y="4724280"/>
              <a:ext cx="213372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95680" y="5029200"/>
              <a:ext cx="180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95680" y="5105520"/>
              <a:ext cx="19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Verdana"/>
                </a:rPr>
                <a:t>Secuencia de Toke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00200" y="380988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Verdana"/>
                </a:rPr>
                <a:t>Secuencia de Toke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Filtraje (Screening)</a:t>
            </a: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0360" y="1644480"/>
            <a:ext cx="76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Reconoce (y reclasifica) palabras reservada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scarta espacios en blanco (y comentarios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ctua como una interfaz entre el “scanner”  y la siguiente fase, el  “parser” (analizador sintáctico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600200" y="219240"/>
            <a:ext cx="5943600" cy="64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Análisis sintactico (Parsing)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5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Objetivos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terminar si la secuencia de tokens es sintácticamente correct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grupar los tokens, en una estructura sintáctica correcta (árbol), de ser posibl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969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Análisis sintáctico (cont.)</a:t>
            </a: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8469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structura sintáctica de programas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xpresion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claracion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rocedimiento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uncion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ódulo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etodología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Usar “reglas de reescritura” (a.k.a. BNF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255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Traducción hilera-a-árbol</a:t>
            </a: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9185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bjetivo: Construir un “</a:t>
            </a: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á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rbol de sintaxis” a partir de una secuencia de reglas BNF. El árbol será la representación funcional del programa fuen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étodo: Construir el árbol de abajo hacia arriba (“bottom-up”), conforme se utilizan las reglas de re-reescritura. Se hace uso de una pila de árbol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371600" y="239760"/>
            <a:ext cx="6400800" cy="63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dad23"/>
                </a:solidFill>
                <a:latin typeface="Century Gothic"/>
              </a:rPr>
              <a:t>Análisis de Restricciones Contextuales</a:t>
            </a:r>
            <a:endParaRPr b="1" lang="en-US" sz="30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3516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Objetivo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Analizar la semántica estática, ej.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¿ variables declaradas antes de ser usadas 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¿ Compatibilidad de tipos en la asignación 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SzPct val="75000"/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j,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:=3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¿ Compatibilidad de tipos en la operación 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SzPct val="75000"/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j,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+3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inciden los tipos de par</a:t>
            </a:r>
            <a:r>
              <a:rPr b="0" lang="es-CR" sz="2400" spc="-1" strike="noStrike">
                <a:solidFill>
                  <a:srgbClr val="ffffff"/>
                </a:solidFill>
                <a:latin typeface="Verdana"/>
              </a:rPr>
              <a:t>á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etros formales y actuales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plicación de las reglas de visibilidad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255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dad23"/>
                </a:solidFill>
                <a:latin typeface="Century Gothic"/>
              </a:rPr>
              <a:t>Análisis de Restricciones Contextuales </a:t>
            </a:r>
            <a:br>
              <a:rPr sz="3000"/>
            </a:br>
            <a:r>
              <a:rPr b="1" lang="en-GB" sz="3000" spc="-1" strike="noStrike">
                <a:solidFill>
                  <a:srgbClr val="fdad23"/>
                </a:solidFill>
                <a:latin typeface="Century Gothic"/>
              </a:rPr>
              <a:t>(cont.)</a:t>
            </a:r>
            <a:endParaRPr b="1" lang="en-US" sz="30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2818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Método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Se recorre el árbol recursivamente, deduciendo el tipo de cada (sub)expresión, y regresando ee tip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hacer uso de una </a:t>
            </a: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TABLA DE DECLARACIONE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, para grabar informacion acerca de los nombr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“decora” el árbol con información de referencia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Resumen de Traducción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73040" y="1618920"/>
            <a:ext cx="7267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finición:  Un traductor es un algoritmo que convierte un código fuente en un programa objeto equivalen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finición:  Un compilador es un traductor donde el lenguaje objeto está un nivel “más bajo” que el lenguaje del código fuen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260360" y="3060720"/>
            <a:ext cx="5757480" cy="833040"/>
            <a:chOff x="1260360" y="3060720"/>
            <a:chExt cx="5757480" cy="833040"/>
          </a:xfrm>
        </p:grpSpPr>
        <p:sp>
          <p:nvSpPr>
            <p:cNvPr id="93" name=""/>
            <p:cNvSpPr/>
            <p:nvPr/>
          </p:nvSpPr>
          <p:spPr>
            <a:xfrm>
              <a:off x="2950560" y="3288600"/>
              <a:ext cx="204552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</a:rPr>
                <a:t>Tradu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96080" y="3524760"/>
              <a:ext cx="1512000" cy="9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48920" y="3068280"/>
              <a:ext cx="151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</a:rPr>
                <a:t>Codigo Fu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96080" y="3060720"/>
              <a:ext cx="2021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</a:rPr>
                <a:t>Programa Obje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60360" y="3524760"/>
              <a:ext cx="169020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rcRect l="0" t="0" r="0" b="47168"/>
          <a:stretch/>
        </p:blipFill>
        <p:spPr>
          <a:xfrm>
            <a:off x="685800" y="798480"/>
            <a:ext cx="7848720" cy="52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Ejemplo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5327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ronológicamente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–"/>
              <a:tabLst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ingresa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en la tabla DCLN, con su tip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–"/>
              <a:tabLst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revisa la compatibilidad de tipo para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x = 5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Courier New"/>
              <a:buChar char="–"/>
              <a:tabLst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X2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no esta declarado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–"/>
              <a:tabLst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verifica que el tipo de  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’</a:t>
            </a:r>
            <a:r>
              <a:rPr b="1" lang="en-GB" sz="2400" spc="-1" strike="noStrike">
                <a:solidFill>
                  <a:srgbClr val="ffffff"/>
                </a:solidFill>
                <a:latin typeface="Century Gothic"/>
              </a:rPr>
              <a:t>&gt;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’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es boolean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–"/>
              <a:tabLst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revisa la compatibilidad de tipo para </a:t>
            </a:r>
            <a:r>
              <a:rPr b="1" lang="en-GB" sz="2400" spc="-1" strike="noStrike">
                <a:solidFill>
                  <a:srgbClr val="ffffff"/>
                </a:solidFill>
                <a:latin typeface="Century Gothic"/>
              </a:rPr>
              <a:t>‘+’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–"/>
              <a:tabLst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revisa la compatibilidad de tipo entre Id: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 y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t:1 (nodo ‘+’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Generación de Código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Objetivo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Convertir el árbol de sintaxis a código objet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l código objeto podria ser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enguaje de máquin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enguaje ensamblado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uádruples para una máquina ficticia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SzPct val="75000"/>
              <a:buFont typeface="Century Gothic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tiquet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dad23"/>
              </a:buClr>
              <a:buSzPct val="75000"/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ógo de operació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dad23"/>
              </a:buClr>
              <a:buSzPct val="75000"/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perandos (1 o 2)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"/>
          <p:cNvSpPr/>
          <p:nvPr/>
        </p:nvSpPr>
        <p:spPr>
          <a:xfrm>
            <a:off x="5076720" y="35002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dad23"/>
                </a:solidFill>
                <a:latin typeface="Wingdings"/>
                <a:ea typeface="Wingdings"/>
              </a:rPr>
              <a:t></a:t>
            </a:r>
            <a:r>
              <a:rPr b="0" lang="en-US" sz="3000" spc="-1" strike="noStrike">
                <a:solidFill>
                  <a:srgbClr val="fdad2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08720" y="436572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dad23"/>
                </a:solidFill>
                <a:latin typeface="Wingdings"/>
                <a:ea typeface="Wingdings"/>
              </a:rPr>
              <a:t></a:t>
            </a:r>
            <a:r>
              <a:rPr b="0" lang="en-US" sz="3000" spc="-1" strike="noStrike">
                <a:solidFill>
                  <a:srgbClr val="fdad2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Generación de Código (cont.)</a:t>
            </a: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0000" y="1600200"/>
            <a:ext cx="82803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Ejemplo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c” en UNIX genera código ensamblado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i” en UNIX genera código para la máquina “p”, que es interpretado por… un interpretado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c: Cómpilación lenta, ejecución rápid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i: Compilacion rápida, ejecución lent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Método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Recorrer el árbol otra vez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255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Código (para una máquina de pila)</a:t>
            </a: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1523880"/>
            <a:ext cx="6553080" cy="50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OAD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OR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OAD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OAD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ND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1  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OAD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OAD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OR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OTO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Optimización de Código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775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Objetivo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Reducir el tamaño del programa objet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isminuir el tiempo de ejecución del objet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Nota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“Optimización” es un nombre incorrecto. “Mejoramiento”, sería màs adecuad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Dos tipos de optimización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ptimización  “Peephole” (local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ptimización Global (Mejorar iteraciones, etc.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969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Optimizacion de Codigo (cont.)</a:t>
            </a: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65530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jemplo (de la diapositiva anterior)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LOAD 5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 puede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LOAD 5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TORE X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emplazar 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TND X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LOAD X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4292640"/>
            <a:ext cx="639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lmacenamiento no-destructivo,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 i.e.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, almacena en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, pero no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struye  el valor superior de la p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Resumen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2852640"/>
            <a:ext cx="19429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Sint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14800" y="457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14800" y="3419640"/>
            <a:ext cx="1440" cy="390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3800520"/>
            <a:ext cx="1981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str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4714920"/>
            <a:ext cx="36799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Generador de cód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5229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0" lang="es-AR" sz="24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d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4800" y="518148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3640" y="5805360"/>
            <a:ext cx="2232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Interpre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19640" y="1989000"/>
            <a:ext cx="17524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Fil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1066680"/>
            <a:ext cx="17528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Lé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4334040"/>
            <a:ext cx="1440" cy="390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505240"/>
            <a:ext cx="1440" cy="390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380880"/>
            <a:ext cx="14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6021360"/>
            <a:ext cx="12193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435640" y="6021360"/>
            <a:ext cx="12240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60930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35640" y="6165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523880"/>
            <a:ext cx="14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673360"/>
            <a:ext cx="15242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Manejo de  Tab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2597040"/>
            <a:ext cx="16984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Rutinas de Err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1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2438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4267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Ar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3352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Ar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1288800"/>
            <a:ext cx="1447560" cy="138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905120" y="2203560"/>
            <a:ext cx="1447560" cy="698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3124080"/>
            <a:ext cx="1371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33526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05120" y="3505320"/>
            <a:ext cx="434880" cy="1436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013440" y="3429000"/>
            <a:ext cx="39384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250960" y="3276720"/>
            <a:ext cx="115596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19640" y="3068640"/>
            <a:ext cx="1181160" cy="5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5219280" y="2205000"/>
            <a:ext cx="1187640" cy="620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5099040" y="1288800"/>
            <a:ext cx="1308240" cy="1307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fdad23"/>
                </a:solidFill>
                <a:latin typeface="Century Gothic"/>
              </a:rPr>
              <a:t>Resumen de Compilación</a:t>
            </a:r>
            <a:endParaRPr b="1" lang="en-US" sz="38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entury Gothic"/>
              </a:rPr>
              <a:t>Preparado por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Manuel E. Bermúdez, Ph.D.</a:t>
            </a:r>
            <a:endParaRPr b="0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entury Gothic"/>
              </a:rPr>
              <a:t>Associate Professor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entury Gothic"/>
              </a:rPr>
              <a:t>University of Florida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entury Gothic"/>
              </a:rPr>
              <a:t>Traducido por Chrisitan Torres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Century Gothic"/>
              </a:rPr>
              <a:t>Universidad Ricardo Palma, Perú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"/>
          <p:cNvSpPr/>
          <p:nvPr/>
        </p:nvSpPr>
        <p:spPr>
          <a:xfrm>
            <a:off x="2800440" y="256536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Curso de Compil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969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Resumen de Traducción (cont.)</a:t>
            </a: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5945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¿ Cuándo es el nivel de un lenguaje menor que otro 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finición:  Un interpretador es un algoritmo que simula la ejecución de programas escritos en un determinado lenguaje fuen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"/>
          <p:cNvSpPr/>
          <p:nvPr/>
        </p:nvSpPr>
        <p:spPr>
          <a:xfrm>
            <a:off x="2340000" y="5445000"/>
            <a:ext cx="144792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80000" y="5157720"/>
            <a:ext cx="23763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nterpre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40000" y="490212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4365720"/>
            <a:ext cx="18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5661000"/>
            <a:ext cx="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16360" y="4365720"/>
            <a:ext cx="14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19680" y="581652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969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Resumen de Traducción (cont.)</a:t>
            </a: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23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Definición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 La implementación de un lenguaje de programacion consiste de un traductor (o compilador) para ese lenguaje, y un interpretador para el correspondiente lenguaje objet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486320"/>
            <a:ext cx="23223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nterpre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4267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4724280"/>
            <a:ext cx="144792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3657600"/>
            <a:ext cx="144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4952880"/>
            <a:ext cx="144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3733920"/>
            <a:ext cx="15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5181480"/>
            <a:ext cx="13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0920" y="4486320"/>
            <a:ext cx="20638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mpi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4221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724280"/>
            <a:ext cx="144792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Traducción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079280"/>
            <a:ext cx="763128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Un programa fuente puede ser traducido un número arbitrario de veces antes que el programa objeto sea generad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2952720"/>
            <a:ext cx="190512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raducto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7338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3191040"/>
            <a:ext cx="144756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3419640"/>
            <a:ext cx="1800" cy="390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76840"/>
            <a:ext cx="198108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raducto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4867200"/>
            <a:ext cx="198108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raducto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5562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5334120"/>
            <a:ext cx="18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4419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Traducción (cont.)</a:t>
            </a: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3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ada una de estas traducciones es llamada una </a:t>
            </a: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fase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, no se debe confundir con una </a:t>
            </a: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pasada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, i.e. una escritura al disc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P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¿ Cómo debiera ser divido en fases un compilador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R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De manera que cada fase pueda ser descrita por un modelo formal  de computación, y realizar la fase eficientemen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0720" y="1789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Traducción (cont.)</a:t>
            </a: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84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P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¿ Cómo se divide usualmente un compilador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R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En 2 fases principales, con varias posibilidades de subdivisión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Fase 1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Análisis (determina correctitud)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Fase 2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Síntesis (produce código objeto)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tros criterios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Fase 1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Sintaxis (forma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Fase 2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Semántica (significado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0360" y="196920"/>
            <a:ext cx="84596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División tipica de un compilador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44600"/>
            <a:ext cx="741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canning (Análisis lexico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Objetivo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Agrupar secuencia de caracteres que ocurren en la fuente, en unidades lógicas atómicas llamadas </a:t>
            </a: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token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Ejemplos de token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Identificadores, palabras reservadas, enteros, hileras, signos de puntuación, “espacios en blanco”, caracteres de fin de línea, comentarios, etc., …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4876920"/>
            <a:ext cx="35290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canner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(Analizador Léxico)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410080"/>
            <a:ext cx="144756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15000" y="5791320"/>
            <a:ext cx="144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57913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cuenica de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Análisis Léxico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debe tratar</a:t>
            </a:r>
            <a:r>
              <a:rPr b="1" lang="en-GB" sz="2400" spc="-1" strike="noStrike">
                <a:solidFill>
                  <a:srgbClr val="e6ff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n carateres fin de línea y fin de documento (end-of-file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hace una clasificación preliminar de tokens. Por ejemplo, ‘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ogram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’ y ‘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Ex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’ son clasificados como identificador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tiene que dar reglas no-ambiguas para la formación de token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nuel E. Bermudez</cp:lastModifiedBy>
  <dcterms:modified xsi:type="dcterms:W3CDTF">2009-05-23T22:11:55Z</dcterms:modified>
  <cp:revision>12</cp:revision>
  <dc:subject/>
  <dc:title>Paradigmas y Perspectivas Futuras en Computación</dc:title>
</cp:coreProperties>
</file>