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576-B6CF-4B34-AAD7-528B7E44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FEF-8847-4979-8BBB-D711364D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7F2-5F88-4750-8B31-4038B80A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5EE-5621-4B84-BC6C-0876E827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A40-A951-4E50-A840-B3BD9A89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4B6-736F-48E8-9226-94B28C4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6FB-4CC1-4755-A0B8-12E7FFE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498-6021-49FD-9C2C-07087D4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814-1ABC-4420-BC29-0018663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86F-A56E-46A2-BEB3-1B1ECD7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29E-2BC3-47E6-8B71-D5B15A38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A62-AF08-4B03-8191-5971537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87AF6-155C-4896-A53B-F5076CCFDC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l Compilador de 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808200" y="1736640"/>
            <a:ext cx="7364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539640" y="1413000"/>
            <a:ext cx="828036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rainer.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or contex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eGenerator.c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parser/lex.tiny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pecificación léx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parser/parse.tiny: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pecifición sint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tests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gramas de pru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tc: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mpilador de 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manual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 Compilador de 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ws"/>
          <p:cNvPicPr/>
          <p:nvPr/>
        </p:nvPicPr>
        <p:blipFill>
          <a:blip r:embed="rId1"/>
          <a:stretch/>
        </p:blipFill>
        <p:spPr>
          <a:xfrm>
            <a:off x="1476360" y="911160"/>
            <a:ext cx="676764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uel</dc:creator>
  <dc:description/>
  <dc:language>en-US</dc:language>
  <cp:lastModifiedBy>Manuel E. Bermudez</cp:lastModifiedBy>
  <dcterms:modified xsi:type="dcterms:W3CDTF">2011-04-08T15:49:39Z</dcterms:modified>
  <cp:revision>16</cp:revision>
  <dc:subject/>
  <dc:title>Slide 1</dc:title>
</cp:coreProperties>
</file>