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641C-B4DA-4961-B305-2714BFA30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C751-6F5B-43C7-93E9-DFAF0508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733A-7F39-4DA6-925C-E43945E49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07C8-E339-4093-BC88-0419CD04B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B8BF-FC3F-477A-BAA3-677075D6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7E1B-AAF2-4A4F-BBDD-EEFA25C7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0F8A-1688-4558-960D-0F338B5C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72F9-10D1-409B-89D0-11C3E1FF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3962-330C-463F-8E1A-8A4DA784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1750-BAA9-4A32-B76D-3BF0A95A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F6CA-5DAD-4DB6-80E6-A499A053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2805-88A2-4368-9AD9-A4D3316B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1544-CF5B-4439-9EF9-550B4CD5E8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001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UNIVERSIDAD RICARDO PALMA</a:t>
            </a:r>
            <a:br>
              <a:rPr sz="2800"/>
            </a:br>
            <a:r>
              <a:rPr b="1" lang="es-ES" sz="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FACULTAD DE INGENIERIA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ESCUELA DE INGENIERIA INFORMATICA</a:t>
            </a:r>
            <a:br>
              <a:rPr sz="2800"/>
            </a:br>
            <a:r>
              <a:rPr b="0" lang="es-ES" sz="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URSO DE TITULACIÓN</a:t>
            </a:r>
            <a:br>
              <a:rPr sz="2800"/>
            </a:br>
            <a:r>
              <a:rPr b="0" lang="es-ES" sz="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OMPILADORES</a:t>
            </a:r>
            <a:br>
              <a:rPr sz="3200"/>
            </a:br>
            <a:r>
              <a:rPr b="1" lang="es-E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600"/>
            </a:b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Manuel E. Berm</a:t>
            </a:r>
            <a:r>
              <a:rPr b="1" lang="es-CR" sz="2800" spc="-1" strike="noStrike">
                <a:solidFill>
                  <a:srgbClr val="000000"/>
                </a:solidFill>
                <a:latin typeface="Calibri"/>
              </a:rPr>
              <a:t>údez,  Ph.D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University of Florida 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echas:  13-18 de agosto, 2012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upo A: lunes, miércoles, viernes: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19:00-22:00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Grupo B: martes, jueves: 19:00-22:00, sábado 09:00-12:00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762120" y="5791320"/>
            <a:ext cx="685800" cy="714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6858000" y="5867280"/>
            <a:ext cx="18572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Conteni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352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écnicas más recientes de compila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álisis léxico y análisis sintáct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álisis de semántica estát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ción de códig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alidad de Trabaj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udiantes trabajarán con un traductor muy sencillo dado por el expositor, bajo Linu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eremos el compilador y el  lenguaje, en forma progresiv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ividades Específic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bios meramente sintácticos, como por ejemplo traducir las palabras clave del lenguaje del inglés al españo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dores, incluyendo operadores artitméticos y lógico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ciones imperativas, incluyendo instrucciones de iteración y de selecció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evos tipos de datos, como por ejemplo el tipo de dato ‘caracter’, o el tipo de dato enumerad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ones y procedimientos recursivo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Manuel</cp:lastModifiedBy>
  <dcterms:modified xsi:type="dcterms:W3CDTF">2012-08-06T17:09:00Z</dcterms:modified>
  <cp:revision>3</cp:revision>
  <dc:subject/>
  <dc:title>       UNIVERSIDAD RICARDO PALMA   FACULTAD DE INGENIERIA ESCUELA DE INGENIERIA INFORMATICA   CURSO DE TITULACIÓN   COMPILADORES    Manuel E. Bermúdez,  Ph.D  University of Florida   Fechas:  18-22 de julio, 2011. Horario: 19:00-22:00 horas         </dc:title>
</cp:coreProperties>
</file>