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AE8F-D8E5-4723-8600-32055E5640E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n you move forward on an x =1 branch, add to a variable that keeps track of the sum of the subset represented by the node. When you move back on an x = 1 branch, subtract. Moving in either direction along an x = 0 branch requires no add/subtract. When you reach a node with the desired sum, terminate. When you reach a node whose sum exceeds the desired sum, backtrack; do not move into this nodes subtrees. When you  make a right child move see if the desired sum is attainable by adding in all remaining integers; for this keep another variable that gives you the sum of the remaining integ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e organizations in which nonleaf nodes represent members of the solution space are also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909D-1256-4F81-9841-1211BDE7A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4342-1587-455E-B338-8BFA70E4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99AD-194E-4580-BA63-C8A4576F4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AB16-0BAB-43B4-B215-90A642625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ED89-990D-4FFB-8F71-7B921C94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0F84-3B07-434E-98A4-FFA3DB82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A4CD-7B9F-452E-993D-619A9D73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0884-0DD2-470D-AEF6-175D1D6C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3A75-577F-4CBD-AA0D-8447354F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C7ED-ABD5-437D-A069-7E18D200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2F35-15EE-4509-BB6B-B67241DC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5E34-D6AF-4D38-8749-E0FC1FC8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E761-8956-4116-A8BE-33DFA6125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1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cktracking And Branch And Boun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9" name="SPOTLIGH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LEFTSPOT" descr=""/>
          <p:cNvPicPr/>
          <p:nvPr/>
        </p:nvPicPr>
        <p:blipFill>
          <a:blip r:embed="rId2"/>
          <a:stretch/>
        </p:blipFill>
        <p:spPr>
          <a:xfrm>
            <a:off x="7543800" y="137160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1" name="SPOTLIGH" descr=""/>
          <p:cNvPicPr/>
          <p:nvPr/>
        </p:nvPicPr>
        <p:blipFill>
          <a:blip r:embed="rId3"/>
          <a:stretch/>
        </p:blipFill>
        <p:spPr>
          <a:xfrm>
            <a:off x="2743200" y="137160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2" name="LEFTSPOT" descr=""/>
          <p:cNvPicPr/>
          <p:nvPr/>
        </p:nvPicPr>
        <p:blipFill>
          <a:blip r:embed="rId4"/>
          <a:stretch/>
        </p:blipFill>
        <p:spPr>
          <a:xfrm>
            <a:off x="5257800" y="1371600"/>
            <a:ext cx="1189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cktracking Depth-First Searc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97240" y="1378080"/>
            <a:ext cx="216000" cy="2156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2285640" y="1600200"/>
            <a:ext cx="198108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9840" y="2901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167652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1600200"/>
            <a:ext cx="20574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7280" y="2901960"/>
            <a:ext cx="21564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57800" y="160020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1066680" y="3124080"/>
            <a:ext cx="10670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96840" y="41972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3520" y="327672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3124080"/>
            <a:ext cx="9907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06880" y="4121280"/>
            <a:ext cx="215640" cy="2156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95480" y="327672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5562720" y="3124080"/>
            <a:ext cx="8380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16560" y="4044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952880" y="320040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629400" y="3124080"/>
            <a:ext cx="9907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26240" y="3968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238880" y="312408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33160" y="4419720"/>
            <a:ext cx="5331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736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43000" y="44197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54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666880" y="4343400"/>
            <a:ext cx="60984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97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52680" y="4343400"/>
            <a:ext cx="4572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40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5029200" y="4267080"/>
            <a:ext cx="4572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83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62720" y="4267080"/>
            <a:ext cx="53316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26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7238880" y="4191120"/>
            <a:ext cx="4572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69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848720" y="4191120"/>
            <a:ext cx="6094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12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82440" y="5334120"/>
            <a:ext cx="8750520" cy="755640"/>
            <a:chOff x="82440" y="5334120"/>
            <a:chExt cx="8750520" cy="755640"/>
          </a:xfrm>
        </p:grpSpPr>
        <p:sp>
          <p:nvSpPr>
            <p:cNvPr id="304" name=""/>
            <p:cNvSpPr/>
            <p:nvPr/>
          </p:nvSpPr>
          <p:spPr>
            <a:xfrm>
              <a:off x="82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15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25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758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368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901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511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44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54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87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97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30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940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73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083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616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5192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352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1371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00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514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43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3657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86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4723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29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5866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172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7009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315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8152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458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615960" y="587376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97240" y="1378080"/>
            <a:ext cx="216000" cy="215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39840" y="290196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96840" y="419724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7360" y="511164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cktracking Depth-First Searc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97240" y="1378080"/>
            <a:ext cx="216000" cy="2156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2285640" y="1600200"/>
            <a:ext cx="198108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39840" y="2901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0" y="167652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19720" y="1600200"/>
            <a:ext cx="20574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407280" y="2901960"/>
            <a:ext cx="21564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57800" y="160020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1066680" y="3124080"/>
            <a:ext cx="10670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96840" y="41972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3520" y="327672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0" y="3124080"/>
            <a:ext cx="9907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06880" y="4121280"/>
            <a:ext cx="215640" cy="2156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95480" y="327672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5562720" y="3124080"/>
            <a:ext cx="8380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16560" y="4044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52880" y="320040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629400" y="3124080"/>
            <a:ext cx="9907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6240" y="3968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238880" y="312408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533160" y="4419720"/>
            <a:ext cx="5331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736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143000" y="44197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54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2666880" y="4343400"/>
            <a:ext cx="60984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97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352680" y="4343400"/>
            <a:ext cx="4572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40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5029200" y="4267080"/>
            <a:ext cx="4572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883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562720" y="4267080"/>
            <a:ext cx="53316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26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7238880" y="4191120"/>
            <a:ext cx="4572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169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848720" y="4191120"/>
            <a:ext cx="6094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312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82440" y="5334120"/>
            <a:ext cx="8750520" cy="755640"/>
            <a:chOff x="82440" y="5334120"/>
            <a:chExt cx="8750520" cy="755640"/>
          </a:xfrm>
        </p:grpSpPr>
        <p:sp>
          <p:nvSpPr>
            <p:cNvPr id="378" name=""/>
            <p:cNvSpPr/>
            <p:nvPr/>
          </p:nvSpPr>
          <p:spPr>
            <a:xfrm>
              <a:off x="82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15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25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758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68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901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511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044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4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187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797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330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940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473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083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616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15192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352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1371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00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2514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43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3657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86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4723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29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5866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172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7009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315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8152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458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4197240" y="1378080"/>
            <a:ext cx="216000" cy="215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139840" y="290196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96840" y="419724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7360" y="511164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736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54040" y="511164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25440" y="587376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cktracking Depth-First Searc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197240" y="1378080"/>
            <a:ext cx="216000" cy="2156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2285640" y="1600200"/>
            <a:ext cx="198108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139840" y="2901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286000" y="167652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419720" y="1600200"/>
            <a:ext cx="20574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407280" y="2901960"/>
            <a:ext cx="21564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257800" y="160020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1066680" y="3124080"/>
            <a:ext cx="10670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996840" y="41972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3520" y="327672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86000" y="3124080"/>
            <a:ext cx="9907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06880" y="4121280"/>
            <a:ext cx="215640" cy="2156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895480" y="327672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5562720" y="3124080"/>
            <a:ext cx="8380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16560" y="4044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52880" y="320040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629400" y="3124080"/>
            <a:ext cx="9907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626240" y="3968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238880" y="312408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533160" y="4419720"/>
            <a:ext cx="5331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736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43000" y="44197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454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2666880" y="4343400"/>
            <a:ext cx="60984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97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352680" y="4343400"/>
            <a:ext cx="4572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740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5029200" y="4267080"/>
            <a:ext cx="4572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883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562720" y="4267080"/>
            <a:ext cx="53316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26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7238880" y="4191120"/>
            <a:ext cx="4572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169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848720" y="4191120"/>
            <a:ext cx="6094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12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82440" y="5334120"/>
            <a:ext cx="8750520" cy="755640"/>
            <a:chOff x="82440" y="5334120"/>
            <a:chExt cx="8750520" cy="755640"/>
          </a:xfrm>
        </p:grpSpPr>
        <p:sp>
          <p:nvSpPr>
            <p:cNvPr id="454" name=""/>
            <p:cNvSpPr/>
            <p:nvPr/>
          </p:nvSpPr>
          <p:spPr>
            <a:xfrm>
              <a:off x="82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15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225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58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68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901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511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44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54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87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797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330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940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73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083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616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15192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3352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1371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00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2514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743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3657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886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4723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29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5866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172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009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315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8152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458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4197240" y="1378080"/>
            <a:ext cx="216000" cy="215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139840" y="290196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996840" y="419724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454040" y="511164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758960" y="587376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cktracking Depth-First Searc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197240" y="1378080"/>
            <a:ext cx="216000" cy="2156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285640" y="1600200"/>
            <a:ext cx="198108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39840" y="2901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286000" y="167652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19720" y="1600200"/>
            <a:ext cx="20574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407280" y="2901960"/>
            <a:ext cx="21564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257800" y="160020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066680" y="3124080"/>
            <a:ext cx="10670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996840" y="41972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33520" y="327672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286000" y="3124080"/>
            <a:ext cx="9907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06880" y="4121280"/>
            <a:ext cx="215640" cy="2156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95480" y="327672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5562720" y="3124080"/>
            <a:ext cx="8380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416560" y="4044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952880" y="320040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629400" y="3124080"/>
            <a:ext cx="9907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626240" y="3968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38880" y="312408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533160" y="4419720"/>
            <a:ext cx="5331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8736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143000" y="44197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454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2666880" y="4343400"/>
            <a:ext cx="60984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597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352680" y="4343400"/>
            <a:ext cx="4572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740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5029200" y="4267080"/>
            <a:ext cx="4572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883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562720" y="4267080"/>
            <a:ext cx="53316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26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7238880" y="4191120"/>
            <a:ext cx="4572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169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848720" y="4191120"/>
            <a:ext cx="6094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312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82440" y="5334120"/>
            <a:ext cx="8750520" cy="755640"/>
            <a:chOff x="82440" y="5334120"/>
            <a:chExt cx="8750520" cy="755640"/>
          </a:xfrm>
        </p:grpSpPr>
        <p:sp>
          <p:nvSpPr>
            <p:cNvPr id="528" name=""/>
            <p:cNvSpPr/>
            <p:nvPr/>
          </p:nvSpPr>
          <p:spPr>
            <a:xfrm>
              <a:off x="82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15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25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758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368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901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511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44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654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187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797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330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940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73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083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616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15192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352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1371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600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2514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743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657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86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4723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29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5866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72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7009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315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8152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458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4197240" y="1378080"/>
            <a:ext cx="216000" cy="215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9840" y="290196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996840" y="419724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454040" y="511164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454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996840" y="41972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06880" y="4121280"/>
            <a:ext cx="215640" cy="215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97040" y="511164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368440" y="587376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O(2</a:t>
            </a:r>
            <a:r>
              <a:rPr b="0" lang="en-US" sz="4000" spc="-1" strike="noStrike" baseline="30000">
                <a:solidFill>
                  <a:srgbClr val="000099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) Subet Sum &amp; Bounding Func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82440" y="1378080"/>
            <a:ext cx="8750520" cy="4711680"/>
            <a:chOff x="82440" y="1378080"/>
            <a:chExt cx="8750520" cy="4711680"/>
          </a:xfrm>
        </p:grpSpPr>
        <p:sp>
          <p:nvSpPr>
            <p:cNvPr id="571" name=""/>
            <p:cNvSpPr/>
            <p:nvPr/>
          </p:nvSpPr>
          <p:spPr>
            <a:xfrm>
              <a:off x="4197240" y="1378080"/>
              <a:ext cx="216000" cy="2156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2285640" y="1600200"/>
              <a:ext cx="1981080" cy="12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39840" y="29019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86000" y="1676520"/>
              <a:ext cx="106668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=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419720" y="1600200"/>
              <a:ext cx="2057400" cy="12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407280" y="2901960"/>
              <a:ext cx="21564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57800" y="1600200"/>
              <a:ext cx="106668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= 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1066680" y="3124080"/>
              <a:ext cx="106704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996840" y="419724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33520" y="3276720"/>
              <a:ext cx="106668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=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286000" y="3124080"/>
              <a:ext cx="99072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206880" y="4121280"/>
              <a:ext cx="215640" cy="2156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895480" y="3276720"/>
              <a:ext cx="10670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= 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5562720" y="3124080"/>
              <a:ext cx="83808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416560" y="40449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952880" y="3200400"/>
              <a:ext cx="10670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=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629400" y="3124080"/>
              <a:ext cx="9907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626240" y="396864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238880" y="3124080"/>
              <a:ext cx="10670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= 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533160" y="4419720"/>
              <a:ext cx="53316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87360" y="511164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143000" y="441972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454040" y="511164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2666880" y="4343400"/>
              <a:ext cx="60984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97040" y="511164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352680" y="4343400"/>
              <a:ext cx="45720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40040" y="511164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5029200" y="4267080"/>
              <a:ext cx="4572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83040" y="511164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62720" y="4267080"/>
              <a:ext cx="53316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026040" y="511164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7238880" y="4191120"/>
              <a:ext cx="45720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169040" y="511164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848720" y="4191120"/>
              <a:ext cx="60948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12040" y="511164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82440" y="5334120"/>
              <a:ext cx="8750520" cy="755640"/>
              <a:chOff x="82440" y="5334120"/>
              <a:chExt cx="8750520" cy="755640"/>
            </a:xfrm>
          </p:grpSpPr>
          <p:sp>
            <p:nvSpPr>
              <p:cNvPr id="607" name=""/>
              <p:cNvSpPr/>
              <p:nvPr/>
            </p:nvSpPr>
            <p:spPr>
              <a:xfrm>
                <a:off x="8244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1596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22544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75896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36844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90196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51144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04496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65444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18796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79744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33096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94044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47396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08344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616960" y="5873760"/>
                <a:ext cx="216000" cy="216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151920" y="5334120"/>
                <a:ext cx="30492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33520" y="5334120"/>
                <a:ext cx="15228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1371240" y="5334120"/>
                <a:ext cx="15228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600200" y="5334120"/>
                <a:ext cx="22860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2514240" y="5334120"/>
                <a:ext cx="15228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743200" y="5334120"/>
                <a:ext cx="22860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3657240" y="5334120"/>
                <a:ext cx="15228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886200" y="5334120"/>
                <a:ext cx="22860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4723920" y="5334120"/>
                <a:ext cx="22860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029200" y="5334120"/>
                <a:ext cx="30492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5866920" y="5334120"/>
                <a:ext cx="22860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172200" y="5334120"/>
                <a:ext cx="30492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7009920" y="5334120"/>
                <a:ext cx="22860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315200" y="5334120"/>
                <a:ext cx="30492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8152920" y="5334120"/>
                <a:ext cx="22860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458200" y="5334120"/>
                <a:ext cx="30492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9" name=""/>
          <p:cNvSpPr/>
          <p:nvPr/>
        </p:nvSpPr>
        <p:spPr>
          <a:xfrm>
            <a:off x="76320" y="6324480"/>
            <a:ext cx="8839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forward and backward move tak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7621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{10, 5, 2, 1}, c = 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ounding Func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node that represents a subset whose sum equals the desired su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ermin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node that represents a subset whose sum exceeds the desired su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acktrack. I.e., do not enter its subtrees, go back to parent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a variabl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gives you the sum of the numbers not yet considered. When you move to a right child, check 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urrent subset sum + r &gt;=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If not, backtr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cktrack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 required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tree heigh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effective bounding functions, large instances can often be sol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some problems (e.g., 0/1 knapsack), the answer (or a very good solution) may be found quickly but a lot of additional time is needed to complete the search of the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acktracking for as much time as is feasible and use best solution found up to that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anch And Boun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the tree using a breadth-first searc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FIF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ranch and bound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the tree as in a bfs, but replace the FIFO queue with a stack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LIFO branch and bound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he FIFO queue with a priority queu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least-cost (or max priority) branch and bound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The priority of a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queue is based on an estimate of the likelihood that the answer node is in the subtree whose root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anch And Boun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 required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umber of leave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some problems, solutions are at different levels of the tree (e.g., 16 puzzl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648320" y="3505320"/>
            <a:ext cx="1828800" cy="1602720"/>
            <a:chOff x="4648320" y="3505320"/>
            <a:chExt cx="1828800" cy="1602720"/>
          </a:xfrm>
        </p:grpSpPr>
        <p:grpSp>
          <p:nvGrpSpPr>
            <p:cNvPr id="650" name=""/>
            <p:cNvGrpSpPr/>
            <p:nvPr/>
          </p:nvGrpSpPr>
          <p:grpSpPr>
            <a:xfrm>
              <a:off x="4724280" y="4343400"/>
              <a:ext cx="749520" cy="748800"/>
              <a:chOff x="4724280" y="4343400"/>
              <a:chExt cx="749520" cy="748800"/>
            </a:xfrm>
          </p:grpSpPr>
          <p:sp>
            <p:nvSpPr>
              <p:cNvPr id="651" name=""/>
              <p:cNvSpPr/>
              <p:nvPr/>
            </p:nvSpPr>
            <p:spPr>
              <a:xfrm>
                <a:off x="4724280" y="4724280"/>
                <a:ext cx="368280" cy="367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105520" y="4724280"/>
                <a:ext cx="368280" cy="367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724280" y="4343400"/>
                <a:ext cx="368280" cy="367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105520" y="4343400"/>
                <a:ext cx="368280" cy="367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5" name=""/>
            <p:cNvSpPr/>
            <p:nvPr/>
          </p:nvSpPr>
          <p:spPr>
            <a:xfrm>
              <a:off x="5486400" y="47242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867280" y="47242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486400" y="434340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867280" y="434340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9" name=""/>
            <p:cNvGrpSpPr/>
            <p:nvPr/>
          </p:nvGrpSpPr>
          <p:grpSpPr>
            <a:xfrm>
              <a:off x="4724280" y="3581280"/>
              <a:ext cx="1511280" cy="749160"/>
              <a:chOff x="4724280" y="3581280"/>
              <a:chExt cx="1511280" cy="749160"/>
            </a:xfrm>
          </p:grpSpPr>
          <p:grpSp>
            <p:nvGrpSpPr>
              <p:cNvPr id="660" name=""/>
              <p:cNvGrpSpPr/>
              <p:nvPr/>
            </p:nvGrpSpPr>
            <p:grpSpPr>
              <a:xfrm>
                <a:off x="4724280" y="3581280"/>
                <a:ext cx="749520" cy="749160"/>
                <a:chOff x="4724280" y="3581280"/>
                <a:chExt cx="749520" cy="74916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4724280" y="3962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5105520" y="3962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724280" y="3581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105520" y="3581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5486400" y="3581280"/>
                <a:ext cx="749160" cy="749160"/>
                <a:chOff x="5486400" y="3581280"/>
                <a:chExt cx="749160" cy="74916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5486400" y="3962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867280" y="3962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486400" y="3581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867280" y="3581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70" name=""/>
            <p:cNvSpPr/>
            <p:nvPr/>
          </p:nvSpPr>
          <p:spPr>
            <a:xfrm>
              <a:off x="5105520" y="35812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867280" y="396252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724280" y="434340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486400" y="4726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724280" y="3505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05520" y="3505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486400" y="3505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867280" y="3505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724280" y="38862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81480" y="38862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486400" y="38862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867280" y="38862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724280" y="4267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02920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41008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79132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64832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02920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41008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1143000" y="3505320"/>
            <a:ext cx="1828800" cy="1602720"/>
            <a:chOff x="1143000" y="3505320"/>
            <a:chExt cx="1828800" cy="1602720"/>
          </a:xfrm>
        </p:grpSpPr>
        <p:grpSp>
          <p:nvGrpSpPr>
            <p:cNvPr id="690" name=""/>
            <p:cNvGrpSpPr/>
            <p:nvPr/>
          </p:nvGrpSpPr>
          <p:grpSpPr>
            <a:xfrm>
              <a:off x="1219320" y="4343400"/>
              <a:ext cx="748800" cy="748800"/>
              <a:chOff x="1219320" y="4343400"/>
              <a:chExt cx="748800" cy="748800"/>
            </a:xfrm>
          </p:grpSpPr>
          <p:sp>
            <p:nvSpPr>
              <p:cNvPr id="691" name=""/>
              <p:cNvSpPr/>
              <p:nvPr/>
            </p:nvSpPr>
            <p:spPr>
              <a:xfrm>
                <a:off x="1219320" y="4724280"/>
                <a:ext cx="367920" cy="367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600200" y="4724280"/>
                <a:ext cx="367920" cy="367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219320" y="4343400"/>
                <a:ext cx="367920" cy="367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600200" y="4343400"/>
                <a:ext cx="367920" cy="367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>
              <a:off x="1981080" y="47242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362320" y="47242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981080" y="434340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362320" y="434340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1219320" y="3581280"/>
              <a:ext cx="1511280" cy="749160"/>
              <a:chOff x="1219320" y="3581280"/>
              <a:chExt cx="1511280" cy="749160"/>
            </a:xfrm>
          </p:grpSpPr>
          <p:grpSp>
            <p:nvGrpSpPr>
              <p:cNvPr id="700" name=""/>
              <p:cNvGrpSpPr/>
              <p:nvPr/>
            </p:nvGrpSpPr>
            <p:grpSpPr>
              <a:xfrm>
                <a:off x="1219320" y="3581280"/>
                <a:ext cx="749520" cy="749160"/>
                <a:chOff x="1219320" y="3581280"/>
                <a:chExt cx="749520" cy="74916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1219320" y="3962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1600560" y="3962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1219320" y="3581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1600560" y="3581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1981440" y="3581280"/>
                <a:ext cx="749160" cy="749160"/>
                <a:chOff x="1981440" y="3581280"/>
                <a:chExt cx="749160" cy="74916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1981440" y="3962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362320" y="3962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1981440" y="3581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2362320" y="3581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0" name=""/>
            <p:cNvSpPr/>
            <p:nvPr/>
          </p:nvSpPr>
          <p:spPr>
            <a:xfrm>
              <a:off x="1600200" y="35812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362320" y="396252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219320" y="434340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981080" y="4726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362320" y="3505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057400" y="38862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676520" y="38862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219320" y="3505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981080" y="4267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295280" y="4267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14300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905120" y="3505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28600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28600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60020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8600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295280" y="4648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057400" y="4648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76520" y="4648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anch And Boun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O branch and bound finds solution closest to ro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tracking may never find a solution because tree depth is infinite (unless repeating configurations are eliminat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st-cost branch and bound directs the search to parts of the space most likely to contain the answer. So it could perform better than backtrac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ubset &amp; Permutation Problem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et problem of siz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systematic search of the space for the answer take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p2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, where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time needed to evaluate each member of the solution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utation problem of siz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systematic search of the space for the answer take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pn!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, where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time needed to evaluate each member of the solution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tracking and branch and bound perform a systematic search; often taking much less time than taken by a nonsystematic searc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ree Organization Of Solution Spa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a tree structure such that the leaves represent members of the solution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siz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bset problem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tree structure ha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siz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mutation problem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tree structure ha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ee structure is too big to store in memory; it also takes too much time to create the tree struc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ions of the tree structure are created by the backtracking and branch and bound algorithms as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ubset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full binary tree that ha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leve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mbers of the solution space are partitioned by thei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bers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in the left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bers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in the right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exchange roles of left and right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ubset Tree For n = 4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7240" y="1378080"/>
            <a:ext cx="216000" cy="2156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85640" y="1600200"/>
            <a:ext cx="198108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9840" y="2901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167652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1600200"/>
            <a:ext cx="20574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07280" y="2901960"/>
            <a:ext cx="21564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160020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066680" y="3124080"/>
            <a:ext cx="10670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96840" y="41972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327672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3124080"/>
            <a:ext cx="9907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06880" y="4121280"/>
            <a:ext cx="215640" cy="2156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95480" y="327672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562720" y="3124080"/>
            <a:ext cx="8380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16560" y="4044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320040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29400" y="3124080"/>
            <a:ext cx="9907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6240" y="3968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238880" y="312408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33160" y="4419720"/>
            <a:ext cx="5331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736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34340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4197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54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434340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666880" y="4343400"/>
            <a:ext cx="60984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7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2680" y="4343400"/>
            <a:ext cx="4572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40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029200" y="4267080"/>
            <a:ext cx="4572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83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62720" y="4267080"/>
            <a:ext cx="53316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26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7238880" y="4191120"/>
            <a:ext cx="4572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69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8720" y="4191120"/>
            <a:ext cx="6094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12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2440" y="5334120"/>
            <a:ext cx="8750520" cy="755640"/>
            <a:chOff x="82440" y="5334120"/>
            <a:chExt cx="8750520" cy="755640"/>
          </a:xfrm>
        </p:grpSpPr>
        <p:sp>
          <p:nvSpPr>
            <p:cNvPr id="98" name=""/>
            <p:cNvSpPr/>
            <p:nvPr/>
          </p:nvSpPr>
          <p:spPr>
            <a:xfrm>
              <a:off x="82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5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5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58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68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01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11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44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54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87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97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30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40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73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083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616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15192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352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371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00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514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3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3657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4723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029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5866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72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7009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15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8152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458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85800" y="518148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62520" y="525780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624852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1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624996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67080" y="617544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6080" y="609912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ermutation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tree that ha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!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leve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mbers of the solution space are partitioned by thei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bers (if any)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in the first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bers (if any)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in the next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so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ermutation Tree For n = 3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97240" y="1378080"/>
            <a:ext cx="216000" cy="2156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523880" y="1600200"/>
            <a:ext cx="27432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54040" y="2901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167652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16002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97240" y="2901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05320" y="182880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19720" y="1600200"/>
            <a:ext cx="259056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40440" y="2901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57800" y="160020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914040" y="3124080"/>
            <a:ext cx="60948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8240" y="41972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327672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00200" y="3124080"/>
            <a:ext cx="45720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11240" y="41972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327672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657240" y="3124080"/>
            <a:ext cx="60948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11440" y="41972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27672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43400" y="3124080"/>
            <a:ext cx="45720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54440" y="41972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327672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400440" y="3124080"/>
            <a:ext cx="60948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54640" y="41972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15000" y="327672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86600" y="3124080"/>
            <a:ext cx="45720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97640" y="41972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327672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4197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8240" y="5187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449568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4419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87560" y="5187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449568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44197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11440" y="5187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449568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4419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30760" y="5187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449568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44197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54640" y="5187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86400" y="449568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43800" y="4419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73960" y="5187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0120" y="4495680"/>
            <a:ext cx="106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548640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548640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548640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548640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5880" y="548640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15200" y="548640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cktrack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the solution space tree in a depth-first man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done recursively or use a stack to retain the path from the root to the current node in the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 solution space tree exists only in your mind, not in the compu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cktracking Depth-First Searc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7240" y="1378080"/>
            <a:ext cx="216000" cy="2156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285640" y="1600200"/>
            <a:ext cx="198108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39840" y="2901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67652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19720" y="1600200"/>
            <a:ext cx="20574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07280" y="2901960"/>
            <a:ext cx="21564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160020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066680" y="3124080"/>
            <a:ext cx="10670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6840" y="41972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327672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124080"/>
            <a:ext cx="9907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06880" y="4121280"/>
            <a:ext cx="215640" cy="2156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327672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562720" y="3124080"/>
            <a:ext cx="8380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16560" y="404496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52880" y="320040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629400" y="3124080"/>
            <a:ext cx="9907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6240" y="3968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238880" y="312408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33160" y="4419720"/>
            <a:ext cx="5331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736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44197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54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2666880" y="4343400"/>
            <a:ext cx="60984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7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52680" y="4343400"/>
            <a:ext cx="4572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40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5029200" y="4267080"/>
            <a:ext cx="4572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83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62720" y="4267080"/>
            <a:ext cx="53316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26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238880" y="4191120"/>
            <a:ext cx="4572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69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848720" y="4191120"/>
            <a:ext cx="6094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12040" y="5111640"/>
            <a:ext cx="216000" cy="216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82440" y="5334120"/>
            <a:ext cx="8750520" cy="755640"/>
            <a:chOff x="82440" y="5334120"/>
            <a:chExt cx="8750520" cy="755640"/>
          </a:xfrm>
        </p:grpSpPr>
        <p:sp>
          <p:nvSpPr>
            <p:cNvPr id="230" name=""/>
            <p:cNvSpPr/>
            <p:nvPr/>
          </p:nvSpPr>
          <p:spPr>
            <a:xfrm>
              <a:off x="82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5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25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58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368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01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11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44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54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87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797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30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940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73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8344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616960" y="5873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15192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352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1371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00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514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43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3657240" y="53341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8620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4723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29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866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72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009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15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8152920" y="5334120"/>
              <a:ext cx="228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458200" y="53341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4197240" y="1378080"/>
            <a:ext cx="216000" cy="215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139840" y="290196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96840" y="419724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7360" y="511164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2440" y="5873760"/>
            <a:ext cx="216000" cy="21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4-08-05T18:10:29Z</dcterms:modified>
  <cp:revision>223</cp:revision>
  <dc:subject/>
  <dc:title>Data Representation Methods</dc:title>
</cp:coreProperties>
</file>