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3B4D-8112-49CF-AC52-0BE3FE94C23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d(v,0) is infinity except when v = 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0E6-7695-47C4-9D48-8DBF0EB5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749-AA27-4528-B6E6-FDB13A68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98A-F310-48C7-963C-598A780B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DD60-E229-49AE-A093-F1FF1FBA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CE7-4B8B-4AA1-B955-8E1AEF84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F50-C9AC-4252-AF3B-2DF9C861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ACD1-FB1B-432E-8DA4-D1423460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F58-51B4-4343-8EA6-0BE76D8A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47A-4430-46B6-8BB7-4A2242D5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A16-73B4-4060-899E-595D3ADC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698-6372-41B0-929B-8BE31EE0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6D2-7440-412C-A331-9B2AAB46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E995-3352-4610-924E-73DD4175A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-Source All-Destinations Shortest Paths With Negative Co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 weighted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may have negative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ycle whose cos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hortest path from a given source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es of the di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YELLOW-B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20400" cy="320400"/>
          </a:xfrm>
          <a:prstGeom prst="rect">
            <a:avLst/>
          </a:prstGeom>
          <a:ln w="0">
            <a:noFill/>
          </a:ln>
        </p:spPr>
      </p:pic>
      <p:pic>
        <p:nvPicPr>
          <p:cNvPr id="51" name="YELLOW-B" descr=""/>
          <p:cNvPicPr/>
          <p:nvPr/>
        </p:nvPicPr>
        <p:blipFill>
          <a:blip r:embed="rId2"/>
          <a:stretch/>
        </p:blipFill>
        <p:spPr>
          <a:xfrm>
            <a:off x="8381880" y="990720"/>
            <a:ext cx="3207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d(*,k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know w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ass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(v,k) = min{d(w,k-1) + length of edge (w,v)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aken over al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w,v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edge of the di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the two cases considered yiel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(v,k) = min{d(v,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{d(w,k-1) + length of edge (w,v)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9680" y="168264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152388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83040" y="168264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152388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7440" y="168264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152388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1905120"/>
            <a:ext cx="175284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1440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d(w,k-1) + length of edge (w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seudocode To Compute d(*,*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/ initialize d(*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s,0)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v,0) = infinity, v != 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/ compute d(*,k), 0 &lt; k &lt;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 = 1; k &lt; n; k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v,k) = d(v,0), 1 &lt;= v &lt;= 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ach edge (u,v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v,k) = min{d(v,k), d(u,k-1) + cost(u,v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itial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jacency matrix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jacency last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jacency matrix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jacency list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needed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*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CLOCK43" descr=""/>
          <p:cNvPicPr/>
          <p:nvPr/>
        </p:nvPicPr>
        <p:blipFill>
          <a:blip r:embed="rId1"/>
          <a:stretch/>
        </p:blipFill>
        <p:spPr>
          <a:xfrm>
            <a:off x="7620120" y="0"/>
            <a:ext cx="46836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(*,*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vertex just before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shortest path f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(v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,0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undef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onstruct shortest pa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800280" y="609480"/>
            <a:ext cx="7651440" cy="3110040"/>
            <a:chOff x="800280" y="609480"/>
            <a:chExt cx="7651440" cy="3110040"/>
          </a:xfrm>
        </p:grpSpPr>
        <p:sp>
          <p:nvSpPr>
            <p:cNvPr id="128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828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364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070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60720" y="2117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11840" y="1149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65480" y="1127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05120" y="16765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8800" y="190512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57600" y="182880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327672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57800" y="2438280"/>
              <a:ext cx="2819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733920" y="137124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0" y="1219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3720" y="18288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00600" y="9907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2200" y="2286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1120" y="16002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181480" y="1523520"/>
              <a:ext cx="1676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48520" y="16765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19051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05320" y="21337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0280" y="884160"/>
              <a:ext cx="6094080" cy="2470320"/>
            </a:xfrm>
            <a:custGeom>
              <a:avLst/>
              <a:gdLst/>
              <a:ahLst/>
              <a:rect l="l" t="t" r="r" b="b"/>
              <a:pathLst>
                <a:path w="3839" h="1556">
                  <a:moveTo>
                    <a:pt x="1512" y="1555"/>
                  </a:moveTo>
                  <a:lnTo>
                    <a:pt x="1462" y="1544"/>
                  </a:lnTo>
                  <a:lnTo>
                    <a:pt x="1371" y="1544"/>
                  </a:lnTo>
                  <a:lnTo>
                    <a:pt x="1302" y="1544"/>
                  </a:lnTo>
                  <a:lnTo>
                    <a:pt x="1165" y="1544"/>
                  </a:lnTo>
                  <a:lnTo>
                    <a:pt x="1074" y="1532"/>
                  </a:lnTo>
                  <a:lnTo>
                    <a:pt x="982" y="1521"/>
                  </a:lnTo>
                  <a:lnTo>
                    <a:pt x="914" y="1521"/>
                  </a:lnTo>
                  <a:lnTo>
                    <a:pt x="845" y="1521"/>
                  </a:lnTo>
                  <a:lnTo>
                    <a:pt x="754" y="1521"/>
                  </a:lnTo>
                  <a:lnTo>
                    <a:pt x="719" y="1521"/>
                  </a:lnTo>
                  <a:lnTo>
                    <a:pt x="685" y="1509"/>
                  </a:lnTo>
                  <a:lnTo>
                    <a:pt x="617" y="1486"/>
                  </a:lnTo>
                  <a:lnTo>
                    <a:pt x="525" y="1475"/>
                  </a:lnTo>
                  <a:lnTo>
                    <a:pt x="434" y="1464"/>
                  </a:lnTo>
                  <a:lnTo>
                    <a:pt x="365" y="1452"/>
                  </a:lnTo>
                  <a:lnTo>
                    <a:pt x="320" y="1429"/>
                  </a:lnTo>
                  <a:lnTo>
                    <a:pt x="274" y="1395"/>
                  </a:lnTo>
                  <a:lnTo>
                    <a:pt x="251" y="1326"/>
                  </a:lnTo>
                  <a:lnTo>
                    <a:pt x="217" y="1304"/>
                  </a:lnTo>
                  <a:lnTo>
                    <a:pt x="148" y="1212"/>
                  </a:lnTo>
                  <a:lnTo>
                    <a:pt x="34" y="1075"/>
                  </a:lnTo>
                  <a:lnTo>
                    <a:pt x="22" y="983"/>
                  </a:lnTo>
                  <a:lnTo>
                    <a:pt x="0" y="938"/>
                  </a:lnTo>
                  <a:lnTo>
                    <a:pt x="0" y="892"/>
                  </a:lnTo>
                  <a:lnTo>
                    <a:pt x="0" y="858"/>
                  </a:lnTo>
                  <a:lnTo>
                    <a:pt x="0" y="823"/>
                  </a:lnTo>
                  <a:lnTo>
                    <a:pt x="0" y="778"/>
                  </a:lnTo>
                  <a:lnTo>
                    <a:pt x="0" y="709"/>
                  </a:lnTo>
                  <a:lnTo>
                    <a:pt x="0" y="641"/>
                  </a:lnTo>
                  <a:lnTo>
                    <a:pt x="0" y="595"/>
                  </a:lnTo>
                  <a:lnTo>
                    <a:pt x="0" y="561"/>
                  </a:lnTo>
                  <a:lnTo>
                    <a:pt x="0" y="526"/>
                  </a:lnTo>
                  <a:lnTo>
                    <a:pt x="22" y="458"/>
                  </a:lnTo>
                  <a:lnTo>
                    <a:pt x="34" y="366"/>
                  </a:lnTo>
                  <a:lnTo>
                    <a:pt x="45" y="298"/>
                  </a:lnTo>
                  <a:lnTo>
                    <a:pt x="68" y="252"/>
                  </a:lnTo>
                  <a:lnTo>
                    <a:pt x="102" y="218"/>
                  </a:lnTo>
                  <a:lnTo>
                    <a:pt x="137" y="206"/>
                  </a:lnTo>
                  <a:lnTo>
                    <a:pt x="171" y="195"/>
                  </a:lnTo>
                  <a:lnTo>
                    <a:pt x="205" y="183"/>
                  </a:lnTo>
                  <a:lnTo>
                    <a:pt x="240" y="172"/>
                  </a:lnTo>
                  <a:lnTo>
                    <a:pt x="308" y="172"/>
                  </a:lnTo>
                  <a:lnTo>
                    <a:pt x="400" y="172"/>
                  </a:lnTo>
                  <a:lnTo>
                    <a:pt x="468" y="172"/>
                  </a:lnTo>
                  <a:lnTo>
                    <a:pt x="514" y="160"/>
                  </a:lnTo>
                  <a:lnTo>
                    <a:pt x="548" y="160"/>
                  </a:lnTo>
                  <a:lnTo>
                    <a:pt x="582" y="138"/>
                  </a:lnTo>
                  <a:lnTo>
                    <a:pt x="617" y="115"/>
                  </a:lnTo>
                  <a:lnTo>
                    <a:pt x="651" y="115"/>
                  </a:lnTo>
                  <a:lnTo>
                    <a:pt x="674" y="80"/>
                  </a:lnTo>
                  <a:lnTo>
                    <a:pt x="857" y="103"/>
                  </a:lnTo>
                  <a:lnTo>
                    <a:pt x="994" y="103"/>
                  </a:lnTo>
                  <a:lnTo>
                    <a:pt x="1085" y="103"/>
                  </a:lnTo>
                  <a:lnTo>
                    <a:pt x="1119" y="103"/>
                  </a:lnTo>
                  <a:lnTo>
                    <a:pt x="1199" y="103"/>
                  </a:lnTo>
                  <a:lnTo>
                    <a:pt x="1291" y="103"/>
                  </a:lnTo>
                  <a:lnTo>
                    <a:pt x="1451" y="115"/>
                  </a:lnTo>
                  <a:lnTo>
                    <a:pt x="1485" y="115"/>
                  </a:lnTo>
                  <a:lnTo>
                    <a:pt x="1519" y="115"/>
                  </a:lnTo>
                  <a:lnTo>
                    <a:pt x="1553" y="115"/>
                  </a:lnTo>
                  <a:lnTo>
                    <a:pt x="1588" y="115"/>
                  </a:lnTo>
                  <a:lnTo>
                    <a:pt x="1622" y="115"/>
                  </a:lnTo>
                  <a:lnTo>
                    <a:pt x="1691" y="92"/>
                  </a:lnTo>
                  <a:lnTo>
                    <a:pt x="1759" y="92"/>
                  </a:lnTo>
                  <a:lnTo>
                    <a:pt x="1850" y="92"/>
                  </a:lnTo>
                  <a:lnTo>
                    <a:pt x="1965" y="92"/>
                  </a:lnTo>
                  <a:lnTo>
                    <a:pt x="2102" y="92"/>
                  </a:lnTo>
                  <a:lnTo>
                    <a:pt x="2136" y="92"/>
                  </a:lnTo>
                  <a:lnTo>
                    <a:pt x="2170" y="92"/>
                  </a:lnTo>
                  <a:lnTo>
                    <a:pt x="2205" y="92"/>
                  </a:lnTo>
                  <a:lnTo>
                    <a:pt x="2319" y="80"/>
                  </a:lnTo>
                  <a:lnTo>
                    <a:pt x="2433" y="58"/>
                  </a:lnTo>
                  <a:lnTo>
                    <a:pt x="2502" y="46"/>
                  </a:lnTo>
                  <a:lnTo>
                    <a:pt x="2570" y="35"/>
                  </a:lnTo>
                  <a:lnTo>
                    <a:pt x="2639" y="23"/>
                  </a:lnTo>
                  <a:lnTo>
                    <a:pt x="2684" y="12"/>
                  </a:lnTo>
                  <a:lnTo>
                    <a:pt x="2730" y="0"/>
                  </a:lnTo>
                  <a:lnTo>
                    <a:pt x="2776" y="0"/>
                  </a:lnTo>
                  <a:lnTo>
                    <a:pt x="2867" y="0"/>
                  </a:lnTo>
                  <a:lnTo>
                    <a:pt x="2936" y="0"/>
                  </a:lnTo>
                  <a:lnTo>
                    <a:pt x="2970" y="0"/>
                  </a:lnTo>
                  <a:lnTo>
                    <a:pt x="3016" y="0"/>
                  </a:lnTo>
                  <a:lnTo>
                    <a:pt x="3061" y="0"/>
                  </a:lnTo>
                  <a:lnTo>
                    <a:pt x="3096" y="0"/>
                  </a:lnTo>
                  <a:lnTo>
                    <a:pt x="3164" y="0"/>
                  </a:lnTo>
                  <a:lnTo>
                    <a:pt x="3233" y="0"/>
                  </a:lnTo>
                  <a:lnTo>
                    <a:pt x="3267" y="0"/>
                  </a:lnTo>
                  <a:lnTo>
                    <a:pt x="3301" y="0"/>
                  </a:lnTo>
                  <a:lnTo>
                    <a:pt x="3336" y="0"/>
                  </a:lnTo>
                  <a:lnTo>
                    <a:pt x="3450" y="0"/>
                  </a:lnTo>
                  <a:lnTo>
                    <a:pt x="3484" y="0"/>
                  </a:lnTo>
                  <a:lnTo>
                    <a:pt x="3553" y="12"/>
                  </a:lnTo>
                  <a:lnTo>
                    <a:pt x="3644" y="12"/>
                  </a:lnTo>
                  <a:lnTo>
                    <a:pt x="3736" y="23"/>
                  </a:lnTo>
                  <a:lnTo>
                    <a:pt x="3770" y="35"/>
                  </a:lnTo>
                  <a:lnTo>
                    <a:pt x="3804" y="69"/>
                  </a:lnTo>
                  <a:lnTo>
                    <a:pt x="3816" y="103"/>
                  </a:lnTo>
                  <a:lnTo>
                    <a:pt x="3838" y="1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609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3200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vertex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454040" y="1432080"/>
            <a:ext cx="444600" cy="466560"/>
            <a:chOff x="1454040" y="1432080"/>
            <a:chExt cx="444600" cy="466560"/>
          </a:xfrm>
        </p:grpSpPr>
        <p:sp>
          <p:nvSpPr>
            <p:cNvPr id="160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800280" y="609480"/>
            <a:ext cx="7651440" cy="3110040"/>
            <a:chOff x="800280" y="609480"/>
            <a:chExt cx="7651440" cy="3110040"/>
          </a:xfrm>
        </p:grpSpPr>
        <p:sp>
          <p:nvSpPr>
            <p:cNvPr id="164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828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364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70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60720" y="2117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11840" y="1149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65480" y="1127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5120" y="16765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28800" y="190512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57600" y="182880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57600" y="327672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2438280"/>
              <a:ext cx="2819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733920" y="137124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86000" y="1219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3720" y="18288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00600" y="9907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72200" y="2286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91120" y="16002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181480" y="1523520"/>
              <a:ext cx="1676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48520" y="16765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05320" y="19051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21337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0280" y="884160"/>
              <a:ext cx="6094080" cy="2470320"/>
            </a:xfrm>
            <a:custGeom>
              <a:avLst/>
              <a:gdLst/>
              <a:ahLst/>
              <a:rect l="l" t="t" r="r" b="b"/>
              <a:pathLst>
                <a:path w="3839" h="1556">
                  <a:moveTo>
                    <a:pt x="1512" y="1555"/>
                  </a:moveTo>
                  <a:lnTo>
                    <a:pt x="1462" y="1544"/>
                  </a:lnTo>
                  <a:lnTo>
                    <a:pt x="1371" y="1544"/>
                  </a:lnTo>
                  <a:lnTo>
                    <a:pt x="1302" y="1544"/>
                  </a:lnTo>
                  <a:lnTo>
                    <a:pt x="1165" y="1544"/>
                  </a:lnTo>
                  <a:lnTo>
                    <a:pt x="1074" y="1532"/>
                  </a:lnTo>
                  <a:lnTo>
                    <a:pt x="982" y="1521"/>
                  </a:lnTo>
                  <a:lnTo>
                    <a:pt x="914" y="1521"/>
                  </a:lnTo>
                  <a:lnTo>
                    <a:pt x="845" y="1521"/>
                  </a:lnTo>
                  <a:lnTo>
                    <a:pt x="754" y="1521"/>
                  </a:lnTo>
                  <a:lnTo>
                    <a:pt x="719" y="1521"/>
                  </a:lnTo>
                  <a:lnTo>
                    <a:pt x="685" y="1509"/>
                  </a:lnTo>
                  <a:lnTo>
                    <a:pt x="617" y="1486"/>
                  </a:lnTo>
                  <a:lnTo>
                    <a:pt x="525" y="1475"/>
                  </a:lnTo>
                  <a:lnTo>
                    <a:pt x="434" y="1464"/>
                  </a:lnTo>
                  <a:lnTo>
                    <a:pt x="365" y="1452"/>
                  </a:lnTo>
                  <a:lnTo>
                    <a:pt x="320" y="1429"/>
                  </a:lnTo>
                  <a:lnTo>
                    <a:pt x="274" y="1395"/>
                  </a:lnTo>
                  <a:lnTo>
                    <a:pt x="251" y="1326"/>
                  </a:lnTo>
                  <a:lnTo>
                    <a:pt x="217" y="1304"/>
                  </a:lnTo>
                  <a:lnTo>
                    <a:pt x="148" y="1212"/>
                  </a:lnTo>
                  <a:lnTo>
                    <a:pt x="34" y="1075"/>
                  </a:lnTo>
                  <a:lnTo>
                    <a:pt x="22" y="983"/>
                  </a:lnTo>
                  <a:lnTo>
                    <a:pt x="0" y="938"/>
                  </a:lnTo>
                  <a:lnTo>
                    <a:pt x="0" y="892"/>
                  </a:lnTo>
                  <a:lnTo>
                    <a:pt x="0" y="858"/>
                  </a:lnTo>
                  <a:lnTo>
                    <a:pt x="0" y="823"/>
                  </a:lnTo>
                  <a:lnTo>
                    <a:pt x="0" y="778"/>
                  </a:lnTo>
                  <a:lnTo>
                    <a:pt x="0" y="709"/>
                  </a:lnTo>
                  <a:lnTo>
                    <a:pt x="0" y="641"/>
                  </a:lnTo>
                  <a:lnTo>
                    <a:pt x="0" y="595"/>
                  </a:lnTo>
                  <a:lnTo>
                    <a:pt x="0" y="561"/>
                  </a:lnTo>
                  <a:lnTo>
                    <a:pt x="0" y="526"/>
                  </a:lnTo>
                  <a:lnTo>
                    <a:pt x="22" y="458"/>
                  </a:lnTo>
                  <a:lnTo>
                    <a:pt x="34" y="366"/>
                  </a:lnTo>
                  <a:lnTo>
                    <a:pt x="45" y="298"/>
                  </a:lnTo>
                  <a:lnTo>
                    <a:pt x="68" y="252"/>
                  </a:lnTo>
                  <a:lnTo>
                    <a:pt x="102" y="218"/>
                  </a:lnTo>
                  <a:lnTo>
                    <a:pt x="137" y="206"/>
                  </a:lnTo>
                  <a:lnTo>
                    <a:pt x="171" y="195"/>
                  </a:lnTo>
                  <a:lnTo>
                    <a:pt x="205" y="183"/>
                  </a:lnTo>
                  <a:lnTo>
                    <a:pt x="240" y="172"/>
                  </a:lnTo>
                  <a:lnTo>
                    <a:pt x="308" y="172"/>
                  </a:lnTo>
                  <a:lnTo>
                    <a:pt x="400" y="172"/>
                  </a:lnTo>
                  <a:lnTo>
                    <a:pt x="468" y="172"/>
                  </a:lnTo>
                  <a:lnTo>
                    <a:pt x="514" y="160"/>
                  </a:lnTo>
                  <a:lnTo>
                    <a:pt x="548" y="160"/>
                  </a:lnTo>
                  <a:lnTo>
                    <a:pt x="582" y="138"/>
                  </a:lnTo>
                  <a:lnTo>
                    <a:pt x="617" y="115"/>
                  </a:lnTo>
                  <a:lnTo>
                    <a:pt x="651" y="115"/>
                  </a:lnTo>
                  <a:lnTo>
                    <a:pt x="674" y="80"/>
                  </a:lnTo>
                  <a:lnTo>
                    <a:pt x="857" y="103"/>
                  </a:lnTo>
                  <a:lnTo>
                    <a:pt x="994" y="103"/>
                  </a:lnTo>
                  <a:lnTo>
                    <a:pt x="1085" y="103"/>
                  </a:lnTo>
                  <a:lnTo>
                    <a:pt x="1119" y="103"/>
                  </a:lnTo>
                  <a:lnTo>
                    <a:pt x="1199" y="103"/>
                  </a:lnTo>
                  <a:lnTo>
                    <a:pt x="1291" y="103"/>
                  </a:lnTo>
                  <a:lnTo>
                    <a:pt x="1451" y="115"/>
                  </a:lnTo>
                  <a:lnTo>
                    <a:pt x="1485" y="115"/>
                  </a:lnTo>
                  <a:lnTo>
                    <a:pt x="1519" y="115"/>
                  </a:lnTo>
                  <a:lnTo>
                    <a:pt x="1553" y="115"/>
                  </a:lnTo>
                  <a:lnTo>
                    <a:pt x="1588" y="115"/>
                  </a:lnTo>
                  <a:lnTo>
                    <a:pt x="1622" y="115"/>
                  </a:lnTo>
                  <a:lnTo>
                    <a:pt x="1691" y="92"/>
                  </a:lnTo>
                  <a:lnTo>
                    <a:pt x="1759" y="92"/>
                  </a:lnTo>
                  <a:lnTo>
                    <a:pt x="1850" y="92"/>
                  </a:lnTo>
                  <a:lnTo>
                    <a:pt x="1965" y="92"/>
                  </a:lnTo>
                  <a:lnTo>
                    <a:pt x="2102" y="92"/>
                  </a:lnTo>
                  <a:lnTo>
                    <a:pt x="2136" y="92"/>
                  </a:lnTo>
                  <a:lnTo>
                    <a:pt x="2170" y="92"/>
                  </a:lnTo>
                  <a:lnTo>
                    <a:pt x="2205" y="92"/>
                  </a:lnTo>
                  <a:lnTo>
                    <a:pt x="2319" y="80"/>
                  </a:lnTo>
                  <a:lnTo>
                    <a:pt x="2433" y="58"/>
                  </a:lnTo>
                  <a:lnTo>
                    <a:pt x="2502" y="46"/>
                  </a:lnTo>
                  <a:lnTo>
                    <a:pt x="2570" y="35"/>
                  </a:lnTo>
                  <a:lnTo>
                    <a:pt x="2639" y="23"/>
                  </a:lnTo>
                  <a:lnTo>
                    <a:pt x="2684" y="12"/>
                  </a:lnTo>
                  <a:lnTo>
                    <a:pt x="2730" y="0"/>
                  </a:lnTo>
                  <a:lnTo>
                    <a:pt x="2776" y="0"/>
                  </a:lnTo>
                  <a:lnTo>
                    <a:pt x="2867" y="0"/>
                  </a:lnTo>
                  <a:lnTo>
                    <a:pt x="2936" y="0"/>
                  </a:lnTo>
                  <a:lnTo>
                    <a:pt x="2970" y="0"/>
                  </a:lnTo>
                  <a:lnTo>
                    <a:pt x="3016" y="0"/>
                  </a:lnTo>
                  <a:lnTo>
                    <a:pt x="3061" y="0"/>
                  </a:lnTo>
                  <a:lnTo>
                    <a:pt x="3096" y="0"/>
                  </a:lnTo>
                  <a:lnTo>
                    <a:pt x="3164" y="0"/>
                  </a:lnTo>
                  <a:lnTo>
                    <a:pt x="3233" y="0"/>
                  </a:lnTo>
                  <a:lnTo>
                    <a:pt x="3267" y="0"/>
                  </a:lnTo>
                  <a:lnTo>
                    <a:pt x="3301" y="0"/>
                  </a:lnTo>
                  <a:lnTo>
                    <a:pt x="3336" y="0"/>
                  </a:lnTo>
                  <a:lnTo>
                    <a:pt x="3450" y="0"/>
                  </a:lnTo>
                  <a:lnTo>
                    <a:pt x="3484" y="0"/>
                  </a:lnTo>
                  <a:lnTo>
                    <a:pt x="3553" y="12"/>
                  </a:lnTo>
                  <a:lnTo>
                    <a:pt x="3644" y="12"/>
                  </a:lnTo>
                  <a:lnTo>
                    <a:pt x="3736" y="23"/>
                  </a:lnTo>
                  <a:lnTo>
                    <a:pt x="3770" y="35"/>
                  </a:lnTo>
                  <a:lnTo>
                    <a:pt x="3804" y="69"/>
                  </a:lnTo>
                  <a:lnTo>
                    <a:pt x="3816" y="103"/>
                  </a:lnTo>
                  <a:lnTo>
                    <a:pt x="3838" y="1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2320" y="609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3200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454040" y="1432080"/>
            <a:ext cx="444600" cy="466560"/>
            <a:chOff x="1454040" y="1432080"/>
            <a:chExt cx="444600" cy="466560"/>
          </a:xfrm>
        </p:grpSpPr>
        <p:sp>
          <p:nvSpPr>
            <p:cNvPr id="195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2254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826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98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70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627696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6276960"/>
            <a:ext cx="281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.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09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9146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49816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53625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542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14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54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826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98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70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42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114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254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826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98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70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542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114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254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826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398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70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542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114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356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928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500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72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644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216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356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928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500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072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644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216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356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928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9500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72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644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216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356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928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500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72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644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216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505320"/>
            <a:ext cx="53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3809880"/>
            <a:ext cx="99072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48720" y="3962520"/>
            <a:ext cx="53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01000" y="4495680"/>
            <a:ext cx="0" cy="8384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219320" y="3962520"/>
            <a:ext cx="450720" cy="579960"/>
            <a:chOff x="1219320" y="3962520"/>
            <a:chExt cx="450720" cy="579960"/>
          </a:xfrm>
        </p:grpSpPr>
        <p:sp>
          <p:nvSpPr>
            <p:cNvPr id="262" name=""/>
            <p:cNvSpPr/>
            <p:nvPr/>
          </p:nvSpPr>
          <p:spPr>
            <a:xfrm>
              <a:off x="12254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193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682640" y="3886200"/>
            <a:ext cx="444600" cy="579960"/>
            <a:chOff x="1682640" y="3886200"/>
            <a:chExt cx="444600" cy="579960"/>
          </a:xfrm>
        </p:grpSpPr>
        <p:sp>
          <p:nvSpPr>
            <p:cNvPr id="265" name=""/>
            <p:cNvSpPr/>
            <p:nvPr/>
          </p:nvSpPr>
          <p:spPr>
            <a:xfrm>
              <a:off x="16826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524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139840" y="3886200"/>
            <a:ext cx="444600" cy="579960"/>
            <a:chOff x="2139840" y="3886200"/>
            <a:chExt cx="444600" cy="579960"/>
          </a:xfrm>
        </p:grpSpPr>
        <p:sp>
          <p:nvSpPr>
            <p:cNvPr id="268" name=""/>
            <p:cNvSpPr/>
            <p:nvPr/>
          </p:nvSpPr>
          <p:spPr>
            <a:xfrm>
              <a:off x="21398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096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7040" y="3886200"/>
            <a:ext cx="444600" cy="579960"/>
            <a:chOff x="2597040" y="3886200"/>
            <a:chExt cx="444600" cy="579960"/>
          </a:xfrm>
        </p:grpSpPr>
        <p:sp>
          <p:nvSpPr>
            <p:cNvPr id="271" name=""/>
            <p:cNvSpPr/>
            <p:nvPr/>
          </p:nvSpPr>
          <p:spPr>
            <a:xfrm>
              <a:off x="25970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668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054240" y="3886200"/>
            <a:ext cx="444600" cy="579960"/>
            <a:chOff x="3054240" y="3886200"/>
            <a:chExt cx="444600" cy="579960"/>
          </a:xfrm>
        </p:grpSpPr>
        <p:sp>
          <p:nvSpPr>
            <p:cNvPr id="274" name=""/>
            <p:cNvSpPr/>
            <p:nvPr/>
          </p:nvSpPr>
          <p:spPr>
            <a:xfrm>
              <a:off x="30542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240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511440" y="3886200"/>
            <a:ext cx="444600" cy="579960"/>
            <a:chOff x="3511440" y="3886200"/>
            <a:chExt cx="444600" cy="579960"/>
          </a:xfrm>
        </p:grpSpPr>
        <p:sp>
          <p:nvSpPr>
            <p:cNvPr id="277" name=""/>
            <p:cNvSpPr/>
            <p:nvPr/>
          </p:nvSpPr>
          <p:spPr>
            <a:xfrm>
              <a:off x="35114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12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035680" y="3886200"/>
            <a:ext cx="444240" cy="579960"/>
            <a:chOff x="5035680" y="3886200"/>
            <a:chExt cx="444240" cy="579960"/>
          </a:xfrm>
        </p:grpSpPr>
        <p:sp>
          <p:nvSpPr>
            <p:cNvPr id="280" name=""/>
            <p:cNvSpPr/>
            <p:nvPr/>
          </p:nvSpPr>
          <p:spPr>
            <a:xfrm>
              <a:off x="50356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055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492880" y="3886200"/>
            <a:ext cx="444240" cy="579960"/>
            <a:chOff x="5492880" y="3886200"/>
            <a:chExt cx="444240" cy="579960"/>
          </a:xfrm>
        </p:grpSpPr>
        <p:sp>
          <p:nvSpPr>
            <p:cNvPr id="283" name=""/>
            <p:cNvSpPr/>
            <p:nvPr/>
          </p:nvSpPr>
          <p:spPr>
            <a:xfrm>
              <a:off x="54928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627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950080" y="3886200"/>
            <a:ext cx="444240" cy="579960"/>
            <a:chOff x="5950080" y="3886200"/>
            <a:chExt cx="444240" cy="579960"/>
          </a:xfrm>
        </p:grpSpPr>
        <p:sp>
          <p:nvSpPr>
            <p:cNvPr id="286" name=""/>
            <p:cNvSpPr/>
            <p:nvPr/>
          </p:nvSpPr>
          <p:spPr>
            <a:xfrm>
              <a:off x="59500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407280" y="3886200"/>
            <a:ext cx="444240" cy="579960"/>
            <a:chOff x="6407280" y="3886200"/>
            <a:chExt cx="444240" cy="579960"/>
          </a:xfrm>
        </p:grpSpPr>
        <p:sp>
          <p:nvSpPr>
            <p:cNvPr id="289" name=""/>
            <p:cNvSpPr/>
            <p:nvPr/>
          </p:nvSpPr>
          <p:spPr>
            <a:xfrm>
              <a:off x="64072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771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864480" y="3886200"/>
            <a:ext cx="444240" cy="579960"/>
            <a:chOff x="6864480" y="3886200"/>
            <a:chExt cx="444240" cy="579960"/>
          </a:xfrm>
        </p:grpSpPr>
        <p:sp>
          <p:nvSpPr>
            <p:cNvPr id="292" name=""/>
            <p:cNvSpPr/>
            <p:nvPr/>
          </p:nvSpPr>
          <p:spPr>
            <a:xfrm>
              <a:off x="68644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43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321680" y="3886200"/>
            <a:ext cx="444240" cy="579960"/>
            <a:chOff x="7321680" y="3886200"/>
            <a:chExt cx="444240" cy="579960"/>
          </a:xfrm>
        </p:grpSpPr>
        <p:sp>
          <p:nvSpPr>
            <p:cNvPr id="295" name=""/>
            <p:cNvSpPr/>
            <p:nvPr/>
          </p:nvSpPr>
          <p:spPr>
            <a:xfrm>
              <a:off x="73216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915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219320" y="4419720"/>
            <a:ext cx="450720" cy="579960"/>
            <a:chOff x="1219320" y="4419720"/>
            <a:chExt cx="450720" cy="579960"/>
          </a:xfrm>
        </p:grpSpPr>
        <p:sp>
          <p:nvSpPr>
            <p:cNvPr id="298" name=""/>
            <p:cNvSpPr/>
            <p:nvPr/>
          </p:nvSpPr>
          <p:spPr>
            <a:xfrm>
              <a:off x="12254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193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035680" y="4343400"/>
            <a:ext cx="444240" cy="579960"/>
            <a:chOff x="5035680" y="4343400"/>
            <a:chExt cx="444240" cy="579960"/>
          </a:xfrm>
        </p:grpSpPr>
        <p:sp>
          <p:nvSpPr>
            <p:cNvPr id="301" name=""/>
            <p:cNvSpPr/>
            <p:nvPr/>
          </p:nvSpPr>
          <p:spPr>
            <a:xfrm>
              <a:off x="50356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055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676520" y="4419720"/>
            <a:ext cx="450720" cy="579960"/>
            <a:chOff x="1676520" y="4419720"/>
            <a:chExt cx="450720" cy="579960"/>
          </a:xfrm>
        </p:grpSpPr>
        <p:sp>
          <p:nvSpPr>
            <p:cNvPr id="304" name=""/>
            <p:cNvSpPr/>
            <p:nvPr/>
          </p:nvSpPr>
          <p:spPr>
            <a:xfrm>
              <a:off x="16826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765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486400" y="4419720"/>
            <a:ext cx="450720" cy="579960"/>
            <a:chOff x="5486400" y="4419720"/>
            <a:chExt cx="450720" cy="579960"/>
          </a:xfrm>
        </p:grpSpPr>
        <p:sp>
          <p:nvSpPr>
            <p:cNvPr id="307" name=""/>
            <p:cNvSpPr/>
            <p:nvPr/>
          </p:nvSpPr>
          <p:spPr>
            <a:xfrm>
              <a:off x="54928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864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139840" y="4343400"/>
            <a:ext cx="444600" cy="579960"/>
            <a:chOff x="2139840" y="4343400"/>
            <a:chExt cx="444600" cy="579960"/>
          </a:xfrm>
        </p:grpSpPr>
        <p:sp>
          <p:nvSpPr>
            <p:cNvPr id="310" name=""/>
            <p:cNvSpPr/>
            <p:nvPr/>
          </p:nvSpPr>
          <p:spPr>
            <a:xfrm>
              <a:off x="21398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09680" y="43434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950080" y="4343400"/>
            <a:ext cx="444240" cy="579960"/>
            <a:chOff x="5950080" y="4343400"/>
            <a:chExt cx="444240" cy="579960"/>
          </a:xfrm>
        </p:grpSpPr>
        <p:sp>
          <p:nvSpPr>
            <p:cNvPr id="313" name=""/>
            <p:cNvSpPr/>
            <p:nvPr/>
          </p:nvSpPr>
          <p:spPr>
            <a:xfrm>
              <a:off x="59500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199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590920" y="4419720"/>
            <a:ext cx="450720" cy="579960"/>
            <a:chOff x="2590920" y="4419720"/>
            <a:chExt cx="450720" cy="579960"/>
          </a:xfrm>
        </p:grpSpPr>
        <p:sp>
          <p:nvSpPr>
            <p:cNvPr id="316" name=""/>
            <p:cNvSpPr/>
            <p:nvPr/>
          </p:nvSpPr>
          <p:spPr>
            <a:xfrm>
              <a:off x="25970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909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400800" y="4419720"/>
            <a:ext cx="450720" cy="579960"/>
            <a:chOff x="6400800" y="4419720"/>
            <a:chExt cx="450720" cy="579960"/>
          </a:xfrm>
        </p:grpSpPr>
        <p:sp>
          <p:nvSpPr>
            <p:cNvPr id="319" name=""/>
            <p:cNvSpPr/>
            <p:nvPr/>
          </p:nvSpPr>
          <p:spPr>
            <a:xfrm>
              <a:off x="64072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008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54240" y="4343400"/>
            <a:ext cx="444600" cy="579960"/>
            <a:chOff x="3054240" y="4343400"/>
            <a:chExt cx="444600" cy="579960"/>
          </a:xfrm>
        </p:grpSpPr>
        <p:sp>
          <p:nvSpPr>
            <p:cNvPr id="322" name=""/>
            <p:cNvSpPr/>
            <p:nvPr/>
          </p:nvSpPr>
          <p:spPr>
            <a:xfrm>
              <a:off x="30542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4080" y="43434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864480" y="4343400"/>
            <a:ext cx="444240" cy="579960"/>
            <a:chOff x="6864480" y="4343400"/>
            <a:chExt cx="444240" cy="579960"/>
          </a:xfrm>
        </p:grpSpPr>
        <p:sp>
          <p:nvSpPr>
            <p:cNvPr id="325" name=""/>
            <p:cNvSpPr/>
            <p:nvPr/>
          </p:nvSpPr>
          <p:spPr>
            <a:xfrm>
              <a:off x="68644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343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511440" y="4343400"/>
            <a:ext cx="444600" cy="579960"/>
            <a:chOff x="3511440" y="4343400"/>
            <a:chExt cx="444600" cy="579960"/>
          </a:xfrm>
        </p:grpSpPr>
        <p:sp>
          <p:nvSpPr>
            <p:cNvPr id="328" name=""/>
            <p:cNvSpPr/>
            <p:nvPr/>
          </p:nvSpPr>
          <p:spPr>
            <a:xfrm>
              <a:off x="35114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81280" y="43434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7321680" y="4343400"/>
            <a:ext cx="444240" cy="579960"/>
            <a:chOff x="7321680" y="4343400"/>
            <a:chExt cx="444240" cy="579960"/>
          </a:xfrm>
        </p:grpSpPr>
        <p:sp>
          <p:nvSpPr>
            <p:cNvPr id="331" name=""/>
            <p:cNvSpPr/>
            <p:nvPr/>
          </p:nvSpPr>
          <p:spPr>
            <a:xfrm>
              <a:off x="73216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915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38080" y="5819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254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826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398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970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542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114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356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928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72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644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216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219320" y="4876920"/>
            <a:ext cx="450720" cy="579960"/>
            <a:chOff x="1219320" y="4876920"/>
            <a:chExt cx="450720" cy="579960"/>
          </a:xfrm>
        </p:grpSpPr>
        <p:sp>
          <p:nvSpPr>
            <p:cNvPr id="347" name=""/>
            <p:cNvSpPr/>
            <p:nvPr/>
          </p:nvSpPr>
          <p:spPr>
            <a:xfrm>
              <a:off x="12254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193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035680" y="4800600"/>
            <a:ext cx="444240" cy="579960"/>
            <a:chOff x="5035680" y="4800600"/>
            <a:chExt cx="444240" cy="579960"/>
          </a:xfrm>
        </p:grpSpPr>
        <p:sp>
          <p:nvSpPr>
            <p:cNvPr id="350" name=""/>
            <p:cNvSpPr/>
            <p:nvPr/>
          </p:nvSpPr>
          <p:spPr>
            <a:xfrm>
              <a:off x="50356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05520" y="48006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676520" y="4876920"/>
            <a:ext cx="450720" cy="579960"/>
            <a:chOff x="1676520" y="4876920"/>
            <a:chExt cx="450720" cy="579960"/>
          </a:xfrm>
        </p:grpSpPr>
        <p:sp>
          <p:nvSpPr>
            <p:cNvPr id="353" name=""/>
            <p:cNvSpPr/>
            <p:nvPr/>
          </p:nvSpPr>
          <p:spPr>
            <a:xfrm>
              <a:off x="16826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486400" y="4876920"/>
            <a:ext cx="450720" cy="579960"/>
            <a:chOff x="5486400" y="4876920"/>
            <a:chExt cx="450720" cy="579960"/>
          </a:xfrm>
        </p:grpSpPr>
        <p:sp>
          <p:nvSpPr>
            <p:cNvPr id="356" name=""/>
            <p:cNvSpPr/>
            <p:nvPr/>
          </p:nvSpPr>
          <p:spPr>
            <a:xfrm>
              <a:off x="54928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864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133720" y="4876920"/>
            <a:ext cx="450720" cy="579960"/>
            <a:chOff x="2133720" y="4876920"/>
            <a:chExt cx="450720" cy="579960"/>
          </a:xfrm>
        </p:grpSpPr>
        <p:sp>
          <p:nvSpPr>
            <p:cNvPr id="359" name=""/>
            <p:cNvSpPr/>
            <p:nvPr/>
          </p:nvSpPr>
          <p:spPr>
            <a:xfrm>
              <a:off x="21398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943600" y="4876920"/>
            <a:ext cx="450720" cy="579960"/>
            <a:chOff x="5943600" y="4876920"/>
            <a:chExt cx="450720" cy="579960"/>
          </a:xfrm>
        </p:grpSpPr>
        <p:sp>
          <p:nvSpPr>
            <p:cNvPr id="362" name=""/>
            <p:cNvSpPr/>
            <p:nvPr/>
          </p:nvSpPr>
          <p:spPr>
            <a:xfrm>
              <a:off x="59500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436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2590920" y="4876920"/>
            <a:ext cx="450720" cy="579960"/>
            <a:chOff x="2590920" y="4876920"/>
            <a:chExt cx="450720" cy="579960"/>
          </a:xfrm>
        </p:grpSpPr>
        <p:sp>
          <p:nvSpPr>
            <p:cNvPr id="365" name=""/>
            <p:cNvSpPr/>
            <p:nvPr/>
          </p:nvSpPr>
          <p:spPr>
            <a:xfrm>
              <a:off x="25970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909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400800" y="4876920"/>
            <a:ext cx="450720" cy="579960"/>
            <a:chOff x="6400800" y="4876920"/>
            <a:chExt cx="450720" cy="579960"/>
          </a:xfrm>
        </p:grpSpPr>
        <p:sp>
          <p:nvSpPr>
            <p:cNvPr id="368" name=""/>
            <p:cNvSpPr/>
            <p:nvPr/>
          </p:nvSpPr>
          <p:spPr>
            <a:xfrm>
              <a:off x="64072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008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971800" y="4876920"/>
            <a:ext cx="685800" cy="579960"/>
            <a:chOff x="2971800" y="4876920"/>
            <a:chExt cx="685800" cy="579960"/>
          </a:xfrm>
        </p:grpSpPr>
        <p:sp>
          <p:nvSpPr>
            <p:cNvPr id="371" name=""/>
            <p:cNvSpPr/>
            <p:nvPr/>
          </p:nvSpPr>
          <p:spPr>
            <a:xfrm>
              <a:off x="305280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71800" y="487692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858000" y="4876920"/>
            <a:ext cx="450720" cy="579960"/>
            <a:chOff x="6858000" y="4876920"/>
            <a:chExt cx="450720" cy="579960"/>
          </a:xfrm>
        </p:grpSpPr>
        <p:sp>
          <p:nvSpPr>
            <p:cNvPr id="374" name=""/>
            <p:cNvSpPr/>
            <p:nvPr/>
          </p:nvSpPr>
          <p:spPr>
            <a:xfrm>
              <a:off x="68644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580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505320" y="4876920"/>
            <a:ext cx="450720" cy="579960"/>
            <a:chOff x="3505320" y="4876920"/>
            <a:chExt cx="450720" cy="579960"/>
          </a:xfrm>
        </p:grpSpPr>
        <p:sp>
          <p:nvSpPr>
            <p:cNvPr id="377" name=""/>
            <p:cNvSpPr/>
            <p:nvPr/>
          </p:nvSpPr>
          <p:spPr>
            <a:xfrm>
              <a:off x="35114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053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7315200" y="4876920"/>
            <a:ext cx="450720" cy="579960"/>
            <a:chOff x="7315200" y="4876920"/>
            <a:chExt cx="450720" cy="579960"/>
          </a:xfrm>
        </p:grpSpPr>
        <p:sp>
          <p:nvSpPr>
            <p:cNvPr id="380" name=""/>
            <p:cNvSpPr/>
            <p:nvPr/>
          </p:nvSpPr>
          <p:spPr>
            <a:xfrm>
              <a:off x="73216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152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219320" y="5334120"/>
            <a:ext cx="450720" cy="579960"/>
            <a:chOff x="1219320" y="5334120"/>
            <a:chExt cx="450720" cy="579960"/>
          </a:xfrm>
        </p:grpSpPr>
        <p:sp>
          <p:nvSpPr>
            <p:cNvPr id="383" name=""/>
            <p:cNvSpPr/>
            <p:nvPr/>
          </p:nvSpPr>
          <p:spPr>
            <a:xfrm>
              <a:off x="12254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193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035680" y="5257800"/>
            <a:ext cx="444240" cy="579960"/>
            <a:chOff x="5035680" y="5257800"/>
            <a:chExt cx="444240" cy="579960"/>
          </a:xfrm>
        </p:grpSpPr>
        <p:sp>
          <p:nvSpPr>
            <p:cNvPr id="386" name=""/>
            <p:cNvSpPr/>
            <p:nvPr/>
          </p:nvSpPr>
          <p:spPr>
            <a:xfrm>
              <a:off x="50356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05520" y="52578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676520" y="5334120"/>
            <a:ext cx="450720" cy="579960"/>
            <a:chOff x="1676520" y="5334120"/>
            <a:chExt cx="450720" cy="579960"/>
          </a:xfrm>
        </p:grpSpPr>
        <p:sp>
          <p:nvSpPr>
            <p:cNvPr id="389" name=""/>
            <p:cNvSpPr/>
            <p:nvPr/>
          </p:nvSpPr>
          <p:spPr>
            <a:xfrm>
              <a:off x="16826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765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486400" y="5334120"/>
            <a:ext cx="450720" cy="579960"/>
            <a:chOff x="5486400" y="5334120"/>
            <a:chExt cx="450720" cy="579960"/>
          </a:xfrm>
        </p:grpSpPr>
        <p:sp>
          <p:nvSpPr>
            <p:cNvPr id="392" name=""/>
            <p:cNvSpPr/>
            <p:nvPr/>
          </p:nvSpPr>
          <p:spPr>
            <a:xfrm>
              <a:off x="54928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133720" y="5334120"/>
            <a:ext cx="450720" cy="579960"/>
            <a:chOff x="2133720" y="5334120"/>
            <a:chExt cx="450720" cy="579960"/>
          </a:xfrm>
        </p:grpSpPr>
        <p:sp>
          <p:nvSpPr>
            <p:cNvPr id="395" name=""/>
            <p:cNvSpPr/>
            <p:nvPr/>
          </p:nvSpPr>
          <p:spPr>
            <a:xfrm>
              <a:off x="21398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337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943600" y="5334120"/>
            <a:ext cx="450720" cy="579960"/>
            <a:chOff x="5943600" y="5334120"/>
            <a:chExt cx="450720" cy="579960"/>
          </a:xfrm>
        </p:grpSpPr>
        <p:sp>
          <p:nvSpPr>
            <p:cNvPr id="398" name=""/>
            <p:cNvSpPr/>
            <p:nvPr/>
          </p:nvSpPr>
          <p:spPr>
            <a:xfrm>
              <a:off x="59500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436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590920" y="5334120"/>
            <a:ext cx="450720" cy="579960"/>
            <a:chOff x="2590920" y="5334120"/>
            <a:chExt cx="450720" cy="579960"/>
          </a:xfrm>
        </p:grpSpPr>
        <p:sp>
          <p:nvSpPr>
            <p:cNvPr id="401" name=""/>
            <p:cNvSpPr/>
            <p:nvPr/>
          </p:nvSpPr>
          <p:spPr>
            <a:xfrm>
              <a:off x="25970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909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400800" y="5334120"/>
            <a:ext cx="450720" cy="579960"/>
            <a:chOff x="6400800" y="5334120"/>
            <a:chExt cx="450720" cy="579960"/>
          </a:xfrm>
        </p:grpSpPr>
        <p:sp>
          <p:nvSpPr>
            <p:cNvPr id="404" name=""/>
            <p:cNvSpPr/>
            <p:nvPr/>
          </p:nvSpPr>
          <p:spPr>
            <a:xfrm>
              <a:off x="64072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08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2971800" y="5334120"/>
            <a:ext cx="685800" cy="579960"/>
            <a:chOff x="2971800" y="5334120"/>
            <a:chExt cx="685800" cy="579960"/>
          </a:xfrm>
        </p:grpSpPr>
        <p:sp>
          <p:nvSpPr>
            <p:cNvPr id="407" name=""/>
            <p:cNvSpPr/>
            <p:nvPr/>
          </p:nvSpPr>
          <p:spPr>
            <a:xfrm>
              <a:off x="305280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71800" y="533412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858000" y="5334120"/>
            <a:ext cx="450720" cy="579960"/>
            <a:chOff x="6858000" y="5334120"/>
            <a:chExt cx="450720" cy="579960"/>
          </a:xfrm>
        </p:grpSpPr>
        <p:sp>
          <p:nvSpPr>
            <p:cNvPr id="410" name=""/>
            <p:cNvSpPr/>
            <p:nvPr/>
          </p:nvSpPr>
          <p:spPr>
            <a:xfrm>
              <a:off x="68644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580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505320" y="5334120"/>
            <a:ext cx="450720" cy="579960"/>
            <a:chOff x="3505320" y="5334120"/>
            <a:chExt cx="450720" cy="579960"/>
          </a:xfrm>
        </p:grpSpPr>
        <p:sp>
          <p:nvSpPr>
            <p:cNvPr id="413" name=""/>
            <p:cNvSpPr/>
            <p:nvPr/>
          </p:nvSpPr>
          <p:spPr>
            <a:xfrm>
              <a:off x="35114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053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315200" y="5334120"/>
            <a:ext cx="450720" cy="579960"/>
            <a:chOff x="7315200" y="5334120"/>
            <a:chExt cx="450720" cy="579960"/>
          </a:xfrm>
        </p:grpSpPr>
        <p:sp>
          <p:nvSpPr>
            <p:cNvPr id="416" name=""/>
            <p:cNvSpPr/>
            <p:nvPr/>
          </p:nvSpPr>
          <p:spPr>
            <a:xfrm>
              <a:off x="73216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152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219320" y="5791320"/>
            <a:ext cx="450720" cy="579960"/>
            <a:chOff x="1219320" y="5791320"/>
            <a:chExt cx="450720" cy="579960"/>
          </a:xfrm>
        </p:grpSpPr>
        <p:sp>
          <p:nvSpPr>
            <p:cNvPr id="419" name=""/>
            <p:cNvSpPr/>
            <p:nvPr/>
          </p:nvSpPr>
          <p:spPr>
            <a:xfrm>
              <a:off x="12254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2193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035680" y="5715000"/>
            <a:ext cx="444240" cy="579960"/>
            <a:chOff x="5035680" y="5715000"/>
            <a:chExt cx="444240" cy="579960"/>
          </a:xfrm>
        </p:grpSpPr>
        <p:sp>
          <p:nvSpPr>
            <p:cNvPr id="422" name=""/>
            <p:cNvSpPr/>
            <p:nvPr/>
          </p:nvSpPr>
          <p:spPr>
            <a:xfrm>
              <a:off x="50356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05520" y="57150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676520" y="5791320"/>
            <a:ext cx="450720" cy="579960"/>
            <a:chOff x="1676520" y="5791320"/>
            <a:chExt cx="450720" cy="579960"/>
          </a:xfrm>
        </p:grpSpPr>
        <p:sp>
          <p:nvSpPr>
            <p:cNvPr id="425" name=""/>
            <p:cNvSpPr/>
            <p:nvPr/>
          </p:nvSpPr>
          <p:spPr>
            <a:xfrm>
              <a:off x="16826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765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486400" y="5791320"/>
            <a:ext cx="450720" cy="579960"/>
            <a:chOff x="5486400" y="5791320"/>
            <a:chExt cx="450720" cy="579960"/>
          </a:xfrm>
        </p:grpSpPr>
        <p:sp>
          <p:nvSpPr>
            <p:cNvPr id="428" name=""/>
            <p:cNvSpPr/>
            <p:nvPr/>
          </p:nvSpPr>
          <p:spPr>
            <a:xfrm>
              <a:off x="54928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864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133720" y="5791320"/>
            <a:ext cx="450720" cy="579960"/>
            <a:chOff x="2133720" y="5791320"/>
            <a:chExt cx="450720" cy="579960"/>
          </a:xfrm>
        </p:grpSpPr>
        <p:sp>
          <p:nvSpPr>
            <p:cNvPr id="431" name=""/>
            <p:cNvSpPr/>
            <p:nvPr/>
          </p:nvSpPr>
          <p:spPr>
            <a:xfrm>
              <a:off x="21398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337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943600" y="5791320"/>
            <a:ext cx="450720" cy="579960"/>
            <a:chOff x="5943600" y="5791320"/>
            <a:chExt cx="450720" cy="579960"/>
          </a:xfrm>
        </p:grpSpPr>
        <p:sp>
          <p:nvSpPr>
            <p:cNvPr id="434" name=""/>
            <p:cNvSpPr/>
            <p:nvPr/>
          </p:nvSpPr>
          <p:spPr>
            <a:xfrm>
              <a:off x="59500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436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590920" y="5791320"/>
            <a:ext cx="450720" cy="579960"/>
            <a:chOff x="2590920" y="5791320"/>
            <a:chExt cx="450720" cy="579960"/>
          </a:xfrm>
        </p:grpSpPr>
        <p:sp>
          <p:nvSpPr>
            <p:cNvPr id="437" name=""/>
            <p:cNvSpPr/>
            <p:nvPr/>
          </p:nvSpPr>
          <p:spPr>
            <a:xfrm>
              <a:off x="25970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909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400800" y="5791320"/>
            <a:ext cx="450720" cy="579960"/>
            <a:chOff x="6400800" y="5791320"/>
            <a:chExt cx="450720" cy="579960"/>
          </a:xfrm>
        </p:grpSpPr>
        <p:sp>
          <p:nvSpPr>
            <p:cNvPr id="440" name=""/>
            <p:cNvSpPr/>
            <p:nvPr/>
          </p:nvSpPr>
          <p:spPr>
            <a:xfrm>
              <a:off x="64072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008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971800" y="5791320"/>
            <a:ext cx="685800" cy="579960"/>
            <a:chOff x="2971800" y="5791320"/>
            <a:chExt cx="685800" cy="579960"/>
          </a:xfrm>
        </p:grpSpPr>
        <p:sp>
          <p:nvSpPr>
            <p:cNvPr id="443" name=""/>
            <p:cNvSpPr/>
            <p:nvPr/>
          </p:nvSpPr>
          <p:spPr>
            <a:xfrm>
              <a:off x="305280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71800" y="579132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858000" y="5791320"/>
            <a:ext cx="450720" cy="579960"/>
            <a:chOff x="6858000" y="5791320"/>
            <a:chExt cx="450720" cy="579960"/>
          </a:xfrm>
        </p:grpSpPr>
        <p:sp>
          <p:nvSpPr>
            <p:cNvPr id="446" name=""/>
            <p:cNvSpPr/>
            <p:nvPr/>
          </p:nvSpPr>
          <p:spPr>
            <a:xfrm>
              <a:off x="68644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580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505320" y="5791320"/>
            <a:ext cx="450720" cy="579960"/>
            <a:chOff x="3505320" y="5791320"/>
            <a:chExt cx="450720" cy="579960"/>
          </a:xfrm>
        </p:grpSpPr>
        <p:sp>
          <p:nvSpPr>
            <p:cNvPr id="449" name=""/>
            <p:cNvSpPr/>
            <p:nvPr/>
          </p:nvSpPr>
          <p:spPr>
            <a:xfrm>
              <a:off x="35114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053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7315200" y="5791320"/>
            <a:ext cx="450720" cy="579960"/>
            <a:chOff x="7315200" y="5791320"/>
            <a:chExt cx="450720" cy="579960"/>
          </a:xfrm>
        </p:grpSpPr>
        <p:sp>
          <p:nvSpPr>
            <p:cNvPr id="452" name=""/>
            <p:cNvSpPr/>
            <p:nvPr/>
          </p:nvSpPr>
          <p:spPr>
            <a:xfrm>
              <a:off x="73216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152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800280" y="609480"/>
            <a:ext cx="7651440" cy="3110040"/>
            <a:chOff x="800280" y="609480"/>
            <a:chExt cx="7651440" cy="3110040"/>
          </a:xfrm>
        </p:grpSpPr>
        <p:sp>
          <p:nvSpPr>
            <p:cNvPr id="456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828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3364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70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60720" y="2117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11840" y="1149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65480" y="1127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05120" y="16765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28800" y="190512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57600" y="182880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57600" y="327672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57800" y="2438280"/>
              <a:ext cx="2819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3733920" y="137124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86000" y="1219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33720" y="18288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00600" y="9907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72200" y="2286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91120" y="16002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5181480" y="1523520"/>
              <a:ext cx="1676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48520" y="16765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05320" y="19051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05320" y="21337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00280" y="884160"/>
              <a:ext cx="6094080" cy="2470320"/>
            </a:xfrm>
            <a:custGeom>
              <a:avLst/>
              <a:gdLst/>
              <a:ahLst/>
              <a:rect l="l" t="t" r="r" b="b"/>
              <a:pathLst>
                <a:path w="3839" h="1556">
                  <a:moveTo>
                    <a:pt x="1512" y="1555"/>
                  </a:moveTo>
                  <a:lnTo>
                    <a:pt x="1462" y="1544"/>
                  </a:lnTo>
                  <a:lnTo>
                    <a:pt x="1371" y="1544"/>
                  </a:lnTo>
                  <a:lnTo>
                    <a:pt x="1302" y="1544"/>
                  </a:lnTo>
                  <a:lnTo>
                    <a:pt x="1165" y="1544"/>
                  </a:lnTo>
                  <a:lnTo>
                    <a:pt x="1074" y="1532"/>
                  </a:lnTo>
                  <a:lnTo>
                    <a:pt x="982" y="1521"/>
                  </a:lnTo>
                  <a:lnTo>
                    <a:pt x="914" y="1521"/>
                  </a:lnTo>
                  <a:lnTo>
                    <a:pt x="845" y="1521"/>
                  </a:lnTo>
                  <a:lnTo>
                    <a:pt x="754" y="1521"/>
                  </a:lnTo>
                  <a:lnTo>
                    <a:pt x="719" y="1521"/>
                  </a:lnTo>
                  <a:lnTo>
                    <a:pt x="685" y="1509"/>
                  </a:lnTo>
                  <a:lnTo>
                    <a:pt x="617" y="1486"/>
                  </a:lnTo>
                  <a:lnTo>
                    <a:pt x="525" y="1475"/>
                  </a:lnTo>
                  <a:lnTo>
                    <a:pt x="434" y="1464"/>
                  </a:lnTo>
                  <a:lnTo>
                    <a:pt x="365" y="1452"/>
                  </a:lnTo>
                  <a:lnTo>
                    <a:pt x="320" y="1429"/>
                  </a:lnTo>
                  <a:lnTo>
                    <a:pt x="274" y="1395"/>
                  </a:lnTo>
                  <a:lnTo>
                    <a:pt x="251" y="1326"/>
                  </a:lnTo>
                  <a:lnTo>
                    <a:pt x="217" y="1304"/>
                  </a:lnTo>
                  <a:lnTo>
                    <a:pt x="148" y="1212"/>
                  </a:lnTo>
                  <a:lnTo>
                    <a:pt x="34" y="1075"/>
                  </a:lnTo>
                  <a:lnTo>
                    <a:pt x="22" y="983"/>
                  </a:lnTo>
                  <a:lnTo>
                    <a:pt x="0" y="938"/>
                  </a:lnTo>
                  <a:lnTo>
                    <a:pt x="0" y="892"/>
                  </a:lnTo>
                  <a:lnTo>
                    <a:pt x="0" y="858"/>
                  </a:lnTo>
                  <a:lnTo>
                    <a:pt x="0" y="823"/>
                  </a:lnTo>
                  <a:lnTo>
                    <a:pt x="0" y="778"/>
                  </a:lnTo>
                  <a:lnTo>
                    <a:pt x="0" y="709"/>
                  </a:lnTo>
                  <a:lnTo>
                    <a:pt x="0" y="641"/>
                  </a:lnTo>
                  <a:lnTo>
                    <a:pt x="0" y="595"/>
                  </a:lnTo>
                  <a:lnTo>
                    <a:pt x="0" y="561"/>
                  </a:lnTo>
                  <a:lnTo>
                    <a:pt x="0" y="526"/>
                  </a:lnTo>
                  <a:lnTo>
                    <a:pt x="22" y="458"/>
                  </a:lnTo>
                  <a:lnTo>
                    <a:pt x="34" y="366"/>
                  </a:lnTo>
                  <a:lnTo>
                    <a:pt x="45" y="298"/>
                  </a:lnTo>
                  <a:lnTo>
                    <a:pt x="68" y="252"/>
                  </a:lnTo>
                  <a:lnTo>
                    <a:pt x="102" y="218"/>
                  </a:lnTo>
                  <a:lnTo>
                    <a:pt x="137" y="206"/>
                  </a:lnTo>
                  <a:lnTo>
                    <a:pt x="171" y="195"/>
                  </a:lnTo>
                  <a:lnTo>
                    <a:pt x="205" y="183"/>
                  </a:lnTo>
                  <a:lnTo>
                    <a:pt x="240" y="172"/>
                  </a:lnTo>
                  <a:lnTo>
                    <a:pt x="308" y="172"/>
                  </a:lnTo>
                  <a:lnTo>
                    <a:pt x="400" y="172"/>
                  </a:lnTo>
                  <a:lnTo>
                    <a:pt x="468" y="172"/>
                  </a:lnTo>
                  <a:lnTo>
                    <a:pt x="514" y="160"/>
                  </a:lnTo>
                  <a:lnTo>
                    <a:pt x="548" y="160"/>
                  </a:lnTo>
                  <a:lnTo>
                    <a:pt x="582" y="138"/>
                  </a:lnTo>
                  <a:lnTo>
                    <a:pt x="617" y="115"/>
                  </a:lnTo>
                  <a:lnTo>
                    <a:pt x="651" y="115"/>
                  </a:lnTo>
                  <a:lnTo>
                    <a:pt x="674" y="80"/>
                  </a:lnTo>
                  <a:lnTo>
                    <a:pt x="857" y="103"/>
                  </a:lnTo>
                  <a:lnTo>
                    <a:pt x="994" y="103"/>
                  </a:lnTo>
                  <a:lnTo>
                    <a:pt x="1085" y="103"/>
                  </a:lnTo>
                  <a:lnTo>
                    <a:pt x="1119" y="103"/>
                  </a:lnTo>
                  <a:lnTo>
                    <a:pt x="1199" y="103"/>
                  </a:lnTo>
                  <a:lnTo>
                    <a:pt x="1291" y="103"/>
                  </a:lnTo>
                  <a:lnTo>
                    <a:pt x="1451" y="115"/>
                  </a:lnTo>
                  <a:lnTo>
                    <a:pt x="1485" y="115"/>
                  </a:lnTo>
                  <a:lnTo>
                    <a:pt x="1519" y="115"/>
                  </a:lnTo>
                  <a:lnTo>
                    <a:pt x="1553" y="115"/>
                  </a:lnTo>
                  <a:lnTo>
                    <a:pt x="1588" y="115"/>
                  </a:lnTo>
                  <a:lnTo>
                    <a:pt x="1622" y="115"/>
                  </a:lnTo>
                  <a:lnTo>
                    <a:pt x="1691" y="92"/>
                  </a:lnTo>
                  <a:lnTo>
                    <a:pt x="1759" y="92"/>
                  </a:lnTo>
                  <a:lnTo>
                    <a:pt x="1850" y="92"/>
                  </a:lnTo>
                  <a:lnTo>
                    <a:pt x="1965" y="92"/>
                  </a:lnTo>
                  <a:lnTo>
                    <a:pt x="2102" y="92"/>
                  </a:lnTo>
                  <a:lnTo>
                    <a:pt x="2136" y="92"/>
                  </a:lnTo>
                  <a:lnTo>
                    <a:pt x="2170" y="92"/>
                  </a:lnTo>
                  <a:lnTo>
                    <a:pt x="2205" y="92"/>
                  </a:lnTo>
                  <a:lnTo>
                    <a:pt x="2319" y="80"/>
                  </a:lnTo>
                  <a:lnTo>
                    <a:pt x="2433" y="58"/>
                  </a:lnTo>
                  <a:lnTo>
                    <a:pt x="2502" y="46"/>
                  </a:lnTo>
                  <a:lnTo>
                    <a:pt x="2570" y="35"/>
                  </a:lnTo>
                  <a:lnTo>
                    <a:pt x="2639" y="23"/>
                  </a:lnTo>
                  <a:lnTo>
                    <a:pt x="2684" y="12"/>
                  </a:lnTo>
                  <a:lnTo>
                    <a:pt x="2730" y="0"/>
                  </a:lnTo>
                  <a:lnTo>
                    <a:pt x="2776" y="0"/>
                  </a:lnTo>
                  <a:lnTo>
                    <a:pt x="2867" y="0"/>
                  </a:lnTo>
                  <a:lnTo>
                    <a:pt x="2936" y="0"/>
                  </a:lnTo>
                  <a:lnTo>
                    <a:pt x="2970" y="0"/>
                  </a:lnTo>
                  <a:lnTo>
                    <a:pt x="3016" y="0"/>
                  </a:lnTo>
                  <a:lnTo>
                    <a:pt x="3061" y="0"/>
                  </a:lnTo>
                  <a:lnTo>
                    <a:pt x="3096" y="0"/>
                  </a:lnTo>
                  <a:lnTo>
                    <a:pt x="3164" y="0"/>
                  </a:lnTo>
                  <a:lnTo>
                    <a:pt x="3233" y="0"/>
                  </a:lnTo>
                  <a:lnTo>
                    <a:pt x="3267" y="0"/>
                  </a:lnTo>
                  <a:lnTo>
                    <a:pt x="3301" y="0"/>
                  </a:lnTo>
                  <a:lnTo>
                    <a:pt x="3336" y="0"/>
                  </a:lnTo>
                  <a:lnTo>
                    <a:pt x="3450" y="0"/>
                  </a:lnTo>
                  <a:lnTo>
                    <a:pt x="3484" y="0"/>
                  </a:lnTo>
                  <a:lnTo>
                    <a:pt x="3553" y="12"/>
                  </a:lnTo>
                  <a:lnTo>
                    <a:pt x="3644" y="12"/>
                  </a:lnTo>
                  <a:lnTo>
                    <a:pt x="3736" y="23"/>
                  </a:lnTo>
                  <a:lnTo>
                    <a:pt x="3770" y="35"/>
                  </a:lnTo>
                  <a:lnTo>
                    <a:pt x="3804" y="69"/>
                  </a:lnTo>
                  <a:lnTo>
                    <a:pt x="3816" y="103"/>
                  </a:lnTo>
                  <a:lnTo>
                    <a:pt x="3838" y="1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62320" y="609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10080" y="3200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454040" y="1432080"/>
            <a:ext cx="444600" cy="466560"/>
            <a:chOff x="1454040" y="1432080"/>
            <a:chExt cx="444600" cy="466560"/>
          </a:xfrm>
        </p:grpSpPr>
        <p:sp>
          <p:nvSpPr>
            <p:cNvPr id="487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1981080" y="627696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91320" y="6276960"/>
            <a:ext cx="281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.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2952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524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096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68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8080" y="39146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80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254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6826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398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5970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542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114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356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928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500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72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644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3216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10080" y="3505320"/>
            <a:ext cx="53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3809880"/>
            <a:ext cx="99072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848720" y="3962520"/>
            <a:ext cx="53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001000" y="4495680"/>
            <a:ext cx="0" cy="8384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219320" y="3962520"/>
            <a:ext cx="450720" cy="579960"/>
            <a:chOff x="1219320" y="3962520"/>
            <a:chExt cx="450720" cy="579960"/>
          </a:xfrm>
        </p:grpSpPr>
        <p:sp>
          <p:nvSpPr>
            <p:cNvPr id="516" name=""/>
            <p:cNvSpPr/>
            <p:nvPr/>
          </p:nvSpPr>
          <p:spPr>
            <a:xfrm>
              <a:off x="12254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193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5035680" y="3886200"/>
            <a:ext cx="444240" cy="579960"/>
            <a:chOff x="5035680" y="3886200"/>
            <a:chExt cx="444240" cy="579960"/>
          </a:xfrm>
        </p:grpSpPr>
        <p:sp>
          <p:nvSpPr>
            <p:cNvPr id="519" name=""/>
            <p:cNvSpPr/>
            <p:nvPr/>
          </p:nvSpPr>
          <p:spPr>
            <a:xfrm>
              <a:off x="50356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055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676520" y="3962520"/>
            <a:ext cx="450720" cy="579960"/>
            <a:chOff x="1676520" y="3962520"/>
            <a:chExt cx="450720" cy="579960"/>
          </a:xfrm>
        </p:grpSpPr>
        <p:sp>
          <p:nvSpPr>
            <p:cNvPr id="522" name=""/>
            <p:cNvSpPr/>
            <p:nvPr/>
          </p:nvSpPr>
          <p:spPr>
            <a:xfrm>
              <a:off x="16826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765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5486400" y="3962520"/>
            <a:ext cx="450720" cy="579960"/>
            <a:chOff x="5486400" y="3962520"/>
            <a:chExt cx="450720" cy="579960"/>
          </a:xfrm>
        </p:grpSpPr>
        <p:sp>
          <p:nvSpPr>
            <p:cNvPr id="525" name=""/>
            <p:cNvSpPr/>
            <p:nvPr/>
          </p:nvSpPr>
          <p:spPr>
            <a:xfrm>
              <a:off x="54928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4864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133720" y="3962520"/>
            <a:ext cx="450720" cy="579960"/>
            <a:chOff x="2133720" y="3962520"/>
            <a:chExt cx="450720" cy="579960"/>
          </a:xfrm>
        </p:grpSpPr>
        <p:sp>
          <p:nvSpPr>
            <p:cNvPr id="528" name=""/>
            <p:cNvSpPr/>
            <p:nvPr/>
          </p:nvSpPr>
          <p:spPr>
            <a:xfrm>
              <a:off x="21398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1337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3962520"/>
            <a:ext cx="450720" cy="579960"/>
            <a:chOff x="5943600" y="3962520"/>
            <a:chExt cx="450720" cy="579960"/>
          </a:xfrm>
        </p:grpSpPr>
        <p:sp>
          <p:nvSpPr>
            <p:cNvPr id="531" name=""/>
            <p:cNvSpPr/>
            <p:nvPr/>
          </p:nvSpPr>
          <p:spPr>
            <a:xfrm>
              <a:off x="59500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2590920" y="3962520"/>
            <a:ext cx="450720" cy="579960"/>
            <a:chOff x="2590920" y="3962520"/>
            <a:chExt cx="450720" cy="579960"/>
          </a:xfrm>
        </p:grpSpPr>
        <p:sp>
          <p:nvSpPr>
            <p:cNvPr id="534" name=""/>
            <p:cNvSpPr/>
            <p:nvPr/>
          </p:nvSpPr>
          <p:spPr>
            <a:xfrm>
              <a:off x="25970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909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400800" y="3962520"/>
            <a:ext cx="450720" cy="579960"/>
            <a:chOff x="6400800" y="3962520"/>
            <a:chExt cx="450720" cy="579960"/>
          </a:xfrm>
        </p:grpSpPr>
        <p:sp>
          <p:nvSpPr>
            <p:cNvPr id="537" name=""/>
            <p:cNvSpPr/>
            <p:nvPr/>
          </p:nvSpPr>
          <p:spPr>
            <a:xfrm>
              <a:off x="64072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008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3052800" y="3997440"/>
            <a:ext cx="444600" cy="444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71800" y="396252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858000" y="3962520"/>
            <a:ext cx="450720" cy="579960"/>
            <a:chOff x="6858000" y="3962520"/>
            <a:chExt cx="450720" cy="579960"/>
          </a:xfrm>
        </p:grpSpPr>
        <p:sp>
          <p:nvSpPr>
            <p:cNvPr id="542" name=""/>
            <p:cNvSpPr/>
            <p:nvPr/>
          </p:nvSpPr>
          <p:spPr>
            <a:xfrm>
              <a:off x="68644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580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3505320" y="3962520"/>
            <a:ext cx="450720" cy="579960"/>
            <a:chOff x="3505320" y="3962520"/>
            <a:chExt cx="450720" cy="579960"/>
          </a:xfrm>
        </p:grpSpPr>
        <p:sp>
          <p:nvSpPr>
            <p:cNvPr id="545" name=""/>
            <p:cNvSpPr/>
            <p:nvPr/>
          </p:nvSpPr>
          <p:spPr>
            <a:xfrm>
              <a:off x="35114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053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7315200" y="3962520"/>
            <a:ext cx="450720" cy="579960"/>
            <a:chOff x="7315200" y="3962520"/>
            <a:chExt cx="450720" cy="579960"/>
          </a:xfrm>
        </p:grpSpPr>
        <p:sp>
          <p:nvSpPr>
            <p:cNvPr id="548" name=""/>
            <p:cNvSpPr/>
            <p:nvPr/>
          </p:nvSpPr>
          <p:spPr>
            <a:xfrm>
              <a:off x="73216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152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1219320" y="4419720"/>
            <a:ext cx="450720" cy="579960"/>
            <a:chOff x="1219320" y="4419720"/>
            <a:chExt cx="450720" cy="579960"/>
          </a:xfrm>
        </p:grpSpPr>
        <p:sp>
          <p:nvSpPr>
            <p:cNvPr id="551" name=""/>
            <p:cNvSpPr/>
            <p:nvPr/>
          </p:nvSpPr>
          <p:spPr>
            <a:xfrm>
              <a:off x="12254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193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035680" y="4343400"/>
            <a:ext cx="444240" cy="579960"/>
            <a:chOff x="5035680" y="4343400"/>
            <a:chExt cx="444240" cy="579960"/>
          </a:xfrm>
        </p:grpSpPr>
        <p:sp>
          <p:nvSpPr>
            <p:cNvPr id="554" name=""/>
            <p:cNvSpPr/>
            <p:nvPr/>
          </p:nvSpPr>
          <p:spPr>
            <a:xfrm>
              <a:off x="50356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676520" y="4419720"/>
            <a:ext cx="450720" cy="579960"/>
            <a:chOff x="1676520" y="4419720"/>
            <a:chExt cx="450720" cy="579960"/>
          </a:xfrm>
        </p:grpSpPr>
        <p:sp>
          <p:nvSpPr>
            <p:cNvPr id="557" name=""/>
            <p:cNvSpPr/>
            <p:nvPr/>
          </p:nvSpPr>
          <p:spPr>
            <a:xfrm>
              <a:off x="16826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765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486400" y="4419720"/>
            <a:ext cx="450720" cy="579960"/>
            <a:chOff x="5486400" y="4419720"/>
            <a:chExt cx="450720" cy="579960"/>
          </a:xfrm>
        </p:grpSpPr>
        <p:sp>
          <p:nvSpPr>
            <p:cNvPr id="560" name=""/>
            <p:cNvSpPr/>
            <p:nvPr/>
          </p:nvSpPr>
          <p:spPr>
            <a:xfrm>
              <a:off x="54928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4864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133720" y="4419720"/>
            <a:ext cx="450720" cy="579960"/>
            <a:chOff x="2133720" y="4419720"/>
            <a:chExt cx="450720" cy="579960"/>
          </a:xfrm>
        </p:grpSpPr>
        <p:sp>
          <p:nvSpPr>
            <p:cNvPr id="563" name=""/>
            <p:cNvSpPr/>
            <p:nvPr/>
          </p:nvSpPr>
          <p:spPr>
            <a:xfrm>
              <a:off x="21398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337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5943600" y="4419720"/>
            <a:ext cx="450720" cy="579960"/>
            <a:chOff x="5943600" y="4419720"/>
            <a:chExt cx="450720" cy="579960"/>
          </a:xfrm>
        </p:grpSpPr>
        <p:sp>
          <p:nvSpPr>
            <p:cNvPr id="566" name=""/>
            <p:cNvSpPr/>
            <p:nvPr/>
          </p:nvSpPr>
          <p:spPr>
            <a:xfrm>
              <a:off x="59500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9436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590920" y="4419720"/>
            <a:ext cx="450720" cy="579960"/>
            <a:chOff x="2590920" y="4419720"/>
            <a:chExt cx="450720" cy="579960"/>
          </a:xfrm>
        </p:grpSpPr>
        <p:sp>
          <p:nvSpPr>
            <p:cNvPr id="569" name=""/>
            <p:cNvSpPr/>
            <p:nvPr/>
          </p:nvSpPr>
          <p:spPr>
            <a:xfrm>
              <a:off x="25970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5909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400800" y="4419720"/>
            <a:ext cx="450720" cy="579960"/>
            <a:chOff x="6400800" y="4419720"/>
            <a:chExt cx="450720" cy="579960"/>
          </a:xfrm>
        </p:grpSpPr>
        <p:sp>
          <p:nvSpPr>
            <p:cNvPr id="572" name=""/>
            <p:cNvSpPr/>
            <p:nvPr/>
          </p:nvSpPr>
          <p:spPr>
            <a:xfrm>
              <a:off x="64072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008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048120" y="4419720"/>
            <a:ext cx="450720" cy="579960"/>
            <a:chOff x="3048120" y="4419720"/>
            <a:chExt cx="450720" cy="579960"/>
          </a:xfrm>
        </p:grpSpPr>
        <p:sp>
          <p:nvSpPr>
            <p:cNvPr id="575" name=""/>
            <p:cNvSpPr/>
            <p:nvPr/>
          </p:nvSpPr>
          <p:spPr>
            <a:xfrm>
              <a:off x="30542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481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858000" y="4419720"/>
            <a:ext cx="450720" cy="579960"/>
            <a:chOff x="6858000" y="4419720"/>
            <a:chExt cx="450720" cy="579960"/>
          </a:xfrm>
        </p:grpSpPr>
        <p:sp>
          <p:nvSpPr>
            <p:cNvPr id="578" name=""/>
            <p:cNvSpPr/>
            <p:nvPr/>
          </p:nvSpPr>
          <p:spPr>
            <a:xfrm>
              <a:off x="68644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580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505320" y="4419720"/>
            <a:ext cx="450720" cy="579960"/>
            <a:chOff x="3505320" y="4419720"/>
            <a:chExt cx="450720" cy="579960"/>
          </a:xfrm>
        </p:grpSpPr>
        <p:sp>
          <p:nvSpPr>
            <p:cNvPr id="581" name=""/>
            <p:cNvSpPr/>
            <p:nvPr/>
          </p:nvSpPr>
          <p:spPr>
            <a:xfrm>
              <a:off x="35114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053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7315200" y="4419720"/>
            <a:ext cx="450720" cy="579960"/>
            <a:chOff x="7315200" y="4419720"/>
            <a:chExt cx="450720" cy="579960"/>
          </a:xfrm>
        </p:grpSpPr>
        <p:sp>
          <p:nvSpPr>
            <p:cNvPr id="584" name=""/>
            <p:cNvSpPr/>
            <p:nvPr/>
          </p:nvSpPr>
          <p:spPr>
            <a:xfrm>
              <a:off x="73216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152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est Path From 1 To 5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800600" y="990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172200" y="2286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181480" y="15235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248520" y="16765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053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50532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884160"/>
            <a:ext cx="6094080" cy="2470320"/>
          </a:xfrm>
          <a:custGeom>
            <a:avLst/>
            <a:gdLst/>
            <a:ahLst/>
            <a:rect l="l" t="t" r="r" b="b"/>
            <a:pathLst>
              <a:path w="3839" h="1556">
                <a:moveTo>
                  <a:pt x="1512" y="1555"/>
                </a:moveTo>
                <a:lnTo>
                  <a:pt x="1462" y="1544"/>
                </a:lnTo>
                <a:lnTo>
                  <a:pt x="1371" y="1544"/>
                </a:lnTo>
                <a:lnTo>
                  <a:pt x="1302" y="1544"/>
                </a:lnTo>
                <a:lnTo>
                  <a:pt x="1165" y="1544"/>
                </a:lnTo>
                <a:lnTo>
                  <a:pt x="1074" y="1532"/>
                </a:lnTo>
                <a:lnTo>
                  <a:pt x="982" y="1521"/>
                </a:lnTo>
                <a:lnTo>
                  <a:pt x="914" y="1521"/>
                </a:lnTo>
                <a:lnTo>
                  <a:pt x="845" y="1521"/>
                </a:lnTo>
                <a:lnTo>
                  <a:pt x="754" y="1521"/>
                </a:lnTo>
                <a:lnTo>
                  <a:pt x="719" y="1521"/>
                </a:lnTo>
                <a:lnTo>
                  <a:pt x="685" y="1509"/>
                </a:lnTo>
                <a:lnTo>
                  <a:pt x="617" y="1486"/>
                </a:lnTo>
                <a:lnTo>
                  <a:pt x="525" y="1475"/>
                </a:lnTo>
                <a:lnTo>
                  <a:pt x="434" y="1464"/>
                </a:lnTo>
                <a:lnTo>
                  <a:pt x="365" y="1452"/>
                </a:lnTo>
                <a:lnTo>
                  <a:pt x="320" y="1429"/>
                </a:lnTo>
                <a:lnTo>
                  <a:pt x="274" y="1395"/>
                </a:lnTo>
                <a:lnTo>
                  <a:pt x="251" y="1326"/>
                </a:lnTo>
                <a:lnTo>
                  <a:pt x="217" y="1304"/>
                </a:lnTo>
                <a:lnTo>
                  <a:pt x="148" y="1212"/>
                </a:lnTo>
                <a:lnTo>
                  <a:pt x="34" y="1075"/>
                </a:lnTo>
                <a:lnTo>
                  <a:pt x="22" y="983"/>
                </a:lnTo>
                <a:lnTo>
                  <a:pt x="0" y="938"/>
                </a:lnTo>
                <a:lnTo>
                  <a:pt x="0" y="892"/>
                </a:lnTo>
                <a:lnTo>
                  <a:pt x="0" y="858"/>
                </a:lnTo>
                <a:lnTo>
                  <a:pt x="0" y="823"/>
                </a:lnTo>
                <a:lnTo>
                  <a:pt x="0" y="778"/>
                </a:lnTo>
                <a:lnTo>
                  <a:pt x="0" y="709"/>
                </a:lnTo>
                <a:lnTo>
                  <a:pt x="0" y="641"/>
                </a:lnTo>
                <a:lnTo>
                  <a:pt x="0" y="595"/>
                </a:lnTo>
                <a:lnTo>
                  <a:pt x="0" y="561"/>
                </a:lnTo>
                <a:lnTo>
                  <a:pt x="0" y="526"/>
                </a:lnTo>
                <a:lnTo>
                  <a:pt x="22" y="458"/>
                </a:lnTo>
                <a:lnTo>
                  <a:pt x="34" y="366"/>
                </a:lnTo>
                <a:lnTo>
                  <a:pt x="45" y="298"/>
                </a:lnTo>
                <a:lnTo>
                  <a:pt x="68" y="252"/>
                </a:lnTo>
                <a:lnTo>
                  <a:pt x="102" y="218"/>
                </a:lnTo>
                <a:lnTo>
                  <a:pt x="137" y="206"/>
                </a:lnTo>
                <a:lnTo>
                  <a:pt x="171" y="195"/>
                </a:lnTo>
                <a:lnTo>
                  <a:pt x="205" y="183"/>
                </a:lnTo>
                <a:lnTo>
                  <a:pt x="240" y="172"/>
                </a:lnTo>
                <a:lnTo>
                  <a:pt x="308" y="172"/>
                </a:lnTo>
                <a:lnTo>
                  <a:pt x="400" y="172"/>
                </a:lnTo>
                <a:lnTo>
                  <a:pt x="468" y="172"/>
                </a:lnTo>
                <a:lnTo>
                  <a:pt x="514" y="160"/>
                </a:lnTo>
                <a:lnTo>
                  <a:pt x="548" y="160"/>
                </a:lnTo>
                <a:lnTo>
                  <a:pt x="582" y="138"/>
                </a:lnTo>
                <a:lnTo>
                  <a:pt x="617" y="115"/>
                </a:lnTo>
                <a:lnTo>
                  <a:pt x="651" y="115"/>
                </a:lnTo>
                <a:lnTo>
                  <a:pt x="674" y="80"/>
                </a:lnTo>
                <a:lnTo>
                  <a:pt x="857" y="103"/>
                </a:lnTo>
                <a:lnTo>
                  <a:pt x="994" y="103"/>
                </a:lnTo>
                <a:lnTo>
                  <a:pt x="1085" y="103"/>
                </a:lnTo>
                <a:lnTo>
                  <a:pt x="1119" y="103"/>
                </a:lnTo>
                <a:lnTo>
                  <a:pt x="1199" y="103"/>
                </a:lnTo>
                <a:lnTo>
                  <a:pt x="1291" y="103"/>
                </a:lnTo>
                <a:lnTo>
                  <a:pt x="1451" y="115"/>
                </a:lnTo>
                <a:lnTo>
                  <a:pt x="1485" y="115"/>
                </a:lnTo>
                <a:lnTo>
                  <a:pt x="1519" y="115"/>
                </a:lnTo>
                <a:lnTo>
                  <a:pt x="1553" y="115"/>
                </a:lnTo>
                <a:lnTo>
                  <a:pt x="1588" y="115"/>
                </a:lnTo>
                <a:lnTo>
                  <a:pt x="1622" y="115"/>
                </a:lnTo>
                <a:lnTo>
                  <a:pt x="1691" y="92"/>
                </a:lnTo>
                <a:lnTo>
                  <a:pt x="1759" y="92"/>
                </a:lnTo>
                <a:lnTo>
                  <a:pt x="1850" y="92"/>
                </a:lnTo>
                <a:lnTo>
                  <a:pt x="1965" y="92"/>
                </a:lnTo>
                <a:lnTo>
                  <a:pt x="2102" y="92"/>
                </a:lnTo>
                <a:lnTo>
                  <a:pt x="2136" y="92"/>
                </a:lnTo>
                <a:lnTo>
                  <a:pt x="2170" y="92"/>
                </a:lnTo>
                <a:lnTo>
                  <a:pt x="2205" y="92"/>
                </a:lnTo>
                <a:lnTo>
                  <a:pt x="2319" y="80"/>
                </a:lnTo>
                <a:lnTo>
                  <a:pt x="2433" y="58"/>
                </a:lnTo>
                <a:lnTo>
                  <a:pt x="2502" y="46"/>
                </a:lnTo>
                <a:lnTo>
                  <a:pt x="2570" y="35"/>
                </a:lnTo>
                <a:lnTo>
                  <a:pt x="2639" y="23"/>
                </a:lnTo>
                <a:lnTo>
                  <a:pt x="2684" y="12"/>
                </a:lnTo>
                <a:lnTo>
                  <a:pt x="2730" y="0"/>
                </a:lnTo>
                <a:lnTo>
                  <a:pt x="2776" y="0"/>
                </a:lnTo>
                <a:lnTo>
                  <a:pt x="2867" y="0"/>
                </a:lnTo>
                <a:lnTo>
                  <a:pt x="2936" y="0"/>
                </a:lnTo>
                <a:lnTo>
                  <a:pt x="2970" y="0"/>
                </a:lnTo>
                <a:lnTo>
                  <a:pt x="3016" y="0"/>
                </a:lnTo>
                <a:lnTo>
                  <a:pt x="3061" y="0"/>
                </a:lnTo>
                <a:lnTo>
                  <a:pt x="3096" y="0"/>
                </a:lnTo>
                <a:lnTo>
                  <a:pt x="3164" y="0"/>
                </a:lnTo>
                <a:lnTo>
                  <a:pt x="3233" y="0"/>
                </a:lnTo>
                <a:lnTo>
                  <a:pt x="3267" y="0"/>
                </a:lnTo>
                <a:lnTo>
                  <a:pt x="3301" y="0"/>
                </a:lnTo>
                <a:lnTo>
                  <a:pt x="3336" y="0"/>
                </a:lnTo>
                <a:lnTo>
                  <a:pt x="3450" y="0"/>
                </a:lnTo>
                <a:lnTo>
                  <a:pt x="3484" y="0"/>
                </a:lnTo>
                <a:lnTo>
                  <a:pt x="3553" y="12"/>
                </a:lnTo>
                <a:lnTo>
                  <a:pt x="3644" y="12"/>
                </a:lnTo>
                <a:lnTo>
                  <a:pt x="3736" y="23"/>
                </a:lnTo>
                <a:lnTo>
                  <a:pt x="3770" y="35"/>
                </a:lnTo>
                <a:lnTo>
                  <a:pt x="3804" y="69"/>
                </a:lnTo>
                <a:lnTo>
                  <a:pt x="3816" y="103"/>
                </a:lnTo>
                <a:lnTo>
                  <a:pt x="3838" y="1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362320" y="6094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454040" y="1432080"/>
            <a:ext cx="444600" cy="466560"/>
            <a:chOff x="1454040" y="1432080"/>
            <a:chExt cx="444600" cy="466560"/>
          </a:xfrm>
        </p:grpSpPr>
        <p:sp>
          <p:nvSpPr>
            <p:cNvPr id="618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1981080" y="551484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562720" y="543888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2952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524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668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49053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240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812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3017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7589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161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733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305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5877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35680" y="4800600"/>
            <a:ext cx="444240" cy="579960"/>
            <a:chOff x="5035680" y="4800600"/>
            <a:chExt cx="444240" cy="579960"/>
          </a:xfrm>
        </p:grpSpPr>
        <p:sp>
          <p:nvSpPr>
            <p:cNvPr id="636" name=""/>
            <p:cNvSpPr/>
            <p:nvPr/>
          </p:nvSpPr>
          <p:spPr>
            <a:xfrm>
              <a:off x="50356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05520" y="48006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486400" y="4876920"/>
            <a:ext cx="450720" cy="579960"/>
            <a:chOff x="5486400" y="4876920"/>
            <a:chExt cx="450720" cy="579960"/>
          </a:xfrm>
        </p:grpSpPr>
        <p:sp>
          <p:nvSpPr>
            <p:cNvPr id="639" name=""/>
            <p:cNvSpPr/>
            <p:nvPr/>
          </p:nvSpPr>
          <p:spPr>
            <a:xfrm>
              <a:off x="54928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864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943600" y="4876920"/>
            <a:ext cx="450720" cy="579960"/>
            <a:chOff x="5943600" y="4876920"/>
            <a:chExt cx="450720" cy="579960"/>
          </a:xfrm>
        </p:grpSpPr>
        <p:sp>
          <p:nvSpPr>
            <p:cNvPr id="642" name=""/>
            <p:cNvSpPr/>
            <p:nvPr/>
          </p:nvSpPr>
          <p:spPr>
            <a:xfrm>
              <a:off x="59500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436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6400800" y="4876920"/>
            <a:ext cx="450720" cy="579960"/>
            <a:chOff x="6400800" y="4876920"/>
            <a:chExt cx="450720" cy="579960"/>
          </a:xfrm>
        </p:grpSpPr>
        <p:sp>
          <p:nvSpPr>
            <p:cNvPr id="645" name=""/>
            <p:cNvSpPr/>
            <p:nvPr/>
          </p:nvSpPr>
          <p:spPr>
            <a:xfrm>
              <a:off x="64072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4008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858000" y="4876920"/>
            <a:ext cx="450720" cy="579960"/>
            <a:chOff x="6858000" y="4876920"/>
            <a:chExt cx="450720" cy="579960"/>
          </a:xfrm>
        </p:grpSpPr>
        <p:sp>
          <p:nvSpPr>
            <p:cNvPr id="648" name=""/>
            <p:cNvSpPr/>
            <p:nvPr/>
          </p:nvSpPr>
          <p:spPr>
            <a:xfrm>
              <a:off x="68644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8580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7315200" y="4876920"/>
            <a:ext cx="450720" cy="579960"/>
            <a:chOff x="7315200" y="4876920"/>
            <a:chExt cx="450720" cy="579960"/>
          </a:xfrm>
        </p:grpSpPr>
        <p:sp>
          <p:nvSpPr>
            <p:cNvPr id="651" name=""/>
            <p:cNvSpPr/>
            <p:nvPr/>
          </p:nvSpPr>
          <p:spPr>
            <a:xfrm>
              <a:off x="73216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152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295280" y="4876920"/>
            <a:ext cx="451080" cy="579960"/>
            <a:chOff x="1295280" y="4876920"/>
            <a:chExt cx="451080" cy="579960"/>
          </a:xfrm>
        </p:grpSpPr>
        <p:sp>
          <p:nvSpPr>
            <p:cNvPr id="654" name=""/>
            <p:cNvSpPr/>
            <p:nvPr/>
          </p:nvSpPr>
          <p:spPr>
            <a:xfrm>
              <a:off x="13017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952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1752480" y="4876920"/>
            <a:ext cx="451080" cy="579960"/>
            <a:chOff x="1752480" y="4876920"/>
            <a:chExt cx="451080" cy="579960"/>
          </a:xfrm>
        </p:grpSpPr>
        <p:sp>
          <p:nvSpPr>
            <p:cNvPr id="657" name=""/>
            <p:cNvSpPr/>
            <p:nvPr/>
          </p:nvSpPr>
          <p:spPr>
            <a:xfrm>
              <a:off x="17589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7524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2209680" y="4876920"/>
            <a:ext cx="451080" cy="579960"/>
            <a:chOff x="2209680" y="4876920"/>
            <a:chExt cx="451080" cy="579960"/>
          </a:xfrm>
        </p:grpSpPr>
        <p:sp>
          <p:nvSpPr>
            <p:cNvPr id="660" name=""/>
            <p:cNvSpPr/>
            <p:nvPr/>
          </p:nvSpPr>
          <p:spPr>
            <a:xfrm>
              <a:off x="22161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096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2666880" y="4876920"/>
            <a:ext cx="451080" cy="579960"/>
            <a:chOff x="2666880" y="4876920"/>
            <a:chExt cx="451080" cy="579960"/>
          </a:xfrm>
        </p:grpSpPr>
        <p:sp>
          <p:nvSpPr>
            <p:cNvPr id="663" name=""/>
            <p:cNvSpPr/>
            <p:nvPr/>
          </p:nvSpPr>
          <p:spPr>
            <a:xfrm>
              <a:off x="26733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668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124080" y="4876920"/>
            <a:ext cx="451080" cy="579960"/>
            <a:chOff x="3124080" y="4876920"/>
            <a:chExt cx="451080" cy="579960"/>
          </a:xfrm>
        </p:grpSpPr>
        <p:sp>
          <p:nvSpPr>
            <p:cNvPr id="666" name=""/>
            <p:cNvSpPr/>
            <p:nvPr/>
          </p:nvSpPr>
          <p:spPr>
            <a:xfrm>
              <a:off x="31305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1240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3581280" y="4876920"/>
            <a:ext cx="451080" cy="579960"/>
            <a:chOff x="3581280" y="4876920"/>
            <a:chExt cx="451080" cy="579960"/>
          </a:xfrm>
        </p:grpSpPr>
        <p:sp>
          <p:nvSpPr>
            <p:cNvPr id="669" name=""/>
            <p:cNvSpPr/>
            <p:nvPr/>
          </p:nvSpPr>
          <p:spPr>
            <a:xfrm>
              <a:off x="35877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812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51055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5627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199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9343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915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00280" y="884160"/>
            <a:ext cx="6094080" cy="2470320"/>
          </a:xfrm>
          <a:custGeom>
            <a:avLst/>
            <a:gdLst/>
            <a:ahLst/>
            <a:rect l="l" t="t" r="r" b="b"/>
            <a:pathLst>
              <a:path w="3839" h="1556">
                <a:moveTo>
                  <a:pt x="1512" y="1555"/>
                </a:moveTo>
                <a:lnTo>
                  <a:pt x="1462" y="1544"/>
                </a:lnTo>
                <a:lnTo>
                  <a:pt x="1371" y="1544"/>
                </a:lnTo>
                <a:lnTo>
                  <a:pt x="1302" y="1544"/>
                </a:lnTo>
                <a:lnTo>
                  <a:pt x="1165" y="1544"/>
                </a:lnTo>
                <a:lnTo>
                  <a:pt x="1074" y="1532"/>
                </a:lnTo>
                <a:lnTo>
                  <a:pt x="982" y="1521"/>
                </a:lnTo>
                <a:lnTo>
                  <a:pt x="914" y="1521"/>
                </a:lnTo>
                <a:lnTo>
                  <a:pt x="845" y="1521"/>
                </a:lnTo>
                <a:lnTo>
                  <a:pt x="754" y="1521"/>
                </a:lnTo>
                <a:lnTo>
                  <a:pt x="719" y="1521"/>
                </a:lnTo>
                <a:lnTo>
                  <a:pt x="685" y="1509"/>
                </a:lnTo>
                <a:lnTo>
                  <a:pt x="617" y="1486"/>
                </a:lnTo>
                <a:lnTo>
                  <a:pt x="525" y="1475"/>
                </a:lnTo>
                <a:lnTo>
                  <a:pt x="434" y="1464"/>
                </a:lnTo>
                <a:lnTo>
                  <a:pt x="365" y="1452"/>
                </a:lnTo>
                <a:lnTo>
                  <a:pt x="320" y="1429"/>
                </a:lnTo>
                <a:lnTo>
                  <a:pt x="274" y="1395"/>
                </a:lnTo>
                <a:lnTo>
                  <a:pt x="251" y="1326"/>
                </a:lnTo>
                <a:lnTo>
                  <a:pt x="217" y="1304"/>
                </a:lnTo>
                <a:lnTo>
                  <a:pt x="148" y="1212"/>
                </a:lnTo>
                <a:lnTo>
                  <a:pt x="34" y="1075"/>
                </a:lnTo>
                <a:lnTo>
                  <a:pt x="22" y="983"/>
                </a:lnTo>
                <a:lnTo>
                  <a:pt x="0" y="938"/>
                </a:lnTo>
                <a:lnTo>
                  <a:pt x="0" y="892"/>
                </a:lnTo>
                <a:lnTo>
                  <a:pt x="0" y="858"/>
                </a:lnTo>
                <a:lnTo>
                  <a:pt x="0" y="823"/>
                </a:lnTo>
                <a:lnTo>
                  <a:pt x="0" y="778"/>
                </a:lnTo>
                <a:lnTo>
                  <a:pt x="0" y="709"/>
                </a:lnTo>
                <a:lnTo>
                  <a:pt x="0" y="641"/>
                </a:lnTo>
                <a:lnTo>
                  <a:pt x="0" y="595"/>
                </a:lnTo>
                <a:lnTo>
                  <a:pt x="0" y="561"/>
                </a:lnTo>
                <a:lnTo>
                  <a:pt x="0" y="526"/>
                </a:lnTo>
                <a:lnTo>
                  <a:pt x="22" y="458"/>
                </a:lnTo>
                <a:lnTo>
                  <a:pt x="34" y="366"/>
                </a:lnTo>
                <a:lnTo>
                  <a:pt x="45" y="298"/>
                </a:lnTo>
                <a:lnTo>
                  <a:pt x="68" y="252"/>
                </a:lnTo>
                <a:lnTo>
                  <a:pt x="102" y="218"/>
                </a:lnTo>
                <a:lnTo>
                  <a:pt x="137" y="206"/>
                </a:lnTo>
                <a:lnTo>
                  <a:pt x="171" y="195"/>
                </a:lnTo>
                <a:lnTo>
                  <a:pt x="205" y="183"/>
                </a:lnTo>
                <a:lnTo>
                  <a:pt x="240" y="172"/>
                </a:lnTo>
                <a:lnTo>
                  <a:pt x="308" y="172"/>
                </a:lnTo>
                <a:lnTo>
                  <a:pt x="400" y="172"/>
                </a:lnTo>
                <a:lnTo>
                  <a:pt x="468" y="172"/>
                </a:lnTo>
                <a:lnTo>
                  <a:pt x="514" y="160"/>
                </a:lnTo>
                <a:lnTo>
                  <a:pt x="548" y="160"/>
                </a:lnTo>
                <a:lnTo>
                  <a:pt x="582" y="138"/>
                </a:lnTo>
                <a:lnTo>
                  <a:pt x="617" y="115"/>
                </a:lnTo>
                <a:lnTo>
                  <a:pt x="651" y="115"/>
                </a:lnTo>
                <a:lnTo>
                  <a:pt x="674" y="80"/>
                </a:lnTo>
                <a:lnTo>
                  <a:pt x="857" y="103"/>
                </a:lnTo>
                <a:lnTo>
                  <a:pt x="994" y="103"/>
                </a:lnTo>
                <a:lnTo>
                  <a:pt x="1085" y="103"/>
                </a:lnTo>
                <a:lnTo>
                  <a:pt x="1119" y="103"/>
                </a:lnTo>
                <a:lnTo>
                  <a:pt x="1199" y="103"/>
                </a:lnTo>
                <a:lnTo>
                  <a:pt x="1291" y="103"/>
                </a:lnTo>
                <a:lnTo>
                  <a:pt x="1451" y="115"/>
                </a:lnTo>
                <a:lnTo>
                  <a:pt x="1485" y="115"/>
                </a:lnTo>
                <a:lnTo>
                  <a:pt x="1519" y="115"/>
                </a:lnTo>
                <a:lnTo>
                  <a:pt x="1553" y="115"/>
                </a:lnTo>
                <a:lnTo>
                  <a:pt x="1588" y="115"/>
                </a:lnTo>
                <a:lnTo>
                  <a:pt x="1622" y="115"/>
                </a:lnTo>
                <a:lnTo>
                  <a:pt x="1691" y="92"/>
                </a:lnTo>
                <a:lnTo>
                  <a:pt x="1759" y="92"/>
                </a:lnTo>
                <a:lnTo>
                  <a:pt x="1850" y="92"/>
                </a:lnTo>
                <a:lnTo>
                  <a:pt x="1965" y="92"/>
                </a:lnTo>
                <a:lnTo>
                  <a:pt x="2102" y="92"/>
                </a:lnTo>
                <a:lnTo>
                  <a:pt x="2136" y="92"/>
                </a:lnTo>
                <a:lnTo>
                  <a:pt x="2170" y="92"/>
                </a:lnTo>
                <a:lnTo>
                  <a:pt x="2205" y="92"/>
                </a:lnTo>
                <a:lnTo>
                  <a:pt x="2319" y="80"/>
                </a:lnTo>
                <a:lnTo>
                  <a:pt x="2433" y="58"/>
                </a:lnTo>
                <a:lnTo>
                  <a:pt x="2502" y="46"/>
                </a:lnTo>
                <a:lnTo>
                  <a:pt x="2570" y="35"/>
                </a:lnTo>
                <a:lnTo>
                  <a:pt x="2639" y="23"/>
                </a:lnTo>
                <a:lnTo>
                  <a:pt x="2684" y="12"/>
                </a:lnTo>
                <a:lnTo>
                  <a:pt x="2730" y="0"/>
                </a:lnTo>
                <a:lnTo>
                  <a:pt x="2776" y="0"/>
                </a:lnTo>
                <a:lnTo>
                  <a:pt x="2867" y="0"/>
                </a:lnTo>
                <a:lnTo>
                  <a:pt x="2936" y="0"/>
                </a:lnTo>
                <a:lnTo>
                  <a:pt x="2970" y="0"/>
                </a:lnTo>
                <a:lnTo>
                  <a:pt x="3016" y="0"/>
                </a:lnTo>
                <a:lnTo>
                  <a:pt x="3061" y="0"/>
                </a:lnTo>
                <a:lnTo>
                  <a:pt x="3096" y="0"/>
                </a:lnTo>
                <a:lnTo>
                  <a:pt x="3164" y="0"/>
                </a:lnTo>
                <a:lnTo>
                  <a:pt x="3233" y="0"/>
                </a:lnTo>
                <a:lnTo>
                  <a:pt x="3267" y="0"/>
                </a:lnTo>
                <a:lnTo>
                  <a:pt x="3301" y="0"/>
                </a:lnTo>
                <a:lnTo>
                  <a:pt x="3336" y="0"/>
                </a:lnTo>
                <a:lnTo>
                  <a:pt x="3450" y="0"/>
                </a:lnTo>
                <a:lnTo>
                  <a:pt x="3484" y="0"/>
                </a:lnTo>
                <a:lnTo>
                  <a:pt x="3553" y="12"/>
                </a:lnTo>
                <a:lnTo>
                  <a:pt x="3644" y="12"/>
                </a:lnTo>
                <a:lnTo>
                  <a:pt x="3736" y="23"/>
                </a:lnTo>
                <a:lnTo>
                  <a:pt x="3770" y="35"/>
                </a:lnTo>
                <a:lnTo>
                  <a:pt x="3804" y="69"/>
                </a:lnTo>
                <a:lnTo>
                  <a:pt x="3816" y="103"/>
                </a:lnTo>
                <a:lnTo>
                  <a:pt x="3838" y="138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bserv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min{d(v,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{d(w,k-1) + length of edge (w,v)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s,k) 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d(v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j) = d(v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&gt;= k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stop computing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soon as we hav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(*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is identical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k-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un time be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matrix i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lists ar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bserv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utation may be done in-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(v) = min{d(v), min{d(w) + length of edge (w,v)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(v,k) = min{d(v,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{d(w,k-1) + length of edge (w,v)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iter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+1) &lt;= d(v) &lt;= d(v,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erminati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(v) = d(v,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requirement becom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*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-Source All-Destinations Shortest Paths With Negative Co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jkstra’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ngle-source greedy algorithm doesn’t work when there are negative-cost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yd’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-pairs dynamic-programming algorithm does work in this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ellman-Ford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source all-destinations shortest paths in digraphs with negative-cost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dynamic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 when adjacency matrice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 when adjacency list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 Sequ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struct a shortest path from the source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cide on the max number of edges on the path and on the vertex that comes just befo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267080"/>
            <a:ext cx="8991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digraph has no cycle whose leng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may limit ourselves to the discovery of cycle-free (acyclic) shortest pa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th that has no cycle has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43200" y="1143000"/>
            <a:ext cx="3657600" cy="579960"/>
            <a:chOff x="2743200" y="1143000"/>
            <a:chExt cx="3657600" cy="579960"/>
          </a:xfrm>
        </p:grpSpPr>
        <p:sp>
          <p:nvSpPr>
            <p:cNvPr id="60" name=""/>
            <p:cNvSpPr/>
            <p:nvPr/>
          </p:nvSpPr>
          <p:spPr>
            <a:xfrm>
              <a:off x="2749680" y="130176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43200" y="114300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83040" y="130176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114300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97440" y="130176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91320" y="114300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7800" y="1523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24080" y="1523880"/>
              <a:ext cx="1752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lem Sta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213336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tate is given b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destinati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max number of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v,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tate in which we want the shortest path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has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0196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99072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3568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99072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5008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99072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137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1371600"/>
            <a:ext cx="17524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st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1920" y="2437920"/>
            <a:ext cx="899172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length of a shortest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 that the path has at mo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ength of a shortest unconstrained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nt to determi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every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0196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99072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3568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99072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5008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99072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137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1371600"/>
            <a:ext cx="17524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Value Of d(*,0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ength of a shortest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 that the path has at mo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8120" y="3505320"/>
            <a:ext cx="609480" cy="579960"/>
            <a:chOff x="3048120" y="3505320"/>
            <a:chExt cx="609480" cy="579960"/>
          </a:xfrm>
        </p:grpSpPr>
        <p:sp>
          <p:nvSpPr>
            <p:cNvPr id="91" name=""/>
            <p:cNvSpPr/>
            <p:nvPr/>
          </p:nvSpPr>
          <p:spPr>
            <a:xfrm>
              <a:off x="3054240" y="3657600"/>
              <a:ext cx="368280" cy="338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8120" y="350532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50840" y="4799160"/>
            <a:ext cx="8991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s,0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0) = infin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v !=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d(*,k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160" y="1523880"/>
            <a:ext cx="89917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ength of a shortest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 that the path has at mo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constrained shortest path goes through no edge, t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d(v,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d(*,k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0480" y="1371240"/>
            <a:ext cx="89917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constrained shortest path goes through at least one edge, then 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vertex just befo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is shortest path (note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905120" y="3048120"/>
            <a:ext cx="3657600" cy="579960"/>
            <a:chOff x="1905120" y="3048120"/>
            <a:chExt cx="3657600" cy="579960"/>
          </a:xfrm>
        </p:grpSpPr>
        <p:sp>
          <p:nvSpPr>
            <p:cNvPr id="99" name=""/>
            <p:cNvSpPr/>
            <p:nvPr/>
          </p:nvSpPr>
          <p:spPr>
            <a:xfrm>
              <a:off x="1911240" y="320688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05120" y="304812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4960" y="320688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38480" y="304812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59360" y="320688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304812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19720" y="3429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6000" y="3429000"/>
              <a:ext cx="1752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52280" y="3962520"/>
            <a:ext cx="8686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ee that the path from the source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a shortest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 that this path has at mo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d(w,k-1) + length of edge (w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8:05:40Z</dcterms:modified>
  <cp:revision>201</cp:revision>
  <dc:subject/>
  <dc:title>Data Representation Methods</dc:title>
</cp:coreProperties>
</file>