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FF3B-975F-4DC5-A925-F3D6E4F1BE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 entries of initial cost matrix are set to zero. Remaining non-edge entries need to have a suitabl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verify principle of optimality when setting up recurrence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F32-5C2B-40EB-ADAC-9E02C2A3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9CD-66D2-4E02-BB48-74A118C7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378-D8A3-4BC8-8B90-91638D71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D30-6A68-462C-AAF1-84B3140C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9E8-DC13-4921-AB6D-F345D893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B6F-2F7B-4775-9BFB-5A829941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9B1-951F-43D9-BBB2-4F2775C5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815-1FFF-4A05-AC18-A51208B4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420-6E8B-41E6-B0CB-8F298829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B77-89DC-49CE-9D79-78F3BF14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965-5CB0-4C3F-B7F3-18A1704D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949-58A8-4EA8-8380-C633DE9D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4DBE-922A-4332-AAF8-5C75D8BA4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l-Pairs Shortest Pat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directed weighted graph, find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7467480" y="1066680"/>
            <a:ext cx="320760" cy="3207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143000" y="3581280"/>
            <a:ext cx="7121520" cy="3033720"/>
            <a:chOff x="1143000" y="3581280"/>
            <a:chExt cx="7121520" cy="3033720"/>
          </a:xfrm>
        </p:grpSpPr>
        <p:sp>
          <p:nvSpPr>
            <p:cNvPr id="53" name=""/>
            <p:cNvSpPr/>
            <p:nvPr/>
          </p:nvSpPr>
          <p:spPr>
            <a:xfrm>
              <a:off x="1225440" y="4349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79080" y="4327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25440" y="5949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79080" y="5927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54240" y="4349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07880" y="4327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8280" y="5949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31920" y="5927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8480" y="5035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32120" y="5013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83240" y="4044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36880" y="4022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78880" y="5949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32520" y="5927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7920" y="48002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76520" y="6171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76520" y="4571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00200" y="480024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599840" y="480024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472428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676520" y="525708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352320" y="548604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617184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29200" y="533376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505320" y="426672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441936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41144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3000" y="50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5120" y="47242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19520" y="4952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885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57800" y="4952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62520" y="4495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7600" y="50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3400" y="54860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60958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1480" y="609588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8080" y="365724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40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7440" y="5416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51080" y="5394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48520" y="571464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4647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095880" y="441936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48002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or may not go through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shortest path does not go throug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largest permissibl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ediate vertex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o the pat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447920" y="4952880"/>
            <a:ext cx="5715000" cy="1342080"/>
            <a:chOff x="1447920" y="4952880"/>
            <a:chExt cx="5715000" cy="1342080"/>
          </a:xfrm>
        </p:grpSpPr>
        <p:sp>
          <p:nvSpPr>
            <p:cNvPr id="284" name=""/>
            <p:cNvSpPr/>
            <p:nvPr/>
          </p:nvSpPr>
          <p:spPr>
            <a:xfrm>
              <a:off x="6940440" y="54928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30360" y="54928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97240" y="54928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2480" y="5562720"/>
              <a:ext cx="2473560" cy="56808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19720" y="520380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7920" y="571500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56386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4952880"/>
              <a:ext cx="761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lt; 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80520" y="1217160"/>
            <a:ext cx="84582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est path goes through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05120" y="1905120"/>
            <a:ext cx="5715000" cy="1341720"/>
            <a:chOff x="1905120" y="1905120"/>
            <a:chExt cx="5715000" cy="1341720"/>
          </a:xfrm>
        </p:grpSpPr>
        <p:sp>
          <p:nvSpPr>
            <p:cNvPr id="295" name=""/>
            <p:cNvSpPr/>
            <p:nvPr/>
          </p:nvSpPr>
          <p:spPr>
            <a:xfrm>
              <a:off x="7397640" y="2444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7560" y="2444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54440" y="2444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09680" y="2514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6920" y="2155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5120" y="2666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91520" y="2590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48320" y="1905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04920" y="342756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assum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repeated because no cycle has negativ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permissible intermediate vertex 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905120" y="1447920"/>
            <a:ext cx="5715000" cy="1341720"/>
            <a:chOff x="1905120" y="1447920"/>
            <a:chExt cx="5715000" cy="1341720"/>
          </a:xfrm>
        </p:grpSpPr>
        <p:sp>
          <p:nvSpPr>
            <p:cNvPr id="306" name=""/>
            <p:cNvSpPr/>
            <p:nvPr/>
          </p:nvSpPr>
          <p:spPr>
            <a:xfrm>
              <a:off x="73976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8756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44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09680" y="20574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76920" y="16984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05120" y="22096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1520" y="2133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83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04920" y="3427560"/>
            <a:ext cx="8458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must be a short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that goes through no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1600200"/>
            <a:ext cx="2541600" cy="399960"/>
          </a:xfrm>
          <a:custGeom>
            <a:avLst/>
            <a:gdLst/>
            <a:ahLst/>
            <a:rect l="l" t="t" r="r" b="b"/>
            <a:pathLst>
              <a:path w="1601" h="252">
                <a:moveTo>
                  <a:pt x="18" y="210"/>
                </a:moveTo>
                <a:lnTo>
                  <a:pt x="0" y="160"/>
                </a:lnTo>
                <a:lnTo>
                  <a:pt x="12" y="125"/>
                </a:lnTo>
                <a:lnTo>
                  <a:pt x="57" y="114"/>
                </a:lnTo>
                <a:lnTo>
                  <a:pt x="92" y="114"/>
                </a:lnTo>
                <a:lnTo>
                  <a:pt x="183" y="125"/>
                </a:lnTo>
                <a:lnTo>
                  <a:pt x="217" y="125"/>
                </a:lnTo>
                <a:lnTo>
                  <a:pt x="252" y="102"/>
                </a:lnTo>
                <a:lnTo>
                  <a:pt x="343" y="91"/>
                </a:lnTo>
                <a:lnTo>
                  <a:pt x="412" y="114"/>
                </a:lnTo>
                <a:lnTo>
                  <a:pt x="446" y="102"/>
                </a:lnTo>
                <a:lnTo>
                  <a:pt x="514" y="91"/>
                </a:lnTo>
                <a:lnTo>
                  <a:pt x="560" y="57"/>
                </a:lnTo>
                <a:lnTo>
                  <a:pt x="594" y="68"/>
                </a:lnTo>
                <a:lnTo>
                  <a:pt x="629" y="91"/>
                </a:lnTo>
                <a:lnTo>
                  <a:pt x="697" y="114"/>
                </a:lnTo>
                <a:lnTo>
                  <a:pt x="789" y="125"/>
                </a:lnTo>
                <a:lnTo>
                  <a:pt x="823" y="114"/>
                </a:lnTo>
                <a:lnTo>
                  <a:pt x="846" y="80"/>
                </a:lnTo>
                <a:lnTo>
                  <a:pt x="926" y="80"/>
                </a:lnTo>
                <a:lnTo>
                  <a:pt x="1017" y="102"/>
                </a:lnTo>
                <a:lnTo>
                  <a:pt x="1063" y="102"/>
                </a:lnTo>
                <a:lnTo>
                  <a:pt x="1097" y="91"/>
                </a:lnTo>
                <a:lnTo>
                  <a:pt x="1120" y="57"/>
                </a:lnTo>
                <a:lnTo>
                  <a:pt x="1154" y="11"/>
                </a:lnTo>
                <a:lnTo>
                  <a:pt x="1188" y="0"/>
                </a:lnTo>
                <a:lnTo>
                  <a:pt x="1188" y="34"/>
                </a:lnTo>
                <a:lnTo>
                  <a:pt x="1188" y="68"/>
                </a:lnTo>
                <a:lnTo>
                  <a:pt x="1223" y="102"/>
                </a:lnTo>
                <a:lnTo>
                  <a:pt x="1257" y="137"/>
                </a:lnTo>
                <a:lnTo>
                  <a:pt x="1280" y="171"/>
                </a:lnTo>
                <a:lnTo>
                  <a:pt x="1303" y="217"/>
                </a:lnTo>
                <a:lnTo>
                  <a:pt x="1371" y="228"/>
                </a:lnTo>
                <a:lnTo>
                  <a:pt x="1463" y="240"/>
                </a:lnTo>
                <a:lnTo>
                  <a:pt x="1531" y="240"/>
                </a:lnTo>
                <a:lnTo>
                  <a:pt x="1565" y="251"/>
                </a:lnTo>
                <a:lnTo>
                  <a:pt x="1600" y="251"/>
                </a:lnTo>
              </a:path>
            </a:pathLst>
          </a:custGeom>
          <a:noFill/>
          <a:ln cap="rnd" w="507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472428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, replace curr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with a shor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to get an even shor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905120" y="1447920"/>
            <a:ext cx="5715000" cy="1341720"/>
            <a:chOff x="1905120" y="1447920"/>
            <a:chExt cx="5715000" cy="1341720"/>
          </a:xfrm>
        </p:grpSpPr>
        <p:sp>
          <p:nvSpPr>
            <p:cNvPr id="319" name=""/>
            <p:cNvSpPr/>
            <p:nvPr/>
          </p:nvSpPr>
          <p:spPr>
            <a:xfrm>
              <a:off x="73976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756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544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20574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16984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5120" y="22096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91520" y="2133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483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04920" y="3427560"/>
            <a:ext cx="8458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must be a short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that goes through no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length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k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length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k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c(i,k,k-1) + c(k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560" y="3124080"/>
            <a:ext cx="8458200" cy="28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he two equation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min{c(i,j,k-1), c(i,k,k-1) + c(k,j,k-1)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comput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1, 2, 3, …,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676520" y="1447920"/>
            <a:ext cx="5715000" cy="1090800"/>
            <a:chOff x="1676520" y="1447920"/>
            <a:chExt cx="5715000" cy="1090800"/>
          </a:xfrm>
        </p:grpSpPr>
        <p:sp>
          <p:nvSpPr>
            <p:cNvPr id="331" name=""/>
            <p:cNvSpPr/>
            <p:nvPr/>
          </p:nvSpPr>
          <p:spPr>
            <a:xfrm>
              <a:off x="7169040" y="173664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58960" y="173664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25840" y="173664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81080" y="1806480"/>
              <a:ext cx="2473560" cy="56808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48320" y="1447920"/>
              <a:ext cx="2525760" cy="58068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195876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62920" y="188280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loyd’s Shortest Paths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=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 = 1; j &lt;= n; j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i,j,k) = min{c(i,j,k-1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i,k,k-1) + c(k,j,k-1)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04920" y="4343400"/>
            <a:ext cx="8229600" cy="960480"/>
            <a:chOff x="304920" y="4343400"/>
            <a:chExt cx="8229600" cy="960480"/>
          </a:xfrm>
        </p:grpSpPr>
        <p:sp>
          <p:nvSpPr>
            <p:cNvPr id="341" name=""/>
            <p:cNvSpPr/>
            <p:nvPr/>
          </p:nvSpPr>
          <p:spPr>
            <a:xfrm>
              <a:off x="304920" y="4495680"/>
              <a:ext cx="8229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ime complexity is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O(n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2" name="CLOCK43" descr=""/>
            <p:cNvPicPr/>
            <p:nvPr/>
          </p:nvPicPr>
          <p:blipFill>
            <a:blip r:embed="rId1"/>
            <a:stretch/>
          </p:blipFill>
          <p:spPr>
            <a:xfrm>
              <a:off x="7924680" y="4343400"/>
              <a:ext cx="468360" cy="9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"/>
          <p:cNvSpPr/>
          <p:nvPr/>
        </p:nvSpPr>
        <p:spPr>
          <a:xfrm>
            <a:off x="30492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is needed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,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ce Red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6000"/>
          </a:bodyPr>
          <a:p>
            <a:pPr marL="88920" indent="-889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min{c(i,j,k-1), c(i,k,k-1) + c(k,j,k-1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ith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d only in the computation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62120" y="2286000"/>
            <a:ext cx="6933960" cy="3733920"/>
            <a:chOff x="762120" y="2286000"/>
            <a:chExt cx="6933960" cy="3733920"/>
          </a:xfrm>
        </p:grpSpPr>
        <p:sp>
          <p:nvSpPr>
            <p:cNvPr id="347" name=""/>
            <p:cNvSpPr/>
            <p:nvPr/>
          </p:nvSpPr>
          <p:spPr>
            <a:xfrm>
              <a:off x="3054240" y="3359160"/>
              <a:ext cx="2273400" cy="2273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48320" y="2819520"/>
              <a:ext cx="0" cy="320040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8280" y="5029200"/>
              <a:ext cx="350532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86200" y="228600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olumn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5880" y="472428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row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11440" y="3892680"/>
              <a:ext cx="139680" cy="1396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03848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280" y="39625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47920" y="396252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2120" y="3733920"/>
              <a:ext cx="761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(i,j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80880" y="601992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ce Red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min{c(i,j,k-1), c(i,k,k-1) + c(k,j,k-1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k,j,k) = min{c(k,j,k-1), c(k,k,k-1) + c(k,j,k-1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min{c(k,j,k-1), 0 + c(k,j,k-1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c(k,j,k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ll c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loyd’s Shortest Paths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=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 = 1; j &lt;= n; j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i,j) = min{c(i,j), c(i,k) + c(k,j)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343400"/>
            <a:ext cx="7620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4343400"/>
            <a:ext cx="79246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 = c(i,j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termination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 = c(i,j,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62120" y="5257800"/>
            <a:ext cx="7924680" cy="960480"/>
            <a:chOff x="762120" y="5257800"/>
            <a:chExt cx="7924680" cy="960480"/>
          </a:xfrm>
        </p:grpSpPr>
        <p:sp>
          <p:nvSpPr>
            <p:cNvPr id="365" name=""/>
            <p:cNvSpPr/>
            <p:nvPr/>
          </p:nvSpPr>
          <p:spPr>
            <a:xfrm>
              <a:off x="762120" y="5410080"/>
              <a:ext cx="7924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ime complexity is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Theta(n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CLOCK43" descr=""/>
            <p:cNvPicPr/>
            <p:nvPr/>
          </p:nvPicPr>
          <p:blipFill>
            <a:blip r:embed="rId1"/>
            <a:stretch/>
          </p:blipFill>
          <p:spPr>
            <a:xfrm>
              <a:off x="7848720" y="5257800"/>
              <a:ext cx="468360" cy="9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"/>
          <p:cNvSpPr/>
          <p:nvPr/>
        </p:nvSpPr>
        <p:spPr>
          <a:xfrm>
            <a:off x="762120" y="601992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is needed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ing The Shortest Pat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80520" y="988560"/>
            <a:ext cx="84582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argest vertex on the shortest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hortest path has no intermediate verte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342900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=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 = 1; j &lt;= n; j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(i,j) &gt; c(i,k) + c(k,j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kay(i,j) = k; c(i,j) = c(i,k) + c(k,j)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jkstra’s Single Source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ijkstra’s algorith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, once with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as the source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38080" y="3200400"/>
            <a:ext cx="7121520" cy="3033720"/>
            <a:chOff x="838080" y="3200400"/>
            <a:chExt cx="7121520" cy="3033720"/>
          </a:xfrm>
        </p:grpSpPr>
        <p:sp>
          <p:nvSpPr>
            <p:cNvPr id="102" name=""/>
            <p:cNvSpPr/>
            <p:nvPr/>
          </p:nvSpPr>
          <p:spPr>
            <a:xfrm>
              <a:off x="92052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74160" y="3946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0520" y="5568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74160" y="554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932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02960" y="3946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73360" y="5568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27000" y="554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73560" y="46544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27200" y="46321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78320" y="3663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31960" y="3641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3960" y="5568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7600" y="554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4419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57909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41907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5280" y="441936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294920" y="441936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3434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371600" y="487620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047400" y="510516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24080" y="579096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24280" y="495288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200400" y="38858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03848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37335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4647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0200" y="43434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600" y="45720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7080" y="3504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2880" y="4572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4647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38480" y="51051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160" y="57150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560" y="571500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5029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73160" y="327636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2480" y="3200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92520" y="50353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4616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3600" y="533376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0280" y="4267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790960" y="40384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44193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7    5   1    -    -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 -    -    4    -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7    -    -    9    9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5    -    -    -    -   16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-    4    -    -     -   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-    -    -     -    1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2    -    -    -   -     -    -    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-    -    -    2    4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6095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71600" y="762120"/>
            <a:ext cx="7121520" cy="3033720"/>
            <a:chOff x="1371600" y="762120"/>
            <a:chExt cx="7121520" cy="3033720"/>
          </a:xfrm>
        </p:grpSpPr>
        <p:sp>
          <p:nvSpPr>
            <p:cNvPr id="375" name=""/>
            <p:cNvSpPr/>
            <p:nvPr/>
          </p:nvSpPr>
          <p:spPr>
            <a:xfrm>
              <a:off x="1454040" y="1530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0768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54040" y="3130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0768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82840" y="1530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3648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688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052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07080" y="2216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072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11840" y="1225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65480" y="1203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0748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6112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76520" y="1981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05120" y="33526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05120" y="17524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28800" y="198108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828440" y="198108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7600" y="190512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905120" y="243792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580920" y="266688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57600" y="33526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7800" y="251460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733920" y="144756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86600" y="160020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86000" y="1295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19051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81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00600" y="1066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6400" y="2133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91120" y="16765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862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0" y="2666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09680" y="32767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10080" y="327672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86600" y="25909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06680" y="83808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86000" y="7621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260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79680" y="2575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77120" y="289548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43800" y="1828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324480" y="160020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77120" y="1981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343400" y="464832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itial Cost Matrix c(*,*) = c(*,*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nal Cost Matrix c(*,*) = c(*,*,n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980720" y="14479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   6    5    1  10  13  14  1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   0  15    8    4   7    8   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2   7    0  13    9   9  10  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5   5  20    0    9 12  13  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6   9  11    4    0   3    4   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  9   8     4  13   0    1   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  8   7     3  12   6    0   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  11 10    6  15   2    3   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ay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97144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est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5404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07680" y="2346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540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07680" y="3946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8284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36480" y="2346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06880" y="39686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60520" y="3946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70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607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1184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65480" y="20415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07480" y="39686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61120" y="3946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2819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05120" y="4191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05120" y="2590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28195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828440" y="28195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57600" y="27432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905120" y="32767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580920" y="35053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57600" y="41911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335268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733920" y="22856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4382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33720" y="2743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29718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00600" y="1905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86400" y="2971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91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0" y="3505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09680" y="41148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41148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34290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62485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06680" y="1676520"/>
            <a:ext cx="6886440" cy="2363760"/>
          </a:xfrm>
          <a:custGeom>
            <a:avLst/>
            <a:gdLst/>
            <a:ahLst/>
            <a:rect l="l" t="t" r="r" b="b"/>
            <a:pathLst>
              <a:path w="4338" h="1489">
                <a:moveTo>
                  <a:pt x="4268" y="1488"/>
                </a:moveTo>
                <a:lnTo>
                  <a:pt x="4314" y="1449"/>
                </a:lnTo>
                <a:lnTo>
                  <a:pt x="4314" y="1403"/>
                </a:lnTo>
                <a:lnTo>
                  <a:pt x="4325" y="1347"/>
                </a:lnTo>
                <a:lnTo>
                  <a:pt x="4337" y="1301"/>
                </a:lnTo>
                <a:lnTo>
                  <a:pt x="4337" y="1256"/>
                </a:lnTo>
                <a:lnTo>
                  <a:pt x="4337" y="1200"/>
                </a:lnTo>
                <a:lnTo>
                  <a:pt x="4337" y="1154"/>
                </a:lnTo>
                <a:lnTo>
                  <a:pt x="4337" y="1086"/>
                </a:lnTo>
                <a:lnTo>
                  <a:pt x="4337" y="1018"/>
                </a:lnTo>
                <a:lnTo>
                  <a:pt x="4325" y="962"/>
                </a:lnTo>
                <a:lnTo>
                  <a:pt x="4303" y="905"/>
                </a:lnTo>
                <a:lnTo>
                  <a:pt x="4280" y="849"/>
                </a:lnTo>
                <a:lnTo>
                  <a:pt x="4246" y="792"/>
                </a:lnTo>
                <a:lnTo>
                  <a:pt x="4212" y="736"/>
                </a:lnTo>
                <a:lnTo>
                  <a:pt x="4178" y="690"/>
                </a:lnTo>
                <a:lnTo>
                  <a:pt x="4155" y="656"/>
                </a:lnTo>
                <a:lnTo>
                  <a:pt x="4121" y="622"/>
                </a:lnTo>
                <a:lnTo>
                  <a:pt x="4099" y="588"/>
                </a:lnTo>
                <a:lnTo>
                  <a:pt x="4065" y="554"/>
                </a:lnTo>
                <a:lnTo>
                  <a:pt x="4020" y="498"/>
                </a:lnTo>
                <a:lnTo>
                  <a:pt x="3986" y="475"/>
                </a:lnTo>
                <a:lnTo>
                  <a:pt x="3963" y="441"/>
                </a:lnTo>
                <a:lnTo>
                  <a:pt x="3929" y="407"/>
                </a:lnTo>
                <a:lnTo>
                  <a:pt x="3884" y="351"/>
                </a:lnTo>
                <a:lnTo>
                  <a:pt x="3861" y="317"/>
                </a:lnTo>
                <a:lnTo>
                  <a:pt x="3827" y="283"/>
                </a:lnTo>
                <a:lnTo>
                  <a:pt x="3793" y="249"/>
                </a:lnTo>
                <a:lnTo>
                  <a:pt x="3748" y="215"/>
                </a:lnTo>
                <a:lnTo>
                  <a:pt x="3714" y="181"/>
                </a:lnTo>
                <a:lnTo>
                  <a:pt x="3680" y="170"/>
                </a:lnTo>
                <a:lnTo>
                  <a:pt x="3623" y="124"/>
                </a:lnTo>
                <a:lnTo>
                  <a:pt x="3578" y="102"/>
                </a:lnTo>
                <a:lnTo>
                  <a:pt x="3544" y="90"/>
                </a:lnTo>
                <a:lnTo>
                  <a:pt x="3487" y="68"/>
                </a:lnTo>
                <a:lnTo>
                  <a:pt x="3442" y="68"/>
                </a:lnTo>
                <a:lnTo>
                  <a:pt x="3397" y="56"/>
                </a:lnTo>
                <a:lnTo>
                  <a:pt x="3340" y="45"/>
                </a:lnTo>
                <a:lnTo>
                  <a:pt x="3283" y="45"/>
                </a:lnTo>
                <a:lnTo>
                  <a:pt x="3249" y="45"/>
                </a:lnTo>
                <a:lnTo>
                  <a:pt x="3216" y="45"/>
                </a:lnTo>
                <a:lnTo>
                  <a:pt x="3148" y="34"/>
                </a:lnTo>
                <a:lnTo>
                  <a:pt x="3102" y="34"/>
                </a:lnTo>
                <a:lnTo>
                  <a:pt x="3068" y="34"/>
                </a:lnTo>
                <a:lnTo>
                  <a:pt x="3034" y="34"/>
                </a:lnTo>
                <a:lnTo>
                  <a:pt x="2989" y="34"/>
                </a:lnTo>
                <a:lnTo>
                  <a:pt x="2921" y="34"/>
                </a:lnTo>
                <a:lnTo>
                  <a:pt x="2887" y="34"/>
                </a:lnTo>
                <a:lnTo>
                  <a:pt x="2853" y="34"/>
                </a:lnTo>
                <a:lnTo>
                  <a:pt x="2808" y="34"/>
                </a:lnTo>
                <a:lnTo>
                  <a:pt x="2763" y="34"/>
                </a:lnTo>
                <a:lnTo>
                  <a:pt x="2729" y="34"/>
                </a:lnTo>
                <a:lnTo>
                  <a:pt x="2683" y="34"/>
                </a:lnTo>
                <a:lnTo>
                  <a:pt x="2638" y="34"/>
                </a:lnTo>
                <a:lnTo>
                  <a:pt x="2604" y="22"/>
                </a:lnTo>
                <a:lnTo>
                  <a:pt x="2559" y="22"/>
                </a:lnTo>
                <a:lnTo>
                  <a:pt x="2525" y="22"/>
                </a:lnTo>
                <a:lnTo>
                  <a:pt x="2491" y="22"/>
                </a:lnTo>
                <a:lnTo>
                  <a:pt x="2412" y="22"/>
                </a:lnTo>
                <a:lnTo>
                  <a:pt x="2344" y="22"/>
                </a:lnTo>
                <a:lnTo>
                  <a:pt x="2298" y="22"/>
                </a:lnTo>
                <a:lnTo>
                  <a:pt x="2253" y="22"/>
                </a:lnTo>
                <a:lnTo>
                  <a:pt x="2196" y="22"/>
                </a:lnTo>
                <a:lnTo>
                  <a:pt x="2151" y="22"/>
                </a:lnTo>
                <a:lnTo>
                  <a:pt x="2083" y="22"/>
                </a:lnTo>
                <a:lnTo>
                  <a:pt x="2015" y="22"/>
                </a:lnTo>
                <a:lnTo>
                  <a:pt x="1947" y="22"/>
                </a:lnTo>
                <a:lnTo>
                  <a:pt x="1891" y="22"/>
                </a:lnTo>
                <a:lnTo>
                  <a:pt x="1834" y="22"/>
                </a:lnTo>
                <a:lnTo>
                  <a:pt x="1766" y="22"/>
                </a:lnTo>
                <a:lnTo>
                  <a:pt x="1709" y="22"/>
                </a:lnTo>
                <a:lnTo>
                  <a:pt x="1653" y="22"/>
                </a:lnTo>
                <a:lnTo>
                  <a:pt x="1608" y="22"/>
                </a:lnTo>
                <a:lnTo>
                  <a:pt x="1540" y="22"/>
                </a:lnTo>
                <a:lnTo>
                  <a:pt x="1483" y="22"/>
                </a:lnTo>
                <a:lnTo>
                  <a:pt x="1415" y="22"/>
                </a:lnTo>
                <a:lnTo>
                  <a:pt x="1336" y="22"/>
                </a:lnTo>
                <a:lnTo>
                  <a:pt x="1257" y="22"/>
                </a:lnTo>
                <a:lnTo>
                  <a:pt x="1189" y="22"/>
                </a:lnTo>
                <a:lnTo>
                  <a:pt x="1132" y="22"/>
                </a:lnTo>
                <a:lnTo>
                  <a:pt x="1064" y="22"/>
                </a:lnTo>
                <a:lnTo>
                  <a:pt x="985" y="22"/>
                </a:lnTo>
                <a:lnTo>
                  <a:pt x="928" y="22"/>
                </a:lnTo>
                <a:lnTo>
                  <a:pt x="883" y="22"/>
                </a:lnTo>
                <a:lnTo>
                  <a:pt x="849" y="22"/>
                </a:lnTo>
                <a:lnTo>
                  <a:pt x="792" y="22"/>
                </a:lnTo>
                <a:lnTo>
                  <a:pt x="713" y="11"/>
                </a:lnTo>
                <a:lnTo>
                  <a:pt x="656" y="11"/>
                </a:lnTo>
                <a:lnTo>
                  <a:pt x="622" y="11"/>
                </a:lnTo>
                <a:lnTo>
                  <a:pt x="577" y="0"/>
                </a:lnTo>
                <a:lnTo>
                  <a:pt x="543" y="0"/>
                </a:lnTo>
                <a:lnTo>
                  <a:pt x="498" y="0"/>
                </a:lnTo>
                <a:lnTo>
                  <a:pt x="441" y="0"/>
                </a:lnTo>
                <a:lnTo>
                  <a:pt x="407" y="0"/>
                </a:lnTo>
                <a:lnTo>
                  <a:pt x="362" y="11"/>
                </a:lnTo>
                <a:lnTo>
                  <a:pt x="317" y="11"/>
                </a:lnTo>
                <a:lnTo>
                  <a:pt x="283" y="22"/>
                </a:lnTo>
                <a:lnTo>
                  <a:pt x="249" y="34"/>
                </a:lnTo>
                <a:lnTo>
                  <a:pt x="203" y="56"/>
                </a:lnTo>
                <a:lnTo>
                  <a:pt x="158" y="79"/>
                </a:lnTo>
                <a:lnTo>
                  <a:pt x="124" y="102"/>
                </a:lnTo>
                <a:lnTo>
                  <a:pt x="90" y="136"/>
                </a:lnTo>
                <a:lnTo>
                  <a:pt x="56" y="170"/>
                </a:lnTo>
                <a:lnTo>
                  <a:pt x="34" y="215"/>
                </a:lnTo>
                <a:lnTo>
                  <a:pt x="11" y="249"/>
                </a:lnTo>
                <a:lnTo>
                  <a:pt x="0" y="283"/>
                </a:lnTo>
                <a:lnTo>
                  <a:pt x="0" y="328"/>
                </a:lnTo>
                <a:lnTo>
                  <a:pt x="0" y="362"/>
                </a:lnTo>
                <a:lnTo>
                  <a:pt x="0" y="396"/>
                </a:lnTo>
                <a:lnTo>
                  <a:pt x="0" y="43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260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79680" y="3413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77120" y="3733920"/>
            <a:ext cx="160020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43800" y="26668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324480" y="2438280"/>
            <a:ext cx="4572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819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28800" y="2819520"/>
            <a:ext cx="152388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05120" y="4191120"/>
            <a:ext cx="129528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05120" y="3276720"/>
            <a:ext cx="2895480" cy="8380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57800" y="3352680"/>
            <a:ext cx="762120" cy="2286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324480" y="2438280"/>
            <a:ext cx="457200" cy="99072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86600" y="2438280"/>
            <a:ext cx="1143000" cy="15242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67080" y="1523880"/>
            <a:ext cx="46483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7) =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72000" y="2971800"/>
            <a:ext cx="2971800" cy="519120"/>
            <a:chOff x="4572000" y="2971800"/>
            <a:chExt cx="2971800" cy="519120"/>
          </a:xfrm>
        </p:grpSpPr>
        <p:sp>
          <p:nvSpPr>
            <p:cNvPr id="486" name=""/>
            <p:cNvSpPr/>
            <p:nvPr/>
          </p:nvSpPr>
          <p:spPr>
            <a:xfrm>
              <a:off x="4572000" y="2971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67280" y="29718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62920" y="2971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76920" y="32004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48520" y="32004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267080" y="350532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8)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648320" y="4114800"/>
            <a:ext cx="4267080" cy="519120"/>
            <a:chOff x="4648320" y="4114800"/>
            <a:chExt cx="4267080" cy="519120"/>
          </a:xfrm>
        </p:grpSpPr>
        <p:sp>
          <p:nvSpPr>
            <p:cNvPr id="493" name=""/>
            <p:cNvSpPr/>
            <p:nvPr/>
          </p:nvSpPr>
          <p:spPr>
            <a:xfrm>
              <a:off x="464832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60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38880" y="41148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52880" y="4343400"/>
              <a:ext cx="9907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24480" y="4343400"/>
              <a:ext cx="9907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53452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20120" y="43434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267080" y="464832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5)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495680" y="5410080"/>
            <a:ext cx="4267440" cy="519120"/>
            <a:chOff x="4495680" y="5410080"/>
            <a:chExt cx="4267440" cy="519120"/>
          </a:xfrm>
        </p:grpSpPr>
        <p:sp>
          <p:nvSpPr>
            <p:cNvPr id="502" name=""/>
            <p:cNvSpPr/>
            <p:nvPr/>
          </p:nvSpPr>
          <p:spPr>
            <a:xfrm>
              <a:off x="449568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5308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4380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00600" y="5638680"/>
              <a:ext cx="685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34320" y="563868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188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924680" y="56386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640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67280" y="563868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1523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343400" y="2209680"/>
            <a:ext cx="4267080" cy="519120"/>
            <a:chOff x="4343400" y="2209680"/>
            <a:chExt cx="4267080" cy="519120"/>
          </a:xfrm>
        </p:grpSpPr>
        <p:sp>
          <p:nvSpPr>
            <p:cNvPr id="515" name=""/>
            <p:cNvSpPr/>
            <p:nvPr/>
          </p:nvSpPr>
          <p:spPr>
            <a:xfrm>
              <a:off x="43434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008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152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48320" y="2438280"/>
              <a:ext cx="685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81680" y="243828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296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72400" y="24382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412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15000" y="243828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4343400" y="281952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4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4419720" y="3505320"/>
            <a:ext cx="3581280" cy="519120"/>
            <a:chOff x="4419720" y="3505320"/>
            <a:chExt cx="3581280" cy="519120"/>
          </a:xfrm>
        </p:grpSpPr>
        <p:sp>
          <p:nvSpPr>
            <p:cNvPr id="526" name=""/>
            <p:cNvSpPr/>
            <p:nvPr/>
          </p:nvSpPr>
          <p:spPr>
            <a:xfrm>
              <a:off x="4419720" y="3505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91320" y="3505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81680" y="3505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72200" y="3733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20120" y="3505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62920" y="373392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24280" y="3505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05520" y="3733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344840" y="40384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4,5)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4419720" y="4648320"/>
            <a:ext cx="4572000" cy="519120"/>
            <a:chOff x="4419720" y="4648320"/>
            <a:chExt cx="4572000" cy="519120"/>
          </a:xfrm>
        </p:grpSpPr>
        <p:sp>
          <p:nvSpPr>
            <p:cNvPr id="536" name=""/>
            <p:cNvSpPr/>
            <p:nvPr/>
          </p:nvSpPr>
          <p:spPr>
            <a:xfrm>
              <a:off x="441972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81680" y="4648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7240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29200" y="4876920"/>
              <a:ext cx="685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62920" y="4876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610480" y="4648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153280" y="487692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1500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95880" y="487692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4280" y="4648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422600" y="51814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4,2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421160" y="5791320"/>
            <a:ext cx="3962520" cy="519120"/>
            <a:chOff x="4421160" y="5791320"/>
            <a:chExt cx="3962520" cy="519120"/>
          </a:xfrm>
        </p:grpSpPr>
        <p:sp>
          <p:nvSpPr>
            <p:cNvPr id="548" name=""/>
            <p:cNvSpPr/>
            <p:nvPr/>
          </p:nvSpPr>
          <p:spPr>
            <a:xfrm>
              <a:off x="442116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3640" y="5791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436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54880" y="6019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02440" y="5791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45240" y="601992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0696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87840" y="601992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2608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1523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2116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73640" y="2133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16436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554880" y="2362320"/>
            <a:ext cx="6094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02440" y="2133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545240" y="2362320"/>
            <a:ext cx="5335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10696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87840" y="2362320"/>
            <a:ext cx="60984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2608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4000" y="27432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2,5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4497480" y="3352680"/>
            <a:ext cx="3200400" cy="519120"/>
            <a:chOff x="4497480" y="3352680"/>
            <a:chExt cx="3200400" cy="519120"/>
          </a:xfrm>
        </p:grpSpPr>
        <p:sp>
          <p:nvSpPr>
            <p:cNvPr id="571" name=""/>
            <p:cNvSpPr/>
            <p:nvPr/>
          </p:nvSpPr>
          <p:spPr>
            <a:xfrm>
              <a:off x="4497480" y="3352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87840" y="3352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78560" y="3352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69080" y="358128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6640" y="3352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59440" y="35812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83280" y="3352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02040" y="3352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194000" y="3809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5,8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3440" y="4343400"/>
            <a:ext cx="2514600" cy="519120"/>
            <a:chOff x="4573440" y="4343400"/>
            <a:chExt cx="2514600" cy="519120"/>
          </a:xfrm>
        </p:grpSpPr>
        <p:sp>
          <p:nvSpPr>
            <p:cNvPr id="581" name=""/>
            <p:cNvSpPr/>
            <p:nvPr/>
          </p:nvSpPr>
          <p:spPr>
            <a:xfrm>
              <a:off x="4573440" y="4343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6416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6908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0716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49960" y="457200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59240" y="4343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4194000" y="48006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8,7)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497480" y="5410080"/>
            <a:ext cx="3352680" cy="519120"/>
            <a:chOff x="4497480" y="5410080"/>
            <a:chExt cx="3352680" cy="519120"/>
          </a:xfrm>
        </p:grpSpPr>
        <p:sp>
          <p:nvSpPr>
            <p:cNvPr id="590" name=""/>
            <p:cNvSpPr/>
            <p:nvPr/>
          </p:nvSpPr>
          <p:spPr>
            <a:xfrm>
              <a:off x="449748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8784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9276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3084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73640" y="56386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328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0204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6928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12080" y="563868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67080" y="1523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649760" y="2209680"/>
            <a:ext cx="3352680" cy="519120"/>
            <a:chOff x="4649760" y="2209680"/>
            <a:chExt cx="3352680" cy="519120"/>
          </a:xfrm>
        </p:grpSpPr>
        <p:sp>
          <p:nvSpPr>
            <p:cNvPr id="603" name=""/>
            <p:cNvSpPr/>
            <p:nvPr/>
          </p:nvSpPr>
          <p:spPr>
            <a:xfrm>
              <a:off x="464976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4048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45040" y="2209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8348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6280" y="243828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556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5468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56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64360" y="24382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265640" y="29718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8,6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573440" y="3581280"/>
            <a:ext cx="2819520" cy="519120"/>
            <a:chOff x="4573440" y="3581280"/>
            <a:chExt cx="2819520" cy="519120"/>
          </a:xfrm>
        </p:grpSpPr>
        <p:sp>
          <p:nvSpPr>
            <p:cNvPr id="614" name=""/>
            <p:cNvSpPr/>
            <p:nvPr/>
          </p:nvSpPr>
          <p:spPr>
            <a:xfrm>
              <a:off x="457344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6416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908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7364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5924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7836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1208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4880" y="380988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4265640" y="41148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6,7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649760" y="4724280"/>
            <a:ext cx="2286000" cy="519120"/>
            <a:chOff x="4649760" y="4724280"/>
            <a:chExt cx="2286000" cy="519120"/>
          </a:xfrm>
        </p:grpSpPr>
        <p:sp>
          <p:nvSpPr>
            <p:cNvPr id="624" name=""/>
            <p:cNvSpPr/>
            <p:nvPr/>
          </p:nvSpPr>
          <p:spPr>
            <a:xfrm>
              <a:off x="464976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4048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5040" y="4724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4996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3556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5468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5488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put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ublic static 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utputPath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,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does not output first vertex (i) on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 == j)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kay[i][j] == 0)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no intermediate vertices on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(j + " 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kay[i][j] is an intermediate vertex on the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Path(i, kay[i][j]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Path(kay[i][j], j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 Of output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umber of vertices on shortest pa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CLOCK43" descr=""/>
          <p:cNvPicPr/>
          <p:nvPr/>
        </p:nvPicPr>
        <p:blipFill>
          <a:blip r:embed="rId1"/>
          <a:stretch/>
        </p:blipFill>
        <p:spPr>
          <a:xfrm>
            <a:off x="8381880" y="53352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only when no edge has a c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ROBOT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9604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so long as there is no cycle whose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re is a cycle whose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me shortest paths aren’t 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vertex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n a cycle whose length i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ach time you go around this cycl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tha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s shorter than the previous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r to code, smaller overh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n as Floyd’s shortest paths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decide the highest intermediate vertex (i.e., largest vertex number) on the shortest path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hortest pa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, 2, 6, 3, 8, 5, 7, 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decision is that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intermediate vertex on the shortest path and no intermediate vertex is larg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decide the highest intermediate vertex on the pa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05120" y="1012680"/>
            <a:ext cx="5715000" cy="1091160"/>
            <a:chOff x="1905120" y="1012680"/>
            <a:chExt cx="5715000" cy="1091160"/>
          </a:xfrm>
        </p:grpSpPr>
        <p:sp>
          <p:nvSpPr>
            <p:cNvPr id="156" name=""/>
            <p:cNvSpPr/>
            <p:nvPr/>
          </p:nvSpPr>
          <p:spPr>
            <a:xfrm>
              <a:off x="73976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756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544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09680" y="1371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6920" y="1012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5120" y="1523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915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problem of finding the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,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problem of finding the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ith no restrictions on intermediate verti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905120" y="1012680"/>
            <a:ext cx="5715000" cy="1091160"/>
            <a:chOff x="1905120" y="1012680"/>
            <a:chExt cx="5715000" cy="1091160"/>
          </a:xfrm>
        </p:grpSpPr>
        <p:sp>
          <p:nvSpPr>
            <p:cNvPr id="166" name=""/>
            <p:cNvSpPr/>
            <p:nvPr/>
          </p:nvSpPr>
          <p:spPr>
            <a:xfrm>
              <a:off x="73976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756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09680" y="1371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76920" y="1012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5120" y="1523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st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35053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905120" y="1012680"/>
            <a:ext cx="5715000" cy="1091160"/>
            <a:chOff x="1905120" y="1012680"/>
            <a:chExt cx="5715000" cy="1091160"/>
          </a:xfrm>
        </p:grpSpPr>
        <p:sp>
          <p:nvSpPr>
            <p:cNvPr id="176" name=""/>
            <p:cNvSpPr/>
            <p:nvPr/>
          </p:nvSpPr>
          <p:spPr>
            <a:xfrm>
              <a:off x="73976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756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544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09680" y="1371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920" y="1012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5120" y="1523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915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(i,j,n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vertex is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(i,j,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43000" y="3824280"/>
            <a:ext cx="7121520" cy="3033720"/>
            <a:chOff x="1143000" y="3824280"/>
            <a:chExt cx="7121520" cy="3033720"/>
          </a:xfrm>
        </p:grpSpPr>
        <p:sp>
          <p:nvSpPr>
            <p:cNvPr id="186" name=""/>
            <p:cNvSpPr/>
            <p:nvPr/>
          </p:nvSpPr>
          <p:spPr>
            <a:xfrm>
              <a:off x="12254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790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25440" y="6192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7908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542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078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782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319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8480" y="5278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32120" y="5256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3240" y="4287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36880" y="42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788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325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50432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6414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76520" y="4814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200" y="504324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599840" y="504324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496728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676520" y="550008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352320" y="572904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641484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557676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505320" y="450972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0" y="466236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43574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5120" y="49672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19520" y="5195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0" y="41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57800" y="51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2520" y="4738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43400" y="57290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81080" y="63388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81480" y="633888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0" y="5653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78080" y="390024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57400" y="38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97440" y="565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1080" y="5637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48520" y="595764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15200" y="4890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095880" y="466236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8520" y="50432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(i,j,0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0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vertex is larg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c(i,j,0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length of a single-edge path from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143000" y="3824280"/>
            <a:ext cx="7121520" cy="3033720"/>
            <a:chOff x="1143000" y="3824280"/>
            <a:chExt cx="7121520" cy="3033720"/>
          </a:xfrm>
        </p:grpSpPr>
        <p:sp>
          <p:nvSpPr>
            <p:cNvPr id="235" name=""/>
            <p:cNvSpPr/>
            <p:nvPr/>
          </p:nvSpPr>
          <p:spPr>
            <a:xfrm>
              <a:off x="12254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790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5440" y="6192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7908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542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078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782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319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8480" y="5278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32120" y="5256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83240" y="4287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36880" y="42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88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325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7920" y="50432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520" y="6414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6520" y="4814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00200" y="504324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599840" y="504324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9000" y="496728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676520" y="550008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352320" y="572904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641484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29200" y="557676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505320" y="450972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466236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57400" y="43574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430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05120" y="49672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19520" y="5195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72000" y="41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57800" y="51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62520" y="4738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576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3400" y="57290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1080" y="63388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1480" y="633888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5653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78080" y="390024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57400" y="38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97440" y="565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51080" y="5637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595764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15200" y="4890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466236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50432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8:01:47Z</dcterms:modified>
  <cp:revision>188</cp:revision>
  <dc:subject/>
  <dc:title>Data Representation Methods</dc:title>
</cp:coreProperties>
</file>