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A8B-AA97-4981-B961-8394C18C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FB7-9B3D-4420-8FEA-3B48BF49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052-DB4B-4554-A7AA-BD3BA347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9F3-676E-488B-B8CA-46440B59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23D-A45A-47AE-AA7C-EFEC3A05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EB6-0252-4580-B470-A2857F89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BAF-CB4D-4335-8487-72842157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F90-C08F-4498-820F-74FDB4D4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75E-7288-4B9D-8529-493579D1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8F6-5220-433E-9D96-60140230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246-A2AC-4234-8A78-AFE2EA8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692-84A3-4B1E-B604-72161F89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0D69-EDB2-4476-A5E7-A411DD651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Multiplication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best way to compute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produc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the dimension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multiplications are to b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the matrices involved in each of these multi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YELLOW-B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44" name="YELLOW-B" descr=""/>
          <p:cNvPicPr/>
          <p:nvPr/>
        </p:nvPicPr>
        <p:blipFill>
          <a:blip r:embed="rId2"/>
          <a:stretch/>
        </p:blipFill>
        <p:spPr>
          <a:xfrm>
            <a:off x="8229600" y="685800"/>
            <a:ext cx="3207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143000"/>
            <a:ext cx="8763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ay(i,i) , 1 &lt;= i &lt;=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o be comp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100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123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126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129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132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135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138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141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144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14300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ay(i,i+1) , 1 &lt;= i &lt;= 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o be comp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149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172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175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178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181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184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187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190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193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143000"/>
            <a:ext cx="876312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1) =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1 &lt;= i &lt;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i+1)  =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198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221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224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227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230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233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236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239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242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245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248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251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254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257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260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1143000"/>
            <a:ext cx="876312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2) = min{c(i,i) + c(i+1,i+2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1) + c(i+2,i+2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265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288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291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294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297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300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303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306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309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312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315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318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321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324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327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143000"/>
            <a:ext cx="876312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3) = min{c(1,1) + c(2,3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2) + c(3,3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3) = min{0 + 10 + 10, 100 + 0 + 1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332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355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358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361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364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367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370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373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376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379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382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385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388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391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394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828800" y="3809880"/>
            <a:ext cx="762120" cy="458280"/>
            <a:chOff x="1828800" y="3809880"/>
            <a:chExt cx="762120" cy="458280"/>
          </a:xfrm>
        </p:grpSpPr>
        <p:sp>
          <p:nvSpPr>
            <p:cNvPr id="397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400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1143000"/>
            <a:ext cx="876312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2,4) = min{c(2,2) + c(3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2,3) + c(4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2,4) = min{0 + 100 + 100, 10 + 0 + 1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405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428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431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434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437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440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443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446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449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452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455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458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461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464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467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752480" y="3809880"/>
            <a:ext cx="762120" cy="458280"/>
            <a:chOff x="1752480" y="3809880"/>
            <a:chExt cx="762120" cy="458280"/>
          </a:xfrm>
        </p:grpSpPr>
        <p:sp>
          <p:nvSpPr>
            <p:cNvPr id="470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524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473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209680" y="4267080"/>
            <a:ext cx="762120" cy="458280"/>
            <a:chOff x="2209680" y="4267080"/>
            <a:chExt cx="762120" cy="458280"/>
          </a:xfrm>
        </p:grpSpPr>
        <p:sp>
          <p:nvSpPr>
            <p:cNvPr id="476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096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940440" y="4191120"/>
            <a:ext cx="444600" cy="458280"/>
            <a:chOff x="6940440" y="4191120"/>
            <a:chExt cx="444600" cy="458280"/>
          </a:xfrm>
        </p:grpSpPr>
        <p:sp>
          <p:nvSpPr>
            <p:cNvPr id="479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102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 =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1143000"/>
            <a:ext cx="914256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4) = min{c(1,1) + c(2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2) + c(3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c(1,3) + c(4,4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4) = min{0+20+100, 100+100+1000, 20+0+1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484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507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510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513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516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519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522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525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528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531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534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537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540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543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546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752480" y="3809880"/>
            <a:ext cx="762120" cy="458280"/>
            <a:chOff x="1752480" y="3809880"/>
            <a:chExt cx="762120" cy="458280"/>
          </a:xfrm>
        </p:grpSpPr>
        <p:sp>
          <p:nvSpPr>
            <p:cNvPr id="549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524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552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209680" y="4267080"/>
            <a:ext cx="762120" cy="458280"/>
            <a:chOff x="2209680" y="4267080"/>
            <a:chExt cx="762120" cy="458280"/>
          </a:xfrm>
        </p:grpSpPr>
        <p:sp>
          <p:nvSpPr>
            <p:cNvPr id="555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096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940440" y="4191120"/>
            <a:ext cx="444600" cy="458280"/>
            <a:chOff x="6940440" y="4191120"/>
            <a:chExt cx="444600" cy="458280"/>
          </a:xfrm>
        </p:grpSpPr>
        <p:sp>
          <p:nvSpPr>
            <p:cNvPr id="558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102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209680" y="3809880"/>
            <a:ext cx="762120" cy="458280"/>
            <a:chOff x="2209680" y="3809880"/>
            <a:chExt cx="762120" cy="458280"/>
          </a:xfrm>
        </p:grpSpPr>
        <p:sp>
          <p:nvSpPr>
            <p:cNvPr id="561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096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6940440" y="3733920"/>
            <a:ext cx="444600" cy="458280"/>
            <a:chOff x="6940440" y="3733920"/>
            <a:chExt cx="444600" cy="458280"/>
          </a:xfrm>
        </p:grpSpPr>
        <p:sp>
          <p:nvSpPr>
            <p:cNvPr id="564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102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termine The Best Way To Compu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1143000"/>
            <a:ext cx="914256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4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last multiplication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a single matrix and no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est way 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569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592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595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598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601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604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607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610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613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616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619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622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625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628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631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752480" y="3809880"/>
            <a:ext cx="762120" cy="458280"/>
            <a:chOff x="1752480" y="3809880"/>
            <a:chExt cx="762120" cy="458280"/>
          </a:xfrm>
        </p:grpSpPr>
        <p:sp>
          <p:nvSpPr>
            <p:cNvPr id="634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637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09680" y="4267080"/>
            <a:ext cx="762120" cy="458280"/>
            <a:chOff x="2209680" y="4267080"/>
            <a:chExt cx="762120" cy="458280"/>
          </a:xfrm>
        </p:grpSpPr>
        <p:sp>
          <p:nvSpPr>
            <p:cNvPr id="640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096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6940440" y="4191120"/>
            <a:ext cx="444600" cy="458280"/>
            <a:chOff x="6940440" y="4191120"/>
            <a:chExt cx="444600" cy="458280"/>
          </a:xfrm>
        </p:grpSpPr>
        <p:sp>
          <p:nvSpPr>
            <p:cNvPr id="643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0102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209680" y="3809880"/>
            <a:ext cx="762120" cy="458280"/>
            <a:chOff x="2209680" y="3809880"/>
            <a:chExt cx="762120" cy="458280"/>
          </a:xfrm>
        </p:grpSpPr>
        <p:sp>
          <p:nvSpPr>
            <p:cNvPr id="646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096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940440" y="3733920"/>
            <a:ext cx="444600" cy="458280"/>
            <a:chOff x="6940440" y="3733920"/>
            <a:chExt cx="444600" cy="458280"/>
          </a:xfrm>
        </p:grpSpPr>
        <p:sp>
          <p:nvSpPr>
            <p:cNvPr id="649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102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termine The Best Way To Compu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1143000"/>
            <a:ext cx="914256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2,4) = 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last multiplication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a single matrix and no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838080" y="3740040"/>
            <a:ext cx="7467840" cy="2935800"/>
            <a:chOff x="838080" y="3740040"/>
            <a:chExt cx="7467840" cy="2935800"/>
          </a:xfrm>
        </p:grpSpPr>
        <p:sp>
          <p:nvSpPr>
            <p:cNvPr id="654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38080" y="609588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86400" y="601992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920880" y="3809880"/>
            <a:ext cx="444240" cy="458280"/>
            <a:chOff x="920880" y="3809880"/>
            <a:chExt cx="444240" cy="458280"/>
          </a:xfrm>
        </p:grpSpPr>
        <p:sp>
          <p:nvSpPr>
            <p:cNvPr id="677" name=""/>
            <p:cNvSpPr/>
            <p:nvPr/>
          </p:nvSpPr>
          <p:spPr>
            <a:xfrm>
              <a:off x="9208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90720" y="38098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5568840" y="3733920"/>
            <a:ext cx="444600" cy="458280"/>
            <a:chOff x="5568840" y="3733920"/>
            <a:chExt cx="444600" cy="458280"/>
          </a:xfrm>
        </p:grpSpPr>
        <p:sp>
          <p:nvSpPr>
            <p:cNvPr id="680" name=""/>
            <p:cNvSpPr/>
            <p:nvPr/>
          </p:nvSpPr>
          <p:spPr>
            <a:xfrm>
              <a:off x="55688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378080" y="4267080"/>
            <a:ext cx="444240" cy="458280"/>
            <a:chOff x="1378080" y="4267080"/>
            <a:chExt cx="444240" cy="458280"/>
          </a:xfrm>
        </p:grpSpPr>
        <p:sp>
          <p:nvSpPr>
            <p:cNvPr id="683" name=""/>
            <p:cNvSpPr/>
            <p:nvPr/>
          </p:nvSpPr>
          <p:spPr>
            <a:xfrm>
              <a:off x="13780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47920" y="42670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6026040" y="4191120"/>
            <a:ext cx="444600" cy="458280"/>
            <a:chOff x="6026040" y="4191120"/>
            <a:chExt cx="444600" cy="458280"/>
          </a:xfrm>
        </p:grpSpPr>
        <p:sp>
          <p:nvSpPr>
            <p:cNvPr id="686" name=""/>
            <p:cNvSpPr/>
            <p:nvPr/>
          </p:nvSpPr>
          <p:spPr>
            <a:xfrm>
              <a:off x="60260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958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35280" y="4724280"/>
            <a:ext cx="444240" cy="458280"/>
            <a:chOff x="1835280" y="4724280"/>
            <a:chExt cx="444240" cy="458280"/>
          </a:xfrm>
        </p:grpSpPr>
        <p:sp>
          <p:nvSpPr>
            <p:cNvPr id="689" name=""/>
            <p:cNvSpPr/>
            <p:nvPr/>
          </p:nvSpPr>
          <p:spPr>
            <a:xfrm>
              <a:off x="18352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05120" y="47242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483240" y="4648320"/>
            <a:ext cx="444600" cy="458280"/>
            <a:chOff x="6483240" y="4648320"/>
            <a:chExt cx="444600" cy="458280"/>
          </a:xfrm>
        </p:grpSpPr>
        <p:sp>
          <p:nvSpPr>
            <p:cNvPr id="692" name=""/>
            <p:cNvSpPr/>
            <p:nvPr/>
          </p:nvSpPr>
          <p:spPr>
            <a:xfrm>
              <a:off x="64832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530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2292480" y="5181480"/>
            <a:ext cx="444240" cy="458280"/>
            <a:chOff x="2292480" y="5181480"/>
            <a:chExt cx="444240" cy="458280"/>
          </a:xfrm>
        </p:grpSpPr>
        <p:sp>
          <p:nvSpPr>
            <p:cNvPr id="695" name=""/>
            <p:cNvSpPr/>
            <p:nvPr/>
          </p:nvSpPr>
          <p:spPr>
            <a:xfrm>
              <a:off x="2292480" y="51879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62320" y="518148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940440" y="5105520"/>
            <a:ext cx="444600" cy="458280"/>
            <a:chOff x="6940440" y="5105520"/>
            <a:chExt cx="444600" cy="458280"/>
          </a:xfrm>
        </p:grpSpPr>
        <p:sp>
          <p:nvSpPr>
            <p:cNvPr id="698" name=""/>
            <p:cNvSpPr/>
            <p:nvPr/>
          </p:nvSpPr>
          <p:spPr>
            <a:xfrm>
              <a:off x="6940440" y="51116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10280" y="51055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295280" y="3809880"/>
            <a:ext cx="762120" cy="458280"/>
            <a:chOff x="1295280" y="3809880"/>
            <a:chExt cx="762120" cy="458280"/>
          </a:xfrm>
        </p:grpSpPr>
        <p:sp>
          <p:nvSpPr>
            <p:cNvPr id="701" name=""/>
            <p:cNvSpPr/>
            <p:nvPr/>
          </p:nvSpPr>
          <p:spPr>
            <a:xfrm>
              <a:off x="13780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952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026040" y="3733920"/>
            <a:ext cx="444600" cy="458280"/>
            <a:chOff x="6026040" y="3733920"/>
            <a:chExt cx="444600" cy="458280"/>
          </a:xfrm>
        </p:grpSpPr>
        <p:sp>
          <p:nvSpPr>
            <p:cNvPr id="704" name=""/>
            <p:cNvSpPr/>
            <p:nvPr/>
          </p:nvSpPr>
          <p:spPr>
            <a:xfrm>
              <a:off x="60260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958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1752480" y="4267080"/>
            <a:ext cx="762120" cy="458280"/>
            <a:chOff x="1752480" y="4267080"/>
            <a:chExt cx="762120" cy="458280"/>
          </a:xfrm>
        </p:grpSpPr>
        <p:sp>
          <p:nvSpPr>
            <p:cNvPr id="707" name=""/>
            <p:cNvSpPr/>
            <p:nvPr/>
          </p:nvSpPr>
          <p:spPr>
            <a:xfrm>
              <a:off x="18352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524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483240" y="4191120"/>
            <a:ext cx="444600" cy="458280"/>
            <a:chOff x="6483240" y="4191120"/>
            <a:chExt cx="444600" cy="458280"/>
          </a:xfrm>
        </p:grpSpPr>
        <p:sp>
          <p:nvSpPr>
            <p:cNvPr id="710" name=""/>
            <p:cNvSpPr/>
            <p:nvPr/>
          </p:nvSpPr>
          <p:spPr>
            <a:xfrm>
              <a:off x="64832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5530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2209680" y="4724280"/>
            <a:ext cx="762120" cy="458280"/>
            <a:chOff x="2209680" y="4724280"/>
            <a:chExt cx="762120" cy="458280"/>
          </a:xfrm>
        </p:grpSpPr>
        <p:sp>
          <p:nvSpPr>
            <p:cNvPr id="713" name=""/>
            <p:cNvSpPr/>
            <p:nvPr/>
          </p:nvSpPr>
          <p:spPr>
            <a:xfrm>
              <a:off x="2292480" y="47307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09680" y="47242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940440" y="4648320"/>
            <a:ext cx="444600" cy="458280"/>
            <a:chOff x="6940440" y="4648320"/>
            <a:chExt cx="444600" cy="458280"/>
          </a:xfrm>
        </p:grpSpPr>
        <p:sp>
          <p:nvSpPr>
            <p:cNvPr id="716" name=""/>
            <p:cNvSpPr/>
            <p:nvPr/>
          </p:nvSpPr>
          <p:spPr>
            <a:xfrm>
              <a:off x="6940440" y="46544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10280" y="46483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752480" y="3809880"/>
            <a:ext cx="762120" cy="458280"/>
            <a:chOff x="1752480" y="3809880"/>
            <a:chExt cx="762120" cy="458280"/>
          </a:xfrm>
        </p:grpSpPr>
        <p:sp>
          <p:nvSpPr>
            <p:cNvPr id="719" name=""/>
            <p:cNvSpPr/>
            <p:nvPr/>
          </p:nvSpPr>
          <p:spPr>
            <a:xfrm>
              <a:off x="18352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7524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6483240" y="3733920"/>
            <a:ext cx="444600" cy="458280"/>
            <a:chOff x="6483240" y="3733920"/>
            <a:chExt cx="444600" cy="458280"/>
          </a:xfrm>
        </p:grpSpPr>
        <p:sp>
          <p:nvSpPr>
            <p:cNvPr id="722" name=""/>
            <p:cNvSpPr/>
            <p:nvPr/>
          </p:nvSpPr>
          <p:spPr>
            <a:xfrm>
              <a:off x="64832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530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209680" y="4267080"/>
            <a:ext cx="762120" cy="458280"/>
            <a:chOff x="2209680" y="4267080"/>
            <a:chExt cx="762120" cy="458280"/>
          </a:xfrm>
        </p:grpSpPr>
        <p:sp>
          <p:nvSpPr>
            <p:cNvPr id="725" name=""/>
            <p:cNvSpPr/>
            <p:nvPr/>
          </p:nvSpPr>
          <p:spPr>
            <a:xfrm>
              <a:off x="2292480" y="42735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09680" y="42670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940440" y="4191120"/>
            <a:ext cx="444600" cy="458280"/>
            <a:chOff x="6940440" y="4191120"/>
            <a:chExt cx="444600" cy="458280"/>
          </a:xfrm>
        </p:grpSpPr>
        <p:sp>
          <p:nvSpPr>
            <p:cNvPr id="728" name=""/>
            <p:cNvSpPr/>
            <p:nvPr/>
          </p:nvSpPr>
          <p:spPr>
            <a:xfrm>
              <a:off x="6940440" y="41972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280" y="41911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2209680" y="3809880"/>
            <a:ext cx="762120" cy="458280"/>
            <a:chOff x="2209680" y="3809880"/>
            <a:chExt cx="762120" cy="458280"/>
          </a:xfrm>
        </p:grpSpPr>
        <p:sp>
          <p:nvSpPr>
            <p:cNvPr id="731" name=""/>
            <p:cNvSpPr/>
            <p:nvPr/>
          </p:nvSpPr>
          <p:spPr>
            <a:xfrm>
              <a:off x="2292480" y="3816360"/>
              <a:ext cx="44424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380988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940440" y="3733920"/>
            <a:ext cx="444600" cy="458280"/>
            <a:chOff x="6940440" y="3733920"/>
            <a:chExt cx="444600" cy="458280"/>
          </a:xfrm>
        </p:grpSpPr>
        <p:sp>
          <p:nvSpPr>
            <p:cNvPr id="734" name=""/>
            <p:cNvSpPr/>
            <p:nvPr/>
          </p:nvSpPr>
          <p:spPr>
            <a:xfrm>
              <a:off x="6940440" y="3740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10280" y="3733920"/>
              <a:ext cx="22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Best Way To Compu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9480" y="2514600"/>
            <a:ext cx="784872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ultiplications (in reverse order)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products in reverse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last multiplic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next to last multiplic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373356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q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c(i,j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are to be computed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matr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i+s) = min 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c(i,k) + c(k+1,i+s) + 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+s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j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O(q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se terms is computed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j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omputed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q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CLOCK43" descr=""/>
          <p:cNvPicPr/>
          <p:nvPr/>
        </p:nvPicPr>
        <p:blipFill>
          <a:blip r:embed="rId1"/>
          <a:stretch/>
        </p:blipFill>
        <p:spPr>
          <a:xfrm>
            <a:off x="830592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741" name=""/>
          <p:cNvGrpSpPr/>
          <p:nvPr/>
        </p:nvGrpSpPr>
        <p:grpSpPr>
          <a:xfrm>
            <a:off x="3117960" y="1060560"/>
            <a:ext cx="5187960" cy="2500200"/>
            <a:chOff x="3117960" y="1060560"/>
            <a:chExt cx="5187960" cy="2500200"/>
          </a:xfrm>
        </p:grpSpPr>
        <p:grpSp>
          <p:nvGrpSpPr>
            <p:cNvPr id="742" name=""/>
            <p:cNvGrpSpPr/>
            <p:nvPr/>
          </p:nvGrpSpPr>
          <p:grpSpPr>
            <a:xfrm>
              <a:off x="3117960" y="1060560"/>
              <a:ext cx="5187960" cy="2500200"/>
              <a:chOff x="3117960" y="1060560"/>
              <a:chExt cx="5187960" cy="2500200"/>
            </a:xfrm>
          </p:grpSpPr>
          <p:sp>
            <p:nvSpPr>
              <p:cNvPr id="743" name=""/>
              <p:cNvSpPr/>
              <p:nvPr/>
            </p:nvSpPr>
            <p:spPr>
              <a:xfrm>
                <a:off x="34988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560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4132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8704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7" name=""/>
              <p:cNvGrpSpPr/>
              <p:nvPr/>
            </p:nvGrpSpPr>
            <p:grpSpPr>
              <a:xfrm>
                <a:off x="3117960" y="1441440"/>
                <a:ext cx="5187960" cy="2119320"/>
                <a:chOff x="3117960" y="1441440"/>
                <a:chExt cx="5187960" cy="211932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505320" y="15238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962520" y="15238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419720" y="15238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876920" y="15238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962520" y="19810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419720" y="19810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876920" y="19810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419720" y="24382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876920" y="24382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876920" y="2895480"/>
                  <a:ext cx="444240" cy="4446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019920" y="1828800"/>
                  <a:ext cx="228600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33"/>
                      </a:solidFill>
                      <a:latin typeface="Times New Roman"/>
                    </a:rPr>
                    <a:t>c(i,j), i &lt;= j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117960" y="144144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117960" y="197496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117960" y="25081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117960" y="304164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"/>
            <p:cNvGrpSpPr/>
            <p:nvPr/>
          </p:nvGrpSpPr>
          <p:grpSpPr>
            <a:xfrm>
              <a:off x="3511440" y="1523880"/>
              <a:ext cx="444240" cy="458280"/>
              <a:chOff x="3511440" y="1523880"/>
              <a:chExt cx="444240" cy="458280"/>
            </a:xfrm>
          </p:grpSpPr>
          <p:sp>
            <p:nvSpPr>
              <p:cNvPr id="764" name=""/>
              <p:cNvSpPr/>
              <p:nvPr/>
            </p:nvSpPr>
            <p:spPr>
              <a:xfrm>
                <a:off x="3511440" y="15303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581280" y="1523880"/>
                <a:ext cx="228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3968640" y="1981080"/>
              <a:ext cx="444240" cy="458280"/>
              <a:chOff x="3968640" y="1981080"/>
              <a:chExt cx="444240" cy="458280"/>
            </a:xfrm>
          </p:grpSpPr>
          <p:sp>
            <p:nvSpPr>
              <p:cNvPr id="767" name=""/>
              <p:cNvSpPr/>
              <p:nvPr/>
            </p:nvSpPr>
            <p:spPr>
              <a:xfrm>
                <a:off x="3968640" y="19875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038480" y="1981080"/>
                <a:ext cx="228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4425840" y="2438280"/>
              <a:ext cx="444240" cy="458280"/>
              <a:chOff x="4425840" y="2438280"/>
              <a:chExt cx="444240" cy="458280"/>
            </a:xfrm>
          </p:grpSpPr>
          <p:sp>
            <p:nvSpPr>
              <p:cNvPr id="770" name=""/>
              <p:cNvSpPr/>
              <p:nvPr/>
            </p:nvSpPr>
            <p:spPr>
              <a:xfrm>
                <a:off x="4425840" y="24447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495680" y="2438280"/>
                <a:ext cx="228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4883040" y="2895480"/>
              <a:ext cx="444240" cy="458280"/>
              <a:chOff x="4883040" y="2895480"/>
              <a:chExt cx="444240" cy="458280"/>
            </a:xfrm>
          </p:grpSpPr>
          <p:sp>
            <p:nvSpPr>
              <p:cNvPr id="773" name=""/>
              <p:cNvSpPr/>
              <p:nvPr/>
            </p:nvSpPr>
            <p:spPr>
              <a:xfrm>
                <a:off x="4883040" y="29019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2880" y="2895480"/>
                <a:ext cx="228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3886200" y="1523880"/>
              <a:ext cx="762120" cy="458280"/>
              <a:chOff x="3886200" y="1523880"/>
              <a:chExt cx="762120" cy="458280"/>
            </a:xfrm>
          </p:grpSpPr>
          <p:sp>
            <p:nvSpPr>
              <p:cNvPr id="776" name=""/>
              <p:cNvSpPr/>
              <p:nvPr/>
            </p:nvSpPr>
            <p:spPr>
              <a:xfrm>
                <a:off x="3969000" y="15303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86200" y="15238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4343400" y="1981080"/>
              <a:ext cx="762120" cy="458280"/>
              <a:chOff x="4343400" y="1981080"/>
              <a:chExt cx="762120" cy="458280"/>
            </a:xfrm>
          </p:grpSpPr>
          <p:sp>
            <p:nvSpPr>
              <p:cNvPr id="779" name=""/>
              <p:cNvSpPr/>
              <p:nvPr/>
            </p:nvSpPr>
            <p:spPr>
              <a:xfrm>
                <a:off x="4426200" y="19875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343400" y="19810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800600" y="2438280"/>
              <a:ext cx="762120" cy="458280"/>
              <a:chOff x="4800600" y="2438280"/>
              <a:chExt cx="762120" cy="458280"/>
            </a:xfrm>
          </p:grpSpPr>
          <p:sp>
            <p:nvSpPr>
              <p:cNvPr id="782" name=""/>
              <p:cNvSpPr/>
              <p:nvPr/>
            </p:nvSpPr>
            <p:spPr>
              <a:xfrm>
                <a:off x="4883400" y="24447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00600" y="24382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4343400" y="1523880"/>
              <a:ext cx="762120" cy="458280"/>
              <a:chOff x="4343400" y="1523880"/>
              <a:chExt cx="762120" cy="458280"/>
            </a:xfrm>
          </p:grpSpPr>
          <p:sp>
            <p:nvSpPr>
              <p:cNvPr id="785" name=""/>
              <p:cNvSpPr/>
              <p:nvPr/>
            </p:nvSpPr>
            <p:spPr>
              <a:xfrm>
                <a:off x="4426200" y="15303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343400" y="15238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4800600" y="1981080"/>
              <a:ext cx="762120" cy="458280"/>
              <a:chOff x="4800600" y="1981080"/>
              <a:chExt cx="762120" cy="458280"/>
            </a:xfrm>
          </p:grpSpPr>
          <p:sp>
            <p:nvSpPr>
              <p:cNvPr id="788" name=""/>
              <p:cNvSpPr/>
              <p:nvPr/>
            </p:nvSpPr>
            <p:spPr>
              <a:xfrm>
                <a:off x="4883400" y="19875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00600" y="19810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4800600" y="1523880"/>
              <a:ext cx="762120" cy="458280"/>
              <a:chOff x="4800600" y="1523880"/>
              <a:chExt cx="762120" cy="458280"/>
            </a:xfrm>
          </p:grpSpPr>
          <p:sp>
            <p:nvSpPr>
              <p:cNvPr id="791" name=""/>
              <p:cNvSpPr/>
              <p:nvPr/>
            </p:nvSpPr>
            <p:spPr>
              <a:xfrm>
                <a:off x="4883400" y="153036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800600" y="1523880"/>
                <a:ext cx="762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40384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ceback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determine each matrix product that is to b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s are to b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back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CLOCK43" descr=""/>
          <p:cNvPicPr/>
          <p:nvPr/>
        </p:nvPicPr>
        <p:blipFill>
          <a:blip r:embed="rId1"/>
          <a:stretch/>
        </p:blipFill>
        <p:spPr>
          <a:xfrm>
            <a:off x="830592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796" name=""/>
          <p:cNvGrpSpPr/>
          <p:nvPr/>
        </p:nvGrpSpPr>
        <p:grpSpPr>
          <a:xfrm>
            <a:off x="3117960" y="1060560"/>
            <a:ext cx="5568840" cy="2500200"/>
            <a:chOff x="3117960" y="1060560"/>
            <a:chExt cx="5568840" cy="2500200"/>
          </a:xfrm>
        </p:grpSpPr>
        <p:grpSp>
          <p:nvGrpSpPr>
            <p:cNvPr id="797" name=""/>
            <p:cNvGrpSpPr/>
            <p:nvPr/>
          </p:nvGrpSpPr>
          <p:grpSpPr>
            <a:xfrm>
              <a:off x="3117960" y="1060560"/>
              <a:ext cx="5568840" cy="2500200"/>
              <a:chOff x="3117960" y="1060560"/>
              <a:chExt cx="5568840" cy="25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34988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9560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4132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870440" y="10605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505320" y="15238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962520" y="15238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419720" y="15238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876920" y="15238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962520" y="19810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19720" y="19810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76920" y="19810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419720" y="24382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876920" y="24382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76920" y="2895480"/>
                <a:ext cx="444240" cy="4446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19920" y="1828800"/>
                <a:ext cx="26668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kay(i,j), i &lt;= j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117960" y="144144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117960" y="197496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7960" y="250812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117960" y="304164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3505320" y="1523880"/>
              <a:ext cx="444240" cy="458280"/>
              <a:chOff x="3505320" y="1523880"/>
              <a:chExt cx="444240" cy="458280"/>
            </a:xfrm>
          </p:grpSpPr>
          <p:sp>
            <p:nvSpPr>
              <p:cNvPr id="818" name=""/>
              <p:cNvSpPr/>
              <p:nvPr/>
            </p:nvSpPr>
            <p:spPr>
              <a:xfrm>
                <a:off x="3505320" y="15300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574800" y="15238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962520" y="1981080"/>
              <a:ext cx="444240" cy="458280"/>
              <a:chOff x="3962520" y="1981080"/>
              <a:chExt cx="444240" cy="458280"/>
            </a:xfrm>
          </p:grpSpPr>
          <p:sp>
            <p:nvSpPr>
              <p:cNvPr id="821" name=""/>
              <p:cNvSpPr/>
              <p:nvPr/>
            </p:nvSpPr>
            <p:spPr>
              <a:xfrm>
                <a:off x="3962520" y="19872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032000" y="19810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419720" y="2438280"/>
              <a:ext cx="444240" cy="458280"/>
              <a:chOff x="4419720" y="2438280"/>
              <a:chExt cx="444240" cy="458280"/>
            </a:xfrm>
          </p:grpSpPr>
          <p:sp>
            <p:nvSpPr>
              <p:cNvPr id="824" name=""/>
              <p:cNvSpPr/>
              <p:nvPr/>
            </p:nvSpPr>
            <p:spPr>
              <a:xfrm>
                <a:off x="4419720" y="24444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489200" y="24382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4876920" y="2895480"/>
              <a:ext cx="444240" cy="458280"/>
              <a:chOff x="4876920" y="2895480"/>
              <a:chExt cx="444240" cy="458280"/>
            </a:xfrm>
          </p:grpSpPr>
          <p:sp>
            <p:nvSpPr>
              <p:cNvPr id="827" name=""/>
              <p:cNvSpPr/>
              <p:nvPr/>
            </p:nvSpPr>
            <p:spPr>
              <a:xfrm>
                <a:off x="4876920" y="29016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946400" y="28954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3962520" y="1523880"/>
              <a:ext cx="444240" cy="458280"/>
              <a:chOff x="3962520" y="1523880"/>
              <a:chExt cx="444240" cy="458280"/>
            </a:xfrm>
          </p:grpSpPr>
          <p:sp>
            <p:nvSpPr>
              <p:cNvPr id="830" name=""/>
              <p:cNvSpPr/>
              <p:nvPr/>
            </p:nvSpPr>
            <p:spPr>
              <a:xfrm>
                <a:off x="3962520" y="15300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032000" y="15238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4419720" y="1981080"/>
              <a:ext cx="444240" cy="458280"/>
              <a:chOff x="4419720" y="1981080"/>
              <a:chExt cx="444240" cy="458280"/>
            </a:xfrm>
          </p:grpSpPr>
          <p:sp>
            <p:nvSpPr>
              <p:cNvPr id="833" name=""/>
              <p:cNvSpPr/>
              <p:nvPr/>
            </p:nvSpPr>
            <p:spPr>
              <a:xfrm>
                <a:off x="4419720" y="19872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89200" y="19810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4876920" y="2438280"/>
              <a:ext cx="444240" cy="458280"/>
              <a:chOff x="4876920" y="2438280"/>
              <a:chExt cx="444240" cy="458280"/>
            </a:xfrm>
          </p:grpSpPr>
          <p:sp>
            <p:nvSpPr>
              <p:cNvPr id="836" name=""/>
              <p:cNvSpPr/>
              <p:nvPr/>
            </p:nvSpPr>
            <p:spPr>
              <a:xfrm>
                <a:off x="4876920" y="24444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946400" y="24382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4419720" y="1523880"/>
              <a:ext cx="444240" cy="458280"/>
              <a:chOff x="4419720" y="1523880"/>
              <a:chExt cx="444240" cy="458280"/>
            </a:xfrm>
          </p:grpSpPr>
          <p:sp>
            <p:nvSpPr>
              <p:cNvPr id="839" name=""/>
              <p:cNvSpPr/>
              <p:nvPr/>
            </p:nvSpPr>
            <p:spPr>
              <a:xfrm>
                <a:off x="4419720" y="15300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89200" y="15238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876920" y="1981080"/>
              <a:ext cx="444240" cy="458280"/>
              <a:chOff x="4876920" y="1981080"/>
              <a:chExt cx="444240" cy="458280"/>
            </a:xfrm>
          </p:grpSpPr>
          <p:sp>
            <p:nvSpPr>
              <p:cNvPr id="842" name=""/>
              <p:cNvSpPr/>
              <p:nvPr/>
            </p:nvSpPr>
            <p:spPr>
              <a:xfrm>
                <a:off x="4876920" y="19872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946400" y="19810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4876920" y="1523880"/>
              <a:ext cx="444240" cy="458280"/>
              <a:chOff x="4876920" y="1523880"/>
              <a:chExt cx="444240" cy="458280"/>
            </a:xfrm>
          </p:grpSpPr>
          <p:sp>
            <p:nvSpPr>
              <p:cNvPr id="845" name=""/>
              <p:cNvSpPr/>
              <p:nvPr/>
            </p:nvSpPr>
            <p:spPr>
              <a:xfrm>
                <a:off x="4876920" y="1530000"/>
                <a:ext cx="444240" cy="444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46400" y="1523880"/>
                <a:ext cx="228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M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rices involved in each multiplication are a contiguous subset of the giv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state is given by a set of pairs of the for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i, j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i &lt;= 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(i,j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s a problem in which the matrix produc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o be comp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ate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1,q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ast matrix product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x (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k+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state become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(1,k), (k+1,q)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erify Principle Of Optimal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…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the last multiplication in the best way 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k &lt;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espective of w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, a best computation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ich the last produc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the property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omputed in the best possibl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5800" y="5638680"/>
            <a:ext cx="7772400" cy="990720"/>
            <a:chOff x="685800" y="5638680"/>
            <a:chExt cx="7772400" cy="990720"/>
          </a:xfrm>
        </p:grpSpPr>
        <p:sp>
          <p:nvSpPr>
            <p:cNvPr id="52" name=""/>
            <p:cNvSpPr/>
            <p:nvPr/>
          </p:nvSpPr>
          <p:spPr>
            <a:xfrm>
              <a:off x="685800" y="5638680"/>
              <a:ext cx="7772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 the principle of optimality holds and dynamic programming may be applie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RED-BLIN" descr=""/>
            <p:cNvPicPr/>
            <p:nvPr/>
          </p:nvPicPr>
          <p:blipFill>
            <a:blip r:embed="rId1"/>
            <a:stretch/>
          </p:blipFill>
          <p:spPr>
            <a:xfrm>
              <a:off x="7772400" y="6248520"/>
              <a:ext cx="320760" cy="32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Equ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cost of an optimal (best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y to comput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1,q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cost of the best way to multiply the giv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j) =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ch that the last product in the optimal computation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) = 0, 1 &lt;= i &lt;=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1) =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1 &lt;= i &lt;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i+1)  =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(i, i+s), 1 &lt; s &lt; q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multiplication in the best way 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,i+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,i+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kne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ould clai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i+s) = c(i,k) + c(k+1,i+s) + 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+s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an cl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i,i+s) = min{c(i,k) + c(k+1,i+s) + 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+s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aken ov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i+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yields ab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Equ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53416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i+s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&lt;= k &lt; i+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c(i,k) + c(k+1,i+s) + 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s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on right side involve fewer matrices than doe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 on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compute in the ord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s = 2, 3, …, q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ve 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text for recursive c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that does not avoid recomputation of already compu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mega(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that does not recompute already compu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q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nonrecursively for best worst-case effici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NIWARN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63" name="ANIWARN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=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0 x 1) * (1 x 10) * (10 x 1) * (1 x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= [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= [10, 1, 10, 1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2514600"/>
            <a:ext cx="7772400" cy="3323160"/>
            <a:chOff x="533520" y="2514600"/>
            <a:chExt cx="7772400" cy="3323160"/>
          </a:xfrm>
        </p:grpSpPr>
        <p:sp>
          <p:nvSpPr>
            <p:cNvPr id="67" name=""/>
            <p:cNvSpPr/>
            <p:nvPr/>
          </p:nvSpPr>
          <p:spPr>
            <a:xfrm>
              <a:off x="920880" y="29782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8080" y="29782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35280" y="29782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92480" y="29782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78080" y="34354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5280" y="34354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92480" y="34354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35280" y="38926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92480" y="38926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92480" y="4349880"/>
              <a:ext cx="44424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8080" y="525780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8840" y="29019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26040" y="29019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83240" y="29019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40440" y="29019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26040" y="33591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83240" y="33591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0440" y="33591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83240" y="38163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40440" y="38163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40440" y="42735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6400" y="5181480"/>
              <a:ext cx="2819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ay(i,j)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25146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71600" y="25146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25146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0" y="25146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20" y="28954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5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520" y="39625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520" y="44956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7:40:43Z</dcterms:modified>
  <cp:revision>182</cp:revision>
  <dc:subject/>
  <dc:title>Data Representation Methods</dc:title>
</cp:coreProperties>
</file>